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DC0-006C-429C-8A33-45C28036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138-E4D1-4903-8B67-2E73D428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C58-E60E-42A3-8C4A-9CB27B41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204-9952-437D-8F21-FDED004F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E4B-C53F-414B-A8A5-BDDFDF81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C26-0102-4097-A6F9-7C286BF2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6C4-B11A-4A9B-9346-DBBD6FFF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80D-646C-4F23-B347-3C4F0062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097-2751-45C5-87E7-2E819F8A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2D88-F490-4AB8-B65F-27A2739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AF2-28F6-4B6A-AA25-EBE25D20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F72-7A73-4E26-9A63-B53523F4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40EE-1F2E-4459-96BD-2B2D75BD5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ac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ounded Rectangle 1"/>
          <p:cNvSpPr/>
          <p:nvPr/>
        </p:nvSpPr>
        <p:spPr>
          <a:xfrm>
            <a:off x="5038560" y="1735200"/>
            <a:ext cx="2114640" cy="3286080"/>
          </a:xfrm>
          <a:custGeom>
            <a:avLst/>
            <a:gdLst>
              <a:gd name="textAreaLeft" fmla="*/ 309600 w 2114640"/>
              <a:gd name="textAreaRight" fmla="*/ 1805040 w 2114640"/>
              <a:gd name="textAreaTop" fmla="*/ 309600 h 3286080"/>
              <a:gd name="textAreaBottom" fmla="*/ 2976480 h 3286080"/>
            </a:gdLst>
            <a:ahLst/>
            <a:rect l="textAreaLeft" t="textAreaTop" r="textAreaRight" b="textAreaBottom"/>
            <a:pathLst>
              <a:path w="21600" h="33564">
                <a:moveTo>
                  <a:pt x="10800" y="0"/>
                </a:moveTo>
                <a:arcTo wR="10800" hR="10800" stAng="16200000" swAng="-5400000"/>
                <a:lnTo>
                  <a:pt x="0" y="22764"/>
                </a:lnTo>
                <a:arcTo wR="10800" hR="10800" stAng="10800000" swAng="-5400000"/>
                <a:lnTo>
                  <a:pt x="10800" y="335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TextBox 5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  <p:sp>
        <p:nvSpPr>
          <p:cNvPr id="110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0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076800" y="1198440"/>
            <a:ext cx="46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3ac9c"/>
                </a:solidFill>
                <a:latin typeface="Shadower"/>
                <a:ea typeface="Shadower"/>
              </a:rPr>
              <a:t>MOCHITE THE FUTURE NOW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6216480" y="3251160"/>
            <a:ext cx="292320" cy="29232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2"/>
          <p:cNvSpPr/>
          <p:nvPr/>
        </p:nvSpPr>
        <p:spPr>
          <a:xfrm>
            <a:off x="6566040" y="322884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6566040" y="3629160"/>
            <a:ext cx="337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6216480" y="4722840"/>
            <a:ext cx="292320" cy="29196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566040" y="470052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6566040" y="5100480"/>
            <a:ext cx="3371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24"/>
          <p:cNvSpPr/>
          <p:nvPr/>
        </p:nvSpPr>
        <p:spPr>
          <a:xfrm>
            <a:off x="-92160" y="0"/>
            <a:ext cx="4937040" cy="619200"/>
          </a:xfrm>
          <a:custGeom>
            <a:avLst/>
            <a:gdLst/>
            <a:ahLst/>
            <a:rect l="l" t="t" r="r" b="b"/>
            <a:pathLst>
              <a:path w="4937642" h="619884">
                <a:moveTo>
                  <a:pt x="4412857" y="0"/>
                </a:moveTo>
                <a:lnTo>
                  <a:pt x="4566051" y="0"/>
                </a:lnTo>
                <a:lnTo>
                  <a:pt x="4875276" y="410181"/>
                </a:lnTo>
                <a:lnTo>
                  <a:pt x="4875276" y="6626"/>
                </a:lnTo>
                <a:lnTo>
                  <a:pt x="4875075" y="0"/>
                </a:lnTo>
                <a:lnTo>
                  <a:pt x="4937642" y="0"/>
                </a:lnTo>
                <a:lnTo>
                  <a:pt x="4937456" y="6626"/>
                </a:lnTo>
                <a:lnTo>
                  <a:pt x="4937456" y="608911"/>
                </a:lnTo>
                <a:cubicBezTo>
                  <a:pt x="4924450" y="613788"/>
                  <a:pt x="4906975" y="616226"/>
                  <a:pt x="4885030" y="616226"/>
                </a:cubicBezTo>
                <a:lnTo>
                  <a:pt x="4412857" y="0"/>
                </a:lnTo>
                <a:close/>
                <a:moveTo>
                  <a:pt x="4319321" y="0"/>
                </a:moveTo>
                <a:lnTo>
                  <a:pt x="4381501" y="0"/>
                </a:lnTo>
                <a:lnTo>
                  <a:pt x="4381501" y="380921"/>
                </a:lnTo>
                <a:cubicBezTo>
                  <a:pt x="4381501" y="428063"/>
                  <a:pt x="4383939" y="464233"/>
                  <a:pt x="4388816" y="489429"/>
                </a:cubicBezTo>
                <a:cubicBezTo>
                  <a:pt x="4393692" y="514626"/>
                  <a:pt x="4402227" y="532711"/>
                  <a:pt x="4414419" y="543684"/>
                </a:cubicBezTo>
                <a:cubicBezTo>
                  <a:pt x="4426611" y="554657"/>
                  <a:pt x="4443680" y="560143"/>
                  <a:pt x="4465625" y="560143"/>
                </a:cubicBezTo>
                <a:cubicBezTo>
                  <a:pt x="4469689" y="572335"/>
                  <a:pt x="4471721" y="589810"/>
                  <a:pt x="4471721" y="612569"/>
                </a:cubicBezTo>
                <a:cubicBezTo>
                  <a:pt x="4435145" y="610130"/>
                  <a:pt x="4394912" y="608911"/>
                  <a:pt x="4351020" y="608911"/>
                </a:cubicBezTo>
                <a:cubicBezTo>
                  <a:pt x="4300627" y="608911"/>
                  <a:pt x="4259987" y="610130"/>
                  <a:pt x="4229101" y="612569"/>
                </a:cubicBezTo>
                <a:cubicBezTo>
                  <a:pt x="4229101" y="589810"/>
                  <a:pt x="4231133" y="572335"/>
                  <a:pt x="4235197" y="560143"/>
                </a:cubicBezTo>
                <a:cubicBezTo>
                  <a:pt x="4257142" y="560143"/>
                  <a:pt x="4274211" y="554657"/>
                  <a:pt x="4286403" y="543684"/>
                </a:cubicBezTo>
                <a:cubicBezTo>
                  <a:pt x="4298595" y="532711"/>
                  <a:pt x="4307129" y="514626"/>
                  <a:pt x="4312006" y="489429"/>
                </a:cubicBezTo>
                <a:cubicBezTo>
                  <a:pt x="4316883" y="464233"/>
                  <a:pt x="4319321" y="428063"/>
                  <a:pt x="4319321" y="380921"/>
                </a:cubicBezTo>
                <a:lnTo>
                  <a:pt x="4319321" y="0"/>
                </a:lnTo>
                <a:close/>
                <a:moveTo>
                  <a:pt x="3390241" y="0"/>
                </a:moveTo>
                <a:lnTo>
                  <a:pt x="3500977" y="0"/>
                </a:lnTo>
                <a:lnTo>
                  <a:pt x="3479902" y="69720"/>
                </a:lnTo>
                <a:cubicBezTo>
                  <a:pt x="3474517" y="98371"/>
                  <a:pt x="3471825" y="128953"/>
                  <a:pt x="3471825" y="161465"/>
                </a:cubicBezTo>
                <a:cubicBezTo>
                  <a:pt x="3471825" y="231365"/>
                  <a:pt x="3483814" y="296796"/>
                  <a:pt x="3507791" y="357756"/>
                </a:cubicBezTo>
                <a:cubicBezTo>
                  <a:pt x="3531769" y="418716"/>
                  <a:pt x="3566516" y="467687"/>
                  <a:pt x="3612033" y="504669"/>
                </a:cubicBezTo>
                <a:cubicBezTo>
                  <a:pt x="3657550" y="541652"/>
                  <a:pt x="3711194" y="560143"/>
                  <a:pt x="3772967" y="560143"/>
                </a:cubicBezTo>
                <a:cubicBezTo>
                  <a:pt x="3824174" y="560143"/>
                  <a:pt x="3869081" y="545513"/>
                  <a:pt x="3907689" y="516252"/>
                </a:cubicBezTo>
                <a:cubicBezTo>
                  <a:pt x="3946297" y="486991"/>
                  <a:pt x="3975761" y="446961"/>
                  <a:pt x="3996081" y="396161"/>
                </a:cubicBezTo>
                <a:cubicBezTo>
                  <a:pt x="4016401" y="345361"/>
                  <a:pt x="4026561" y="288668"/>
                  <a:pt x="4026561" y="226082"/>
                </a:cubicBezTo>
                <a:cubicBezTo>
                  <a:pt x="4026561" y="153743"/>
                  <a:pt x="4013353" y="87500"/>
                  <a:pt x="3986937" y="27353"/>
                </a:cubicBezTo>
                <a:lnTo>
                  <a:pt x="3970990" y="0"/>
                </a:lnTo>
                <a:lnTo>
                  <a:pt x="4109592" y="0"/>
                </a:lnTo>
                <a:lnTo>
                  <a:pt x="4139184" y="78102"/>
                </a:lnTo>
                <a:cubicBezTo>
                  <a:pt x="4147821" y="114576"/>
                  <a:pt x="4152139" y="153337"/>
                  <a:pt x="4152139" y="194383"/>
                </a:cubicBezTo>
                <a:cubicBezTo>
                  <a:pt x="4152139" y="274037"/>
                  <a:pt x="4134866" y="346173"/>
                  <a:pt x="4100323" y="410791"/>
                </a:cubicBezTo>
                <a:cubicBezTo>
                  <a:pt x="4065778" y="475409"/>
                  <a:pt x="4017823" y="526412"/>
                  <a:pt x="3956457" y="563801"/>
                </a:cubicBezTo>
                <a:cubicBezTo>
                  <a:pt x="3895091" y="601189"/>
                  <a:pt x="3825799" y="619884"/>
                  <a:pt x="3748583" y="619884"/>
                </a:cubicBezTo>
                <a:cubicBezTo>
                  <a:pt x="3669741" y="619884"/>
                  <a:pt x="3599841" y="601393"/>
                  <a:pt x="3538881" y="564410"/>
                </a:cubicBezTo>
                <a:cubicBezTo>
                  <a:pt x="3477921" y="527428"/>
                  <a:pt x="3430575" y="476628"/>
                  <a:pt x="3396844" y="412010"/>
                </a:cubicBezTo>
                <a:cubicBezTo>
                  <a:pt x="3363113" y="347393"/>
                  <a:pt x="3346247" y="274850"/>
                  <a:pt x="3346247" y="194383"/>
                </a:cubicBezTo>
                <a:cubicBezTo>
                  <a:pt x="3346247" y="153743"/>
                  <a:pt x="3350667" y="115287"/>
                  <a:pt x="3359506" y="79016"/>
                </a:cubicBezTo>
                <a:lnTo>
                  <a:pt x="3390241" y="0"/>
                </a:lnTo>
                <a:close/>
                <a:moveTo>
                  <a:pt x="3071546" y="0"/>
                </a:moveTo>
                <a:lnTo>
                  <a:pt x="3186151" y="0"/>
                </a:lnTo>
                <a:lnTo>
                  <a:pt x="3186151" y="454073"/>
                </a:lnTo>
                <a:cubicBezTo>
                  <a:pt x="3186151" y="494713"/>
                  <a:pt x="3192044" y="522145"/>
                  <a:pt x="3203830" y="536369"/>
                </a:cubicBezTo>
                <a:cubicBezTo>
                  <a:pt x="3215615" y="550593"/>
                  <a:pt x="3237764" y="558517"/>
                  <a:pt x="3270276" y="560143"/>
                </a:cubicBezTo>
                <a:cubicBezTo>
                  <a:pt x="3274340" y="571522"/>
                  <a:pt x="3276372" y="588997"/>
                  <a:pt x="3276372" y="612569"/>
                </a:cubicBezTo>
                <a:cubicBezTo>
                  <a:pt x="3227604" y="610130"/>
                  <a:pt x="3178430" y="608911"/>
                  <a:pt x="3128849" y="608911"/>
                </a:cubicBezTo>
                <a:cubicBezTo>
                  <a:pt x="3071952" y="608911"/>
                  <a:pt x="3022778" y="610130"/>
                  <a:pt x="2981325" y="612569"/>
                </a:cubicBezTo>
                <a:cubicBezTo>
                  <a:pt x="2981325" y="588997"/>
                  <a:pt x="2983358" y="571522"/>
                  <a:pt x="2987422" y="560143"/>
                </a:cubicBezTo>
                <a:cubicBezTo>
                  <a:pt x="3019933" y="558517"/>
                  <a:pt x="3042082" y="550593"/>
                  <a:pt x="3053868" y="536369"/>
                </a:cubicBezTo>
                <a:cubicBezTo>
                  <a:pt x="3065653" y="522145"/>
                  <a:pt x="3071546" y="494713"/>
                  <a:pt x="3071546" y="454073"/>
                </a:cubicBezTo>
                <a:lnTo>
                  <a:pt x="3071546" y="0"/>
                </a:lnTo>
                <a:close/>
                <a:moveTo>
                  <a:pt x="2195246" y="0"/>
                </a:moveTo>
                <a:lnTo>
                  <a:pt x="2309851" y="0"/>
                </a:lnTo>
                <a:lnTo>
                  <a:pt x="2309851" y="160245"/>
                </a:lnTo>
                <a:lnTo>
                  <a:pt x="2681707" y="160245"/>
                </a:lnTo>
                <a:lnTo>
                  <a:pt x="2681707" y="0"/>
                </a:lnTo>
                <a:lnTo>
                  <a:pt x="2796312" y="0"/>
                </a:lnTo>
                <a:lnTo>
                  <a:pt x="2796312" y="454073"/>
                </a:lnTo>
                <a:cubicBezTo>
                  <a:pt x="2796312" y="494713"/>
                  <a:pt x="2802205" y="522145"/>
                  <a:pt x="2813990" y="536369"/>
                </a:cubicBezTo>
                <a:cubicBezTo>
                  <a:pt x="2825776" y="550593"/>
                  <a:pt x="2847925" y="558517"/>
                  <a:pt x="2880436" y="560143"/>
                </a:cubicBezTo>
                <a:cubicBezTo>
                  <a:pt x="2884500" y="571522"/>
                  <a:pt x="2886533" y="588997"/>
                  <a:pt x="2886533" y="612569"/>
                </a:cubicBezTo>
                <a:cubicBezTo>
                  <a:pt x="2837765" y="610130"/>
                  <a:pt x="2788590" y="608911"/>
                  <a:pt x="2739009" y="608911"/>
                </a:cubicBezTo>
                <a:cubicBezTo>
                  <a:pt x="2682113" y="608911"/>
                  <a:pt x="2632939" y="610130"/>
                  <a:pt x="2591486" y="612569"/>
                </a:cubicBezTo>
                <a:cubicBezTo>
                  <a:pt x="2591486" y="588997"/>
                  <a:pt x="2593518" y="571522"/>
                  <a:pt x="2597582" y="560143"/>
                </a:cubicBezTo>
                <a:cubicBezTo>
                  <a:pt x="2630094" y="558517"/>
                  <a:pt x="2652243" y="550593"/>
                  <a:pt x="2664028" y="536369"/>
                </a:cubicBezTo>
                <a:cubicBezTo>
                  <a:pt x="2675814" y="522145"/>
                  <a:pt x="2681707" y="494713"/>
                  <a:pt x="2681707" y="454073"/>
                </a:cubicBezTo>
                <a:lnTo>
                  <a:pt x="2681707" y="212671"/>
                </a:lnTo>
                <a:cubicBezTo>
                  <a:pt x="2495576" y="212671"/>
                  <a:pt x="2371624" y="215109"/>
                  <a:pt x="2309851" y="219986"/>
                </a:cubicBezTo>
                <a:lnTo>
                  <a:pt x="2309851" y="454073"/>
                </a:lnTo>
                <a:cubicBezTo>
                  <a:pt x="2309851" y="494713"/>
                  <a:pt x="2315744" y="522145"/>
                  <a:pt x="2327530" y="536369"/>
                </a:cubicBezTo>
                <a:cubicBezTo>
                  <a:pt x="2339315" y="550593"/>
                  <a:pt x="2361464" y="558517"/>
                  <a:pt x="2393976" y="560143"/>
                </a:cubicBezTo>
                <a:cubicBezTo>
                  <a:pt x="2398040" y="571522"/>
                  <a:pt x="2400072" y="588997"/>
                  <a:pt x="2400072" y="612569"/>
                </a:cubicBezTo>
                <a:cubicBezTo>
                  <a:pt x="2351304" y="610130"/>
                  <a:pt x="2302130" y="608911"/>
                  <a:pt x="2252549" y="608911"/>
                </a:cubicBezTo>
                <a:cubicBezTo>
                  <a:pt x="2195653" y="608911"/>
                  <a:pt x="2146479" y="610130"/>
                  <a:pt x="2105026" y="612569"/>
                </a:cubicBezTo>
                <a:cubicBezTo>
                  <a:pt x="2105026" y="588997"/>
                  <a:pt x="2107057" y="571522"/>
                  <a:pt x="2111122" y="560143"/>
                </a:cubicBezTo>
                <a:cubicBezTo>
                  <a:pt x="2143634" y="558517"/>
                  <a:pt x="2165783" y="550593"/>
                  <a:pt x="2177568" y="536369"/>
                </a:cubicBezTo>
                <a:cubicBezTo>
                  <a:pt x="2189353" y="522145"/>
                  <a:pt x="2195246" y="494713"/>
                  <a:pt x="2195246" y="454073"/>
                </a:cubicBezTo>
                <a:lnTo>
                  <a:pt x="2195246" y="0"/>
                </a:lnTo>
                <a:close/>
                <a:moveTo>
                  <a:pt x="1496926" y="0"/>
                </a:moveTo>
                <a:lnTo>
                  <a:pt x="1618060" y="0"/>
                </a:lnTo>
                <a:lnTo>
                  <a:pt x="1627175" y="29791"/>
                </a:lnTo>
                <a:cubicBezTo>
                  <a:pt x="1643838" y="52549"/>
                  <a:pt x="1664158" y="71244"/>
                  <a:pt x="1688135" y="85874"/>
                </a:cubicBezTo>
                <a:cubicBezTo>
                  <a:pt x="1712113" y="100505"/>
                  <a:pt x="1745234" y="118386"/>
                  <a:pt x="1787500" y="139519"/>
                </a:cubicBezTo>
                <a:cubicBezTo>
                  <a:pt x="1835455" y="162277"/>
                  <a:pt x="1873860" y="183004"/>
                  <a:pt x="1902715" y="201698"/>
                </a:cubicBezTo>
                <a:cubicBezTo>
                  <a:pt x="1931569" y="220393"/>
                  <a:pt x="1956156" y="244777"/>
                  <a:pt x="1976476" y="274850"/>
                </a:cubicBezTo>
                <a:cubicBezTo>
                  <a:pt x="1996796" y="304924"/>
                  <a:pt x="2006956" y="341906"/>
                  <a:pt x="2006956" y="385797"/>
                </a:cubicBezTo>
                <a:cubicBezTo>
                  <a:pt x="2006956" y="428063"/>
                  <a:pt x="1996999" y="466874"/>
                  <a:pt x="1977086" y="502231"/>
                </a:cubicBezTo>
                <a:cubicBezTo>
                  <a:pt x="1957172" y="537588"/>
                  <a:pt x="1926286" y="566036"/>
                  <a:pt x="1884426" y="587575"/>
                </a:cubicBezTo>
                <a:cubicBezTo>
                  <a:pt x="1842567" y="609114"/>
                  <a:pt x="1790751" y="619884"/>
                  <a:pt x="1728978" y="619884"/>
                </a:cubicBezTo>
                <a:cubicBezTo>
                  <a:pt x="1681836" y="619884"/>
                  <a:pt x="1639570" y="613585"/>
                  <a:pt x="1602182" y="600986"/>
                </a:cubicBezTo>
                <a:cubicBezTo>
                  <a:pt x="1564793" y="588388"/>
                  <a:pt x="1524559" y="568677"/>
                  <a:pt x="1481481" y="541855"/>
                </a:cubicBezTo>
                <a:cubicBezTo>
                  <a:pt x="1488796" y="496338"/>
                  <a:pt x="1492454" y="438629"/>
                  <a:pt x="1492454" y="368729"/>
                </a:cubicBezTo>
                <a:cubicBezTo>
                  <a:pt x="1511148" y="363852"/>
                  <a:pt x="1533094" y="361413"/>
                  <a:pt x="1558290" y="361413"/>
                </a:cubicBezTo>
                <a:cubicBezTo>
                  <a:pt x="1561542" y="426437"/>
                  <a:pt x="1578001" y="476018"/>
                  <a:pt x="1607668" y="510156"/>
                </a:cubicBezTo>
                <a:cubicBezTo>
                  <a:pt x="1637335" y="544293"/>
                  <a:pt x="1683462" y="561362"/>
                  <a:pt x="1746047" y="561362"/>
                </a:cubicBezTo>
                <a:cubicBezTo>
                  <a:pt x="1798879" y="561362"/>
                  <a:pt x="1838097" y="549780"/>
                  <a:pt x="1863700" y="526615"/>
                </a:cubicBezTo>
                <a:cubicBezTo>
                  <a:pt x="1889303" y="503450"/>
                  <a:pt x="1902105" y="472767"/>
                  <a:pt x="1902105" y="434565"/>
                </a:cubicBezTo>
                <a:cubicBezTo>
                  <a:pt x="1902105" y="402866"/>
                  <a:pt x="1893977" y="376044"/>
                  <a:pt x="1877721" y="354098"/>
                </a:cubicBezTo>
                <a:cubicBezTo>
                  <a:pt x="1861465" y="332153"/>
                  <a:pt x="1841551" y="314068"/>
                  <a:pt x="1817980" y="299844"/>
                </a:cubicBezTo>
                <a:cubicBezTo>
                  <a:pt x="1794409" y="285620"/>
                  <a:pt x="1761490" y="268754"/>
                  <a:pt x="1719225" y="249247"/>
                </a:cubicBezTo>
                <a:cubicBezTo>
                  <a:pt x="1670457" y="225676"/>
                  <a:pt x="1631443" y="204543"/>
                  <a:pt x="1602182" y="185849"/>
                </a:cubicBezTo>
                <a:cubicBezTo>
                  <a:pt x="1572921" y="167154"/>
                  <a:pt x="1547927" y="142161"/>
                  <a:pt x="1527201" y="110868"/>
                </a:cubicBezTo>
                <a:cubicBezTo>
                  <a:pt x="1516838" y="95221"/>
                  <a:pt x="1509065" y="77594"/>
                  <a:pt x="1503884" y="57985"/>
                </a:cubicBezTo>
                <a:lnTo>
                  <a:pt x="1496926" y="0"/>
                </a:lnTo>
                <a:close/>
                <a:moveTo>
                  <a:pt x="883481" y="0"/>
                </a:moveTo>
                <a:lnTo>
                  <a:pt x="937775" y="0"/>
                </a:lnTo>
                <a:lnTo>
                  <a:pt x="913486" y="67586"/>
                </a:lnTo>
                <a:lnTo>
                  <a:pt x="829361" y="285823"/>
                </a:lnTo>
                <a:lnTo>
                  <a:pt x="1106120" y="285823"/>
                </a:lnTo>
                <a:lnTo>
                  <a:pt x="1013460" y="68805"/>
                </a:lnTo>
                <a:lnTo>
                  <a:pt x="984490" y="0"/>
                </a:lnTo>
                <a:lnTo>
                  <a:pt x="1112922" y="0"/>
                </a:lnTo>
                <a:lnTo>
                  <a:pt x="1306069" y="443100"/>
                </a:lnTo>
                <a:cubicBezTo>
                  <a:pt x="1326389" y="488617"/>
                  <a:pt x="1342441" y="518690"/>
                  <a:pt x="1354227" y="533321"/>
                </a:cubicBezTo>
                <a:cubicBezTo>
                  <a:pt x="1366013" y="547951"/>
                  <a:pt x="1381253" y="556892"/>
                  <a:pt x="1399947" y="560143"/>
                </a:cubicBezTo>
                <a:cubicBezTo>
                  <a:pt x="1404824" y="576399"/>
                  <a:pt x="1407262" y="593874"/>
                  <a:pt x="1407262" y="612569"/>
                </a:cubicBezTo>
                <a:cubicBezTo>
                  <a:pt x="1358494" y="610130"/>
                  <a:pt x="1312164" y="608911"/>
                  <a:pt x="1268273" y="608911"/>
                </a:cubicBezTo>
                <a:cubicBezTo>
                  <a:pt x="1225195" y="608911"/>
                  <a:pt x="1179272" y="610130"/>
                  <a:pt x="1130504" y="612569"/>
                </a:cubicBezTo>
                <a:cubicBezTo>
                  <a:pt x="1130504" y="588997"/>
                  <a:pt x="1133349" y="571522"/>
                  <a:pt x="1139038" y="560143"/>
                </a:cubicBezTo>
                <a:cubicBezTo>
                  <a:pt x="1161797" y="557705"/>
                  <a:pt x="1177849" y="554047"/>
                  <a:pt x="1187196" y="549170"/>
                </a:cubicBezTo>
                <a:cubicBezTo>
                  <a:pt x="1196544" y="544293"/>
                  <a:pt x="1201217" y="536165"/>
                  <a:pt x="1201217" y="524786"/>
                </a:cubicBezTo>
                <a:cubicBezTo>
                  <a:pt x="1201217" y="515033"/>
                  <a:pt x="1195121" y="495119"/>
                  <a:pt x="1182929" y="465045"/>
                </a:cubicBezTo>
                <a:lnTo>
                  <a:pt x="1129284" y="340687"/>
                </a:lnTo>
                <a:cubicBezTo>
                  <a:pt x="1000049" y="340687"/>
                  <a:pt x="892760" y="342313"/>
                  <a:pt x="807416" y="345564"/>
                </a:cubicBezTo>
                <a:lnTo>
                  <a:pt x="774497" y="429689"/>
                </a:lnTo>
                <a:cubicBezTo>
                  <a:pt x="761492" y="463826"/>
                  <a:pt x="754990" y="490649"/>
                  <a:pt x="754990" y="510156"/>
                </a:cubicBezTo>
                <a:cubicBezTo>
                  <a:pt x="754990" y="526412"/>
                  <a:pt x="760070" y="538401"/>
                  <a:pt x="770230" y="546122"/>
                </a:cubicBezTo>
                <a:cubicBezTo>
                  <a:pt x="780390" y="553844"/>
                  <a:pt x="796443" y="558517"/>
                  <a:pt x="818388" y="560143"/>
                </a:cubicBezTo>
                <a:cubicBezTo>
                  <a:pt x="824078" y="573961"/>
                  <a:pt x="826923" y="591436"/>
                  <a:pt x="826923" y="612569"/>
                </a:cubicBezTo>
                <a:cubicBezTo>
                  <a:pt x="799288" y="610130"/>
                  <a:pt x="760680" y="608911"/>
                  <a:pt x="711099" y="608911"/>
                </a:cubicBezTo>
                <a:cubicBezTo>
                  <a:pt x="689966" y="608911"/>
                  <a:pt x="656235" y="610130"/>
                  <a:pt x="609905" y="612569"/>
                </a:cubicBezTo>
                <a:cubicBezTo>
                  <a:pt x="609905" y="592249"/>
                  <a:pt x="612750" y="575180"/>
                  <a:pt x="618440" y="561362"/>
                </a:cubicBezTo>
                <a:cubicBezTo>
                  <a:pt x="639572" y="557298"/>
                  <a:pt x="656235" y="546732"/>
                  <a:pt x="668427" y="529663"/>
                </a:cubicBezTo>
                <a:cubicBezTo>
                  <a:pt x="680619" y="512594"/>
                  <a:pt x="696468" y="479269"/>
                  <a:pt x="715976" y="429689"/>
                </a:cubicBezTo>
                <a:lnTo>
                  <a:pt x="883481" y="0"/>
                </a:lnTo>
                <a:close/>
                <a:moveTo>
                  <a:pt x="90221" y="0"/>
                </a:moveTo>
                <a:lnTo>
                  <a:pt x="204826" y="0"/>
                </a:lnTo>
                <a:lnTo>
                  <a:pt x="204826" y="191945"/>
                </a:lnTo>
                <a:lnTo>
                  <a:pt x="288951" y="191945"/>
                </a:lnTo>
                <a:cubicBezTo>
                  <a:pt x="340157" y="191945"/>
                  <a:pt x="375311" y="185239"/>
                  <a:pt x="394412" y="171828"/>
                </a:cubicBezTo>
                <a:cubicBezTo>
                  <a:pt x="413512" y="158417"/>
                  <a:pt x="423469" y="132204"/>
                  <a:pt x="424282" y="93189"/>
                </a:cubicBezTo>
                <a:cubicBezTo>
                  <a:pt x="443789" y="87500"/>
                  <a:pt x="463296" y="84655"/>
                  <a:pt x="482804" y="84655"/>
                </a:cubicBezTo>
                <a:cubicBezTo>
                  <a:pt x="481178" y="112290"/>
                  <a:pt x="480365" y="156588"/>
                  <a:pt x="480365" y="217548"/>
                </a:cubicBezTo>
                <a:cubicBezTo>
                  <a:pt x="480365" y="284197"/>
                  <a:pt x="481178" y="331340"/>
                  <a:pt x="482804" y="358975"/>
                </a:cubicBezTo>
                <a:cubicBezTo>
                  <a:pt x="460858" y="358975"/>
                  <a:pt x="442164" y="356943"/>
                  <a:pt x="426720" y="352879"/>
                </a:cubicBezTo>
                <a:cubicBezTo>
                  <a:pt x="423469" y="310613"/>
                  <a:pt x="412293" y="281962"/>
                  <a:pt x="393192" y="266925"/>
                </a:cubicBezTo>
                <a:cubicBezTo>
                  <a:pt x="374092" y="251889"/>
                  <a:pt x="339344" y="244370"/>
                  <a:pt x="288951" y="244370"/>
                </a:cubicBezTo>
                <a:lnTo>
                  <a:pt x="204826" y="244370"/>
                </a:lnTo>
                <a:lnTo>
                  <a:pt x="204826" y="429689"/>
                </a:lnTo>
                <a:cubicBezTo>
                  <a:pt x="204826" y="464639"/>
                  <a:pt x="208484" y="491258"/>
                  <a:pt x="215799" y="509546"/>
                </a:cubicBezTo>
                <a:cubicBezTo>
                  <a:pt x="223114" y="527834"/>
                  <a:pt x="234290" y="540433"/>
                  <a:pt x="249327" y="547341"/>
                </a:cubicBezTo>
                <a:cubicBezTo>
                  <a:pt x="264364" y="554250"/>
                  <a:pt x="285699" y="558517"/>
                  <a:pt x="313335" y="560143"/>
                </a:cubicBezTo>
                <a:cubicBezTo>
                  <a:pt x="317399" y="571522"/>
                  <a:pt x="319431" y="588997"/>
                  <a:pt x="319431" y="612569"/>
                </a:cubicBezTo>
                <a:cubicBezTo>
                  <a:pt x="282042" y="610130"/>
                  <a:pt x="230836" y="608911"/>
                  <a:pt x="165812" y="608911"/>
                </a:cubicBezTo>
                <a:cubicBezTo>
                  <a:pt x="86970" y="608911"/>
                  <a:pt x="31700" y="610130"/>
                  <a:pt x="0" y="612569"/>
                </a:cubicBezTo>
                <a:cubicBezTo>
                  <a:pt x="0" y="588997"/>
                  <a:pt x="2032" y="571522"/>
                  <a:pt x="6096" y="560143"/>
                </a:cubicBezTo>
                <a:cubicBezTo>
                  <a:pt x="38608" y="558517"/>
                  <a:pt x="60757" y="550593"/>
                  <a:pt x="72543" y="536369"/>
                </a:cubicBezTo>
                <a:cubicBezTo>
                  <a:pt x="84328" y="522145"/>
                  <a:pt x="90221" y="494713"/>
                  <a:pt x="90221" y="454073"/>
                </a:cubicBezTo>
                <a:lnTo>
                  <a:pt x="90221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1" name="Group 19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5" name="TextBox 2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0280" y="1273320"/>
            <a:ext cx="35686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8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MASOKA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2514600" y="455148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1"/>
          <p:cNvSpPr/>
          <p:nvPr/>
        </p:nvSpPr>
        <p:spPr>
          <a:xfrm>
            <a:off x="4368960" y="55785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hadower"/>
                <a:ea typeface="Shadower"/>
              </a:rPr>
              <a:t>*EXCLUSIV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6"/>
          <p:cNvSpPr/>
          <p:nvPr/>
        </p:nvSpPr>
        <p:spPr>
          <a:xfrm>
            <a:off x="2514600" y="406080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7"/>
          <p:cNvSpPr/>
          <p:nvPr/>
        </p:nvSpPr>
        <p:spPr>
          <a:xfrm>
            <a:off x="2514600" y="357192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f3ec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7175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Group 8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3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2" name="TextBox 15"/>
          <p:cNvSpPr/>
          <p:nvPr/>
        </p:nvSpPr>
        <p:spPr>
          <a:xfrm>
            <a:off x="1103400" y="0"/>
            <a:ext cx="5879880" cy="619200"/>
          </a:xfrm>
          <a:custGeom>
            <a:avLst/>
            <a:gdLst/>
            <a:ahLst/>
            <a:rect l="l" t="t" r="r" b="b"/>
            <a:pathLst>
              <a:path w="5878906" h="619884">
                <a:moveTo>
                  <a:pt x="4968485" y="0"/>
                </a:moveTo>
                <a:lnTo>
                  <a:pt x="5169548" y="0"/>
                </a:lnTo>
                <a:lnTo>
                  <a:pt x="5375376" y="455292"/>
                </a:lnTo>
                <a:lnTo>
                  <a:pt x="5554859" y="0"/>
                </a:lnTo>
                <a:lnTo>
                  <a:pt x="5744171" y="0"/>
                </a:lnTo>
                <a:lnTo>
                  <a:pt x="5783808" y="404085"/>
                </a:lnTo>
                <a:cubicBezTo>
                  <a:pt x="5787873" y="444725"/>
                  <a:pt x="5793156" y="475815"/>
                  <a:pt x="5799658" y="497354"/>
                </a:cubicBezTo>
                <a:cubicBezTo>
                  <a:pt x="5806161" y="518893"/>
                  <a:pt x="5815101" y="534133"/>
                  <a:pt x="5826481" y="543074"/>
                </a:cubicBezTo>
                <a:cubicBezTo>
                  <a:pt x="5837860" y="552015"/>
                  <a:pt x="5853303" y="557298"/>
                  <a:pt x="5872810" y="558924"/>
                </a:cubicBezTo>
                <a:cubicBezTo>
                  <a:pt x="5876874" y="572741"/>
                  <a:pt x="5878906" y="590623"/>
                  <a:pt x="5878906" y="612569"/>
                </a:cubicBezTo>
                <a:cubicBezTo>
                  <a:pt x="5841518" y="610130"/>
                  <a:pt x="5792750" y="608911"/>
                  <a:pt x="5732602" y="608911"/>
                </a:cubicBezTo>
                <a:cubicBezTo>
                  <a:pt x="5674893" y="608911"/>
                  <a:pt x="5625313" y="610130"/>
                  <a:pt x="5583860" y="612569"/>
                </a:cubicBezTo>
                <a:cubicBezTo>
                  <a:pt x="5583860" y="593061"/>
                  <a:pt x="5586298" y="575586"/>
                  <a:pt x="5591175" y="560143"/>
                </a:cubicBezTo>
                <a:cubicBezTo>
                  <a:pt x="5622062" y="556892"/>
                  <a:pt x="5642788" y="549983"/>
                  <a:pt x="5653354" y="539417"/>
                </a:cubicBezTo>
                <a:cubicBezTo>
                  <a:pt x="5663920" y="528850"/>
                  <a:pt x="5669204" y="509343"/>
                  <a:pt x="5669204" y="480895"/>
                </a:cubicBezTo>
                <a:cubicBezTo>
                  <a:pt x="5669204" y="464639"/>
                  <a:pt x="5667985" y="444319"/>
                  <a:pt x="5665546" y="419935"/>
                </a:cubicBezTo>
                <a:lnTo>
                  <a:pt x="5621655" y="1749"/>
                </a:lnTo>
                <a:lnTo>
                  <a:pt x="5369281" y="611349"/>
                </a:lnTo>
                <a:cubicBezTo>
                  <a:pt x="5355463" y="617039"/>
                  <a:pt x="5338801" y="619884"/>
                  <a:pt x="5319293" y="619884"/>
                </a:cubicBezTo>
                <a:lnTo>
                  <a:pt x="5035220" y="2969"/>
                </a:lnTo>
                <a:lnTo>
                  <a:pt x="4996205" y="394332"/>
                </a:lnTo>
                <a:cubicBezTo>
                  <a:pt x="4993767" y="418716"/>
                  <a:pt x="4992548" y="439849"/>
                  <a:pt x="4992548" y="457730"/>
                </a:cubicBezTo>
                <a:cubicBezTo>
                  <a:pt x="4992548" y="495119"/>
                  <a:pt x="4998847" y="520925"/>
                  <a:pt x="5011446" y="535149"/>
                </a:cubicBezTo>
                <a:cubicBezTo>
                  <a:pt x="5024044" y="549373"/>
                  <a:pt x="5045380" y="557705"/>
                  <a:pt x="5075453" y="560143"/>
                </a:cubicBezTo>
                <a:cubicBezTo>
                  <a:pt x="5079518" y="573961"/>
                  <a:pt x="5081550" y="591436"/>
                  <a:pt x="5081550" y="612569"/>
                </a:cubicBezTo>
                <a:cubicBezTo>
                  <a:pt x="5042535" y="610130"/>
                  <a:pt x="4999051" y="608911"/>
                  <a:pt x="4951095" y="608911"/>
                </a:cubicBezTo>
                <a:cubicBezTo>
                  <a:pt x="4903140" y="608911"/>
                  <a:pt x="4862500" y="610130"/>
                  <a:pt x="4829175" y="612569"/>
                </a:cubicBezTo>
                <a:cubicBezTo>
                  <a:pt x="4829175" y="591436"/>
                  <a:pt x="4831207" y="573961"/>
                  <a:pt x="4835271" y="560143"/>
                </a:cubicBezTo>
                <a:cubicBezTo>
                  <a:pt x="4858029" y="557705"/>
                  <a:pt x="4875505" y="552015"/>
                  <a:pt x="4887697" y="543074"/>
                </a:cubicBezTo>
                <a:cubicBezTo>
                  <a:pt x="4899889" y="534133"/>
                  <a:pt x="4909439" y="517674"/>
                  <a:pt x="4916348" y="493697"/>
                </a:cubicBezTo>
                <a:cubicBezTo>
                  <a:pt x="4923257" y="469719"/>
                  <a:pt x="4929150" y="432940"/>
                  <a:pt x="4934026" y="383359"/>
                </a:cubicBezTo>
                <a:lnTo>
                  <a:pt x="4968485" y="0"/>
                </a:lnTo>
                <a:close/>
                <a:moveTo>
                  <a:pt x="4271410" y="0"/>
                </a:moveTo>
                <a:lnTo>
                  <a:pt x="4325703" y="0"/>
                </a:lnTo>
                <a:lnTo>
                  <a:pt x="4301414" y="67586"/>
                </a:lnTo>
                <a:lnTo>
                  <a:pt x="4217289" y="285823"/>
                </a:lnTo>
                <a:lnTo>
                  <a:pt x="4494048" y="285823"/>
                </a:lnTo>
                <a:lnTo>
                  <a:pt x="4401388" y="68805"/>
                </a:lnTo>
                <a:lnTo>
                  <a:pt x="4372418" y="0"/>
                </a:lnTo>
                <a:lnTo>
                  <a:pt x="4500850" y="0"/>
                </a:lnTo>
                <a:lnTo>
                  <a:pt x="4693996" y="443100"/>
                </a:lnTo>
                <a:cubicBezTo>
                  <a:pt x="4714317" y="488617"/>
                  <a:pt x="4730369" y="518690"/>
                  <a:pt x="4742155" y="533321"/>
                </a:cubicBezTo>
                <a:cubicBezTo>
                  <a:pt x="4753940" y="547951"/>
                  <a:pt x="4769180" y="556892"/>
                  <a:pt x="4787875" y="560143"/>
                </a:cubicBezTo>
                <a:cubicBezTo>
                  <a:pt x="4792751" y="576399"/>
                  <a:pt x="4795190" y="593874"/>
                  <a:pt x="4795190" y="612569"/>
                </a:cubicBezTo>
                <a:cubicBezTo>
                  <a:pt x="4746422" y="610130"/>
                  <a:pt x="4700093" y="608911"/>
                  <a:pt x="4656201" y="608911"/>
                </a:cubicBezTo>
                <a:cubicBezTo>
                  <a:pt x="4613123" y="608911"/>
                  <a:pt x="4567200" y="610130"/>
                  <a:pt x="4518432" y="612569"/>
                </a:cubicBezTo>
                <a:cubicBezTo>
                  <a:pt x="4518432" y="588997"/>
                  <a:pt x="4521276" y="571522"/>
                  <a:pt x="4526966" y="560143"/>
                </a:cubicBezTo>
                <a:cubicBezTo>
                  <a:pt x="4549725" y="557705"/>
                  <a:pt x="4565777" y="554047"/>
                  <a:pt x="4575125" y="549170"/>
                </a:cubicBezTo>
                <a:cubicBezTo>
                  <a:pt x="4584472" y="544293"/>
                  <a:pt x="4589145" y="536165"/>
                  <a:pt x="4589145" y="524786"/>
                </a:cubicBezTo>
                <a:cubicBezTo>
                  <a:pt x="4589145" y="515033"/>
                  <a:pt x="4583049" y="495119"/>
                  <a:pt x="4570857" y="465045"/>
                </a:cubicBezTo>
                <a:lnTo>
                  <a:pt x="4517212" y="340687"/>
                </a:lnTo>
                <a:cubicBezTo>
                  <a:pt x="4387977" y="340687"/>
                  <a:pt x="4280688" y="342313"/>
                  <a:pt x="4195344" y="345564"/>
                </a:cubicBezTo>
                <a:lnTo>
                  <a:pt x="4162425" y="429689"/>
                </a:lnTo>
                <a:cubicBezTo>
                  <a:pt x="4149420" y="463826"/>
                  <a:pt x="4142918" y="490649"/>
                  <a:pt x="4142918" y="510156"/>
                </a:cubicBezTo>
                <a:cubicBezTo>
                  <a:pt x="4142918" y="526412"/>
                  <a:pt x="4147998" y="538401"/>
                  <a:pt x="4158158" y="546122"/>
                </a:cubicBezTo>
                <a:cubicBezTo>
                  <a:pt x="4168318" y="553844"/>
                  <a:pt x="4184371" y="558517"/>
                  <a:pt x="4206317" y="560143"/>
                </a:cubicBezTo>
                <a:cubicBezTo>
                  <a:pt x="4212006" y="573961"/>
                  <a:pt x="4214851" y="591436"/>
                  <a:pt x="4214851" y="612569"/>
                </a:cubicBezTo>
                <a:cubicBezTo>
                  <a:pt x="4187215" y="610130"/>
                  <a:pt x="4148608" y="608911"/>
                  <a:pt x="4099027" y="608911"/>
                </a:cubicBezTo>
                <a:cubicBezTo>
                  <a:pt x="4077894" y="608911"/>
                  <a:pt x="4044163" y="610130"/>
                  <a:pt x="3997833" y="612569"/>
                </a:cubicBezTo>
                <a:cubicBezTo>
                  <a:pt x="3997833" y="592249"/>
                  <a:pt x="4000678" y="575180"/>
                  <a:pt x="4006368" y="561362"/>
                </a:cubicBezTo>
                <a:cubicBezTo>
                  <a:pt x="4027500" y="557298"/>
                  <a:pt x="4044163" y="546732"/>
                  <a:pt x="4056355" y="529663"/>
                </a:cubicBezTo>
                <a:cubicBezTo>
                  <a:pt x="4068547" y="512594"/>
                  <a:pt x="4084396" y="479269"/>
                  <a:pt x="4103904" y="429689"/>
                </a:cubicBezTo>
                <a:lnTo>
                  <a:pt x="4271410" y="0"/>
                </a:lnTo>
                <a:close/>
                <a:moveTo>
                  <a:pt x="3430524" y="0"/>
                </a:moveTo>
                <a:lnTo>
                  <a:pt x="3545129" y="0"/>
                </a:lnTo>
                <a:lnTo>
                  <a:pt x="3545129" y="167561"/>
                </a:lnTo>
                <a:lnTo>
                  <a:pt x="3621939" y="167561"/>
                </a:lnTo>
                <a:cubicBezTo>
                  <a:pt x="3673145" y="167561"/>
                  <a:pt x="3708298" y="160855"/>
                  <a:pt x="3727400" y="147444"/>
                </a:cubicBezTo>
                <a:cubicBezTo>
                  <a:pt x="3746500" y="134033"/>
                  <a:pt x="3756457" y="107820"/>
                  <a:pt x="3757270" y="68805"/>
                </a:cubicBezTo>
                <a:cubicBezTo>
                  <a:pt x="3776777" y="63116"/>
                  <a:pt x="3796284" y="60271"/>
                  <a:pt x="3815792" y="60271"/>
                </a:cubicBezTo>
                <a:cubicBezTo>
                  <a:pt x="3814166" y="87906"/>
                  <a:pt x="3813353" y="132204"/>
                  <a:pt x="3813353" y="193164"/>
                </a:cubicBezTo>
                <a:cubicBezTo>
                  <a:pt x="3813353" y="259813"/>
                  <a:pt x="3814166" y="306956"/>
                  <a:pt x="3815792" y="334591"/>
                </a:cubicBezTo>
                <a:cubicBezTo>
                  <a:pt x="3793846" y="334591"/>
                  <a:pt x="3775152" y="332559"/>
                  <a:pt x="3759708" y="328495"/>
                </a:cubicBezTo>
                <a:cubicBezTo>
                  <a:pt x="3756457" y="286229"/>
                  <a:pt x="3745281" y="257578"/>
                  <a:pt x="3726180" y="242541"/>
                </a:cubicBezTo>
                <a:cubicBezTo>
                  <a:pt x="3707079" y="227505"/>
                  <a:pt x="3672332" y="219986"/>
                  <a:pt x="3621939" y="219986"/>
                </a:cubicBezTo>
                <a:lnTo>
                  <a:pt x="3545129" y="219986"/>
                </a:lnTo>
                <a:lnTo>
                  <a:pt x="3545129" y="440661"/>
                </a:lnTo>
                <a:cubicBezTo>
                  <a:pt x="3545129" y="471548"/>
                  <a:pt x="3547974" y="494916"/>
                  <a:pt x="3553663" y="510765"/>
                </a:cubicBezTo>
                <a:cubicBezTo>
                  <a:pt x="3559353" y="526615"/>
                  <a:pt x="3570122" y="537791"/>
                  <a:pt x="3585972" y="544293"/>
                </a:cubicBezTo>
                <a:cubicBezTo>
                  <a:pt x="3601822" y="550796"/>
                  <a:pt x="3625190" y="554047"/>
                  <a:pt x="3656076" y="554047"/>
                </a:cubicBezTo>
                <a:lnTo>
                  <a:pt x="3663392" y="554047"/>
                </a:lnTo>
                <a:cubicBezTo>
                  <a:pt x="3719475" y="554047"/>
                  <a:pt x="3762553" y="548357"/>
                  <a:pt x="3792627" y="536978"/>
                </a:cubicBezTo>
                <a:cubicBezTo>
                  <a:pt x="3822700" y="525599"/>
                  <a:pt x="3844849" y="509749"/>
                  <a:pt x="3859073" y="489429"/>
                </a:cubicBezTo>
                <a:cubicBezTo>
                  <a:pt x="3873297" y="469109"/>
                  <a:pt x="3887318" y="439442"/>
                  <a:pt x="3901135" y="400428"/>
                </a:cubicBezTo>
                <a:cubicBezTo>
                  <a:pt x="3924706" y="407743"/>
                  <a:pt x="3942588" y="417497"/>
                  <a:pt x="3954780" y="429689"/>
                </a:cubicBezTo>
                <a:cubicBezTo>
                  <a:pt x="3939337" y="477644"/>
                  <a:pt x="3926739" y="538197"/>
                  <a:pt x="3916985" y="611349"/>
                </a:cubicBezTo>
                <a:cubicBezTo>
                  <a:pt x="3853587" y="609724"/>
                  <a:pt x="3766617" y="608911"/>
                  <a:pt x="3656076" y="608911"/>
                </a:cubicBezTo>
                <a:cubicBezTo>
                  <a:pt x="3506521" y="608911"/>
                  <a:pt x="3401263" y="610130"/>
                  <a:pt x="3340303" y="612569"/>
                </a:cubicBezTo>
                <a:cubicBezTo>
                  <a:pt x="3340303" y="588997"/>
                  <a:pt x="3342336" y="571522"/>
                  <a:pt x="3346400" y="560143"/>
                </a:cubicBezTo>
                <a:cubicBezTo>
                  <a:pt x="3369158" y="558517"/>
                  <a:pt x="3386430" y="554453"/>
                  <a:pt x="3398215" y="547951"/>
                </a:cubicBezTo>
                <a:cubicBezTo>
                  <a:pt x="3410001" y="541449"/>
                  <a:pt x="3418332" y="530069"/>
                  <a:pt x="3423209" y="513813"/>
                </a:cubicBezTo>
                <a:cubicBezTo>
                  <a:pt x="3428086" y="497557"/>
                  <a:pt x="3430524" y="473173"/>
                  <a:pt x="3430524" y="440661"/>
                </a:cubicBezTo>
                <a:lnTo>
                  <a:pt x="3430524" y="0"/>
                </a:lnTo>
                <a:close/>
                <a:moveTo>
                  <a:pt x="2899334" y="0"/>
                </a:moveTo>
                <a:lnTo>
                  <a:pt x="3013939" y="0"/>
                </a:lnTo>
                <a:lnTo>
                  <a:pt x="3013939" y="454073"/>
                </a:lnTo>
                <a:cubicBezTo>
                  <a:pt x="3013939" y="482521"/>
                  <a:pt x="3016377" y="503857"/>
                  <a:pt x="3021254" y="518081"/>
                </a:cubicBezTo>
                <a:cubicBezTo>
                  <a:pt x="3026131" y="532305"/>
                  <a:pt x="3035275" y="542465"/>
                  <a:pt x="3048686" y="548561"/>
                </a:cubicBezTo>
                <a:cubicBezTo>
                  <a:pt x="3062097" y="554657"/>
                  <a:pt x="3082214" y="558517"/>
                  <a:pt x="3109036" y="560143"/>
                </a:cubicBezTo>
                <a:cubicBezTo>
                  <a:pt x="3113100" y="571522"/>
                  <a:pt x="3115133" y="588997"/>
                  <a:pt x="3115133" y="612569"/>
                </a:cubicBezTo>
                <a:cubicBezTo>
                  <a:pt x="3063113" y="610130"/>
                  <a:pt x="3009875" y="608911"/>
                  <a:pt x="2955417" y="608911"/>
                </a:cubicBezTo>
                <a:cubicBezTo>
                  <a:pt x="2894457" y="608911"/>
                  <a:pt x="2841219" y="610130"/>
                  <a:pt x="2795702" y="612569"/>
                </a:cubicBezTo>
                <a:cubicBezTo>
                  <a:pt x="2795702" y="588997"/>
                  <a:pt x="2797734" y="571522"/>
                  <a:pt x="2801798" y="560143"/>
                </a:cubicBezTo>
                <a:cubicBezTo>
                  <a:pt x="2828620" y="558517"/>
                  <a:pt x="2848940" y="554657"/>
                  <a:pt x="2862758" y="548561"/>
                </a:cubicBezTo>
                <a:cubicBezTo>
                  <a:pt x="2876576" y="542465"/>
                  <a:pt x="2886126" y="532101"/>
                  <a:pt x="2891409" y="517471"/>
                </a:cubicBezTo>
                <a:cubicBezTo>
                  <a:pt x="2896692" y="502841"/>
                  <a:pt x="2899334" y="481708"/>
                  <a:pt x="2899334" y="454073"/>
                </a:cubicBezTo>
                <a:lnTo>
                  <a:pt x="2899334" y="0"/>
                </a:lnTo>
                <a:close/>
                <a:moveTo>
                  <a:pt x="1754124" y="0"/>
                </a:moveTo>
                <a:lnTo>
                  <a:pt x="1868729" y="0"/>
                </a:lnTo>
                <a:lnTo>
                  <a:pt x="1868729" y="177314"/>
                </a:lnTo>
                <a:cubicBezTo>
                  <a:pt x="1888236" y="179753"/>
                  <a:pt x="1906118" y="180972"/>
                  <a:pt x="1922374" y="180972"/>
                </a:cubicBezTo>
                <a:cubicBezTo>
                  <a:pt x="1993087" y="180972"/>
                  <a:pt x="2050390" y="165732"/>
                  <a:pt x="2094281" y="135252"/>
                </a:cubicBezTo>
                <a:cubicBezTo>
                  <a:pt x="2116227" y="120012"/>
                  <a:pt x="2132686" y="101063"/>
                  <a:pt x="2143659" y="78407"/>
                </a:cubicBezTo>
                <a:lnTo>
                  <a:pt x="2159975" y="0"/>
                </a:lnTo>
                <a:lnTo>
                  <a:pt x="2277269" y="0"/>
                </a:lnTo>
                <a:lnTo>
                  <a:pt x="2266036" y="62100"/>
                </a:lnTo>
                <a:cubicBezTo>
                  <a:pt x="2256994" y="85265"/>
                  <a:pt x="2243430" y="106601"/>
                  <a:pt x="2225345" y="126108"/>
                </a:cubicBezTo>
                <a:cubicBezTo>
                  <a:pt x="2189176" y="165122"/>
                  <a:pt x="2138985" y="192757"/>
                  <a:pt x="2074774" y="209013"/>
                </a:cubicBezTo>
                <a:cubicBezTo>
                  <a:pt x="2103222" y="239087"/>
                  <a:pt x="2127199" y="268551"/>
                  <a:pt x="2146707" y="297405"/>
                </a:cubicBezTo>
                <a:cubicBezTo>
                  <a:pt x="2166214" y="326260"/>
                  <a:pt x="2195068" y="373199"/>
                  <a:pt x="2233270" y="438223"/>
                </a:cubicBezTo>
                <a:cubicBezTo>
                  <a:pt x="2251965" y="469922"/>
                  <a:pt x="2267814" y="493493"/>
                  <a:pt x="2280819" y="508937"/>
                </a:cubicBezTo>
                <a:cubicBezTo>
                  <a:pt x="2293824" y="524380"/>
                  <a:pt x="2309063" y="535759"/>
                  <a:pt x="2326539" y="543074"/>
                </a:cubicBezTo>
                <a:cubicBezTo>
                  <a:pt x="2344014" y="550389"/>
                  <a:pt x="2367788" y="554860"/>
                  <a:pt x="2397862" y="556485"/>
                </a:cubicBezTo>
                <a:cubicBezTo>
                  <a:pt x="2397862" y="580057"/>
                  <a:pt x="2396236" y="597532"/>
                  <a:pt x="2392985" y="608911"/>
                </a:cubicBezTo>
                <a:cubicBezTo>
                  <a:pt x="2310079" y="608911"/>
                  <a:pt x="2246275" y="612569"/>
                  <a:pt x="2201571" y="619884"/>
                </a:cubicBezTo>
                <a:cubicBezTo>
                  <a:pt x="2170684" y="570303"/>
                  <a:pt x="2143456" y="522348"/>
                  <a:pt x="2119884" y="476018"/>
                </a:cubicBezTo>
                <a:lnTo>
                  <a:pt x="2105254" y="449196"/>
                </a:lnTo>
                <a:cubicBezTo>
                  <a:pt x="2080057" y="403679"/>
                  <a:pt x="2057095" y="365681"/>
                  <a:pt x="2036369" y="335201"/>
                </a:cubicBezTo>
                <a:cubicBezTo>
                  <a:pt x="2015643" y="304721"/>
                  <a:pt x="1988211" y="271193"/>
                  <a:pt x="1954073" y="234617"/>
                </a:cubicBezTo>
                <a:lnTo>
                  <a:pt x="1916278" y="235836"/>
                </a:lnTo>
                <a:cubicBezTo>
                  <a:pt x="1904086" y="235836"/>
                  <a:pt x="1888236" y="235023"/>
                  <a:pt x="1868729" y="233397"/>
                </a:cubicBezTo>
                <a:lnTo>
                  <a:pt x="1868729" y="454073"/>
                </a:lnTo>
                <a:cubicBezTo>
                  <a:pt x="1868729" y="494713"/>
                  <a:pt x="1874216" y="522145"/>
                  <a:pt x="1885188" y="536369"/>
                </a:cubicBezTo>
                <a:cubicBezTo>
                  <a:pt x="1896161" y="550593"/>
                  <a:pt x="1917497" y="558517"/>
                  <a:pt x="1949196" y="560143"/>
                </a:cubicBezTo>
                <a:cubicBezTo>
                  <a:pt x="1953260" y="572335"/>
                  <a:pt x="1955292" y="589810"/>
                  <a:pt x="1955292" y="612569"/>
                </a:cubicBezTo>
                <a:cubicBezTo>
                  <a:pt x="1920342" y="610130"/>
                  <a:pt x="1871980" y="608911"/>
                  <a:pt x="1810208" y="608911"/>
                </a:cubicBezTo>
                <a:cubicBezTo>
                  <a:pt x="1749248" y="608911"/>
                  <a:pt x="1700480" y="610130"/>
                  <a:pt x="1663904" y="612569"/>
                </a:cubicBezTo>
                <a:cubicBezTo>
                  <a:pt x="1663904" y="590623"/>
                  <a:pt x="1665936" y="573148"/>
                  <a:pt x="1670000" y="560143"/>
                </a:cubicBezTo>
                <a:cubicBezTo>
                  <a:pt x="1703324" y="558517"/>
                  <a:pt x="1725677" y="550593"/>
                  <a:pt x="1737056" y="536369"/>
                </a:cubicBezTo>
                <a:cubicBezTo>
                  <a:pt x="1748435" y="522145"/>
                  <a:pt x="1754124" y="494713"/>
                  <a:pt x="1754124" y="454073"/>
                </a:cubicBezTo>
                <a:lnTo>
                  <a:pt x="1754124" y="0"/>
                </a:lnTo>
                <a:close/>
                <a:moveTo>
                  <a:pt x="943813" y="0"/>
                </a:moveTo>
                <a:lnTo>
                  <a:pt x="1058418" y="0"/>
                </a:lnTo>
                <a:lnTo>
                  <a:pt x="1058418" y="310207"/>
                </a:lnTo>
                <a:cubicBezTo>
                  <a:pt x="1058418" y="386610"/>
                  <a:pt x="1074065" y="446554"/>
                  <a:pt x="1105357" y="490039"/>
                </a:cubicBezTo>
                <a:cubicBezTo>
                  <a:pt x="1136650" y="533524"/>
                  <a:pt x="1190092" y="555266"/>
                  <a:pt x="1265682" y="555266"/>
                </a:cubicBezTo>
                <a:cubicBezTo>
                  <a:pt x="1288441" y="555266"/>
                  <a:pt x="1311809" y="551405"/>
                  <a:pt x="1335787" y="543684"/>
                </a:cubicBezTo>
                <a:cubicBezTo>
                  <a:pt x="1359764" y="535962"/>
                  <a:pt x="1379475" y="524380"/>
                  <a:pt x="1394917" y="508937"/>
                </a:cubicBezTo>
                <a:cubicBezTo>
                  <a:pt x="1414425" y="489429"/>
                  <a:pt x="1428039" y="464029"/>
                  <a:pt x="1435761" y="432737"/>
                </a:cubicBezTo>
                <a:cubicBezTo>
                  <a:pt x="1443482" y="401444"/>
                  <a:pt x="1447343" y="354098"/>
                  <a:pt x="1447343" y="290700"/>
                </a:cubicBezTo>
                <a:lnTo>
                  <a:pt x="1447343" y="0"/>
                </a:lnTo>
                <a:lnTo>
                  <a:pt x="1509522" y="0"/>
                </a:lnTo>
                <a:lnTo>
                  <a:pt x="1509522" y="280946"/>
                </a:lnTo>
                <a:cubicBezTo>
                  <a:pt x="1509522" y="354098"/>
                  <a:pt x="1504646" y="410588"/>
                  <a:pt x="1494892" y="450415"/>
                </a:cubicBezTo>
                <a:cubicBezTo>
                  <a:pt x="1485138" y="490242"/>
                  <a:pt x="1466850" y="523567"/>
                  <a:pt x="1440028" y="550389"/>
                </a:cubicBezTo>
                <a:cubicBezTo>
                  <a:pt x="1393699" y="596719"/>
                  <a:pt x="1327862" y="619884"/>
                  <a:pt x="1242518" y="619884"/>
                </a:cubicBezTo>
                <a:cubicBezTo>
                  <a:pt x="1133602" y="619884"/>
                  <a:pt x="1056589" y="595906"/>
                  <a:pt x="1011479" y="547951"/>
                </a:cubicBezTo>
                <a:cubicBezTo>
                  <a:pt x="966369" y="499996"/>
                  <a:pt x="943813" y="426437"/>
                  <a:pt x="943813" y="327276"/>
                </a:cubicBezTo>
                <a:lnTo>
                  <a:pt x="943813" y="0"/>
                </a:lnTo>
                <a:close/>
                <a:moveTo>
                  <a:pt x="43994" y="0"/>
                </a:moveTo>
                <a:lnTo>
                  <a:pt x="154730" y="0"/>
                </a:lnTo>
                <a:lnTo>
                  <a:pt x="133655" y="69720"/>
                </a:lnTo>
                <a:cubicBezTo>
                  <a:pt x="128270" y="98371"/>
                  <a:pt x="125578" y="128953"/>
                  <a:pt x="125578" y="161465"/>
                </a:cubicBezTo>
                <a:cubicBezTo>
                  <a:pt x="125578" y="231365"/>
                  <a:pt x="137567" y="296796"/>
                  <a:pt x="161544" y="357756"/>
                </a:cubicBezTo>
                <a:cubicBezTo>
                  <a:pt x="185522" y="418716"/>
                  <a:pt x="220269" y="467687"/>
                  <a:pt x="265786" y="504669"/>
                </a:cubicBezTo>
                <a:cubicBezTo>
                  <a:pt x="311303" y="541652"/>
                  <a:pt x="364947" y="560143"/>
                  <a:pt x="426720" y="560143"/>
                </a:cubicBezTo>
                <a:cubicBezTo>
                  <a:pt x="477927" y="560143"/>
                  <a:pt x="522834" y="545513"/>
                  <a:pt x="561442" y="516252"/>
                </a:cubicBezTo>
                <a:cubicBezTo>
                  <a:pt x="600050" y="486991"/>
                  <a:pt x="629514" y="446961"/>
                  <a:pt x="649834" y="396161"/>
                </a:cubicBezTo>
                <a:cubicBezTo>
                  <a:pt x="670154" y="345361"/>
                  <a:pt x="680314" y="288668"/>
                  <a:pt x="680314" y="226082"/>
                </a:cubicBezTo>
                <a:cubicBezTo>
                  <a:pt x="680314" y="153743"/>
                  <a:pt x="667106" y="87500"/>
                  <a:pt x="640690" y="27353"/>
                </a:cubicBezTo>
                <a:lnTo>
                  <a:pt x="624743" y="0"/>
                </a:lnTo>
                <a:lnTo>
                  <a:pt x="763345" y="0"/>
                </a:lnTo>
                <a:lnTo>
                  <a:pt x="792937" y="78102"/>
                </a:lnTo>
                <a:cubicBezTo>
                  <a:pt x="801573" y="114576"/>
                  <a:pt x="805891" y="153337"/>
                  <a:pt x="805891" y="194383"/>
                </a:cubicBezTo>
                <a:cubicBezTo>
                  <a:pt x="805891" y="274037"/>
                  <a:pt x="788619" y="346173"/>
                  <a:pt x="754076" y="410791"/>
                </a:cubicBezTo>
                <a:cubicBezTo>
                  <a:pt x="719531" y="475409"/>
                  <a:pt x="671576" y="526412"/>
                  <a:pt x="610210" y="563801"/>
                </a:cubicBezTo>
                <a:cubicBezTo>
                  <a:pt x="548843" y="601189"/>
                  <a:pt x="479552" y="619884"/>
                  <a:pt x="402336" y="619884"/>
                </a:cubicBezTo>
                <a:cubicBezTo>
                  <a:pt x="323495" y="619884"/>
                  <a:pt x="253594" y="601393"/>
                  <a:pt x="192634" y="564410"/>
                </a:cubicBezTo>
                <a:cubicBezTo>
                  <a:pt x="131674" y="527428"/>
                  <a:pt x="84328" y="476628"/>
                  <a:pt x="50597" y="412010"/>
                </a:cubicBezTo>
                <a:cubicBezTo>
                  <a:pt x="16866" y="347393"/>
                  <a:pt x="0" y="274850"/>
                  <a:pt x="0" y="194383"/>
                </a:cubicBezTo>
                <a:cubicBezTo>
                  <a:pt x="0" y="153743"/>
                  <a:pt x="4420" y="115287"/>
                  <a:pt x="13259" y="79016"/>
                </a:cubicBezTo>
                <a:lnTo>
                  <a:pt x="43994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16"/>
          <p:cNvSpPr/>
          <p:nvPr/>
        </p:nvSpPr>
        <p:spPr>
          <a:xfrm>
            <a:off x="1139760" y="5094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JES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17"/>
          <p:cNvSpPr/>
          <p:nvPr/>
        </p:nvSpPr>
        <p:spPr>
          <a:xfrm>
            <a:off x="4737240" y="509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VIC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18"/>
          <p:cNvSpPr/>
          <p:nvPr/>
        </p:nvSpPr>
        <p:spPr>
          <a:xfrm>
            <a:off x="8334360" y="5087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 EVA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8267400" y="1269720"/>
            <a:ext cx="2857320" cy="35938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673520" y="1269720"/>
            <a:ext cx="2857680" cy="359388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3"/>
          <a:stretch/>
        </p:blipFill>
        <p:spPr>
          <a:xfrm>
            <a:off x="1079280" y="1269720"/>
            <a:ext cx="28573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3ac9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Group 11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53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TextBox 15"/>
          <p:cNvSpPr/>
          <p:nvPr/>
        </p:nvSpPr>
        <p:spPr>
          <a:xfrm>
            <a:off x="2300400" y="3978360"/>
            <a:ext cx="76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6f3ec"/>
                </a:solidFill>
                <a:latin typeface="Shadower"/>
                <a:ea typeface="Shadower"/>
              </a:rPr>
              <a:t>BREAK T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5772240" cy="28512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Shadower"/>
                <a:ea typeface="Shadower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6f3ec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6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6f3ec"/>
            </a:solidFill>
            <a:miter/>
            <a:tailEnd len="med" type="triangle" w="med"/>
          </a:ln>
        </p:spPr>
      </p:cxnSp>
      <p:sp>
        <p:nvSpPr>
          <p:cNvPr id="1167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a3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8"/>
          <p:cNvSpPr/>
          <p:nvPr/>
        </p:nvSpPr>
        <p:spPr>
          <a:xfrm>
            <a:off x="6794640" y="0"/>
            <a:ext cx="539748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9"/>
          <p:cNvSpPr/>
          <p:nvPr/>
        </p:nvSpPr>
        <p:spPr>
          <a:xfrm>
            <a:off x="7385040" y="15271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OUR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0"/>
          <p:cNvSpPr/>
          <p:nvPr/>
        </p:nvSpPr>
        <p:spPr>
          <a:xfrm>
            <a:off x="7385040" y="206064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STATISTIC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1"/>
          <p:cNvSpPr/>
          <p:nvPr/>
        </p:nvSpPr>
        <p:spPr>
          <a:xfrm>
            <a:off x="7381800" y="12175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Montserrat"/>
                <a:ea typeface="Source Sans Pro"/>
              </a:rPr>
              <a:t>Presentation Template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21"/>
          <p:cNvSpPr/>
          <p:nvPr/>
        </p:nvSpPr>
        <p:spPr>
          <a:xfrm>
            <a:off x="-1440" y="0"/>
            <a:ext cx="33480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Chart 17" descr=""/>
          <p:cNvPicPr/>
          <p:nvPr/>
        </p:nvPicPr>
        <p:blipFill>
          <a:blip r:embed="rId1"/>
          <a:stretch/>
        </p:blipFill>
        <p:spPr>
          <a:xfrm>
            <a:off x="774720" y="1557360"/>
            <a:ext cx="5562720" cy="3743280"/>
          </a:xfrm>
          <a:prstGeom prst="rect">
            <a:avLst/>
          </a:prstGeom>
          <a:ln w="0">
            <a:noFill/>
          </a:ln>
        </p:spPr>
      </p:pic>
      <p:sp>
        <p:nvSpPr>
          <p:cNvPr id="1177" name="Text Placeholder 6"/>
          <p:cNvSpPr/>
          <p:nvPr/>
        </p:nvSpPr>
        <p:spPr>
          <a:xfrm>
            <a:off x="7381800" y="305928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Placeholder 6"/>
          <p:cNvSpPr/>
          <p:nvPr/>
        </p:nvSpPr>
        <p:spPr>
          <a:xfrm>
            <a:off x="7407360" y="5241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traight Connector 22"/>
          <p:cNvSpPr/>
          <p:nvPr/>
        </p:nvSpPr>
        <p:spPr>
          <a:xfrm>
            <a:off x="7496280" y="550080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b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8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5" name="TextBox 10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6T06:04:58Z</dcterms:created>
  <dc:creator>user</dc:creator>
  <dc:description/>
  <dc:language>en-US</dc:language>
  <cp:lastModifiedBy>Harist</cp:lastModifiedBy>
  <dcterms:modified xsi:type="dcterms:W3CDTF">2023-04-08T02:57:08Z</dcterms:modified>
  <cp:revision>29</cp:revision>
  <dc:subject/>
  <dc:title>PowerPoint Presentation</dc:title>
</cp:coreProperties>
</file>