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_rels/presentation.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sldIdLst>
    <p:sldId id="256" r:id="rId31"/>
    <p:sldId id="257" r:id="rId32"/>
    <p:sldId id="258" r:id="rId33"/>
    <p:sldId id="259" r:id="rId34"/>
    <p:sldId id="260" r:id="rId35"/>
    <p:sldId id="261" r:id="rId36"/>
    <p:sldId id="262" r:id="rId37"/>
    <p:sldId id="263" r:id="rId38"/>
    <p:sldId id="264" r:id="rId39"/>
    <p:sldId id="265" r:id="rId4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132ABE-955B-4ED5-B216-97E830699A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004B6-F501-496A-A283-AF43F52D2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FFF4D0-5DD5-461E-80D9-E2BD3A728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7DD522-CCE0-4957-B602-7CF686C7E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B34E3-6DE6-4B4C-90D9-6EB1D4957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AB594-A916-4CC2-85F1-5F0DD416E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B7F20-D9C1-4CE2-A929-79822BCE9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0FBDA-5BF6-4146-8DF6-3C8A441A7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0AA12-D48D-46D8-93B2-4705298E8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F2F0B-986F-4F76-9A0E-6711DAE7F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36CD0-CF8B-4459-B6B7-9FA0EE06C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6D9BA-ABD9-4C0D-8ADE-3AA21DAC6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80AA6-BAE7-4C83-B97A-C7767C9C22C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9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3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77.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289.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30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0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0e0e"/>
        </a:solidFill>
      </p:bgPr>
    </p:bg>
    <p:spTree>
      <p:nvGrpSpPr>
        <p:cNvPr id="1" name=""/>
        <p:cNvGrpSpPr/>
        <p:nvPr/>
      </p:nvGrpSpPr>
      <p:grpSpPr>
        <a:xfrm>
          <a:off x="0" y="0"/>
          <a:ext cx="0" cy="0"/>
          <a:chOff x="0" y="0"/>
          <a:chExt cx="0" cy="0"/>
        </a:xfrm>
      </p:grpSpPr>
      <p:sp>
        <p:nvSpPr>
          <p:cNvPr id="1105" name="Straight Connector 3"/>
          <p:cNvSpPr/>
          <p:nvPr/>
        </p:nvSpPr>
        <p:spPr>
          <a:xfrm>
            <a:off x="1054080" y="546120"/>
            <a:ext cx="100839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6" name="Straight Connector 4"/>
          <p:cNvSpPr/>
          <p:nvPr/>
        </p:nvSpPr>
        <p:spPr>
          <a:xfrm>
            <a:off x="1054080" y="1155600"/>
            <a:ext cx="100839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07" name="Group 5"/>
          <p:cNvGrpSpPr/>
          <p:nvPr/>
        </p:nvGrpSpPr>
        <p:grpSpPr>
          <a:xfrm>
            <a:off x="2666880" y="739800"/>
            <a:ext cx="6858000" cy="246240"/>
            <a:chOff x="2666880" y="739800"/>
            <a:chExt cx="6858000" cy="246240"/>
          </a:xfrm>
        </p:grpSpPr>
        <p:sp>
          <p:nvSpPr>
            <p:cNvPr id="1108" name="TextBox 6"/>
            <p:cNvSpPr/>
            <p:nvPr/>
          </p:nvSpPr>
          <p:spPr>
            <a:xfrm>
              <a:off x="26668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PROFILE</a:t>
              </a:r>
              <a:endParaRPr b="0" lang="en-US" sz="1000" spc="-1" strike="noStrike">
                <a:solidFill>
                  <a:srgbClr val="000000"/>
                </a:solidFill>
                <a:latin typeface="Calibri"/>
              </a:endParaRPr>
            </a:p>
          </p:txBody>
        </p:sp>
        <p:sp>
          <p:nvSpPr>
            <p:cNvPr id="1109" name="TextBox 7"/>
            <p:cNvSpPr/>
            <p:nvPr/>
          </p:nvSpPr>
          <p:spPr>
            <a:xfrm>
              <a:off x="51940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BRANDING</a:t>
              </a:r>
              <a:endParaRPr b="0" lang="en-US" sz="1000" spc="-1" strike="noStrike">
                <a:solidFill>
                  <a:srgbClr val="000000"/>
                </a:solidFill>
                <a:latin typeface="Calibri"/>
              </a:endParaRPr>
            </a:p>
          </p:txBody>
        </p:sp>
        <p:sp>
          <p:nvSpPr>
            <p:cNvPr id="1110" name="TextBox 8"/>
            <p:cNvSpPr/>
            <p:nvPr/>
          </p:nvSpPr>
          <p:spPr>
            <a:xfrm>
              <a:off x="787392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CONTACT</a:t>
              </a:r>
              <a:endParaRPr b="0" lang="en-US" sz="1000" spc="-1" strike="noStrike">
                <a:solidFill>
                  <a:srgbClr val="000000"/>
                </a:solidFill>
                <a:latin typeface="Calibri"/>
              </a:endParaRPr>
            </a:p>
          </p:txBody>
        </p:sp>
      </p:grpSp>
      <p:grpSp>
        <p:nvGrpSpPr>
          <p:cNvPr id="1111" name="Subtitle 2"/>
          <p:cNvGrpSpPr/>
          <p:nvPr/>
        </p:nvGrpSpPr>
        <p:grpSpPr>
          <a:xfrm>
            <a:off x="914400" y="2073240"/>
            <a:ext cx="4614840" cy="1328760"/>
            <a:chOff x="914400" y="2073240"/>
            <a:chExt cx="4614840" cy="1328760"/>
          </a:xfrm>
        </p:grpSpPr>
        <p:pic>
          <p:nvPicPr>
            <p:cNvPr id="1112" name="Subtitle 2" descr=""/>
            <p:cNvPicPr/>
            <p:nvPr/>
          </p:nvPicPr>
          <p:blipFill>
            <a:blip r:embed="rId1"/>
            <a:stretch/>
          </p:blipFill>
          <p:spPr>
            <a:xfrm>
              <a:off x="914400" y="2073240"/>
              <a:ext cx="4614840" cy="1328760"/>
            </a:xfrm>
            <a:prstGeom prst="rect">
              <a:avLst/>
            </a:prstGeom>
            <a:ln w="0">
              <a:noFill/>
            </a:ln>
          </p:spPr>
        </p:pic>
        <p:sp>
          <p:nvSpPr>
            <p:cNvPr id="1113" name=""/>
            <p:cNvSpPr/>
            <p:nvPr/>
          </p:nvSpPr>
          <p:spPr>
            <a:xfrm>
              <a:off x="927000" y="2089080"/>
              <a:ext cx="4584960" cy="1295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8e4d9"/>
                  </a:solidFill>
                  <a:latin typeface="Capian"/>
                  <a:ea typeface="Inter"/>
                </a:rPr>
                <a:t>Brand Commerca.</a:t>
              </a:r>
              <a:endParaRPr b="0" lang="en-US" sz="6000" spc="-1" strike="noStrike">
                <a:solidFill>
                  <a:srgbClr val="000000"/>
                </a:solidFill>
                <a:latin typeface="Calibri"/>
              </a:endParaRPr>
            </a:p>
          </p:txBody>
        </p:sp>
      </p:grpSp>
      <p:sp>
        <p:nvSpPr>
          <p:cNvPr id="1114" name="TextBox 10"/>
          <p:cNvSpPr/>
          <p:nvPr/>
        </p:nvSpPr>
        <p:spPr>
          <a:xfrm>
            <a:off x="1015920" y="4238640"/>
            <a:ext cx="3009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pen Sans"/>
                <a:ea typeface="Open Sans"/>
              </a:rPr>
              <a:t>Title Presentation Here</a:t>
            </a:r>
            <a:endParaRPr b="0" lang="en-US" sz="1400" spc="-1" strike="noStrike">
              <a:solidFill>
                <a:srgbClr val="000000"/>
              </a:solidFill>
              <a:latin typeface="Calibri"/>
            </a:endParaRPr>
          </a:p>
        </p:txBody>
      </p:sp>
      <p:cxnSp>
        <p:nvCxnSpPr>
          <p:cNvPr id="1115" name="Straight Arrow Connector 12"/>
          <p:cNvCxnSpPr/>
          <p:nvPr/>
        </p:nvCxnSpPr>
        <p:spPr>
          <a:xfrm>
            <a:off x="3137040" y="4392360"/>
            <a:ext cx="2032200" cy="1080"/>
          </a:xfrm>
          <a:prstGeom prst="straightConnector1">
            <a:avLst/>
          </a:prstGeom>
          <a:ln w="6480">
            <a:solidFill>
              <a:srgbClr val="ffffff"/>
            </a:solidFill>
            <a:miter/>
            <a:tailEnd len="med" type="triangle" w="med"/>
          </a:ln>
        </p:spPr>
      </p:cxnSp>
      <p:sp>
        <p:nvSpPr>
          <p:cNvPr id="1116" name="Rectangle 13"/>
          <p:cNvSpPr/>
          <p:nvPr/>
        </p:nvSpPr>
        <p:spPr>
          <a:xfrm>
            <a:off x="1015920" y="4883040"/>
            <a:ext cx="7962840" cy="10076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8e4d9"/>
                </a:solidFill>
                <a:latin typeface="Open Sans"/>
              </a:rPr>
              <a:t>It is a long established fact that a reader will be distracted by the readable content of a page when looking at its layout. It is a long established fact that a reader will be distracted by the readable content of a page when looking at its layout. It is a long established fact that a reader will be distracted by the readable content of a pag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Shape 4747"/>
          <p:cNvSpPr/>
          <p:nvPr/>
        </p:nvSpPr>
        <p:spPr>
          <a:xfrm>
            <a:off x="1045836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0" name="Shape 4750"/>
          <p:cNvSpPr/>
          <p:nvPr/>
        </p:nvSpPr>
        <p:spPr>
          <a:xfrm>
            <a:off x="1051092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1" name="Shape 4752"/>
          <p:cNvSpPr/>
          <p:nvPr/>
        </p:nvSpPr>
        <p:spPr>
          <a:xfrm>
            <a:off x="10504440" y="32670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2" name="Shape 4754"/>
          <p:cNvSpPr/>
          <p:nvPr/>
        </p:nvSpPr>
        <p:spPr>
          <a:xfrm>
            <a:off x="945036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3" name="Shape 4756"/>
          <p:cNvSpPr/>
          <p:nvPr/>
        </p:nvSpPr>
        <p:spPr>
          <a:xfrm>
            <a:off x="843588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4" name="Shape 4758"/>
          <p:cNvSpPr/>
          <p:nvPr/>
        </p:nvSpPr>
        <p:spPr>
          <a:xfrm>
            <a:off x="7415280" y="3260880"/>
            <a:ext cx="207720" cy="206280"/>
          </a:xfrm>
          <a:custGeom>
            <a:avLst/>
            <a:gdLst>
              <a:gd name="textAreaLeft" fmla="*/ 0 w 207720"/>
              <a:gd name="textAreaRight" fmla="*/ 208080 w 20772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5" name="Shape 4759"/>
          <p:cNvSpPr/>
          <p:nvPr/>
        </p:nvSpPr>
        <p:spPr>
          <a:xfrm>
            <a:off x="9537840" y="4745160"/>
            <a:ext cx="107640" cy="244440"/>
          </a:xfrm>
          <a:custGeom>
            <a:avLst/>
            <a:gdLst>
              <a:gd name="textAreaLeft" fmla="*/ 0 w 107640"/>
              <a:gd name="textAreaRight" fmla="*/ 108000 w 10764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6" name="Shape 4761"/>
          <p:cNvSpPr/>
          <p:nvPr/>
        </p:nvSpPr>
        <p:spPr>
          <a:xfrm>
            <a:off x="8435880" y="474516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7" name="Shape 4763"/>
          <p:cNvSpPr/>
          <p:nvPr/>
        </p:nvSpPr>
        <p:spPr>
          <a:xfrm>
            <a:off x="746748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8" name="Shape 4764"/>
          <p:cNvSpPr/>
          <p:nvPr/>
        </p:nvSpPr>
        <p:spPr>
          <a:xfrm>
            <a:off x="10456920" y="2720880"/>
            <a:ext cx="244440" cy="281160"/>
          </a:xfrm>
          <a:custGeom>
            <a:avLst/>
            <a:gdLst>
              <a:gd name="textAreaLeft" fmla="*/ 0 w 244440"/>
              <a:gd name="textAreaRight" fmla="*/ 244800 w 24444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9" name="Shape 4766"/>
          <p:cNvSpPr/>
          <p:nvPr/>
        </p:nvSpPr>
        <p:spPr>
          <a:xfrm>
            <a:off x="944712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0" name="Shape 4768"/>
          <p:cNvSpPr/>
          <p:nvPr/>
        </p:nvSpPr>
        <p:spPr>
          <a:xfrm>
            <a:off x="8432640" y="2720880"/>
            <a:ext cx="241560" cy="274680"/>
          </a:xfrm>
          <a:custGeom>
            <a:avLst/>
            <a:gdLst>
              <a:gd name="textAreaLeft" fmla="*/ 0 w 241560"/>
              <a:gd name="textAreaRight" fmla="*/ 241920 w 24156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1" name="Shape 4770"/>
          <p:cNvSpPr/>
          <p:nvPr/>
        </p:nvSpPr>
        <p:spPr>
          <a:xfrm>
            <a:off x="7419960" y="2720880"/>
            <a:ext cx="200160" cy="262080"/>
          </a:xfrm>
          <a:custGeom>
            <a:avLst/>
            <a:gdLst>
              <a:gd name="textAreaLeft" fmla="*/ 0 w 200160"/>
              <a:gd name="textAreaRight" fmla="*/ 200520 w 20016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2" name="Shape 4771"/>
          <p:cNvSpPr/>
          <p:nvPr/>
        </p:nvSpPr>
        <p:spPr>
          <a:xfrm>
            <a:off x="944892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3" name="Shape 4773"/>
          <p:cNvSpPr/>
          <p:nvPr/>
        </p:nvSpPr>
        <p:spPr>
          <a:xfrm>
            <a:off x="8435880" y="4270320"/>
            <a:ext cx="289080" cy="230400"/>
          </a:xfrm>
          <a:custGeom>
            <a:avLst/>
            <a:gdLst>
              <a:gd name="textAreaLeft" fmla="*/ 0 w 289080"/>
              <a:gd name="textAreaRight" fmla="*/ 289440 w 28908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4" name="Shape 4775"/>
          <p:cNvSpPr/>
          <p:nvPr/>
        </p:nvSpPr>
        <p:spPr>
          <a:xfrm>
            <a:off x="7421400" y="4270320"/>
            <a:ext cx="292320" cy="228600"/>
          </a:xfrm>
          <a:custGeom>
            <a:avLst/>
            <a:gdLst>
              <a:gd name="textAreaLeft" fmla="*/ 0 w 292320"/>
              <a:gd name="textAreaRight" fmla="*/ 292680 w 29232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5" name="Shape 4776"/>
          <p:cNvSpPr/>
          <p:nvPr/>
        </p:nvSpPr>
        <p:spPr>
          <a:xfrm>
            <a:off x="10414080" y="220356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6" name="Shape 4778"/>
          <p:cNvSpPr/>
          <p:nvPr/>
        </p:nvSpPr>
        <p:spPr>
          <a:xfrm>
            <a:off x="939960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7" name="Shape 4780"/>
          <p:cNvSpPr/>
          <p:nvPr/>
        </p:nvSpPr>
        <p:spPr>
          <a:xfrm>
            <a:off x="838836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8" name="Shape 4782"/>
          <p:cNvSpPr/>
          <p:nvPr/>
        </p:nvSpPr>
        <p:spPr>
          <a:xfrm>
            <a:off x="737568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9" name="Shape 4783"/>
          <p:cNvSpPr/>
          <p:nvPr/>
        </p:nvSpPr>
        <p:spPr>
          <a:xfrm>
            <a:off x="944892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0" name="Shape 4785"/>
          <p:cNvSpPr/>
          <p:nvPr/>
        </p:nvSpPr>
        <p:spPr>
          <a:xfrm>
            <a:off x="8437680" y="3741840"/>
            <a:ext cx="280800" cy="272880"/>
          </a:xfrm>
          <a:custGeom>
            <a:avLst/>
            <a:gdLst>
              <a:gd name="textAreaLeft" fmla="*/ 0 w 280800"/>
              <a:gd name="textAreaRight" fmla="*/ 281160 w 28080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1" name="Shape 4787"/>
          <p:cNvSpPr/>
          <p:nvPr/>
        </p:nvSpPr>
        <p:spPr>
          <a:xfrm>
            <a:off x="742788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2" name="Shape 4788"/>
          <p:cNvSpPr/>
          <p:nvPr/>
        </p:nvSpPr>
        <p:spPr>
          <a:xfrm>
            <a:off x="1041552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3" name="Shape 4790"/>
          <p:cNvSpPr/>
          <p:nvPr/>
        </p:nvSpPr>
        <p:spPr>
          <a:xfrm>
            <a:off x="940608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4" name="Shape 4792"/>
          <p:cNvSpPr/>
          <p:nvPr/>
        </p:nvSpPr>
        <p:spPr>
          <a:xfrm>
            <a:off x="838836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5" name="Shape 4794"/>
          <p:cNvSpPr/>
          <p:nvPr/>
        </p:nvSpPr>
        <p:spPr>
          <a:xfrm>
            <a:off x="7442280" y="1712880"/>
            <a:ext cx="152280" cy="262080"/>
          </a:xfrm>
          <a:custGeom>
            <a:avLst/>
            <a:gdLst>
              <a:gd name="textAreaLeft" fmla="*/ 0 w 152280"/>
              <a:gd name="textAreaRight" fmla="*/ 152640 w 15228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6" name="Shape 4796"/>
          <p:cNvSpPr/>
          <p:nvPr/>
        </p:nvSpPr>
        <p:spPr>
          <a:xfrm>
            <a:off x="645804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7" name="Shape 4798"/>
          <p:cNvSpPr/>
          <p:nvPr/>
        </p:nvSpPr>
        <p:spPr>
          <a:xfrm>
            <a:off x="543888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8" name="Shape 4800"/>
          <p:cNvSpPr/>
          <p:nvPr/>
        </p:nvSpPr>
        <p:spPr>
          <a:xfrm>
            <a:off x="4398840" y="4740120"/>
            <a:ext cx="287640" cy="292320"/>
          </a:xfrm>
          <a:custGeom>
            <a:avLst/>
            <a:gdLst>
              <a:gd name="textAreaLeft" fmla="*/ 0 w 287640"/>
              <a:gd name="textAreaRight" fmla="*/ 288000 w 28764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9" name="Shape 4802"/>
          <p:cNvSpPr/>
          <p:nvPr/>
        </p:nvSpPr>
        <p:spPr>
          <a:xfrm>
            <a:off x="339732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0" name="Shape 4804"/>
          <p:cNvSpPr/>
          <p:nvPr/>
        </p:nvSpPr>
        <p:spPr>
          <a:xfrm>
            <a:off x="238752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1" name="Shape 4806"/>
          <p:cNvSpPr/>
          <p:nvPr/>
        </p:nvSpPr>
        <p:spPr>
          <a:xfrm>
            <a:off x="137160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2" name="Shape 4808"/>
          <p:cNvSpPr/>
          <p:nvPr/>
        </p:nvSpPr>
        <p:spPr>
          <a:xfrm>
            <a:off x="644220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3" name="Shape 4810"/>
          <p:cNvSpPr/>
          <p:nvPr/>
        </p:nvSpPr>
        <p:spPr>
          <a:xfrm>
            <a:off x="549576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4" name="Shape 4812"/>
          <p:cNvSpPr/>
          <p:nvPr/>
        </p:nvSpPr>
        <p:spPr>
          <a:xfrm>
            <a:off x="4489560" y="4317840"/>
            <a:ext cx="109440" cy="119160"/>
          </a:xfrm>
          <a:custGeom>
            <a:avLst/>
            <a:gdLst>
              <a:gd name="textAreaLeft" fmla="*/ 0 w 109440"/>
              <a:gd name="textAreaRight" fmla="*/ 109800 w 10944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5" name="Shape 4814"/>
          <p:cNvSpPr/>
          <p:nvPr/>
        </p:nvSpPr>
        <p:spPr>
          <a:xfrm>
            <a:off x="3446640" y="4317840"/>
            <a:ext cx="168120" cy="119160"/>
          </a:xfrm>
          <a:custGeom>
            <a:avLst/>
            <a:gdLst>
              <a:gd name="textAreaLeft" fmla="*/ 0 w 168120"/>
              <a:gd name="textAreaRight" fmla="*/ 168480 w 16812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6" name="Shape 4816"/>
          <p:cNvSpPr/>
          <p:nvPr/>
        </p:nvSpPr>
        <p:spPr>
          <a:xfrm>
            <a:off x="245592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7" name="Shape 4818"/>
          <p:cNvSpPr/>
          <p:nvPr/>
        </p:nvSpPr>
        <p:spPr>
          <a:xfrm>
            <a:off x="1440000" y="4305240"/>
            <a:ext cx="125280" cy="146160"/>
          </a:xfrm>
          <a:custGeom>
            <a:avLst/>
            <a:gdLst>
              <a:gd name="textAreaLeft" fmla="*/ 0 w 125280"/>
              <a:gd name="textAreaRight" fmla="*/ 125640 w 12528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8" name="Shape 4820"/>
          <p:cNvSpPr/>
          <p:nvPr/>
        </p:nvSpPr>
        <p:spPr>
          <a:xfrm>
            <a:off x="642132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9" name="Shape 4822"/>
          <p:cNvSpPr/>
          <p:nvPr/>
        </p:nvSpPr>
        <p:spPr>
          <a:xfrm>
            <a:off x="5411880" y="3749760"/>
            <a:ext cx="287280" cy="244440"/>
          </a:xfrm>
          <a:custGeom>
            <a:avLst/>
            <a:gdLst>
              <a:gd name="textAreaLeft" fmla="*/ 0 w 287280"/>
              <a:gd name="textAreaRight" fmla="*/ 287640 w 28728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0" name="Shape 4824"/>
          <p:cNvSpPr/>
          <p:nvPr/>
        </p:nvSpPr>
        <p:spPr>
          <a:xfrm>
            <a:off x="4398840" y="3730680"/>
            <a:ext cx="287640" cy="288720"/>
          </a:xfrm>
          <a:custGeom>
            <a:avLst/>
            <a:gdLst>
              <a:gd name="textAreaLeft" fmla="*/ 0 w 287640"/>
              <a:gd name="textAreaRight" fmla="*/ 288000 w 28764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1" name="Shape 4826"/>
          <p:cNvSpPr/>
          <p:nvPr/>
        </p:nvSpPr>
        <p:spPr>
          <a:xfrm>
            <a:off x="338472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2" name="Shape 4828"/>
          <p:cNvSpPr/>
          <p:nvPr/>
        </p:nvSpPr>
        <p:spPr>
          <a:xfrm>
            <a:off x="2373480" y="37306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3" name="Shape 4830"/>
          <p:cNvSpPr/>
          <p:nvPr/>
        </p:nvSpPr>
        <p:spPr>
          <a:xfrm>
            <a:off x="135900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4" name="Shape 4832"/>
          <p:cNvSpPr/>
          <p:nvPr/>
        </p:nvSpPr>
        <p:spPr>
          <a:xfrm>
            <a:off x="6421320" y="3230640"/>
            <a:ext cx="292320" cy="274680"/>
          </a:xfrm>
          <a:custGeom>
            <a:avLst/>
            <a:gdLst>
              <a:gd name="textAreaLeft" fmla="*/ 0 w 292320"/>
              <a:gd name="textAreaRight" fmla="*/ 292680 w 29232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5" name="Shape 4834"/>
          <p:cNvSpPr/>
          <p:nvPr/>
        </p:nvSpPr>
        <p:spPr>
          <a:xfrm>
            <a:off x="5411880" y="321948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6" name="Shape 4836"/>
          <p:cNvSpPr/>
          <p:nvPr/>
        </p:nvSpPr>
        <p:spPr>
          <a:xfrm>
            <a:off x="4398840" y="3225960"/>
            <a:ext cx="287640" cy="279360"/>
          </a:xfrm>
          <a:custGeom>
            <a:avLst/>
            <a:gdLst>
              <a:gd name="textAreaLeft" fmla="*/ 0 w 287640"/>
              <a:gd name="textAreaRight" fmla="*/ 288000 w 28764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7" name="Shape 4838"/>
          <p:cNvSpPr/>
          <p:nvPr/>
        </p:nvSpPr>
        <p:spPr>
          <a:xfrm>
            <a:off x="338472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8" name="Shape 4840"/>
          <p:cNvSpPr/>
          <p:nvPr/>
        </p:nvSpPr>
        <p:spPr>
          <a:xfrm>
            <a:off x="2373480" y="3225960"/>
            <a:ext cx="288720" cy="279360"/>
          </a:xfrm>
          <a:custGeom>
            <a:avLst/>
            <a:gdLst>
              <a:gd name="textAreaLeft" fmla="*/ 0 w 288720"/>
              <a:gd name="textAreaRight" fmla="*/ 289080 w 2887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9" name="Shape 4842"/>
          <p:cNvSpPr/>
          <p:nvPr/>
        </p:nvSpPr>
        <p:spPr>
          <a:xfrm>
            <a:off x="135900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0" name="Shape 4844"/>
          <p:cNvSpPr/>
          <p:nvPr/>
        </p:nvSpPr>
        <p:spPr>
          <a:xfrm>
            <a:off x="643248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1" name="Shape 4846"/>
          <p:cNvSpPr/>
          <p:nvPr/>
        </p:nvSpPr>
        <p:spPr>
          <a:xfrm>
            <a:off x="541800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2" name="Shape 4848"/>
          <p:cNvSpPr/>
          <p:nvPr/>
        </p:nvSpPr>
        <p:spPr>
          <a:xfrm>
            <a:off x="440676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3" name="Shape 4850"/>
          <p:cNvSpPr/>
          <p:nvPr/>
        </p:nvSpPr>
        <p:spPr>
          <a:xfrm>
            <a:off x="340992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4" name="Shape 4852"/>
          <p:cNvSpPr/>
          <p:nvPr/>
        </p:nvSpPr>
        <p:spPr>
          <a:xfrm>
            <a:off x="240660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5" name="Shape 4854"/>
          <p:cNvSpPr/>
          <p:nvPr/>
        </p:nvSpPr>
        <p:spPr>
          <a:xfrm>
            <a:off x="1370160" y="272412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6" name="Shape 4856"/>
          <p:cNvSpPr/>
          <p:nvPr/>
        </p:nvSpPr>
        <p:spPr>
          <a:xfrm>
            <a:off x="642132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7" name="Shape 4858"/>
          <p:cNvSpPr/>
          <p:nvPr/>
        </p:nvSpPr>
        <p:spPr>
          <a:xfrm>
            <a:off x="54118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8" name="Shape 4860"/>
          <p:cNvSpPr/>
          <p:nvPr/>
        </p:nvSpPr>
        <p:spPr>
          <a:xfrm>
            <a:off x="439884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9" name="Shape 4862"/>
          <p:cNvSpPr/>
          <p:nvPr/>
        </p:nvSpPr>
        <p:spPr>
          <a:xfrm>
            <a:off x="338472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0" name="Shape 4864"/>
          <p:cNvSpPr/>
          <p:nvPr/>
        </p:nvSpPr>
        <p:spPr>
          <a:xfrm>
            <a:off x="2373480" y="220824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1" name="Shape 4866"/>
          <p:cNvSpPr/>
          <p:nvPr/>
        </p:nvSpPr>
        <p:spPr>
          <a:xfrm>
            <a:off x="135900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2" name="Shape 4868"/>
          <p:cNvSpPr/>
          <p:nvPr/>
        </p:nvSpPr>
        <p:spPr>
          <a:xfrm>
            <a:off x="6421320" y="1700280"/>
            <a:ext cx="292320" cy="291960"/>
          </a:xfrm>
          <a:custGeom>
            <a:avLst/>
            <a:gdLst>
              <a:gd name="textAreaLeft" fmla="*/ 0 w 292320"/>
              <a:gd name="textAreaRight" fmla="*/ 292680 w 29232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3" name="Shape 4870"/>
          <p:cNvSpPr/>
          <p:nvPr/>
        </p:nvSpPr>
        <p:spPr>
          <a:xfrm>
            <a:off x="544500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4" name="Shape 4872"/>
          <p:cNvSpPr/>
          <p:nvPr/>
        </p:nvSpPr>
        <p:spPr>
          <a:xfrm>
            <a:off x="443376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5" name="Shape 4874"/>
          <p:cNvSpPr/>
          <p:nvPr/>
        </p:nvSpPr>
        <p:spPr>
          <a:xfrm>
            <a:off x="3384720" y="173988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6" name="Shape 4876"/>
          <p:cNvSpPr/>
          <p:nvPr/>
        </p:nvSpPr>
        <p:spPr>
          <a:xfrm>
            <a:off x="2373480" y="1739880"/>
            <a:ext cx="288720" cy="238320"/>
          </a:xfrm>
          <a:custGeom>
            <a:avLst/>
            <a:gdLst>
              <a:gd name="textAreaLeft" fmla="*/ 0 w 288720"/>
              <a:gd name="textAreaRight" fmla="*/ 289080 w 28872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7" name="Shape 4878"/>
          <p:cNvSpPr/>
          <p:nvPr/>
        </p:nvSpPr>
        <p:spPr>
          <a:xfrm>
            <a:off x="135900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8" name="Shape 4844"/>
          <p:cNvSpPr/>
          <p:nvPr/>
        </p:nvSpPr>
        <p:spPr>
          <a:xfrm>
            <a:off x="10437840" y="4749840"/>
            <a:ext cx="282600" cy="261720"/>
          </a:xfrm>
          <a:custGeom>
            <a:avLst/>
            <a:gdLst>
              <a:gd name="textAreaLeft" fmla="*/ 0 w 282600"/>
              <a:gd name="textAreaRight" fmla="*/ 282960 w 282600"/>
              <a:gd name="textAreaTop" fmla="*/ 0 h 261720"/>
              <a:gd name="textAreaBottom" fmla="*/ 262080 h 26172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7dc"/>
        </a:solidFill>
      </p:bgPr>
    </p:bg>
    <p:spTree>
      <p:nvGrpSpPr>
        <p:cNvPr id="1" name=""/>
        <p:cNvGrpSpPr/>
        <p:nvPr/>
      </p:nvGrpSpPr>
      <p:grpSpPr>
        <a:xfrm>
          <a:off x="0" y="0"/>
          <a:ext cx="0" cy="0"/>
          <a:chOff x="0" y="0"/>
          <a:chExt cx="0" cy="0"/>
        </a:xfrm>
      </p:grpSpPr>
      <p:sp>
        <p:nvSpPr>
          <p:cNvPr id="1117" name="Straight Connector 1"/>
          <p:cNvSpPr/>
          <p:nvPr/>
        </p:nvSpPr>
        <p:spPr>
          <a:xfrm>
            <a:off x="1054080" y="54612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8" name="Straight Connector 2"/>
          <p:cNvSpPr/>
          <p:nvPr/>
        </p:nvSpPr>
        <p:spPr>
          <a:xfrm>
            <a:off x="1054080" y="115560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19" name="Group 3"/>
          <p:cNvGrpSpPr/>
          <p:nvPr/>
        </p:nvGrpSpPr>
        <p:grpSpPr>
          <a:xfrm>
            <a:off x="2666880" y="739800"/>
            <a:ext cx="6858000" cy="246240"/>
            <a:chOff x="2666880" y="739800"/>
            <a:chExt cx="6858000" cy="246240"/>
          </a:xfrm>
        </p:grpSpPr>
        <p:sp>
          <p:nvSpPr>
            <p:cNvPr id="1120" name="TextBox 4"/>
            <p:cNvSpPr/>
            <p:nvPr/>
          </p:nvSpPr>
          <p:spPr>
            <a:xfrm>
              <a:off x="26668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PROFILE</a:t>
              </a:r>
              <a:endParaRPr b="0" lang="en-US" sz="1000" spc="-1" strike="noStrike">
                <a:solidFill>
                  <a:srgbClr val="000000"/>
                </a:solidFill>
                <a:latin typeface="Calibri"/>
              </a:endParaRPr>
            </a:p>
          </p:txBody>
        </p:sp>
        <p:sp>
          <p:nvSpPr>
            <p:cNvPr id="1121" name="TextBox 5"/>
            <p:cNvSpPr/>
            <p:nvPr/>
          </p:nvSpPr>
          <p:spPr>
            <a:xfrm>
              <a:off x="51940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BRANDING</a:t>
              </a:r>
              <a:endParaRPr b="0" lang="en-US" sz="1000" spc="-1" strike="noStrike">
                <a:solidFill>
                  <a:srgbClr val="000000"/>
                </a:solidFill>
                <a:latin typeface="Calibri"/>
              </a:endParaRPr>
            </a:p>
          </p:txBody>
        </p:sp>
        <p:sp>
          <p:nvSpPr>
            <p:cNvPr id="1122" name="TextBox 6"/>
            <p:cNvSpPr/>
            <p:nvPr/>
          </p:nvSpPr>
          <p:spPr>
            <a:xfrm>
              <a:off x="787392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CONTACT</a:t>
              </a:r>
              <a:endParaRPr b="0" lang="en-US" sz="1000" spc="-1" strike="noStrike">
                <a:solidFill>
                  <a:srgbClr val="000000"/>
                </a:solidFill>
                <a:latin typeface="Calibri"/>
              </a:endParaRPr>
            </a:p>
          </p:txBody>
        </p:sp>
      </p:grpSp>
      <p:grpSp>
        <p:nvGrpSpPr>
          <p:cNvPr id="1123" name="Subtitle 2"/>
          <p:cNvGrpSpPr/>
          <p:nvPr/>
        </p:nvGrpSpPr>
        <p:grpSpPr>
          <a:xfrm>
            <a:off x="914400" y="2139840"/>
            <a:ext cx="4498920" cy="1322640"/>
            <a:chOff x="914400" y="2139840"/>
            <a:chExt cx="4498920" cy="1322640"/>
          </a:xfrm>
        </p:grpSpPr>
        <p:pic>
          <p:nvPicPr>
            <p:cNvPr id="1124" name="Subtitle 2" descr=""/>
            <p:cNvPicPr/>
            <p:nvPr/>
          </p:nvPicPr>
          <p:blipFill>
            <a:blip r:embed="rId1"/>
            <a:stretch/>
          </p:blipFill>
          <p:spPr>
            <a:xfrm>
              <a:off x="914400" y="2139840"/>
              <a:ext cx="4498920" cy="1322640"/>
            </a:xfrm>
            <a:prstGeom prst="rect">
              <a:avLst/>
            </a:prstGeom>
            <a:ln w="0">
              <a:noFill/>
            </a:ln>
          </p:spPr>
        </p:pic>
        <p:sp>
          <p:nvSpPr>
            <p:cNvPr id="1125" name=""/>
            <p:cNvSpPr/>
            <p:nvPr/>
          </p:nvSpPr>
          <p:spPr>
            <a:xfrm>
              <a:off x="927000" y="2152800"/>
              <a:ext cx="447048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e0e0e"/>
                  </a:solidFill>
                  <a:latin typeface="Capian"/>
                  <a:ea typeface="Inter"/>
                </a:rPr>
                <a:t>Introduce Guidelines.</a:t>
              </a:r>
              <a:endParaRPr b="0" lang="en-US" sz="6000" spc="-1" strike="noStrike">
                <a:solidFill>
                  <a:srgbClr val="000000"/>
                </a:solidFill>
                <a:latin typeface="Calibri"/>
              </a:endParaRPr>
            </a:p>
          </p:txBody>
        </p:sp>
      </p:grpSp>
      <p:sp>
        <p:nvSpPr>
          <p:cNvPr id="1126" name="Rectangle 8"/>
          <p:cNvSpPr/>
          <p:nvPr/>
        </p:nvSpPr>
        <p:spPr>
          <a:xfrm>
            <a:off x="977760" y="4505400"/>
            <a:ext cx="7963200" cy="10076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rPr>
              <a:t>It is a long established fact that a reader will be distracted by the readable content of a page when looking at its layout. It is a long established fact that a reader will be distracted by the readable content of a page when looking at its layout. It is a long established fact that a reader will be distracted by the readable content of a pag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164"/>
        </a:solidFill>
      </p:bgPr>
    </p:bg>
    <p:spTree>
      <p:nvGrpSpPr>
        <p:cNvPr id="1" name=""/>
        <p:cNvGrpSpPr/>
        <p:nvPr/>
      </p:nvGrpSpPr>
      <p:grpSpPr>
        <a:xfrm>
          <a:off x="0" y="0"/>
          <a:ext cx="0" cy="0"/>
          <a:chOff x="0" y="0"/>
          <a:chExt cx="0" cy="0"/>
        </a:xfrm>
      </p:grpSpPr>
      <p:sp>
        <p:nvSpPr>
          <p:cNvPr id="1127" name="Straight Connector 1"/>
          <p:cNvSpPr/>
          <p:nvPr/>
        </p:nvSpPr>
        <p:spPr>
          <a:xfrm>
            <a:off x="1054080" y="54612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8" name="Straight Connector 2"/>
          <p:cNvSpPr/>
          <p:nvPr/>
        </p:nvSpPr>
        <p:spPr>
          <a:xfrm>
            <a:off x="1054080" y="115560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29" name="Group 3"/>
          <p:cNvGrpSpPr/>
          <p:nvPr/>
        </p:nvGrpSpPr>
        <p:grpSpPr>
          <a:xfrm>
            <a:off x="2666880" y="739800"/>
            <a:ext cx="6858000" cy="246240"/>
            <a:chOff x="2666880" y="739800"/>
            <a:chExt cx="6858000" cy="246240"/>
          </a:xfrm>
        </p:grpSpPr>
        <p:sp>
          <p:nvSpPr>
            <p:cNvPr id="1130" name="TextBox 4"/>
            <p:cNvSpPr/>
            <p:nvPr/>
          </p:nvSpPr>
          <p:spPr>
            <a:xfrm>
              <a:off x="26668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PROFILE</a:t>
              </a:r>
              <a:endParaRPr b="0" lang="en-US" sz="1000" spc="-1" strike="noStrike">
                <a:solidFill>
                  <a:srgbClr val="000000"/>
                </a:solidFill>
                <a:latin typeface="Calibri"/>
              </a:endParaRPr>
            </a:p>
          </p:txBody>
        </p:sp>
        <p:sp>
          <p:nvSpPr>
            <p:cNvPr id="1131" name="TextBox 5"/>
            <p:cNvSpPr/>
            <p:nvPr/>
          </p:nvSpPr>
          <p:spPr>
            <a:xfrm>
              <a:off x="51940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BRANDING</a:t>
              </a:r>
              <a:endParaRPr b="0" lang="en-US" sz="1000" spc="-1" strike="noStrike">
                <a:solidFill>
                  <a:srgbClr val="000000"/>
                </a:solidFill>
                <a:latin typeface="Calibri"/>
              </a:endParaRPr>
            </a:p>
          </p:txBody>
        </p:sp>
        <p:sp>
          <p:nvSpPr>
            <p:cNvPr id="1132" name="TextBox 6"/>
            <p:cNvSpPr/>
            <p:nvPr/>
          </p:nvSpPr>
          <p:spPr>
            <a:xfrm>
              <a:off x="787392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CONTACT</a:t>
              </a:r>
              <a:endParaRPr b="0" lang="en-US" sz="1000" spc="-1" strike="noStrike">
                <a:solidFill>
                  <a:srgbClr val="000000"/>
                </a:solidFill>
                <a:latin typeface="Calibri"/>
              </a:endParaRPr>
            </a:p>
          </p:txBody>
        </p:sp>
      </p:grpSp>
      <p:pic>
        <p:nvPicPr>
          <p:cNvPr id="1133" name="Subtitle 2" descr=""/>
          <p:cNvPicPr/>
          <p:nvPr/>
        </p:nvPicPr>
        <p:blipFill>
          <a:blip r:embed="rId1"/>
          <a:stretch/>
        </p:blipFill>
        <p:spPr>
          <a:xfrm>
            <a:off x="914400" y="2139840"/>
            <a:ext cx="4498920" cy="1700280"/>
          </a:xfrm>
          <a:prstGeom prst="rect">
            <a:avLst/>
          </a:prstGeom>
          <a:ln w="0">
            <a:noFill/>
          </a:ln>
        </p:spPr>
      </p:pic>
      <p:sp>
        <p:nvSpPr>
          <p:cNvPr id="1134" name="Rectangle 8"/>
          <p:cNvSpPr/>
          <p:nvPr/>
        </p:nvSpPr>
        <p:spPr>
          <a:xfrm>
            <a:off x="977760" y="4505400"/>
            <a:ext cx="7963200" cy="10076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rPr>
              <a:t>It is a long established fact that a reader will be distracted by the readable content of a page when looking at its layout. It is a long established fact that a reader will be distracted by the readable content of a page when looking at its layout. It is a long established fact that a reader will be distracted by the readable content of a pag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a23f"/>
        </a:solidFill>
      </p:bgPr>
    </p:bg>
    <p:spTree>
      <p:nvGrpSpPr>
        <p:cNvPr id="1" name=""/>
        <p:cNvGrpSpPr/>
        <p:nvPr/>
      </p:nvGrpSpPr>
      <p:grpSpPr>
        <a:xfrm>
          <a:off x="0" y="0"/>
          <a:ext cx="0" cy="0"/>
          <a:chOff x="0" y="0"/>
          <a:chExt cx="0" cy="0"/>
        </a:xfrm>
      </p:grpSpPr>
      <p:sp>
        <p:nvSpPr>
          <p:cNvPr id="1135" name="Straight Connector 1"/>
          <p:cNvSpPr/>
          <p:nvPr/>
        </p:nvSpPr>
        <p:spPr>
          <a:xfrm>
            <a:off x="1054080" y="54612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6" name="Straight Connector 2"/>
          <p:cNvSpPr/>
          <p:nvPr/>
        </p:nvSpPr>
        <p:spPr>
          <a:xfrm>
            <a:off x="1054080" y="115560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37" name="Group 3"/>
          <p:cNvGrpSpPr/>
          <p:nvPr/>
        </p:nvGrpSpPr>
        <p:grpSpPr>
          <a:xfrm>
            <a:off x="2666880" y="739800"/>
            <a:ext cx="6858000" cy="246240"/>
            <a:chOff x="2666880" y="739800"/>
            <a:chExt cx="6858000" cy="246240"/>
          </a:xfrm>
        </p:grpSpPr>
        <p:sp>
          <p:nvSpPr>
            <p:cNvPr id="1138" name="TextBox 4"/>
            <p:cNvSpPr/>
            <p:nvPr/>
          </p:nvSpPr>
          <p:spPr>
            <a:xfrm>
              <a:off x="26668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PROFILE</a:t>
              </a:r>
              <a:endParaRPr b="0" lang="en-US" sz="1000" spc="-1" strike="noStrike">
                <a:solidFill>
                  <a:srgbClr val="000000"/>
                </a:solidFill>
                <a:latin typeface="Calibri"/>
              </a:endParaRPr>
            </a:p>
          </p:txBody>
        </p:sp>
        <p:sp>
          <p:nvSpPr>
            <p:cNvPr id="1139" name="TextBox 5"/>
            <p:cNvSpPr/>
            <p:nvPr/>
          </p:nvSpPr>
          <p:spPr>
            <a:xfrm>
              <a:off x="51940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BRANDING</a:t>
              </a:r>
              <a:endParaRPr b="0" lang="en-US" sz="1000" spc="-1" strike="noStrike">
                <a:solidFill>
                  <a:srgbClr val="000000"/>
                </a:solidFill>
                <a:latin typeface="Calibri"/>
              </a:endParaRPr>
            </a:p>
          </p:txBody>
        </p:sp>
        <p:sp>
          <p:nvSpPr>
            <p:cNvPr id="1140" name="TextBox 6"/>
            <p:cNvSpPr/>
            <p:nvPr/>
          </p:nvSpPr>
          <p:spPr>
            <a:xfrm>
              <a:off x="787392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CONTACT</a:t>
              </a:r>
              <a:endParaRPr b="0" lang="en-US" sz="1000" spc="-1" strike="noStrike">
                <a:solidFill>
                  <a:srgbClr val="000000"/>
                </a:solidFill>
                <a:latin typeface="Calibri"/>
              </a:endParaRPr>
            </a:p>
          </p:txBody>
        </p:sp>
      </p:grpSp>
      <p:sp>
        <p:nvSpPr>
          <p:cNvPr id="1141" name="Rectangle 7"/>
          <p:cNvSpPr/>
          <p:nvPr/>
        </p:nvSpPr>
        <p:spPr>
          <a:xfrm>
            <a:off x="1054080" y="2400480"/>
            <a:ext cx="5041800" cy="1434960"/>
          </a:xfrm>
          <a:prstGeom prst="rect">
            <a:avLst/>
          </a:prstGeom>
          <a:solidFill>
            <a:srgbClr val="ebe7d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2" name="Rectangle 8"/>
          <p:cNvSpPr/>
          <p:nvPr/>
        </p:nvSpPr>
        <p:spPr>
          <a:xfrm>
            <a:off x="6095880" y="3835440"/>
            <a:ext cx="5042160" cy="1434960"/>
          </a:xfrm>
          <a:prstGeom prst="rect">
            <a:avLst/>
          </a:prstGeom>
          <a:solidFill>
            <a:srgbClr val="0e0e0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43" name="Subtitle 2"/>
          <p:cNvGrpSpPr/>
          <p:nvPr/>
        </p:nvGrpSpPr>
        <p:grpSpPr>
          <a:xfrm>
            <a:off x="1268280" y="2762280"/>
            <a:ext cx="4614840" cy="712800"/>
            <a:chOff x="1268280" y="2762280"/>
            <a:chExt cx="4614840" cy="712800"/>
          </a:xfrm>
        </p:grpSpPr>
        <p:pic>
          <p:nvPicPr>
            <p:cNvPr id="1144" name="Subtitle 2" descr=""/>
            <p:cNvPicPr/>
            <p:nvPr/>
          </p:nvPicPr>
          <p:blipFill>
            <a:blip r:embed="rId1"/>
            <a:stretch/>
          </p:blipFill>
          <p:spPr>
            <a:xfrm>
              <a:off x="1268280" y="2762280"/>
              <a:ext cx="4614840" cy="712800"/>
            </a:xfrm>
            <a:prstGeom prst="rect">
              <a:avLst/>
            </a:prstGeom>
            <a:ln w="0">
              <a:noFill/>
            </a:ln>
          </p:spPr>
        </p:pic>
        <p:sp>
          <p:nvSpPr>
            <p:cNvPr id="1145" name=""/>
            <p:cNvSpPr/>
            <p:nvPr/>
          </p:nvSpPr>
          <p:spPr>
            <a:xfrm>
              <a:off x="1282680" y="2778120"/>
              <a:ext cx="4584600" cy="679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e0e0e"/>
                  </a:solidFill>
                  <a:latin typeface="Capian"/>
                  <a:ea typeface="Inter"/>
                </a:rPr>
                <a:t>Brand Guidelines.</a:t>
              </a:r>
              <a:endParaRPr b="0" lang="en-US" sz="4000" spc="-1" strike="noStrike">
                <a:solidFill>
                  <a:srgbClr val="000000"/>
                </a:solidFill>
                <a:latin typeface="Calibri"/>
              </a:endParaRPr>
            </a:p>
          </p:txBody>
        </p:sp>
      </p:grpSp>
      <p:grpSp>
        <p:nvGrpSpPr>
          <p:cNvPr id="1146" name="Subtitle 2"/>
          <p:cNvGrpSpPr/>
          <p:nvPr/>
        </p:nvGrpSpPr>
        <p:grpSpPr>
          <a:xfrm>
            <a:off x="6450120" y="4005360"/>
            <a:ext cx="4498920" cy="712800"/>
            <a:chOff x="6450120" y="4005360"/>
            <a:chExt cx="4498920" cy="712800"/>
          </a:xfrm>
        </p:grpSpPr>
        <p:pic>
          <p:nvPicPr>
            <p:cNvPr id="1147" name="Subtitle 2" descr=""/>
            <p:cNvPicPr/>
            <p:nvPr/>
          </p:nvPicPr>
          <p:blipFill>
            <a:blip r:embed="rId2"/>
            <a:stretch/>
          </p:blipFill>
          <p:spPr>
            <a:xfrm>
              <a:off x="6450120" y="4005360"/>
              <a:ext cx="4498920" cy="712800"/>
            </a:xfrm>
            <a:prstGeom prst="rect">
              <a:avLst/>
            </a:prstGeom>
            <a:ln w="0">
              <a:noFill/>
            </a:ln>
          </p:spPr>
        </p:pic>
        <p:sp>
          <p:nvSpPr>
            <p:cNvPr id="1148" name=""/>
            <p:cNvSpPr/>
            <p:nvPr/>
          </p:nvSpPr>
          <p:spPr>
            <a:xfrm>
              <a:off x="6467400" y="4022640"/>
              <a:ext cx="4464000" cy="679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pian"/>
                  <a:ea typeface="Inter"/>
                </a:rPr>
                <a:t>Break Time</a:t>
              </a:r>
              <a:endParaRPr b="0" lang="en-US" sz="6000" spc="-1" strike="noStrike">
                <a:solidFill>
                  <a:srgbClr val="000000"/>
                </a:solidFill>
                <a:latin typeface="Calibri"/>
              </a:endParaRPr>
            </a:p>
          </p:txBody>
        </p:sp>
      </p:grpSp>
      <p:sp>
        <p:nvSpPr>
          <p:cNvPr id="1149" name="Rectangle 12"/>
          <p:cNvSpPr/>
          <p:nvPr/>
        </p:nvSpPr>
        <p:spPr>
          <a:xfrm>
            <a:off x="1282680" y="4197240"/>
            <a:ext cx="449568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Inter"/>
                <a:ea typeface="Inter"/>
              </a:rPr>
              <a:t>It is a long established fact that a reader will be distracted by the readable content of a page when looking at its layout. It is a long established fact that a reader will be distracted.</a:t>
            </a:r>
            <a:endParaRPr b="0" lang="en-US" sz="1000" spc="-1" strike="noStrike">
              <a:solidFill>
                <a:srgbClr val="000000"/>
              </a:solidFill>
              <a:latin typeface="Calibri"/>
            </a:endParaRPr>
          </a:p>
        </p:txBody>
      </p:sp>
      <p:sp>
        <p:nvSpPr>
          <p:cNvPr id="1150" name="TextBox 13"/>
          <p:cNvSpPr/>
          <p:nvPr/>
        </p:nvSpPr>
        <p:spPr>
          <a:xfrm>
            <a:off x="9309240" y="5394240"/>
            <a:ext cx="1930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0e0e"/>
                </a:solidFill>
                <a:latin typeface="Open Sans"/>
                <a:ea typeface="Open Sans"/>
              </a:rPr>
              <a:t>Title Presentation He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25"/>
          <p:cNvSpPr/>
          <p:nvPr/>
        </p:nvSpPr>
        <p:spPr>
          <a:xfrm>
            <a:off x="0" y="0"/>
            <a:ext cx="5943600" cy="6858000"/>
          </a:xfrm>
          <a:prstGeom prst="rect">
            <a:avLst/>
          </a:prstGeom>
          <a:solidFill>
            <a:srgbClr val="0e0e0e">
              <a:alpha val="8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52" name="Picture 8" descr="iPhone6_mockup_front_white.png"/>
          <p:cNvPicPr/>
          <p:nvPr/>
        </p:nvPicPr>
        <p:blipFill>
          <a:blip r:embed="rId1"/>
          <a:stretch/>
        </p:blipFill>
        <p:spPr>
          <a:xfrm>
            <a:off x="4030560" y="738360"/>
            <a:ext cx="3440160" cy="5381280"/>
          </a:xfrm>
          <a:prstGeom prst="rect">
            <a:avLst/>
          </a:prstGeom>
          <a:ln w="0">
            <a:noFill/>
          </a:ln>
        </p:spPr>
      </p:pic>
      <p:sp>
        <p:nvSpPr>
          <p:cNvPr id="1153" name="Straight Connector 5"/>
          <p:cNvSpPr/>
          <p:nvPr/>
        </p:nvSpPr>
        <p:spPr>
          <a:xfrm>
            <a:off x="920880" y="2852640"/>
            <a:ext cx="2230200" cy="0"/>
          </a:xfrm>
          <a:prstGeom prst="line">
            <a:avLst/>
          </a:prstGeom>
          <a:ln w="144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4" name="Rectangle 6"/>
          <p:cNvSpPr/>
          <p:nvPr/>
        </p:nvSpPr>
        <p:spPr>
          <a:xfrm>
            <a:off x="865080" y="2960640"/>
            <a:ext cx="270504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2f2f2"/>
                </a:solidFill>
                <a:latin typeface="Open Sans"/>
                <a:ea typeface="Open Sans"/>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aesent dolor porttitor. Lacinia lectus nonummy, </a:t>
            </a:r>
            <a:endParaRPr b="0" lang="en-US" sz="1000" spc="-1" strike="noStrike">
              <a:solidFill>
                <a:srgbClr val="000000"/>
              </a:solidFill>
              <a:latin typeface="Calibri"/>
            </a:endParaRPr>
          </a:p>
        </p:txBody>
      </p:sp>
      <p:sp>
        <p:nvSpPr>
          <p:cNvPr id="1155" name="Subtitle 2"/>
          <p:cNvSpPr/>
          <p:nvPr/>
        </p:nvSpPr>
        <p:spPr>
          <a:xfrm>
            <a:off x="865080" y="2025720"/>
            <a:ext cx="3441960" cy="920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f2f2f2"/>
                </a:solidFill>
                <a:latin typeface="Capian"/>
                <a:ea typeface="Inter"/>
              </a:rPr>
              <a:t>PHONE DEVICE MOCKUP SLIDE</a:t>
            </a:r>
            <a:endParaRPr b="0" lang="en-US" sz="2400" spc="-1" strike="noStrike">
              <a:solidFill>
                <a:srgbClr val="000000"/>
              </a:solidFill>
              <a:latin typeface="Calibri"/>
            </a:endParaRPr>
          </a:p>
        </p:txBody>
      </p:sp>
      <p:sp>
        <p:nvSpPr>
          <p:cNvPr id="1156" name="Rectangle 9"/>
          <p:cNvSpPr/>
          <p:nvPr/>
        </p:nvSpPr>
        <p:spPr>
          <a:xfrm>
            <a:off x="8380440" y="4883040"/>
            <a:ext cx="2490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157" name="Rectangle 10"/>
          <p:cNvSpPr/>
          <p:nvPr/>
        </p:nvSpPr>
        <p:spPr>
          <a:xfrm>
            <a:off x="8394840" y="3086280"/>
            <a:ext cx="24890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158" name="Rectangle 11"/>
          <p:cNvSpPr/>
          <p:nvPr/>
        </p:nvSpPr>
        <p:spPr>
          <a:xfrm>
            <a:off x="8380440" y="1308240"/>
            <a:ext cx="2490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Sapien nam suspendisse, tincidunt</a:t>
            </a:r>
            <a:endParaRPr b="0" lang="en-US" sz="1000" spc="-1" strike="noStrike">
              <a:solidFill>
                <a:srgbClr val="000000"/>
              </a:solidFill>
              <a:latin typeface="Calibri"/>
            </a:endParaRPr>
          </a:p>
        </p:txBody>
      </p:sp>
      <p:sp>
        <p:nvSpPr>
          <p:cNvPr id="1159" name="Rectangle 12"/>
          <p:cNvSpPr/>
          <p:nvPr/>
        </p:nvSpPr>
        <p:spPr>
          <a:xfrm>
            <a:off x="8394840" y="465768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FULL CUSTOMIZED</a:t>
            </a:r>
            <a:endParaRPr b="0" lang="en-US" sz="1200" spc="-1" strike="noStrike">
              <a:solidFill>
                <a:srgbClr val="000000"/>
              </a:solidFill>
              <a:latin typeface="Calibri"/>
            </a:endParaRPr>
          </a:p>
        </p:txBody>
      </p:sp>
      <p:sp>
        <p:nvSpPr>
          <p:cNvPr id="1160" name="Rectangle 13"/>
          <p:cNvSpPr/>
          <p:nvPr/>
        </p:nvSpPr>
        <p:spPr>
          <a:xfrm>
            <a:off x="8394840" y="111600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LAYERED FILES</a:t>
            </a:r>
            <a:endParaRPr b="0" lang="en-US" sz="1200" spc="-1" strike="noStrike">
              <a:solidFill>
                <a:srgbClr val="000000"/>
              </a:solidFill>
              <a:latin typeface="Calibri"/>
            </a:endParaRPr>
          </a:p>
        </p:txBody>
      </p:sp>
      <p:sp>
        <p:nvSpPr>
          <p:cNvPr id="1161" name="Rectangle 14"/>
          <p:cNvSpPr/>
          <p:nvPr/>
        </p:nvSpPr>
        <p:spPr>
          <a:xfrm>
            <a:off x="8394840" y="287352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UNLIMITED OPTIONS</a:t>
            </a:r>
            <a:endParaRPr b="0" lang="en-US" sz="1200" spc="-1" strike="noStrike">
              <a:solidFill>
                <a:srgbClr val="000000"/>
              </a:solidFill>
              <a:latin typeface="Calibri"/>
            </a:endParaRPr>
          </a:p>
        </p:txBody>
      </p:sp>
      <p:grpSp>
        <p:nvGrpSpPr>
          <p:cNvPr id="1162" name="Group 15"/>
          <p:cNvGrpSpPr/>
          <p:nvPr/>
        </p:nvGrpSpPr>
        <p:grpSpPr>
          <a:xfrm>
            <a:off x="7518240" y="1127160"/>
            <a:ext cx="667080" cy="4351320"/>
            <a:chOff x="7518240" y="1127160"/>
            <a:chExt cx="667080" cy="4351320"/>
          </a:xfrm>
        </p:grpSpPr>
        <p:sp>
          <p:nvSpPr>
            <p:cNvPr id="1163" name="Oval 16"/>
            <p:cNvSpPr/>
            <p:nvPr/>
          </p:nvSpPr>
          <p:spPr>
            <a:xfrm>
              <a:off x="7518240" y="4813200"/>
              <a:ext cx="666000" cy="665280"/>
            </a:xfrm>
            <a:prstGeom prst="ellipse">
              <a:avLst/>
            </a:prstGeom>
            <a:solidFill>
              <a:srgbClr val="e0a2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4" name="Shape 4680"/>
            <p:cNvSpPr/>
            <p:nvPr/>
          </p:nvSpPr>
          <p:spPr>
            <a:xfrm>
              <a:off x="7726680" y="4987800"/>
              <a:ext cx="249120" cy="316080"/>
            </a:xfrm>
            <a:custGeom>
              <a:avLst/>
              <a:gdLst>
                <a:gd name="textAreaLeft" fmla="*/ 0 w 249120"/>
                <a:gd name="textAreaRight" fmla="*/ 249480 w 249120"/>
                <a:gd name="textAreaTop" fmla="*/ 0 h 316080"/>
                <a:gd name="textAreaBottom" fmla="*/ 316440 h 31608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5" name="Oval 18"/>
            <p:cNvSpPr/>
            <p:nvPr/>
          </p:nvSpPr>
          <p:spPr>
            <a:xfrm>
              <a:off x="7518240" y="2946600"/>
              <a:ext cx="666000" cy="665280"/>
            </a:xfrm>
            <a:prstGeom prst="ellipse">
              <a:avLst/>
            </a:prstGeom>
            <a:solidFill>
              <a:srgbClr val="0e0e0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6" name="Shape 4681"/>
            <p:cNvSpPr/>
            <p:nvPr/>
          </p:nvSpPr>
          <p:spPr>
            <a:xfrm>
              <a:off x="7697520" y="3126600"/>
              <a:ext cx="307440" cy="305280"/>
            </a:xfrm>
            <a:custGeom>
              <a:avLst/>
              <a:gdLst>
                <a:gd name="textAreaLeft" fmla="*/ 0 w 307440"/>
                <a:gd name="textAreaRight" fmla="*/ 307800 w 307440"/>
                <a:gd name="textAreaTop" fmla="*/ 0 h 305280"/>
                <a:gd name="textAreaBottom" fmla="*/ 305640 h 305280"/>
              </a:gdLst>
              <a:ahLst/>
              <a:rect l="textAreaLeft" t="textAreaTop" r="textAreaRight" b="textAreaBottom"/>
              <a:pathLst>
                <a:path w="120000" h="120000">
                  <a:moveTo>
                    <a:pt x="28645" y="108368"/>
                  </a:moveTo>
                  <a:lnTo>
                    <a:pt x="28645" y="108368"/>
                  </a:lnTo>
                  <a:cubicBezTo>
                    <a:pt x="22838" y="114184"/>
                    <a:pt x="19935" y="114184"/>
                    <a:pt x="17225" y="108368"/>
                  </a:cubicBezTo>
                  <a:cubicBezTo>
                    <a:pt x="11419" y="105654"/>
                    <a:pt x="11419" y="105654"/>
                    <a:pt x="11419" y="105654"/>
                  </a:cubicBezTo>
                  <a:cubicBezTo>
                    <a:pt x="8516" y="102746"/>
                    <a:pt x="8516" y="96930"/>
                    <a:pt x="11419" y="94216"/>
                  </a:cubicBezTo>
                  <a:cubicBezTo>
                    <a:pt x="48580" y="57189"/>
                    <a:pt x="48580" y="57189"/>
                    <a:pt x="48580" y="57189"/>
                  </a:cubicBezTo>
                  <a:cubicBezTo>
                    <a:pt x="42774" y="54281"/>
                    <a:pt x="37161" y="57189"/>
                    <a:pt x="31354" y="59903"/>
                  </a:cubicBezTo>
                  <a:cubicBezTo>
                    <a:pt x="5806" y="88400"/>
                    <a:pt x="5806" y="88400"/>
                    <a:pt x="5806" y="88400"/>
                  </a:cubicBezTo>
                  <a:cubicBezTo>
                    <a:pt x="0" y="94216"/>
                    <a:pt x="0" y="102746"/>
                    <a:pt x="5806" y="108368"/>
                  </a:cubicBezTo>
                  <a:cubicBezTo>
                    <a:pt x="11419" y="114184"/>
                    <a:pt x="11419" y="114184"/>
                    <a:pt x="11419" y="114184"/>
                  </a:cubicBezTo>
                  <a:cubicBezTo>
                    <a:pt x="17225" y="119806"/>
                    <a:pt x="25741" y="119806"/>
                    <a:pt x="31354" y="114184"/>
                  </a:cubicBezTo>
                  <a:cubicBezTo>
                    <a:pt x="60000" y="88400"/>
                    <a:pt x="60000" y="88400"/>
                    <a:pt x="60000" y="88400"/>
                  </a:cubicBezTo>
                  <a:cubicBezTo>
                    <a:pt x="62709" y="82778"/>
                    <a:pt x="65612" y="76962"/>
                    <a:pt x="62709" y="74248"/>
                  </a:cubicBezTo>
                  <a:lnTo>
                    <a:pt x="28645" y="108368"/>
                  </a:lnTo>
                  <a:close/>
                  <a:moveTo>
                    <a:pt x="114000" y="11437"/>
                  </a:moveTo>
                  <a:lnTo>
                    <a:pt x="114000" y="11437"/>
                  </a:lnTo>
                  <a:cubicBezTo>
                    <a:pt x="108387" y="5621"/>
                    <a:pt x="108387" y="5621"/>
                    <a:pt x="108387" y="5621"/>
                  </a:cubicBezTo>
                  <a:cubicBezTo>
                    <a:pt x="102580" y="0"/>
                    <a:pt x="94064" y="0"/>
                    <a:pt x="88451" y="5621"/>
                  </a:cubicBezTo>
                  <a:cubicBezTo>
                    <a:pt x="60000" y="34313"/>
                    <a:pt x="60000" y="34313"/>
                    <a:pt x="60000" y="34313"/>
                  </a:cubicBezTo>
                  <a:cubicBezTo>
                    <a:pt x="57096" y="37027"/>
                    <a:pt x="54193" y="42843"/>
                    <a:pt x="57096" y="48465"/>
                  </a:cubicBezTo>
                  <a:cubicBezTo>
                    <a:pt x="91161" y="11437"/>
                    <a:pt x="91161" y="11437"/>
                    <a:pt x="91161" y="11437"/>
                  </a:cubicBezTo>
                  <a:cubicBezTo>
                    <a:pt x="94064" y="8529"/>
                    <a:pt x="99870" y="8529"/>
                    <a:pt x="102580" y="11437"/>
                  </a:cubicBezTo>
                  <a:cubicBezTo>
                    <a:pt x="108387" y="17059"/>
                    <a:pt x="108387" y="17059"/>
                    <a:pt x="108387" y="17059"/>
                  </a:cubicBezTo>
                  <a:cubicBezTo>
                    <a:pt x="111096" y="19967"/>
                    <a:pt x="111096" y="25783"/>
                    <a:pt x="108387" y="28497"/>
                  </a:cubicBezTo>
                  <a:cubicBezTo>
                    <a:pt x="71419" y="65525"/>
                    <a:pt x="71419" y="65525"/>
                    <a:pt x="71419" y="65525"/>
                  </a:cubicBezTo>
                  <a:cubicBezTo>
                    <a:pt x="77032" y="65525"/>
                    <a:pt x="82645" y="65525"/>
                    <a:pt x="88451" y="59903"/>
                  </a:cubicBezTo>
                  <a:cubicBezTo>
                    <a:pt x="114000" y="34313"/>
                    <a:pt x="114000" y="34313"/>
                    <a:pt x="114000" y="34313"/>
                  </a:cubicBezTo>
                  <a:cubicBezTo>
                    <a:pt x="119806" y="28497"/>
                    <a:pt x="119806" y="17059"/>
                    <a:pt x="114000" y="11437"/>
                  </a:cubicBezTo>
                  <a:close/>
                  <a:moveTo>
                    <a:pt x="71419" y="48465"/>
                  </a:moveTo>
                  <a:lnTo>
                    <a:pt x="71419" y="48465"/>
                  </a:lnTo>
                  <a:cubicBezTo>
                    <a:pt x="71419" y="48465"/>
                    <a:pt x="68322" y="48465"/>
                    <a:pt x="65612" y="48465"/>
                  </a:cubicBezTo>
                  <a:cubicBezTo>
                    <a:pt x="48580" y="68626"/>
                    <a:pt x="48580" y="68626"/>
                    <a:pt x="48580" y="68626"/>
                  </a:cubicBezTo>
                  <a:cubicBezTo>
                    <a:pt x="45677" y="68626"/>
                    <a:pt x="45677" y="71340"/>
                    <a:pt x="48580" y="74248"/>
                  </a:cubicBezTo>
                  <a:cubicBezTo>
                    <a:pt x="48580" y="74248"/>
                    <a:pt x="51290" y="74248"/>
                    <a:pt x="54193" y="74248"/>
                  </a:cubicBezTo>
                  <a:cubicBezTo>
                    <a:pt x="71419" y="54281"/>
                    <a:pt x="71419" y="54281"/>
                    <a:pt x="71419" y="54281"/>
                  </a:cubicBezTo>
                  <a:cubicBezTo>
                    <a:pt x="74129" y="51373"/>
                    <a:pt x="74129" y="51373"/>
                    <a:pt x="71419" y="4846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7" name="Oval 20"/>
            <p:cNvSpPr/>
            <p:nvPr/>
          </p:nvSpPr>
          <p:spPr>
            <a:xfrm>
              <a:off x="7519320" y="1127160"/>
              <a:ext cx="666000" cy="665280"/>
            </a:xfrm>
            <a:prstGeom prst="ellipse">
              <a:avLst/>
            </a:prstGeom>
            <a:solidFill>
              <a:srgbClr val="e0a2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8" name="Shape 4682"/>
            <p:cNvSpPr/>
            <p:nvPr/>
          </p:nvSpPr>
          <p:spPr>
            <a:xfrm>
              <a:off x="7705800" y="1371600"/>
              <a:ext cx="299160" cy="254520"/>
            </a:xfrm>
            <a:custGeom>
              <a:avLst/>
              <a:gdLst>
                <a:gd name="textAreaLeft" fmla="*/ 0 w 299160"/>
                <a:gd name="textAreaRight" fmla="*/ 299520 w 299160"/>
                <a:gd name="textAreaTop" fmla="*/ 0 h 254520"/>
                <a:gd name="textAreaBottom" fmla="*/ 254880 h 25452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9" name="Straight Connector 22"/>
            <p:cNvSpPr/>
            <p:nvPr/>
          </p:nvSpPr>
          <p:spPr>
            <a:xfrm>
              <a:off x="7851240" y="1886040"/>
              <a:ext cx="0" cy="96480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0" name="Straight Connector 23"/>
            <p:cNvSpPr/>
            <p:nvPr/>
          </p:nvSpPr>
          <p:spPr>
            <a:xfrm>
              <a:off x="7851240" y="3729960"/>
              <a:ext cx="0" cy="96480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171" name="" descr=""/>
          <p:cNvPicPr/>
          <p:nvPr/>
        </p:nvPicPr>
        <p:blipFill>
          <a:blip r:embed="rId2"/>
          <a:stretch/>
        </p:blipFill>
        <p:spPr>
          <a:xfrm>
            <a:off x="4686480" y="1587240"/>
            <a:ext cx="2070000" cy="3670200"/>
          </a:xfrm>
          <a:prstGeom prst="rect">
            <a:avLst/>
          </a:prstGeom>
          <a:ln w="0">
            <a:noFill/>
          </a:ln>
        </p:spPr>
      </p:pic>
      <p:pic>
        <p:nvPicPr>
          <p:cNvPr id="1172" name="" descr=""/>
          <p:cNvPicPr/>
          <p:nvPr/>
        </p:nvPicPr>
        <p:blipFill>
          <a:blip r:embed="rId3"/>
          <a:stretch/>
        </p:blipFill>
        <p:spPr>
          <a:xfrm>
            <a:off x="0" y="0"/>
            <a:ext cx="59436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73" name="Chart 7"/>
          <p:cNvGraphicFramePr/>
          <p:nvPr/>
        </p:nvGraphicFramePr>
        <p:xfrm>
          <a:off x="399960" y="1379520"/>
          <a:ext cx="6096240" cy="4098960"/>
        </p:xfrm>
        <a:graphic>
          <a:graphicData uri="http://schemas.openxmlformats.org/presentationml/2006/ole">
            <p:oleObj progId="Excel.Sheet.12" r:id="rId1" spid="">
              <p:embed/>
              <p:pic>
                <p:nvPicPr>
                  <p:cNvPr id="1174" name="Chart 7" descr=""/>
                  <p:cNvPicPr/>
                  <p:nvPr/>
                </p:nvPicPr>
                <p:blipFill>
                  <a:blip r:embed="rId2"/>
                  <a:stretch/>
                </p:blipFill>
                <p:spPr>
                  <a:xfrm>
                    <a:off x="399960" y="1379520"/>
                    <a:ext cx="6096240" cy="4098960"/>
                  </a:xfrm>
                  <a:prstGeom prst="rect">
                    <a:avLst/>
                  </a:prstGeom>
                  <a:ln w="0">
                    <a:noFill/>
                  </a:ln>
                </p:spPr>
              </p:pic>
            </p:oleObj>
          </a:graphicData>
        </a:graphic>
      </p:graphicFrame>
      <p:sp>
        <p:nvSpPr>
          <p:cNvPr id="1175" name="Rectangle 8"/>
          <p:cNvSpPr/>
          <p:nvPr/>
        </p:nvSpPr>
        <p:spPr>
          <a:xfrm>
            <a:off x="6794640" y="0"/>
            <a:ext cx="5397480" cy="6858000"/>
          </a:xfrm>
          <a:prstGeom prst="rect">
            <a:avLst/>
          </a:prstGeom>
          <a:solidFill>
            <a:srgbClr val="8881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6" name="TextBox 9"/>
          <p:cNvSpPr/>
          <p:nvPr/>
        </p:nvSpPr>
        <p:spPr>
          <a:xfrm>
            <a:off x="7308720" y="1571760"/>
            <a:ext cx="441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pian"/>
                <a:ea typeface="Inter"/>
              </a:rPr>
              <a:t>OUR CHART</a:t>
            </a:r>
            <a:endParaRPr b="0" lang="en-US" sz="3200" spc="-1" strike="noStrike">
              <a:solidFill>
                <a:srgbClr val="000000"/>
              </a:solidFill>
              <a:latin typeface="Calibri"/>
            </a:endParaRPr>
          </a:p>
        </p:txBody>
      </p:sp>
      <p:sp>
        <p:nvSpPr>
          <p:cNvPr id="1177" name="TextBox 10"/>
          <p:cNvSpPr/>
          <p:nvPr/>
        </p:nvSpPr>
        <p:spPr>
          <a:xfrm>
            <a:off x="7308720" y="1978200"/>
            <a:ext cx="421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pian"/>
                <a:ea typeface="Inter"/>
              </a:rPr>
              <a:t>DATA HERE</a:t>
            </a:r>
            <a:endParaRPr b="0" lang="en-US" sz="3200" spc="-1" strike="noStrike">
              <a:solidFill>
                <a:srgbClr val="000000"/>
              </a:solidFill>
              <a:latin typeface="Calibri"/>
            </a:endParaRPr>
          </a:p>
        </p:txBody>
      </p:sp>
      <p:sp>
        <p:nvSpPr>
          <p:cNvPr id="1178" name="TextBox 11"/>
          <p:cNvSpPr/>
          <p:nvPr/>
        </p:nvSpPr>
        <p:spPr>
          <a:xfrm>
            <a:off x="7305840" y="1262160"/>
            <a:ext cx="286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ea typeface="Source Sans Pro"/>
              </a:rPr>
              <a:t>MODERN TEMPLATE</a:t>
            </a:r>
            <a:endParaRPr b="0" lang="en-US" sz="1400" spc="-1" strike="noStrike">
              <a:solidFill>
                <a:srgbClr val="000000"/>
              </a:solidFill>
              <a:latin typeface="Calibri"/>
            </a:endParaRPr>
          </a:p>
        </p:txBody>
      </p:sp>
      <p:sp>
        <p:nvSpPr>
          <p:cNvPr id="1179" name="Rectangle 12"/>
          <p:cNvSpPr/>
          <p:nvPr/>
        </p:nvSpPr>
        <p:spPr>
          <a:xfrm>
            <a:off x="7305840" y="2695680"/>
            <a:ext cx="4103640" cy="550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rPr>
              <a:t>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180" name="TextBox 13"/>
          <p:cNvSpPr/>
          <p:nvPr/>
        </p:nvSpPr>
        <p:spPr>
          <a:xfrm>
            <a:off x="7305840" y="3602160"/>
            <a:ext cx="286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Open Sans"/>
                <a:ea typeface="Open Sans"/>
              </a:rPr>
              <a:t>CHART DATA 01</a:t>
            </a:r>
            <a:endParaRPr b="0" lang="en-US" sz="1600" spc="-1" strike="noStrike">
              <a:solidFill>
                <a:srgbClr val="000000"/>
              </a:solidFill>
              <a:latin typeface="Calibri"/>
            </a:endParaRPr>
          </a:p>
        </p:txBody>
      </p:sp>
      <p:sp>
        <p:nvSpPr>
          <p:cNvPr id="1181" name="TextBox 14"/>
          <p:cNvSpPr/>
          <p:nvPr/>
        </p:nvSpPr>
        <p:spPr>
          <a:xfrm>
            <a:off x="7305840" y="4730760"/>
            <a:ext cx="286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Open Sans"/>
                <a:ea typeface="Open Sans"/>
              </a:rPr>
              <a:t>CHART DATA 02</a:t>
            </a:r>
            <a:endParaRPr b="0" lang="en-US" sz="1600" spc="-1" strike="noStrike">
              <a:solidFill>
                <a:srgbClr val="000000"/>
              </a:solidFill>
              <a:latin typeface="Calibri"/>
            </a:endParaRPr>
          </a:p>
        </p:txBody>
      </p:sp>
      <p:sp>
        <p:nvSpPr>
          <p:cNvPr id="1182" name="Rectangle 16"/>
          <p:cNvSpPr/>
          <p:nvPr/>
        </p:nvSpPr>
        <p:spPr>
          <a:xfrm>
            <a:off x="7305840" y="3925800"/>
            <a:ext cx="4103640" cy="550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rPr>
              <a:t>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183" name="Rectangle 17"/>
          <p:cNvSpPr/>
          <p:nvPr/>
        </p:nvSpPr>
        <p:spPr>
          <a:xfrm>
            <a:off x="7305840" y="5046840"/>
            <a:ext cx="4103640" cy="550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rPr>
              <a:t>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184" name="Rectangle 21"/>
          <p:cNvSpPr/>
          <p:nvPr/>
        </p:nvSpPr>
        <p:spPr>
          <a:xfrm>
            <a:off x="-1440" y="0"/>
            <a:ext cx="334800" cy="6858000"/>
          </a:xfrm>
          <a:prstGeom prst="rect">
            <a:avLst/>
          </a:prstGeom>
          <a:solidFill>
            <a:srgbClr val="8881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5" name="Group 4" descr=""/>
          <p:cNvPicPr/>
          <p:nvPr/>
        </p:nvPicPr>
        <p:blipFill>
          <a:blip r:embed="rId1"/>
          <a:stretch/>
        </p:blipFill>
        <p:spPr>
          <a:xfrm>
            <a:off x="1238400" y="1805040"/>
            <a:ext cx="9246960" cy="4589280"/>
          </a:xfrm>
          <a:prstGeom prst="rect">
            <a:avLst/>
          </a:prstGeom>
          <a:ln w="0">
            <a:noFill/>
          </a:ln>
        </p:spPr>
      </p:pic>
      <p:sp>
        <p:nvSpPr>
          <p:cNvPr id="1186" name="Subtitle 2"/>
          <p:cNvSpPr/>
          <p:nvPr/>
        </p:nvSpPr>
        <p:spPr>
          <a:xfrm>
            <a:off x="2944800" y="561960"/>
            <a:ext cx="6327720" cy="507960"/>
          </a:xfrm>
          <a:prstGeom prst="rect">
            <a:avLst/>
          </a:prstGeom>
          <a:noFill/>
          <a:ln w="0">
            <a:noFill/>
          </a:ln>
        </p:spPr>
        <p:style>
          <a:lnRef idx="0"/>
          <a:fillRef idx="0"/>
          <a:effectRef idx="0"/>
          <a:fontRef idx="minor"/>
        </p:style>
        <p:txBody>
          <a:bodyPr lIns="90000" rIns="90000" tIns="46800" bIns="46800" anchor="t">
            <a:normAutofit fontScale="75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404040"/>
                </a:solidFill>
                <a:latin typeface="Capian"/>
                <a:ea typeface="Inter"/>
              </a:rPr>
              <a:t>GLOBAL MAP</a:t>
            </a:r>
            <a:endParaRPr b="0" lang="en-US" sz="40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164"/>
        </a:solidFill>
      </p:bgPr>
    </p:bg>
    <p:spTree>
      <p:nvGrpSpPr>
        <p:cNvPr id="1" name=""/>
        <p:cNvGrpSpPr/>
        <p:nvPr/>
      </p:nvGrpSpPr>
      <p:grpSpPr>
        <a:xfrm>
          <a:off x="0" y="0"/>
          <a:ext cx="0" cy="0"/>
          <a:chOff x="0" y="0"/>
          <a:chExt cx="0" cy="0"/>
        </a:xfrm>
      </p:grpSpPr>
      <p:sp>
        <p:nvSpPr>
          <p:cNvPr id="1187" name="Straight Connector 1"/>
          <p:cNvSpPr/>
          <p:nvPr/>
        </p:nvSpPr>
        <p:spPr>
          <a:xfrm>
            <a:off x="1054080" y="54612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8" name="Straight Connector 2"/>
          <p:cNvSpPr/>
          <p:nvPr/>
        </p:nvSpPr>
        <p:spPr>
          <a:xfrm>
            <a:off x="1054080" y="1155600"/>
            <a:ext cx="10083960" cy="0"/>
          </a:xfrm>
          <a:prstGeom prst="line">
            <a:avLst/>
          </a:prstGeom>
          <a:ln w="648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89" name="Group 3"/>
          <p:cNvGrpSpPr/>
          <p:nvPr/>
        </p:nvGrpSpPr>
        <p:grpSpPr>
          <a:xfrm>
            <a:off x="2666880" y="739800"/>
            <a:ext cx="6858000" cy="246240"/>
            <a:chOff x="2666880" y="739800"/>
            <a:chExt cx="6858000" cy="246240"/>
          </a:xfrm>
        </p:grpSpPr>
        <p:sp>
          <p:nvSpPr>
            <p:cNvPr id="1190" name="TextBox 4"/>
            <p:cNvSpPr/>
            <p:nvPr/>
          </p:nvSpPr>
          <p:spPr>
            <a:xfrm>
              <a:off x="26668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PROFILE</a:t>
              </a:r>
              <a:endParaRPr b="0" lang="en-US" sz="1000" spc="-1" strike="noStrike">
                <a:solidFill>
                  <a:srgbClr val="000000"/>
                </a:solidFill>
                <a:latin typeface="Calibri"/>
              </a:endParaRPr>
            </a:p>
          </p:txBody>
        </p:sp>
        <p:sp>
          <p:nvSpPr>
            <p:cNvPr id="1191" name="TextBox 5"/>
            <p:cNvSpPr/>
            <p:nvPr/>
          </p:nvSpPr>
          <p:spPr>
            <a:xfrm>
              <a:off x="519408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BRANDING</a:t>
              </a:r>
              <a:endParaRPr b="0" lang="en-US" sz="1000" spc="-1" strike="noStrike">
                <a:solidFill>
                  <a:srgbClr val="000000"/>
                </a:solidFill>
                <a:latin typeface="Calibri"/>
              </a:endParaRPr>
            </a:p>
          </p:txBody>
        </p:sp>
        <p:sp>
          <p:nvSpPr>
            <p:cNvPr id="1192" name="TextBox 6"/>
            <p:cNvSpPr/>
            <p:nvPr/>
          </p:nvSpPr>
          <p:spPr>
            <a:xfrm>
              <a:off x="7873920" y="739800"/>
              <a:ext cx="165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ea typeface="Open Sans"/>
                </a:rPr>
                <a:t>CONTACT</a:t>
              </a:r>
              <a:endParaRPr b="0" lang="en-US" sz="1000" spc="-1" strike="noStrike">
                <a:solidFill>
                  <a:srgbClr val="000000"/>
                </a:solidFill>
                <a:latin typeface="Calibri"/>
              </a:endParaRPr>
            </a:p>
          </p:txBody>
        </p:sp>
      </p:grpSp>
      <p:grpSp>
        <p:nvGrpSpPr>
          <p:cNvPr id="1193" name="Subtitle 2"/>
          <p:cNvGrpSpPr/>
          <p:nvPr/>
        </p:nvGrpSpPr>
        <p:grpSpPr>
          <a:xfrm>
            <a:off x="974880" y="2139840"/>
            <a:ext cx="5621040" cy="1322640"/>
            <a:chOff x="974880" y="2139840"/>
            <a:chExt cx="5621040" cy="1322640"/>
          </a:xfrm>
        </p:grpSpPr>
        <p:pic>
          <p:nvPicPr>
            <p:cNvPr id="1194" name="Subtitle 2" descr=""/>
            <p:cNvPicPr/>
            <p:nvPr/>
          </p:nvPicPr>
          <p:blipFill>
            <a:blip r:embed="rId1"/>
            <a:stretch/>
          </p:blipFill>
          <p:spPr>
            <a:xfrm>
              <a:off x="974880" y="2139840"/>
              <a:ext cx="5621040" cy="1322640"/>
            </a:xfrm>
            <a:prstGeom prst="rect">
              <a:avLst/>
            </a:prstGeom>
            <a:ln w="0">
              <a:noFill/>
            </a:ln>
          </p:spPr>
        </p:pic>
        <p:sp>
          <p:nvSpPr>
            <p:cNvPr id="1195" name=""/>
            <p:cNvSpPr/>
            <p:nvPr/>
          </p:nvSpPr>
          <p:spPr>
            <a:xfrm>
              <a:off x="990720" y="2152800"/>
              <a:ext cx="558792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e0e0e"/>
                  </a:solidFill>
                  <a:latin typeface="Capian"/>
                  <a:ea typeface="Inter"/>
                </a:rPr>
                <a:t>ThankYou</a:t>
              </a:r>
              <a:endParaRPr b="0" lang="en-US" sz="8800" spc="-1" strike="noStrike">
                <a:solidFill>
                  <a:srgbClr val="000000"/>
                </a:solidFill>
                <a:latin typeface="Calibri"/>
              </a:endParaRPr>
            </a:p>
          </p:txBody>
        </p:sp>
      </p:grpSp>
      <p:sp>
        <p:nvSpPr>
          <p:cNvPr id="1196" name="Rectangle 8"/>
          <p:cNvSpPr/>
          <p:nvPr/>
        </p:nvSpPr>
        <p:spPr>
          <a:xfrm>
            <a:off x="1092240" y="5049720"/>
            <a:ext cx="7962840" cy="10076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e0e0e"/>
                </a:solidFill>
                <a:latin typeface="Open Sans"/>
              </a:rPr>
              <a:t>It is a long established fact that a reader will be distracted by the readable content of a page when looking at its layout. It is a long established fact that a reader will be distracted by the readable content of a page when looking at its layout. It is a long established fact that a reader will be distracted by the readable content of a page.</a:t>
            </a:r>
            <a:endParaRPr b="0" lang="en-US" sz="1000" spc="-1" strike="noStrike">
              <a:solidFill>
                <a:srgbClr val="000000"/>
              </a:solidFill>
              <a:latin typeface="Calibri"/>
            </a:endParaRPr>
          </a:p>
        </p:txBody>
      </p:sp>
      <p:sp>
        <p:nvSpPr>
          <p:cNvPr id="1197" name="Straight Connector 9"/>
          <p:cNvSpPr/>
          <p:nvPr/>
        </p:nvSpPr>
        <p:spPr>
          <a:xfrm>
            <a:off x="1155600" y="3728880"/>
            <a:ext cx="5943600" cy="0"/>
          </a:xfrm>
          <a:prstGeom prst="line">
            <a:avLst/>
          </a:prstGeom>
          <a:ln w="38160">
            <a:solidFill>
              <a:srgbClr val="0e0e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8" name="TextBox 10"/>
          <p:cNvSpPr/>
          <p:nvPr/>
        </p:nvSpPr>
        <p:spPr>
          <a:xfrm>
            <a:off x="1066680" y="3876840"/>
            <a:ext cx="3009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0e0e"/>
                </a:solidFill>
                <a:latin typeface="Open Sans"/>
                <a:ea typeface="Open Sans"/>
              </a:rPr>
              <a:t>Title Presentation He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Shape 4584"/>
          <p:cNvSpPr/>
          <p:nvPr/>
        </p:nvSpPr>
        <p:spPr>
          <a:xfrm>
            <a:off x="10391760" y="5105520"/>
            <a:ext cx="228600" cy="126720"/>
          </a:xfrm>
          <a:custGeom>
            <a:avLst/>
            <a:gdLst>
              <a:gd name="textAreaLeft" fmla="*/ 0 w 228600"/>
              <a:gd name="textAreaRight" fmla="*/ 228960 w 228600"/>
              <a:gd name="textAreaTop" fmla="*/ 0 h 126720"/>
              <a:gd name="textAreaBottom" fmla="*/ 127080 h 126720"/>
            </a:gdLst>
            <a:ahLst/>
            <a:rect l="textAreaLeft" t="textAreaTop" r="textAreaRight" b="textAreaBottom"/>
            <a:pathLst>
              <a:path w="120000" h="120000">
                <a:moveTo>
                  <a:pt x="119745" y="106015"/>
                </a:moveTo>
                <a:lnTo>
                  <a:pt x="119745" y="106015"/>
                </a:lnTo>
                <a:cubicBezTo>
                  <a:pt x="63813" y="0"/>
                  <a:pt x="63813" y="0"/>
                  <a:pt x="63813" y="0"/>
                </a:cubicBezTo>
                <a:cubicBezTo>
                  <a:pt x="63813" y="0"/>
                  <a:pt x="63813" y="0"/>
                  <a:pt x="60000" y="0"/>
                </a:cubicBezTo>
                <a:cubicBezTo>
                  <a:pt x="60000" y="0"/>
                  <a:pt x="60000" y="0"/>
                  <a:pt x="56186" y="0"/>
                </a:cubicBezTo>
                <a:cubicBezTo>
                  <a:pt x="3813" y="106015"/>
                  <a:pt x="3813" y="106015"/>
                  <a:pt x="3813" y="106015"/>
                </a:cubicBezTo>
                <a:cubicBezTo>
                  <a:pt x="0" y="112781"/>
                  <a:pt x="0" y="112781"/>
                  <a:pt x="3813" y="119548"/>
                </a:cubicBezTo>
                <a:cubicBezTo>
                  <a:pt x="3813" y="119548"/>
                  <a:pt x="7627" y="119548"/>
                  <a:pt x="11186" y="119548"/>
                </a:cubicBezTo>
                <a:cubicBezTo>
                  <a:pt x="60000" y="19849"/>
                  <a:pt x="60000" y="19849"/>
                  <a:pt x="60000" y="19849"/>
                </a:cubicBezTo>
                <a:cubicBezTo>
                  <a:pt x="112372" y="119548"/>
                  <a:pt x="112372" y="119548"/>
                  <a:pt x="112372" y="119548"/>
                </a:cubicBezTo>
                <a:cubicBezTo>
                  <a:pt x="116186" y="119548"/>
                  <a:pt x="116186" y="119548"/>
                  <a:pt x="119745" y="119548"/>
                </a:cubicBezTo>
                <a:cubicBezTo>
                  <a:pt x="119745" y="112781"/>
                  <a:pt x="119745" y="112781"/>
                  <a:pt x="119745" y="106015"/>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0" name="Shape 4586"/>
          <p:cNvSpPr/>
          <p:nvPr/>
        </p:nvSpPr>
        <p:spPr>
          <a:xfrm>
            <a:off x="9474120" y="5054760"/>
            <a:ext cx="125640" cy="228600"/>
          </a:xfrm>
          <a:custGeom>
            <a:avLst/>
            <a:gdLst>
              <a:gd name="textAreaLeft" fmla="*/ 0 w 125640"/>
              <a:gd name="textAreaRight" fmla="*/ 126000 w 125640"/>
              <a:gd name="textAreaTop" fmla="*/ 0 h 228600"/>
              <a:gd name="textAreaBottom" fmla="*/ 228960 h 228600"/>
            </a:gdLst>
            <a:ahLst/>
            <a:rect l="textAreaLeft" t="textAreaTop" r="textAreaRight" b="textAreaBottom"/>
            <a:pathLst>
              <a:path w="120000" h="120000">
                <a:moveTo>
                  <a:pt x="19924" y="59745"/>
                </a:moveTo>
                <a:lnTo>
                  <a:pt x="19924" y="59745"/>
                </a:lnTo>
                <a:cubicBezTo>
                  <a:pt x="119547" y="7372"/>
                  <a:pt x="119547" y="7372"/>
                  <a:pt x="119547" y="7372"/>
                </a:cubicBezTo>
                <a:cubicBezTo>
                  <a:pt x="119547" y="7372"/>
                  <a:pt x="119547" y="3559"/>
                  <a:pt x="119547" y="0"/>
                </a:cubicBezTo>
                <a:cubicBezTo>
                  <a:pt x="113207" y="0"/>
                  <a:pt x="113207" y="0"/>
                  <a:pt x="106415" y="0"/>
                </a:cubicBezTo>
                <a:cubicBezTo>
                  <a:pt x="0" y="56186"/>
                  <a:pt x="0" y="56186"/>
                  <a:pt x="0" y="56186"/>
                </a:cubicBezTo>
                <a:lnTo>
                  <a:pt x="0" y="59745"/>
                </a:lnTo>
                <a:lnTo>
                  <a:pt x="0" y="63559"/>
                </a:lnTo>
                <a:cubicBezTo>
                  <a:pt x="106415" y="119745"/>
                  <a:pt x="106415" y="119745"/>
                  <a:pt x="106415" y="119745"/>
                </a:cubicBezTo>
                <a:cubicBezTo>
                  <a:pt x="113207" y="119745"/>
                  <a:pt x="113207" y="119745"/>
                  <a:pt x="119547" y="119745"/>
                </a:cubicBezTo>
                <a:cubicBezTo>
                  <a:pt x="119547" y="115932"/>
                  <a:pt x="119547" y="112372"/>
                  <a:pt x="119547" y="112372"/>
                </a:cubicBezTo>
                <a:lnTo>
                  <a:pt x="19924" y="59745"/>
                </a:ln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1" name="Shape 4588"/>
          <p:cNvSpPr/>
          <p:nvPr/>
        </p:nvSpPr>
        <p:spPr>
          <a:xfrm>
            <a:off x="8404200" y="5021280"/>
            <a:ext cx="304920" cy="297000"/>
          </a:xfrm>
          <a:custGeom>
            <a:avLst/>
            <a:gdLst>
              <a:gd name="textAreaLeft" fmla="*/ 0 w 304920"/>
              <a:gd name="textAreaRight" fmla="*/ 305280 w 304920"/>
              <a:gd name="textAreaTop" fmla="*/ 0 h 297000"/>
              <a:gd name="textAreaBottom" fmla="*/ 297360 h 297000"/>
            </a:gdLst>
            <a:ahLst/>
            <a:rect l="textAreaLeft" t="textAreaTop" r="textAreaRight" b="textAreaBottom"/>
            <a:pathLst>
              <a:path w="120000" h="120000">
                <a:moveTo>
                  <a:pt x="47318" y="65718"/>
                </a:moveTo>
                <a:lnTo>
                  <a:pt x="47318" y="65718"/>
                </a:lnTo>
                <a:cubicBezTo>
                  <a:pt x="8328" y="108368"/>
                  <a:pt x="8328" y="108368"/>
                  <a:pt x="8328" y="108368"/>
                </a:cubicBezTo>
                <a:cubicBezTo>
                  <a:pt x="8328" y="82778"/>
                  <a:pt x="8328" y="82778"/>
                  <a:pt x="8328" y="82778"/>
                </a:cubicBezTo>
                <a:cubicBezTo>
                  <a:pt x="8328" y="79870"/>
                  <a:pt x="5488" y="79870"/>
                  <a:pt x="2649" y="79870"/>
                </a:cubicBezTo>
                <a:cubicBezTo>
                  <a:pt x="2649" y="79870"/>
                  <a:pt x="0" y="79870"/>
                  <a:pt x="0" y="82778"/>
                </a:cubicBezTo>
                <a:cubicBezTo>
                  <a:pt x="0" y="117092"/>
                  <a:pt x="0" y="117092"/>
                  <a:pt x="0" y="117092"/>
                </a:cubicBezTo>
                <a:lnTo>
                  <a:pt x="0" y="119806"/>
                </a:lnTo>
                <a:cubicBezTo>
                  <a:pt x="2649" y="119806"/>
                  <a:pt x="2649" y="119806"/>
                  <a:pt x="2649" y="119806"/>
                </a:cubicBezTo>
                <a:cubicBezTo>
                  <a:pt x="36151" y="119806"/>
                  <a:pt x="36151" y="119806"/>
                  <a:pt x="36151" y="119806"/>
                </a:cubicBezTo>
                <a:cubicBezTo>
                  <a:pt x="38990" y="119806"/>
                  <a:pt x="41829" y="119806"/>
                  <a:pt x="41829" y="117092"/>
                </a:cubicBezTo>
                <a:cubicBezTo>
                  <a:pt x="41829" y="114184"/>
                  <a:pt x="38990" y="114184"/>
                  <a:pt x="36151" y="114184"/>
                </a:cubicBezTo>
                <a:cubicBezTo>
                  <a:pt x="10977" y="114184"/>
                  <a:pt x="10977" y="114184"/>
                  <a:pt x="10977" y="114184"/>
                </a:cubicBezTo>
                <a:cubicBezTo>
                  <a:pt x="52807" y="71340"/>
                  <a:pt x="52807" y="71340"/>
                  <a:pt x="52807" y="71340"/>
                </a:cubicBezTo>
                <a:lnTo>
                  <a:pt x="47318" y="65718"/>
                </a:lnTo>
                <a:close/>
                <a:moveTo>
                  <a:pt x="116971" y="0"/>
                </a:moveTo>
                <a:lnTo>
                  <a:pt x="116971" y="0"/>
                </a:lnTo>
                <a:cubicBezTo>
                  <a:pt x="116971" y="0"/>
                  <a:pt x="116971" y="0"/>
                  <a:pt x="114132" y="0"/>
                </a:cubicBezTo>
                <a:cubicBezTo>
                  <a:pt x="80630" y="0"/>
                  <a:pt x="80630" y="0"/>
                  <a:pt x="80630" y="0"/>
                </a:cubicBezTo>
                <a:cubicBezTo>
                  <a:pt x="80630" y="0"/>
                  <a:pt x="77981" y="0"/>
                  <a:pt x="77981" y="2907"/>
                </a:cubicBezTo>
                <a:cubicBezTo>
                  <a:pt x="77981" y="5621"/>
                  <a:pt x="80630" y="5621"/>
                  <a:pt x="80630" y="5621"/>
                </a:cubicBezTo>
                <a:cubicBezTo>
                  <a:pt x="105804" y="5621"/>
                  <a:pt x="105804" y="5621"/>
                  <a:pt x="105804" y="5621"/>
                </a:cubicBezTo>
                <a:cubicBezTo>
                  <a:pt x="66813" y="48465"/>
                  <a:pt x="66813" y="48465"/>
                  <a:pt x="66813" y="48465"/>
                </a:cubicBezTo>
                <a:cubicBezTo>
                  <a:pt x="72492" y="54281"/>
                  <a:pt x="72492" y="54281"/>
                  <a:pt x="72492" y="54281"/>
                </a:cubicBezTo>
                <a:cubicBezTo>
                  <a:pt x="111293" y="11437"/>
                  <a:pt x="111293" y="11437"/>
                  <a:pt x="111293" y="11437"/>
                </a:cubicBezTo>
                <a:cubicBezTo>
                  <a:pt x="111293" y="37027"/>
                  <a:pt x="111293" y="37027"/>
                  <a:pt x="111293" y="37027"/>
                </a:cubicBezTo>
                <a:cubicBezTo>
                  <a:pt x="111293" y="39935"/>
                  <a:pt x="114132" y="39935"/>
                  <a:pt x="114132" y="39935"/>
                </a:cubicBezTo>
                <a:cubicBezTo>
                  <a:pt x="116971" y="39935"/>
                  <a:pt x="119810" y="39935"/>
                  <a:pt x="119810" y="37027"/>
                </a:cubicBezTo>
                <a:cubicBezTo>
                  <a:pt x="119810" y="2907"/>
                  <a:pt x="119810" y="2907"/>
                  <a:pt x="119810" y="2907"/>
                </a:cubicBezTo>
                <a:cubicBezTo>
                  <a:pt x="119810" y="2907"/>
                  <a:pt x="119810" y="0"/>
                  <a:pt x="116971" y="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2" name="Shape 4590"/>
          <p:cNvSpPr/>
          <p:nvPr/>
        </p:nvSpPr>
        <p:spPr>
          <a:xfrm>
            <a:off x="7494480" y="5021280"/>
            <a:ext cx="127080" cy="297000"/>
          </a:xfrm>
          <a:custGeom>
            <a:avLst/>
            <a:gdLst>
              <a:gd name="textAreaLeft" fmla="*/ 0 w 127080"/>
              <a:gd name="textAreaRight" fmla="*/ 127440 w 127080"/>
              <a:gd name="textAreaTop" fmla="*/ 0 h 297000"/>
              <a:gd name="textAreaBottom" fmla="*/ 297360 h 297000"/>
            </a:gdLst>
            <a:ahLst/>
            <a:rect l="textAreaLeft" t="textAreaTop" r="textAreaRight" b="textAreaBottom"/>
            <a:pathLst>
              <a:path w="120000" h="120000">
                <a:moveTo>
                  <a:pt x="106415" y="91308"/>
                </a:moveTo>
                <a:lnTo>
                  <a:pt x="106415" y="91308"/>
                </a:lnTo>
                <a:cubicBezTo>
                  <a:pt x="66566" y="108368"/>
                  <a:pt x="66566" y="108368"/>
                  <a:pt x="66566" y="108368"/>
                </a:cubicBezTo>
                <a:cubicBezTo>
                  <a:pt x="66566" y="11437"/>
                  <a:pt x="66566" y="11437"/>
                  <a:pt x="66566" y="11437"/>
                </a:cubicBezTo>
                <a:cubicBezTo>
                  <a:pt x="106415" y="28497"/>
                  <a:pt x="106415" y="28497"/>
                  <a:pt x="106415" y="28497"/>
                </a:cubicBezTo>
                <a:cubicBezTo>
                  <a:pt x="113207" y="28497"/>
                  <a:pt x="113207" y="28497"/>
                  <a:pt x="119547" y="28497"/>
                </a:cubicBezTo>
                <a:cubicBezTo>
                  <a:pt x="119547" y="25783"/>
                  <a:pt x="119547" y="22875"/>
                  <a:pt x="119547" y="22875"/>
                </a:cubicBezTo>
                <a:cubicBezTo>
                  <a:pt x="66566" y="0"/>
                  <a:pt x="66566" y="0"/>
                  <a:pt x="66566" y="0"/>
                </a:cubicBezTo>
                <a:lnTo>
                  <a:pt x="59773" y="0"/>
                </a:lnTo>
                <a:lnTo>
                  <a:pt x="52981" y="0"/>
                </a:lnTo>
                <a:cubicBezTo>
                  <a:pt x="0" y="22875"/>
                  <a:pt x="0" y="22875"/>
                  <a:pt x="0" y="22875"/>
                </a:cubicBezTo>
                <a:cubicBezTo>
                  <a:pt x="0" y="22875"/>
                  <a:pt x="0" y="25783"/>
                  <a:pt x="0" y="28497"/>
                </a:cubicBezTo>
                <a:cubicBezTo>
                  <a:pt x="6339" y="28497"/>
                  <a:pt x="6339" y="28497"/>
                  <a:pt x="13132" y="28497"/>
                </a:cubicBezTo>
                <a:cubicBezTo>
                  <a:pt x="52981" y="11437"/>
                  <a:pt x="52981" y="11437"/>
                  <a:pt x="52981" y="11437"/>
                </a:cubicBezTo>
                <a:cubicBezTo>
                  <a:pt x="52981" y="108368"/>
                  <a:pt x="52981" y="108368"/>
                  <a:pt x="52981" y="108368"/>
                </a:cubicBezTo>
                <a:cubicBezTo>
                  <a:pt x="13132" y="91308"/>
                  <a:pt x="13132" y="91308"/>
                  <a:pt x="13132" y="91308"/>
                </a:cubicBezTo>
                <a:cubicBezTo>
                  <a:pt x="6339" y="91308"/>
                  <a:pt x="6339" y="91308"/>
                  <a:pt x="0" y="91308"/>
                </a:cubicBezTo>
                <a:cubicBezTo>
                  <a:pt x="0" y="94216"/>
                  <a:pt x="0" y="96930"/>
                  <a:pt x="0" y="96930"/>
                </a:cubicBezTo>
                <a:cubicBezTo>
                  <a:pt x="52981" y="119806"/>
                  <a:pt x="52981" y="119806"/>
                  <a:pt x="52981" y="119806"/>
                </a:cubicBezTo>
                <a:lnTo>
                  <a:pt x="59773" y="119806"/>
                </a:lnTo>
                <a:lnTo>
                  <a:pt x="66566" y="119806"/>
                </a:lnTo>
                <a:cubicBezTo>
                  <a:pt x="119547" y="96930"/>
                  <a:pt x="119547" y="96930"/>
                  <a:pt x="119547" y="96930"/>
                </a:cubicBezTo>
                <a:cubicBezTo>
                  <a:pt x="119547" y="96930"/>
                  <a:pt x="119547" y="94216"/>
                  <a:pt x="119547" y="91308"/>
                </a:cubicBezTo>
                <a:cubicBezTo>
                  <a:pt x="113207" y="91308"/>
                  <a:pt x="113207" y="91308"/>
                  <a:pt x="106415" y="91308"/>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3" name="Shape 4592"/>
          <p:cNvSpPr/>
          <p:nvPr/>
        </p:nvSpPr>
        <p:spPr>
          <a:xfrm>
            <a:off x="6445080" y="5033880"/>
            <a:ext cx="254160" cy="270000"/>
          </a:xfrm>
          <a:custGeom>
            <a:avLst/>
            <a:gdLst>
              <a:gd name="textAreaLeft" fmla="*/ 0 w 254160"/>
              <a:gd name="textAreaRight" fmla="*/ 254520 w 254160"/>
              <a:gd name="textAreaTop" fmla="*/ 0 h 270000"/>
              <a:gd name="textAreaBottom" fmla="*/ 270360 h 270000"/>
            </a:gdLst>
            <a:ahLst/>
            <a:rect l="textAreaLeft" t="textAreaTop" r="textAreaRight" b="textAreaBottom"/>
            <a:pathLst>
              <a:path w="120000" h="120000">
                <a:moveTo>
                  <a:pt x="53107" y="31657"/>
                </a:moveTo>
                <a:lnTo>
                  <a:pt x="53107" y="31657"/>
                </a:lnTo>
                <a:cubicBezTo>
                  <a:pt x="53107" y="6417"/>
                  <a:pt x="53107" y="6417"/>
                  <a:pt x="53107" y="6417"/>
                </a:cubicBezTo>
                <a:cubicBezTo>
                  <a:pt x="53107" y="3208"/>
                  <a:pt x="53107" y="3208"/>
                  <a:pt x="49943" y="3208"/>
                </a:cubicBezTo>
                <a:cubicBezTo>
                  <a:pt x="49943" y="0"/>
                  <a:pt x="46553" y="0"/>
                  <a:pt x="43163" y="3208"/>
                </a:cubicBezTo>
                <a:cubicBezTo>
                  <a:pt x="0" y="47272"/>
                  <a:pt x="0" y="47272"/>
                  <a:pt x="0" y="47272"/>
                </a:cubicBezTo>
                <a:cubicBezTo>
                  <a:pt x="0" y="50481"/>
                  <a:pt x="0" y="50481"/>
                  <a:pt x="0" y="50481"/>
                </a:cubicBezTo>
                <a:cubicBezTo>
                  <a:pt x="0" y="53689"/>
                  <a:pt x="0" y="53689"/>
                  <a:pt x="0" y="53689"/>
                </a:cubicBezTo>
                <a:cubicBezTo>
                  <a:pt x="43163" y="100748"/>
                  <a:pt x="43163" y="100748"/>
                  <a:pt x="43163" y="100748"/>
                </a:cubicBezTo>
                <a:cubicBezTo>
                  <a:pt x="46553" y="100748"/>
                  <a:pt x="46553" y="100748"/>
                  <a:pt x="46553" y="100748"/>
                </a:cubicBezTo>
                <a:cubicBezTo>
                  <a:pt x="49943" y="100748"/>
                  <a:pt x="49943" y="100748"/>
                  <a:pt x="49943" y="100748"/>
                </a:cubicBezTo>
                <a:lnTo>
                  <a:pt x="49943" y="100748"/>
                </a:lnTo>
                <a:cubicBezTo>
                  <a:pt x="53107" y="100748"/>
                  <a:pt x="53107" y="97754"/>
                  <a:pt x="53107" y="97754"/>
                </a:cubicBezTo>
                <a:lnTo>
                  <a:pt x="53107" y="72513"/>
                </a:lnTo>
                <a:cubicBezTo>
                  <a:pt x="79774" y="72513"/>
                  <a:pt x="106440" y="91550"/>
                  <a:pt x="112994" y="119786"/>
                </a:cubicBezTo>
                <a:cubicBezTo>
                  <a:pt x="116384" y="110374"/>
                  <a:pt x="119774" y="104171"/>
                  <a:pt x="119774" y="94545"/>
                </a:cubicBezTo>
                <a:cubicBezTo>
                  <a:pt x="119774" y="59893"/>
                  <a:pt x="89717" y="31657"/>
                  <a:pt x="53107" y="31657"/>
                </a:cubicBezTo>
                <a:close/>
                <a:moveTo>
                  <a:pt x="56497" y="63101"/>
                </a:moveTo>
                <a:lnTo>
                  <a:pt x="56497" y="63101"/>
                </a:lnTo>
                <a:cubicBezTo>
                  <a:pt x="53107" y="63101"/>
                  <a:pt x="43163" y="63101"/>
                  <a:pt x="43163" y="63101"/>
                </a:cubicBezTo>
                <a:cubicBezTo>
                  <a:pt x="43163" y="88342"/>
                  <a:pt x="43163" y="88342"/>
                  <a:pt x="43163" y="88342"/>
                </a:cubicBezTo>
                <a:cubicBezTo>
                  <a:pt x="9943" y="50481"/>
                  <a:pt x="9943" y="50481"/>
                  <a:pt x="9943" y="50481"/>
                </a:cubicBezTo>
                <a:cubicBezTo>
                  <a:pt x="43163" y="15828"/>
                  <a:pt x="43163" y="15828"/>
                  <a:pt x="43163" y="15828"/>
                </a:cubicBezTo>
                <a:cubicBezTo>
                  <a:pt x="43163" y="37860"/>
                  <a:pt x="43163" y="37860"/>
                  <a:pt x="43163" y="37860"/>
                </a:cubicBezTo>
                <a:cubicBezTo>
                  <a:pt x="43163" y="37860"/>
                  <a:pt x="53107" y="37860"/>
                  <a:pt x="56497" y="37860"/>
                </a:cubicBezTo>
                <a:cubicBezTo>
                  <a:pt x="86327" y="41069"/>
                  <a:pt x="109830" y="72513"/>
                  <a:pt x="109830" y="88342"/>
                </a:cubicBezTo>
                <a:cubicBezTo>
                  <a:pt x="99661" y="78930"/>
                  <a:pt x="76610" y="63101"/>
                  <a:pt x="56497" y="63101"/>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4" name="Shape 4594"/>
          <p:cNvSpPr/>
          <p:nvPr/>
        </p:nvSpPr>
        <p:spPr>
          <a:xfrm>
            <a:off x="10366200" y="4573440"/>
            <a:ext cx="304920" cy="206640"/>
          </a:xfrm>
          <a:custGeom>
            <a:avLst/>
            <a:gdLst>
              <a:gd name="textAreaLeft" fmla="*/ 0 w 304920"/>
              <a:gd name="textAreaRight" fmla="*/ 305280 w 304920"/>
              <a:gd name="textAreaTop" fmla="*/ 0 h 206640"/>
              <a:gd name="textAreaBottom" fmla="*/ 207000 h 206640"/>
            </a:gdLst>
            <a:ahLst/>
            <a:rect l="textAreaLeft" t="textAreaTop" r="textAreaRight" b="textAreaBottom"/>
            <a:pathLst>
              <a:path w="120000" h="120000">
                <a:moveTo>
                  <a:pt x="105993" y="0"/>
                </a:moveTo>
                <a:lnTo>
                  <a:pt x="105993" y="0"/>
                </a:lnTo>
                <a:cubicBezTo>
                  <a:pt x="39179" y="0"/>
                  <a:pt x="39179" y="0"/>
                  <a:pt x="39179" y="0"/>
                </a:cubicBezTo>
                <a:cubicBezTo>
                  <a:pt x="36340" y="0"/>
                  <a:pt x="36340" y="0"/>
                  <a:pt x="36340" y="0"/>
                </a:cubicBezTo>
                <a:cubicBezTo>
                  <a:pt x="2839" y="57892"/>
                  <a:pt x="2839" y="57892"/>
                  <a:pt x="2839" y="57892"/>
                </a:cubicBezTo>
                <a:cubicBezTo>
                  <a:pt x="0" y="57892"/>
                  <a:pt x="0" y="57892"/>
                  <a:pt x="0" y="62107"/>
                </a:cubicBezTo>
                <a:cubicBezTo>
                  <a:pt x="0" y="62107"/>
                  <a:pt x="0" y="62107"/>
                  <a:pt x="2839" y="66042"/>
                </a:cubicBezTo>
                <a:cubicBezTo>
                  <a:pt x="36340" y="119718"/>
                  <a:pt x="36340" y="119718"/>
                  <a:pt x="36340" y="119718"/>
                </a:cubicBezTo>
                <a:cubicBezTo>
                  <a:pt x="36340" y="119718"/>
                  <a:pt x="36340" y="119718"/>
                  <a:pt x="39179" y="119718"/>
                </a:cubicBezTo>
                <a:lnTo>
                  <a:pt x="39179" y="119718"/>
                </a:lnTo>
                <a:cubicBezTo>
                  <a:pt x="105993" y="119718"/>
                  <a:pt x="105993" y="119718"/>
                  <a:pt x="105993" y="119718"/>
                </a:cubicBezTo>
                <a:cubicBezTo>
                  <a:pt x="114321" y="119718"/>
                  <a:pt x="119810" y="111569"/>
                  <a:pt x="119810" y="99203"/>
                </a:cubicBezTo>
                <a:cubicBezTo>
                  <a:pt x="119810" y="20515"/>
                  <a:pt x="119810" y="20515"/>
                  <a:pt x="119810" y="20515"/>
                </a:cubicBezTo>
                <a:cubicBezTo>
                  <a:pt x="119810" y="8149"/>
                  <a:pt x="114321" y="0"/>
                  <a:pt x="105993" y="0"/>
                </a:cubicBezTo>
                <a:close/>
                <a:moveTo>
                  <a:pt x="111482" y="99203"/>
                </a:moveTo>
                <a:lnTo>
                  <a:pt x="111482" y="99203"/>
                </a:lnTo>
                <a:cubicBezTo>
                  <a:pt x="111482" y="103419"/>
                  <a:pt x="108832" y="111569"/>
                  <a:pt x="105993" y="111569"/>
                </a:cubicBezTo>
                <a:cubicBezTo>
                  <a:pt x="39179" y="111569"/>
                  <a:pt x="39179" y="111569"/>
                  <a:pt x="39179" y="111569"/>
                </a:cubicBezTo>
                <a:cubicBezTo>
                  <a:pt x="8517" y="62107"/>
                  <a:pt x="8517" y="62107"/>
                  <a:pt x="8517" y="62107"/>
                </a:cubicBezTo>
                <a:cubicBezTo>
                  <a:pt x="39179" y="12365"/>
                  <a:pt x="39179" y="12365"/>
                  <a:pt x="39179" y="12365"/>
                </a:cubicBezTo>
                <a:cubicBezTo>
                  <a:pt x="105993" y="12365"/>
                  <a:pt x="105993" y="12365"/>
                  <a:pt x="105993" y="12365"/>
                </a:cubicBezTo>
                <a:cubicBezTo>
                  <a:pt x="108832" y="12365"/>
                  <a:pt x="111482" y="16299"/>
                  <a:pt x="111482" y="20515"/>
                </a:cubicBezTo>
                <a:lnTo>
                  <a:pt x="111482" y="99203"/>
                </a:lnTo>
                <a:close/>
                <a:moveTo>
                  <a:pt x="86498" y="41311"/>
                </a:moveTo>
                <a:lnTo>
                  <a:pt x="86498" y="41311"/>
                </a:lnTo>
                <a:cubicBezTo>
                  <a:pt x="83659" y="37096"/>
                  <a:pt x="81009" y="37096"/>
                  <a:pt x="81009" y="41311"/>
                </a:cubicBezTo>
                <a:cubicBezTo>
                  <a:pt x="72492" y="53676"/>
                  <a:pt x="72492" y="53676"/>
                  <a:pt x="72492" y="53676"/>
                </a:cubicBezTo>
                <a:cubicBezTo>
                  <a:pt x="64164" y="41311"/>
                  <a:pt x="64164" y="41311"/>
                  <a:pt x="64164" y="41311"/>
                </a:cubicBezTo>
                <a:cubicBezTo>
                  <a:pt x="61324" y="37096"/>
                  <a:pt x="58675" y="37096"/>
                  <a:pt x="58675" y="41311"/>
                </a:cubicBezTo>
                <a:cubicBezTo>
                  <a:pt x="55835" y="41311"/>
                  <a:pt x="55835" y="45526"/>
                  <a:pt x="58675" y="49461"/>
                </a:cubicBezTo>
                <a:cubicBezTo>
                  <a:pt x="67003" y="62107"/>
                  <a:pt x="67003" y="62107"/>
                  <a:pt x="67003" y="62107"/>
                </a:cubicBezTo>
                <a:cubicBezTo>
                  <a:pt x="58675" y="74473"/>
                  <a:pt x="58675" y="74473"/>
                  <a:pt x="58675" y="74473"/>
                </a:cubicBezTo>
                <a:cubicBezTo>
                  <a:pt x="55835" y="74473"/>
                  <a:pt x="55835" y="78407"/>
                  <a:pt x="58675" y="82622"/>
                </a:cubicBezTo>
                <a:cubicBezTo>
                  <a:pt x="58675" y="82622"/>
                  <a:pt x="61324" y="82622"/>
                  <a:pt x="64164" y="82622"/>
                </a:cubicBezTo>
                <a:cubicBezTo>
                  <a:pt x="72492" y="70257"/>
                  <a:pt x="72492" y="70257"/>
                  <a:pt x="72492" y="70257"/>
                </a:cubicBezTo>
                <a:cubicBezTo>
                  <a:pt x="81009" y="82622"/>
                  <a:pt x="81009" y="82622"/>
                  <a:pt x="81009" y="82622"/>
                </a:cubicBezTo>
                <a:cubicBezTo>
                  <a:pt x="81009" y="82622"/>
                  <a:pt x="83659" y="82622"/>
                  <a:pt x="86498" y="82622"/>
                </a:cubicBezTo>
                <a:cubicBezTo>
                  <a:pt x="86498" y="78407"/>
                  <a:pt x="86498" y="74473"/>
                  <a:pt x="86498" y="74473"/>
                </a:cubicBezTo>
                <a:cubicBezTo>
                  <a:pt x="77981" y="62107"/>
                  <a:pt x="77981" y="62107"/>
                  <a:pt x="77981" y="62107"/>
                </a:cubicBezTo>
                <a:cubicBezTo>
                  <a:pt x="86498" y="49461"/>
                  <a:pt x="86498" y="49461"/>
                  <a:pt x="86498" y="49461"/>
                </a:cubicBezTo>
                <a:cubicBezTo>
                  <a:pt x="86498" y="45526"/>
                  <a:pt x="86498" y="41311"/>
                  <a:pt x="86498" y="41311"/>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5" name="Shape 4596"/>
          <p:cNvSpPr/>
          <p:nvPr/>
        </p:nvSpPr>
        <p:spPr>
          <a:xfrm>
            <a:off x="9388440" y="4524480"/>
            <a:ext cx="297000" cy="226800"/>
          </a:xfrm>
          <a:custGeom>
            <a:avLst/>
            <a:gdLst>
              <a:gd name="textAreaLeft" fmla="*/ 0 w 297000"/>
              <a:gd name="textAreaRight" fmla="*/ 297360 w 297000"/>
              <a:gd name="textAreaTop" fmla="*/ 0 h 226800"/>
              <a:gd name="textAreaBottom" fmla="*/ 227160 h 226800"/>
            </a:gdLst>
            <a:ahLst/>
            <a:rect l="textAreaLeft" t="textAreaTop" r="textAreaRight" b="textAreaBottom"/>
            <a:pathLst>
              <a:path w="120000" h="120000">
                <a:moveTo>
                  <a:pt x="79870" y="63678"/>
                </a:moveTo>
                <a:lnTo>
                  <a:pt x="79870" y="63678"/>
                </a:lnTo>
                <a:cubicBezTo>
                  <a:pt x="62810" y="86004"/>
                  <a:pt x="62810" y="86004"/>
                  <a:pt x="62810" y="86004"/>
                </a:cubicBezTo>
                <a:cubicBezTo>
                  <a:pt x="62810" y="37547"/>
                  <a:pt x="62810" y="37547"/>
                  <a:pt x="62810" y="37547"/>
                </a:cubicBezTo>
                <a:cubicBezTo>
                  <a:pt x="62810" y="33742"/>
                  <a:pt x="62810" y="29936"/>
                  <a:pt x="59903" y="29936"/>
                </a:cubicBezTo>
                <a:cubicBezTo>
                  <a:pt x="56995" y="29936"/>
                  <a:pt x="56995" y="33742"/>
                  <a:pt x="56995" y="37547"/>
                </a:cubicBezTo>
                <a:cubicBezTo>
                  <a:pt x="56995" y="86004"/>
                  <a:pt x="56995" y="86004"/>
                  <a:pt x="56995" y="86004"/>
                </a:cubicBezTo>
                <a:cubicBezTo>
                  <a:pt x="39935" y="63678"/>
                  <a:pt x="39935" y="63678"/>
                  <a:pt x="39935" y="63678"/>
                </a:cubicBezTo>
                <a:cubicBezTo>
                  <a:pt x="37027" y="59873"/>
                  <a:pt x="37027" y="59873"/>
                  <a:pt x="34313" y="63678"/>
                </a:cubicBezTo>
                <a:cubicBezTo>
                  <a:pt x="34313" y="63678"/>
                  <a:pt x="34313" y="67484"/>
                  <a:pt x="34313" y="71035"/>
                </a:cubicBezTo>
                <a:cubicBezTo>
                  <a:pt x="56995" y="100972"/>
                  <a:pt x="56995" y="100972"/>
                  <a:pt x="56995" y="100972"/>
                </a:cubicBezTo>
                <a:lnTo>
                  <a:pt x="59903" y="100972"/>
                </a:lnTo>
                <a:lnTo>
                  <a:pt x="62810" y="100972"/>
                </a:lnTo>
                <a:cubicBezTo>
                  <a:pt x="85492" y="71035"/>
                  <a:pt x="85492" y="71035"/>
                  <a:pt x="85492" y="71035"/>
                </a:cubicBezTo>
                <a:cubicBezTo>
                  <a:pt x="85492" y="67484"/>
                  <a:pt x="85492" y="63678"/>
                  <a:pt x="85492" y="63678"/>
                </a:cubicBezTo>
                <a:cubicBezTo>
                  <a:pt x="82778" y="59873"/>
                  <a:pt x="82778" y="59873"/>
                  <a:pt x="79870" y="63678"/>
                </a:cubicBezTo>
                <a:close/>
                <a:moveTo>
                  <a:pt x="85492" y="26384"/>
                </a:moveTo>
                <a:lnTo>
                  <a:pt x="85492" y="26384"/>
                </a:lnTo>
                <a:cubicBezTo>
                  <a:pt x="79870" y="11416"/>
                  <a:pt x="68432" y="0"/>
                  <a:pt x="56995" y="0"/>
                </a:cubicBezTo>
                <a:cubicBezTo>
                  <a:pt x="37027" y="0"/>
                  <a:pt x="22875" y="18773"/>
                  <a:pt x="22875" y="41099"/>
                </a:cubicBezTo>
                <a:cubicBezTo>
                  <a:pt x="8529" y="48710"/>
                  <a:pt x="0" y="63678"/>
                  <a:pt x="0" y="82452"/>
                </a:cubicBezTo>
                <a:cubicBezTo>
                  <a:pt x="0" y="100972"/>
                  <a:pt x="11437" y="119746"/>
                  <a:pt x="28497" y="119746"/>
                </a:cubicBezTo>
                <a:cubicBezTo>
                  <a:pt x="94216" y="119746"/>
                  <a:pt x="94216" y="119746"/>
                  <a:pt x="94216" y="119746"/>
                </a:cubicBezTo>
                <a:cubicBezTo>
                  <a:pt x="108368" y="112135"/>
                  <a:pt x="119806" y="93615"/>
                  <a:pt x="119806" y="74841"/>
                </a:cubicBezTo>
                <a:cubicBezTo>
                  <a:pt x="119806" y="48710"/>
                  <a:pt x="105654" y="26384"/>
                  <a:pt x="85492" y="26384"/>
                </a:cubicBezTo>
                <a:close/>
                <a:moveTo>
                  <a:pt x="94216" y="112135"/>
                </a:moveTo>
                <a:lnTo>
                  <a:pt x="94216" y="112135"/>
                </a:lnTo>
                <a:cubicBezTo>
                  <a:pt x="28497" y="112135"/>
                  <a:pt x="28497" y="112135"/>
                  <a:pt x="28497" y="112135"/>
                </a:cubicBezTo>
                <a:cubicBezTo>
                  <a:pt x="28497" y="112135"/>
                  <a:pt x="5621" y="108583"/>
                  <a:pt x="5621" y="82452"/>
                </a:cubicBezTo>
                <a:cubicBezTo>
                  <a:pt x="5621" y="67484"/>
                  <a:pt x="17059" y="52515"/>
                  <a:pt x="28497" y="52515"/>
                </a:cubicBezTo>
                <a:cubicBezTo>
                  <a:pt x="28497" y="29936"/>
                  <a:pt x="39935" y="11416"/>
                  <a:pt x="56995" y="11416"/>
                </a:cubicBezTo>
                <a:cubicBezTo>
                  <a:pt x="68432" y="11416"/>
                  <a:pt x="77156" y="22579"/>
                  <a:pt x="79870" y="37547"/>
                </a:cubicBezTo>
                <a:cubicBezTo>
                  <a:pt x="99838" y="33742"/>
                  <a:pt x="111276" y="56067"/>
                  <a:pt x="114184" y="71035"/>
                </a:cubicBezTo>
                <a:cubicBezTo>
                  <a:pt x="114184" y="86004"/>
                  <a:pt x="105654" y="104778"/>
                  <a:pt x="94216" y="112135"/>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6" name="Shape 4598"/>
          <p:cNvSpPr/>
          <p:nvPr/>
        </p:nvSpPr>
        <p:spPr>
          <a:xfrm>
            <a:off x="8404200" y="4524480"/>
            <a:ext cx="304920" cy="306360"/>
          </a:xfrm>
          <a:custGeom>
            <a:avLst/>
            <a:gdLst>
              <a:gd name="textAreaLeft" fmla="*/ 0 w 304920"/>
              <a:gd name="textAreaRight" fmla="*/ 305280 w 304920"/>
              <a:gd name="textAreaTop" fmla="*/ 0 h 306360"/>
              <a:gd name="textAreaBottom" fmla="*/ 306720 h 306360"/>
            </a:gdLst>
            <a:ahLst/>
            <a:rect l="textAreaLeft" t="textAreaTop" r="textAreaRight" b="textAreaBottom"/>
            <a:pathLst>
              <a:path w="120000" h="120000">
                <a:moveTo>
                  <a:pt x="69652" y="47433"/>
                </a:moveTo>
                <a:lnTo>
                  <a:pt x="69652" y="47433"/>
                </a:lnTo>
                <a:cubicBezTo>
                  <a:pt x="52807" y="47433"/>
                  <a:pt x="52807" y="47433"/>
                  <a:pt x="52807" y="47433"/>
                </a:cubicBezTo>
                <a:cubicBezTo>
                  <a:pt x="52807" y="33448"/>
                  <a:pt x="52807" y="33448"/>
                  <a:pt x="52807" y="33448"/>
                </a:cubicBezTo>
                <a:cubicBezTo>
                  <a:pt x="52807" y="30614"/>
                  <a:pt x="52807" y="27968"/>
                  <a:pt x="50157" y="27968"/>
                </a:cubicBezTo>
                <a:cubicBezTo>
                  <a:pt x="47318" y="27968"/>
                  <a:pt x="47318" y="30614"/>
                  <a:pt x="47318" y="33448"/>
                </a:cubicBezTo>
                <a:cubicBezTo>
                  <a:pt x="47318" y="47433"/>
                  <a:pt x="47318" y="47433"/>
                  <a:pt x="47318" y="47433"/>
                </a:cubicBezTo>
                <a:cubicBezTo>
                  <a:pt x="30662" y="47433"/>
                  <a:pt x="30662" y="47433"/>
                  <a:pt x="30662" y="47433"/>
                </a:cubicBezTo>
                <a:cubicBezTo>
                  <a:pt x="30662" y="47433"/>
                  <a:pt x="27823" y="47433"/>
                  <a:pt x="27823" y="50267"/>
                </a:cubicBezTo>
                <a:cubicBezTo>
                  <a:pt x="27823" y="52913"/>
                  <a:pt x="30662" y="55748"/>
                  <a:pt x="30662" y="55748"/>
                </a:cubicBezTo>
                <a:cubicBezTo>
                  <a:pt x="47318" y="55748"/>
                  <a:pt x="47318" y="55748"/>
                  <a:pt x="47318" y="55748"/>
                </a:cubicBezTo>
                <a:cubicBezTo>
                  <a:pt x="47318" y="69732"/>
                  <a:pt x="47318" y="69732"/>
                  <a:pt x="47318" y="69732"/>
                </a:cubicBezTo>
                <a:cubicBezTo>
                  <a:pt x="47318" y="72377"/>
                  <a:pt x="47318" y="72377"/>
                  <a:pt x="50157" y="72377"/>
                </a:cubicBezTo>
                <a:cubicBezTo>
                  <a:pt x="52807" y="72377"/>
                  <a:pt x="52807" y="72377"/>
                  <a:pt x="52807" y="69732"/>
                </a:cubicBezTo>
                <a:cubicBezTo>
                  <a:pt x="52807" y="55748"/>
                  <a:pt x="52807" y="55748"/>
                  <a:pt x="52807" y="55748"/>
                </a:cubicBezTo>
                <a:cubicBezTo>
                  <a:pt x="69652" y="55748"/>
                  <a:pt x="69652" y="55748"/>
                  <a:pt x="69652" y="55748"/>
                </a:cubicBezTo>
                <a:cubicBezTo>
                  <a:pt x="69652" y="55748"/>
                  <a:pt x="72492" y="52913"/>
                  <a:pt x="72492" y="50267"/>
                </a:cubicBezTo>
                <a:cubicBezTo>
                  <a:pt x="72492" y="47433"/>
                  <a:pt x="69652" y="47433"/>
                  <a:pt x="69652" y="47433"/>
                </a:cubicBezTo>
                <a:close/>
                <a:moveTo>
                  <a:pt x="116971" y="114141"/>
                </a:moveTo>
                <a:lnTo>
                  <a:pt x="116971" y="114141"/>
                </a:lnTo>
                <a:cubicBezTo>
                  <a:pt x="86309" y="83527"/>
                  <a:pt x="86309" y="83527"/>
                  <a:pt x="86309" y="83527"/>
                </a:cubicBezTo>
                <a:cubicBezTo>
                  <a:pt x="94637" y="75212"/>
                  <a:pt x="100315" y="64062"/>
                  <a:pt x="100315" y="50267"/>
                </a:cubicBezTo>
                <a:cubicBezTo>
                  <a:pt x="100315" y="22299"/>
                  <a:pt x="77981" y="0"/>
                  <a:pt x="50157" y="0"/>
                </a:cubicBezTo>
                <a:cubicBezTo>
                  <a:pt x="22145" y="0"/>
                  <a:pt x="0" y="22299"/>
                  <a:pt x="0" y="50267"/>
                </a:cubicBezTo>
                <a:cubicBezTo>
                  <a:pt x="0" y="78047"/>
                  <a:pt x="22145" y="100157"/>
                  <a:pt x="50157" y="100157"/>
                </a:cubicBezTo>
                <a:cubicBezTo>
                  <a:pt x="61324" y="100157"/>
                  <a:pt x="72492" y="94677"/>
                  <a:pt x="80630" y="89196"/>
                </a:cubicBezTo>
                <a:cubicBezTo>
                  <a:pt x="111293" y="119811"/>
                  <a:pt x="111293" y="119811"/>
                  <a:pt x="111293" y="119811"/>
                </a:cubicBezTo>
                <a:cubicBezTo>
                  <a:pt x="114132" y="119811"/>
                  <a:pt x="116971" y="119811"/>
                  <a:pt x="116971" y="119811"/>
                </a:cubicBezTo>
                <a:cubicBezTo>
                  <a:pt x="119810" y="116976"/>
                  <a:pt x="119810" y="114141"/>
                  <a:pt x="116971" y="114141"/>
                </a:cubicBezTo>
                <a:close/>
                <a:moveTo>
                  <a:pt x="50157" y="92031"/>
                </a:moveTo>
                <a:lnTo>
                  <a:pt x="50157" y="92031"/>
                </a:lnTo>
                <a:cubicBezTo>
                  <a:pt x="27823" y="92031"/>
                  <a:pt x="8328" y="72377"/>
                  <a:pt x="8328" y="50267"/>
                </a:cubicBezTo>
                <a:cubicBezTo>
                  <a:pt x="8328" y="27968"/>
                  <a:pt x="27823" y="8503"/>
                  <a:pt x="50157" y="8503"/>
                </a:cubicBezTo>
                <a:cubicBezTo>
                  <a:pt x="72492" y="8503"/>
                  <a:pt x="91798" y="27968"/>
                  <a:pt x="91798" y="50267"/>
                </a:cubicBezTo>
                <a:cubicBezTo>
                  <a:pt x="91798" y="72377"/>
                  <a:pt x="72492" y="92031"/>
                  <a:pt x="50157" y="92031"/>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7" name="Shape 4600"/>
          <p:cNvSpPr/>
          <p:nvPr/>
        </p:nvSpPr>
        <p:spPr>
          <a:xfrm>
            <a:off x="7421400" y="4524480"/>
            <a:ext cx="306720" cy="306360"/>
          </a:xfrm>
          <a:custGeom>
            <a:avLst/>
            <a:gdLst>
              <a:gd name="textAreaLeft" fmla="*/ 0 w 306720"/>
              <a:gd name="textAreaRight" fmla="*/ 307080 w 306720"/>
              <a:gd name="textAreaTop" fmla="*/ 0 h 306360"/>
              <a:gd name="textAreaBottom" fmla="*/ 306720 h 306360"/>
            </a:gdLst>
            <a:ahLst/>
            <a:rect l="textAreaLeft" t="textAreaTop" r="textAreaRight" b="textAreaBottom"/>
            <a:pathLst>
              <a:path w="120000" h="120000">
                <a:moveTo>
                  <a:pt x="5678" y="44598"/>
                </a:moveTo>
                <a:lnTo>
                  <a:pt x="5678" y="44598"/>
                </a:lnTo>
                <a:cubicBezTo>
                  <a:pt x="41829" y="44598"/>
                  <a:pt x="41829" y="44598"/>
                  <a:pt x="41829" y="44598"/>
                </a:cubicBezTo>
                <a:cubicBezTo>
                  <a:pt x="44668" y="44598"/>
                  <a:pt x="44668" y="44598"/>
                  <a:pt x="44668" y="41763"/>
                </a:cubicBezTo>
                <a:cubicBezTo>
                  <a:pt x="44668" y="39118"/>
                  <a:pt x="44668" y="39118"/>
                  <a:pt x="41829" y="39118"/>
                </a:cubicBezTo>
                <a:cubicBezTo>
                  <a:pt x="14006" y="39118"/>
                  <a:pt x="14006" y="39118"/>
                  <a:pt x="14006" y="39118"/>
                </a:cubicBezTo>
                <a:cubicBezTo>
                  <a:pt x="22334" y="19653"/>
                  <a:pt x="39179" y="8503"/>
                  <a:pt x="61324" y="8503"/>
                </a:cubicBezTo>
                <a:cubicBezTo>
                  <a:pt x="86498" y="8503"/>
                  <a:pt x="108643" y="27968"/>
                  <a:pt x="111482" y="52913"/>
                </a:cubicBezTo>
                <a:cubicBezTo>
                  <a:pt x="119810" y="52913"/>
                  <a:pt x="119810" y="52913"/>
                  <a:pt x="119810" y="52913"/>
                </a:cubicBezTo>
                <a:cubicBezTo>
                  <a:pt x="117160" y="22299"/>
                  <a:pt x="91987" y="0"/>
                  <a:pt x="61324" y="0"/>
                </a:cubicBezTo>
                <a:cubicBezTo>
                  <a:pt x="39179" y="0"/>
                  <a:pt x="19495" y="13984"/>
                  <a:pt x="8328" y="30614"/>
                </a:cubicBezTo>
                <a:cubicBezTo>
                  <a:pt x="8328" y="5669"/>
                  <a:pt x="8328" y="5669"/>
                  <a:pt x="8328" y="5669"/>
                </a:cubicBezTo>
                <a:cubicBezTo>
                  <a:pt x="8328" y="2834"/>
                  <a:pt x="5678" y="0"/>
                  <a:pt x="5678" y="0"/>
                </a:cubicBezTo>
                <a:cubicBezTo>
                  <a:pt x="2839" y="0"/>
                  <a:pt x="0" y="2834"/>
                  <a:pt x="0" y="5669"/>
                </a:cubicBezTo>
                <a:cubicBezTo>
                  <a:pt x="0" y="41763"/>
                  <a:pt x="0" y="41763"/>
                  <a:pt x="0" y="41763"/>
                </a:cubicBezTo>
                <a:cubicBezTo>
                  <a:pt x="0" y="44598"/>
                  <a:pt x="5678" y="44598"/>
                  <a:pt x="5678" y="44598"/>
                </a:cubicBezTo>
                <a:close/>
                <a:moveTo>
                  <a:pt x="117160" y="75212"/>
                </a:moveTo>
                <a:lnTo>
                  <a:pt x="117160" y="75212"/>
                </a:lnTo>
                <a:cubicBezTo>
                  <a:pt x="77981" y="75212"/>
                  <a:pt x="77981" y="75212"/>
                  <a:pt x="77981" y="75212"/>
                </a:cubicBezTo>
                <a:lnTo>
                  <a:pt x="75331" y="78047"/>
                </a:lnTo>
                <a:cubicBezTo>
                  <a:pt x="75331" y="80881"/>
                  <a:pt x="77981" y="83527"/>
                  <a:pt x="77981" y="83527"/>
                </a:cubicBezTo>
                <a:cubicBezTo>
                  <a:pt x="108643" y="83527"/>
                  <a:pt x="108643" y="83527"/>
                  <a:pt x="108643" y="83527"/>
                </a:cubicBezTo>
                <a:cubicBezTo>
                  <a:pt x="100315" y="100157"/>
                  <a:pt x="80820" y="111307"/>
                  <a:pt x="61324" y="111307"/>
                </a:cubicBezTo>
                <a:cubicBezTo>
                  <a:pt x="33501" y="111307"/>
                  <a:pt x="14006" y="92031"/>
                  <a:pt x="8328" y="66897"/>
                </a:cubicBezTo>
                <a:cubicBezTo>
                  <a:pt x="2839" y="66897"/>
                  <a:pt x="2839" y="66897"/>
                  <a:pt x="2839" y="66897"/>
                </a:cubicBezTo>
                <a:cubicBezTo>
                  <a:pt x="5678" y="97511"/>
                  <a:pt x="30662" y="119811"/>
                  <a:pt x="61324" y="119811"/>
                </a:cubicBezTo>
                <a:cubicBezTo>
                  <a:pt x="83659" y="119811"/>
                  <a:pt x="103154" y="108661"/>
                  <a:pt x="111482" y="89196"/>
                </a:cubicBezTo>
                <a:cubicBezTo>
                  <a:pt x="111482" y="116976"/>
                  <a:pt x="111482" y="116976"/>
                  <a:pt x="111482" y="116976"/>
                </a:cubicBezTo>
                <a:cubicBezTo>
                  <a:pt x="111482" y="116976"/>
                  <a:pt x="114321" y="119811"/>
                  <a:pt x="117160" y="119811"/>
                </a:cubicBezTo>
                <a:lnTo>
                  <a:pt x="119810" y="116976"/>
                </a:lnTo>
                <a:cubicBezTo>
                  <a:pt x="119810" y="78047"/>
                  <a:pt x="119810" y="78047"/>
                  <a:pt x="119810" y="78047"/>
                </a:cubicBezTo>
                <a:cubicBezTo>
                  <a:pt x="119810" y="75212"/>
                  <a:pt x="117160" y="75212"/>
                  <a:pt x="117160" y="7521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8" name="Shape 4602"/>
          <p:cNvSpPr/>
          <p:nvPr/>
        </p:nvSpPr>
        <p:spPr>
          <a:xfrm>
            <a:off x="6445080" y="4524480"/>
            <a:ext cx="297000" cy="306360"/>
          </a:xfrm>
          <a:custGeom>
            <a:avLst/>
            <a:gdLst>
              <a:gd name="textAreaLeft" fmla="*/ 0 w 297000"/>
              <a:gd name="textAreaRight" fmla="*/ 297360 w 297000"/>
              <a:gd name="textAreaTop" fmla="*/ 0 h 306360"/>
              <a:gd name="textAreaBottom" fmla="*/ 306720 h 306360"/>
            </a:gdLst>
            <a:ahLst/>
            <a:rect l="textAreaLeft" t="textAreaTop" r="textAreaRight" b="textAreaBottom"/>
            <a:pathLst>
              <a:path w="120000" h="120000">
                <a:moveTo>
                  <a:pt x="59903" y="0"/>
                </a:moveTo>
                <a:lnTo>
                  <a:pt x="59903" y="0"/>
                </a:lnTo>
                <a:cubicBezTo>
                  <a:pt x="25589" y="0"/>
                  <a:pt x="0" y="27968"/>
                  <a:pt x="0" y="61417"/>
                </a:cubicBezTo>
                <a:cubicBezTo>
                  <a:pt x="0" y="92031"/>
                  <a:pt x="25589" y="119811"/>
                  <a:pt x="59903" y="119811"/>
                </a:cubicBezTo>
                <a:cubicBezTo>
                  <a:pt x="94216" y="119811"/>
                  <a:pt x="119806" y="92031"/>
                  <a:pt x="119806" y="61417"/>
                </a:cubicBezTo>
                <a:cubicBezTo>
                  <a:pt x="119806" y="27968"/>
                  <a:pt x="94216" y="0"/>
                  <a:pt x="59903" y="0"/>
                </a:cubicBezTo>
                <a:close/>
                <a:moveTo>
                  <a:pt x="59903" y="111307"/>
                </a:moveTo>
                <a:lnTo>
                  <a:pt x="59903" y="111307"/>
                </a:lnTo>
                <a:cubicBezTo>
                  <a:pt x="31405" y="111307"/>
                  <a:pt x="5621" y="89196"/>
                  <a:pt x="5621" y="61417"/>
                </a:cubicBezTo>
                <a:cubicBezTo>
                  <a:pt x="5621" y="30614"/>
                  <a:pt x="31405" y="8503"/>
                  <a:pt x="59903" y="8503"/>
                </a:cubicBezTo>
                <a:cubicBezTo>
                  <a:pt x="88400" y="8503"/>
                  <a:pt x="114184" y="30614"/>
                  <a:pt x="114184" y="61417"/>
                </a:cubicBezTo>
                <a:cubicBezTo>
                  <a:pt x="114184" y="89196"/>
                  <a:pt x="88400" y="111307"/>
                  <a:pt x="59903" y="111307"/>
                </a:cubicBezTo>
                <a:close/>
                <a:moveTo>
                  <a:pt x="82778" y="33448"/>
                </a:moveTo>
                <a:lnTo>
                  <a:pt x="82778" y="33448"/>
                </a:lnTo>
                <a:cubicBezTo>
                  <a:pt x="79870" y="33448"/>
                  <a:pt x="79870" y="33448"/>
                  <a:pt x="76962" y="36283"/>
                </a:cubicBezTo>
                <a:cubicBezTo>
                  <a:pt x="54281" y="78047"/>
                  <a:pt x="54281" y="78047"/>
                  <a:pt x="54281" y="78047"/>
                </a:cubicBezTo>
                <a:cubicBezTo>
                  <a:pt x="39935" y="64062"/>
                  <a:pt x="39935" y="64062"/>
                  <a:pt x="39935" y="64062"/>
                </a:cubicBezTo>
                <a:cubicBezTo>
                  <a:pt x="37027" y="64062"/>
                  <a:pt x="37027" y="64062"/>
                  <a:pt x="34313" y="64062"/>
                </a:cubicBezTo>
                <a:cubicBezTo>
                  <a:pt x="31405" y="66897"/>
                  <a:pt x="31405" y="69732"/>
                  <a:pt x="34313" y="69732"/>
                </a:cubicBezTo>
                <a:cubicBezTo>
                  <a:pt x="51373" y="86362"/>
                  <a:pt x="51373" y="86362"/>
                  <a:pt x="51373" y="86362"/>
                </a:cubicBezTo>
                <a:cubicBezTo>
                  <a:pt x="54281" y="86362"/>
                  <a:pt x="54281" y="86362"/>
                  <a:pt x="56995" y="86362"/>
                </a:cubicBezTo>
                <a:lnTo>
                  <a:pt x="85492" y="39118"/>
                </a:lnTo>
                <a:cubicBezTo>
                  <a:pt x="85492" y="39118"/>
                  <a:pt x="85492" y="36283"/>
                  <a:pt x="82778" y="33448"/>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9" name="Shape 4604"/>
          <p:cNvSpPr/>
          <p:nvPr/>
        </p:nvSpPr>
        <p:spPr>
          <a:xfrm>
            <a:off x="10366200" y="403704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83659" y="55646"/>
                </a:moveTo>
                <a:lnTo>
                  <a:pt x="83659" y="55646"/>
                </a:lnTo>
                <a:cubicBezTo>
                  <a:pt x="39179" y="55646"/>
                  <a:pt x="39179" y="55646"/>
                  <a:pt x="39179" y="55646"/>
                </a:cubicBezTo>
                <a:cubicBezTo>
                  <a:pt x="36340" y="55646"/>
                  <a:pt x="33501" y="58485"/>
                  <a:pt x="33501" y="58485"/>
                </a:cubicBezTo>
                <a:cubicBezTo>
                  <a:pt x="33501" y="61324"/>
                  <a:pt x="36340" y="63974"/>
                  <a:pt x="39179" y="63974"/>
                </a:cubicBezTo>
                <a:cubicBezTo>
                  <a:pt x="83659" y="63974"/>
                  <a:pt x="83659" y="63974"/>
                  <a:pt x="83659" y="63974"/>
                </a:cubicBezTo>
                <a:cubicBezTo>
                  <a:pt x="83659" y="63974"/>
                  <a:pt x="86498" y="61324"/>
                  <a:pt x="86498" y="58485"/>
                </a:cubicBezTo>
                <a:lnTo>
                  <a:pt x="83659" y="55646"/>
                </a:lnTo>
                <a:close/>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517" y="89148"/>
                  <a:pt x="8517" y="58485"/>
                </a:cubicBezTo>
                <a:cubicBezTo>
                  <a:pt x="8517" y="30662"/>
                  <a:pt x="30662" y="8328"/>
                  <a:pt x="61324" y="8328"/>
                </a:cubicBezTo>
                <a:cubicBezTo>
                  <a:pt x="89148" y="8328"/>
                  <a:pt x="111482" y="30662"/>
                  <a:pt x="111482" y="58485"/>
                </a:cubicBezTo>
                <a:cubicBezTo>
                  <a:pt x="111482" y="89148"/>
                  <a:pt x="89148" y="111482"/>
                  <a:pt x="61324" y="11148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0" name="Shape 4606"/>
          <p:cNvSpPr/>
          <p:nvPr/>
        </p:nvSpPr>
        <p:spPr>
          <a:xfrm>
            <a:off x="9388440" y="403704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79870" y="58485"/>
                </a:moveTo>
                <a:lnTo>
                  <a:pt x="79870" y="58485"/>
                </a:lnTo>
                <a:cubicBezTo>
                  <a:pt x="62810" y="72492"/>
                  <a:pt x="62810" y="72492"/>
                  <a:pt x="62810" y="72492"/>
                </a:cubicBezTo>
                <a:cubicBezTo>
                  <a:pt x="62810" y="33312"/>
                  <a:pt x="62810" y="33312"/>
                  <a:pt x="62810" y="33312"/>
                </a:cubicBezTo>
                <a:cubicBezTo>
                  <a:pt x="62810" y="30662"/>
                  <a:pt x="62810" y="30662"/>
                  <a:pt x="59903" y="30662"/>
                </a:cubicBezTo>
                <a:cubicBezTo>
                  <a:pt x="56995" y="30662"/>
                  <a:pt x="56995" y="30662"/>
                  <a:pt x="56995" y="33312"/>
                </a:cubicBezTo>
                <a:cubicBezTo>
                  <a:pt x="56995" y="72492"/>
                  <a:pt x="56995" y="72492"/>
                  <a:pt x="56995" y="72492"/>
                </a:cubicBezTo>
                <a:cubicBezTo>
                  <a:pt x="39935" y="58485"/>
                  <a:pt x="39935" y="58485"/>
                  <a:pt x="39935" y="58485"/>
                </a:cubicBezTo>
                <a:cubicBezTo>
                  <a:pt x="39935" y="55646"/>
                  <a:pt x="37027" y="55646"/>
                  <a:pt x="34313" y="58485"/>
                </a:cubicBezTo>
                <a:cubicBezTo>
                  <a:pt x="34313" y="58485"/>
                  <a:pt x="34313" y="61324"/>
                  <a:pt x="34313" y="63974"/>
                </a:cubicBezTo>
                <a:cubicBezTo>
                  <a:pt x="56995" y="83659"/>
                  <a:pt x="56995" y="83659"/>
                  <a:pt x="56995" y="83659"/>
                </a:cubicBezTo>
                <a:lnTo>
                  <a:pt x="59903" y="83659"/>
                </a:lnTo>
                <a:lnTo>
                  <a:pt x="62810" y="83659"/>
                </a:lnTo>
                <a:cubicBezTo>
                  <a:pt x="85492" y="63974"/>
                  <a:pt x="85492" y="63974"/>
                  <a:pt x="85492" y="63974"/>
                </a:cubicBezTo>
                <a:cubicBezTo>
                  <a:pt x="85492" y="61324"/>
                  <a:pt x="85492" y="58485"/>
                  <a:pt x="85492" y="58485"/>
                </a:cubicBezTo>
                <a:cubicBezTo>
                  <a:pt x="82778" y="55646"/>
                  <a:pt x="79870" y="55646"/>
                  <a:pt x="79870" y="58485"/>
                </a:cubicBez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1" name="Shape 4608"/>
          <p:cNvSpPr/>
          <p:nvPr/>
        </p:nvSpPr>
        <p:spPr>
          <a:xfrm>
            <a:off x="8404200" y="403704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2" name="Shape 4610"/>
          <p:cNvSpPr/>
          <p:nvPr/>
        </p:nvSpPr>
        <p:spPr>
          <a:xfrm>
            <a:off x="7421400" y="4037040"/>
            <a:ext cx="306720" cy="304920"/>
          </a:xfrm>
          <a:custGeom>
            <a:avLst/>
            <a:gdLst>
              <a:gd name="textAreaLeft" fmla="*/ 0 w 306720"/>
              <a:gd name="textAreaRight" fmla="*/ 307080 w 3067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328" y="89148"/>
                  <a:pt x="8328" y="58485"/>
                </a:cubicBezTo>
                <a:cubicBezTo>
                  <a:pt x="8328" y="30662"/>
                  <a:pt x="30662" y="8328"/>
                  <a:pt x="61324" y="8328"/>
                </a:cubicBezTo>
                <a:cubicBezTo>
                  <a:pt x="89148" y="8328"/>
                  <a:pt x="111482" y="30662"/>
                  <a:pt x="111482" y="58485"/>
                </a:cubicBezTo>
                <a:cubicBezTo>
                  <a:pt x="111482" y="89148"/>
                  <a:pt x="89148" y="111482"/>
                  <a:pt x="61324" y="111482"/>
                </a:cubicBezTo>
                <a:close/>
                <a:moveTo>
                  <a:pt x="86498" y="41829"/>
                </a:moveTo>
                <a:lnTo>
                  <a:pt x="86498" y="41829"/>
                </a:lnTo>
                <a:cubicBezTo>
                  <a:pt x="61324" y="69652"/>
                  <a:pt x="61324" y="69652"/>
                  <a:pt x="61324" y="69652"/>
                </a:cubicBezTo>
                <a:cubicBezTo>
                  <a:pt x="33501" y="41829"/>
                  <a:pt x="33501" y="41829"/>
                  <a:pt x="33501" y="41829"/>
                </a:cubicBezTo>
                <a:cubicBezTo>
                  <a:pt x="33501" y="41829"/>
                  <a:pt x="30662" y="41829"/>
                  <a:pt x="28012" y="41829"/>
                </a:cubicBezTo>
                <a:cubicBezTo>
                  <a:pt x="28012" y="44479"/>
                  <a:pt x="28012" y="47318"/>
                  <a:pt x="28012" y="47318"/>
                </a:cubicBezTo>
                <a:cubicBezTo>
                  <a:pt x="55835" y="75141"/>
                  <a:pt x="55835" y="75141"/>
                  <a:pt x="55835" y="75141"/>
                </a:cubicBezTo>
                <a:cubicBezTo>
                  <a:pt x="58675" y="77981"/>
                  <a:pt x="58675" y="77981"/>
                  <a:pt x="61324" y="77981"/>
                </a:cubicBezTo>
                <a:cubicBezTo>
                  <a:pt x="61324" y="77981"/>
                  <a:pt x="64164" y="77981"/>
                  <a:pt x="64164" y="75141"/>
                </a:cubicBezTo>
                <a:cubicBezTo>
                  <a:pt x="91987" y="47318"/>
                  <a:pt x="91987" y="47318"/>
                  <a:pt x="91987" y="47318"/>
                </a:cubicBezTo>
                <a:cubicBezTo>
                  <a:pt x="94826" y="47318"/>
                  <a:pt x="94826" y="44479"/>
                  <a:pt x="91987" y="41829"/>
                </a:cubicBezTo>
                <a:cubicBezTo>
                  <a:pt x="91987" y="41829"/>
                  <a:pt x="89148" y="41829"/>
                  <a:pt x="86498" y="4182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3" name="Shape 4612"/>
          <p:cNvSpPr/>
          <p:nvPr/>
        </p:nvSpPr>
        <p:spPr>
          <a:xfrm>
            <a:off x="6445080" y="403704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76962" y="55646"/>
                </a:moveTo>
                <a:lnTo>
                  <a:pt x="76962" y="55646"/>
                </a:lnTo>
                <a:cubicBezTo>
                  <a:pt x="48465" y="27823"/>
                  <a:pt x="48465" y="27823"/>
                  <a:pt x="48465" y="27823"/>
                </a:cubicBezTo>
                <a:cubicBezTo>
                  <a:pt x="45557" y="24984"/>
                  <a:pt x="42843" y="24984"/>
                  <a:pt x="42843" y="27823"/>
                </a:cubicBezTo>
                <a:cubicBezTo>
                  <a:pt x="39935" y="27823"/>
                  <a:pt x="39935" y="30662"/>
                  <a:pt x="42843" y="33312"/>
                </a:cubicBezTo>
                <a:cubicBezTo>
                  <a:pt x="68432" y="58485"/>
                  <a:pt x="68432" y="58485"/>
                  <a:pt x="68432" y="58485"/>
                </a:cubicBezTo>
                <a:cubicBezTo>
                  <a:pt x="42843" y="86309"/>
                  <a:pt x="42843" y="86309"/>
                  <a:pt x="42843" y="86309"/>
                </a:cubicBezTo>
                <a:cubicBezTo>
                  <a:pt x="39935" y="86309"/>
                  <a:pt x="39935" y="89148"/>
                  <a:pt x="42843" y="91798"/>
                </a:cubicBezTo>
                <a:cubicBezTo>
                  <a:pt x="42843" y="91798"/>
                  <a:pt x="45557" y="91798"/>
                  <a:pt x="48465" y="91798"/>
                </a:cubicBezTo>
                <a:cubicBezTo>
                  <a:pt x="76962" y="63974"/>
                  <a:pt x="76962" y="63974"/>
                  <a:pt x="76962" y="63974"/>
                </a:cubicBezTo>
                <a:cubicBezTo>
                  <a:pt x="76962" y="61324"/>
                  <a:pt x="76962" y="61324"/>
                  <a:pt x="76962" y="58485"/>
                </a:cubicBezTo>
                <a:lnTo>
                  <a:pt x="76962" y="55646"/>
                </a:ln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4" name="Shape 4614"/>
          <p:cNvSpPr/>
          <p:nvPr/>
        </p:nvSpPr>
        <p:spPr>
          <a:xfrm>
            <a:off x="10366200" y="3562200"/>
            <a:ext cx="309600" cy="254160"/>
          </a:xfrm>
          <a:custGeom>
            <a:avLst/>
            <a:gdLst>
              <a:gd name="textAreaLeft" fmla="*/ 0 w 309600"/>
              <a:gd name="textAreaRight" fmla="*/ 309960 w 309600"/>
              <a:gd name="textAreaTop" fmla="*/ 0 h 254160"/>
              <a:gd name="textAreaBottom" fmla="*/ 254520 h 254160"/>
            </a:gdLst>
            <a:ahLst/>
            <a:rect l="textAreaLeft" t="textAreaTop" r="textAreaRight" b="textAreaBottom"/>
            <a:pathLst>
              <a:path w="120000" h="120000">
                <a:moveTo>
                  <a:pt x="111679" y="6779"/>
                </a:moveTo>
                <a:lnTo>
                  <a:pt x="111679" y="6779"/>
                </a:lnTo>
                <a:cubicBezTo>
                  <a:pt x="106317" y="0"/>
                  <a:pt x="97996" y="0"/>
                  <a:pt x="92634" y="6779"/>
                </a:cubicBezTo>
                <a:cubicBezTo>
                  <a:pt x="38274" y="73220"/>
                  <a:pt x="38274" y="73220"/>
                  <a:pt x="38274" y="73220"/>
                </a:cubicBezTo>
                <a:cubicBezTo>
                  <a:pt x="27365" y="56723"/>
                  <a:pt x="27365" y="56723"/>
                  <a:pt x="27365" y="56723"/>
                </a:cubicBezTo>
                <a:cubicBezTo>
                  <a:pt x="19044" y="46779"/>
                  <a:pt x="10909" y="46779"/>
                  <a:pt x="5546" y="56723"/>
                </a:cubicBezTo>
                <a:cubicBezTo>
                  <a:pt x="0" y="63276"/>
                  <a:pt x="0" y="73220"/>
                  <a:pt x="5546" y="83389"/>
                </a:cubicBezTo>
                <a:cubicBezTo>
                  <a:pt x="29953" y="109830"/>
                  <a:pt x="29953" y="109830"/>
                  <a:pt x="29953" y="109830"/>
                </a:cubicBezTo>
                <a:cubicBezTo>
                  <a:pt x="35500" y="119774"/>
                  <a:pt x="43636" y="119774"/>
                  <a:pt x="49183" y="109830"/>
                </a:cubicBezTo>
                <a:cubicBezTo>
                  <a:pt x="111679" y="33446"/>
                  <a:pt x="111679" y="33446"/>
                  <a:pt x="111679" y="33446"/>
                </a:cubicBezTo>
                <a:cubicBezTo>
                  <a:pt x="119815" y="26666"/>
                  <a:pt x="119815" y="13333"/>
                  <a:pt x="111679" y="6779"/>
                </a:cubicBezTo>
                <a:close/>
                <a:moveTo>
                  <a:pt x="106317" y="26666"/>
                </a:moveTo>
                <a:lnTo>
                  <a:pt x="106317" y="26666"/>
                </a:lnTo>
                <a:cubicBezTo>
                  <a:pt x="106317" y="26666"/>
                  <a:pt x="46409" y="103276"/>
                  <a:pt x="43636" y="103276"/>
                </a:cubicBezTo>
                <a:cubicBezTo>
                  <a:pt x="40862" y="106440"/>
                  <a:pt x="38274" y="106440"/>
                  <a:pt x="35500" y="103276"/>
                </a:cubicBezTo>
                <a:lnTo>
                  <a:pt x="10909" y="73220"/>
                </a:lnTo>
                <a:cubicBezTo>
                  <a:pt x="8320" y="70056"/>
                  <a:pt x="8320" y="66666"/>
                  <a:pt x="10909" y="63276"/>
                </a:cubicBezTo>
                <a:cubicBezTo>
                  <a:pt x="13682" y="59887"/>
                  <a:pt x="19044" y="59887"/>
                  <a:pt x="21818" y="63276"/>
                </a:cubicBezTo>
                <a:cubicBezTo>
                  <a:pt x="38274" y="83389"/>
                  <a:pt x="38274" y="83389"/>
                  <a:pt x="38274" y="83389"/>
                </a:cubicBezTo>
                <a:cubicBezTo>
                  <a:pt x="97996" y="13333"/>
                  <a:pt x="97996" y="13333"/>
                  <a:pt x="97996" y="13333"/>
                </a:cubicBezTo>
                <a:cubicBezTo>
                  <a:pt x="100770" y="10169"/>
                  <a:pt x="103543" y="10169"/>
                  <a:pt x="106317" y="13333"/>
                </a:cubicBezTo>
                <a:cubicBezTo>
                  <a:pt x="111679" y="16723"/>
                  <a:pt x="111679" y="23276"/>
                  <a:pt x="106317" y="2666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5" name="Shape 4616"/>
          <p:cNvSpPr/>
          <p:nvPr/>
        </p:nvSpPr>
        <p:spPr>
          <a:xfrm>
            <a:off x="9388440" y="3660840"/>
            <a:ext cx="297000" cy="73080"/>
          </a:xfrm>
          <a:custGeom>
            <a:avLst/>
            <a:gdLst>
              <a:gd name="textAreaLeft" fmla="*/ 0 w 297000"/>
              <a:gd name="textAreaRight" fmla="*/ 297360 w 297000"/>
              <a:gd name="textAreaTop" fmla="*/ 0 h 73080"/>
              <a:gd name="textAreaBottom" fmla="*/ 73440 h 73080"/>
            </a:gdLst>
            <a:ahLst/>
            <a:rect l="textAreaLeft" t="textAreaTop" r="textAreaRight" b="textAreaBottom"/>
            <a:pathLst>
              <a:path w="120000" h="120000">
                <a:moveTo>
                  <a:pt x="105654" y="0"/>
                </a:moveTo>
                <a:lnTo>
                  <a:pt x="105654" y="0"/>
                </a:lnTo>
                <a:cubicBezTo>
                  <a:pt x="14151" y="0"/>
                  <a:pt x="14151" y="0"/>
                  <a:pt x="14151" y="0"/>
                </a:cubicBezTo>
                <a:cubicBezTo>
                  <a:pt x="5621" y="0"/>
                  <a:pt x="0" y="23513"/>
                  <a:pt x="0" y="59189"/>
                </a:cubicBezTo>
                <a:cubicBezTo>
                  <a:pt x="0" y="94864"/>
                  <a:pt x="5621" y="119189"/>
                  <a:pt x="14151" y="119189"/>
                </a:cubicBezTo>
                <a:cubicBezTo>
                  <a:pt x="105654" y="119189"/>
                  <a:pt x="105654" y="119189"/>
                  <a:pt x="105654" y="119189"/>
                </a:cubicBezTo>
                <a:cubicBezTo>
                  <a:pt x="114184" y="119189"/>
                  <a:pt x="119806" y="94864"/>
                  <a:pt x="119806" y="59189"/>
                </a:cubicBezTo>
                <a:cubicBezTo>
                  <a:pt x="119806" y="23513"/>
                  <a:pt x="114184" y="0"/>
                  <a:pt x="105654" y="0"/>
                </a:cubicBezTo>
                <a:close/>
                <a:moveTo>
                  <a:pt x="105654" y="94864"/>
                </a:moveTo>
                <a:lnTo>
                  <a:pt x="105654" y="94864"/>
                </a:lnTo>
                <a:cubicBezTo>
                  <a:pt x="14151" y="94864"/>
                  <a:pt x="14151" y="94864"/>
                  <a:pt x="14151" y="94864"/>
                </a:cubicBezTo>
                <a:cubicBezTo>
                  <a:pt x="11437" y="94864"/>
                  <a:pt x="5621" y="71351"/>
                  <a:pt x="5621" y="59189"/>
                </a:cubicBezTo>
                <a:cubicBezTo>
                  <a:pt x="5621" y="47027"/>
                  <a:pt x="11437" y="23513"/>
                  <a:pt x="14151" y="23513"/>
                </a:cubicBezTo>
                <a:cubicBezTo>
                  <a:pt x="105654" y="23513"/>
                  <a:pt x="105654" y="23513"/>
                  <a:pt x="105654" y="23513"/>
                </a:cubicBezTo>
                <a:cubicBezTo>
                  <a:pt x="108368" y="23513"/>
                  <a:pt x="114184" y="47027"/>
                  <a:pt x="114184" y="59189"/>
                </a:cubicBezTo>
                <a:cubicBezTo>
                  <a:pt x="114184" y="71351"/>
                  <a:pt x="108368" y="94864"/>
                  <a:pt x="105654" y="9486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6" name="Shape 4618"/>
          <p:cNvSpPr/>
          <p:nvPr/>
        </p:nvSpPr>
        <p:spPr>
          <a:xfrm>
            <a:off x="8404200" y="3562200"/>
            <a:ext cx="304920" cy="268560"/>
          </a:xfrm>
          <a:custGeom>
            <a:avLst/>
            <a:gdLst>
              <a:gd name="textAreaLeft" fmla="*/ 0 w 304920"/>
              <a:gd name="textAreaRight" fmla="*/ 305280 w 304920"/>
              <a:gd name="textAreaTop" fmla="*/ 0 h 268560"/>
              <a:gd name="textAreaBottom" fmla="*/ 268920 h 268560"/>
            </a:gdLst>
            <a:ahLst/>
            <a:rect l="textAreaLeft" t="textAreaTop" r="textAreaRight" b="textAreaBottom"/>
            <a:pathLst>
              <a:path w="120000" h="120000">
                <a:moveTo>
                  <a:pt x="13817" y="34652"/>
                </a:moveTo>
                <a:lnTo>
                  <a:pt x="13817" y="34652"/>
                </a:lnTo>
                <a:cubicBezTo>
                  <a:pt x="102965" y="34652"/>
                  <a:pt x="102965" y="34652"/>
                  <a:pt x="102965" y="34652"/>
                </a:cubicBezTo>
                <a:cubicBezTo>
                  <a:pt x="111293" y="34652"/>
                  <a:pt x="119810" y="28449"/>
                  <a:pt x="119810" y="19037"/>
                </a:cubicBezTo>
                <a:cubicBezTo>
                  <a:pt x="119810" y="9625"/>
                  <a:pt x="111293" y="0"/>
                  <a:pt x="102965" y="0"/>
                </a:cubicBezTo>
                <a:cubicBezTo>
                  <a:pt x="13817" y="0"/>
                  <a:pt x="13817" y="0"/>
                  <a:pt x="13817" y="0"/>
                </a:cubicBezTo>
                <a:cubicBezTo>
                  <a:pt x="5488" y="0"/>
                  <a:pt x="0" y="9625"/>
                  <a:pt x="0" y="19037"/>
                </a:cubicBezTo>
                <a:cubicBezTo>
                  <a:pt x="0" y="28449"/>
                  <a:pt x="5488" y="34652"/>
                  <a:pt x="13817" y="34652"/>
                </a:cubicBezTo>
                <a:close/>
                <a:moveTo>
                  <a:pt x="13817" y="9625"/>
                </a:moveTo>
                <a:lnTo>
                  <a:pt x="13817" y="9625"/>
                </a:lnTo>
                <a:cubicBezTo>
                  <a:pt x="102965" y="9625"/>
                  <a:pt x="102965" y="9625"/>
                  <a:pt x="102965" y="9625"/>
                </a:cubicBezTo>
                <a:cubicBezTo>
                  <a:pt x="108643" y="9625"/>
                  <a:pt x="111293" y="12620"/>
                  <a:pt x="111293" y="19037"/>
                </a:cubicBezTo>
                <a:cubicBezTo>
                  <a:pt x="111293" y="22032"/>
                  <a:pt x="108643" y="25240"/>
                  <a:pt x="102965" y="25240"/>
                </a:cubicBezTo>
                <a:cubicBezTo>
                  <a:pt x="13817" y="25240"/>
                  <a:pt x="13817" y="25240"/>
                  <a:pt x="13817" y="25240"/>
                </a:cubicBezTo>
                <a:cubicBezTo>
                  <a:pt x="10977" y="25240"/>
                  <a:pt x="8328" y="22032"/>
                  <a:pt x="8328" y="19037"/>
                </a:cubicBezTo>
                <a:cubicBezTo>
                  <a:pt x="8328" y="12620"/>
                  <a:pt x="10977" y="9625"/>
                  <a:pt x="13817" y="9625"/>
                </a:cubicBezTo>
                <a:close/>
                <a:moveTo>
                  <a:pt x="102965" y="44278"/>
                </a:moveTo>
                <a:lnTo>
                  <a:pt x="102965" y="44278"/>
                </a:lnTo>
                <a:cubicBezTo>
                  <a:pt x="13817" y="44278"/>
                  <a:pt x="13817" y="44278"/>
                  <a:pt x="13817" y="44278"/>
                </a:cubicBezTo>
                <a:cubicBezTo>
                  <a:pt x="5488" y="44278"/>
                  <a:pt x="0" y="50481"/>
                  <a:pt x="0" y="59893"/>
                </a:cubicBezTo>
                <a:cubicBezTo>
                  <a:pt x="0" y="69304"/>
                  <a:pt x="5488" y="75721"/>
                  <a:pt x="13817" y="75721"/>
                </a:cubicBezTo>
                <a:cubicBezTo>
                  <a:pt x="102965" y="75721"/>
                  <a:pt x="102965" y="75721"/>
                  <a:pt x="102965" y="75721"/>
                </a:cubicBezTo>
                <a:cubicBezTo>
                  <a:pt x="111293" y="75721"/>
                  <a:pt x="119810" y="69304"/>
                  <a:pt x="119810" y="59893"/>
                </a:cubicBezTo>
                <a:cubicBezTo>
                  <a:pt x="119810" y="50481"/>
                  <a:pt x="111293" y="44278"/>
                  <a:pt x="102965" y="44278"/>
                </a:cubicBezTo>
                <a:close/>
                <a:moveTo>
                  <a:pt x="102965" y="69304"/>
                </a:moveTo>
                <a:lnTo>
                  <a:pt x="102965" y="69304"/>
                </a:lnTo>
                <a:cubicBezTo>
                  <a:pt x="13817" y="69304"/>
                  <a:pt x="13817" y="69304"/>
                  <a:pt x="13817" y="69304"/>
                </a:cubicBezTo>
                <a:cubicBezTo>
                  <a:pt x="10977" y="69304"/>
                  <a:pt x="8328" y="63101"/>
                  <a:pt x="8328" y="59893"/>
                </a:cubicBezTo>
                <a:cubicBezTo>
                  <a:pt x="8328" y="56684"/>
                  <a:pt x="10977" y="50481"/>
                  <a:pt x="13817" y="50481"/>
                </a:cubicBezTo>
                <a:cubicBezTo>
                  <a:pt x="102965" y="50481"/>
                  <a:pt x="102965" y="50481"/>
                  <a:pt x="102965" y="50481"/>
                </a:cubicBezTo>
                <a:cubicBezTo>
                  <a:pt x="108643" y="50481"/>
                  <a:pt x="111293" y="56684"/>
                  <a:pt x="111293" y="59893"/>
                </a:cubicBezTo>
                <a:cubicBezTo>
                  <a:pt x="111293" y="63101"/>
                  <a:pt x="108643" y="69304"/>
                  <a:pt x="102965" y="69304"/>
                </a:cubicBezTo>
                <a:close/>
                <a:moveTo>
                  <a:pt x="102965" y="85133"/>
                </a:moveTo>
                <a:lnTo>
                  <a:pt x="102965" y="85133"/>
                </a:lnTo>
                <a:cubicBezTo>
                  <a:pt x="13817" y="85133"/>
                  <a:pt x="13817" y="85133"/>
                  <a:pt x="13817" y="85133"/>
                </a:cubicBezTo>
                <a:cubicBezTo>
                  <a:pt x="5488" y="85133"/>
                  <a:pt x="0" y="91550"/>
                  <a:pt x="0" y="100748"/>
                </a:cubicBezTo>
                <a:cubicBezTo>
                  <a:pt x="0" y="110374"/>
                  <a:pt x="5488" y="119786"/>
                  <a:pt x="13817" y="119786"/>
                </a:cubicBezTo>
                <a:cubicBezTo>
                  <a:pt x="102965" y="119786"/>
                  <a:pt x="102965" y="119786"/>
                  <a:pt x="102965" y="119786"/>
                </a:cubicBezTo>
                <a:cubicBezTo>
                  <a:pt x="111293" y="119786"/>
                  <a:pt x="119810" y="110374"/>
                  <a:pt x="119810" y="100748"/>
                </a:cubicBezTo>
                <a:cubicBezTo>
                  <a:pt x="119810" y="91550"/>
                  <a:pt x="111293" y="85133"/>
                  <a:pt x="102965" y="85133"/>
                </a:cubicBezTo>
                <a:close/>
                <a:moveTo>
                  <a:pt x="102965" y="110374"/>
                </a:moveTo>
                <a:lnTo>
                  <a:pt x="102965" y="110374"/>
                </a:lnTo>
                <a:cubicBezTo>
                  <a:pt x="13817" y="110374"/>
                  <a:pt x="13817" y="110374"/>
                  <a:pt x="13817" y="110374"/>
                </a:cubicBezTo>
                <a:cubicBezTo>
                  <a:pt x="10977" y="110374"/>
                  <a:pt x="8328" y="107165"/>
                  <a:pt x="8328" y="100748"/>
                </a:cubicBezTo>
                <a:cubicBezTo>
                  <a:pt x="8328" y="97754"/>
                  <a:pt x="10977" y="94545"/>
                  <a:pt x="13817" y="94545"/>
                </a:cubicBezTo>
                <a:cubicBezTo>
                  <a:pt x="102965" y="94545"/>
                  <a:pt x="102965" y="94545"/>
                  <a:pt x="102965" y="94545"/>
                </a:cubicBezTo>
                <a:cubicBezTo>
                  <a:pt x="108643" y="94545"/>
                  <a:pt x="111293" y="97754"/>
                  <a:pt x="111293" y="100748"/>
                </a:cubicBezTo>
                <a:cubicBezTo>
                  <a:pt x="111293" y="107165"/>
                  <a:pt x="108643" y="110374"/>
                  <a:pt x="102965" y="11037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7" name="Shape 4620"/>
          <p:cNvSpPr/>
          <p:nvPr/>
        </p:nvSpPr>
        <p:spPr>
          <a:xfrm>
            <a:off x="7421400" y="3546360"/>
            <a:ext cx="306720" cy="298440"/>
          </a:xfrm>
          <a:custGeom>
            <a:avLst/>
            <a:gdLst>
              <a:gd name="textAreaLeft" fmla="*/ 0 w 306720"/>
              <a:gd name="textAreaRight" fmla="*/ 307080 w 306720"/>
              <a:gd name="textAreaTop" fmla="*/ 0 h 298440"/>
              <a:gd name="textAreaBottom" fmla="*/ 298800 h 298440"/>
            </a:gdLst>
            <a:ahLst/>
            <a:rect l="textAreaLeft" t="textAreaTop" r="textAreaRight" b="textAreaBottom"/>
            <a:pathLst>
              <a:path w="120000" h="120000">
                <a:moveTo>
                  <a:pt x="105993" y="0"/>
                </a:moveTo>
                <a:lnTo>
                  <a:pt x="105993" y="0"/>
                </a:lnTo>
                <a:cubicBezTo>
                  <a:pt x="16845" y="0"/>
                  <a:pt x="16845" y="0"/>
                  <a:pt x="16845" y="0"/>
                </a:cubicBezTo>
                <a:cubicBezTo>
                  <a:pt x="8328" y="0"/>
                  <a:pt x="0" y="5621"/>
                  <a:pt x="0" y="14345"/>
                </a:cubicBezTo>
                <a:cubicBezTo>
                  <a:pt x="0" y="105654"/>
                  <a:pt x="0" y="105654"/>
                  <a:pt x="0" y="105654"/>
                </a:cubicBezTo>
                <a:cubicBezTo>
                  <a:pt x="0" y="114184"/>
                  <a:pt x="8328" y="119806"/>
                  <a:pt x="16845" y="119806"/>
                </a:cubicBezTo>
                <a:cubicBezTo>
                  <a:pt x="105993" y="119806"/>
                  <a:pt x="105993" y="119806"/>
                  <a:pt x="105993" y="119806"/>
                </a:cubicBezTo>
                <a:cubicBezTo>
                  <a:pt x="114321" y="119806"/>
                  <a:pt x="119810" y="114184"/>
                  <a:pt x="119810" y="105654"/>
                </a:cubicBezTo>
                <a:cubicBezTo>
                  <a:pt x="119810" y="14345"/>
                  <a:pt x="119810" y="14345"/>
                  <a:pt x="119810" y="14345"/>
                </a:cubicBezTo>
                <a:cubicBezTo>
                  <a:pt x="119810" y="5621"/>
                  <a:pt x="114321" y="0"/>
                  <a:pt x="105993" y="0"/>
                </a:cubicBezTo>
                <a:close/>
                <a:moveTo>
                  <a:pt x="111482" y="105654"/>
                </a:moveTo>
                <a:lnTo>
                  <a:pt x="111482" y="105654"/>
                </a:lnTo>
                <a:cubicBezTo>
                  <a:pt x="111482" y="108368"/>
                  <a:pt x="108643" y="114184"/>
                  <a:pt x="105993" y="114184"/>
                </a:cubicBezTo>
                <a:cubicBezTo>
                  <a:pt x="16845" y="114184"/>
                  <a:pt x="16845" y="114184"/>
                  <a:pt x="16845" y="114184"/>
                </a:cubicBezTo>
                <a:cubicBezTo>
                  <a:pt x="11167" y="114184"/>
                  <a:pt x="8328" y="108368"/>
                  <a:pt x="8328" y="105654"/>
                </a:cubicBezTo>
                <a:cubicBezTo>
                  <a:pt x="8328" y="14345"/>
                  <a:pt x="8328" y="14345"/>
                  <a:pt x="8328" y="14345"/>
                </a:cubicBezTo>
                <a:cubicBezTo>
                  <a:pt x="8328" y="11437"/>
                  <a:pt x="11167" y="5621"/>
                  <a:pt x="16845" y="5621"/>
                </a:cubicBezTo>
                <a:cubicBezTo>
                  <a:pt x="105993" y="5621"/>
                  <a:pt x="105993" y="5621"/>
                  <a:pt x="105993" y="5621"/>
                </a:cubicBezTo>
                <a:cubicBezTo>
                  <a:pt x="108643" y="5621"/>
                  <a:pt x="111482" y="11437"/>
                  <a:pt x="111482" y="14345"/>
                </a:cubicBezTo>
                <a:lnTo>
                  <a:pt x="111482" y="105654"/>
                </a:lnTo>
                <a:close/>
                <a:moveTo>
                  <a:pt x="77981" y="39935"/>
                </a:moveTo>
                <a:lnTo>
                  <a:pt x="77981" y="39935"/>
                </a:lnTo>
                <a:cubicBezTo>
                  <a:pt x="77981" y="39935"/>
                  <a:pt x="75331" y="39935"/>
                  <a:pt x="72492" y="39935"/>
                </a:cubicBezTo>
                <a:cubicBezTo>
                  <a:pt x="61324" y="54281"/>
                  <a:pt x="61324" y="54281"/>
                  <a:pt x="61324" y="54281"/>
                </a:cubicBezTo>
                <a:cubicBezTo>
                  <a:pt x="47507" y="39935"/>
                  <a:pt x="47507" y="39935"/>
                  <a:pt x="47507" y="39935"/>
                </a:cubicBezTo>
                <a:cubicBezTo>
                  <a:pt x="44668" y="39935"/>
                  <a:pt x="44668" y="39935"/>
                  <a:pt x="41829" y="39935"/>
                </a:cubicBezTo>
                <a:cubicBezTo>
                  <a:pt x="41829" y="42843"/>
                  <a:pt x="41829" y="45751"/>
                  <a:pt x="41829" y="45751"/>
                </a:cubicBezTo>
                <a:cubicBezTo>
                  <a:pt x="55835" y="59903"/>
                  <a:pt x="55835" y="59903"/>
                  <a:pt x="55835" y="59903"/>
                </a:cubicBezTo>
                <a:cubicBezTo>
                  <a:pt x="41829" y="74248"/>
                  <a:pt x="41829" y="74248"/>
                  <a:pt x="41829" y="74248"/>
                </a:cubicBezTo>
                <a:cubicBezTo>
                  <a:pt x="41829" y="74248"/>
                  <a:pt x="41829" y="77156"/>
                  <a:pt x="41829" y="79870"/>
                </a:cubicBezTo>
                <a:cubicBezTo>
                  <a:pt x="44668" y="79870"/>
                  <a:pt x="44668" y="79870"/>
                  <a:pt x="47507" y="79870"/>
                </a:cubicBezTo>
                <a:cubicBezTo>
                  <a:pt x="61324" y="65718"/>
                  <a:pt x="61324" y="65718"/>
                  <a:pt x="61324" y="65718"/>
                </a:cubicBezTo>
                <a:cubicBezTo>
                  <a:pt x="72492" y="79870"/>
                  <a:pt x="72492" y="79870"/>
                  <a:pt x="72492" y="79870"/>
                </a:cubicBezTo>
                <a:cubicBezTo>
                  <a:pt x="75331" y="79870"/>
                  <a:pt x="77981" y="79870"/>
                  <a:pt x="77981" y="79870"/>
                </a:cubicBezTo>
                <a:cubicBezTo>
                  <a:pt x="80820" y="77156"/>
                  <a:pt x="80820" y="74248"/>
                  <a:pt x="77981" y="74248"/>
                </a:cubicBezTo>
                <a:cubicBezTo>
                  <a:pt x="67003" y="59903"/>
                  <a:pt x="67003" y="59903"/>
                  <a:pt x="67003" y="59903"/>
                </a:cubicBezTo>
                <a:cubicBezTo>
                  <a:pt x="77981" y="45751"/>
                  <a:pt x="77981" y="45751"/>
                  <a:pt x="77981" y="45751"/>
                </a:cubicBezTo>
                <a:cubicBezTo>
                  <a:pt x="80820" y="45751"/>
                  <a:pt x="80820" y="42843"/>
                  <a:pt x="77981" y="39935"/>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8" name="Shape 4622"/>
          <p:cNvSpPr/>
          <p:nvPr/>
        </p:nvSpPr>
        <p:spPr>
          <a:xfrm>
            <a:off x="6445080" y="3546360"/>
            <a:ext cx="297000" cy="298440"/>
          </a:xfrm>
          <a:custGeom>
            <a:avLst/>
            <a:gdLst>
              <a:gd name="textAreaLeft" fmla="*/ 0 w 297000"/>
              <a:gd name="textAreaRight" fmla="*/ 297360 w 297000"/>
              <a:gd name="textAreaTop" fmla="*/ 0 h 298440"/>
              <a:gd name="textAreaBottom" fmla="*/ 298800 h 298440"/>
            </a:gdLst>
            <a:ahLst/>
            <a:rect l="textAreaLeft" t="textAreaTop" r="textAreaRight" b="textAreaBottom"/>
            <a:pathLst>
              <a:path w="120000" h="120000">
                <a:moveTo>
                  <a:pt x="82778" y="56995"/>
                </a:moveTo>
                <a:lnTo>
                  <a:pt x="82778" y="56995"/>
                </a:lnTo>
                <a:cubicBezTo>
                  <a:pt x="62810" y="56995"/>
                  <a:pt x="62810" y="56995"/>
                  <a:pt x="62810" y="56995"/>
                </a:cubicBezTo>
                <a:cubicBezTo>
                  <a:pt x="62810" y="37027"/>
                  <a:pt x="62810" y="37027"/>
                  <a:pt x="62810" y="37027"/>
                </a:cubicBezTo>
                <a:cubicBezTo>
                  <a:pt x="62810" y="34313"/>
                  <a:pt x="62810" y="34313"/>
                  <a:pt x="59903" y="34313"/>
                </a:cubicBezTo>
                <a:cubicBezTo>
                  <a:pt x="56995" y="34313"/>
                  <a:pt x="56995" y="34313"/>
                  <a:pt x="56995" y="37027"/>
                </a:cubicBezTo>
                <a:cubicBezTo>
                  <a:pt x="56995" y="56995"/>
                  <a:pt x="56995" y="56995"/>
                  <a:pt x="56995" y="56995"/>
                </a:cubicBezTo>
                <a:cubicBezTo>
                  <a:pt x="37027" y="56995"/>
                  <a:pt x="37027" y="56995"/>
                  <a:pt x="37027" y="56995"/>
                </a:cubicBezTo>
                <a:cubicBezTo>
                  <a:pt x="34313" y="56995"/>
                  <a:pt x="34313" y="56995"/>
                  <a:pt x="34313" y="59903"/>
                </a:cubicBezTo>
                <a:cubicBezTo>
                  <a:pt x="34313" y="62810"/>
                  <a:pt x="34313" y="62810"/>
                  <a:pt x="37027" y="62810"/>
                </a:cubicBezTo>
                <a:cubicBezTo>
                  <a:pt x="56995" y="62810"/>
                  <a:pt x="56995" y="62810"/>
                  <a:pt x="56995" y="62810"/>
                </a:cubicBezTo>
                <a:cubicBezTo>
                  <a:pt x="56995" y="82778"/>
                  <a:pt x="56995" y="82778"/>
                  <a:pt x="56995" y="82778"/>
                </a:cubicBezTo>
                <a:cubicBezTo>
                  <a:pt x="56995" y="85492"/>
                  <a:pt x="56995" y="85492"/>
                  <a:pt x="59903" y="85492"/>
                </a:cubicBezTo>
                <a:cubicBezTo>
                  <a:pt x="62810" y="85492"/>
                  <a:pt x="62810" y="85492"/>
                  <a:pt x="62810" y="82778"/>
                </a:cubicBezTo>
                <a:cubicBezTo>
                  <a:pt x="62810" y="62810"/>
                  <a:pt x="62810" y="62810"/>
                  <a:pt x="62810" y="62810"/>
                </a:cubicBezTo>
                <a:cubicBezTo>
                  <a:pt x="82778" y="62810"/>
                  <a:pt x="82778" y="62810"/>
                  <a:pt x="82778" y="62810"/>
                </a:cubicBezTo>
                <a:cubicBezTo>
                  <a:pt x="85492" y="62810"/>
                  <a:pt x="85492" y="62810"/>
                  <a:pt x="85492" y="59903"/>
                </a:cubicBezTo>
                <a:cubicBezTo>
                  <a:pt x="85492" y="56995"/>
                  <a:pt x="85492" y="56995"/>
                  <a:pt x="82778" y="56995"/>
                </a:cubicBezTo>
                <a:close/>
                <a:moveTo>
                  <a:pt x="105460" y="0"/>
                </a:moveTo>
                <a:lnTo>
                  <a:pt x="105460" y="0"/>
                </a:lnTo>
                <a:cubicBezTo>
                  <a:pt x="14151" y="0"/>
                  <a:pt x="14151" y="0"/>
                  <a:pt x="14151" y="0"/>
                </a:cubicBezTo>
                <a:cubicBezTo>
                  <a:pt x="5621" y="0"/>
                  <a:pt x="0" y="5621"/>
                  <a:pt x="0" y="14345"/>
                </a:cubicBezTo>
                <a:cubicBezTo>
                  <a:pt x="0" y="105654"/>
                  <a:pt x="0" y="105654"/>
                  <a:pt x="0" y="105654"/>
                </a:cubicBezTo>
                <a:cubicBezTo>
                  <a:pt x="0" y="114184"/>
                  <a:pt x="5621" y="119806"/>
                  <a:pt x="14151" y="119806"/>
                </a:cubicBezTo>
                <a:cubicBezTo>
                  <a:pt x="105460" y="119806"/>
                  <a:pt x="105460" y="119806"/>
                  <a:pt x="105460" y="119806"/>
                </a:cubicBezTo>
                <a:cubicBezTo>
                  <a:pt x="114184" y="119806"/>
                  <a:pt x="119806" y="114184"/>
                  <a:pt x="119806" y="105654"/>
                </a:cubicBezTo>
                <a:cubicBezTo>
                  <a:pt x="119806" y="14345"/>
                  <a:pt x="119806" y="14345"/>
                  <a:pt x="119806" y="14345"/>
                </a:cubicBezTo>
                <a:cubicBezTo>
                  <a:pt x="119806" y="5621"/>
                  <a:pt x="114184" y="0"/>
                  <a:pt x="105460" y="0"/>
                </a:cubicBezTo>
                <a:close/>
                <a:moveTo>
                  <a:pt x="114184" y="105654"/>
                </a:moveTo>
                <a:lnTo>
                  <a:pt x="114184" y="105654"/>
                </a:lnTo>
                <a:cubicBezTo>
                  <a:pt x="114184" y="108368"/>
                  <a:pt x="108368" y="114184"/>
                  <a:pt x="105460" y="114184"/>
                </a:cubicBezTo>
                <a:cubicBezTo>
                  <a:pt x="14151" y="114184"/>
                  <a:pt x="14151" y="114184"/>
                  <a:pt x="14151" y="114184"/>
                </a:cubicBezTo>
                <a:cubicBezTo>
                  <a:pt x="11437" y="114184"/>
                  <a:pt x="5621" y="108368"/>
                  <a:pt x="5621" y="105654"/>
                </a:cubicBezTo>
                <a:cubicBezTo>
                  <a:pt x="5621" y="14345"/>
                  <a:pt x="5621" y="14345"/>
                  <a:pt x="5621" y="14345"/>
                </a:cubicBezTo>
                <a:cubicBezTo>
                  <a:pt x="5621" y="11437"/>
                  <a:pt x="11437" y="5621"/>
                  <a:pt x="14151" y="5621"/>
                </a:cubicBezTo>
                <a:cubicBezTo>
                  <a:pt x="105460" y="5621"/>
                  <a:pt x="105460" y="5621"/>
                  <a:pt x="105460" y="5621"/>
                </a:cubicBezTo>
                <a:cubicBezTo>
                  <a:pt x="108368" y="5621"/>
                  <a:pt x="114184" y="11437"/>
                  <a:pt x="114184" y="14345"/>
                </a:cubicBezTo>
                <a:lnTo>
                  <a:pt x="114184" y="105654"/>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9" name="Shape 4624"/>
          <p:cNvSpPr/>
          <p:nvPr/>
        </p:nvSpPr>
        <p:spPr>
          <a:xfrm>
            <a:off x="10366200" y="305100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4164" y="33501"/>
                </a:moveTo>
                <a:lnTo>
                  <a:pt x="64164" y="33501"/>
                </a:lnTo>
                <a:cubicBezTo>
                  <a:pt x="64164" y="30662"/>
                  <a:pt x="61324" y="30662"/>
                  <a:pt x="61324" y="30662"/>
                </a:cubicBezTo>
                <a:cubicBezTo>
                  <a:pt x="58675" y="30662"/>
                  <a:pt x="58675" y="30662"/>
                  <a:pt x="55835" y="33501"/>
                </a:cubicBezTo>
                <a:cubicBezTo>
                  <a:pt x="36340" y="52996"/>
                  <a:pt x="36340" y="52996"/>
                  <a:pt x="36340" y="52996"/>
                </a:cubicBezTo>
                <a:cubicBezTo>
                  <a:pt x="33501" y="55835"/>
                  <a:pt x="33501" y="58675"/>
                  <a:pt x="36340" y="58675"/>
                </a:cubicBezTo>
                <a:cubicBezTo>
                  <a:pt x="36340" y="61324"/>
                  <a:pt x="39179" y="61324"/>
                  <a:pt x="41829" y="58675"/>
                </a:cubicBezTo>
                <a:cubicBezTo>
                  <a:pt x="55835" y="44668"/>
                  <a:pt x="55835" y="44668"/>
                  <a:pt x="55835" y="44668"/>
                </a:cubicBezTo>
                <a:cubicBezTo>
                  <a:pt x="55835" y="83659"/>
                  <a:pt x="55835" y="83659"/>
                  <a:pt x="55835" y="83659"/>
                </a:cubicBezTo>
                <a:cubicBezTo>
                  <a:pt x="55835" y="83659"/>
                  <a:pt x="58675" y="86498"/>
                  <a:pt x="61324" y="86498"/>
                </a:cubicBezTo>
                <a:lnTo>
                  <a:pt x="64164" y="83659"/>
                </a:lnTo>
                <a:cubicBezTo>
                  <a:pt x="64164" y="44668"/>
                  <a:pt x="64164" y="44668"/>
                  <a:pt x="64164" y="44668"/>
                </a:cubicBezTo>
                <a:cubicBezTo>
                  <a:pt x="77981" y="58675"/>
                  <a:pt x="77981" y="58675"/>
                  <a:pt x="77981" y="58675"/>
                </a:cubicBezTo>
                <a:cubicBezTo>
                  <a:pt x="81009" y="61324"/>
                  <a:pt x="83659" y="61324"/>
                  <a:pt x="83659" y="58675"/>
                </a:cubicBezTo>
                <a:cubicBezTo>
                  <a:pt x="86498" y="58675"/>
                  <a:pt x="86498" y="55835"/>
                  <a:pt x="83659" y="52996"/>
                </a:cubicBezTo>
                <a:lnTo>
                  <a:pt x="64164" y="33501"/>
                </a:lnTo>
                <a:close/>
                <a:moveTo>
                  <a:pt x="105993" y="0"/>
                </a:moveTo>
                <a:lnTo>
                  <a:pt x="105993" y="0"/>
                </a:lnTo>
                <a:cubicBezTo>
                  <a:pt x="16845" y="0"/>
                  <a:pt x="16845" y="0"/>
                  <a:pt x="16845" y="0"/>
                </a:cubicBezTo>
                <a:cubicBezTo>
                  <a:pt x="8517" y="0"/>
                  <a:pt x="0" y="8517"/>
                  <a:pt x="0" y="16845"/>
                </a:cubicBezTo>
                <a:cubicBezTo>
                  <a:pt x="0" y="105993"/>
                  <a:pt x="0" y="105993"/>
                  <a:pt x="0" y="105993"/>
                </a:cubicBezTo>
                <a:cubicBezTo>
                  <a:pt x="0" y="114321"/>
                  <a:pt x="8517"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832" y="111482"/>
                  <a:pt x="105993" y="111482"/>
                </a:cubicBezTo>
                <a:cubicBezTo>
                  <a:pt x="16845" y="111482"/>
                  <a:pt x="16845" y="111482"/>
                  <a:pt x="16845" y="111482"/>
                </a:cubicBezTo>
                <a:cubicBezTo>
                  <a:pt x="11167" y="111482"/>
                  <a:pt x="8517" y="108832"/>
                  <a:pt x="8517" y="105993"/>
                </a:cubicBezTo>
                <a:cubicBezTo>
                  <a:pt x="8517" y="16845"/>
                  <a:pt x="8517" y="16845"/>
                  <a:pt x="8517" y="16845"/>
                </a:cubicBezTo>
                <a:cubicBezTo>
                  <a:pt x="8517" y="11167"/>
                  <a:pt x="11167" y="8517"/>
                  <a:pt x="16845" y="8517"/>
                </a:cubicBezTo>
                <a:cubicBezTo>
                  <a:pt x="105993" y="8517"/>
                  <a:pt x="105993" y="8517"/>
                  <a:pt x="105993" y="8517"/>
                </a:cubicBezTo>
                <a:cubicBezTo>
                  <a:pt x="108832" y="8517"/>
                  <a:pt x="111482" y="11167"/>
                  <a:pt x="111482" y="16845"/>
                </a:cubicBezTo>
                <a:lnTo>
                  <a:pt x="111482" y="105993"/>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0" name="Shape 4626"/>
          <p:cNvSpPr/>
          <p:nvPr/>
        </p:nvSpPr>
        <p:spPr>
          <a:xfrm>
            <a:off x="9388440" y="305100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105654" y="0"/>
                </a:moveTo>
                <a:lnTo>
                  <a:pt x="105654"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654" y="119810"/>
                  <a:pt x="105654" y="119810"/>
                  <a:pt x="105654" y="119810"/>
                </a:cubicBezTo>
                <a:cubicBezTo>
                  <a:pt x="114184" y="119810"/>
                  <a:pt x="119806" y="114321"/>
                  <a:pt x="119806" y="105993"/>
                </a:cubicBezTo>
                <a:cubicBezTo>
                  <a:pt x="119806" y="16845"/>
                  <a:pt x="119806" y="16845"/>
                  <a:pt x="119806" y="16845"/>
                </a:cubicBezTo>
                <a:cubicBezTo>
                  <a:pt x="119806" y="8517"/>
                  <a:pt x="114184" y="0"/>
                  <a:pt x="105654" y="0"/>
                </a:cubicBezTo>
                <a:close/>
                <a:moveTo>
                  <a:pt x="114184" y="105993"/>
                </a:moveTo>
                <a:lnTo>
                  <a:pt x="114184" y="105993"/>
                </a:lnTo>
                <a:cubicBezTo>
                  <a:pt x="114184" y="108832"/>
                  <a:pt x="108368" y="111482"/>
                  <a:pt x="105654"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654" y="8517"/>
                  <a:pt x="105654" y="8517"/>
                  <a:pt x="105654" y="8517"/>
                </a:cubicBezTo>
                <a:cubicBezTo>
                  <a:pt x="108368" y="8517"/>
                  <a:pt x="114184" y="11167"/>
                  <a:pt x="114184" y="16845"/>
                </a:cubicBezTo>
                <a:lnTo>
                  <a:pt x="114184" y="105993"/>
                </a:lnTo>
                <a:close/>
                <a:moveTo>
                  <a:pt x="82778" y="55835"/>
                </a:moveTo>
                <a:lnTo>
                  <a:pt x="82778" y="55835"/>
                </a:lnTo>
                <a:cubicBezTo>
                  <a:pt x="42843" y="55835"/>
                  <a:pt x="42843" y="55835"/>
                  <a:pt x="42843" y="55835"/>
                </a:cubicBezTo>
                <a:cubicBezTo>
                  <a:pt x="56995" y="41829"/>
                  <a:pt x="56995" y="41829"/>
                  <a:pt x="56995" y="41829"/>
                </a:cubicBezTo>
                <a:cubicBezTo>
                  <a:pt x="59903" y="39179"/>
                  <a:pt x="59903" y="36340"/>
                  <a:pt x="56995" y="36340"/>
                </a:cubicBezTo>
                <a:cubicBezTo>
                  <a:pt x="56995" y="33501"/>
                  <a:pt x="54281" y="33501"/>
                  <a:pt x="51373" y="36340"/>
                </a:cubicBezTo>
                <a:cubicBezTo>
                  <a:pt x="31405" y="55835"/>
                  <a:pt x="31405" y="55835"/>
                  <a:pt x="31405" y="55835"/>
                </a:cubicBezTo>
                <a:cubicBezTo>
                  <a:pt x="31405" y="58675"/>
                  <a:pt x="31405" y="58675"/>
                  <a:pt x="31405" y="61324"/>
                </a:cubicBezTo>
                <a:lnTo>
                  <a:pt x="31405" y="64164"/>
                </a:lnTo>
                <a:cubicBezTo>
                  <a:pt x="51373" y="83659"/>
                  <a:pt x="51373" y="83659"/>
                  <a:pt x="51373" y="83659"/>
                </a:cubicBezTo>
                <a:cubicBezTo>
                  <a:pt x="54281" y="86498"/>
                  <a:pt x="56995" y="86498"/>
                  <a:pt x="56995" y="83659"/>
                </a:cubicBezTo>
                <a:cubicBezTo>
                  <a:pt x="59903" y="83659"/>
                  <a:pt x="59903" y="81009"/>
                  <a:pt x="56995" y="77981"/>
                </a:cubicBezTo>
                <a:cubicBezTo>
                  <a:pt x="42843" y="64164"/>
                  <a:pt x="42843" y="64164"/>
                  <a:pt x="42843" y="64164"/>
                </a:cubicBezTo>
                <a:cubicBezTo>
                  <a:pt x="82778" y="64164"/>
                  <a:pt x="82778" y="64164"/>
                  <a:pt x="82778" y="64164"/>
                </a:cubicBezTo>
                <a:cubicBezTo>
                  <a:pt x="85492" y="64164"/>
                  <a:pt x="85492" y="61324"/>
                  <a:pt x="85492" y="61324"/>
                </a:cubicBezTo>
                <a:cubicBezTo>
                  <a:pt x="85492" y="58675"/>
                  <a:pt x="85492" y="55835"/>
                  <a:pt x="82778" y="55835"/>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1" name="Shape 4628"/>
          <p:cNvSpPr/>
          <p:nvPr/>
        </p:nvSpPr>
        <p:spPr>
          <a:xfrm>
            <a:off x="8404200" y="305100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41829"/>
                </a:moveTo>
                <a:lnTo>
                  <a:pt x="61324" y="41829"/>
                </a:lnTo>
                <a:cubicBezTo>
                  <a:pt x="61324" y="41829"/>
                  <a:pt x="61324" y="41829"/>
                  <a:pt x="58485" y="41829"/>
                </a:cubicBezTo>
                <a:cubicBezTo>
                  <a:pt x="58485" y="41829"/>
                  <a:pt x="58485" y="41829"/>
                  <a:pt x="55646" y="41829"/>
                </a:cubicBezTo>
                <a:cubicBezTo>
                  <a:pt x="22145" y="75331"/>
                  <a:pt x="22145" y="75331"/>
                  <a:pt x="22145" y="75331"/>
                </a:cubicBezTo>
                <a:cubicBezTo>
                  <a:pt x="22145" y="77981"/>
                  <a:pt x="22145" y="81009"/>
                  <a:pt x="22145" y="81009"/>
                </a:cubicBezTo>
                <a:cubicBezTo>
                  <a:pt x="24984" y="83659"/>
                  <a:pt x="27823" y="83659"/>
                  <a:pt x="27823" y="81009"/>
                </a:cubicBezTo>
                <a:cubicBezTo>
                  <a:pt x="58485" y="50347"/>
                  <a:pt x="58485" y="50347"/>
                  <a:pt x="58485" y="50347"/>
                </a:cubicBezTo>
                <a:cubicBezTo>
                  <a:pt x="89148" y="81009"/>
                  <a:pt x="89148" y="81009"/>
                  <a:pt x="89148" y="81009"/>
                </a:cubicBezTo>
                <a:cubicBezTo>
                  <a:pt x="91798" y="83659"/>
                  <a:pt x="94637" y="83659"/>
                  <a:pt x="94637" y="81009"/>
                </a:cubicBezTo>
                <a:cubicBezTo>
                  <a:pt x="97476" y="81009"/>
                  <a:pt x="97476" y="77981"/>
                  <a:pt x="94637" y="75331"/>
                </a:cubicBezTo>
                <a:lnTo>
                  <a:pt x="61324" y="41829"/>
                </a:lnTo>
                <a:close/>
                <a:moveTo>
                  <a:pt x="102965" y="0"/>
                </a:moveTo>
                <a:lnTo>
                  <a:pt x="102965" y="0"/>
                </a:lnTo>
                <a:cubicBezTo>
                  <a:pt x="13817" y="0"/>
                  <a:pt x="13817" y="0"/>
                  <a:pt x="13817" y="0"/>
                </a:cubicBezTo>
                <a:cubicBezTo>
                  <a:pt x="5488" y="0"/>
                  <a:pt x="0" y="8517"/>
                  <a:pt x="0" y="16845"/>
                </a:cubicBezTo>
                <a:cubicBezTo>
                  <a:pt x="0" y="105993"/>
                  <a:pt x="0" y="105993"/>
                  <a:pt x="0" y="105993"/>
                </a:cubicBezTo>
                <a:cubicBezTo>
                  <a:pt x="0" y="114321"/>
                  <a:pt x="5488" y="119810"/>
                  <a:pt x="13817" y="119810"/>
                </a:cubicBezTo>
                <a:cubicBezTo>
                  <a:pt x="102965" y="119810"/>
                  <a:pt x="102965" y="119810"/>
                  <a:pt x="102965" y="119810"/>
                </a:cubicBezTo>
                <a:cubicBezTo>
                  <a:pt x="111293" y="119810"/>
                  <a:pt x="119810" y="114321"/>
                  <a:pt x="119810" y="105993"/>
                </a:cubicBezTo>
                <a:cubicBezTo>
                  <a:pt x="119810" y="16845"/>
                  <a:pt x="119810" y="16845"/>
                  <a:pt x="119810" y="16845"/>
                </a:cubicBezTo>
                <a:cubicBezTo>
                  <a:pt x="119810" y="8517"/>
                  <a:pt x="111293" y="0"/>
                  <a:pt x="102965" y="0"/>
                </a:cubicBezTo>
                <a:close/>
                <a:moveTo>
                  <a:pt x="111293" y="105993"/>
                </a:moveTo>
                <a:lnTo>
                  <a:pt x="111293" y="105993"/>
                </a:lnTo>
                <a:cubicBezTo>
                  <a:pt x="111293" y="108832"/>
                  <a:pt x="108643" y="111482"/>
                  <a:pt x="102965" y="111482"/>
                </a:cubicBezTo>
                <a:cubicBezTo>
                  <a:pt x="13817" y="111482"/>
                  <a:pt x="13817" y="111482"/>
                  <a:pt x="13817" y="111482"/>
                </a:cubicBezTo>
                <a:cubicBezTo>
                  <a:pt x="10977" y="111482"/>
                  <a:pt x="8328" y="108832"/>
                  <a:pt x="8328" y="105993"/>
                </a:cubicBezTo>
                <a:cubicBezTo>
                  <a:pt x="8328" y="16845"/>
                  <a:pt x="8328" y="16845"/>
                  <a:pt x="8328" y="16845"/>
                </a:cubicBezTo>
                <a:cubicBezTo>
                  <a:pt x="8328" y="11167"/>
                  <a:pt x="10977" y="8517"/>
                  <a:pt x="13817" y="8517"/>
                </a:cubicBezTo>
                <a:cubicBezTo>
                  <a:pt x="102965" y="8517"/>
                  <a:pt x="102965" y="8517"/>
                  <a:pt x="102965" y="8517"/>
                </a:cubicBezTo>
                <a:cubicBezTo>
                  <a:pt x="108643" y="8517"/>
                  <a:pt x="111293" y="11167"/>
                  <a:pt x="111293" y="16845"/>
                </a:cubicBezTo>
                <a:lnTo>
                  <a:pt x="111293" y="105993"/>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2" name="Shape 4630"/>
          <p:cNvSpPr/>
          <p:nvPr/>
        </p:nvSpPr>
        <p:spPr>
          <a:xfrm>
            <a:off x="7421400" y="3051000"/>
            <a:ext cx="306720" cy="304920"/>
          </a:xfrm>
          <a:custGeom>
            <a:avLst/>
            <a:gdLst>
              <a:gd name="textAreaLeft" fmla="*/ 0 w 306720"/>
              <a:gd name="textAreaRight" fmla="*/ 307080 w 306720"/>
              <a:gd name="textAreaTop" fmla="*/ 0 h 304920"/>
              <a:gd name="textAreaBottom" fmla="*/ 305280 h 304920"/>
            </a:gdLst>
            <a:ahLst/>
            <a:rect l="textAreaLeft" t="textAreaTop" r="textAreaRight" b="textAreaBottom"/>
            <a:pathLst>
              <a:path w="120000" h="120000">
                <a:moveTo>
                  <a:pt x="80820" y="25173"/>
                </a:moveTo>
                <a:lnTo>
                  <a:pt x="80820" y="25173"/>
                </a:lnTo>
                <a:cubicBezTo>
                  <a:pt x="80820" y="22334"/>
                  <a:pt x="77981" y="22334"/>
                  <a:pt x="75331" y="25173"/>
                </a:cubicBezTo>
                <a:cubicBezTo>
                  <a:pt x="41829" y="58675"/>
                  <a:pt x="41829" y="58675"/>
                  <a:pt x="41829" y="58675"/>
                </a:cubicBezTo>
                <a:cubicBezTo>
                  <a:pt x="41829" y="58675"/>
                  <a:pt x="41829" y="58675"/>
                  <a:pt x="41829" y="61324"/>
                </a:cubicBezTo>
                <a:cubicBezTo>
                  <a:pt x="41829" y="61324"/>
                  <a:pt x="41829" y="61324"/>
                  <a:pt x="41829" y="64164"/>
                </a:cubicBezTo>
                <a:cubicBezTo>
                  <a:pt x="75331" y="97665"/>
                  <a:pt x="75331" y="97665"/>
                  <a:pt x="75331" y="97665"/>
                </a:cubicBezTo>
                <a:cubicBezTo>
                  <a:pt x="77981" y="97665"/>
                  <a:pt x="80820" y="97665"/>
                  <a:pt x="80820" y="97665"/>
                </a:cubicBezTo>
                <a:cubicBezTo>
                  <a:pt x="83659" y="94826"/>
                  <a:pt x="83659" y="91987"/>
                  <a:pt x="80820" y="91987"/>
                </a:cubicBezTo>
                <a:cubicBezTo>
                  <a:pt x="50157" y="61324"/>
                  <a:pt x="50157" y="61324"/>
                  <a:pt x="50157" y="61324"/>
                </a:cubicBezTo>
                <a:cubicBezTo>
                  <a:pt x="80820" y="30662"/>
                  <a:pt x="80820" y="30662"/>
                  <a:pt x="80820" y="30662"/>
                </a:cubicBezTo>
                <a:cubicBezTo>
                  <a:pt x="83659" y="28012"/>
                  <a:pt x="83659" y="25173"/>
                  <a:pt x="80820" y="25173"/>
                </a:cubicBezTo>
                <a:close/>
                <a:moveTo>
                  <a:pt x="105993" y="0"/>
                </a:moveTo>
                <a:lnTo>
                  <a:pt x="105993" y="0"/>
                </a:lnTo>
                <a:cubicBezTo>
                  <a:pt x="16845" y="0"/>
                  <a:pt x="16845" y="0"/>
                  <a:pt x="16845" y="0"/>
                </a:cubicBezTo>
                <a:cubicBezTo>
                  <a:pt x="8328" y="0"/>
                  <a:pt x="0" y="8517"/>
                  <a:pt x="0" y="16845"/>
                </a:cubicBezTo>
                <a:cubicBezTo>
                  <a:pt x="0" y="105993"/>
                  <a:pt x="0" y="105993"/>
                  <a:pt x="0" y="105993"/>
                </a:cubicBezTo>
                <a:cubicBezTo>
                  <a:pt x="0" y="114321"/>
                  <a:pt x="8328"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643" y="111482"/>
                  <a:pt x="105993" y="111482"/>
                </a:cubicBezTo>
                <a:cubicBezTo>
                  <a:pt x="16845" y="111482"/>
                  <a:pt x="16845" y="111482"/>
                  <a:pt x="16845" y="111482"/>
                </a:cubicBezTo>
                <a:cubicBezTo>
                  <a:pt x="11167" y="111482"/>
                  <a:pt x="8328" y="108832"/>
                  <a:pt x="8328" y="105993"/>
                </a:cubicBezTo>
                <a:cubicBezTo>
                  <a:pt x="8328" y="16845"/>
                  <a:pt x="8328" y="16845"/>
                  <a:pt x="8328" y="16845"/>
                </a:cubicBezTo>
                <a:cubicBezTo>
                  <a:pt x="8328" y="11167"/>
                  <a:pt x="11167" y="8517"/>
                  <a:pt x="16845" y="8517"/>
                </a:cubicBezTo>
                <a:cubicBezTo>
                  <a:pt x="105993" y="8517"/>
                  <a:pt x="105993" y="8517"/>
                  <a:pt x="105993" y="8517"/>
                </a:cubicBezTo>
                <a:cubicBezTo>
                  <a:pt x="108643" y="8517"/>
                  <a:pt x="111482" y="11167"/>
                  <a:pt x="111482" y="16845"/>
                </a:cubicBezTo>
                <a:lnTo>
                  <a:pt x="111482" y="105993"/>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3" name="Shape 4632"/>
          <p:cNvSpPr/>
          <p:nvPr/>
        </p:nvSpPr>
        <p:spPr>
          <a:xfrm>
            <a:off x="6445080" y="305100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51373" y="64164"/>
                </a:moveTo>
                <a:lnTo>
                  <a:pt x="51373" y="64164"/>
                </a:lnTo>
                <a:cubicBezTo>
                  <a:pt x="17059" y="64164"/>
                  <a:pt x="17059" y="64164"/>
                  <a:pt x="17059" y="64164"/>
                </a:cubicBezTo>
                <a:lnTo>
                  <a:pt x="14151" y="67003"/>
                </a:lnTo>
                <a:cubicBezTo>
                  <a:pt x="14151" y="69842"/>
                  <a:pt x="17059" y="72492"/>
                  <a:pt x="17059" y="72492"/>
                </a:cubicBezTo>
                <a:cubicBezTo>
                  <a:pt x="42843" y="72492"/>
                  <a:pt x="42843" y="72492"/>
                  <a:pt x="42843" y="72492"/>
                </a:cubicBezTo>
                <a:cubicBezTo>
                  <a:pt x="17059" y="97665"/>
                  <a:pt x="17059" y="97665"/>
                  <a:pt x="17059" y="97665"/>
                </a:cubicBezTo>
                <a:cubicBezTo>
                  <a:pt x="22875" y="103154"/>
                  <a:pt x="22875" y="103154"/>
                  <a:pt x="22875" y="103154"/>
                </a:cubicBezTo>
                <a:cubicBezTo>
                  <a:pt x="48465" y="77981"/>
                  <a:pt x="48465" y="77981"/>
                  <a:pt x="48465" y="77981"/>
                </a:cubicBezTo>
                <a:cubicBezTo>
                  <a:pt x="48465" y="100315"/>
                  <a:pt x="48465" y="100315"/>
                  <a:pt x="48465" y="100315"/>
                </a:cubicBezTo>
                <a:cubicBezTo>
                  <a:pt x="48465" y="103154"/>
                  <a:pt x="51373" y="105993"/>
                  <a:pt x="51373" y="105993"/>
                </a:cubicBezTo>
                <a:cubicBezTo>
                  <a:pt x="54281" y="105993"/>
                  <a:pt x="56995" y="103154"/>
                  <a:pt x="56995" y="100315"/>
                </a:cubicBezTo>
                <a:cubicBezTo>
                  <a:pt x="56995" y="67003"/>
                  <a:pt x="56995" y="67003"/>
                  <a:pt x="56995" y="67003"/>
                </a:cubicBezTo>
                <a:cubicBezTo>
                  <a:pt x="56995" y="67003"/>
                  <a:pt x="56995" y="67003"/>
                  <a:pt x="54281" y="64164"/>
                </a:cubicBezTo>
                <a:cubicBezTo>
                  <a:pt x="54281" y="64164"/>
                  <a:pt x="54281" y="64164"/>
                  <a:pt x="51373" y="64164"/>
                </a:cubicBezTo>
                <a:close/>
                <a:moveTo>
                  <a:pt x="102746" y="50347"/>
                </a:moveTo>
                <a:lnTo>
                  <a:pt x="102746" y="50347"/>
                </a:lnTo>
                <a:cubicBezTo>
                  <a:pt x="76962" y="50347"/>
                  <a:pt x="76962" y="50347"/>
                  <a:pt x="76962" y="50347"/>
                </a:cubicBezTo>
                <a:cubicBezTo>
                  <a:pt x="102746" y="25173"/>
                  <a:pt x="102746" y="25173"/>
                  <a:pt x="102746" y="25173"/>
                </a:cubicBezTo>
                <a:cubicBezTo>
                  <a:pt x="96930" y="19495"/>
                  <a:pt x="96930" y="19495"/>
                  <a:pt x="96930" y="19495"/>
                </a:cubicBezTo>
                <a:cubicBezTo>
                  <a:pt x="71340" y="44668"/>
                  <a:pt x="71340" y="44668"/>
                  <a:pt x="71340" y="44668"/>
                </a:cubicBezTo>
                <a:cubicBezTo>
                  <a:pt x="71340" y="19495"/>
                  <a:pt x="71340" y="19495"/>
                  <a:pt x="71340" y="19495"/>
                </a:cubicBezTo>
                <a:cubicBezTo>
                  <a:pt x="71340" y="16845"/>
                  <a:pt x="68432" y="16845"/>
                  <a:pt x="68432" y="16845"/>
                </a:cubicBezTo>
                <a:cubicBezTo>
                  <a:pt x="65718" y="16845"/>
                  <a:pt x="62810" y="16845"/>
                  <a:pt x="62810" y="19495"/>
                </a:cubicBezTo>
                <a:cubicBezTo>
                  <a:pt x="62810" y="52996"/>
                  <a:pt x="62810" y="52996"/>
                  <a:pt x="62810" y="52996"/>
                </a:cubicBezTo>
                <a:cubicBezTo>
                  <a:pt x="62810" y="52996"/>
                  <a:pt x="62810" y="55835"/>
                  <a:pt x="65718" y="55835"/>
                </a:cubicBezTo>
                <a:cubicBezTo>
                  <a:pt x="65718" y="55835"/>
                  <a:pt x="65718" y="55835"/>
                  <a:pt x="68432" y="55835"/>
                </a:cubicBezTo>
                <a:cubicBezTo>
                  <a:pt x="102746" y="55835"/>
                  <a:pt x="102746" y="55835"/>
                  <a:pt x="102746" y="55835"/>
                </a:cubicBezTo>
                <a:cubicBezTo>
                  <a:pt x="102746" y="55835"/>
                  <a:pt x="105460" y="55835"/>
                  <a:pt x="105460" y="52996"/>
                </a:cubicBezTo>
                <a:cubicBezTo>
                  <a:pt x="105460" y="50347"/>
                  <a:pt x="102746" y="50347"/>
                  <a:pt x="102746" y="50347"/>
                </a:cubicBezTo>
                <a:close/>
                <a:moveTo>
                  <a:pt x="105460" y="0"/>
                </a:moveTo>
                <a:lnTo>
                  <a:pt x="105460"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460" y="119810"/>
                  <a:pt x="105460" y="119810"/>
                  <a:pt x="105460" y="119810"/>
                </a:cubicBezTo>
                <a:cubicBezTo>
                  <a:pt x="114184" y="119810"/>
                  <a:pt x="119806" y="114321"/>
                  <a:pt x="119806" y="105993"/>
                </a:cubicBezTo>
                <a:cubicBezTo>
                  <a:pt x="119806" y="16845"/>
                  <a:pt x="119806" y="16845"/>
                  <a:pt x="119806" y="16845"/>
                </a:cubicBezTo>
                <a:cubicBezTo>
                  <a:pt x="119806" y="8517"/>
                  <a:pt x="114184" y="0"/>
                  <a:pt x="105460" y="0"/>
                </a:cubicBezTo>
                <a:close/>
                <a:moveTo>
                  <a:pt x="114184" y="105993"/>
                </a:moveTo>
                <a:lnTo>
                  <a:pt x="114184" y="105993"/>
                </a:lnTo>
                <a:cubicBezTo>
                  <a:pt x="114184" y="108832"/>
                  <a:pt x="108368" y="111482"/>
                  <a:pt x="105460"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460" y="8517"/>
                  <a:pt x="105460" y="8517"/>
                  <a:pt x="105460" y="8517"/>
                </a:cubicBezTo>
                <a:cubicBezTo>
                  <a:pt x="108368" y="8517"/>
                  <a:pt x="114184" y="11167"/>
                  <a:pt x="114184" y="16845"/>
                </a:cubicBezTo>
                <a:lnTo>
                  <a:pt x="114184" y="105993"/>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4" name="Shape 4634"/>
          <p:cNvSpPr/>
          <p:nvPr/>
        </p:nvSpPr>
        <p:spPr>
          <a:xfrm>
            <a:off x="10391760" y="2563920"/>
            <a:ext cx="270000" cy="304560"/>
          </a:xfrm>
          <a:custGeom>
            <a:avLst/>
            <a:gdLst>
              <a:gd name="textAreaLeft" fmla="*/ 0 w 270000"/>
              <a:gd name="textAreaRight" fmla="*/ 270360 w 270000"/>
              <a:gd name="textAreaTop" fmla="*/ 0 h 304560"/>
              <a:gd name="textAreaBottom" fmla="*/ 304920 h 304560"/>
            </a:gdLst>
            <a:ahLst/>
            <a:rect l="textAreaLeft" t="textAreaTop" r="textAreaRight" b="textAreaBottom"/>
            <a:pathLst>
              <a:path w="120000" h="120000">
                <a:moveTo>
                  <a:pt x="28449" y="69652"/>
                </a:moveTo>
                <a:lnTo>
                  <a:pt x="28449" y="69652"/>
                </a:lnTo>
                <a:cubicBezTo>
                  <a:pt x="56684" y="94637"/>
                  <a:pt x="56684" y="94637"/>
                  <a:pt x="56684" y="94637"/>
                </a:cubicBezTo>
                <a:lnTo>
                  <a:pt x="59893" y="97476"/>
                </a:lnTo>
                <a:lnTo>
                  <a:pt x="63101" y="94637"/>
                </a:lnTo>
                <a:cubicBezTo>
                  <a:pt x="91336" y="69652"/>
                  <a:pt x="91336" y="69652"/>
                  <a:pt x="91336" y="69652"/>
                </a:cubicBezTo>
                <a:cubicBezTo>
                  <a:pt x="94545" y="66813"/>
                  <a:pt x="94545" y="66813"/>
                  <a:pt x="91336" y="63974"/>
                </a:cubicBezTo>
                <a:cubicBezTo>
                  <a:pt x="91336" y="63974"/>
                  <a:pt x="88128" y="63974"/>
                  <a:pt x="85133" y="63974"/>
                </a:cubicBezTo>
                <a:cubicBezTo>
                  <a:pt x="63101" y="83470"/>
                  <a:pt x="63101" y="83470"/>
                  <a:pt x="63101" y="83470"/>
                </a:cubicBezTo>
                <a:cubicBezTo>
                  <a:pt x="63101" y="2649"/>
                  <a:pt x="63101" y="2649"/>
                  <a:pt x="63101" y="2649"/>
                </a:cubicBezTo>
                <a:cubicBezTo>
                  <a:pt x="63101" y="2649"/>
                  <a:pt x="63101" y="0"/>
                  <a:pt x="59893" y="0"/>
                </a:cubicBezTo>
                <a:cubicBezTo>
                  <a:pt x="56684" y="0"/>
                  <a:pt x="56684" y="2649"/>
                  <a:pt x="56684" y="2649"/>
                </a:cubicBezTo>
                <a:cubicBezTo>
                  <a:pt x="56684" y="83470"/>
                  <a:pt x="56684" y="83470"/>
                  <a:pt x="56684" y="83470"/>
                </a:cubicBezTo>
                <a:cubicBezTo>
                  <a:pt x="34652" y="63974"/>
                  <a:pt x="34652" y="63974"/>
                  <a:pt x="34652" y="63974"/>
                </a:cubicBezTo>
                <a:cubicBezTo>
                  <a:pt x="31657" y="63974"/>
                  <a:pt x="28449" y="63974"/>
                  <a:pt x="28449" y="63974"/>
                </a:cubicBezTo>
                <a:cubicBezTo>
                  <a:pt x="25240" y="66813"/>
                  <a:pt x="25240" y="66813"/>
                  <a:pt x="28449" y="69652"/>
                </a:cubicBezTo>
                <a:close/>
                <a:moveTo>
                  <a:pt x="100748" y="13817"/>
                </a:moveTo>
                <a:lnTo>
                  <a:pt x="100748" y="13817"/>
                </a:lnTo>
                <a:cubicBezTo>
                  <a:pt x="88128" y="13817"/>
                  <a:pt x="88128" y="13817"/>
                  <a:pt x="88128" y="13817"/>
                </a:cubicBezTo>
                <a:cubicBezTo>
                  <a:pt x="88128" y="22145"/>
                  <a:pt x="88128" y="22145"/>
                  <a:pt x="88128" y="22145"/>
                </a:cubicBezTo>
                <a:cubicBezTo>
                  <a:pt x="100748" y="22145"/>
                  <a:pt x="100748" y="22145"/>
                  <a:pt x="100748" y="22145"/>
                </a:cubicBezTo>
                <a:cubicBezTo>
                  <a:pt x="107165" y="22145"/>
                  <a:pt x="110374" y="24984"/>
                  <a:pt x="110374" y="30662"/>
                </a:cubicBezTo>
                <a:cubicBezTo>
                  <a:pt x="110374" y="102965"/>
                  <a:pt x="110374" y="102965"/>
                  <a:pt x="110374" y="102965"/>
                </a:cubicBezTo>
                <a:cubicBezTo>
                  <a:pt x="110374" y="108643"/>
                  <a:pt x="107165" y="111293"/>
                  <a:pt x="100748" y="111293"/>
                </a:cubicBezTo>
                <a:cubicBezTo>
                  <a:pt x="19037" y="111293"/>
                  <a:pt x="19037" y="111293"/>
                  <a:pt x="19037" y="111293"/>
                </a:cubicBezTo>
                <a:cubicBezTo>
                  <a:pt x="12620" y="111293"/>
                  <a:pt x="9411" y="108643"/>
                  <a:pt x="9411" y="102965"/>
                </a:cubicBezTo>
                <a:cubicBezTo>
                  <a:pt x="9411" y="30662"/>
                  <a:pt x="9411" y="30662"/>
                  <a:pt x="9411" y="30662"/>
                </a:cubicBezTo>
                <a:cubicBezTo>
                  <a:pt x="9411" y="24984"/>
                  <a:pt x="12620" y="22145"/>
                  <a:pt x="19037" y="22145"/>
                </a:cubicBezTo>
                <a:cubicBezTo>
                  <a:pt x="31657" y="22145"/>
                  <a:pt x="31657" y="22145"/>
                  <a:pt x="31657" y="22145"/>
                </a:cubicBezTo>
                <a:cubicBezTo>
                  <a:pt x="31657" y="13817"/>
                  <a:pt x="31657" y="13817"/>
                  <a:pt x="31657" y="13817"/>
                </a:cubicBezTo>
                <a:cubicBezTo>
                  <a:pt x="19037" y="13817"/>
                  <a:pt x="19037" y="13817"/>
                  <a:pt x="19037" y="13817"/>
                </a:cubicBezTo>
                <a:cubicBezTo>
                  <a:pt x="9411" y="13817"/>
                  <a:pt x="0" y="22145"/>
                  <a:pt x="0" y="30662"/>
                </a:cubicBezTo>
                <a:cubicBezTo>
                  <a:pt x="0" y="102965"/>
                  <a:pt x="0" y="102965"/>
                  <a:pt x="0" y="102965"/>
                </a:cubicBezTo>
                <a:cubicBezTo>
                  <a:pt x="0" y="111293"/>
                  <a:pt x="9411" y="119810"/>
                  <a:pt x="19037" y="119810"/>
                </a:cubicBezTo>
                <a:cubicBezTo>
                  <a:pt x="100748" y="119810"/>
                  <a:pt x="100748" y="119810"/>
                  <a:pt x="100748" y="119810"/>
                </a:cubicBezTo>
                <a:cubicBezTo>
                  <a:pt x="110374" y="119810"/>
                  <a:pt x="119786" y="111293"/>
                  <a:pt x="119786" y="102965"/>
                </a:cubicBezTo>
                <a:cubicBezTo>
                  <a:pt x="119786" y="30662"/>
                  <a:pt x="119786" y="30662"/>
                  <a:pt x="119786" y="30662"/>
                </a:cubicBezTo>
                <a:cubicBezTo>
                  <a:pt x="119786" y="22145"/>
                  <a:pt x="110374" y="13817"/>
                  <a:pt x="100748" y="13817"/>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5" name="Shape 4636"/>
          <p:cNvSpPr/>
          <p:nvPr/>
        </p:nvSpPr>
        <p:spPr>
          <a:xfrm>
            <a:off x="9388440" y="2584440"/>
            <a:ext cx="297000" cy="263520"/>
          </a:xfrm>
          <a:custGeom>
            <a:avLst/>
            <a:gdLst>
              <a:gd name="textAreaLeft" fmla="*/ 0 w 297000"/>
              <a:gd name="textAreaRight" fmla="*/ 297360 w 297000"/>
              <a:gd name="textAreaTop" fmla="*/ 0 h 263520"/>
              <a:gd name="textAreaBottom" fmla="*/ 263880 h 263520"/>
            </a:gdLst>
            <a:ahLst/>
            <a:rect l="textAreaLeft" t="textAreaTop" r="textAreaRight" b="textAreaBottom"/>
            <a:pathLst>
              <a:path w="120000" h="120000">
                <a:moveTo>
                  <a:pt x="116898" y="55045"/>
                </a:moveTo>
                <a:lnTo>
                  <a:pt x="116898" y="55045"/>
                </a:lnTo>
                <a:cubicBezTo>
                  <a:pt x="34313" y="55045"/>
                  <a:pt x="34313" y="55045"/>
                  <a:pt x="34313" y="55045"/>
                </a:cubicBezTo>
                <a:cubicBezTo>
                  <a:pt x="54281" y="32366"/>
                  <a:pt x="54281" y="32366"/>
                  <a:pt x="54281" y="32366"/>
                </a:cubicBezTo>
                <a:cubicBezTo>
                  <a:pt x="56995" y="29064"/>
                  <a:pt x="56995" y="29064"/>
                  <a:pt x="54281" y="25981"/>
                </a:cubicBezTo>
                <a:cubicBezTo>
                  <a:pt x="54281" y="25981"/>
                  <a:pt x="51373" y="25981"/>
                  <a:pt x="48465" y="25981"/>
                </a:cubicBezTo>
                <a:cubicBezTo>
                  <a:pt x="22875" y="55045"/>
                  <a:pt x="22875" y="55045"/>
                  <a:pt x="22875" y="55045"/>
                </a:cubicBezTo>
                <a:cubicBezTo>
                  <a:pt x="22875" y="58348"/>
                  <a:pt x="22875" y="58348"/>
                  <a:pt x="22875" y="58348"/>
                </a:cubicBezTo>
                <a:cubicBezTo>
                  <a:pt x="22875" y="61651"/>
                  <a:pt x="22875" y="61651"/>
                  <a:pt x="22875" y="61651"/>
                </a:cubicBezTo>
                <a:cubicBezTo>
                  <a:pt x="48465" y="94018"/>
                  <a:pt x="48465" y="94018"/>
                  <a:pt x="48465" y="94018"/>
                </a:cubicBezTo>
                <a:cubicBezTo>
                  <a:pt x="51373" y="94018"/>
                  <a:pt x="54281" y="94018"/>
                  <a:pt x="54281" y="94018"/>
                </a:cubicBezTo>
                <a:cubicBezTo>
                  <a:pt x="56995" y="90715"/>
                  <a:pt x="56995" y="87412"/>
                  <a:pt x="54281" y="87412"/>
                </a:cubicBezTo>
                <a:cubicBezTo>
                  <a:pt x="34313" y="64733"/>
                  <a:pt x="34313" y="64733"/>
                  <a:pt x="34313" y="64733"/>
                </a:cubicBezTo>
                <a:cubicBezTo>
                  <a:pt x="116898" y="64733"/>
                  <a:pt x="116898" y="64733"/>
                  <a:pt x="116898" y="64733"/>
                </a:cubicBezTo>
                <a:cubicBezTo>
                  <a:pt x="119806" y="64733"/>
                  <a:pt x="119806" y="61651"/>
                  <a:pt x="119806" y="58348"/>
                </a:cubicBezTo>
                <a:cubicBezTo>
                  <a:pt x="119806" y="58348"/>
                  <a:pt x="119806" y="55045"/>
                  <a:pt x="116898" y="55045"/>
                </a:cubicBezTo>
                <a:close/>
                <a:moveTo>
                  <a:pt x="96930" y="103706"/>
                </a:moveTo>
                <a:lnTo>
                  <a:pt x="96930" y="103706"/>
                </a:lnTo>
                <a:cubicBezTo>
                  <a:pt x="96930" y="107009"/>
                  <a:pt x="94216" y="110091"/>
                  <a:pt x="91308" y="110091"/>
                </a:cubicBezTo>
                <a:cubicBezTo>
                  <a:pt x="14151" y="110091"/>
                  <a:pt x="14151" y="110091"/>
                  <a:pt x="14151" y="110091"/>
                </a:cubicBezTo>
                <a:cubicBezTo>
                  <a:pt x="11437" y="110091"/>
                  <a:pt x="5621" y="107009"/>
                  <a:pt x="5621" y="103706"/>
                </a:cubicBezTo>
                <a:cubicBezTo>
                  <a:pt x="5621" y="16073"/>
                  <a:pt x="5621" y="16073"/>
                  <a:pt x="5621" y="16073"/>
                </a:cubicBezTo>
                <a:cubicBezTo>
                  <a:pt x="5621" y="12990"/>
                  <a:pt x="11437" y="6385"/>
                  <a:pt x="14151" y="6385"/>
                </a:cubicBezTo>
                <a:cubicBezTo>
                  <a:pt x="91308" y="6385"/>
                  <a:pt x="91308" y="6385"/>
                  <a:pt x="91308" y="6385"/>
                </a:cubicBezTo>
                <a:cubicBezTo>
                  <a:pt x="94216" y="6385"/>
                  <a:pt x="96930" y="12990"/>
                  <a:pt x="96930" y="16073"/>
                </a:cubicBezTo>
                <a:cubicBezTo>
                  <a:pt x="96930" y="29064"/>
                  <a:pt x="96930" y="29064"/>
                  <a:pt x="96930" y="29064"/>
                </a:cubicBezTo>
                <a:cubicBezTo>
                  <a:pt x="105654" y="29064"/>
                  <a:pt x="105654" y="29064"/>
                  <a:pt x="105654" y="29064"/>
                </a:cubicBezTo>
                <a:cubicBezTo>
                  <a:pt x="105654" y="16073"/>
                  <a:pt x="105654" y="16073"/>
                  <a:pt x="105654" y="16073"/>
                </a:cubicBezTo>
                <a:cubicBezTo>
                  <a:pt x="105654" y="6385"/>
                  <a:pt x="99838" y="0"/>
                  <a:pt x="91308" y="0"/>
                </a:cubicBezTo>
                <a:cubicBezTo>
                  <a:pt x="14151" y="0"/>
                  <a:pt x="14151" y="0"/>
                  <a:pt x="14151" y="0"/>
                </a:cubicBezTo>
                <a:cubicBezTo>
                  <a:pt x="5621" y="0"/>
                  <a:pt x="0" y="6385"/>
                  <a:pt x="0" y="16073"/>
                </a:cubicBezTo>
                <a:cubicBezTo>
                  <a:pt x="0" y="103706"/>
                  <a:pt x="0" y="103706"/>
                  <a:pt x="0" y="103706"/>
                </a:cubicBezTo>
                <a:cubicBezTo>
                  <a:pt x="0" y="113394"/>
                  <a:pt x="5621" y="119779"/>
                  <a:pt x="14151" y="119779"/>
                </a:cubicBezTo>
                <a:cubicBezTo>
                  <a:pt x="91308" y="119779"/>
                  <a:pt x="91308" y="119779"/>
                  <a:pt x="91308" y="119779"/>
                </a:cubicBezTo>
                <a:cubicBezTo>
                  <a:pt x="99838" y="119779"/>
                  <a:pt x="105654" y="113394"/>
                  <a:pt x="105654" y="103706"/>
                </a:cubicBezTo>
                <a:cubicBezTo>
                  <a:pt x="105654" y="90715"/>
                  <a:pt x="105654" y="90715"/>
                  <a:pt x="105654" y="90715"/>
                </a:cubicBezTo>
                <a:cubicBezTo>
                  <a:pt x="96930" y="90715"/>
                  <a:pt x="96930" y="90715"/>
                  <a:pt x="96930" y="90715"/>
                </a:cubicBezTo>
                <a:lnTo>
                  <a:pt x="96930" y="103706"/>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6" name="Shape 4638"/>
          <p:cNvSpPr/>
          <p:nvPr/>
        </p:nvSpPr>
        <p:spPr>
          <a:xfrm>
            <a:off x="8426520" y="2584440"/>
            <a:ext cx="261720" cy="263520"/>
          </a:xfrm>
          <a:custGeom>
            <a:avLst/>
            <a:gdLst>
              <a:gd name="textAreaLeft" fmla="*/ 0 w 261720"/>
              <a:gd name="textAreaRight" fmla="*/ 262080 w 261720"/>
              <a:gd name="textAreaTop" fmla="*/ 0 h 263520"/>
              <a:gd name="textAreaBottom" fmla="*/ 263880 h 263520"/>
            </a:gdLst>
            <a:ahLst/>
            <a:rect l="textAreaLeft" t="textAreaTop" r="textAreaRight" b="textAreaBottom"/>
            <a:pathLst>
              <a:path w="120000" h="120000">
                <a:moveTo>
                  <a:pt x="116697" y="0"/>
                </a:moveTo>
                <a:lnTo>
                  <a:pt x="116697" y="0"/>
                </a:lnTo>
                <a:cubicBezTo>
                  <a:pt x="84110" y="0"/>
                  <a:pt x="84110" y="0"/>
                  <a:pt x="84110" y="0"/>
                </a:cubicBezTo>
                <a:cubicBezTo>
                  <a:pt x="84110" y="0"/>
                  <a:pt x="81027" y="0"/>
                  <a:pt x="81027" y="3082"/>
                </a:cubicBezTo>
                <a:cubicBezTo>
                  <a:pt x="81027" y="6385"/>
                  <a:pt x="84110" y="6385"/>
                  <a:pt x="84110" y="6385"/>
                </a:cubicBezTo>
                <a:cubicBezTo>
                  <a:pt x="103706" y="6385"/>
                  <a:pt x="103706" y="6385"/>
                  <a:pt x="103706" y="6385"/>
                </a:cubicBezTo>
                <a:cubicBezTo>
                  <a:pt x="38972" y="68036"/>
                  <a:pt x="38972" y="68036"/>
                  <a:pt x="38972" y="68036"/>
                </a:cubicBezTo>
                <a:cubicBezTo>
                  <a:pt x="38972" y="71339"/>
                  <a:pt x="38972" y="74642"/>
                  <a:pt x="38972" y="74642"/>
                </a:cubicBezTo>
                <a:cubicBezTo>
                  <a:pt x="42055" y="77724"/>
                  <a:pt x="42055" y="77724"/>
                  <a:pt x="45357" y="74642"/>
                </a:cubicBezTo>
                <a:cubicBezTo>
                  <a:pt x="110091" y="12990"/>
                  <a:pt x="110091" y="12990"/>
                  <a:pt x="110091" y="12990"/>
                </a:cubicBezTo>
                <a:cubicBezTo>
                  <a:pt x="110091" y="32366"/>
                  <a:pt x="110091" y="32366"/>
                  <a:pt x="110091" y="32366"/>
                </a:cubicBezTo>
                <a:cubicBezTo>
                  <a:pt x="110091" y="35669"/>
                  <a:pt x="113394" y="38972"/>
                  <a:pt x="116697" y="38972"/>
                </a:cubicBezTo>
                <a:cubicBezTo>
                  <a:pt x="116697" y="38972"/>
                  <a:pt x="119779" y="35669"/>
                  <a:pt x="119779" y="32366"/>
                </a:cubicBezTo>
                <a:cubicBezTo>
                  <a:pt x="119779" y="3082"/>
                  <a:pt x="119779" y="3082"/>
                  <a:pt x="119779" y="3082"/>
                </a:cubicBezTo>
                <a:cubicBezTo>
                  <a:pt x="119779" y="0"/>
                  <a:pt x="116697" y="0"/>
                  <a:pt x="116697" y="0"/>
                </a:cubicBezTo>
                <a:close/>
                <a:moveTo>
                  <a:pt x="110091" y="103706"/>
                </a:moveTo>
                <a:lnTo>
                  <a:pt x="110091" y="103706"/>
                </a:lnTo>
                <a:cubicBezTo>
                  <a:pt x="110091" y="107009"/>
                  <a:pt x="107009" y="110091"/>
                  <a:pt x="103706" y="110091"/>
                </a:cubicBezTo>
                <a:cubicBezTo>
                  <a:pt x="16073" y="110091"/>
                  <a:pt x="16073" y="110091"/>
                  <a:pt x="16073" y="110091"/>
                </a:cubicBezTo>
                <a:cubicBezTo>
                  <a:pt x="9688" y="110091"/>
                  <a:pt x="6385" y="107009"/>
                  <a:pt x="6385" y="103706"/>
                </a:cubicBezTo>
                <a:cubicBezTo>
                  <a:pt x="6385" y="16073"/>
                  <a:pt x="6385" y="16073"/>
                  <a:pt x="6385" y="16073"/>
                </a:cubicBezTo>
                <a:cubicBezTo>
                  <a:pt x="6385" y="12990"/>
                  <a:pt x="12990" y="6385"/>
                  <a:pt x="16073" y="6385"/>
                </a:cubicBezTo>
                <a:cubicBezTo>
                  <a:pt x="64733" y="6385"/>
                  <a:pt x="64733" y="6385"/>
                  <a:pt x="64733" y="6385"/>
                </a:cubicBezTo>
                <a:cubicBezTo>
                  <a:pt x="64733" y="0"/>
                  <a:pt x="64733" y="0"/>
                  <a:pt x="64733" y="0"/>
                </a:cubicBezTo>
                <a:cubicBezTo>
                  <a:pt x="16073" y="0"/>
                  <a:pt x="16073" y="0"/>
                  <a:pt x="16073" y="0"/>
                </a:cubicBezTo>
                <a:cubicBezTo>
                  <a:pt x="6385" y="0"/>
                  <a:pt x="0" y="9688"/>
                  <a:pt x="0" y="19376"/>
                </a:cubicBezTo>
                <a:cubicBezTo>
                  <a:pt x="0" y="103706"/>
                  <a:pt x="0" y="103706"/>
                  <a:pt x="0" y="103706"/>
                </a:cubicBezTo>
                <a:cubicBezTo>
                  <a:pt x="0" y="113394"/>
                  <a:pt x="6385" y="119779"/>
                  <a:pt x="16073" y="119779"/>
                </a:cubicBezTo>
                <a:cubicBezTo>
                  <a:pt x="100403" y="119779"/>
                  <a:pt x="100403" y="119779"/>
                  <a:pt x="100403" y="119779"/>
                </a:cubicBezTo>
                <a:cubicBezTo>
                  <a:pt x="110091" y="119779"/>
                  <a:pt x="119779" y="113394"/>
                  <a:pt x="119779" y="103706"/>
                </a:cubicBezTo>
                <a:cubicBezTo>
                  <a:pt x="119779" y="55045"/>
                  <a:pt x="119779" y="55045"/>
                  <a:pt x="119779" y="55045"/>
                </a:cubicBezTo>
                <a:cubicBezTo>
                  <a:pt x="110091" y="55045"/>
                  <a:pt x="110091" y="55045"/>
                  <a:pt x="110091" y="55045"/>
                </a:cubicBezTo>
                <a:lnTo>
                  <a:pt x="110091" y="103706"/>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7" name="Shape 4640"/>
          <p:cNvSpPr/>
          <p:nvPr/>
        </p:nvSpPr>
        <p:spPr>
          <a:xfrm>
            <a:off x="7421400" y="2563920"/>
            <a:ext cx="306720" cy="304560"/>
          </a:xfrm>
          <a:custGeom>
            <a:avLst/>
            <a:gdLst>
              <a:gd name="textAreaLeft" fmla="*/ 0 w 306720"/>
              <a:gd name="textAreaRight" fmla="*/ 307080 w 306720"/>
              <a:gd name="textAreaTop" fmla="*/ 0 h 304560"/>
              <a:gd name="textAreaBottom" fmla="*/ 304920 h 304560"/>
            </a:gdLst>
            <a:ahLst/>
            <a:rect l="textAreaLeft" t="textAreaTop" r="textAreaRight" b="textAreaBottom"/>
            <a:pathLst>
              <a:path w="120000" h="120000">
                <a:moveTo>
                  <a:pt x="83659" y="102965"/>
                </a:moveTo>
                <a:lnTo>
                  <a:pt x="83659" y="102965"/>
                </a:lnTo>
                <a:cubicBezTo>
                  <a:pt x="83659" y="108643"/>
                  <a:pt x="77981" y="111293"/>
                  <a:pt x="75331" y="111293"/>
                </a:cubicBezTo>
                <a:cubicBezTo>
                  <a:pt x="16845" y="111293"/>
                  <a:pt x="16845" y="111293"/>
                  <a:pt x="16845" y="111293"/>
                </a:cubicBezTo>
                <a:cubicBezTo>
                  <a:pt x="11167" y="111293"/>
                  <a:pt x="8328" y="108643"/>
                  <a:pt x="8328" y="102965"/>
                </a:cubicBezTo>
                <a:cubicBezTo>
                  <a:pt x="8328" y="44479"/>
                  <a:pt x="8328" y="44479"/>
                  <a:pt x="8328" y="44479"/>
                </a:cubicBezTo>
                <a:cubicBezTo>
                  <a:pt x="8328" y="41829"/>
                  <a:pt x="11167" y="36151"/>
                  <a:pt x="16845" y="36151"/>
                </a:cubicBezTo>
                <a:cubicBezTo>
                  <a:pt x="22334" y="36151"/>
                  <a:pt x="22334" y="36151"/>
                  <a:pt x="22334" y="36151"/>
                </a:cubicBezTo>
                <a:cubicBezTo>
                  <a:pt x="22334" y="30662"/>
                  <a:pt x="22334" y="30662"/>
                  <a:pt x="22334" y="30662"/>
                </a:cubicBezTo>
                <a:cubicBezTo>
                  <a:pt x="16845" y="30662"/>
                  <a:pt x="16845" y="30662"/>
                  <a:pt x="16845" y="30662"/>
                </a:cubicBezTo>
                <a:cubicBezTo>
                  <a:pt x="8328" y="30662"/>
                  <a:pt x="0" y="36151"/>
                  <a:pt x="0" y="44479"/>
                </a:cubicBezTo>
                <a:cubicBezTo>
                  <a:pt x="0" y="102965"/>
                  <a:pt x="0" y="102965"/>
                  <a:pt x="0" y="102965"/>
                </a:cubicBezTo>
                <a:cubicBezTo>
                  <a:pt x="0" y="111293"/>
                  <a:pt x="8328" y="119810"/>
                  <a:pt x="16845" y="119810"/>
                </a:cubicBezTo>
                <a:cubicBezTo>
                  <a:pt x="75331" y="119810"/>
                  <a:pt x="75331" y="119810"/>
                  <a:pt x="75331" y="119810"/>
                </a:cubicBezTo>
                <a:cubicBezTo>
                  <a:pt x="83659" y="119810"/>
                  <a:pt x="89148" y="111293"/>
                  <a:pt x="89148" y="102965"/>
                </a:cubicBezTo>
                <a:cubicBezTo>
                  <a:pt x="89148" y="97476"/>
                  <a:pt x="89148" y="97476"/>
                  <a:pt x="89148" y="97476"/>
                </a:cubicBezTo>
                <a:cubicBezTo>
                  <a:pt x="83659" y="97476"/>
                  <a:pt x="83659" y="97476"/>
                  <a:pt x="83659" y="97476"/>
                </a:cubicBezTo>
                <a:lnTo>
                  <a:pt x="83659" y="102965"/>
                </a:lnTo>
                <a:close/>
                <a:moveTo>
                  <a:pt x="105993" y="0"/>
                </a:moveTo>
                <a:lnTo>
                  <a:pt x="105993" y="0"/>
                </a:lnTo>
                <a:cubicBezTo>
                  <a:pt x="44668" y="0"/>
                  <a:pt x="44668" y="0"/>
                  <a:pt x="44668" y="0"/>
                </a:cubicBezTo>
                <a:cubicBezTo>
                  <a:pt x="36340" y="0"/>
                  <a:pt x="30662" y="5488"/>
                  <a:pt x="30662" y="13817"/>
                </a:cubicBezTo>
                <a:cubicBezTo>
                  <a:pt x="30662" y="75141"/>
                  <a:pt x="30662" y="75141"/>
                  <a:pt x="30662" y="75141"/>
                </a:cubicBezTo>
                <a:cubicBezTo>
                  <a:pt x="30662" y="83470"/>
                  <a:pt x="36340" y="89148"/>
                  <a:pt x="44668" y="89148"/>
                </a:cubicBezTo>
                <a:cubicBezTo>
                  <a:pt x="105993" y="89148"/>
                  <a:pt x="105993" y="89148"/>
                  <a:pt x="105993" y="89148"/>
                </a:cubicBezTo>
                <a:cubicBezTo>
                  <a:pt x="114321" y="89148"/>
                  <a:pt x="119810" y="83470"/>
                  <a:pt x="119810" y="75141"/>
                </a:cubicBezTo>
                <a:cubicBezTo>
                  <a:pt x="119810" y="13817"/>
                  <a:pt x="119810" y="13817"/>
                  <a:pt x="119810" y="13817"/>
                </a:cubicBezTo>
                <a:cubicBezTo>
                  <a:pt x="119810" y="5488"/>
                  <a:pt x="114321" y="0"/>
                  <a:pt x="105993" y="0"/>
                </a:cubicBezTo>
                <a:close/>
                <a:moveTo>
                  <a:pt x="111482" y="75141"/>
                </a:moveTo>
                <a:lnTo>
                  <a:pt x="111482" y="75141"/>
                </a:lnTo>
                <a:cubicBezTo>
                  <a:pt x="111482" y="77981"/>
                  <a:pt x="108643" y="80630"/>
                  <a:pt x="105993" y="80630"/>
                </a:cubicBezTo>
                <a:cubicBezTo>
                  <a:pt x="44668" y="80630"/>
                  <a:pt x="44668" y="80630"/>
                  <a:pt x="44668" y="80630"/>
                </a:cubicBezTo>
                <a:cubicBezTo>
                  <a:pt x="41829" y="80630"/>
                  <a:pt x="39179" y="77981"/>
                  <a:pt x="39179" y="75141"/>
                </a:cubicBezTo>
                <a:cubicBezTo>
                  <a:pt x="39179" y="13817"/>
                  <a:pt x="39179" y="13817"/>
                  <a:pt x="39179" y="13817"/>
                </a:cubicBezTo>
                <a:cubicBezTo>
                  <a:pt x="39179" y="10977"/>
                  <a:pt x="41829" y="8328"/>
                  <a:pt x="44668" y="8328"/>
                </a:cubicBezTo>
                <a:cubicBezTo>
                  <a:pt x="105993" y="8328"/>
                  <a:pt x="105993" y="8328"/>
                  <a:pt x="105993" y="8328"/>
                </a:cubicBezTo>
                <a:cubicBezTo>
                  <a:pt x="108643" y="8328"/>
                  <a:pt x="111482" y="10977"/>
                  <a:pt x="111482" y="13817"/>
                </a:cubicBezTo>
                <a:lnTo>
                  <a:pt x="111482" y="75141"/>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8" name="Shape 4642"/>
          <p:cNvSpPr/>
          <p:nvPr/>
        </p:nvSpPr>
        <p:spPr>
          <a:xfrm>
            <a:off x="6459480" y="2584440"/>
            <a:ext cx="270000" cy="263520"/>
          </a:xfrm>
          <a:custGeom>
            <a:avLst/>
            <a:gdLst>
              <a:gd name="textAreaLeft" fmla="*/ 0 w 270000"/>
              <a:gd name="textAreaRight" fmla="*/ 270360 w 270000"/>
              <a:gd name="textAreaTop" fmla="*/ 0 h 263520"/>
              <a:gd name="textAreaBottom" fmla="*/ 263880 h 263520"/>
            </a:gdLst>
            <a:ahLst/>
            <a:rect l="textAreaLeft" t="textAreaTop" r="textAreaRight" b="textAreaBottom"/>
            <a:pathLst>
              <a:path w="120000" h="120000">
                <a:moveTo>
                  <a:pt x="34652" y="68036"/>
                </a:moveTo>
                <a:lnTo>
                  <a:pt x="34652" y="68036"/>
                </a:lnTo>
                <a:cubicBezTo>
                  <a:pt x="19037" y="68036"/>
                  <a:pt x="19037" y="68036"/>
                  <a:pt x="19037" y="68036"/>
                </a:cubicBezTo>
                <a:cubicBezTo>
                  <a:pt x="9411" y="68036"/>
                  <a:pt x="0" y="74642"/>
                  <a:pt x="0" y="84110"/>
                </a:cubicBezTo>
                <a:cubicBezTo>
                  <a:pt x="0" y="103706"/>
                  <a:pt x="0" y="103706"/>
                  <a:pt x="0" y="103706"/>
                </a:cubicBezTo>
                <a:cubicBezTo>
                  <a:pt x="0" y="113394"/>
                  <a:pt x="9411" y="119779"/>
                  <a:pt x="19037" y="119779"/>
                </a:cubicBezTo>
                <a:cubicBezTo>
                  <a:pt x="34652" y="119779"/>
                  <a:pt x="34652" y="119779"/>
                  <a:pt x="34652" y="119779"/>
                </a:cubicBezTo>
                <a:cubicBezTo>
                  <a:pt x="44064" y="119779"/>
                  <a:pt x="50481" y="113394"/>
                  <a:pt x="50481" y="103706"/>
                </a:cubicBezTo>
                <a:cubicBezTo>
                  <a:pt x="50481" y="84110"/>
                  <a:pt x="50481" y="84110"/>
                  <a:pt x="50481" y="84110"/>
                </a:cubicBezTo>
                <a:cubicBezTo>
                  <a:pt x="50481" y="74642"/>
                  <a:pt x="44064" y="68036"/>
                  <a:pt x="34652" y="68036"/>
                </a:cubicBezTo>
                <a:close/>
                <a:moveTo>
                  <a:pt x="44064" y="103706"/>
                </a:moveTo>
                <a:lnTo>
                  <a:pt x="44064" y="103706"/>
                </a:lnTo>
                <a:cubicBezTo>
                  <a:pt x="44064" y="107009"/>
                  <a:pt x="37860" y="110091"/>
                  <a:pt x="34652" y="110091"/>
                </a:cubicBezTo>
                <a:cubicBezTo>
                  <a:pt x="19037" y="110091"/>
                  <a:pt x="19037" y="110091"/>
                  <a:pt x="19037" y="110091"/>
                </a:cubicBezTo>
                <a:cubicBezTo>
                  <a:pt x="12620" y="110091"/>
                  <a:pt x="9411" y="107009"/>
                  <a:pt x="9411" y="103706"/>
                </a:cubicBezTo>
                <a:cubicBezTo>
                  <a:pt x="9411" y="84110"/>
                  <a:pt x="9411" y="84110"/>
                  <a:pt x="9411" y="84110"/>
                </a:cubicBezTo>
                <a:cubicBezTo>
                  <a:pt x="9411" y="81027"/>
                  <a:pt x="12620" y="77724"/>
                  <a:pt x="19037" y="77724"/>
                </a:cubicBezTo>
                <a:cubicBezTo>
                  <a:pt x="34652" y="77724"/>
                  <a:pt x="34652" y="77724"/>
                  <a:pt x="34652" y="77724"/>
                </a:cubicBezTo>
                <a:cubicBezTo>
                  <a:pt x="37860" y="77724"/>
                  <a:pt x="44064" y="81027"/>
                  <a:pt x="44064" y="84110"/>
                </a:cubicBezTo>
                <a:lnTo>
                  <a:pt x="44064" y="103706"/>
                </a:lnTo>
                <a:close/>
                <a:moveTo>
                  <a:pt x="34652" y="0"/>
                </a:moveTo>
                <a:lnTo>
                  <a:pt x="34652" y="0"/>
                </a:lnTo>
                <a:cubicBezTo>
                  <a:pt x="19037" y="0"/>
                  <a:pt x="19037" y="0"/>
                  <a:pt x="19037" y="0"/>
                </a:cubicBezTo>
                <a:cubicBezTo>
                  <a:pt x="9411" y="0"/>
                  <a:pt x="0" y="6385"/>
                  <a:pt x="0" y="16073"/>
                </a:cubicBezTo>
                <a:cubicBezTo>
                  <a:pt x="0" y="32366"/>
                  <a:pt x="0" y="32366"/>
                  <a:pt x="0" y="32366"/>
                </a:cubicBezTo>
                <a:cubicBezTo>
                  <a:pt x="0" y="42055"/>
                  <a:pt x="9411" y="51743"/>
                  <a:pt x="19037" y="51743"/>
                </a:cubicBezTo>
                <a:cubicBezTo>
                  <a:pt x="34652" y="51743"/>
                  <a:pt x="34652" y="51743"/>
                  <a:pt x="34652" y="51743"/>
                </a:cubicBezTo>
                <a:cubicBezTo>
                  <a:pt x="44064" y="51743"/>
                  <a:pt x="50481" y="42055"/>
                  <a:pt x="50481" y="32366"/>
                </a:cubicBezTo>
                <a:cubicBezTo>
                  <a:pt x="50481" y="16073"/>
                  <a:pt x="50481" y="16073"/>
                  <a:pt x="50481" y="16073"/>
                </a:cubicBezTo>
                <a:cubicBezTo>
                  <a:pt x="50481" y="6385"/>
                  <a:pt x="44064" y="0"/>
                  <a:pt x="34652" y="0"/>
                </a:cubicBezTo>
                <a:close/>
                <a:moveTo>
                  <a:pt x="44064" y="32366"/>
                </a:moveTo>
                <a:lnTo>
                  <a:pt x="44064" y="32366"/>
                </a:lnTo>
                <a:cubicBezTo>
                  <a:pt x="44064" y="38972"/>
                  <a:pt x="37860" y="42055"/>
                  <a:pt x="34652" y="42055"/>
                </a:cubicBezTo>
                <a:cubicBezTo>
                  <a:pt x="19037" y="42055"/>
                  <a:pt x="19037" y="42055"/>
                  <a:pt x="19037" y="42055"/>
                </a:cubicBezTo>
                <a:cubicBezTo>
                  <a:pt x="12620" y="42055"/>
                  <a:pt x="9411" y="38972"/>
                  <a:pt x="9411" y="32366"/>
                </a:cubicBezTo>
                <a:cubicBezTo>
                  <a:pt x="9411" y="16073"/>
                  <a:pt x="9411" y="16073"/>
                  <a:pt x="9411" y="16073"/>
                </a:cubicBezTo>
                <a:cubicBezTo>
                  <a:pt x="9411" y="12990"/>
                  <a:pt x="12620" y="6385"/>
                  <a:pt x="19037" y="6385"/>
                </a:cubicBezTo>
                <a:cubicBezTo>
                  <a:pt x="34652" y="6385"/>
                  <a:pt x="34652" y="6385"/>
                  <a:pt x="34652" y="6385"/>
                </a:cubicBezTo>
                <a:cubicBezTo>
                  <a:pt x="37860" y="6385"/>
                  <a:pt x="44064" y="12990"/>
                  <a:pt x="44064" y="16073"/>
                </a:cubicBezTo>
                <a:lnTo>
                  <a:pt x="44064" y="32366"/>
                </a:lnTo>
                <a:close/>
                <a:moveTo>
                  <a:pt x="100748" y="68036"/>
                </a:moveTo>
                <a:lnTo>
                  <a:pt x="100748" y="68036"/>
                </a:lnTo>
                <a:cubicBezTo>
                  <a:pt x="85133" y="68036"/>
                  <a:pt x="85133" y="68036"/>
                  <a:pt x="85133" y="68036"/>
                </a:cubicBezTo>
                <a:cubicBezTo>
                  <a:pt x="75508" y="68036"/>
                  <a:pt x="69304" y="74642"/>
                  <a:pt x="69304" y="84110"/>
                </a:cubicBezTo>
                <a:cubicBezTo>
                  <a:pt x="69304" y="103706"/>
                  <a:pt x="69304" y="103706"/>
                  <a:pt x="69304" y="103706"/>
                </a:cubicBezTo>
                <a:cubicBezTo>
                  <a:pt x="69304" y="113394"/>
                  <a:pt x="75508" y="119779"/>
                  <a:pt x="85133" y="119779"/>
                </a:cubicBezTo>
                <a:cubicBezTo>
                  <a:pt x="100748" y="119779"/>
                  <a:pt x="100748" y="119779"/>
                  <a:pt x="100748" y="119779"/>
                </a:cubicBezTo>
                <a:cubicBezTo>
                  <a:pt x="110160" y="119779"/>
                  <a:pt x="119786" y="113394"/>
                  <a:pt x="119786" y="103706"/>
                </a:cubicBezTo>
                <a:cubicBezTo>
                  <a:pt x="119786" y="84110"/>
                  <a:pt x="119786" y="84110"/>
                  <a:pt x="119786" y="84110"/>
                </a:cubicBezTo>
                <a:cubicBezTo>
                  <a:pt x="119786" y="74642"/>
                  <a:pt x="110160" y="68036"/>
                  <a:pt x="100748" y="68036"/>
                </a:cubicBezTo>
                <a:close/>
                <a:moveTo>
                  <a:pt x="110160" y="103706"/>
                </a:moveTo>
                <a:lnTo>
                  <a:pt x="110160" y="103706"/>
                </a:lnTo>
                <a:cubicBezTo>
                  <a:pt x="110160" y="107009"/>
                  <a:pt x="107165" y="110091"/>
                  <a:pt x="100748" y="110091"/>
                </a:cubicBezTo>
                <a:cubicBezTo>
                  <a:pt x="85133" y="110091"/>
                  <a:pt x="85133" y="110091"/>
                  <a:pt x="85133" y="110091"/>
                </a:cubicBezTo>
                <a:cubicBezTo>
                  <a:pt x="81925" y="110091"/>
                  <a:pt x="75508" y="107009"/>
                  <a:pt x="75508" y="103706"/>
                </a:cubicBezTo>
                <a:cubicBezTo>
                  <a:pt x="75508" y="84110"/>
                  <a:pt x="75508" y="84110"/>
                  <a:pt x="75508" y="84110"/>
                </a:cubicBezTo>
                <a:cubicBezTo>
                  <a:pt x="75508" y="81027"/>
                  <a:pt x="81925" y="77724"/>
                  <a:pt x="85133" y="77724"/>
                </a:cubicBezTo>
                <a:cubicBezTo>
                  <a:pt x="100748" y="77724"/>
                  <a:pt x="100748" y="77724"/>
                  <a:pt x="100748" y="77724"/>
                </a:cubicBezTo>
                <a:cubicBezTo>
                  <a:pt x="107165" y="77724"/>
                  <a:pt x="110160" y="81027"/>
                  <a:pt x="110160" y="84110"/>
                </a:cubicBezTo>
                <a:lnTo>
                  <a:pt x="110160" y="103706"/>
                </a:lnTo>
                <a:close/>
                <a:moveTo>
                  <a:pt x="100748" y="0"/>
                </a:moveTo>
                <a:lnTo>
                  <a:pt x="100748" y="0"/>
                </a:lnTo>
                <a:cubicBezTo>
                  <a:pt x="85133" y="0"/>
                  <a:pt x="85133" y="0"/>
                  <a:pt x="85133" y="0"/>
                </a:cubicBezTo>
                <a:cubicBezTo>
                  <a:pt x="75508" y="0"/>
                  <a:pt x="69304" y="6385"/>
                  <a:pt x="69304" y="16073"/>
                </a:cubicBezTo>
                <a:cubicBezTo>
                  <a:pt x="69304" y="32366"/>
                  <a:pt x="69304" y="32366"/>
                  <a:pt x="69304" y="32366"/>
                </a:cubicBezTo>
                <a:cubicBezTo>
                  <a:pt x="69304" y="42055"/>
                  <a:pt x="75508" y="51743"/>
                  <a:pt x="85133" y="51743"/>
                </a:cubicBezTo>
                <a:cubicBezTo>
                  <a:pt x="100748" y="51743"/>
                  <a:pt x="100748" y="51743"/>
                  <a:pt x="100748" y="51743"/>
                </a:cubicBezTo>
                <a:cubicBezTo>
                  <a:pt x="110160" y="51743"/>
                  <a:pt x="119786" y="42055"/>
                  <a:pt x="119786" y="32366"/>
                </a:cubicBezTo>
                <a:cubicBezTo>
                  <a:pt x="119786" y="16073"/>
                  <a:pt x="119786" y="16073"/>
                  <a:pt x="119786" y="16073"/>
                </a:cubicBezTo>
                <a:cubicBezTo>
                  <a:pt x="119786" y="6385"/>
                  <a:pt x="110160" y="0"/>
                  <a:pt x="100748" y="0"/>
                </a:cubicBezTo>
                <a:close/>
                <a:moveTo>
                  <a:pt x="110160" y="32366"/>
                </a:moveTo>
                <a:lnTo>
                  <a:pt x="110160" y="32366"/>
                </a:lnTo>
                <a:cubicBezTo>
                  <a:pt x="110160" y="38972"/>
                  <a:pt x="107165" y="42055"/>
                  <a:pt x="100748" y="42055"/>
                </a:cubicBezTo>
                <a:cubicBezTo>
                  <a:pt x="85133" y="42055"/>
                  <a:pt x="85133" y="42055"/>
                  <a:pt x="85133" y="42055"/>
                </a:cubicBezTo>
                <a:cubicBezTo>
                  <a:pt x="81925" y="42055"/>
                  <a:pt x="75508" y="38972"/>
                  <a:pt x="75508" y="32366"/>
                </a:cubicBezTo>
                <a:cubicBezTo>
                  <a:pt x="75508" y="16073"/>
                  <a:pt x="75508" y="16073"/>
                  <a:pt x="75508" y="16073"/>
                </a:cubicBezTo>
                <a:cubicBezTo>
                  <a:pt x="75508" y="12990"/>
                  <a:pt x="81925" y="6385"/>
                  <a:pt x="85133" y="6385"/>
                </a:cubicBezTo>
                <a:cubicBezTo>
                  <a:pt x="100748" y="6385"/>
                  <a:pt x="100748" y="6385"/>
                  <a:pt x="100748" y="6385"/>
                </a:cubicBezTo>
                <a:cubicBezTo>
                  <a:pt x="107165" y="6385"/>
                  <a:pt x="110160" y="12990"/>
                  <a:pt x="110160" y="16073"/>
                </a:cubicBezTo>
                <a:lnTo>
                  <a:pt x="110160" y="32366"/>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9" name="Shape 4644"/>
          <p:cNvSpPr/>
          <p:nvPr/>
        </p:nvSpPr>
        <p:spPr>
          <a:xfrm>
            <a:off x="10366200" y="2075040"/>
            <a:ext cx="304920" cy="298440"/>
          </a:xfrm>
          <a:custGeom>
            <a:avLst/>
            <a:gdLst>
              <a:gd name="textAreaLeft" fmla="*/ 0 w 304920"/>
              <a:gd name="textAreaRight" fmla="*/ 305280 w 304920"/>
              <a:gd name="textAreaTop" fmla="*/ 0 h 298440"/>
              <a:gd name="textAreaBottom" fmla="*/ 298800 h 298440"/>
            </a:gdLst>
            <a:ahLst/>
            <a:rect l="textAreaLeft" t="textAreaTop" r="textAreaRight" b="textAreaBottom"/>
            <a:pathLst>
              <a:path w="120000" h="120000">
                <a:moveTo>
                  <a:pt x="0" y="14151"/>
                </a:moveTo>
                <a:lnTo>
                  <a:pt x="0" y="14151"/>
                </a:lnTo>
                <a:cubicBezTo>
                  <a:pt x="0" y="45557"/>
                  <a:pt x="0" y="45557"/>
                  <a:pt x="0" y="45557"/>
                </a:cubicBezTo>
                <a:cubicBezTo>
                  <a:pt x="8517" y="45557"/>
                  <a:pt x="8517" y="45557"/>
                  <a:pt x="8517" y="45557"/>
                </a:cubicBezTo>
                <a:cubicBezTo>
                  <a:pt x="8517" y="14151"/>
                  <a:pt x="8517" y="14151"/>
                  <a:pt x="8517" y="14151"/>
                </a:cubicBezTo>
                <a:cubicBezTo>
                  <a:pt x="8517" y="11437"/>
                  <a:pt x="11167" y="5621"/>
                  <a:pt x="16845" y="5621"/>
                </a:cubicBezTo>
                <a:cubicBezTo>
                  <a:pt x="44668" y="5621"/>
                  <a:pt x="44668" y="5621"/>
                  <a:pt x="44668" y="5621"/>
                </a:cubicBezTo>
                <a:cubicBezTo>
                  <a:pt x="44668" y="0"/>
                  <a:pt x="44668" y="0"/>
                  <a:pt x="44668" y="0"/>
                </a:cubicBezTo>
                <a:cubicBezTo>
                  <a:pt x="16845" y="0"/>
                  <a:pt x="16845" y="0"/>
                  <a:pt x="16845" y="0"/>
                </a:cubicBezTo>
                <a:cubicBezTo>
                  <a:pt x="8517" y="0"/>
                  <a:pt x="0" y="5621"/>
                  <a:pt x="0" y="14151"/>
                </a:cubicBezTo>
                <a:close/>
                <a:moveTo>
                  <a:pt x="8517" y="105654"/>
                </a:moveTo>
                <a:lnTo>
                  <a:pt x="8517" y="105654"/>
                </a:lnTo>
                <a:cubicBezTo>
                  <a:pt x="8517" y="74054"/>
                  <a:pt x="8517" y="74054"/>
                  <a:pt x="8517" y="74054"/>
                </a:cubicBezTo>
                <a:cubicBezTo>
                  <a:pt x="0" y="74054"/>
                  <a:pt x="0" y="74054"/>
                  <a:pt x="0" y="74054"/>
                </a:cubicBezTo>
                <a:cubicBezTo>
                  <a:pt x="0" y="105654"/>
                  <a:pt x="0" y="105654"/>
                  <a:pt x="0" y="105654"/>
                </a:cubicBezTo>
                <a:cubicBezTo>
                  <a:pt x="0" y="114184"/>
                  <a:pt x="8517" y="119806"/>
                  <a:pt x="16845" y="119806"/>
                </a:cubicBezTo>
                <a:cubicBezTo>
                  <a:pt x="44668" y="119806"/>
                  <a:pt x="44668" y="119806"/>
                  <a:pt x="44668" y="119806"/>
                </a:cubicBezTo>
                <a:cubicBezTo>
                  <a:pt x="44668" y="114184"/>
                  <a:pt x="44668" y="114184"/>
                  <a:pt x="44668" y="114184"/>
                </a:cubicBezTo>
                <a:cubicBezTo>
                  <a:pt x="16845" y="114184"/>
                  <a:pt x="16845" y="114184"/>
                  <a:pt x="16845" y="114184"/>
                </a:cubicBezTo>
                <a:cubicBezTo>
                  <a:pt x="11167" y="114184"/>
                  <a:pt x="8517" y="108368"/>
                  <a:pt x="8517" y="105654"/>
                </a:cubicBezTo>
                <a:close/>
                <a:moveTo>
                  <a:pt x="111482" y="105654"/>
                </a:moveTo>
                <a:lnTo>
                  <a:pt x="111482" y="105654"/>
                </a:lnTo>
                <a:cubicBezTo>
                  <a:pt x="111482" y="108368"/>
                  <a:pt x="108832" y="114184"/>
                  <a:pt x="105993" y="114184"/>
                </a:cubicBezTo>
                <a:cubicBezTo>
                  <a:pt x="75331" y="114184"/>
                  <a:pt x="75331" y="114184"/>
                  <a:pt x="75331" y="114184"/>
                </a:cubicBezTo>
                <a:cubicBezTo>
                  <a:pt x="75331" y="119806"/>
                  <a:pt x="75331" y="119806"/>
                  <a:pt x="75331" y="119806"/>
                </a:cubicBezTo>
                <a:cubicBezTo>
                  <a:pt x="105993" y="119806"/>
                  <a:pt x="105993" y="119806"/>
                  <a:pt x="105993" y="119806"/>
                </a:cubicBezTo>
                <a:cubicBezTo>
                  <a:pt x="114321" y="119806"/>
                  <a:pt x="119810" y="114184"/>
                  <a:pt x="119810" y="105654"/>
                </a:cubicBezTo>
                <a:cubicBezTo>
                  <a:pt x="119810" y="74054"/>
                  <a:pt x="119810" y="74054"/>
                  <a:pt x="119810" y="74054"/>
                </a:cubicBezTo>
                <a:cubicBezTo>
                  <a:pt x="111482" y="74054"/>
                  <a:pt x="111482" y="74054"/>
                  <a:pt x="111482" y="74054"/>
                </a:cubicBezTo>
                <a:lnTo>
                  <a:pt x="111482" y="105654"/>
                </a:lnTo>
                <a:close/>
                <a:moveTo>
                  <a:pt x="105993" y="0"/>
                </a:moveTo>
                <a:lnTo>
                  <a:pt x="105993" y="0"/>
                </a:lnTo>
                <a:cubicBezTo>
                  <a:pt x="75331" y="0"/>
                  <a:pt x="75331" y="0"/>
                  <a:pt x="75331" y="0"/>
                </a:cubicBezTo>
                <a:cubicBezTo>
                  <a:pt x="75331" y="5621"/>
                  <a:pt x="75331" y="5621"/>
                  <a:pt x="75331" y="5621"/>
                </a:cubicBezTo>
                <a:cubicBezTo>
                  <a:pt x="105993" y="5621"/>
                  <a:pt x="105993" y="5621"/>
                  <a:pt x="105993" y="5621"/>
                </a:cubicBezTo>
                <a:cubicBezTo>
                  <a:pt x="108832" y="5621"/>
                  <a:pt x="111482" y="11437"/>
                  <a:pt x="111482" y="14151"/>
                </a:cubicBezTo>
                <a:cubicBezTo>
                  <a:pt x="111482" y="45557"/>
                  <a:pt x="111482" y="45557"/>
                  <a:pt x="111482" y="45557"/>
                </a:cubicBezTo>
                <a:cubicBezTo>
                  <a:pt x="119810" y="45557"/>
                  <a:pt x="119810" y="45557"/>
                  <a:pt x="119810" y="45557"/>
                </a:cubicBezTo>
                <a:cubicBezTo>
                  <a:pt x="119810" y="14151"/>
                  <a:pt x="119810" y="14151"/>
                  <a:pt x="119810" y="14151"/>
                </a:cubicBezTo>
                <a:cubicBezTo>
                  <a:pt x="119810" y="5621"/>
                  <a:pt x="114321" y="0"/>
                  <a:pt x="105993" y="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0" name="Shape 4646"/>
          <p:cNvSpPr/>
          <p:nvPr/>
        </p:nvSpPr>
        <p:spPr>
          <a:xfrm>
            <a:off x="9396360" y="2066760"/>
            <a:ext cx="295200" cy="297000"/>
          </a:xfrm>
          <a:custGeom>
            <a:avLst/>
            <a:gdLst>
              <a:gd name="textAreaLeft" fmla="*/ 0 w 295200"/>
              <a:gd name="textAreaRight" fmla="*/ 295560 w 295200"/>
              <a:gd name="textAreaTop" fmla="*/ 0 h 297000"/>
              <a:gd name="textAreaBottom" fmla="*/ 297360 h 297000"/>
            </a:gdLst>
            <a:ahLst/>
            <a:rect l="textAreaLeft" t="textAreaTop" r="textAreaRight" b="textAreaBottom"/>
            <a:pathLst>
              <a:path w="120000" h="120000">
                <a:moveTo>
                  <a:pt x="94022" y="11437"/>
                </a:moveTo>
                <a:lnTo>
                  <a:pt x="94022" y="11437"/>
                </a:lnTo>
                <a:cubicBezTo>
                  <a:pt x="76962" y="0"/>
                  <a:pt x="54087" y="5815"/>
                  <a:pt x="42843" y="22875"/>
                </a:cubicBezTo>
                <a:cubicBezTo>
                  <a:pt x="28497" y="48465"/>
                  <a:pt x="28497" y="48465"/>
                  <a:pt x="28497" y="48465"/>
                </a:cubicBezTo>
                <a:cubicBezTo>
                  <a:pt x="0" y="68626"/>
                  <a:pt x="0" y="68626"/>
                  <a:pt x="0" y="68626"/>
                </a:cubicBezTo>
                <a:cubicBezTo>
                  <a:pt x="28497" y="85686"/>
                  <a:pt x="28497" y="85686"/>
                  <a:pt x="28497" y="85686"/>
                </a:cubicBezTo>
                <a:cubicBezTo>
                  <a:pt x="25589" y="94216"/>
                  <a:pt x="28497" y="105654"/>
                  <a:pt x="37027" y="111276"/>
                </a:cubicBezTo>
                <a:cubicBezTo>
                  <a:pt x="45557" y="114184"/>
                  <a:pt x="56995" y="111276"/>
                  <a:pt x="62810" y="102746"/>
                </a:cubicBezTo>
                <a:cubicBezTo>
                  <a:pt x="91308" y="119806"/>
                  <a:pt x="91308" y="119806"/>
                  <a:pt x="91308" y="119806"/>
                </a:cubicBezTo>
                <a:cubicBezTo>
                  <a:pt x="94022" y="85686"/>
                  <a:pt x="94022" y="85686"/>
                  <a:pt x="94022" y="85686"/>
                </a:cubicBezTo>
                <a:cubicBezTo>
                  <a:pt x="108368" y="59903"/>
                  <a:pt x="108368" y="59903"/>
                  <a:pt x="108368" y="59903"/>
                </a:cubicBezTo>
                <a:cubicBezTo>
                  <a:pt x="119806" y="42843"/>
                  <a:pt x="113990" y="19967"/>
                  <a:pt x="94022" y="11437"/>
                </a:cubicBezTo>
                <a:close/>
                <a:moveTo>
                  <a:pt x="39935" y="102746"/>
                </a:moveTo>
                <a:lnTo>
                  <a:pt x="39935" y="102746"/>
                </a:lnTo>
                <a:cubicBezTo>
                  <a:pt x="34119" y="99838"/>
                  <a:pt x="34119" y="94216"/>
                  <a:pt x="37027" y="88400"/>
                </a:cubicBezTo>
                <a:cubicBezTo>
                  <a:pt x="56995" y="99838"/>
                  <a:pt x="56995" y="99838"/>
                  <a:pt x="56995" y="99838"/>
                </a:cubicBezTo>
                <a:cubicBezTo>
                  <a:pt x="51373" y="105654"/>
                  <a:pt x="45557" y="105654"/>
                  <a:pt x="39935" y="102746"/>
                </a:cubicBezTo>
                <a:close/>
                <a:moveTo>
                  <a:pt x="102746" y="57189"/>
                </a:moveTo>
                <a:lnTo>
                  <a:pt x="102746" y="57189"/>
                </a:lnTo>
                <a:cubicBezTo>
                  <a:pt x="88400" y="82778"/>
                  <a:pt x="88400" y="82778"/>
                  <a:pt x="88400" y="82778"/>
                </a:cubicBezTo>
                <a:cubicBezTo>
                  <a:pt x="85492" y="108562"/>
                  <a:pt x="85492" y="108562"/>
                  <a:pt x="85492" y="108562"/>
                </a:cubicBezTo>
                <a:cubicBezTo>
                  <a:pt x="14151" y="68626"/>
                  <a:pt x="14151" y="68626"/>
                  <a:pt x="14151" y="68626"/>
                </a:cubicBezTo>
                <a:cubicBezTo>
                  <a:pt x="34119" y="54281"/>
                  <a:pt x="34119" y="54281"/>
                  <a:pt x="34119" y="54281"/>
                </a:cubicBezTo>
                <a:cubicBezTo>
                  <a:pt x="51373" y="28497"/>
                  <a:pt x="51373" y="28497"/>
                  <a:pt x="51373" y="28497"/>
                </a:cubicBezTo>
                <a:cubicBezTo>
                  <a:pt x="56995" y="14345"/>
                  <a:pt x="76962" y="8529"/>
                  <a:pt x="91308" y="17059"/>
                </a:cubicBezTo>
                <a:cubicBezTo>
                  <a:pt x="105460" y="25783"/>
                  <a:pt x="111276" y="42843"/>
                  <a:pt x="102746" y="5718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1" name="Shape 4648"/>
          <p:cNvSpPr/>
          <p:nvPr/>
        </p:nvSpPr>
        <p:spPr>
          <a:xfrm>
            <a:off x="8404200" y="2075040"/>
            <a:ext cx="304920" cy="298440"/>
          </a:xfrm>
          <a:custGeom>
            <a:avLst/>
            <a:gdLst>
              <a:gd name="textAreaLeft" fmla="*/ 0 w 304920"/>
              <a:gd name="textAreaRight" fmla="*/ 305280 w 304920"/>
              <a:gd name="textAreaTop" fmla="*/ 0 h 298440"/>
              <a:gd name="textAreaBottom" fmla="*/ 298800 h 298440"/>
            </a:gdLst>
            <a:ahLst/>
            <a:rect l="textAreaLeft" t="textAreaTop" r="textAreaRight" b="textAreaBottom"/>
            <a:pathLst>
              <a:path w="120000" h="120000">
                <a:moveTo>
                  <a:pt x="114132" y="96930"/>
                </a:moveTo>
                <a:lnTo>
                  <a:pt x="114132" y="96930"/>
                </a:lnTo>
                <a:cubicBezTo>
                  <a:pt x="102965" y="96930"/>
                  <a:pt x="102965" y="96930"/>
                  <a:pt x="102965" y="96930"/>
                </a:cubicBezTo>
                <a:cubicBezTo>
                  <a:pt x="102965" y="34313"/>
                  <a:pt x="102965" y="34313"/>
                  <a:pt x="102965" y="34313"/>
                </a:cubicBezTo>
                <a:cubicBezTo>
                  <a:pt x="97476" y="39935"/>
                  <a:pt x="97476" y="39935"/>
                  <a:pt x="97476" y="39935"/>
                </a:cubicBezTo>
                <a:cubicBezTo>
                  <a:pt x="97476" y="96930"/>
                  <a:pt x="97476" y="96930"/>
                  <a:pt x="97476" y="96930"/>
                </a:cubicBezTo>
                <a:cubicBezTo>
                  <a:pt x="27823" y="96930"/>
                  <a:pt x="27823" y="96930"/>
                  <a:pt x="27823" y="96930"/>
                </a:cubicBezTo>
                <a:cubicBezTo>
                  <a:pt x="108643" y="11437"/>
                  <a:pt x="108643" y="11437"/>
                  <a:pt x="108643" y="11437"/>
                </a:cubicBezTo>
                <a:cubicBezTo>
                  <a:pt x="102965" y="5621"/>
                  <a:pt x="102965" y="5621"/>
                  <a:pt x="102965" y="5621"/>
                </a:cubicBezTo>
                <a:cubicBezTo>
                  <a:pt x="22145" y="91308"/>
                  <a:pt x="22145" y="91308"/>
                  <a:pt x="22145" y="91308"/>
                </a:cubicBezTo>
                <a:cubicBezTo>
                  <a:pt x="22145" y="22875"/>
                  <a:pt x="22145" y="22875"/>
                  <a:pt x="22145" y="22875"/>
                </a:cubicBezTo>
                <a:cubicBezTo>
                  <a:pt x="75141" y="22875"/>
                  <a:pt x="75141" y="22875"/>
                  <a:pt x="75141" y="22875"/>
                </a:cubicBezTo>
                <a:cubicBezTo>
                  <a:pt x="80630" y="14151"/>
                  <a:pt x="80630" y="14151"/>
                  <a:pt x="80630" y="14151"/>
                </a:cubicBezTo>
                <a:cubicBezTo>
                  <a:pt x="22145" y="14151"/>
                  <a:pt x="22145" y="14151"/>
                  <a:pt x="22145" y="14151"/>
                </a:cubicBezTo>
                <a:cubicBezTo>
                  <a:pt x="22145" y="2907"/>
                  <a:pt x="22145" y="2907"/>
                  <a:pt x="22145" y="2907"/>
                </a:cubicBezTo>
                <a:cubicBezTo>
                  <a:pt x="22145" y="0"/>
                  <a:pt x="19495" y="0"/>
                  <a:pt x="19495" y="0"/>
                </a:cubicBezTo>
                <a:cubicBezTo>
                  <a:pt x="16656" y="0"/>
                  <a:pt x="13817" y="0"/>
                  <a:pt x="13817" y="2907"/>
                </a:cubicBezTo>
                <a:cubicBezTo>
                  <a:pt x="13817" y="14151"/>
                  <a:pt x="13817" y="14151"/>
                  <a:pt x="13817" y="14151"/>
                </a:cubicBezTo>
                <a:cubicBezTo>
                  <a:pt x="2649" y="14151"/>
                  <a:pt x="2649" y="14151"/>
                  <a:pt x="2649" y="14151"/>
                </a:cubicBezTo>
                <a:lnTo>
                  <a:pt x="0" y="17059"/>
                </a:lnTo>
                <a:cubicBezTo>
                  <a:pt x="0" y="19967"/>
                  <a:pt x="2649" y="22875"/>
                  <a:pt x="2649" y="22875"/>
                </a:cubicBezTo>
                <a:cubicBezTo>
                  <a:pt x="13817" y="22875"/>
                  <a:pt x="13817" y="22875"/>
                  <a:pt x="13817" y="22875"/>
                </a:cubicBezTo>
                <a:cubicBezTo>
                  <a:pt x="13817" y="96930"/>
                  <a:pt x="13817" y="96930"/>
                  <a:pt x="13817" y="96930"/>
                </a:cubicBezTo>
                <a:cubicBezTo>
                  <a:pt x="13817" y="105654"/>
                  <a:pt x="13817" y="105654"/>
                  <a:pt x="13817" y="105654"/>
                </a:cubicBezTo>
                <a:cubicBezTo>
                  <a:pt x="22145" y="105654"/>
                  <a:pt x="22145" y="105654"/>
                  <a:pt x="22145" y="105654"/>
                </a:cubicBezTo>
                <a:cubicBezTo>
                  <a:pt x="97476" y="105654"/>
                  <a:pt x="97476" y="105654"/>
                  <a:pt x="97476" y="105654"/>
                </a:cubicBezTo>
                <a:cubicBezTo>
                  <a:pt x="97476" y="116898"/>
                  <a:pt x="97476" y="116898"/>
                  <a:pt x="97476" y="116898"/>
                </a:cubicBezTo>
                <a:cubicBezTo>
                  <a:pt x="97476" y="119806"/>
                  <a:pt x="97476" y="119806"/>
                  <a:pt x="100315" y="119806"/>
                </a:cubicBezTo>
                <a:cubicBezTo>
                  <a:pt x="102965" y="119806"/>
                  <a:pt x="102965" y="119806"/>
                  <a:pt x="102965" y="116898"/>
                </a:cubicBezTo>
                <a:cubicBezTo>
                  <a:pt x="102965" y="105654"/>
                  <a:pt x="102965" y="105654"/>
                  <a:pt x="102965" y="105654"/>
                </a:cubicBezTo>
                <a:cubicBezTo>
                  <a:pt x="114132" y="105654"/>
                  <a:pt x="114132" y="105654"/>
                  <a:pt x="114132" y="105654"/>
                </a:cubicBezTo>
                <a:cubicBezTo>
                  <a:pt x="116971" y="105654"/>
                  <a:pt x="119810" y="102746"/>
                  <a:pt x="119810" y="102746"/>
                </a:cubicBezTo>
                <a:cubicBezTo>
                  <a:pt x="119810" y="99838"/>
                  <a:pt x="116971" y="96930"/>
                  <a:pt x="114132" y="96930"/>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2" name="Shape 4650"/>
          <p:cNvSpPr/>
          <p:nvPr/>
        </p:nvSpPr>
        <p:spPr>
          <a:xfrm>
            <a:off x="7478640" y="2146320"/>
            <a:ext cx="190440" cy="168120"/>
          </a:xfrm>
          <a:custGeom>
            <a:avLst/>
            <a:gdLst>
              <a:gd name="textAreaLeft" fmla="*/ 0 w 190440"/>
              <a:gd name="textAreaRight" fmla="*/ 190800 w 190440"/>
              <a:gd name="textAreaTop" fmla="*/ 0 h 168120"/>
              <a:gd name="textAreaBottom" fmla="*/ 168480 h 168120"/>
            </a:gdLst>
            <a:ahLst/>
            <a:rect l="textAreaLeft" t="textAreaTop" r="textAreaRight" b="textAreaBottom"/>
            <a:pathLst>
              <a:path w="120000" h="120000">
                <a:moveTo>
                  <a:pt x="9022" y="14915"/>
                </a:moveTo>
                <a:lnTo>
                  <a:pt x="9022" y="14915"/>
                </a:lnTo>
                <a:cubicBezTo>
                  <a:pt x="115187" y="14915"/>
                  <a:pt x="115187" y="14915"/>
                  <a:pt x="115187" y="14915"/>
                </a:cubicBezTo>
                <a:lnTo>
                  <a:pt x="119699" y="10169"/>
                </a:lnTo>
                <a:cubicBezTo>
                  <a:pt x="119699" y="5084"/>
                  <a:pt x="115187" y="0"/>
                  <a:pt x="115187" y="0"/>
                </a:cubicBezTo>
                <a:cubicBezTo>
                  <a:pt x="9022" y="0"/>
                  <a:pt x="9022" y="0"/>
                  <a:pt x="9022" y="0"/>
                </a:cubicBezTo>
                <a:cubicBezTo>
                  <a:pt x="4511" y="0"/>
                  <a:pt x="0" y="5084"/>
                  <a:pt x="0" y="10169"/>
                </a:cubicBezTo>
                <a:cubicBezTo>
                  <a:pt x="0" y="10169"/>
                  <a:pt x="4511" y="14915"/>
                  <a:pt x="9022" y="14915"/>
                </a:cubicBezTo>
                <a:close/>
                <a:moveTo>
                  <a:pt x="115187" y="109830"/>
                </a:moveTo>
                <a:lnTo>
                  <a:pt x="115187" y="109830"/>
                </a:lnTo>
                <a:cubicBezTo>
                  <a:pt x="9022" y="109830"/>
                  <a:pt x="9022" y="109830"/>
                  <a:pt x="9022" y="109830"/>
                </a:cubicBezTo>
                <a:cubicBezTo>
                  <a:pt x="4511" y="109830"/>
                  <a:pt x="0" y="109830"/>
                  <a:pt x="0" y="114915"/>
                </a:cubicBezTo>
                <a:cubicBezTo>
                  <a:pt x="0" y="119661"/>
                  <a:pt x="4511" y="119661"/>
                  <a:pt x="9022" y="119661"/>
                </a:cubicBezTo>
                <a:cubicBezTo>
                  <a:pt x="115187" y="119661"/>
                  <a:pt x="115187" y="119661"/>
                  <a:pt x="115187" y="119661"/>
                </a:cubicBezTo>
                <a:cubicBezTo>
                  <a:pt x="115187" y="119661"/>
                  <a:pt x="119699" y="119661"/>
                  <a:pt x="119699" y="114915"/>
                </a:cubicBezTo>
                <a:cubicBezTo>
                  <a:pt x="119699" y="109830"/>
                  <a:pt x="115187" y="109830"/>
                  <a:pt x="115187" y="109830"/>
                </a:cubicBezTo>
                <a:close/>
                <a:moveTo>
                  <a:pt x="115187" y="54915"/>
                </a:moveTo>
                <a:lnTo>
                  <a:pt x="115187" y="54915"/>
                </a:lnTo>
                <a:cubicBezTo>
                  <a:pt x="9022" y="54915"/>
                  <a:pt x="9022" y="54915"/>
                  <a:pt x="9022" y="54915"/>
                </a:cubicBezTo>
                <a:cubicBezTo>
                  <a:pt x="4511" y="54915"/>
                  <a:pt x="0" y="59999"/>
                  <a:pt x="0" y="59999"/>
                </a:cubicBezTo>
                <a:cubicBezTo>
                  <a:pt x="0" y="65084"/>
                  <a:pt x="4511" y="69830"/>
                  <a:pt x="9022" y="69830"/>
                </a:cubicBezTo>
                <a:cubicBezTo>
                  <a:pt x="115187" y="69830"/>
                  <a:pt x="115187" y="69830"/>
                  <a:pt x="115187" y="69830"/>
                </a:cubicBezTo>
                <a:cubicBezTo>
                  <a:pt x="115187" y="69830"/>
                  <a:pt x="119699" y="65084"/>
                  <a:pt x="119699" y="59999"/>
                </a:cubicBezTo>
                <a:lnTo>
                  <a:pt x="115187" y="54915"/>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3" name="Shape 4652"/>
          <p:cNvSpPr/>
          <p:nvPr/>
        </p:nvSpPr>
        <p:spPr>
          <a:xfrm>
            <a:off x="6445080" y="2082960"/>
            <a:ext cx="297000" cy="290520"/>
          </a:xfrm>
          <a:custGeom>
            <a:avLst/>
            <a:gdLst>
              <a:gd name="textAreaLeft" fmla="*/ 0 w 297000"/>
              <a:gd name="textAreaRight" fmla="*/ 297360 w 297000"/>
              <a:gd name="textAreaTop" fmla="*/ 0 h 290520"/>
              <a:gd name="textAreaBottom" fmla="*/ 290880 h 290520"/>
            </a:gdLst>
            <a:ahLst/>
            <a:rect l="textAreaLeft" t="textAreaTop" r="textAreaRight" b="textAreaBottom"/>
            <a:pathLst>
              <a:path w="120000" h="120000">
                <a:moveTo>
                  <a:pt x="91308" y="0"/>
                </a:moveTo>
                <a:lnTo>
                  <a:pt x="91308" y="0"/>
                </a:lnTo>
                <a:cubicBezTo>
                  <a:pt x="76962" y="0"/>
                  <a:pt x="68432" y="8741"/>
                  <a:pt x="59903" y="14503"/>
                </a:cubicBezTo>
                <a:cubicBezTo>
                  <a:pt x="51373" y="5761"/>
                  <a:pt x="42843" y="0"/>
                  <a:pt x="28497" y="0"/>
                </a:cubicBezTo>
                <a:cubicBezTo>
                  <a:pt x="11437" y="0"/>
                  <a:pt x="0" y="14503"/>
                  <a:pt x="0" y="32185"/>
                </a:cubicBezTo>
                <a:cubicBezTo>
                  <a:pt x="0" y="40927"/>
                  <a:pt x="2907" y="49668"/>
                  <a:pt x="5621" y="55430"/>
                </a:cubicBezTo>
                <a:cubicBezTo>
                  <a:pt x="54281" y="114039"/>
                  <a:pt x="54281" y="114039"/>
                  <a:pt x="54281" y="114039"/>
                </a:cubicBezTo>
                <a:cubicBezTo>
                  <a:pt x="59903" y="119801"/>
                  <a:pt x="59903" y="119801"/>
                  <a:pt x="65718" y="114039"/>
                </a:cubicBezTo>
                <a:cubicBezTo>
                  <a:pt x="114184" y="55430"/>
                  <a:pt x="114184" y="55430"/>
                  <a:pt x="114184" y="55430"/>
                </a:cubicBezTo>
                <a:cubicBezTo>
                  <a:pt x="116898" y="49668"/>
                  <a:pt x="119806" y="40927"/>
                  <a:pt x="119806" y="32185"/>
                </a:cubicBezTo>
                <a:cubicBezTo>
                  <a:pt x="119806" y="14503"/>
                  <a:pt x="108368" y="0"/>
                  <a:pt x="91308" y="0"/>
                </a:cubicBezTo>
                <a:close/>
                <a:moveTo>
                  <a:pt x="105460" y="52649"/>
                </a:moveTo>
                <a:lnTo>
                  <a:pt x="105460" y="52649"/>
                </a:lnTo>
                <a:cubicBezTo>
                  <a:pt x="59903" y="108079"/>
                  <a:pt x="59903" y="108079"/>
                  <a:pt x="59903" y="108079"/>
                </a:cubicBezTo>
                <a:cubicBezTo>
                  <a:pt x="14151" y="52649"/>
                  <a:pt x="14151" y="52649"/>
                  <a:pt x="14151" y="52649"/>
                </a:cubicBezTo>
                <a:cubicBezTo>
                  <a:pt x="8529" y="46688"/>
                  <a:pt x="5621" y="40927"/>
                  <a:pt x="5621" y="32185"/>
                </a:cubicBezTo>
                <a:cubicBezTo>
                  <a:pt x="5621" y="20463"/>
                  <a:pt x="17059" y="8741"/>
                  <a:pt x="28497" y="5761"/>
                </a:cubicBezTo>
                <a:cubicBezTo>
                  <a:pt x="39935" y="5761"/>
                  <a:pt x="54281" y="17483"/>
                  <a:pt x="59903" y="26225"/>
                </a:cubicBezTo>
                <a:cubicBezTo>
                  <a:pt x="65718" y="20463"/>
                  <a:pt x="79870" y="5761"/>
                  <a:pt x="91308" y="5761"/>
                </a:cubicBezTo>
                <a:cubicBezTo>
                  <a:pt x="102746" y="5761"/>
                  <a:pt x="114184" y="20463"/>
                  <a:pt x="114184" y="32185"/>
                </a:cubicBezTo>
                <a:cubicBezTo>
                  <a:pt x="114184" y="40927"/>
                  <a:pt x="111276" y="46688"/>
                  <a:pt x="105460" y="5264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4" name="Shape 4654"/>
          <p:cNvSpPr/>
          <p:nvPr/>
        </p:nvSpPr>
        <p:spPr>
          <a:xfrm>
            <a:off x="10366200" y="1593720"/>
            <a:ext cx="304920" cy="284400"/>
          </a:xfrm>
          <a:custGeom>
            <a:avLst/>
            <a:gdLst>
              <a:gd name="textAreaLeft" fmla="*/ 0 w 304920"/>
              <a:gd name="textAreaRight" fmla="*/ 305280 w 304920"/>
              <a:gd name="textAreaTop" fmla="*/ 0 h 284400"/>
              <a:gd name="textAreaBottom" fmla="*/ 284760 h 284400"/>
            </a:gdLst>
            <a:ahLst/>
            <a:rect l="textAreaLeft" t="textAreaTop" r="textAreaRight" b="textAreaBottom"/>
            <a:pathLst>
              <a:path w="120000" h="120000">
                <a:moveTo>
                  <a:pt x="64164" y="110644"/>
                </a:moveTo>
                <a:lnTo>
                  <a:pt x="64164" y="110644"/>
                </a:lnTo>
                <a:cubicBezTo>
                  <a:pt x="28012" y="110644"/>
                  <a:pt x="28012" y="110644"/>
                  <a:pt x="28012" y="110644"/>
                </a:cubicBezTo>
                <a:cubicBezTo>
                  <a:pt x="25173" y="110644"/>
                  <a:pt x="22334" y="113694"/>
                  <a:pt x="22334" y="113694"/>
                </a:cubicBezTo>
                <a:cubicBezTo>
                  <a:pt x="22334" y="116745"/>
                  <a:pt x="25173" y="119796"/>
                  <a:pt x="28012" y="119796"/>
                </a:cubicBezTo>
                <a:cubicBezTo>
                  <a:pt x="64164" y="119796"/>
                  <a:pt x="64164" y="119796"/>
                  <a:pt x="64164" y="119796"/>
                </a:cubicBezTo>
                <a:cubicBezTo>
                  <a:pt x="67003" y="119796"/>
                  <a:pt x="67003" y="116745"/>
                  <a:pt x="67003" y="113694"/>
                </a:cubicBezTo>
                <a:cubicBezTo>
                  <a:pt x="67003" y="113694"/>
                  <a:pt x="67003" y="110644"/>
                  <a:pt x="64164" y="110644"/>
                </a:cubicBezTo>
                <a:close/>
                <a:moveTo>
                  <a:pt x="72492" y="95796"/>
                </a:moveTo>
                <a:lnTo>
                  <a:pt x="72492" y="95796"/>
                </a:lnTo>
                <a:cubicBezTo>
                  <a:pt x="19495" y="95796"/>
                  <a:pt x="19495" y="95796"/>
                  <a:pt x="19495" y="95796"/>
                </a:cubicBezTo>
                <a:cubicBezTo>
                  <a:pt x="16845" y="95796"/>
                  <a:pt x="16845" y="95796"/>
                  <a:pt x="16845" y="98847"/>
                </a:cubicBezTo>
                <a:cubicBezTo>
                  <a:pt x="16845" y="101694"/>
                  <a:pt x="16845" y="101694"/>
                  <a:pt x="19495" y="101694"/>
                </a:cubicBezTo>
                <a:cubicBezTo>
                  <a:pt x="72492" y="101694"/>
                  <a:pt x="72492" y="101694"/>
                  <a:pt x="72492" y="101694"/>
                </a:cubicBezTo>
                <a:cubicBezTo>
                  <a:pt x="72492" y="101694"/>
                  <a:pt x="75331" y="101694"/>
                  <a:pt x="75331" y="98847"/>
                </a:cubicBezTo>
                <a:cubicBezTo>
                  <a:pt x="75331" y="95796"/>
                  <a:pt x="72492" y="95796"/>
                  <a:pt x="72492" y="95796"/>
                </a:cubicBezTo>
                <a:close/>
                <a:moveTo>
                  <a:pt x="117160" y="77694"/>
                </a:moveTo>
                <a:lnTo>
                  <a:pt x="117160" y="77694"/>
                </a:lnTo>
                <a:cubicBezTo>
                  <a:pt x="61324" y="77694"/>
                  <a:pt x="61324" y="77694"/>
                  <a:pt x="61324" y="77694"/>
                </a:cubicBezTo>
                <a:cubicBezTo>
                  <a:pt x="61324" y="74847"/>
                  <a:pt x="61324" y="68949"/>
                  <a:pt x="61324" y="65694"/>
                </a:cubicBezTo>
                <a:cubicBezTo>
                  <a:pt x="61324" y="35796"/>
                  <a:pt x="77981" y="14847"/>
                  <a:pt x="100315" y="5898"/>
                </a:cubicBezTo>
                <a:cubicBezTo>
                  <a:pt x="91987" y="2847"/>
                  <a:pt x="83659" y="0"/>
                  <a:pt x="72492" y="0"/>
                </a:cubicBezTo>
                <a:cubicBezTo>
                  <a:pt x="41829" y="0"/>
                  <a:pt x="16845" y="26847"/>
                  <a:pt x="16845" y="59796"/>
                </a:cubicBezTo>
                <a:cubicBezTo>
                  <a:pt x="16845" y="65694"/>
                  <a:pt x="16845" y="71796"/>
                  <a:pt x="19495" y="77694"/>
                </a:cubicBezTo>
                <a:cubicBezTo>
                  <a:pt x="5678" y="77694"/>
                  <a:pt x="5678" y="77694"/>
                  <a:pt x="5678" y="77694"/>
                </a:cubicBezTo>
                <a:cubicBezTo>
                  <a:pt x="2839" y="77694"/>
                  <a:pt x="0" y="80745"/>
                  <a:pt x="0" y="83796"/>
                </a:cubicBezTo>
                <a:cubicBezTo>
                  <a:pt x="0" y="83796"/>
                  <a:pt x="2839" y="86847"/>
                  <a:pt x="5678" y="86847"/>
                </a:cubicBezTo>
                <a:cubicBezTo>
                  <a:pt x="117160" y="86847"/>
                  <a:pt x="117160" y="86847"/>
                  <a:pt x="117160" y="86847"/>
                </a:cubicBezTo>
                <a:lnTo>
                  <a:pt x="119810" y="83796"/>
                </a:lnTo>
                <a:cubicBezTo>
                  <a:pt x="119810" y="80745"/>
                  <a:pt x="117160" y="77694"/>
                  <a:pt x="117160" y="77694"/>
                </a:cubicBezTo>
                <a:close/>
                <a:moveTo>
                  <a:pt x="28012" y="77694"/>
                </a:moveTo>
                <a:lnTo>
                  <a:pt x="28012" y="77694"/>
                </a:lnTo>
                <a:cubicBezTo>
                  <a:pt x="25173" y="71796"/>
                  <a:pt x="22334" y="68949"/>
                  <a:pt x="22334" y="62847"/>
                </a:cubicBezTo>
                <a:cubicBezTo>
                  <a:pt x="22334" y="29898"/>
                  <a:pt x="39179" y="17898"/>
                  <a:pt x="52996" y="12000"/>
                </a:cubicBezTo>
                <a:cubicBezTo>
                  <a:pt x="64164" y="5898"/>
                  <a:pt x="75331" y="5898"/>
                  <a:pt x="83659" y="5898"/>
                </a:cubicBezTo>
                <a:cubicBezTo>
                  <a:pt x="67003" y="14847"/>
                  <a:pt x="52996" y="38847"/>
                  <a:pt x="52996" y="65694"/>
                </a:cubicBezTo>
                <a:cubicBezTo>
                  <a:pt x="52996" y="68949"/>
                  <a:pt x="52996" y="74847"/>
                  <a:pt x="52996" y="77694"/>
                </a:cubicBezTo>
                <a:lnTo>
                  <a:pt x="28012" y="77694"/>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5" name="Shape 4656"/>
          <p:cNvSpPr/>
          <p:nvPr/>
        </p:nvSpPr>
        <p:spPr>
          <a:xfrm>
            <a:off x="9388440" y="1579680"/>
            <a:ext cx="297000" cy="304560"/>
          </a:xfrm>
          <a:custGeom>
            <a:avLst/>
            <a:gdLst>
              <a:gd name="textAreaLeft" fmla="*/ 0 w 297000"/>
              <a:gd name="textAreaRight" fmla="*/ 297360 w 297000"/>
              <a:gd name="textAreaTop" fmla="*/ 0 h 304560"/>
              <a:gd name="textAreaBottom" fmla="*/ 304920 h 304560"/>
            </a:gdLst>
            <a:ahLst/>
            <a:rect l="textAreaLeft" t="textAreaTop" r="textAreaRight" b="textAreaBottom"/>
            <a:pathLst>
              <a:path w="120000" h="120000">
                <a:moveTo>
                  <a:pt x="14151" y="55835"/>
                </a:moveTo>
                <a:lnTo>
                  <a:pt x="14151" y="55835"/>
                </a:lnTo>
                <a:cubicBezTo>
                  <a:pt x="2907" y="55835"/>
                  <a:pt x="2907" y="55835"/>
                  <a:pt x="2907" y="55835"/>
                </a:cubicBezTo>
                <a:cubicBezTo>
                  <a:pt x="0" y="55835"/>
                  <a:pt x="0" y="58675"/>
                  <a:pt x="0" y="61324"/>
                </a:cubicBezTo>
                <a:cubicBezTo>
                  <a:pt x="0" y="61324"/>
                  <a:pt x="0" y="64164"/>
                  <a:pt x="2907" y="64164"/>
                </a:cubicBezTo>
                <a:cubicBezTo>
                  <a:pt x="14151" y="64164"/>
                  <a:pt x="14151" y="64164"/>
                  <a:pt x="14151" y="64164"/>
                </a:cubicBezTo>
                <a:cubicBezTo>
                  <a:pt x="17059" y="64164"/>
                  <a:pt x="17059" y="61324"/>
                  <a:pt x="17059" y="61324"/>
                </a:cubicBezTo>
                <a:cubicBezTo>
                  <a:pt x="17059" y="58675"/>
                  <a:pt x="17059" y="55835"/>
                  <a:pt x="14151" y="55835"/>
                </a:cubicBezTo>
                <a:close/>
                <a:moveTo>
                  <a:pt x="96930" y="30662"/>
                </a:moveTo>
                <a:lnTo>
                  <a:pt x="96930" y="30662"/>
                </a:lnTo>
                <a:cubicBezTo>
                  <a:pt x="105654" y="22334"/>
                  <a:pt x="105654" y="22334"/>
                  <a:pt x="105654" y="22334"/>
                </a:cubicBezTo>
                <a:cubicBezTo>
                  <a:pt x="105654" y="19495"/>
                  <a:pt x="105654" y="19495"/>
                  <a:pt x="105654" y="16845"/>
                </a:cubicBezTo>
                <a:cubicBezTo>
                  <a:pt x="102746" y="16845"/>
                  <a:pt x="99838" y="16845"/>
                  <a:pt x="99838" y="16845"/>
                </a:cubicBezTo>
                <a:cubicBezTo>
                  <a:pt x="91308" y="25173"/>
                  <a:pt x="91308" y="25173"/>
                  <a:pt x="91308" y="25173"/>
                </a:cubicBezTo>
                <a:cubicBezTo>
                  <a:pt x="88400" y="25173"/>
                  <a:pt x="88400" y="28012"/>
                  <a:pt x="91308" y="30662"/>
                </a:cubicBezTo>
                <a:cubicBezTo>
                  <a:pt x="91308" y="30662"/>
                  <a:pt x="94216" y="30662"/>
                  <a:pt x="96930" y="30662"/>
                </a:cubicBezTo>
                <a:close/>
                <a:moveTo>
                  <a:pt x="25589" y="30662"/>
                </a:moveTo>
                <a:lnTo>
                  <a:pt x="25589" y="30662"/>
                </a:lnTo>
                <a:cubicBezTo>
                  <a:pt x="25589" y="33501"/>
                  <a:pt x="28497" y="33501"/>
                  <a:pt x="31405" y="30662"/>
                </a:cubicBezTo>
                <a:cubicBezTo>
                  <a:pt x="31405" y="30662"/>
                  <a:pt x="31405" y="28012"/>
                  <a:pt x="31405" y="25173"/>
                </a:cubicBezTo>
                <a:cubicBezTo>
                  <a:pt x="22875" y="19495"/>
                  <a:pt x="22875" y="19495"/>
                  <a:pt x="22875" y="19495"/>
                </a:cubicBezTo>
                <a:cubicBezTo>
                  <a:pt x="19967" y="16845"/>
                  <a:pt x="17059" y="16845"/>
                  <a:pt x="17059" y="19495"/>
                </a:cubicBezTo>
                <a:cubicBezTo>
                  <a:pt x="14151" y="19495"/>
                  <a:pt x="14151" y="22334"/>
                  <a:pt x="17059" y="22334"/>
                </a:cubicBezTo>
                <a:lnTo>
                  <a:pt x="25589" y="30662"/>
                </a:lnTo>
                <a:close/>
                <a:moveTo>
                  <a:pt x="59903" y="19495"/>
                </a:moveTo>
                <a:lnTo>
                  <a:pt x="59903" y="19495"/>
                </a:lnTo>
                <a:cubicBezTo>
                  <a:pt x="62810" y="19495"/>
                  <a:pt x="62810" y="16845"/>
                  <a:pt x="62810" y="16845"/>
                </a:cubicBezTo>
                <a:cubicBezTo>
                  <a:pt x="62810" y="5678"/>
                  <a:pt x="62810" y="5678"/>
                  <a:pt x="62810" y="5678"/>
                </a:cubicBezTo>
                <a:cubicBezTo>
                  <a:pt x="62810" y="2839"/>
                  <a:pt x="62810" y="0"/>
                  <a:pt x="59903" y="0"/>
                </a:cubicBezTo>
                <a:cubicBezTo>
                  <a:pt x="56995" y="0"/>
                  <a:pt x="56995" y="2839"/>
                  <a:pt x="56995" y="5678"/>
                </a:cubicBezTo>
                <a:cubicBezTo>
                  <a:pt x="56995" y="16845"/>
                  <a:pt x="56995" y="16845"/>
                  <a:pt x="56995" y="16845"/>
                </a:cubicBezTo>
                <a:cubicBezTo>
                  <a:pt x="56995" y="16845"/>
                  <a:pt x="56995" y="19495"/>
                  <a:pt x="59903" y="19495"/>
                </a:cubicBezTo>
                <a:close/>
                <a:moveTo>
                  <a:pt x="59903" y="100315"/>
                </a:moveTo>
                <a:lnTo>
                  <a:pt x="59903" y="100315"/>
                </a:lnTo>
                <a:cubicBezTo>
                  <a:pt x="56995" y="100315"/>
                  <a:pt x="56995" y="103154"/>
                  <a:pt x="56995" y="105993"/>
                </a:cubicBezTo>
                <a:cubicBezTo>
                  <a:pt x="56995" y="117160"/>
                  <a:pt x="56995" y="117160"/>
                  <a:pt x="56995" y="117160"/>
                </a:cubicBezTo>
                <a:cubicBezTo>
                  <a:pt x="56995" y="117160"/>
                  <a:pt x="56995" y="119810"/>
                  <a:pt x="59903" y="119810"/>
                </a:cubicBezTo>
                <a:cubicBezTo>
                  <a:pt x="62810" y="119810"/>
                  <a:pt x="62810" y="117160"/>
                  <a:pt x="62810" y="117160"/>
                </a:cubicBezTo>
                <a:cubicBezTo>
                  <a:pt x="62810" y="105993"/>
                  <a:pt x="62810" y="105993"/>
                  <a:pt x="62810" y="105993"/>
                </a:cubicBezTo>
                <a:cubicBezTo>
                  <a:pt x="62810" y="103154"/>
                  <a:pt x="62810" y="100315"/>
                  <a:pt x="59903" y="100315"/>
                </a:cubicBezTo>
                <a:close/>
                <a:moveTo>
                  <a:pt x="94216" y="89148"/>
                </a:moveTo>
                <a:lnTo>
                  <a:pt x="94216" y="89148"/>
                </a:lnTo>
                <a:cubicBezTo>
                  <a:pt x="94216" y="89148"/>
                  <a:pt x="91308" y="89148"/>
                  <a:pt x="88400" y="89148"/>
                </a:cubicBezTo>
                <a:cubicBezTo>
                  <a:pt x="88400" y="91987"/>
                  <a:pt x="88400" y="91987"/>
                  <a:pt x="88400" y="94826"/>
                </a:cubicBezTo>
                <a:cubicBezTo>
                  <a:pt x="96930" y="103154"/>
                  <a:pt x="96930" y="103154"/>
                  <a:pt x="96930" y="103154"/>
                </a:cubicBezTo>
                <a:cubicBezTo>
                  <a:pt x="99838" y="103154"/>
                  <a:pt x="102746" y="103154"/>
                  <a:pt x="102746" y="103154"/>
                </a:cubicBezTo>
                <a:cubicBezTo>
                  <a:pt x="105654" y="100315"/>
                  <a:pt x="105654" y="97665"/>
                  <a:pt x="102746" y="97665"/>
                </a:cubicBezTo>
                <a:lnTo>
                  <a:pt x="94216" y="89148"/>
                </a:lnTo>
                <a:close/>
                <a:moveTo>
                  <a:pt x="116898" y="55835"/>
                </a:moveTo>
                <a:lnTo>
                  <a:pt x="116898" y="55835"/>
                </a:lnTo>
                <a:cubicBezTo>
                  <a:pt x="105654" y="55835"/>
                  <a:pt x="105654" y="55835"/>
                  <a:pt x="105654" y="55835"/>
                </a:cubicBezTo>
                <a:cubicBezTo>
                  <a:pt x="102746" y="55835"/>
                  <a:pt x="102746" y="58675"/>
                  <a:pt x="102746" y="61324"/>
                </a:cubicBezTo>
                <a:cubicBezTo>
                  <a:pt x="102746" y="61324"/>
                  <a:pt x="102746" y="64164"/>
                  <a:pt x="105654" y="64164"/>
                </a:cubicBezTo>
                <a:cubicBezTo>
                  <a:pt x="116898" y="64164"/>
                  <a:pt x="116898" y="64164"/>
                  <a:pt x="116898" y="64164"/>
                </a:cubicBezTo>
                <a:cubicBezTo>
                  <a:pt x="119806" y="64164"/>
                  <a:pt x="119806" y="61324"/>
                  <a:pt x="119806" y="61324"/>
                </a:cubicBezTo>
                <a:cubicBezTo>
                  <a:pt x="119806" y="58675"/>
                  <a:pt x="119806" y="55835"/>
                  <a:pt x="116898" y="55835"/>
                </a:cubicBezTo>
                <a:close/>
                <a:moveTo>
                  <a:pt x="28497" y="86498"/>
                </a:moveTo>
                <a:lnTo>
                  <a:pt x="28497" y="86498"/>
                </a:lnTo>
                <a:cubicBezTo>
                  <a:pt x="19967" y="94826"/>
                  <a:pt x="19967" y="94826"/>
                  <a:pt x="19967" y="94826"/>
                </a:cubicBezTo>
                <a:cubicBezTo>
                  <a:pt x="17059" y="97665"/>
                  <a:pt x="17059" y="97665"/>
                  <a:pt x="19967" y="100315"/>
                </a:cubicBezTo>
                <a:cubicBezTo>
                  <a:pt x="19967" y="100315"/>
                  <a:pt x="22875" y="100315"/>
                  <a:pt x="25589" y="100315"/>
                </a:cubicBezTo>
                <a:cubicBezTo>
                  <a:pt x="31405" y="91987"/>
                  <a:pt x="31405" y="91987"/>
                  <a:pt x="31405" y="91987"/>
                </a:cubicBezTo>
                <a:cubicBezTo>
                  <a:pt x="34313" y="91987"/>
                  <a:pt x="34313" y="89148"/>
                  <a:pt x="31405" y="86498"/>
                </a:cubicBezTo>
                <a:lnTo>
                  <a:pt x="28497" y="86498"/>
                </a:lnTo>
                <a:close/>
                <a:moveTo>
                  <a:pt x="59903" y="28012"/>
                </a:moveTo>
                <a:lnTo>
                  <a:pt x="59903" y="28012"/>
                </a:lnTo>
                <a:cubicBezTo>
                  <a:pt x="39935" y="28012"/>
                  <a:pt x="25589" y="41829"/>
                  <a:pt x="25589" y="61324"/>
                </a:cubicBezTo>
                <a:cubicBezTo>
                  <a:pt x="25589" y="77981"/>
                  <a:pt x="39935" y="94826"/>
                  <a:pt x="59903" y="94826"/>
                </a:cubicBezTo>
                <a:cubicBezTo>
                  <a:pt x="79870" y="94826"/>
                  <a:pt x="94216" y="77981"/>
                  <a:pt x="94216" y="61324"/>
                </a:cubicBezTo>
                <a:cubicBezTo>
                  <a:pt x="94216" y="41829"/>
                  <a:pt x="79870" y="28012"/>
                  <a:pt x="59903" y="28012"/>
                </a:cubicBezTo>
                <a:close/>
                <a:moveTo>
                  <a:pt x="59903" y="86498"/>
                </a:moveTo>
                <a:lnTo>
                  <a:pt x="59903" y="86498"/>
                </a:lnTo>
                <a:cubicBezTo>
                  <a:pt x="45751" y="86498"/>
                  <a:pt x="34313" y="75331"/>
                  <a:pt x="34313" y="61324"/>
                </a:cubicBezTo>
                <a:cubicBezTo>
                  <a:pt x="34313" y="47507"/>
                  <a:pt x="45751" y="33501"/>
                  <a:pt x="59903" y="33501"/>
                </a:cubicBezTo>
                <a:cubicBezTo>
                  <a:pt x="74248" y="33501"/>
                  <a:pt x="85492" y="47507"/>
                  <a:pt x="85492" y="61324"/>
                </a:cubicBezTo>
                <a:cubicBezTo>
                  <a:pt x="85492" y="75331"/>
                  <a:pt x="74248" y="86498"/>
                  <a:pt x="59903" y="86498"/>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6" name="Shape 4658"/>
          <p:cNvSpPr/>
          <p:nvPr/>
        </p:nvSpPr>
        <p:spPr>
          <a:xfrm>
            <a:off x="8462880" y="1579680"/>
            <a:ext cx="190440" cy="304560"/>
          </a:xfrm>
          <a:custGeom>
            <a:avLst/>
            <a:gdLst>
              <a:gd name="textAreaLeft" fmla="*/ 0 w 190440"/>
              <a:gd name="textAreaRight" fmla="*/ 190800 w 190440"/>
              <a:gd name="textAreaTop" fmla="*/ 0 h 304560"/>
              <a:gd name="textAreaBottom" fmla="*/ 304920 h 304560"/>
            </a:gdLst>
            <a:ahLst/>
            <a:rect l="textAreaLeft" t="textAreaTop" r="textAreaRight" b="textAreaBottom"/>
            <a:pathLst>
              <a:path w="120000" h="120000">
                <a:moveTo>
                  <a:pt x="57744" y="0"/>
                </a:moveTo>
                <a:lnTo>
                  <a:pt x="57744" y="0"/>
                </a:lnTo>
                <a:cubicBezTo>
                  <a:pt x="40000" y="14006"/>
                  <a:pt x="0" y="61324"/>
                  <a:pt x="0" y="83659"/>
                </a:cubicBezTo>
                <a:cubicBezTo>
                  <a:pt x="0" y="103154"/>
                  <a:pt x="26766" y="119810"/>
                  <a:pt x="57744" y="119810"/>
                </a:cubicBezTo>
                <a:cubicBezTo>
                  <a:pt x="92932" y="119810"/>
                  <a:pt x="119699" y="103154"/>
                  <a:pt x="119699" y="83659"/>
                </a:cubicBezTo>
                <a:cubicBezTo>
                  <a:pt x="119699" y="61324"/>
                  <a:pt x="75488" y="14006"/>
                  <a:pt x="57744" y="0"/>
                </a:cubicBezTo>
                <a:close/>
                <a:moveTo>
                  <a:pt x="57744" y="111482"/>
                </a:moveTo>
                <a:lnTo>
                  <a:pt x="57744" y="111482"/>
                </a:lnTo>
                <a:cubicBezTo>
                  <a:pt x="31278" y="111482"/>
                  <a:pt x="13533" y="100315"/>
                  <a:pt x="13533" y="83659"/>
                </a:cubicBezTo>
                <a:cubicBezTo>
                  <a:pt x="13533" y="66813"/>
                  <a:pt x="44511" y="28012"/>
                  <a:pt x="57744" y="16845"/>
                </a:cubicBezTo>
                <a:cubicBezTo>
                  <a:pt x="75488" y="25173"/>
                  <a:pt x="106466" y="66813"/>
                  <a:pt x="106466" y="83659"/>
                </a:cubicBezTo>
                <a:cubicBezTo>
                  <a:pt x="106466" y="100315"/>
                  <a:pt x="84210" y="111482"/>
                  <a:pt x="57744" y="11148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7" name="Shape 4660"/>
          <p:cNvSpPr/>
          <p:nvPr/>
        </p:nvSpPr>
        <p:spPr>
          <a:xfrm>
            <a:off x="7443720" y="1622520"/>
            <a:ext cx="284400" cy="183960"/>
          </a:xfrm>
          <a:custGeom>
            <a:avLst/>
            <a:gdLst>
              <a:gd name="textAreaLeft" fmla="*/ 0 w 284400"/>
              <a:gd name="textAreaRight" fmla="*/ 284760 w 284400"/>
              <a:gd name="textAreaTop" fmla="*/ 0 h 183960"/>
              <a:gd name="textAreaBottom" fmla="*/ 184320 h 183960"/>
            </a:gdLst>
            <a:ahLst/>
            <a:rect l="textAreaLeft" t="textAreaTop" r="textAreaRight" b="textAreaBottom"/>
            <a:pathLst>
              <a:path w="120000" h="120000">
                <a:moveTo>
                  <a:pt x="60000" y="22872"/>
                </a:moveTo>
                <a:lnTo>
                  <a:pt x="60000" y="22872"/>
                </a:lnTo>
                <a:cubicBezTo>
                  <a:pt x="63050" y="22872"/>
                  <a:pt x="63050" y="18485"/>
                  <a:pt x="63050" y="18485"/>
                </a:cubicBezTo>
                <a:cubicBezTo>
                  <a:pt x="63050" y="4386"/>
                  <a:pt x="63050" y="4386"/>
                  <a:pt x="63050" y="4386"/>
                </a:cubicBezTo>
                <a:cubicBezTo>
                  <a:pt x="63050" y="0"/>
                  <a:pt x="63050" y="0"/>
                  <a:pt x="60000" y="0"/>
                </a:cubicBezTo>
                <a:cubicBezTo>
                  <a:pt x="56949" y="0"/>
                  <a:pt x="56949" y="0"/>
                  <a:pt x="56949" y="4386"/>
                </a:cubicBezTo>
                <a:cubicBezTo>
                  <a:pt x="56949" y="18485"/>
                  <a:pt x="56949" y="18485"/>
                  <a:pt x="56949" y="18485"/>
                </a:cubicBezTo>
                <a:cubicBezTo>
                  <a:pt x="56949" y="18485"/>
                  <a:pt x="56949" y="22872"/>
                  <a:pt x="60000" y="22872"/>
                </a:cubicBezTo>
                <a:close/>
                <a:moveTo>
                  <a:pt x="107796" y="50757"/>
                </a:moveTo>
                <a:lnTo>
                  <a:pt x="107796" y="50757"/>
                </a:lnTo>
                <a:cubicBezTo>
                  <a:pt x="113898" y="41357"/>
                  <a:pt x="113898" y="41357"/>
                  <a:pt x="113898" y="41357"/>
                </a:cubicBezTo>
                <a:cubicBezTo>
                  <a:pt x="113898" y="36657"/>
                  <a:pt x="113898" y="36657"/>
                  <a:pt x="113898" y="32271"/>
                </a:cubicBezTo>
                <a:cubicBezTo>
                  <a:pt x="110847" y="32271"/>
                  <a:pt x="110847" y="32271"/>
                  <a:pt x="107796" y="32271"/>
                </a:cubicBezTo>
                <a:cubicBezTo>
                  <a:pt x="101898" y="41357"/>
                  <a:pt x="101898" y="41357"/>
                  <a:pt x="101898" y="41357"/>
                </a:cubicBezTo>
                <a:cubicBezTo>
                  <a:pt x="101898" y="46057"/>
                  <a:pt x="101898" y="46057"/>
                  <a:pt x="101898" y="50757"/>
                </a:cubicBezTo>
                <a:cubicBezTo>
                  <a:pt x="104949" y="50757"/>
                  <a:pt x="104949" y="50757"/>
                  <a:pt x="107796" y="50757"/>
                </a:cubicBezTo>
                <a:close/>
                <a:moveTo>
                  <a:pt x="12000" y="50757"/>
                </a:moveTo>
                <a:lnTo>
                  <a:pt x="12000" y="50757"/>
                </a:lnTo>
                <a:cubicBezTo>
                  <a:pt x="15050" y="50757"/>
                  <a:pt x="15050" y="50757"/>
                  <a:pt x="18101" y="50757"/>
                </a:cubicBezTo>
                <a:cubicBezTo>
                  <a:pt x="18101" y="46057"/>
                  <a:pt x="18101" y="46057"/>
                  <a:pt x="18101" y="41357"/>
                </a:cubicBezTo>
                <a:cubicBezTo>
                  <a:pt x="12000" y="32271"/>
                  <a:pt x="12000" y="32271"/>
                  <a:pt x="12000" y="32271"/>
                </a:cubicBezTo>
                <a:cubicBezTo>
                  <a:pt x="9152" y="32271"/>
                  <a:pt x="9152" y="32271"/>
                  <a:pt x="6101" y="32271"/>
                </a:cubicBezTo>
                <a:cubicBezTo>
                  <a:pt x="6101" y="36657"/>
                  <a:pt x="6101" y="36657"/>
                  <a:pt x="6101" y="41357"/>
                </a:cubicBezTo>
                <a:lnTo>
                  <a:pt x="12000" y="50757"/>
                </a:lnTo>
                <a:close/>
                <a:moveTo>
                  <a:pt x="116949" y="110600"/>
                </a:moveTo>
                <a:lnTo>
                  <a:pt x="116949" y="110600"/>
                </a:lnTo>
                <a:cubicBezTo>
                  <a:pt x="3050" y="110600"/>
                  <a:pt x="3050" y="110600"/>
                  <a:pt x="3050" y="110600"/>
                </a:cubicBezTo>
                <a:cubicBezTo>
                  <a:pt x="3050" y="110600"/>
                  <a:pt x="0" y="110600"/>
                  <a:pt x="0" y="115300"/>
                </a:cubicBezTo>
                <a:cubicBezTo>
                  <a:pt x="0" y="119686"/>
                  <a:pt x="3050" y="119686"/>
                  <a:pt x="3050" y="119686"/>
                </a:cubicBezTo>
                <a:cubicBezTo>
                  <a:pt x="116949" y="119686"/>
                  <a:pt x="116949" y="119686"/>
                  <a:pt x="116949" y="119686"/>
                </a:cubicBezTo>
                <a:cubicBezTo>
                  <a:pt x="116949" y="119686"/>
                  <a:pt x="119796" y="119686"/>
                  <a:pt x="119796" y="115300"/>
                </a:cubicBezTo>
                <a:cubicBezTo>
                  <a:pt x="119796" y="110600"/>
                  <a:pt x="116949" y="110600"/>
                  <a:pt x="116949" y="110600"/>
                </a:cubicBezTo>
                <a:close/>
                <a:moveTo>
                  <a:pt x="21152" y="96814"/>
                </a:moveTo>
                <a:lnTo>
                  <a:pt x="21152" y="96814"/>
                </a:lnTo>
                <a:cubicBezTo>
                  <a:pt x="24000" y="69242"/>
                  <a:pt x="42101" y="46057"/>
                  <a:pt x="60000" y="46057"/>
                </a:cubicBezTo>
                <a:cubicBezTo>
                  <a:pt x="77898" y="46057"/>
                  <a:pt x="96000" y="69242"/>
                  <a:pt x="98847" y="96814"/>
                </a:cubicBezTo>
                <a:cubicBezTo>
                  <a:pt x="107796" y="96814"/>
                  <a:pt x="107796" y="96814"/>
                  <a:pt x="107796" y="96814"/>
                </a:cubicBezTo>
                <a:cubicBezTo>
                  <a:pt x="104949" y="59843"/>
                  <a:pt x="84000" y="36657"/>
                  <a:pt x="60000" y="36657"/>
                </a:cubicBezTo>
                <a:cubicBezTo>
                  <a:pt x="36000" y="36657"/>
                  <a:pt x="15050" y="59843"/>
                  <a:pt x="12000" y="96814"/>
                </a:cubicBezTo>
                <a:lnTo>
                  <a:pt x="21152" y="96814"/>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8" name="Shape 4662"/>
          <p:cNvSpPr/>
          <p:nvPr/>
        </p:nvSpPr>
        <p:spPr>
          <a:xfrm>
            <a:off x="6445080" y="1579680"/>
            <a:ext cx="297000" cy="226800"/>
          </a:xfrm>
          <a:custGeom>
            <a:avLst/>
            <a:gdLst>
              <a:gd name="textAreaLeft" fmla="*/ 0 w 297000"/>
              <a:gd name="textAreaRight" fmla="*/ 297360 w 297000"/>
              <a:gd name="textAreaTop" fmla="*/ 0 h 226800"/>
              <a:gd name="textAreaBottom" fmla="*/ 227160 h 226800"/>
            </a:gdLst>
            <a:ahLst/>
            <a:rect l="textAreaLeft" t="textAreaTop" r="textAreaRight" b="textAreaBottom"/>
            <a:pathLst>
              <a:path w="120000" h="120000">
                <a:moveTo>
                  <a:pt x="71340" y="56186"/>
                </a:moveTo>
                <a:lnTo>
                  <a:pt x="71340" y="56186"/>
                </a:lnTo>
                <a:cubicBezTo>
                  <a:pt x="56995" y="56186"/>
                  <a:pt x="56995" y="56186"/>
                  <a:pt x="56995" y="56186"/>
                </a:cubicBezTo>
                <a:cubicBezTo>
                  <a:pt x="62810" y="33813"/>
                  <a:pt x="62810" y="33813"/>
                  <a:pt x="62810" y="33813"/>
                </a:cubicBezTo>
                <a:cubicBezTo>
                  <a:pt x="62810" y="33813"/>
                  <a:pt x="62810" y="30000"/>
                  <a:pt x="59903" y="30000"/>
                </a:cubicBezTo>
                <a:cubicBezTo>
                  <a:pt x="56995" y="26186"/>
                  <a:pt x="56995" y="30000"/>
                  <a:pt x="54281" y="30000"/>
                </a:cubicBezTo>
                <a:cubicBezTo>
                  <a:pt x="45557" y="60000"/>
                  <a:pt x="45557" y="60000"/>
                  <a:pt x="45557" y="60000"/>
                </a:cubicBezTo>
                <a:lnTo>
                  <a:pt x="45557" y="63813"/>
                </a:lnTo>
                <a:lnTo>
                  <a:pt x="48465" y="67372"/>
                </a:lnTo>
                <a:cubicBezTo>
                  <a:pt x="65718" y="67372"/>
                  <a:pt x="65718" y="67372"/>
                  <a:pt x="65718" y="67372"/>
                </a:cubicBezTo>
                <a:cubicBezTo>
                  <a:pt x="56995" y="89745"/>
                  <a:pt x="56995" y="89745"/>
                  <a:pt x="56995" y="89745"/>
                </a:cubicBezTo>
                <a:cubicBezTo>
                  <a:pt x="54281" y="89745"/>
                  <a:pt x="56995" y="93813"/>
                  <a:pt x="56995" y="97372"/>
                </a:cubicBezTo>
                <a:cubicBezTo>
                  <a:pt x="59903" y="97372"/>
                  <a:pt x="62810" y="97372"/>
                  <a:pt x="62810" y="93813"/>
                </a:cubicBezTo>
                <a:cubicBezTo>
                  <a:pt x="62810" y="93813"/>
                  <a:pt x="74054" y="63813"/>
                  <a:pt x="74054" y="60000"/>
                </a:cubicBezTo>
                <a:cubicBezTo>
                  <a:pt x="74054" y="60000"/>
                  <a:pt x="74054" y="56186"/>
                  <a:pt x="71340" y="56186"/>
                </a:cubicBezTo>
                <a:close/>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5000"/>
                </a:cubicBezTo>
                <a:cubicBezTo>
                  <a:pt x="119806" y="48813"/>
                  <a:pt x="105460"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6962" y="22627"/>
                  <a:pt x="79870" y="37627"/>
                </a:cubicBezTo>
                <a:cubicBezTo>
                  <a:pt x="99838" y="33813"/>
                  <a:pt x="111276" y="56186"/>
                  <a:pt x="114184" y="71186"/>
                </a:cubicBezTo>
                <a:cubicBezTo>
                  <a:pt x="114184" y="93813"/>
                  <a:pt x="96930" y="112372"/>
                  <a:pt x="82778" y="11237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9" name="Shape 4664"/>
          <p:cNvSpPr/>
          <p:nvPr/>
        </p:nvSpPr>
        <p:spPr>
          <a:xfrm>
            <a:off x="5415120" y="5046840"/>
            <a:ext cx="296640" cy="226800"/>
          </a:xfrm>
          <a:custGeom>
            <a:avLst/>
            <a:gdLst>
              <a:gd name="textAreaLeft" fmla="*/ 0 w 296640"/>
              <a:gd name="textAreaRight" fmla="*/ 297000 w 296640"/>
              <a:gd name="textAreaTop" fmla="*/ 0 h 226800"/>
              <a:gd name="textAreaBottom" fmla="*/ 227160 h 226800"/>
            </a:gdLst>
            <a:ahLst/>
            <a:rect l="textAreaLeft" t="textAreaTop" r="textAreaRight" b="textAreaBottom"/>
            <a:pathLst>
              <a:path w="120000" h="120000">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4745"/>
                </a:cubicBezTo>
                <a:cubicBezTo>
                  <a:pt x="119806" y="48813"/>
                  <a:pt x="105654"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7156" y="22627"/>
                  <a:pt x="79870" y="37372"/>
                </a:cubicBezTo>
                <a:cubicBezTo>
                  <a:pt x="99838" y="33813"/>
                  <a:pt x="111276" y="56186"/>
                  <a:pt x="114184" y="71186"/>
                </a:cubicBezTo>
                <a:cubicBezTo>
                  <a:pt x="114184" y="93559"/>
                  <a:pt x="96930" y="112372"/>
                  <a:pt x="82778" y="11237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0" name="Shape 4666"/>
          <p:cNvSpPr/>
          <p:nvPr/>
        </p:nvSpPr>
        <p:spPr>
          <a:xfrm>
            <a:off x="4441680" y="5011560"/>
            <a:ext cx="268560" cy="306720"/>
          </a:xfrm>
          <a:custGeom>
            <a:avLst/>
            <a:gdLst>
              <a:gd name="textAreaLeft" fmla="*/ 0 w 268560"/>
              <a:gd name="textAreaRight" fmla="*/ 268920 w 268560"/>
              <a:gd name="textAreaTop" fmla="*/ 0 h 306720"/>
              <a:gd name="textAreaBottom" fmla="*/ 307080 h 306720"/>
            </a:gdLst>
            <a:ahLst/>
            <a:rect l="textAreaLeft" t="textAreaTop" r="textAreaRight" b="textAreaBottom"/>
            <a:pathLst>
              <a:path w="120000" h="120000">
                <a:moveTo>
                  <a:pt x="100748" y="0"/>
                </a:moveTo>
                <a:lnTo>
                  <a:pt x="100748" y="0"/>
                </a:lnTo>
                <a:cubicBezTo>
                  <a:pt x="19037" y="0"/>
                  <a:pt x="19037" y="0"/>
                  <a:pt x="19037" y="0"/>
                </a:cubicBezTo>
                <a:cubicBezTo>
                  <a:pt x="9411" y="0"/>
                  <a:pt x="0" y="5669"/>
                  <a:pt x="0" y="13984"/>
                </a:cubicBezTo>
                <a:cubicBezTo>
                  <a:pt x="0" y="119811"/>
                  <a:pt x="0" y="119811"/>
                  <a:pt x="0" y="119811"/>
                </a:cubicBezTo>
                <a:cubicBezTo>
                  <a:pt x="9411" y="119811"/>
                  <a:pt x="9411" y="119811"/>
                  <a:pt x="9411" y="119811"/>
                </a:cubicBezTo>
                <a:cubicBezTo>
                  <a:pt x="25240" y="108661"/>
                  <a:pt x="25240" y="108661"/>
                  <a:pt x="25240" y="108661"/>
                </a:cubicBezTo>
                <a:cubicBezTo>
                  <a:pt x="44278" y="119811"/>
                  <a:pt x="44278" y="119811"/>
                  <a:pt x="44278" y="119811"/>
                </a:cubicBezTo>
                <a:cubicBezTo>
                  <a:pt x="59893" y="108661"/>
                  <a:pt x="59893" y="108661"/>
                  <a:pt x="59893" y="108661"/>
                </a:cubicBezTo>
                <a:cubicBezTo>
                  <a:pt x="75721" y="119811"/>
                  <a:pt x="75721" y="119811"/>
                  <a:pt x="75721" y="119811"/>
                </a:cubicBezTo>
                <a:cubicBezTo>
                  <a:pt x="94545" y="108661"/>
                  <a:pt x="94545" y="108661"/>
                  <a:pt x="94545" y="108661"/>
                </a:cubicBezTo>
                <a:cubicBezTo>
                  <a:pt x="110374" y="119811"/>
                  <a:pt x="110374" y="119811"/>
                  <a:pt x="110374" y="119811"/>
                </a:cubicBezTo>
                <a:cubicBezTo>
                  <a:pt x="119786" y="119811"/>
                  <a:pt x="119786" y="119811"/>
                  <a:pt x="119786" y="119811"/>
                </a:cubicBezTo>
                <a:cubicBezTo>
                  <a:pt x="119786" y="13984"/>
                  <a:pt x="119786" y="13984"/>
                  <a:pt x="119786" y="13984"/>
                </a:cubicBezTo>
                <a:cubicBezTo>
                  <a:pt x="119786" y="5669"/>
                  <a:pt x="110374" y="0"/>
                  <a:pt x="100748" y="0"/>
                </a:cubicBezTo>
                <a:close/>
                <a:moveTo>
                  <a:pt x="110374" y="111307"/>
                </a:moveTo>
                <a:lnTo>
                  <a:pt x="110374" y="111307"/>
                </a:lnTo>
                <a:cubicBezTo>
                  <a:pt x="94545" y="100157"/>
                  <a:pt x="94545" y="100157"/>
                  <a:pt x="94545" y="100157"/>
                </a:cubicBezTo>
                <a:cubicBezTo>
                  <a:pt x="75721" y="111307"/>
                  <a:pt x="75721" y="111307"/>
                  <a:pt x="75721" y="111307"/>
                </a:cubicBezTo>
                <a:cubicBezTo>
                  <a:pt x="59893" y="100157"/>
                  <a:pt x="59893" y="100157"/>
                  <a:pt x="59893" y="100157"/>
                </a:cubicBezTo>
                <a:cubicBezTo>
                  <a:pt x="44278" y="111307"/>
                  <a:pt x="44278" y="111307"/>
                  <a:pt x="44278" y="111307"/>
                </a:cubicBezTo>
                <a:cubicBezTo>
                  <a:pt x="25240" y="100157"/>
                  <a:pt x="25240" y="100157"/>
                  <a:pt x="25240" y="100157"/>
                </a:cubicBezTo>
                <a:cubicBezTo>
                  <a:pt x="9411" y="111307"/>
                  <a:pt x="9411" y="111307"/>
                  <a:pt x="9411" y="111307"/>
                </a:cubicBezTo>
                <a:cubicBezTo>
                  <a:pt x="9411" y="13984"/>
                  <a:pt x="9411" y="13984"/>
                  <a:pt x="9411" y="13984"/>
                </a:cubicBezTo>
                <a:cubicBezTo>
                  <a:pt x="9411" y="11149"/>
                  <a:pt x="12620" y="8503"/>
                  <a:pt x="19037" y="8503"/>
                </a:cubicBezTo>
                <a:cubicBezTo>
                  <a:pt x="100748" y="8503"/>
                  <a:pt x="100748" y="8503"/>
                  <a:pt x="100748" y="8503"/>
                </a:cubicBezTo>
                <a:cubicBezTo>
                  <a:pt x="107165" y="8503"/>
                  <a:pt x="110374" y="11149"/>
                  <a:pt x="110374" y="13984"/>
                </a:cubicBezTo>
                <a:lnTo>
                  <a:pt x="110374" y="111307"/>
                </a:lnTo>
                <a:close/>
                <a:moveTo>
                  <a:pt x="88128" y="66897"/>
                </a:moveTo>
                <a:lnTo>
                  <a:pt x="88128" y="66897"/>
                </a:lnTo>
                <a:cubicBezTo>
                  <a:pt x="31657" y="66897"/>
                  <a:pt x="31657" y="66897"/>
                  <a:pt x="31657" y="66897"/>
                </a:cubicBezTo>
                <a:cubicBezTo>
                  <a:pt x="28449" y="66897"/>
                  <a:pt x="25240" y="69543"/>
                  <a:pt x="25240" y="69543"/>
                </a:cubicBezTo>
                <a:cubicBezTo>
                  <a:pt x="25240" y="72377"/>
                  <a:pt x="28449" y="75212"/>
                  <a:pt x="31657" y="75212"/>
                </a:cubicBezTo>
                <a:cubicBezTo>
                  <a:pt x="88128" y="75212"/>
                  <a:pt x="88128" y="75212"/>
                  <a:pt x="88128" y="75212"/>
                </a:cubicBezTo>
                <a:cubicBezTo>
                  <a:pt x="91336" y="75212"/>
                  <a:pt x="94545" y="72377"/>
                  <a:pt x="94545" y="69543"/>
                </a:cubicBezTo>
                <a:cubicBezTo>
                  <a:pt x="94545" y="69543"/>
                  <a:pt x="91336" y="66897"/>
                  <a:pt x="88128" y="66897"/>
                </a:cubicBezTo>
                <a:close/>
                <a:moveTo>
                  <a:pt x="88128" y="44598"/>
                </a:moveTo>
                <a:lnTo>
                  <a:pt x="88128" y="44598"/>
                </a:lnTo>
                <a:cubicBezTo>
                  <a:pt x="31657" y="44598"/>
                  <a:pt x="31657" y="44598"/>
                  <a:pt x="31657" y="44598"/>
                </a:cubicBezTo>
                <a:cubicBezTo>
                  <a:pt x="28449" y="44598"/>
                  <a:pt x="25240" y="47433"/>
                  <a:pt x="25240" y="47433"/>
                </a:cubicBezTo>
                <a:cubicBezTo>
                  <a:pt x="25240" y="50267"/>
                  <a:pt x="28449" y="52913"/>
                  <a:pt x="31657" y="52913"/>
                </a:cubicBezTo>
                <a:cubicBezTo>
                  <a:pt x="88128" y="52913"/>
                  <a:pt x="88128" y="52913"/>
                  <a:pt x="88128" y="52913"/>
                </a:cubicBezTo>
                <a:cubicBezTo>
                  <a:pt x="91336" y="52913"/>
                  <a:pt x="94545" y="50267"/>
                  <a:pt x="94545" y="47433"/>
                </a:cubicBezTo>
                <a:cubicBezTo>
                  <a:pt x="94545" y="47433"/>
                  <a:pt x="91336" y="44598"/>
                  <a:pt x="88128" y="44598"/>
                </a:cubicBezTo>
                <a:close/>
                <a:moveTo>
                  <a:pt x="88128" y="22299"/>
                </a:moveTo>
                <a:lnTo>
                  <a:pt x="88128" y="22299"/>
                </a:lnTo>
                <a:cubicBezTo>
                  <a:pt x="31657" y="22299"/>
                  <a:pt x="31657" y="22299"/>
                  <a:pt x="31657" y="22299"/>
                </a:cubicBezTo>
                <a:cubicBezTo>
                  <a:pt x="28449" y="22299"/>
                  <a:pt x="25240" y="25133"/>
                  <a:pt x="25240" y="25133"/>
                </a:cubicBezTo>
                <a:cubicBezTo>
                  <a:pt x="25240" y="27968"/>
                  <a:pt x="28449" y="30803"/>
                  <a:pt x="31657" y="30803"/>
                </a:cubicBezTo>
                <a:cubicBezTo>
                  <a:pt x="88128" y="30803"/>
                  <a:pt x="88128" y="30803"/>
                  <a:pt x="88128" y="30803"/>
                </a:cubicBezTo>
                <a:cubicBezTo>
                  <a:pt x="91336" y="30803"/>
                  <a:pt x="94545" y="27968"/>
                  <a:pt x="94545" y="25133"/>
                </a:cubicBezTo>
                <a:cubicBezTo>
                  <a:pt x="94545" y="25133"/>
                  <a:pt x="91336" y="22299"/>
                  <a:pt x="88128" y="2229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1" name="Shape 4668"/>
          <p:cNvSpPr/>
          <p:nvPr/>
        </p:nvSpPr>
        <p:spPr>
          <a:xfrm>
            <a:off x="3494160" y="5011560"/>
            <a:ext cx="204840" cy="306720"/>
          </a:xfrm>
          <a:custGeom>
            <a:avLst/>
            <a:gdLst>
              <a:gd name="textAreaLeft" fmla="*/ 0 w 204840"/>
              <a:gd name="textAreaRight" fmla="*/ 205200 w 204840"/>
              <a:gd name="textAreaTop" fmla="*/ 0 h 306720"/>
              <a:gd name="textAreaBottom" fmla="*/ 307080 h 306720"/>
            </a:gdLst>
            <a:ahLst/>
            <a:rect l="textAreaLeft" t="textAreaTop" r="textAreaRight" b="textAreaBottom"/>
            <a:pathLst>
              <a:path w="120000" h="120000">
                <a:moveTo>
                  <a:pt x="115514" y="36283"/>
                </a:moveTo>
                <a:lnTo>
                  <a:pt x="115514" y="36283"/>
                </a:lnTo>
                <a:cubicBezTo>
                  <a:pt x="65887" y="2834"/>
                  <a:pt x="65887" y="2834"/>
                  <a:pt x="65887" y="2834"/>
                </a:cubicBezTo>
                <a:cubicBezTo>
                  <a:pt x="61962" y="0"/>
                  <a:pt x="53551" y="0"/>
                  <a:pt x="49345" y="2834"/>
                </a:cubicBezTo>
                <a:cubicBezTo>
                  <a:pt x="0" y="36283"/>
                  <a:pt x="0" y="36283"/>
                  <a:pt x="0" y="36283"/>
                </a:cubicBezTo>
                <a:cubicBezTo>
                  <a:pt x="0" y="39118"/>
                  <a:pt x="0" y="39118"/>
                  <a:pt x="0" y="41763"/>
                </a:cubicBezTo>
                <a:lnTo>
                  <a:pt x="0" y="41763"/>
                </a:lnTo>
                <a:cubicBezTo>
                  <a:pt x="0" y="102992"/>
                  <a:pt x="0" y="102992"/>
                  <a:pt x="0" y="102992"/>
                </a:cubicBezTo>
                <a:cubicBezTo>
                  <a:pt x="0" y="111307"/>
                  <a:pt x="8130" y="119811"/>
                  <a:pt x="20467" y="119811"/>
                </a:cubicBezTo>
                <a:cubicBezTo>
                  <a:pt x="98971" y="119811"/>
                  <a:pt x="98971" y="119811"/>
                  <a:pt x="98971" y="119811"/>
                </a:cubicBezTo>
                <a:cubicBezTo>
                  <a:pt x="107102" y="119811"/>
                  <a:pt x="119719" y="111307"/>
                  <a:pt x="119719" y="102992"/>
                </a:cubicBezTo>
                <a:cubicBezTo>
                  <a:pt x="119719" y="47433"/>
                  <a:pt x="119719" y="47433"/>
                  <a:pt x="119719" y="47433"/>
                </a:cubicBezTo>
                <a:cubicBezTo>
                  <a:pt x="119719" y="41763"/>
                  <a:pt x="119719" y="39118"/>
                  <a:pt x="115514" y="36283"/>
                </a:cubicBezTo>
                <a:close/>
                <a:moveTo>
                  <a:pt x="107102" y="102992"/>
                </a:moveTo>
                <a:lnTo>
                  <a:pt x="107102" y="102992"/>
                </a:lnTo>
                <a:cubicBezTo>
                  <a:pt x="107102" y="108661"/>
                  <a:pt x="103177" y="111307"/>
                  <a:pt x="98971" y="111307"/>
                </a:cubicBezTo>
                <a:cubicBezTo>
                  <a:pt x="20467" y="111307"/>
                  <a:pt x="20467" y="111307"/>
                  <a:pt x="20467" y="111307"/>
                </a:cubicBezTo>
                <a:cubicBezTo>
                  <a:pt x="16542" y="111307"/>
                  <a:pt x="8130" y="108661"/>
                  <a:pt x="8130" y="102992"/>
                </a:cubicBezTo>
                <a:cubicBezTo>
                  <a:pt x="8130" y="44598"/>
                  <a:pt x="8130" y="44598"/>
                  <a:pt x="8130" y="44598"/>
                </a:cubicBezTo>
                <a:cubicBezTo>
                  <a:pt x="8130" y="41763"/>
                  <a:pt x="8130" y="41763"/>
                  <a:pt x="12336" y="39118"/>
                </a:cubicBezTo>
                <a:cubicBezTo>
                  <a:pt x="53551" y="8503"/>
                  <a:pt x="53551" y="8503"/>
                  <a:pt x="53551" y="8503"/>
                </a:cubicBezTo>
                <a:cubicBezTo>
                  <a:pt x="57757" y="8503"/>
                  <a:pt x="61962" y="8503"/>
                  <a:pt x="61962" y="8503"/>
                </a:cubicBezTo>
                <a:cubicBezTo>
                  <a:pt x="103177" y="39118"/>
                  <a:pt x="103177" y="39118"/>
                  <a:pt x="103177" y="39118"/>
                </a:cubicBezTo>
                <a:cubicBezTo>
                  <a:pt x="107102" y="41763"/>
                  <a:pt x="107102" y="41763"/>
                  <a:pt x="107102" y="44598"/>
                </a:cubicBezTo>
                <a:lnTo>
                  <a:pt x="107102" y="102992"/>
                </a:lnTo>
                <a:close/>
                <a:moveTo>
                  <a:pt x="57757" y="30803"/>
                </a:moveTo>
                <a:lnTo>
                  <a:pt x="57757" y="30803"/>
                </a:lnTo>
                <a:cubicBezTo>
                  <a:pt x="45420" y="30803"/>
                  <a:pt x="37009" y="39118"/>
                  <a:pt x="37009" y="47433"/>
                </a:cubicBezTo>
                <a:cubicBezTo>
                  <a:pt x="37009" y="55748"/>
                  <a:pt x="45420" y="61417"/>
                  <a:pt x="57757" y="61417"/>
                </a:cubicBezTo>
                <a:cubicBezTo>
                  <a:pt x="70093" y="61417"/>
                  <a:pt x="82429" y="55748"/>
                  <a:pt x="82429" y="47433"/>
                </a:cubicBezTo>
                <a:cubicBezTo>
                  <a:pt x="82429" y="39118"/>
                  <a:pt x="70093" y="30803"/>
                  <a:pt x="57757" y="30803"/>
                </a:cubicBezTo>
                <a:close/>
                <a:moveTo>
                  <a:pt x="57757" y="52913"/>
                </a:moveTo>
                <a:lnTo>
                  <a:pt x="57757" y="52913"/>
                </a:lnTo>
                <a:cubicBezTo>
                  <a:pt x="53551" y="52913"/>
                  <a:pt x="49345" y="50267"/>
                  <a:pt x="49345" y="47433"/>
                </a:cubicBezTo>
                <a:cubicBezTo>
                  <a:pt x="49345" y="41763"/>
                  <a:pt x="53551" y="39118"/>
                  <a:pt x="57757" y="39118"/>
                </a:cubicBezTo>
                <a:cubicBezTo>
                  <a:pt x="65887" y="39118"/>
                  <a:pt x="70093" y="41763"/>
                  <a:pt x="70093" y="47433"/>
                </a:cubicBezTo>
                <a:cubicBezTo>
                  <a:pt x="70093" y="50267"/>
                  <a:pt x="65887" y="52913"/>
                  <a:pt x="57757" y="52913"/>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2" name="Shape 4670"/>
          <p:cNvSpPr/>
          <p:nvPr/>
        </p:nvSpPr>
        <p:spPr>
          <a:xfrm>
            <a:off x="2459160" y="5011560"/>
            <a:ext cx="304560" cy="306720"/>
          </a:xfrm>
          <a:custGeom>
            <a:avLst/>
            <a:gdLst>
              <a:gd name="textAreaLeft" fmla="*/ 0 w 304560"/>
              <a:gd name="textAreaRight" fmla="*/ 304920 w 304560"/>
              <a:gd name="textAreaTop" fmla="*/ 0 h 306720"/>
              <a:gd name="textAreaBottom" fmla="*/ 307080 h 306720"/>
            </a:gdLst>
            <a:ahLst/>
            <a:rect l="textAreaLeft" t="textAreaTop" r="textAreaRight" b="textAreaBottom"/>
            <a:pathLst>
              <a:path w="120000" h="120000">
                <a:moveTo>
                  <a:pt x="64164" y="30803"/>
                </a:moveTo>
                <a:lnTo>
                  <a:pt x="64164" y="30803"/>
                </a:lnTo>
                <a:cubicBezTo>
                  <a:pt x="61324" y="30803"/>
                  <a:pt x="61324" y="30803"/>
                  <a:pt x="61324" y="30803"/>
                </a:cubicBezTo>
                <a:cubicBezTo>
                  <a:pt x="58675" y="30803"/>
                  <a:pt x="58675" y="30803"/>
                  <a:pt x="58675" y="30803"/>
                </a:cubicBezTo>
                <a:cubicBezTo>
                  <a:pt x="39179" y="52913"/>
                  <a:pt x="39179" y="52913"/>
                  <a:pt x="39179" y="52913"/>
                </a:cubicBezTo>
                <a:cubicBezTo>
                  <a:pt x="39179" y="55748"/>
                  <a:pt x="39179" y="55748"/>
                  <a:pt x="39179" y="58582"/>
                </a:cubicBezTo>
                <a:cubicBezTo>
                  <a:pt x="41829" y="58582"/>
                  <a:pt x="41829" y="58582"/>
                  <a:pt x="44668" y="58582"/>
                </a:cubicBezTo>
                <a:cubicBezTo>
                  <a:pt x="55835" y="44598"/>
                  <a:pt x="55835" y="44598"/>
                  <a:pt x="55835" y="44598"/>
                </a:cubicBezTo>
                <a:cubicBezTo>
                  <a:pt x="55835" y="100157"/>
                  <a:pt x="55835" y="100157"/>
                  <a:pt x="55835" y="100157"/>
                </a:cubicBezTo>
                <a:cubicBezTo>
                  <a:pt x="55835" y="102992"/>
                  <a:pt x="58675" y="102992"/>
                  <a:pt x="61324" y="102992"/>
                </a:cubicBezTo>
                <a:cubicBezTo>
                  <a:pt x="61324" y="102992"/>
                  <a:pt x="64164" y="102992"/>
                  <a:pt x="64164" y="100157"/>
                </a:cubicBezTo>
                <a:cubicBezTo>
                  <a:pt x="64164" y="44598"/>
                  <a:pt x="64164" y="44598"/>
                  <a:pt x="64164" y="44598"/>
                </a:cubicBezTo>
                <a:cubicBezTo>
                  <a:pt x="75331" y="58582"/>
                  <a:pt x="75331" y="58582"/>
                  <a:pt x="75331" y="58582"/>
                </a:cubicBezTo>
                <a:cubicBezTo>
                  <a:pt x="77981" y="58582"/>
                  <a:pt x="80820" y="58582"/>
                  <a:pt x="80820" y="58582"/>
                </a:cubicBezTo>
                <a:cubicBezTo>
                  <a:pt x="83659" y="55748"/>
                  <a:pt x="83659" y="55748"/>
                  <a:pt x="80820" y="52913"/>
                </a:cubicBezTo>
                <a:lnTo>
                  <a:pt x="64164" y="30803"/>
                </a:lnTo>
                <a:close/>
                <a:moveTo>
                  <a:pt x="105993" y="0"/>
                </a:moveTo>
                <a:lnTo>
                  <a:pt x="105993" y="0"/>
                </a:lnTo>
                <a:cubicBezTo>
                  <a:pt x="16845" y="0"/>
                  <a:pt x="16845" y="0"/>
                  <a:pt x="16845" y="0"/>
                </a:cubicBezTo>
                <a:cubicBezTo>
                  <a:pt x="8328" y="0"/>
                  <a:pt x="0" y="5669"/>
                  <a:pt x="0" y="13984"/>
                </a:cubicBezTo>
                <a:cubicBezTo>
                  <a:pt x="0" y="102992"/>
                  <a:pt x="0" y="102992"/>
                  <a:pt x="0" y="102992"/>
                </a:cubicBezTo>
                <a:cubicBezTo>
                  <a:pt x="0" y="111307"/>
                  <a:pt x="8328" y="119811"/>
                  <a:pt x="16845" y="119811"/>
                </a:cubicBezTo>
                <a:cubicBezTo>
                  <a:pt x="105993" y="119811"/>
                  <a:pt x="105993" y="119811"/>
                  <a:pt x="105993" y="119811"/>
                </a:cubicBezTo>
                <a:cubicBezTo>
                  <a:pt x="114321" y="119811"/>
                  <a:pt x="119810" y="111307"/>
                  <a:pt x="119810" y="102992"/>
                </a:cubicBezTo>
                <a:cubicBezTo>
                  <a:pt x="119810" y="13984"/>
                  <a:pt x="119810" y="13984"/>
                  <a:pt x="119810" y="13984"/>
                </a:cubicBezTo>
                <a:cubicBezTo>
                  <a:pt x="119810" y="5669"/>
                  <a:pt x="114321" y="0"/>
                  <a:pt x="105993" y="0"/>
                </a:cubicBezTo>
                <a:close/>
                <a:moveTo>
                  <a:pt x="111482" y="102992"/>
                </a:moveTo>
                <a:lnTo>
                  <a:pt x="111482" y="102992"/>
                </a:lnTo>
                <a:cubicBezTo>
                  <a:pt x="111482" y="108661"/>
                  <a:pt x="108643" y="111307"/>
                  <a:pt x="105993" y="111307"/>
                </a:cubicBezTo>
                <a:cubicBezTo>
                  <a:pt x="16845" y="111307"/>
                  <a:pt x="16845" y="111307"/>
                  <a:pt x="16845" y="111307"/>
                </a:cubicBezTo>
                <a:cubicBezTo>
                  <a:pt x="11167" y="111307"/>
                  <a:pt x="8328" y="108661"/>
                  <a:pt x="8328" y="102992"/>
                </a:cubicBezTo>
                <a:cubicBezTo>
                  <a:pt x="8328" y="13984"/>
                  <a:pt x="8328" y="13984"/>
                  <a:pt x="8328" y="13984"/>
                </a:cubicBezTo>
                <a:cubicBezTo>
                  <a:pt x="8328" y="11149"/>
                  <a:pt x="11167" y="8503"/>
                  <a:pt x="16845" y="8503"/>
                </a:cubicBezTo>
                <a:cubicBezTo>
                  <a:pt x="105993" y="8503"/>
                  <a:pt x="105993" y="8503"/>
                  <a:pt x="105993" y="8503"/>
                </a:cubicBezTo>
                <a:cubicBezTo>
                  <a:pt x="108643" y="8503"/>
                  <a:pt x="111482" y="11149"/>
                  <a:pt x="111482" y="13984"/>
                </a:cubicBezTo>
                <a:lnTo>
                  <a:pt x="111482" y="102992"/>
                </a:lnTo>
                <a:close/>
                <a:moveTo>
                  <a:pt x="94826" y="13984"/>
                </a:moveTo>
                <a:lnTo>
                  <a:pt x="94826" y="13984"/>
                </a:lnTo>
                <a:cubicBezTo>
                  <a:pt x="28012" y="13984"/>
                  <a:pt x="28012" y="13984"/>
                  <a:pt x="28012" y="13984"/>
                </a:cubicBezTo>
                <a:cubicBezTo>
                  <a:pt x="25173" y="13984"/>
                  <a:pt x="22334" y="16818"/>
                  <a:pt x="22334" y="19653"/>
                </a:cubicBezTo>
                <a:cubicBezTo>
                  <a:pt x="22334" y="19653"/>
                  <a:pt x="25173" y="22299"/>
                  <a:pt x="28012" y="22299"/>
                </a:cubicBezTo>
                <a:cubicBezTo>
                  <a:pt x="94826" y="22299"/>
                  <a:pt x="94826" y="22299"/>
                  <a:pt x="94826" y="22299"/>
                </a:cubicBezTo>
                <a:lnTo>
                  <a:pt x="97665" y="19653"/>
                </a:lnTo>
                <a:cubicBezTo>
                  <a:pt x="97665" y="16818"/>
                  <a:pt x="94826" y="13984"/>
                  <a:pt x="94826" y="1398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3" name="Shape 4672"/>
          <p:cNvSpPr/>
          <p:nvPr/>
        </p:nvSpPr>
        <p:spPr>
          <a:xfrm>
            <a:off x="1484280" y="5011560"/>
            <a:ext cx="295200" cy="306720"/>
          </a:xfrm>
          <a:custGeom>
            <a:avLst/>
            <a:gdLst>
              <a:gd name="textAreaLeft" fmla="*/ 0 w 295200"/>
              <a:gd name="textAreaRight" fmla="*/ 295560 w 295200"/>
              <a:gd name="textAreaTop" fmla="*/ 0 h 306720"/>
              <a:gd name="textAreaBottom" fmla="*/ 307080 h 306720"/>
            </a:gdLst>
            <a:ahLst/>
            <a:rect l="textAreaLeft" t="textAreaTop" r="textAreaRight" b="textAreaBottom"/>
            <a:pathLst>
              <a:path w="120000" h="120000">
                <a:moveTo>
                  <a:pt x="114184" y="22299"/>
                </a:moveTo>
                <a:lnTo>
                  <a:pt x="114184" y="22299"/>
                </a:lnTo>
                <a:cubicBezTo>
                  <a:pt x="85492" y="22299"/>
                  <a:pt x="85492" y="22299"/>
                  <a:pt x="85492" y="22299"/>
                </a:cubicBezTo>
                <a:cubicBezTo>
                  <a:pt x="85492" y="19653"/>
                  <a:pt x="85492" y="16818"/>
                  <a:pt x="85492" y="13984"/>
                </a:cubicBezTo>
                <a:cubicBezTo>
                  <a:pt x="85492" y="5669"/>
                  <a:pt x="79870" y="0"/>
                  <a:pt x="71340" y="0"/>
                </a:cubicBezTo>
                <a:cubicBezTo>
                  <a:pt x="65718" y="0"/>
                  <a:pt x="62810" y="2834"/>
                  <a:pt x="59903" y="5669"/>
                </a:cubicBezTo>
                <a:cubicBezTo>
                  <a:pt x="56995" y="2834"/>
                  <a:pt x="54281" y="0"/>
                  <a:pt x="48465" y="0"/>
                </a:cubicBezTo>
                <a:cubicBezTo>
                  <a:pt x="39935" y="0"/>
                  <a:pt x="34313" y="5669"/>
                  <a:pt x="34313" y="13984"/>
                </a:cubicBezTo>
                <a:cubicBezTo>
                  <a:pt x="34313" y="16818"/>
                  <a:pt x="34313" y="19653"/>
                  <a:pt x="34313" y="22299"/>
                </a:cubicBezTo>
                <a:cubicBezTo>
                  <a:pt x="5621" y="22299"/>
                  <a:pt x="5621" y="22299"/>
                  <a:pt x="5621" y="22299"/>
                </a:cubicBezTo>
                <a:cubicBezTo>
                  <a:pt x="2907" y="22299"/>
                  <a:pt x="0" y="25133"/>
                  <a:pt x="0" y="30803"/>
                </a:cubicBezTo>
                <a:cubicBezTo>
                  <a:pt x="0" y="36283"/>
                  <a:pt x="0" y="36283"/>
                  <a:pt x="0" y="36283"/>
                </a:cubicBezTo>
                <a:cubicBezTo>
                  <a:pt x="0" y="41763"/>
                  <a:pt x="2907" y="44598"/>
                  <a:pt x="5621" y="44598"/>
                </a:cubicBezTo>
                <a:cubicBezTo>
                  <a:pt x="5621" y="102992"/>
                  <a:pt x="5621" y="102992"/>
                  <a:pt x="5621" y="102992"/>
                </a:cubicBezTo>
                <a:cubicBezTo>
                  <a:pt x="5621" y="111307"/>
                  <a:pt x="14151" y="119811"/>
                  <a:pt x="22875" y="119811"/>
                </a:cubicBezTo>
                <a:cubicBezTo>
                  <a:pt x="96930" y="119811"/>
                  <a:pt x="96930" y="119811"/>
                  <a:pt x="96930" y="119811"/>
                </a:cubicBezTo>
                <a:cubicBezTo>
                  <a:pt x="105460" y="119811"/>
                  <a:pt x="114184" y="111307"/>
                  <a:pt x="114184" y="102992"/>
                </a:cubicBezTo>
                <a:cubicBezTo>
                  <a:pt x="114184" y="44598"/>
                  <a:pt x="114184" y="44598"/>
                  <a:pt x="114184" y="44598"/>
                </a:cubicBezTo>
                <a:cubicBezTo>
                  <a:pt x="116898" y="44598"/>
                  <a:pt x="119806" y="41763"/>
                  <a:pt x="119806" y="36283"/>
                </a:cubicBezTo>
                <a:cubicBezTo>
                  <a:pt x="119806" y="30803"/>
                  <a:pt x="119806" y="30803"/>
                  <a:pt x="119806" y="30803"/>
                </a:cubicBezTo>
                <a:cubicBezTo>
                  <a:pt x="119806" y="25133"/>
                  <a:pt x="116898" y="22299"/>
                  <a:pt x="114184" y="22299"/>
                </a:cubicBezTo>
                <a:close/>
                <a:moveTo>
                  <a:pt x="71340" y="8503"/>
                </a:moveTo>
                <a:lnTo>
                  <a:pt x="71340" y="8503"/>
                </a:lnTo>
                <a:cubicBezTo>
                  <a:pt x="74054" y="8503"/>
                  <a:pt x="79870" y="11149"/>
                  <a:pt x="79870" y="13984"/>
                </a:cubicBezTo>
                <a:cubicBezTo>
                  <a:pt x="79870" y="19653"/>
                  <a:pt x="74054" y="22299"/>
                  <a:pt x="71340" y="22299"/>
                </a:cubicBezTo>
                <a:cubicBezTo>
                  <a:pt x="68432" y="22299"/>
                  <a:pt x="62810" y="19653"/>
                  <a:pt x="62810" y="13984"/>
                </a:cubicBezTo>
                <a:cubicBezTo>
                  <a:pt x="62810" y="11149"/>
                  <a:pt x="68432" y="8503"/>
                  <a:pt x="71340" y="8503"/>
                </a:cubicBezTo>
                <a:close/>
                <a:moveTo>
                  <a:pt x="48465" y="8503"/>
                </a:moveTo>
                <a:lnTo>
                  <a:pt x="48465" y="8503"/>
                </a:lnTo>
                <a:cubicBezTo>
                  <a:pt x="51373" y="8503"/>
                  <a:pt x="56995" y="11149"/>
                  <a:pt x="56995" y="13984"/>
                </a:cubicBezTo>
                <a:cubicBezTo>
                  <a:pt x="56995" y="19653"/>
                  <a:pt x="51373" y="22299"/>
                  <a:pt x="48465" y="22299"/>
                </a:cubicBezTo>
                <a:cubicBezTo>
                  <a:pt x="45557" y="22299"/>
                  <a:pt x="39935" y="19653"/>
                  <a:pt x="39935" y="13984"/>
                </a:cubicBezTo>
                <a:cubicBezTo>
                  <a:pt x="39935" y="11149"/>
                  <a:pt x="45557" y="8503"/>
                  <a:pt x="48465" y="8503"/>
                </a:cubicBezTo>
                <a:close/>
                <a:moveTo>
                  <a:pt x="56995" y="111307"/>
                </a:moveTo>
                <a:lnTo>
                  <a:pt x="56995" y="111307"/>
                </a:lnTo>
                <a:cubicBezTo>
                  <a:pt x="22875" y="111307"/>
                  <a:pt x="22875" y="111307"/>
                  <a:pt x="22875" y="111307"/>
                </a:cubicBezTo>
                <a:cubicBezTo>
                  <a:pt x="17059" y="111307"/>
                  <a:pt x="14151" y="108661"/>
                  <a:pt x="14151" y="102992"/>
                </a:cubicBezTo>
                <a:cubicBezTo>
                  <a:pt x="14151" y="80692"/>
                  <a:pt x="14151" y="80692"/>
                  <a:pt x="14151" y="80692"/>
                </a:cubicBezTo>
                <a:cubicBezTo>
                  <a:pt x="56995" y="80692"/>
                  <a:pt x="56995" y="80692"/>
                  <a:pt x="56995" y="80692"/>
                </a:cubicBezTo>
                <a:lnTo>
                  <a:pt x="56995" y="111307"/>
                </a:lnTo>
                <a:close/>
                <a:moveTo>
                  <a:pt x="56995" y="75212"/>
                </a:moveTo>
                <a:lnTo>
                  <a:pt x="56995" y="75212"/>
                </a:lnTo>
                <a:cubicBezTo>
                  <a:pt x="14151" y="75212"/>
                  <a:pt x="14151" y="75212"/>
                  <a:pt x="14151" y="75212"/>
                </a:cubicBezTo>
                <a:cubicBezTo>
                  <a:pt x="14151" y="44598"/>
                  <a:pt x="14151" y="44598"/>
                  <a:pt x="14151" y="44598"/>
                </a:cubicBezTo>
                <a:cubicBezTo>
                  <a:pt x="56995" y="44598"/>
                  <a:pt x="56995" y="44598"/>
                  <a:pt x="56995" y="44598"/>
                </a:cubicBezTo>
                <a:lnTo>
                  <a:pt x="56995" y="75212"/>
                </a:lnTo>
                <a:close/>
                <a:moveTo>
                  <a:pt x="105460" y="102992"/>
                </a:moveTo>
                <a:lnTo>
                  <a:pt x="105460" y="102992"/>
                </a:lnTo>
                <a:cubicBezTo>
                  <a:pt x="105460" y="108661"/>
                  <a:pt x="102746" y="111307"/>
                  <a:pt x="96930" y="111307"/>
                </a:cubicBezTo>
                <a:cubicBezTo>
                  <a:pt x="62810" y="111307"/>
                  <a:pt x="62810" y="111307"/>
                  <a:pt x="62810" y="111307"/>
                </a:cubicBezTo>
                <a:cubicBezTo>
                  <a:pt x="62810" y="80692"/>
                  <a:pt x="62810" y="80692"/>
                  <a:pt x="62810" y="80692"/>
                </a:cubicBezTo>
                <a:cubicBezTo>
                  <a:pt x="105460" y="80692"/>
                  <a:pt x="105460" y="80692"/>
                  <a:pt x="105460" y="80692"/>
                </a:cubicBezTo>
                <a:lnTo>
                  <a:pt x="105460" y="102992"/>
                </a:lnTo>
                <a:close/>
                <a:moveTo>
                  <a:pt x="105460" y="75212"/>
                </a:moveTo>
                <a:lnTo>
                  <a:pt x="105460" y="75212"/>
                </a:lnTo>
                <a:cubicBezTo>
                  <a:pt x="62810" y="75212"/>
                  <a:pt x="62810" y="75212"/>
                  <a:pt x="62810" y="75212"/>
                </a:cubicBezTo>
                <a:cubicBezTo>
                  <a:pt x="62810" y="44598"/>
                  <a:pt x="62810" y="44598"/>
                  <a:pt x="62810" y="44598"/>
                </a:cubicBezTo>
                <a:cubicBezTo>
                  <a:pt x="105460" y="44598"/>
                  <a:pt x="105460" y="44598"/>
                  <a:pt x="105460" y="44598"/>
                </a:cubicBezTo>
                <a:lnTo>
                  <a:pt x="105460" y="75212"/>
                </a:lnTo>
                <a:close/>
                <a:moveTo>
                  <a:pt x="108368" y="36283"/>
                </a:moveTo>
                <a:lnTo>
                  <a:pt x="108368" y="36283"/>
                </a:lnTo>
                <a:cubicBezTo>
                  <a:pt x="11437" y="36283"/>
                  <a:pt x="11437" y="36283"/>
                  <a:pt x="11437" y="36283"/>
                </a:cubicBezTo>
                <a:cubicBezTo>
                  <a:pt x="8529" y="36283"/>
                  <a:pt x="5621" y="36283"/>
                  <a:pt x="5621" y="33448"/>
                </a:cubicBezTo>
                <a:cubicBezTo>
                  <a:pt x="5621" y="30803"/>
                  <a:pt x="8529" y="30803"/>
                  <a:pt x="11437" y="30803"/>
                </a:cubicBezTo>
                <a:cubicBezTo>
                  <a:pt x="108368" y="30803"/>
                  <a:pt x="108368" y="30803"/>
                  <a:pt x="108368" y="30803"/>
                </a:cubicBezTo>
                <a:cubicBezTo>
                  <a:pt x="111276" y="30803"/>
                  <a:pt x="114184" y="30803"/>
                  <a:pt x="114184" y="33448"/>
                </a:cubicBezTo>
                <a:cubicBezTo>
                  <a:pt x="114184" y="36283"/>
                  <a:pt x="111276" y="36283"/>
                  <a:pt x="108368" y="36283"/>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4" name="Shape 4674"/>
          <p:cNvSpPr/>
          <p:nvPr/>
        </p:nvSpPr>
        <p:spPr>
          <a:xfrm>
            <a:off x="5402160" y="4522680"/>
            <a:ext cx="304920" cy="297000"/>
          </a:xfrm>
          <a:custGeom>
            <a:avLst/>
            <a:gdLst>
              <a:gd name="textAreaLeft" fmla="*/ 0 w 304920"/>
              <a:gd name="textAreaRight" fmla="*/ 305280 w 304920"/>
              <a:gd name="textAreaTop" fmla="*/ 0 h 297000"/>
              <a:gd name="textAreaBottom" fmla="*/ 297360 h 297000"/>
            </a:gdLst>
            <a:ahLst/>
            <a:rect l="textAreaLeft" t="textAreaTop" r="textAreaRight" b="textAreaBottom"/>
            <a:pathLst>
              <a:path w="120000" h="120000">
                <a:moveTo>
                  <a:pt x="22334" y="105460"/>
                </a:moveTo>
                <a:lnTo>
                  <a:pt x="22334" y="105460"/>
                </a:lnTo>
                <a:cubicBezTo>
                  <a:pt x="22334" y="114184"/>
                  <a:pt x="30662" y="119806"/>
                  <a:pt x="39179" y="119806"/>
                </a:cubicBezTo>
                <a:cubicBezTo>
                  <a:pt x="47507" y="119806"/>
                  <a:pt x="52996" y="114184"/>
                  <a:pt x="52996" y="105460"/>
                </a:cubicBezTo>
                <a:cubicBezTo>
                  <a:pt x="52996" y="96930"/>
                  <a:pt x="47507" y="91308"/>
                  <a:pt x="39179" y="91308"/>
                </a:cubicBezTo>
                <a:cubicBezTo>
                  <a:pt x="30662" y="91308"/>
                  <a:pt x="22334" y="96930"/>
                  <a:pt x="22334" y="105460"/>
                </a:cubicBezTo>
                <a:close/>
                <a:moveTo>
                  <a:pt x="39179" y="96930"/>
                </a:moveTo>
                <a:lnTo>
                  <a:pt x="39179" y="96930"/>
                </a:lnTo>
                <a:cubicBezTo>
                  <a:pt x="41829" y="96930"/>
                  <a:pt x="44668" y="102746"/>
                  <a:pt x="44668" y="105460"/>
                </a:cubicBezTo>
                <a:cubicBezTo>
                  <a:pt x="44668" y="108368"/>
                  <a:pt x="41829" y="114184"/>
                  <a:pt x="39179" y="114184"/>
                </a:cubicBezTo>
                <a:cubicBezTo>
                  <a:pt x="33501" y="114184"/>
                  <a:pt x="30662" y="108368"/>
                  <a:pt x="30662" y="105460"/>
                </a:cubicBezTo>
                <a:cubicBezTo>
                  <a:pt x="30662" y="102746"/>
                  <a:pt x="33501" y="96930"/>
                  <a:pt x="39179" y="96930"/>
                </a:cubicBezTo>
                <a:close/>
                <a:moveTo>
                  <a:pt x="30662" y="82778"/>
                </a:moveTo>
                <a:lnTo>
                  <a:pt x="30662" y="82778"/>
                </a:lnTo>
                <a:cubicBezTo>
                  <a:pt x="28012" y="82778"/>
                  <a:pt x="22334" y="79870"/>
                  <a:pt x="22334" y="74054"/>
                </a:cubicBezTo>
                <a:cubicBezTo>
                  <a:pt x="108832" y="68432"/>
                  <a:pt x="108832" y="68432"/>
                  <a:pt x="108832" y="68432"/>
                </a:cubicBezTo>
                <a:cubicBezTo>
                  <a:pt x="108832" y="68432"/>
                  <a:pt x="119810" y="19967"/>
                  <a:pt x="119810" y="17059"/>
                </a:cubicBezTo>
                <a:lnTo>
                  <a:pt x="117160" y="14151"/>
                </a:lnTo>
                <a:cubicBezTo>
                  <a:pt x="22334" y="14151"/>
                  <a:pt x="22334" y="14151"/>
                  <a:pt x="22334" y="14151"/>
                </a:cubicBezTo>
                <a:cubicBezTo>
                  <a:pt x="22334" y="5621"/>
                  <a:pt x="22334" y="5621"/>
                  <a:pt x="22334" y="5621"/>
                </a:cubicBezTo>
                <a:cubicBezTo>
                  <a:pt x="28012" y="5621"/>
                  <a:pt x="28012" y="5621"/>
                  <a:pt x="28012" y="5621"/>
                </a:cubicBezTo>
                <a:cubicBezTo>
                  <a:pt x="28012" y="5621"/>
                  <a:pt x="30662" y="5621"/>
                  <a:pt x="30662" y="2714"/>
                </a:cubicBezTo>
                <a:cubicBezTo>
                  <a:pt x="30662" y="0"/>
                  <a:pt x="28012" y="0"/>
                  <a:pt x="28012" y="0"/>
                </a:cubicBezTo>
                <a:cubicBezTo>
                  <a:pt x="5678" y="0"/>
                  <a:pt x="5678" y="0"/>
                  <a:pt x="5678" y="0"/>
                </a:cubicBezTo>
                <a:cubicBezTo>
                  <a:pt x="2839" y="0"/>
                  <a:pt x="0" y="0"/>
                  <a:pt x="0" y="2714"/>
                </a:cubicBezTo>
                <a:cubicBezTo>
                  <a:pt x="0" y="5621"/>
                  <a:pt x="2839" y="5621"/>
                  <a:pt x="5678" y="5621"/>
                </a:cubicBezTo>
                <a:cubicBezTo>
                  <a:pt x="16845" y="5621"/>
                  <a:pt x="16845" y="5621"/>
                  <a:pt x="16845" y="5621"/>
                </a:cubicBezTo>
                <a:cubicBezTo>
                  <a:pt x="16845" y="74054"/>
                  <a:pt x="16845" y="74054"/>
                  <a:pt x="16845" y="74054"/>
                </a:cubicBezTo>
                <a:cubicBezTo>
                  <a:pt x="16845" y="82778"/>
                  <a:pt x="22334" y="91308"/>
                  <a:pt x="30662" y="91308"/>
                </a:cubicBezTo>
                <a:cubicBezTo>
                  <a:pt x="39179" y="91308"/>
                  <a:pt x="39179" y="91308"/>
                  <a:pt x="39179" y="91308"/>
                </a:cubicBezTo>
                <a:cubicBezTo>
                  <a:pt x="83659" y="91308"/>
                  <a:pt x="83659" y="91308"/>
                  <a:pt x="83659" y="91308"/>
                </a:cubicBezTo>
                <a:cubicBezTo>
                  <a:pt x="117160" y="91308"/>
                  <a:pt x="117160" y="91308"/>
                  <a:pt x="117160" y="91308"/>
                </a:cubicBezTo>
                <a:cubicBezTo>
                  <a:pt x="117160" y="91308"/>
                  <a:pt x="117160" y="85492"/>
                  <a:pt x="117160" y="82778"/>
                </a:cubicBezTo>
                <a:lnTo>
                  <a:pt x="30662" y="82778"/>
                </a:lnTo>
                <a:close/>
                <a:moveTo>
                  <a:pt x="22334" y="22875"/>
                </a:moveTo>
                <a:lnTo>
                  <a:pt x="22334" y="22875"/>
                </a:lnTo>
                <a:cubicBezTo>
                  <a:pt x="111482" y="22875"/>
                  <a:pt x="111482" y="22875"/>
                  <a:pt x="111482" y="22875"/>
                </a:cubicBezTo>
                <a:cubicBezTo>
                  <a:pt x="103154" y="59903"/>
                  <a:pt x="103154" y="59903"/>
                  <a:pt x="103154" y="59903"/>
                </a:cubicBezTo>
                <a:cubicBezTo>
                  <a:pt x="22334" y="68432"/>
                  <a:pt x="22334" y="68432"/>
                  <a:pt x="22334" y="68432"/>
                </a:cubicBezTo>
                <a:lnTo>
                  <a:pt x="22334" y="22875"/>
                </a:lnTo>
                <a:close/>
                <a:moveTo>
                  <a:pt x="67003" y="105460"/>
                </a:moveTo>
                <a:lnTo>
                  <a:pt x="67003" y="105460"/>
                </a:lnTo>
                <a:cubicBezTo>
                  <a:pt x="67003" y="114184"/>
                  <a:pt x="75331" y="119806"/>
                  <a:pt x="83659" y="119806"/>
                </a:cubicBezTo>
                <a:cubicBezTo>
                  <a:pt x="91987" y="119806"/>
                  <a:pt x="97665" y="114184"/>
                  <a:pt x="97665" y="105460"/>
                </a:cubicBezTo>
                <a:cubicBezTo>
                  <a:pt x="97665" y="96930"/>
                  <a:pt x="91987" y="91308"/>
                  <a:pt x="83659" y="91308"/>
                </a:cubicBezTo>
                <a:cubicBezTo>
                  <a:pt x="75331" y="91308"/>
                  <a:pt x="67003" y="96930"/>
                  <a:pt x="67003" y="105460"/>
                </a:cubicBezTo>
                <a:close/>
                <a:moveTo>
                  <a:pt x="83659" y="96930"/>
                </a:moveTo>
                <a:lnTo>
                  <a:pt x="83659" y="96930"/>
                </a:lnTo>
                <a:cubicBezTo>
                  <a:pt x="86498" y="96930"/>
                  <a:pt x="89148" y="102746"/>
                  <a:pt x="89148" y="105460"/>
                </a:cubicBezTo>
                <a:cubicBezTo>
                  <a:pt x="89148" y="108368"/>
                  <a:pt x="86498" y="114184"/>
                  <a:pt x="83659" y="114184"/>
                </a:cubicBezTo>
                <a:cubicBezTo>
                  <a:pt x="77981" y="114184"/>
                  <a:pt x="75331" y="108368"/>
                  <a:pt x="75331" y="105460"/>
                </a:cubicBezTo>
                <a:cubicBezTo>
                  <a:pt x="75331" y="102746"/>
                  <a:pt x="77981" y="96930"/>
                  <a:pt x="83659" y="9693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5" name="Shape 4676"/>
          <p:cNvSpPr/>
          <p:nvPr/>
        </p:nvSpPr>
        <p:spPr>
          <a:xfrm>
            <a:off x="4425840" y="4551480"/>
            <a:ext cx="295560" cy="242640"/>
          </a:xfrm>
          <a:custGeom>
            <a:avLst/>
            <a:gdLst>
              <a:gd name="textAreaLeft" fmla="*/ 0 w 295560"/>
              <a:gd name="textAreaRight" fmla="*/ 295920 w 295560"/>
              <a:gd name="textAreaTop" fmla="*/ 0 h 242640"/>
              <a:gd name="textAreaBottom" fmla="*/ 243000 h 242640"/>
            </a:gdLst>
            <a:ahLst/>
            <a:rect l="textAreaLeft" t="textAreaTop" r="textAreaRight" b="textAreaBottom"/>
            <a:pathLst>
              <a:path w="120000" h="120000">
                <a:moveTo>
                  <a:pt x="116898" y="28023"/>
                </a:moveTo>
                <a:lnTo>
                  <a:pt x="116898" y="28023"/>
                </a:lnTo>
                <a:cubicBezTo>
                  <a:pt x="91308" y="28023"/>
                  <a:pt x="91308" y="28023"/>
                  <a:pt x="91308" y="28023"/>
                </a:cubicBezTo>
                <a:cubicBezTo>
                  <a:pt x="99838" y="6946"/>
                  <a:pt x="99838" y="6946"/>
                  <a:pt x="99838" y="6946"/>
                </a:cubicBezTo>
                <a:cubicBezTo>
                  <a:pt x="108368" y="6946"/>
                  <a:pt x="108368" y="6946"/>
                  <a:pt x="108368" y="6946"/>
                </a:cubicBezTo>
                <a:cubicBezTo>
                  <a:pt x="111276" y="6946"/>
                  <a:pt x="114184" y="6946"/>
                  <a:pt x="114184" y="3353"/>
                </a:cubicBezTo>
                <a:cubicBezTo>
                  <a:pt x="114184" y="0"/>
                  <a:pt x="111276" y="0"/>
                  <a:pt x="108368" y="0"/>
                </a:cubicBezTo>
                <a:cubicBezTo>
                  <a:pt x="94216" y="0"/>
                  <a:pt x="94216" y="0"/>
                  <a:pt x="94216" y="0"/>
                </a:cubicBezTo>
                <a:cubicBezTo>
                  <a:pt x="82778" y="28023"/>
                  <a:pt x="82778" y="28023"/>
                  <a:pt x="82778" y="28023"/>
                </a:cubicBezTo>
                <a:cubicBezTo>
                  <a:pt x="37027" y="28023"/>
                  <a:pt x="37027" y="28023"/>
                  <a:pt x="37027" y="28023"/>
                </a:cubicBezTo>
                <a:cubicBezTo>
                  <a:pt x="25589" y="0"/>
                  <a:pt x="25589" y="0"/>
                  <a:pt x="25589" y="0"/>
                </a:cubicBezTo>
                <a:cubicBezTo>
                  <a:pt x="11437" y="0"/>
                  <a:pt x="11437" y="0"/>
                  <a:pt x="11437" y="0"/>
                </a:cubicBezTo>
                <a:cubicBezTo>
                  <a:pt x="8529" y="0"/>
                  <a:pt x="5621" y="0"/>
                  <a:pt x="5621" y="3353"/>
                </a:cubicBezTo>
                <a:cubicBezTo>
                  <a:pt x="5621" y="6946"/>
                  <a:pt x="8529" y="6946"/>
                  <a:pt x="11437" y="6946"/>
                </a:cubicBezTo>
                <a:cubicBezTo>
                  <a:pt x="19967" y="6946"/>
                  <a:pt x="19967" y="6946"/>
                  <a:pt x="19967" y="6946"/>
                </a:cubicBezTo>
                <a:cubicBezTo>
                  <a:pt x="28497" y="28023"/>
                  <a:pt x="28497" y="28023"/>
                  <a:pt x="28497" y="28023"/>
                </a:cubicBezTo>
                <a:cubicBezTo>
                  <a:pt x="2907" y="28023"/>
                  <a:pt x="2907" y="28023"/>
                  <a:pt x="2907" y="28023"/>
                </a:cubicBezTo>
                <a:cubicBezTo>
                  <a:pt x="0" y="28023"/>
                  <a:pt x="0" y="28023"/>
                  <a:pt x="0" y="31616"/>
                </a:cubicBezTo>
                <a:cubicBezTo>
                  <a:pt x="0" y="35209"/>
                  <a:pt x="0" y="35209"/>
                  <a:pt x="2907" y="35209"/>
                </a:cubicBezTo>
                <a:cubicBezTo>
                  <a:pt x="5621" y="35209"/>
                  <a:pt x="5621" y="35209"/>
                  <a:pt x="5621" y="35209"/>
                </a:cubicBezTo>
                <a:cubicBezTo>
                  <a:pt x="11437" y="102035"/>
                  <a:pt x="11437" y="102035"/>
                  <a:pt x="11437" y="102035"/>
                </a:cubicBezTo>
                <a:cubicBezTo>
                  <a:pt x="11437" y="112814"/>
                  <a:pt x="17059" y="119760"/>
                  <a:pt x="25589" y="119760"/>
                </a:cubicBezTo>
                <a:cubicBezTo>
                  <a:pt x="91308" y="119760"/>
                  <a:pt x="91308" y="119760"/>
                  <a:pt x="91308" y="119760"/>
                </a:cubicBezTo>
                <a:cubicBezTo>
                  <a:pt x="99838" y="119760"/>
                  <a:pt x="105654" y="112814"/>
                  <a:pt x="105654" y="102035"/>
                </a:cubicBezTo>
                <a:cubicBezTo>
                  <a:pt x="114184" y="35209"/>
                  <a:pt x="114184" y="35209"/>
                  <a:pt x="114184" y="35209"/>
                </a:cubicBezTo>
                <a:cubicBezTo>
                  <a:pt x="116898" y="35209"/>
                  <a:pt x="116898" y="35209"/>
                  <a:pt x="116898" y="35209"/>
                </a:cubicBezTo>
                <a:cubicBezTo>
                  <a:pt x="119806" y="35209"/>
                  <a:pt x="119806" y="35209"/>
                  <a:pt x="119806" y="31616"/>
                </a:cubicBezTo>
                <a:cubicBezTo>
                  <a:pt x="119806" y="28023"/>
                  <a:pt x="119806" y="28023"/>
                  <a:pt x="116898" y="28023"/>
                </a:cubicBezTo>
                <a:close/>
                <a:moveTo>
                  <a:pt x="37027" y="112814"/>
                </a:moveTo>
                <a:lnTo>
                  <a:pt x="37027" y="112814"/>
                </a:lnTo>
                <a:cubicBezTo>
                  <a:pt x="25589" y="112814"/>
                  <a:pt x="25589" y="112814"/>
                  <a:pt x="25589" y="112814"/>
                </a:cubicBezTo>
                <a:cubicBezTo>
                  <a:pt x="22875" y="112814"/>
                  <a:pt x="17059" y="105628"/>
                  <a:pt x="17059" y="102035"/>
                </a:cubicBezTo>
                <a:cubicBezTo>
                  <a:pt x="17059" y="91497"/>
                  <a:pt x="17059" y="91497"/>
                  <a:pt x="17059" y="91497"/>
                </a:cubicBezTo>
                <a:cubicBezTo>
                  <a:pt x="37027" y="91497"/>
                  <a:pt x="37027" y="91497"/>
                  <a:pt x="37027" y="91497"/>
                </a:cubicBezTo>
                <a:lnTo>
                  <a:pt x="37027" y="112814"/>
                </a:lnTo>
                <a:close/>
                <a:moveTo>
                  <a:pt x="37027" y="84550"/>
                </a:moveTo>
                <a:lnTo>
                  <a:pt x="37027" y="84550"/>
                </a:lnTo>
                <a:cubicBezTo>
                  <a:pt x="17059" y="84550"/>
                  <a:pt x="17059" y="84550"/>
                  <a:pt x="17059" y="84550"/>
                </a:cubicBezTo>
                <a:cubicBezTo>
                  <a:pt x="17059" y="63233"/>
                  <a:pt x="17059" y="63233"/>
                  <a:pt x="17059" y="63233"/>
                </a:cubicBezTo>
                <a:cubicBezTo>
                  <a:pt x="37027" y="63233"/>
                  <a:pt x="37027" y="63233"/>
                  <a:pt x="37027" y="63233"/>
                </a:cubicBezTo>
                <a:lnTo>
                  <a:pt x="37027" y="84550"/>
                </a:lnTo>
                <a:close/>
                <a:moveTo>
                  <a:pt x="37027" y="56287"/>
                </a:moveTo>
                <a:lnTo>
                  <a:pt x="37027" y="56287"/>
                </a:lnTo>
                <a:cubicBezTo>
                  <a:pt x="14151" y="56287"/>
                  <a:pt x="14151" y="56287"/>
                  <a:pt x="14151" y="56287"/>
                </a:cubicBezTo>
                <a:cubicBezTo>
                  <a:pt x="14151" y="35209"/>
                  <a:pt x="14151" y="35209"/>
                  <a:pt x="14151" y="35209"/>
                </a:cubicBezTo>
                <a:cubicBezTo>
                  <a:pt x="37027" y="35209"/>
                  <a:pt x="37027" y="35209"/>
                  <a:pt x="37027" y="35209"/>
                </a:cubicBezTo>
                <a:lnTo>
                  <a:pt x="37027" y="56287"/>
                </a:lnTo>
                <a:close/>
                <a:moveTo>
                  <a:pt x="74248" y="112814"/>
                </a:moveTo>
                <a:lnTo>
                  <a:pt x="74248" y="112814"/>
                </a:lnTo>
                <a:cubicBezTo>
                  <a:pt x="45751" y="112814"/>
                  <a:pt x="45751" y="112814"/>
                  <a:pt x="45751" y="112814"/>
                </a:cubicBezTo>
                <a:cubicBezTo>
                  <a:pt x="45751" y="91497"/>
                  <a:pt x="45751" y="91497"/>
                  <a:pt x="45751" y="91497"/>
                </a:cubicBezTo>
                <a:cubicBezTo>
                  <a:pt x="74248" y="91497"/>
                  <a:pt x="74248" y="91497"/>
                  <a:pt x="74248" y="91497"/>
                </a:cubicBezTo>
                <a:lnTo>
                  <a:pt x="74248" y="112814"/>
                </a:lnTo>
                <a:close/>
                <a:moveTo>
                  <a:pt x="74248" y="84550"/>
                </a:moveTo>
                <a:lnTo>
                  <a:pt x="74248" y="84550"/>
                </a:lnTo>
                <a:cubicBezTo>
                  <a:pt x="45751" y="84550"/>
                  <a:pt x="45751" y="84550"/>
                  <a:pt x="45751" y="84550"/>
                </a:cubicBezTo>
                <a:cubicBezTo>
                  <a:pt x="45751" y="63233"/>
                  <a:pt x="45751" y="63233"/>
                  <a:pt x="45751" y="63233"/>
                </a:cubicBezTo>
                <a:cubicBezTo>
                  <a:pt x="74248" y="63233"/>
                  <a:pt x="74248" y="63233"/>
                  <a:pt x="74248" y="63233"/>
                </a:cubicBezTo>
                <a:lnTo>
                  <a:pt x="74248" y="84550"/>
                </a:lnTo>
                <a:close/>
                <a:moveTo>
                  <a:pt x="74248" y="56287"/>
                </a:moveTo>
                <a:lnTo>
                  <a:pt x="74248" y="56287"/>
                </a:lnTo>
                <a:cubicBezTo>
                  <a:pt x="45751" y="56287"/>
                  <a:pt x="45751" y="56287"/>
                  <a:pt x="45751" y="56287"/>
                </a:cubicBezTo>
                <a:cubicBezTo>
                  <a:pt x="45751" y="35209"/>
                  <a:pt x="45751" y="35209"/>
                  <a:pt x="45751" y="35209"/>
                </a:cubicBezTo>
                <a:cubicBezTo>
                  <a:pt x="74248" y="35209"/>
                  <a:pt x="74248" y="35209"/>
                  <a:pt x="74248" y="35209"/>
                </a:cubicBezTo>
                <a:lnTo>
                  <a:pt x="74248" y="56287"/>
                </a:lnTo>
                <a:close/>
                <a:moveTo>
                  <a:pt x="96930" y="102035"/>
                </a:moveTo>
                <a:lnTo>
                  <a:pt x="96930" y="102035"/>
                </a:lnTo>
                <a:cubicBezTo>
                  <a:pt x="96930" y="105628"/>
                  <a:pt x="94216" y="112814"/>
                  <a:pt x="91308" y="112814"/>
                </a:cubicBezTo>
                <a:cubicBezTo>
                  <a:pt x="82778" y="112814"/>
                  <a:pt x="82778" y="112814"/>
                  <a:pt x="82778" y="112814"/>
                </a:cubicBezTo>
                <a:cubicBezTo>
                  <a:pt x="82778" y="91497"/>
                  <a:pt x="82778" y="91497"/>
                  <a:pt x="82778" y="91497"/>
                </a:cubicBezTo>
                <a:cubicBezTo>
                  <a:pt x="99838" y="91497"/>
                  <a:pt x="99838" y="91497"/>
                  <a:pt x="99838" y="91497"/>
                </a:cubicBezTo>
                <a:lnTo>
                  <a:pt x="96930" y="102035"/>
                </a:lnTo>
                <a:close/>
                <a:moveTo>
                  <a:pt x="99838" y="84550"/>
                </a:moveTo>
                <a:lnTo>
                  <a:pt x="99838" y="84550"/>
                </a:lnTo>
                <a:cubicBezTo>
                  <a:pt x="82778" y="84550"/>
                  <a:pt x="82778" y="84550"/>
                  <a:pt x="82778" y="84550"/>
                </a:cubicBezTo>
                <a:cubicBezTo>
                  <a:pt x="82778" y="63233"/>
                  <a:pt x="82778" y="63233"/>
                  <a:pt x="82778" y="63233"/>
                </a:cubicBezTo>
                <a:cubicBezTo>
                  <a:pt x="102746" y="63233"/>
                  <a:pt x="102746" y="63233"/>
                  <a:pt x="102746" y="63233"/>
                </a:cubicBezTo>
                <a:lnTo>
                  <a:pt x="99838" y="84550"/>
                </a:lnTo>
                <a:close/>
                <a:moveTo>
                  <a:pt x="102746" y="56287"/>
                </a:moveTo>
                <a:lnTo>
                  <a:pt x="102746" y="56287"/>
                </a:lnTo>
                <a:cubicBezTo>
                  <a:pt x="82778" y="56287"/>
                  <a:pt x="82778" y="56287"/>
                  <a:pt x="82778" y="56287"/>
                </a:cubicBezTo>
                <a:cubicBezTo>
                  <a:pt x="82778" y="35209"/>
                  <a:pt x="82778" y="35209"/>
                  <a:pt x="82778" y="35209"/>
                </a:cubicBezTo>
                <a:cubicBezTo>
                  <a:pt x="105654" y="35209"/>
                  <a:pt x="105654" y="35209"/>
                  <a:pt x="105654" y="35209"/>
                </a:cubicBezTo>
                <a:lnTo>
                  <a:pt x="102746" y="56287"/>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6" name="Shape 4678"/>
          <p:cNvSpPr/>
          <p:nvPr/>
        </p:nvSpPr>
        <p:spPr>
          <a:xfrm>
            <a:off x="3478320" y="4551480"/>
            <a:ext cx="226800" cy="242640"/>
          </a:xfrm>
          <a:custGeom>
            <a:avLst/>
            <a:gdLst>
              <a:gd name="textAreaLeft" fmla="*/ 0 w 226800"/>
              <a:gd name="textAreaRight" fmla="*/ 227160 w 226800"/>
              <a:gd name="textAreaTop" fmla="*/ 0 h 242640"/>
              <a:gd name="textAreaBottom" fmla="*/ 243000 h 242640"/>
            </a:gdLst>
            <a:ahLst/>
            <a:rect l="textAreaLeft" t="textAreaTop" r="textAreaRight" b="textAreaBottom"/>
            <a:pathLst>
              <a:path w="120000" h="120000">
                <a:moveTo>
                  <a:pt x="97372" y="74011"/>
                </a:moveTo>
                <a:lnTo>
                  <a:pt x="97372" y="74011"/>
                </a:lnTo>
                <a:cubicBezTo>
                  <a:pt x="86186" y="74011"/>
                  <a:pt x="78813" y="77365"/>
                  <a:pt x="75000" y="84550"/>
                </a:cubicBezTo>
                <a:cubicBezTo>
                  <a:pt x="48813" y="70419"/>
                  <a:pt x="48813" y="70419"/>
                  <a:pt x="48813" y="70419"/>
                </a:cubicBezTo>
                <a:cubicBezTo>
                  <a:pt x="48813" y="67065"/>
                  <a:pt x="52372" y="63233"/>
                  <a:pt x="52372" y="59880"/>
                </a:cubicBezTo>
                <a:cubicBezTo>
                  <a:pt x="52372" y="56287"/>
                  <a:pt x="52372" y="56287"/>
                  <a:pt x="48813" y="52934"/>
                </a:cubicBezTo>
                <a:cubicBezTo>
                  <a:pt x="78813" y="38802"/>
                  <a:pt x="78813" y="38802"/>
                  <a:pt x="78813" y="38802"/>
                </a:cubicBezTo>
                <a:cubicBezTo>
                  <a:pt x="82372" y="42155"/>
                  <a:pt x="89745" y="45748"/>
                  <a:pt x="97372" y="45748"/>
                </a:cubicBezTo>
                <a:cubicBezTo>
                  <a:pt x="108559" y="45748"/>
                  <a:pt x="119745" y="35209"/>
                  <a:pt x="119745" y="21077"/>
                </a:cubicBezTo>
                <a:cubicBezTo>
                  <a:pt x="119745" y="10538"/>
                  <a:pt x="108559" y="0"/>
                  <a:pt x="97372" y="0"/>
                </a:cubicBezTo>
                <a:cubicBezTo>
                  <a:pt x="82372" y="0"/>
                  <a:pt x="71186" y="10538"/>
                  <a:pt x="71186" y="21077"/>
                </a:cubicBezTo>
                <a:cubicBezTo>
                  <a:pt x="71186" y="24670"/>
                  <a:pt x="71186" y="28023"/>
                  <a:pt x="71186" y="28023"/>
                </a:cubicBezTo>
                <a:cubicBezTo>
                  <a:pt x="45000" y="42155"/>
                  <a:pt x="45000" y="42155"/>
                  <a:pt x="45000" y="42155"/>
                </a:cubicBezTo>
                <a:cubicBezTo>
                  <a:pt x="41186" y="38802"/>
                  <a:pt x="33813" y="35209"/>
                  <a:pt x="26186" y="35209"/>
                </a:cubicBezTo>
                <a:cubicBezTo>
                  <a:pt x="11186" y="35209"/>
                  <a:pt x="0" y="45748"/>
                  <a:pt x="0" y="59880"/>
                </a:cubicBezTo>
                <a:cubicBezTo>
                  <a:pt x="0" y="74011"/>
                  <a:pt x="11186" y="84550"/>
                  <a:pt x="26186" y="84550"/>
                </a:cubicBezTo>
                <a:cubicBezTo>
                  <a:pt x="33813" y="84550"/>
                  <a:pt x="37627" y="80958"/>
                  <a:pt x="41186" y="77365"/>
                </a:cubicBezTo>
                <a:lnTo>
                  <a:pt x="41186" y="77365"/>
                </a:lnTo>
                <a:cubicBezTo>
                  <a:pt x="71186" y="95089"/>
                  <a:pt x="71186" y="95089"/>
                  <a:pt x="71186" y="95089"/>
                </a:cubicBezTo>
                <a:cubicBezTo>
                  <a:pt x="71186" y="95089"/>
                  <a:pt x="71186" y="95089"/>
                  <a:pt x="71186" y="98682"/>
                </a:cubicBezTo>
                <a:cubicBezTo>
                  <a:pt x="71186" y="109221"/>
                  <a:pt x="82372" y="119760"/>
                  <a:pt x="97372" y="119760"/>
                </a:cubicBezTo>
                <a:cubicBezTo>
                  <a:pt x="108559" y="119760"/>
                  <a:pt x="119745" y="109221"/>
                  <a:pt x="119745" y="98682"/>
                </a:cubicBezTo>
                <a:cubicBezTo>
                  <a:pt x="119745" y="84550"/>
                  <a:pt x="108559" y="74011"/>
                  <a:pt x="97372" y="74011"/>
                </a:cubicBezTo>
                <a:close/>
                <a:moveTo>
                  <a:pt x="97372" y="6946"/>
                </a:moveTo>
                <a:lnTo>
                  <a:pt x="97372" y="6946"/>
                </a:lnTo>
                <a:cubicBezTo>
                  <a:pt x="104745" y="6946"/>
                  <a:pt x="112372" y="14131"/>
                  <a:pt x="112372" y="21077"/>
                </a:cubicBezTo>
                <a:cubicBezTo>
                  <a:pt x="112372" y="31616"/>
                  <a:pt x="104745" y="35209"/>
                  <a:pt x="97372" y="35209"/>
                </a:cubicBezTo>
                <a:cubicBezTo>
                  <a:pt x="86186" y="35209"/>
                  <a:pt x="82372" y="31616"/>
                  <a:pt x="82372" y="21077"/>
                </a:cubicBezTo>
                <a:cubicBezTo>
                  <a:pt x="82372" y="14131"/>
                  <a:pt x="86186" y="6946"/>
                  <a:pt x="97372" y="6946"/>
                </a:cubicBezTo>
                <a:close/>
                <a:moveTo>
                  <a:pt x="26186" y="74011"/>
                </a:moveTo>
                <a:lnTo>
                  <a:pt x="26186" y="74011"/>
                </a:lnTo>
                <a:cubicBezTo>
                  <a:pt x="18813" y="74011"/>
                  <a:pt x="11186" y="67065"/>
                  <a:pt x="11186" y="59880"/>
                </a:cubicBezTo>
                <a:cubicBezTo>
                  <a:pt x="11186" y="52934"/>
                  <a:pt x="18813" y="45748"/>
                  <a:pt x="26186" y="45748"/>
                </a:cubicBezTo>
                <a:cubicBezTo>
                  <a:pt x="33813" y="45748"/>
                  <a:pt x="41186" y="52934"/>
                  <a:pt x="41186" y="59880"/>
                </a:cubicBezTo>
                <a:cubicBezTo>
                  <a:pt x="41186" y="67065"/>
                  <a:pt x="33813" y="74011"/>
                  <a:pt x="26186" y="74011"/>
                </a:cubicBezTo>
                <a:close/>
                <a:moveTo>
                  <a:pt x="97372" y="112814"/>
                </a:moveTo>
                <a:lnTo>
                  <a:pt x="97372" y="112814"/>
                </a:lnTo>
                <a:cubicBezTo>
                  <a:pt x="86186" y="112814"/>
                  <a:pt x="82372" y="105628"/>
                  <a:pt x="82372" y="98682"/>
                </a:cubicBezTo>
                <a:cubicBezTo>
                  <a:pt x="82372" y="88143"/>
                  <a:pt x="86186" y="84550"/>
                  <a:pt x="97372" y="84550"/>
                </a:cubicBezTo>
                <a:cubicBezTo>
                  <a:pt x="104745" y="84550"/>
                  <a:pt x="112372" y="88143"/>
                  <a:pt x="112372" y="98682"/>
                </a:cubicBezTo>
                <a:cubicBezTo>
                  <a:pt x="112372" y="105628"/>
                  <a:pt x="104745" y="112814"/>
                  <a:pt x="97372" y="11281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7" name="Shape 4680"/>
          <p:cNvSpPr/>
          <p:nvPr/>
        </p:nvSpPr>
        <p:spPr>
          <a:xfrm>
            <a:off x="2502000" y="4522680"/>
            <a:ext cx="233280" cy="297000"/>
          </a:xfrm>
          <a:custGeom>
            <a:avLst/>
            <a:gdLst>
              <a:gd name="textAreaLeft" fmla="*/ 0 w 233280"/>
              <a:gd name="textAreaRight" fmla="*/ 233640 w 233280"/>
              <a:gd name="textAreaTop" fmla="*/ 0 h 297000"/>
              <a:gd name="textAreaBottom" fmla="*/ 297360 h 29700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8" name="Shape 4682"/>
          <p:cNvSpPr/>
          <p:nvPr/>
        </p:nvSpPr>
        <p:spPr>
          <a:xfrm>
            <a:off x="1490760" y="4551480"/>
            <a:ext cx="284040" cy="242640"/>
          </a:xfrm>
          <a:custGeom>
            <a:avLst/>
            <a:gdLst>
              <a:gd name="textAreaLeft" fmla="*/ 0 w 284040"/>
              <a:gd name="textAreaRight" fmla="*/ 284400 w 284040"/>
              <a:gd name="textAreaTop" fmla="*/ 0 h 242640"/>
              <a:gd name="textAreaBottom" fmla="*/ 243000 h 24264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9" name="Shape 4684"/>
          <p:cNvSpPr/>
          <p:nvPr/>
        </p:nvSpPr>
        <p:spPr>
          <a:xfrm>
            <a:off x="5402160" y="4040280"/>
            <a:ext cx="304920" cy="284040"/>
          </a:xfrm>
          <a:custGeom>
            <a:avLst/>
            <a:gdLst>
              <a:gd name="textAreaLeft" fmla="*/ 0 w 304920"/>
              <a:gd name="textAreaRight" fmla="*/ 305280 w 304920"/>
              <a:gd name="textAreaTop" fmla="*/ 0 h 284040"/>
              <a:gd name="textAreaBottom" fmla="*/ 284400 h 284040"/>
            </a:gdLst>
            <a:ahLst/>
            <a:rect l="textAreaLeft" t="textAreaTop" r="textAreaRight" b="textAreaBottom"/>
            <a:pathLst>
              <a:path w="120000" h="120000">
                <a:moveTo>
                  <a:pt x="105993" y="0"/>
                </a:moveTo>
                <a:lnTo>
                  <a:pt x="105993" y="0"/>
                </a:lnTo>
                <a:cubicBezTo>
                  <a:pt x="16845" y="0"/>
                  <a:pt x="16845" y="0"/>
                  <a:pt x="16845" y="0"/>
                </a:cubicBezTo>
                <a:cubicBezTo>
                  <a:pt x="8517" y="0"/>
                  <a:pt x="0" y="5898"/>
                  <a:pt x="0" y="14847"/>
                </a:cubicBezTo>
                <a:cubicBezTo>
                  <a:pt x="0" y="101694"/>
                  <a:pt x="0" y="101694"/>
                  <a:pt x="0" y="101694"/>
                </a:cubicBezTo>
                <a:cubicBezTo>
                  <a:pt x="0" y="110644"/>
                  <a:pt x="8517" y="119796"/>
                  <a:pt x="16845" y="119796"/>
                </a:cubicBezTo>
                <a:cubicBezTo>
                  <a:pt x="105993" y="119796"/>
                  <a:pt x="105993" y="119796"/>
                  <a:pt x="105993" y="119796"/>
                </a:cubicBezTo>
                <a:cubicBezTo>
                  <a:pt x="114321" y="119796"/>
                  <a:pt x="119810" y="110644"/>
                  <a:pt x="119810" y="101694"/>
                </a:cubicBezTo>
                <a:cubicBezTo>
                  <a:pt x="119810" y="14847"/>
                  <a:pt x="119810" y="14847"/>
                  <a:pt x="119810" y="14847"/>
                </a:cubicBezTo>
                <a:cubicBezTo>
                  <a:pt x="119810" y="5898"/>
                  <a:pt x="114321" y="0"/>
                  <a:pt x="105993" y="0"/>
                </a:cubicBezTo>
                <a:close/>
                <a:moveTo>
                  <a:pt x="22334" y="110644"/>
                </a:moveTo>
                <a:lnTo>
                  <a:pt x="22334" y="110644"/>
                </a:lnTo>
                <a:cubicBezTo>
                  <a:pt x="16845" y="110644"/>
                  <a:pt x="16845" y="110644"/>
                  <a:pt x="16845" y="110644"/>
                </a:cubicBezTo>
                <a:cubicBezTo>
                  <a:pt x="11167" y="110644"/>
                  <a:pt x="8517" y="107796"/>
                  <a:pt x="8517" y="101694"/>
                </a:cubicBezTo>
                <a:cubicBezTo>
                  <a:pt x="8517" y="14847"/>
                  <a:pt x="8517" y="14847"/>
                  <a:pt x="8517" y="14847"/>
                </a:cubicBezTo>
                <a:cubicBezTo>
                  <a:pt x="8517" y="12000"/>
                  <a:pt x="11167" y="5898"/>
                  <a:pt x="16845" y="5898"/>
                </a:cubicBezTo>
                <a:cubicBezTo>
                  <a:pt x="22334" y="5898"/>
                  <a:pt x="22334" y="5898"/>
                  <a:pt x="22334" y="5898"/>
                </a:cubicBezTo>
                <a:lnTo>
                  <a:pt x="22334" y="110644"/>
                </a:lnTo>
                <a:close/>
                <a:moveTo>
                  <a:pt x="111482" y="101694"/>
                </a:moveTo>
                <a:lnTo>
                  <a:pt x="111482" y="101694"/>
                </a:lnTo>
                <a:cubicBezTo>
                  <a:pt x="111482" y="107796"/>
                  <a:pt x="108832" y="110644"/>
                  <a:pt x="105993" y="110644"/>
                </a:cubicBezTo>
                <a:cubicBezTo>
                  <a:pt x="30662" y="110644"/>
                  <a:pt x="30662" y="110644"/>
                  <a:pt x="30662" y="110644"/>
                </a:cubicBezTo>
                <a:cubicBezTo>
                  <a:pt x="30662" y="5898"/>
                  <a:pt x="30662" y="5898"/>
                  <a:pt x="30662" y="5898"/>
                </a:cubicBezTo>
                <a:cubicBezTo>
                  <a:pt x="105993" y="5898"/>
                  <a:pt x="105993" y="5898"/>
                  <a:pt x="105993" y="5898"/>
                </a:cubicBezTo>
                <a:cubicBezTo>
                  <a:pt x="108832" y="5898"/>
                  <a:pt x="111482" y="12000"/>
                  <a:pt x="111482" y="14847"/>
                </a:cubicBezTo>
                <a:lnTo>
                  <a:pt x="111482" y="101694"/>
                </a:lnTo>
                <a:close/>
                <a:moveTo>
                  <a:pt x="100315" y="53694"/>
                </a:moveTo>
                <a:lnTo>
                  <a:pt x="100315" y="53694"/>
                </a:lnTo>
                <a:cubicBezTo>
                  <a:pt x="55835" y="53694"/>
                  <a:pt x="55835" y="53694"/>
                  <a:pt x="55835" y="53694"/>
                </a:cubicBezTo>
                <a:cubicBezTo>
                  <a:pt x="69842" y="41898"/>
                  <a:pt x="69842" y="41898"/>
                  <a:pt x="69842" y="41898"/>
                </a:cubicBezTo>
                <a:cubicBezTo>
                  <a:pt x="72492" y="38847"/>
                  <a:pt x="72492" y="38847"/>
                  <a:pt x="69842" y="35796"/>
                </a:cubicBezTo>
                <a:cubicBezTo>
                  <a:pt x="69842" y="35796"/>
                  <a:pt x="67003" y="35796"/>
                  <a:pt x="64164" y="35796"/>
                </a:cubicBezTo>
                <a:cubicBezTo>
                  <a:pt x="41829" y="56949"/>
                  <a:pt x="41829" y="56949"/>
                  <a:pt x="41829" y="56949"/>
                </a:cubicBezTo>
                <a:cubicBezTo>
                  <a:pt x="41829" y="56949"/>
                  <a:pt x="41829" y="56949"/>
                  <a:pt x="41829" y="59796"/>
                </a:cubicBezTo>
                <a:cubicBezTo>
                  <a:pt x="41829" y="59796"/>
                  <a:pt x="41829" y="59796"/>
                  <a:pt x="41829" y="62847"/>
                </a:cubicBezTo>
                <a:cubicBezTo>
                  <a:pt x="64164" y="80745"/>
                  <a:pt x="64164" y="80745"/>
                  <a:pt x="64164" y="80745"/>
                </a:cubicBezTo>
                <a:cubicBezTo>
                  <a:pt x="67003" y="83796"/>
                  <a:pt x="69842" y="83796"/>
                  <a:pt x="69842" y="80745"/>
                </a:cubicBezTo>
                <a:cubicBezTo>
                  <a:pt x="72492" y="80745"/>
                  <a:pt x="72492" y="77694"/>
                  <a:pt x="69842" y="74847"/>
                </a:cubicBezTo>
                <a:cubicBezTo>
                  <a:pt x="55835" y="62847"/>
                  <a:pt x="55835" y="62847"/>
                  <a:pt x="55835" y="62847"/>
                </a:cubicBezTo>
                <a:cubicBezTo>
                  <a:pt x="100315" y="62847"/>
                  <a:pt x="100315" y="62847"/>
                  <a:pt x="100315" y="62847"/>
                </a:cubicBezTo>
                <a:cubicBezTo>
                  <a:pt x="103154" y="62847"/>
                  <a:pt x="105993" y="59796"/>
                  <a:pt x="105993" y="59796"/>
                </a:cubicBezTo>
                <a:cubicBezTo>
                  <a:pt x="105993" y="56949"/>
                  <a:pt x="103154" y="53694"/>
                  <a:pt x="100315" y="53694"/>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0" name="Shape 4686"/>
          <p:cNvSpPr/>
          <p:nvPr/>
        </p:nvSpPr>
        <p:spPr>
          <a:xfrm>
            <a:off x="4432320" y="4027320"/>
            <a:ext cx="284040" cy="306720"/>
          </a:xfrm>
          <a:custGeom>
            <a:avLst/>
            <a:gdLst>
              <a:gd name="textAreaLeft" fmla="*/ 0 w 284040"/>
              <a:gd name="textAreaRight" fmla="*/ 284400 w 284040"/>
              <a:gd name="textAreaTop" fmla="*/ 0 h 306720"/>
              <a:gd name="textAreaBottom" fmla="*/ 307080 h 306720"/>
            </a:gdLst>
            <a:ahLst/>
            <a:rect l="textAreaLeft" t="textAreaTop" r="textAreaRight" b="textAreaBottom"/>
            <a:pathLst>
              <a:path w="120000" h="120000">
                <a:moveTo>
                  <a:pt x="104923" y="0"/>
                </a:moveTo>
                <a:lnTo>
                  <a:pt x="104923" y="0"/>
                </a:lnTo>
                <a:cubicBezTo>
                  <a:pt x="14872" y="0"/>
                  <a:pt x="14872" y="0"/>
                  <a:pt x="14872" y="0"/>
                </a:cubicBezTo>
                <a:cubicBezTo>
                  <a:pt x="5908" y="0"/>
                  <a:pt x="0" y="8328"/>
                  <a:pt x="0" y="16845"/>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845"/>
                  <a:pt x="119796" y="16845"/>
                  <a:pt x="119796" y="16845"/>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845"/>
                  <a:pt x="8964" y="16845"/>
                  <a:pt x="8964" y="16845"/>
                </a:cubicBezTo>
                <a:cubicBezTo>
                  <a:pt x="8964" y="11167"/>
                  <a:pt x="11816" y="8328"/>
                  <a:pt x="14872" y="8328"/>
                </a:cubicBezTo>
                <a:cubicBezTo>
                  <a:pt x="104923" y="8328"/>
                  <a:pt x="104923" y="8328"/>
                  <a:pt x="104923" y="8328"/>
                </a:cubicBezTo>
                <a:cubicBezTo>
                  <a:pt x="107979" y="8328"/>
                  <a:pt x="110831" y="11167"/>
                  <a:pt x="110831" y="16845"/>
                </a:cubicBezTo>
                <a:lnTo>
                  <a:pt x="110831" y="22334"/>
                </a:lnTo>
                <a:close/>
                <a:moveTo>
                  <a:pt x="41969" y="69652"/>
                </a:moveTo>
                <a:lnTo>
                  <a:pt x="41969" y="69652"/>
                </a:lnTo>
                <a:cubicBezTo>
                  <a:pt x="56842" y="55646"/>
                  <a:pt x="56842" y="55646"/>
                  <a:pt x="56842" y="55646"/>
                </a:cubicBezTo>
                <a:cubicBezTo>
                  <a:pt x="56842" y="100315"/>
                  <a:pt x="56842" y="100315"/>
                  <a:pt x="56842" y="100315"/>
                </a:cubicBezTo>
                <a:cubicBezTo>
                  <a:pt x="56842" y="103154"/>
                  <a:pt x="56842" y="105993"/>
                  <a:pt x="59898" y="105993"/>
                </a:cubicBezTo>
                <a:cubicBezTo>
                  <a:pt x="62954" y="105993"/>
                  <a:pt x="62954" y="103154"/>
                  <a:pt x="62954" y="100315"/>
                </a:cubicBezTo>
                <a:cubicBezTo>
                  <a:pt x="62954" y="55646"/>
                  <a:pt x="62954" y="55646"/>
                  <a:pt x="62954" y="55646"/>
                </a:cubicBezTo>
                <a:cubicBezTo>
                  <a:pt x="78030" y="69652"/>
                  <a:pt x="78030" y="69652"/>
                  <a:pt x="78030" y="69652"/>
                </a:cubicBezTo>
                <a:cubicBezTo>
                  <a:pt x="78030" y="72492"/>
                  <a:pt x="80882" y="72492"/>
                  <a:pt x="83938" y="69652"/>
                </a:cubicBezTo>
                <a:cubicBezTo>
                  <a:pt x="83938" y="69652"/>
                  <a:pt x="83938" y="66813"/>
                  <a:pt x="83938" y="64164"/>
                </a:cubicBezTo>
                <a:cubicBezTo>
                  <a:pt x="62954" y="41829"/>
                  <a:pt x="62954" y="41829"/>
                  <a:pt x="62954" y="41829"/>
                </a:cubicBezTo>
                <a:lnTo>
                  <a:pt x="59898" y="41829"/>
                </a:lnTo>
                <a:lnTo>
                  <a:pt x="56842" y="41829"/>
                </a:lnTo>
                <a:cubicBezTo>
                  <a:pt x="35857" y="64164"/>
                  <a:pt x="35857" y="64164"/>
                  <a:pt x="35857" y="64164"/>
                </a:cubicBezTo>
                <a:cubicBezTo>
                  <a:pt x="35857" y="66813"/>
                  <a:pt x="35857" y="69652"/>
                  <a:pt x="35857" y="69652"/>
                </a:cubicBezTo>
                <a:cubicBezTo>
                  <a:pt x="38913" y="72492"/>
                  <a:pt x="41969" y="72492"/>
                  <a:pt x="41969" y="69652"/>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1" name="Shape 4688"/>
          <p:cNvSpPr/>
          <p:nvPr/>
        </p:nvSpPr>
        <p:spPr>
          <a:xfrm>
            <a:off x="3478320" y="4027320"/>
            <a:ext cx="249120" cy="306720"/>
          </a:xfrm>
          <a:custGeom>
            <a:avLst/>
            <a:gdLst>
              <a:gd name="textAreaLeft" fmla="*/ 0 w 249120"/>
              <a:gd name="textAreaRight" fmla="*/ 249480 w 249120"/>
              <a:gd name="textAreaTop" fmla="*/ 0 h 306720"/>
              <a:gd name="textAreaBottom" fmla="*/ 307080 h 306720"/>
            </a:gdLst>
            <a:ahLst/>
            <a:rect l="textAreaLeft" t="textAreaTop" r="textAreaRight" b="textAreaBottom"/>
            <a:pathLst>
              <a:path w="120000" h="120000">
                <a:moveTo>
                  <a:pt x="65116" y="0"/>
                </a:moveTo>
                <a:lnTo>
                  <a:pt x="65116" y="0"/>
                </a:lnTo>
                <a:cubicBezTo>
                  <a:pt x="54883" y="0"/>
                  <a:pt x="54883" y="0"/>
                  <a:pt x="54883" y="0"/>
                </a:cubicBezTo>
                <a:cubicBezTo>
                  <a:pt x="51395" y="0"/>
                  <a:pt x="47906" y="5678"/>
                  <a:pt x="47906" y="8328"/>
                </a:cubicBezTo>
                <a:cubicBezTo>
                  <a:pt x="47906" y="111482"/>
                  <a:pt x="47906" y="111482"/>
                  <a:pt x="47906" y="111482"/>
                </a:cubicBezTo>
                <a:cubicBezTo>
                  <a:pt x="47906" y="117160"/>
                  <a:pt x="51395" y="119810"/>
                  <a:pt x="54883" y="119810"/>
                </a:cubicBezTo>
                <a:cubicBezTo>
                  <a:pt x="65116" y="119810"/>
                  <a:pt x="65116" y="119810"/>
                  <a:pt x="65116" y="119810"/>
                </a:cubicBezTo>
                <a:cubicBezTo>
                  <a:pt x="68604" y="119810"/>
                  <a:pt x="75348" y="117160"/>
                  <a:pt x="75348" y="111482"/>
                </a:cubicBezTo>
                <a:cubicBezTo>
                  <a:pt x="75348" y="8328"/>
                  <a:pt x="75348" y="8328"/>
                  <a:pt x="75348" y="8328"/>
                </a:cubicBezTo>
                <a:cubicBezTo>
                  <a:pt x="75348" y="5678"/>
                  <a:pt x="68604" y="0"/>
                  <a:pt x="65116" y="0"/>
                </a:cubicBezTo>
                <a:close/>
                <a:moveTo>
                  <a:pt x="65116" y="108643"/>
                </a:moveTo>
                <a:lnTo>
                  <a:pt x="65116" y="108643"/>
                </a:lnTo>
                <a:cubicBezTo>
                  <a:pt x="65116" y="111482"/>
                  <a:pt x="61627" y="111482"/>
                  <a:pt x="61627" y="111482"/>
                </a:cubicBezTo>
                <a:cubicBezTo>
                  <a:pt x="58372" y="111482"/>
                  <a:pt x="54883" y="111482"/>
                  <a:pt x="54883" y="108643"/>
                </a:cubicBezTo>
                <a:cubicBezTo>
                  <a:pt x="54883" y="11167"/>
                  <a:pt x="54883" y="11167"/>
                  <a:pt x="54883" y="11167"/>
                </a:cubicBezTo>
                <a:cubicBezTo>
                  <a:pt x="54883" y="11167"/>
                  <a:pt x="58372" y="8328"/>
                  <a:pt x="61627" y="8328"/>
                </a:cubicBezTo>
                <a:lnTo>
                  <a:pt x="65116" y="11167"/>
                </a:lnTo>
                <a:lnTo>
                  <a:pt x="65116" y="108643"/>
                </a:lnTo>
                <a:close/>
                <a:moveTo>
                  <a:pt x="20697" y="33501"/>
                </a:moveTo>
                <a:lnTo>
                  <a:pt x="20697" y="33501"/>
                </a:lnTo>
                <a:cubicBezTo>
                  <a:pt x="10232" y="33501"/>
                  <a:pt x="10232" y="33501"/>
                  <a:pt x="10232" y="33501"/>
                </a:cubicBezTo>
                <a:cubicBezTo>
                  <a:pt x="6976" y="33501"/>
                  <a:pt x="0" y="38990"/>
                  <a:pt x="0" y="41829"/>
                </a:cubicBezTo>
                <a:cubicBezTo>
                  <a:pt x="0" y="111482"/>
                  <a:pt x="0" y="111482"/>
                  <a:pt x="0" y="111482"/>
                </a:cubicBezTo>
                <a:cubicBezTo>
                  <a:pt x="0" y="117160"/>
                  <a:pt x="6976" y="119810"/>
                  <a:pt x="10232" y="119810"/>
                </a:cubicBezTo>
                <a:cubicBezTo>
                  <a:pt x="20697" y="119810"/>
                  <a:pt x="20697" y="119810"/>
                  <a:pt x="20697" y="119810"/>
                </a:cubicBezTo>
                <a:cubicBezTo>
                  <a:pt x="23953" y="119810"/>
                  <a:pt x="27441" y="117160"/>
                  <a:pt x="27441" y="111482"/>
                </a:cubicBezTo>
                <a:cubicBezTo>
                  <a:pt x="27441" y="41829"/>
                  <a:pt x="27441" y="41829"/>
                  <a:pt x="27441" y="41829"/>
                </a:cubicBezTo>
                <a:cubicBezTo>
                  <a:pt x="27441" y="38990"/>
                  <a:pt x="23953" y="33501"/>
                  <a:pt x="20697" y="33501"/>
                </a:cubicBezTo>
                <a:close/>
                <a:moveTo>
                  <a:pt x="20697" y="108643"/>
                </a:moveTo>
                <a:lnTo>
                  <a:pt x="20697" y="108643"/>
                </a:lnTo>
                <a:cubicBezTo>
                  <a:pt x="20697" y="111482"/>
                  <a:pt x="17209" y="111482"/>
                  <a:pt x="13720" y="111482"/>
                </a:cubicBezTo>
                <a:cubicBezTo>
                  <a:pt x="13720" y="111482"/>
                  <a:pt x="10232" y="111482"/>
                  <a:pt x="10232" y="108643"/>
                </a:cubicBezTo>
                <a:cubicBezTo>
                  <a:pt x="10232" y="44668"/>
                  <a:pt x="10232" y="44668"/>
                  <a:pt x="10232" y="44668"/>
                </a:cubicBezTo>
                <a:lnTo>
                  <a:pt x="13720" y="41829"/>
                </a:lnTo>
                <a:cubicBezTo>
                  <a:pt x="17209" y="41829"/>
                  <a:pt x="20697" y="44668"/>
                  <a:pt x="20697" y="44668"/>
                </a:cubicBezTo>
                <a:lnTo>
                  <a:pt x="20697" y="108643"/>
                </a:lnTo>
                <a:close/>
                <a:moveTo>
                  <a:pt x="109534" y="61324"/>
                </a:moveTo>
                <a:lnTo>
                  <a:pt x="109534" y="61324"/>
                </a:lnTo>
                <a:cubicBezTo>
                  <a:pt x="102790" y="61324"/>
                  <a:pt x="102790" y="61324"/>
                  <a:pt x="102790" y="61324"/>
                </a:cubicBezTo>
                <a:cubicBezTo>
                  <a:pt x="95813" y="61324"/>
                  <a:pt x="92558" y="64164"/>
                  <a:pt x="92558" y="66813"/>
                </a:cubicBezTo>
                <a:cubicBezTo>
                  <a:pt x="92558" y="111482"/>
                  <a:pt x="92558" y="111482"/>
                  <a:pt x="92558" y="111482"/>
                </a:cubicBezTo>
                <a:cubicBezTo>
                  <a:pt x="92558" y="117160"/>
                  <a:pt x="95813" y="119810"/>
                  <a:pt x="102790" y="119810"/>
                </a:cubicBezTo>
                <a:cubicBezTo>
                  <a:pt x="109534" y="119810"/>
                  <a:pt x="109534" y="119810"/>
                  <a:pt x="109534" y="119810"/>
                </a:cubicBezTo>
                <a:cubicBezTo>
                  <a:pt x="116511" y="119810"/>
                  <a:pt x="119767" y="117160"/>
                  <a:pt x="119767" y="111482"/>
                </a:cubicBezTo>
                <a:cubicBezTo>
                  <a:pt x="119767" y="66813"/>
                  <a:pt x="119767" y="66813"/>
                  <a:pt x="119767" y="66813"/>
                </a:cubicBezTo>
                <a:cubicBezTo>
                  <a:pt x="119767" y="64164"/>
                  <a:pt x="116511" y="61324"/>
                  <a:pt x="109534" y="61324"/>
                </a:cubicBezTo>
                <a:close/>
                <a:moveTo>
                  <a:pt x="109534" y="108643"/>
                </a:moveTo>
                <a:lnTo>
                  <a:pt x="109534" y="108643"/>
                </a:lnTo>
                <a:cubicBezTo>
                  <a:pt x="109534" y="111482"/>
                  <a:pt x="109534" y="111482"/>
                  <a:pt x="106279" y="111482"/>
                </a:cubicBezTo>
                <a:cubicBezTo>
                  <a:pt x="102790" y="111482"/>
                  <a:pt x="102790" y="111482"/>
                  <a:pt x="102790" y="108643"/>
                </a:cubicBezTo>
                <a:cubicBezTo>
                  <a:pt x="102790" y="72492"/>
                  <a:pt x="102790" y="72492"/>
                  <a:pt x="102790" y="72492"/>
                </a:cubicBezTo>
                <a:cubicBezTo>
                  <a:pt x="102790" y="69652"/>
                  <a:pt x="102790" y="66813"/>
                  <a:pt x="106279" y="66813"/>
                </a:cubicBezTo>
                <a:cubicBezTo>
                  <a:pt x="109534" y="66813"/>
                  <a:pt x="109534" y="69652"/>
                  <a:pt x="109534" y="72492"/>
                </a:cubicBezTo>
                <a:lnTo>
                  <a:pt x="109534" y="108643"/>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2" name="Shape 4690"/>
          <p:cNvSpPr/>
          <p:nvPr/>
        </p:nvSpPr>
        <p:spPr>
          <a:xfrm>
            <a:off x="2459160" y="4027320"/>
            <a:ext cx="304560" cy="306720"/>
          </a:xfrm>
          <a:custGeom>
            <a:avLst/>
            <a:gdLst>
              <a:gd name="textAreaLeft" fmla="*/ 0 w 304560"/>
              <a:gd name="textAreaRight" fmla="*/ 304920 w 304560"/>
              <a:gd name="textAreaTop" fmla="*/ 0 h 306720"/>
              <a:gd name="textAreaBottom" fmla="*/ 307080 h 3067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3" name="Shape 4692"/>
          <p:cNvSpPr/>
          <p:nvPr/>
        </p:nvSpPr>
        <p:spPr>
          <a:xfrm>
            <a:off x="1484280" y="4027320"/>
            <a:ext cx="295200" cy="306720"/>
          </a:xfrm>
          <a:custGeom>
            <a:avLst/>
            <a:gdLst>
              <a:gd name="textAreaLeft" fmla="*/ 0 w 295200"/>
              <a:gd name="textAreaRight" fmla="*/ 295560 w 295200"/>
              <a:gd name="textAreaTop" fmla="*/ 0 h 306720"/>
              <a:gd name="textAreaBottom" fmla="*/ 307080 h 306720"/>
            </a:gdLst>
            <a:ahLst/>
            <a:rect l="textAreaLeft" t="textAreaTop" r="textAreaRight" b="textAreaBottom"/>
            <a:pathLst>
              <a:path w="120000" h="120000">
                <a:moveTo>
                  <a:pt x="102746" y="16845"/>
                </a:moveTo>
                <a:lnTo>
                  <a:pt x="102746" y="16845"/>
                </a:lnTo>
                <a:cubicBezTo>
                  <a:pt x="51373" y="22334"/>
                  <a:pt x="51373" y="22334"/>
                  <a:pt x="51373" y="22334"/>
                </a:cubicBezTo>
                <a:cubicBezTo>
                  <a:pt x="51373" y="22334"/>
                  <a:pt x="48465" y="25173"/>
                  <a:pt x="48465" y="27823"/>
                </a:cubicBezTo>
                <a:cubicBezTo>
                  <a:pt x="48465" y="58675"/>
                  <a:pt x="48465" y="58675"/>
                  <a:pt x="48465" y="58675"/>
                </a:cubicBezTo>
                <a:cubicBezTo>
                  <a:pt x="42843" y="55646"/>
                  <a:pt x="34313" y="55646"/>
                  <a:pt x="25589" y="61324"/>
                </a:cubicBezTo>
                <a:cubicBezTo>
                  <a:pt x="17059" y="66813"/>
                  <a:pt x="11437" y="75331"/>
                  <a:pt x="17059" y="83659"/>
                </a:cubicBezTo>
                <a:cubicBezTo>
                  <a:pt x="19967" y="91987"/>
                  <a:pt x="34313" y="91987"/>
                  <a:pt x="45557" y="86498"/>
                </a:cubicBezTo>
                <a:cubicBezTo>
                  <a:pt x="54281" y="80820"/>
                  <a:pt x="56995" y="75331"/>
                  <a:pt x="56995" y="66813"/>
                </a:cubicBezTo>
                <a:lnTo>
                  <a:pt x="56995" y="30662"/>
                </a:lnTo>
                <a:cubicBezTo>
                  <a:pt x="96930" y="25173"/>
                  <a:pt x="96930" y="25173"/>
                  <a:pt x="96930" y="25173"/>
                </a:cubicBezTo>
                <a:cubicBezTo>
                  <a:pt x="96930" y="50157"/>
                  <a:pt x="96930" y="50157"/>
                  <a:pt x="96930" y="50157"/>
                </a:cubicBezTo>
                <a:cubicBezTo>
                  <a:pt x="91308" y="47507"/>
                  <a:pt x="82778" y="47507"/>
                  <a:pt x="76962" y="52996"/>
                </a:cubicBezTo>
                <a:cubicBezTo>
                  <a:pt x="65718" y="58675"/>
                  <a:pt x="59903" y="69652"/>
                  <a:pt x="65718" y="75331"/>
                </a:cubicBezTo>
                <a:cubicBezTo>
                  <a:pt x="71340" y="83659"/>
                  <a:pt x="82778" y="83659"/>
                  <a:pt x="94216" y="77981"/>
                </a:cubicBezTo>
                <a:cubicBezTo>
                  <a:pt x="102746" y="75331"/>
                  <a:pt x="105460" y="66813"/>
                  <a:pt x="105460" y="61324"/>
                </a:cubicBezTo>
                <a:lnTo>
                  <a:pt x="105460" y="19495"/>
                </a:lnTo>
                <a:cubicBezTo>
                  <a:pt x="105460" y="16845"/>
                  <a:pt x="102746" y="16845"/>
                  <a:pt x="102746" y="16845"/>
                </a:cubicBezTo>
                <a:close/>
                <a:moveTo>
                  <a:pt x="39935" y="80820"/>
                </a:moveTo>
                <a:lnTo>
                  <a:pt x="39935" y="80820"/>
                </a:lnTo>
                <a:cubicBezTo>
                  <a:pt x="34313" y="83659"/>
                  <a:pt x="25589" y="83659"/>
                  <a:pt x="22875" y="80820"/>
                </a:cubicBezTo>
                <a:cubicBezTo>
                  <a:pt x="19967" y="75331"/>
                  <a:pt x="22875" y="69652"/>
                  <a:pt x="28497" y="66813"/>
                </a:cubicBezTo>
                <a:cubicBezTo>
                  <a:pt x="37027" y="64164"/>
                  <a:pt x="42843" y="64164"/>
                  <a:pt x="45557" y="66813"/>
                </a:cubicBezTo>
                <a:cubicBezTo>
                  <a:pt x="51373" y="69652"/>
                  <a:pt x="48465" y="77981"/>
                  <a:pt x="39935" y="80820"/>
                </a:cubicBezTo>
                <a:close/>
                <a:moveTo>
                  <a:pt x="91308" y="72492"/>
                </a:moveTo>
                <a:lnTo>
                  <a:pt x="91308" y="72492"/>
                </a:lnTo>
                <a:cubicBezTo>
                  <a:pt x="85492" y="77981"/>
                  <a:pt x="76962" y="75331"/>
                  <a:pt x="71340" y="72492"/>
                </a:cubicBezTo>
                <a:cubicBezTo>
                  <a:pt x="68432" y="69652"/>
                  <a:pt x="71340" y="61324"/>
                  <a:pt x="79870" y="58675"/>
                </a:cubicBezTo>
                <a:cubicBezTo>
                  <a:pt x="85492" y="55646"/>
                  <a:pt x="91308" y="55646"/>
                  <a:pt x="96930" y="58675"/>
                </a:cubicBezTo>
                <a:cubicBezTo>
                  <a:pt x="99838" y="61324"/>
                  <a:pt x="96930" y="69652"/>
                  <a:pt x="91308" y="72492"/>
                </a:cubicBezTo>
                <a:close/>
                <a:moveTo>
                  <a:pt x="108368" y="111482"/>
                </a:moveTo>
                <a:lnTo>
                  <a:pt x="108368" y="111482"/>
                </a:lnTo>
                <a:cubicBezTo>
                  <a:pt x="11437" y="111482"/>
                  <a:pt x="11437" y="111482"/>
                  <a:pt x="11437" y="111482"/>
                </a:cubicBezTo>
                <a:cubicBezTo>
                  <a:pt x="8529" y="111482"/>
                  <a:pt x="5621" y="114321"/>
                  <a:pt x="5621" y="117160"/>
                </a:cubicBezTo>
                <a:cubicBezTo>
                  <a:pt x="5621" y="117160"/>
                  <a:pt x="8529" y="119810"/>
                  <a:pt x="11437" y="119810"/>
                </a:cubicBezTo>
                <a:cubicBezTo>
                  <a:pt x="108368" y="119810"/>
                  <a:pt x="108368" y="119810"/>
                  <a:pt x="108368" y="119810"/>
                </a:cubicBezTo>
                <a:cubicBezTo>
                  <a:pt x="111276" y="119810"/>
                  <a:pt x="114184" y="117160"/>
                  <a:pt x="114184" y="117160"/>
                </a:cubicBezTo>
                <a:cubicBezTo>
                  <a:pt x="114184" y="114321"/>
                  <a:pt x="111276" y="111482"/>
                  <a:pt x="108368" y="111482"/>
                </a:cubicBezTo>
                <a:close/>
                <a:moveTo>
                  <a:pt x="105460" y="0"/>
                </a:moveTo>
                <a:lnTo>
                  <a:pt x="105460" y="0"/>
                </a:lnTo>
                <a:cubicBezTo>
                  <a:pt x="14151" y="0"/>
                  <a:pt x="14151" y="0"/>
                  <a:pt x="14151" y="0"/>
                </a:cubicBezTo>
                <a:cubicBezTo>
                  <a:pt x="5621" y="0"/>
                  <a:pt x="0" y="8328"/>
                  <a:pt x="0" y="16845"/>
                </a:cubicBezTo>
                <a:cubicBezTo>
                  <a:pt x="0" y="89148"/>
                  <a:pt x="0" y="89148"/>
                  <a:pt x="0" y="89148"/>
                </a:cubicBezTo>
                <a:cubicBezTo>
                  <a:pt x="0" y="97476"/>
                  <a:pt x="5621" y="105993"/>
                  <a:pt x="14151" y="105993"/>
                </a:cubicBezTo>
                <a:cubicBezTo>
                  <a:pt x="105460" y="105993"/>
                  <a:pt x="105460" y="105993"/>
                  <a:pt x="105460" y="105993"/>
                </a:cubicBezTo>
                <a:cubicBezTo>
                  <a:pt x="114184" y="105993"/>
                  <a:pt x="119806" y="97476"/>
                  <a:pt x="119806" y="89148"/>
                </a:cubicBezTo>
                <a:cubicBezTo>
                  <a:pt x="119806" y="16845"/>
                  <a:pt x="119806" y="16845"/>
                  <a:pt x="119806" y="16845"/>
                </a:cubicBezTo>
                <a:cubicBezTo>
                  <a:pt x="119806" y="8328"/>
                  <a:pt x="114184" y="0"/>
                  <a:pt x="105460" y="0"/>
                </a:cubicBezTo>
                <a:close/>
                <a:moveTo>
                  <a:pt x="114184" y="89148"/>
                </a:moveTo>
                <a:lnTo>
                  <a:pt x="114184" y="89148"/>
                </a:lnTo>
                <a:cubicBezTo>
                  <a:pt x="114184" y="94826"/>
                  <a:pt x="108368" y="97476"/>
                  <a:pt x="105460" y="97476"/>
                </a:cubicBezTo>
                <a:cubicBezTo>
                  <a:pt x="14151" y="97476"/>
                  <a:pt x="14151" y="97476"/>
                  <a:pt x="14151" y="97476"/>
                </a:cubicBezTo>
                <a:cubicBezTo>
                  <a:pt x="11437" y="97476"/>
                  <a:pt x="5621" y="94826"/>
                  <a:pt x="5621" y="89148"/>
                </a:cubicBezTo>
                <a:cubicBezTo>
                  <a:pt x="5621" y="16845"/>
                  <a:pt x="5621" y="16845"/>
                  <a:pt x="5621" y="16845"/>
                </a:cubicBezTo>
                <a:cubicBezTo>
                  <a:pt x="5621" y="11167"/>
                  <a:pt x="11437" y="8328"/>
                  <a:pt x="14151" y="8328"/>
                </a:cubicBezTo>
                <a:cubicBezTo>
                  <a:pt x="105460" y="8328"/>
                  <a:pt x="105460" y="8328"/>
                  <a:pt x="105460" y="8328"/>
                </a:cubicBezTo>
                <a:cubicBezTo>
                  <a:pt x="108368" y="8328"/>
                  <a:pt x="114184" y="11167"/>
                  <a:pt x="114184" y="16845"/>
                </a:cubicBezTo>
                <a:lnTo>
                  <a:pt x="114184" y="89148"/>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4" name="Shape 4694"/>
          <p:cNvSpPr/>
          <p:nvPr/>
        </p:nvSpPr>
        <p:spPr>
          <a:xfrm>
            <a:off x="5457960" y="3546360"/>
            <a:ext cx="163440" cy="298440"/>
          </a:xfrm>
          <a:custGeom>
            <a:avLst/>
            <a:gdLst>
              <a:gd name="textAreaLeft" fmla="*/ 0 w 163440"/>
              <a:gd name="textAreaRight" fmla="*/ 163800 w 163440"/>
              <a:gd name="textAreaTop" fmla="*/ 0 h 298440"/>
              <a:gd name="textAreaBottom" fmla="*/ 298800 h 298440"/>
            </a:gdLst>
            <a:ahLst/>
            <a:rect l="textAreaLeft" t="textAreaTop" r="textAreaRight" b="textAreaBottom"/>
            <a:pathLst>
              <a:path w="120000" h="120000">
                <a:moveTo>
                  <a:pt x="114352" y="0"/>
                </a:moveTo>
                <a:lnTo>
                  <a:pt x="114352" y="0"/>
                </a:lnTo>
                <a:cubicBezTo>
                  <a:pt x="103764" y="0"/>
                  <a:pt x="103764" y="5815"/>
                  <a:pt x="103764" y="5815"/>
                </a:cubicBezTo>
                <a:cubicBezTo>
                  <a:pt x="103764" y="65718"/>
                  <a:pt x="103764" y="65718"/>
                  <a:pt x="103764" y="65718"/>
                </a:cubicBezTo>
                <a:cubicBezTo>
                  <a:pt x="88588" y="59903"/>
                  <a:pt x="62470" y="59903"/>
                  <a:pt x="41647" y="68432"/>
                </a:cubicBezTo>
                <a:cubicBezTo>
                  <a:pt x="15529" y="77156"/>
                  <a:pt x="0" y="94216"/>
                  <a:pt x="10588" y="105654"/>
                </a:cubicBezTo>
                <a:cubicBezTo>
                  <a:pt x="26117" y="117092"/>
                  <a:pt x="57176" y="119806"/>
                  <a:pt x="88588" y="108562"/>
                </a:cubicBezTo>
                <a:cubicBezTo>
                  <a:pt x="109411" y="102746"/>
                  <a:pt x="119647" y="91308"/>
                  <a:pt x="119647" y="79870"/>
                </a:cubicBezTo>
                <a:cubicBezTo>
                  <a:pt x="119647" y="5815"/>
                  <a:pt x="119647" y="5815"/>
                  <a:pt x="119647" y="5815"/>
                </a:cubicBezTo>
                <a:cubicBezTo>
                  <a:pt x="119647" y="2907"/>
                  <a:pt x="114352" y="0"/>
                  <a:pt x="114352" y="0"/>
                </a:cubicBezTo>
                <a:close/>
                <a:moveTo>
                  <a:pt x="83294" y="102746"/>
                </a:moveTo>
                <a:lnTo>
                  <a:pt x="83294" y="102746"/>
                </a:lnTo>
                <a:cubicBezTo>
                  <a:pt x="62470" y="111276"/>
                  <a:pt x="36352" y="111276"/>
                  <a:pt x="26117" y="102746"/>
                </a:cubicBezTo>
                <a:cubicBezTo>
                  <a:pt x="15529" y="94216"/>
                  <a:pt x="26117" y="79870"/>
                  <a:pt x="46941" y="74248"/>
                </a:cubicBezTo>
                <a:cubicBezTo>
                  <a:pt x="67764" y="65718"/>
                  <a:pt x="93529" y="68432"/>
                  <a:pt x="103764" y="77156"/>
                </a:cubicBezTo>
                <a:cubicBezTo>
                  <a:pt x="114352" y="85686"/>
                  <a:pt x="98823" y="97124"/>
                  <a:pt x="83294" y="10274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5" name="Shape 4696"/>
          <p:cNvSpPr/>
          <p:nvPr/>
        </p:nvSpPr>
        <p:spPr>
          <a:xfrm>
            <a:off x="4419720" y="3567240"/>
            <a:ext cx="311040" cy="249120"/>
          </a:xfrm>
          <a:custGeom>
            <a:avLst/>
            <a:gdLst>
              <a:gd name="textAreaLeft" fmla="*/ 0 w 311040"/>
              <a:gd name="textAreaRight" fmla="*/ 311400 w 311040"/>
              <a:gd name="textAreaTop" fmla="*/ 0 h 249120"/>
              <a:gd name="textAreaBottom" fmla="*/ 249480 h 249120"/>
            </a:gdLst>
            <a:ahLst/>
            <a:rect l="textAreaLeft" t="textAreaTop" r="textAreaRight" b="textAreaBottom"/>
            <a:pathLst>
              <a:path w="120000" h="120000">
                <a:moveTo>
                  <a:pt x="59907" y="109323"/>
                </a:moveTo>
                <a:lnTo>
                  <a:pt x="59907" y="109323"/>
                </a:lnTo>
                <a:cubicBezTo>
                  <a:pt x="40862" y="109323"/>
                  <a:pt x="27180" y="92379"/>
                  <a:pt x="21818" y="71721"/>
                </a:cubicBezTo>
                <a:cubicBezTo>
                  <a:pt x="32727" y="71721"/>
                  <a:pt x="32727" y="71721"/>
                  <a:pt x="32727" y="71721"/>
                </a:cubicBezTo>
                <a:cubicBezTo>
                  <a:pt x="35500" y="71721"/>
                  <a:pt x="35500" y="68471"/>
                  <a:pt x="32727" y="68471"/>
                </a:cubicBezTo>
                <a:cubicBezTo>
                  <a:pt x="19044" y="51295"/>
                  <a:pt x="19044" y="51295"/>
                  <a:pt x="19044" y="51295"/>
                </a:cubicBezTo>
                <a:lnTo>
                  <a:pt x="16271" y="51295"/>
                </a:lnTo>
                <a:cubicBezTo>
                  <a:pt x="2773" y="68471"/>
                  <a:pt x="2773" y="68471"/>
                  <a:pt x="2773" y="68471"/>
                </a:cubicBezTo>
                <a:cubicBezTo>
                  <a:pt x="0" y="71721"/>
                  <a:pt x="2773" y="71721"/>
                  <a:pt x="2773" y="71721"/>
                </a:cubicBezTo>
                <a:cubicBezTo>
                  <a:pt x="13682" y="71721"/>
                  <a:pt x="13682" y="71721"/>
                  <a:pt x="13682" y="71721"/>
                </a:cubicBezTo>
                <a:cubicBezTo>
                  <a:pt x="19044" y="99110"/>
                  <a:pt x="38089" y="119767"/>
                  <a:pt x="59907" y="119767"/>
                </a:cubicBezTo>
                <a:cubicBezTo>
                  <a:pt x="76363" y="119767"/>
                  <a:pt x="92634" y="106073"/>
                  <a:pt x="100770" y="88897"/>
                </a:cubicBezTo>
                <a:cubicBezTo>
                  <a:pt x="92634" y="85415"/>
                  <a:pt x="92634" y="85415"/>
                  <a:pt x="92634" y="85415"/>
                </a:cubicBezTo>
                <a:cubicBezTo>
                  <a:pt x="87087" y="99110"/>
                  <a:pt x="73590" y="109323"/>
                  <a:pt x="59907" y="109323"/>
                </a:cubicBezTo>
                <a:close/>
                <a:moveTo>
                  <a:pt x="117041" y="51295"/>
                </a:moveTo>
                <a:lnTo>
                  <a:pt x="117041" y="51295"/>
                </a:lnTo>
                <a:cubicBezTo>
                  <a:pt x="106132" y="51295"/>
                  <a:pt x="106132" y="51295"/>
                  <a:pt x="106132" y="51295"/>
                </a:cubicBezTo>
                <a:cubicBezTo>
                  <a:pt x="103543" y="20657"/>
                  <a:pt x="84314" y="0"/>
                  <a:pt x="59907" y="0"/>
                </a:cubicBezTo>
                <a:cubicBezTo>
                  <a:pt x="40862" y="0"/>
                  <a:pt x="24591" y="13694"/>
                  <a:pt x="19044" y="30870"/>
                </a:cubicBezTo>
                <a:cubicBezTo>
                  <a:pt x="24591" y="34352"/>
                  <a:pt x="24591" y="34352"/>
                  <a:pt x="24591" y="34352"/>
                </a:cubicBezTo>
                <a:cubicBezTo>
                  <a:pt x="32727" y="20657"/>
                  <a:pt x="43636" y="10444"/>
                  <a:pt x="59907" y="10444"/>
                </a:cubicBezTo>
                <a:cubicBezTo>
                  <a:pt x="78952" y="10444"/>
                  <a:pt x="95223" y="27388"/>
                  <a:pt x="97996" y="51295"/>
                </a:cubicBezTo>
                <a:cubicBezTo>
                  <a:pt x="87087" y="51295"/>
                  <a:pt x="87087" y="51295"/>
                  <a:pt x="87087" y="51295"/>
                </a:cubicBezTo>
                <a:cubicBezTo>
                  <a:pt x="84314" y="51295"/>
                  <a:pt x="84314" y="51295"/>
                  <a:pt x="87087" y="54777"/>
                </a:cubicBezTo>
                <a:cubicBezTo>
                  <a:pt x="100770" y="71721"/>
                  <a:pt x="100770" y="71721"/>
                  <a:pt x="100770" y="71721"/>
                </a:cubicBezTo>
                <a:lnTo>
                  <a:pt x="103543" y="71721"/>
                </a:lnTo>
                <a:cubicBezTo>
                  <a:pt x="117041" y="54777"/>
                  <a:pt x="117041" y="54777"/>
                  <a:pt x="117041" y="54777"/>
                </a:cubicBezTo>
                <a:cubicBezTo>
                  <a:pt x="119815" y="54777"/>
                  <a:pt x="117041" y="51295"/>
                  <a:pt x="117041" y="51295"/>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6" name="Shape 4698"/>
          <p:cNvSpPr/>
          <p:nvPr/>
        </p:nvSpPr>
        <p:spPr>
          <a:xfrm>
            <a:off x="3478320" y="3575160"/>
            <a:ext cx="220680" cy="226800"/>
          </a:xfrm>
          <a:custGeom>
            <a:avLst/>
            <a:gdLst>
              <a:gd name="textAreaLeft" fmla="*/ 0 w 220680"/>
              <a:gd name="textAreaRight" fmla="*/ 221040 w 220680"/>
              <a:gd name="textAreaTop" fmla="*/ 0 h 226800"/>
              <a:gd name="textAreaBottom" fmla="*/ 227160 h 226800"/>
            </a:gdLst>
            <a:ahLst/>
            <a:rect l="textAreaLeft" t="textAreaTop" r="textAreaRight" b="textAreaBottom"/>
            <a:pathLst>
              <a:path w="120000" h="120000">
                <a:moveTo>
                  <a:pt x="119737" y="56186"/>
                </a:moveTo>
                <a:lnTo>
                  <a:pt x="119737" y="56186"/>
                </a:lnTo>
                <a:cubicBezTo>
                  <a:pt x="61834" y="3813"/>
                  <a:pt x="61834" y="3813"/>
                  <a:pt x="61834" y="3813"/>
                </a:cubicBezTo>
                <a:cubicBezTo>
                  <a:pt x="61834" y="0"/>
                  <a:pt x="57903" y="0"/>
                  <a:pt x="53973" y="3813"/>
                </a:cubicBezTo>
                <a:cubicBezTo>
                  <a:pt x="53973" y="3813"/>
                  <a:pt x="53973" y="7627"/>
                  <a:pt x="53973" y="11186"/>
                </a:cubicBezTo>
                <a:cubicBezTo>
                  <a:pt x="107947" y="59745"/>
                  <a:pt x="107947" y="59745"/>
                  <a:pt x="107947" y="59745"/>
                </a:cubicBezTo>
                <a:cubicBezTo>
                  <a:pt x="53973" y="112372"/>
                  <a:pt x="53973" y="112372"/>
                  <a:pt x="53973" y="112372"/>
                </a:cubicBezTo>
                <a:cubicBezTo>
                  <a:pt x="53973" y="115932"/>
                  <a:pt x="53973" y="115932"/>
                  <a:pt x="53973" y="119745"/>
                </a:cubicBezTo>
                <a:cubicBezTo>
                  <a:pt x="57903" y="119745"/>
                  <a:pt x="61834" y="119745"/>
                  <a:pt x="61834" y="119745"/>
                </a:cubicBezTo>
                <a:cubicBezTo>
                  <a:pt x="119737" y="63559"/>
                  <a:pt x="119737" y="63559"/>
                  <a:pt x="119737" y="63559"/>
                </a:cubicBezTo>
                <a:cubicBezTo>
                  <a:pt x="119737" y="63559"/>
                  <a:pt x="119737" y="63559"/>
                  <a:pt x="119737" y="59745"/>
                </a:cubicBezTo>
                <a:cubicBezTo>
                  <a:pt x="119737" y="59745"/>
                  <a:pt x="119737" y="59745"/>
                  <a:pt x="119737" y="56186"/>
                </a:cubicBezTo>
                <a:close/>
                <a:moveTo>
                  <a:pt x="57903" y="59745"/>
                </a:moveTo>
                <a:lnTo>
                  <a:pt x="57903" y="59745"/>
                </a:lnTo>
                <a:cubicBezTo>
                  <a:pt x="57903" y="59745"/>
                  <a:pt x="57903" y="59745"/>
                  <a:pt x="57903" y="56186"/>
                </a:cubicBezTo>
                <a:cubicBezTo>
                  <a:pt x="11528" y="11186"/>
                  <a:pt x="11528" y="11186"/>
                  <a:pt x="11528" y="11186"/>
                </a:cubicBezTo>
                <a:cubicBezTo>
                  <a:pt x="7860" y="11186"/>
                  <a:pt x="3930" y="11186"/>
                  <a:pt x="3930" y="11186"/>
                </a:cubicBezTo>
                <a:cubicBezTo>
                  <a:pt x="0" y="15000"/>
                  <a:pt x="0" y="18813"/>
                  <a:pt x="3930" y="18813"/>
                </a:cubicBezTo>
                <a:cubicBezTo>
                  <a:pt x="46375" y="59745"/>
                  <a:pt x="46375" y="59745"/>
                  <a:pt x="46375" y="59745"/>
                </a:cubicBezTo>
                <a:cubicBezTo>
                  <a:pt x="3930" y="100932"/>
                  <a:pt x="3930" y="100932"/>
                  <a:pt x="3930" y="100932"/>
                </a:cubicBezTo>
                <a:cubicBezTo>
                  <a:pt x="0" y="104745"/>
                  <a:pt x="0" y="108559"/>
                  <a:pt x="3930" y="108559"/>
                </a:cubicBezTo>
                <a:cubicBezTo>
                  <a:pt x="3930" y="112372"/>
                  <a:pt x="7860" y="112372"/>
                  <a:pt x="11528" y="108559"/>
                </a:cubicBezTo>
                <a:cubicBezTo>
                  <a:pt x="57903" y="63559"/>
                  <a:pt x="57903" y="63559"/>
                  <a:pt x="57903" y="63559"/>
                </a:cubicBezTo>
                <a:cubicBezTo>
                  <a:pt x="57903" y="63559"/>
                  <a:pt x="57903" y="63559"/>
                  <a:pt x="57903" y="59745"/>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7" name="Shape 4700"/>
          <p:cNvSpPr/>
          <p:nvPr/>
        </p:nvSpPr>
        <p:spPr>
          <a:xfrm>
            <a:off x="2479680" y="3605040"/>
            <a:ext cx="263520" cy="168480"/>
          </a:xfrm>
          <a:custGeom>
            <a:avLst/>
            <a:gdLst>
              <a:gd name="textAreaLeft" fmla="*/ 0 w 263520"/>
              <a:gd name="textAreaRight" fmla="*/ 263880 w 263520"/>
              <a:gd name="textAreaTop" fmla="*/ 0 h 168480"/>
              <a:gd name="textAreaBottom" fmla="*/ 168840 h 168480"/>
            </a:gdLst>
            <a:ahLst/>
            <a:rect l="textAreaLeft" t="textAreaTop" r="textAreaRight" b="textAreaBottom"/>
            <a:pathLst>
              <a:path w="120000" h="120000">
                <a:moveTo>
                  <a:pt x="29230" y="14915"/>
                </a:moveTo>
                <a:lnTo>
                  <a:pt x="29230" y="14915"/>
                </a:lnTo>
                <a:cubicBezTo>
                  <a:pt x="116483" y="14915"/>
                  <a:pt x="116483" y="14915"/>
                  <a:pt x="116483" y="14915"/>
                </a:cubicBezTo>
                <a:cubicBezTo>
                  <a:pt x="119780" y="14915"/>
                  <a:pt x="119780" y="9830"/>
                  <a:pt x="119780" y="9830"/>
                </a:cubicBezTo>
                <a:cubicBezTo>
                  <a:pt x="119780" y="5084"/>
                  <a:pt x="119780" y="0"/>
                  <a:pt x="116483" y="0"/>
                </a:cubicBezTo>
                <a:cubicBezTo>
                  <a:pt x="29230" y="0"/>
                  <a:pt x="29230" y="0"/>
                  <a:pt x="29230" y="0"/>
                </a:cubicBezTo>
                <a:cubicBezTo>
                  <a:pt x="29230" y="0"/>
                  <a:pt x="25934" y="5084"/>
                  <a:pt x="25934" y="9830"/>
                </a:cubicBezTo>
                <a:lnTo>
                  <a:pt x="29230" y="14915"/>
                </a:lnTo>
                <a:close/>
                <a:moveTo>
                  <a:pt x="3296" y="109830"/>
                </a:moveTo>
                <a:lnTo>
                  <a:pt x="3296" y="109830"/>
                </a:lnTo>
                <a:cubicBezTo>
                  <a:pt x="3296" y="109830"/>
                  <a:pt x="0" y="109830"/>
                  <a:pt x="0" y="114576"/>
                </a:cubicBezTo>
                <a:cubicBezTo>
                  <a:pt x="0" y="119661"/>
                  <a:pt x="3296" y="119661"/>
                  <a:pt x="3296" y="119661"/>
                </a:cubicBezTo>
                <a:cubicBezTo>
                  <a:pt x="6593" y="119661"/>
                  <a:pt x="9890" y="119661"/>
                  <a:pt x="9890" y="114576"/>
                </a:cubicBezTo>
                <a:cubicBezTo>
                  <a:pt x="9890" y="109830"/>
                  <a:pt x="6593" y="109830"/>
                  <a:pt x="3296" y="109830"/>
                </a:cubicBezTo>
                <a:close/>
                <a:moveTo>
                  <a:pt x="3296" y="54915"/>
                </a:moveTo>
                <a:lnTo>
                  <a:pt x="3296" y="54915"/>
                </a:lnTo>
                <a:lnTo>
                  <a:pt x="0" y="59661"/>
                </a:lnTo>
                <a:cubicBezTo>
                  <a:pt x="0" y="64745"/>
                  <a:pt x="3296" y="69830"/>
                  <a:pt x="3296" y="69830"/>
                </a:cubicBezTo>
                <a:cubicBezTo>
                  <a:pt x="6593" y="69830"/>
                  <a:pt x="9890" y="64745"/>
                  <a:pt x="9890" y="59661"/>
                </a:cubicBezTo>
                <a:cubicBezTo>
                  <a:pt x="9890" y="59661"/>
                  <a:pt x="6593" y="54915"/>
                  <a:pt x="3296" y="54915"/>
                </a:cubicBezTo>
                <a:close/>
                <a:moveTo>
                  <a:pt x="116483" y="109830"/>
                </a:moveTo>
                <a:lnTo>
                  <a:pt x="116483" y="109830"/>
                </a:lnTo>
                <a:cubicBezTo>
                  <a:pt x="29230" y="109830"/>
                  <a:pt x="29230" y="109830"/>
                  <a:pt x="29230" y="109830"/>
                </a:cubicBezTo>
                <a:cubicBezTo>
                  <a:pt x="29230" y="109830"/>
                  <a:pt x="25934" y="109830"/>
                  <a:pt x="25934" y="114576"/>
                </a:cubicBezTo>
                <a:cubicBezTo>
                  <a:pt x="25934" y="119661"/>
                  <a:pt x="29230" y="119661"/>
                  <a:pt x="29230" y="119661"/>
                </a:cubicBezTo>
                <a:cubicBezTo>
                  <a:pt x="116483" y="119661"/>
                  <a:pt x="116483" y="119661"/>
                  <a:pt x="116483" y="119661"/>
                </a:cubicBezTo>
                <a:cubicBezTo>
                  <a:pt x="119780" y="119661"/>
                  <a:pt x="119780" y="119661"/>
                  <a:pt x="119780" y="114576"/>
                </a:cubicBezTo>
                <a:cubicBezTo>
                  <a:pt x="119780" y="109830"/>
                  <a:pt x="119780" y="109830"/>
                  <a:pt x="116483" y="109830"/>
                </a:cubicBezTo>
                <a:close/>
                <a:moveTo>
                  <a:pt x="116483" y="54915"/>
                </a:moveTo>
                <a:lnTo>
                  <a:pt x="116483" y="54915"/>
                </a:lnTo>
                <a:cubicBezTo>
                  <a:pt x="29230" y="54915"/>
                  <a:pt x="29230" y="54915"/>
                  <a:pt x="29230" y="54915"/>
                </a:cubicBezTo>
                <a:lnTo>
                  <a:pt x="25934" y="59661"/>
                </a:lnTo>
                <a:cubicBezTo>
                  <a:pt x="25934" y="64745"/>
                  <a:pt x="29230" y="69830"/>
                  <a:pt x="29230" y="69830"/>
                </a:cubicBezTo>
                <a:cubicBezTo>
                  <a:pt x="116483" y="69830"/>
                  <a:pt x="116483" y="69830"/>
                  <a:pt x="116483" y="69830"/>
                </a:cubicBezTo>
                <a:cubicBezTo>
                  <a:pt x="119780" y="69830"/>
                  <a:pt x="119780" y="64745"/>
                  <a:pt x="119780" y="59661"/>
                </a:cubicBezTo>
                <a:cubicBezTo>
                  <a:pt x="119780" y="59661"/>
                  <a:pt x="119780" y="54915"/>
                  <a:pt x="116483" y="54915"/>
                </a:cubicBezTo>
                <a:close/>
                <a:moveTo>
                  <a:pt x="3296" y="0"/>
                </a:moveTo>
                <a:lnTo>
                  <a:pt x="3296" y="0"/>
                </a:lnTo>
                <a:cubicBezTo>
                  <a:pt x="3296" y="0"/>
                  <a:pt x="0" y="5084"/>
                  <a:pt x="0" y="9830"/>
                </a:cubicBezTo>
                <a:lnTo>
                  <a:pt x="3296" y="14915"/>
                </a:lnTo>
                <a:cubicBezTo>
                  <a:pt x="6593" y="14915"/>
                  <a:pt x="9890" y="9830"/>
                  <a:pt x="9890" y="9830"/>
                </a:cubicBezTo>
                <a:cubicBezTo>
                  <a:pt x="9890" y="5084"/>
                  <a:pt x="6593" y="0"/>
                  <a:pt x="3296" y="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8" name="Shape 4702"/>
          <p:cNvSpPr/>
          <p:nvPr/>
        </p:nvSpPr>
        <p:spPr>
          <a:xfrm>
            <a:off x="1476360" y="3552840"/>
            <a:ext cx="304920" cy="270000"/>
          </a:xfrm>
          <a:custGeom>
            <a:avLst/>
            <a:gdLst>
              <a:gd name="textAreaLeft" fmla="*/ 0 w 304920"/>
              <a:gd name="textAreaRight" fmla="*/ 305280 w 304920"/>
              <a:gd name="textAreaTop" fmla="*/ 0 h 270000"/>
              <a:gd name="textAreaBottom" fmla="*/ 270360 h 270000"/>
            </a:gdLst>
            <a:ahLst/>
            <a:rect l="textAreaLeft" t="textAreaTop" r="textAreaRight" b="textAreaBottom"/>
            <a:pathLst>
              <a:path w="120000" h="120000">
                <a:moveTo>
                  <a:pt x="111482" y="3214"/>
                </a:moveTo>
                <a:lnTo>
                  <a:pt x="111482" y="3214"/>
                </a:lnTo>
                <a:cubicBezTo>
                  <a:pt x="75141" y="31500"/>
                  <a:pt x="75141" y="31500"/>
                  <a:pt x="75141" y="31500"/>
                </a:cubicBezTo>
                <a:cubicBezTo>
                  <a:pt x="75141" y="9428"/>
                  <a:pt x="75141" y="9428"/>
                  <a:pt x="75141" y="9428"/>
                </a:cubicBezTo>
                <a:cubicBezTo>
                  <a:pt x="75141" y="0"/>
                  <a:pt x="72492" y="0"/>
                  <a:pt x="67003" y="3214"/>
                </a:cubicBezTo>
                <a:cubicBezTo>
                  <a:pt x="2839" y="53571"/>
                  <a:pt x="2839" y="53571"/>
                  <a:pt x="2839" y="53571"/>
                </a:cubicBezTo>
                <a:cubicBezTo>
                  <a:pt x="0" y="56785"/>
                  <a:pt x="0" y="63000"/>
                  <a:pt x="2839" y="66214"/>
                </a:cubicBezTo>
                <a:cubicBezTo>
                  <a:pt x="67003" y="119785"/>
                  <a:pt x="67003" y="119785"/>
                  <a:pt x="67003" y="119785"/>
                </a:cubicBezTo>
                <a:cubicBezTo>
                  <a:pt x="69652" y="119785"/>
                  <a:pt x="75141" y="119785"/>
                  <a:pt x="75141" y="110357"/>
                </a:cubicBezTo>
                <a:cubicBezTo>
                  <a:pt x="75141" y="88285"/>
                  <a:pt x="75141" y="88285"/>
                  <a:pt x="75141" y="88285"/>
                </a:cubicBezTo>
                <a:cubicBezTo>
                  <a:pt x="111482" y="119785"/>
                  <a:pt x="111482" y="119785"/>
                  <a:pt x="111482" y="119785"/>
                </a:cubicBezTo>
                <a:cubicBezTo>
                  <a:pt x="114321" y="119785"/>
                  <a:pt x="119810" y="119785"/>
                  <a:pt x="119810" y="110357"/>
                </a:cubicBezTo>
                <a:cubicBezTo>
                  <a:pt x="119810" y="9428"/>
                  <a:pt x="119810" y="9428"/>
                  <a:pt x="119810" y="9428"/>
                </a:cubicBezTo>
                <a:cubicBezTo>
                  <a:pt x="119810" y="0"/>
                  <a:pt x="116971" y="0"/>
                  <a:pt x="111482" y="3214"/>
                </a:cubicBezTo>
                <a:close/>
                <a:moveTo>
                  <a:pt x="114321" y="107142"/>
                </a:moveTo>
                <a:lnTo>
                  <a:pt x="114321" y="107142"/>
                </a:lnTo>
                <a:cubicBezTo>
                  <a:pt x="69652" y="72428"/>
                  <a:pt x="69652" y="72428"/>
                  <a:pt x="69652" y="72428"/>
                </a:cubicBezTo>
                <a:lnTo>
                  <a:pt x="69652" y="107142"/>
                </a:lnTo>
                <a:cubicBezTo>
                  <a:pt x="8328" y="59785"/>
                  <a:pt x="8328" y="59785"/>
                  <a:pt x="8328" y="59785"/>
                </a:cubicBezTo>
                <a:cubicBezTo>
                  <a:pt x="69652" y="12642"/>
                  <a:pt x="69652" y="12642"/>
                  <a:pt x="69652" y="12642"/>
                </a:cubicBezTo>
                <a:cubicBezTo>
                  <a:pt x="69652" y="22071"/>
                  <a:pt x="69652" y="50571"/>
                  <a:pt x="69652" y="50571"/>
                </a:cubicBezTo>
                <a:cubicBezTo>
                  <a:pt x="114321" y="12642"/>
                  <a:pt x="114321" y="12642"/>
                  <a:pt x="114321" y="12642"/>
                </a:cubicBezTo>
                <a:lnTo>
                  <a:pt x="114321" y="107142"/>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9" name="Shape 4704"/>
          <p:cNvSpPr/>
          <p:nvPr/>
        </p:nvSpPr>
        <p:spPr>
          <a:xfrm>
            <a:off x="5424480" y="3067200"/>
            <a:ext cx="262080" cy="268200"/>
          </a:xfrm>
          <a:custGeom>
            <a:avLst/>
            <a:gdLst>
              <a:gd name="textAreaLeft" fmla="*/ 0 w 262080"/>
              <a:gd name="textAreaRight" fmla="*/ 262440 w 262080"/>
              <a:gd name="textAreaTop" fmla="*/ 0 h 268200"/>
              <a:gd name="textAreaBottom" fmla="*/ 268560 h 268200"/>
            </a:gdLst>
            <a:ahLst/>
            <a:rect l="textAreaLeft" t="textAreaTop" r="textAreaRight" b="textAreaBottom"/>
            <a:pathLst>
              <a:path w="120000" h="120000">
                <a:moveTo>
                  <a:pt x="113394" y="0"/>
                </a:moveTo>
                <a:lnTo>
                  <a:pt x="113394" y="0"/>
                </a:lnTo>
                <a:cubicBezTo>
                  <a:pt x="9688" y="0"/>
                  <a:pt x="9688" y="0"/>
                  <a:pt x="9688" y="0"/>
                </a:cubicBezTo>
                <a:cubicBezTo>
                  <a:pt x="3082" y="0"/>
                  <a:pt x="0" y="6417"/>
                  <a:pt x="0" y="9411"/>
                </a:cubicBezTo>
                <a:cubicBezTo>
                  <a:pt x="0" y="110160"/>
                  <a:pt x="0" y="110160"/>
                  <a:pt x="0" y="110160"/>
                </a:cubicBezTo>
                <a:cubicBezTo>
                  <a:pt x="0" y="113368"/>
                  <a:pt x="3082" y="119786"/>
                  <a:pt x="9688" y="119786"/>
                </a:cubicBezTo>
                <a:cubicBezTo>
                  <a:pt x="113394" y="119786"/>
                  <a:pt x="113394" y="119786"/>
                  <a:pt x="113394" y="119786"/>
                </a:cubicBezTo>
                <a:cubicBezTo>
                  <a:pt x="116697" y="119786"/>
                  <a:pt x="119779" y="113368"/>
                  <a:pt x="119779" y="110160"/>
                </a:cubicBezTo>
                <a:cubicBezTo>
                  <a:pt x="119779" y="9411"/>
                  <a:pt x="119779" y="9411"/>
                  <a:pt x="119779" y="9411"/>
                </a:cubicBezTo>
                <a:cubicBezTo>
                  <a:pt x="119779" y="6417"/>
                  <a:pt x="116697" y="0"/>
                  <a:pt x="113394" y="0"/>
                </a:cubicBezTo>
                <a:close/>
                <a:moveTo>
                  <a:pt x="113394" y="107165"/>
                </a:moveTo>
                <a:lnTo>
                  <a:pt x="113394" y="107165"/>
                </a:lnTo>
                <a:cubicBezTo>
                  <a:pt x="113394" y="107165"/>
                  <a:pt x="110091" y="110160"/>
                  <a:pt x="106788" y="110160"/>
                </a:cubicBezTo>
                <a:cubicBezTo>
                  <a:pt x="12770" y="110160"/>
                  <a:pt x="12770" y="110160"/>
                  <a:pt x="12770" y="110160"/>
                </a:cubicBezTo>
                <a:cubicBezTo>
                  <a:pt x="9688" y="110160"/>
                  <a:pt x="9688" y="107165"/>
                  <a:pt x="9688" y="107165"/>
                </a:cubicBezTo>
                <a:cubicBezTo>
                  <a:pt x="9688" y="12620"/>
                  <a:pt x="9688" y="12620"/>
                  <a:pt x="9688" y="12620"/>
                </a:cubicBezTo>
                <a:cubicBezTo>
                  <a:pt x="9688" y="12620"/>
                  <a:pt x="9688" y="9411"/>
                  <a:pt x="12770" y="9411"/>
                </a:cubicBezTo>
                <a:cubicBezTo>
                  <a:pt x="106788" y="9411"/>
                  <a:pt x="106788" y="9411"/>
                  <a:pt x="106788" y="9411"/>
                </a:cubicBezTo>
                <a:cubicBezTo>
                  <a:pt x="110091" y="9411"/>
                  <a:pt x="113394" y="12620"/>
                  <a:pt x="113394" y="12620"/>
                </a:cubicBezTo>
                <a:lnTo>
                  <a:pt x="113394" y="107165"/>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0" name="Shape 4706"/>
          <p:cNvSpPr/>
          <p:nvPr/>
        </p:nvSpPr>
        <p:spPr>
          <a:xfrm>
            <a:off x="4467240" y="30672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115665" y="53475"/>
                </a:moveTo>
                <a:lnTo>
                  <a:pt x="115665" y="53475"/>
                </a:lnTo>
                <a:cubicBezTo>
                  <a:pt x="15981" y="3208"/>
                  <a:pt x="15981" y="3208"/>
                  <a:pt x="15981" y="3208"/>
                </a:cubicBezTo>
                <a:cubicBezTo>
                  <a:pt x="8126" y="0"/>
                  <a:pt x="0" y="0"/>
                  <a:pt x="0" y="9411"/>
                </a:cubicBezTo>
                <a:cubicBezTo>
                  <a:pt x="0" y="110160"/>
                  <a:pt x="0" y="110160"/>
                  <a:pt x="0" y="110160"/>
                </a:cubicBezTo>
                <a:cubicBezTo>
                  <a:pt x="0" y="119786"/>
                  <a:pt x="8126" y="119786"/>
                  <a:pt x="15981" y="116577"/>
                </a:cubicBezTo>
                <a:cubicBezTo>
                  <a:pt x="115665" y="66096"/>
                  <a:pt x="115665" y="66096"/>
                  <a:pt x="115665" y="66096"/>
                </a:cubicBezTo>
                <a:cubicBezTo>
                  <a:pt x="119729" y="62887"/>
                  <a:pt x="119729" y="56684"/>
                  <a:pt x="115665" y="53475"/>
                </a:cubicBezTo>
                <a:close/>
                <a:moveTo>
                  <a:pt x="11918" y="107165"/>
                </a:moveTo>
                <a:lnTo>
                  <a:pt x="11918" y="107165"/>
                </a:lnTo>
                <a:cubicBezTo>
                  <a:pt x="11918" y="103957"/>
                  <a:pt x="11918" y="18823"/>
                  <a:pt x="11918" y="12620"/>
                </a:cubicBezTo>
                <a:cubicBezTo>
                  <a:pt x="107810" y="59893"/>
                  <a:pt x="107810" y="59893"/>
                  <a:pt x="107810" y="59893"/>
                </a:cubicBezTo>
                <a:lnTo>
                  <a:pt x="11918" y="107165"/>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1" name="Shape 4708"/>
          <p:cNvSpPr/>
          <p:nvPr/>
        </p:nvSpPr>
        <p:spPr>
          <a:xfrm>
            <a:off x="3448080" y="3087720"/>
            <a:ext cx="284040" cy="225360"/>
          </a:xfrm>
          <a:custGeom>
            <a:avLst/>
            <a:gdLst>
              <a:gd name="textAreaLeft" fmla="*/ 0 w 284040"/>
              <a:gd name="textAreaRight" fmla="*/ 284400 w 284040"/>
              <a:gd name="textAreaTop" fmla="*/ 0 h 225360"/>
              <a:gd name="textAreaBottom" fmla="*/ 225720 h 225360"/>
            </a:gdLst>
            <a:ahLst/>
            <a:rect l="textAreaLeft" t="textAreaTop" r="textAreaRight" b="textAreaBottom"/>
            <a:pathLst>
              <a:path w="120000" h="120000">
                <a:moveTo>
                  <a:pt x="101898" y="60000"/>
                </a:moveTo>
                <a:lnTo>
                  <a:pt x="101898" y="60000"/>
                </a:lnTo>
                <a:cubicBezTo>
                  <a:pt x="119796" y="37627"/>
                  <a:pt x="119796" y="37627"/>
                  <a:pt x="119796" y="37627"/>
                </a:cubicBezTo>
                <a:cubicBezTo>
                  <a:pt x="119796" y="37627"/>
                  <a:pt x="119796" y="33813"/>
                  <a:pt x="119796" y="30000"/>
                </a:cubicBezTo>
                <a:cubicBezTo>
                  <a:pt x="116745" y="30000"/>
                  <a:pt x="113898" y="30000"/>
                  <a:pt x="113898" y="33813"/>
                </a:cubicBezTo>
                <a:cubicBezTo>
                  <a:pt x="95796" y="52372"/>
                  <a:pt x="95796" y="52372"/>
                  <a:pt x="95796" y="52372"/>
                </a:cubicBezTo>
                <a:cubicBezTo>
                  <a:pt x="80949" y="33813"/>
                  <a:pt x="80949" y="33813"/>
                  <a:pt x="80949" y="33813"/>
                </a:cubicBezTo>
                <a:cubicBezTo>
                  <a:pt x="77898" y="30000"/>
                  <a:pt x="75050" y="30000"/>
                  <a:pt x="75050" y="30000"/>
                </a:cubicBezTo>
                <a:cubicBezTo>
                  <a:pt x="72000" y="33813"/>
                  <a:pt x="72000" y="37627"/>
                  <a:pt x="75050" y="37627"/>
                </a:cubicBezTo>
                <a:cubicBezTo>
                  <a:pt x="89898" y="60000"/>
                  <a:pt x="89898" y="60000"/>
                  <a:pt x="89898" y="60000"/>
                </a:cubicBezTo>
                <a:cubicBezTo>
                  <a:pt x="75050" y="82372"/>
                  <a:pt x="75050" y="82372"/>
                  <a:pt x="75050" y="82372"/>
                </a:cubicBezTo>
                <a:cubicBezTo>
                  <a:pt x="72000" y="82372"/>
                  <a:pt x="72000" y="86186"/>
                  <a:pt x="75050" y="89745"/>
                </a:cubicBezTo>
                <a:cubicBezTo>
                  <a:pt x="75050" y="89745"/>
                  <a:pt x="77898" y="89745"/>
                  <a:pt x="80949" y="86186"/>
                </a:cubicBezTo>
                <a:cubicBezTo>
                  <a:pt x="95796" y="67372"/>
                  <a:pt x="95796" y="67372"/>
                  <a:pt x="95796" y="67372"/>
                </a:cubicBezTo>
                <a:cubicBezTo>
                  <a:pt x="113898" y="86186"/>
                  <a:pt x="113898" y="86186"/>
                  <a:pt x="113898" y="86186"/>
                </a:cubicBezTo>
                <a:cubicBezTo>
                  <a:pt x="113898" y="89745"/>
                  <a:pt x="116745" y="89745"/>
                  <a:pt x="119796" y="89745"/>
                </a:cubicBezTo>
                <a:cubicBezTo>
                  <a:pt x="119796" y="86186"/>
                  <a:pt x="119796" y="82372"/>
                  <a:pt x="119796" y="82372"/>
                </a:cubicBezTo>
                <a:lnTo>
                  <a:pt x="101898" y="60000"/>
                </a:lnTo>
                <a:close/>
                <a:moveTo>
                  <a:pt x="56949" y="0"/>
                </a:moveTo>
                <a:lnTo>
                  <a:pt x="56949" y="0"/>
                </a:lnTo>
                <a:cubicBezTo>
                  <a:pt x="20949" y="30000"/>
                  <a:pt x="20949" y="30000"/>
                  <a:pt x="20949" y="30000"/>
                </a:cubicBezTo>
                <a:cubicBezTo>
                  <a:pt x="8949" y="30000"/>
                  <a:pt x="8949" y="30000"/>
                  <a:pt x="8949" y="30000"/>
                </a:cubicBezTo>
                <a:cubicBezTo>
                  <a:pt x="6101" y="30000"/>
                  <a:pt x="0" y="33813"/>
                  <a:pt x="0" y="41186"/>
                </a:cubicBezTo>
                <a:cubicBezTo>
                  <a:pt x="0" y="78559"/>
                  <a:pt x="0" y="78559"/>
                  <a:pt x="0" y="78559"/>
                </a:cubicBezTo>
                <a:cubicBezTo>
                  <a:pt x="0" y="86186"/>
                  <a:pt x="6101" y="89745"/>
                  <a:pt x="8949" y="89745"/>
                </a:cubicBezTo>
                <a:cubicBezTo>
                  <a:pt x="20949" y="89745"/>
                  <a:pt x="20949" y="89745"/>
                  <a:pt x="20949" y="89745"/>
                </a:cubicBezTo>
                <a:cubicBezTo>
                  <a:pt x="56949" y="119745"/>
                  <a:pt x="56949" y="119745"/>
                  <a:pt x="56949" y="119745"/>
                </a:cubicBezTo>
                <a:cubicBezTo>
                  <a:pt x="60000" y="119745"/>
                  <a:pt x="65898" y="116186"/>
                  <a:pt x="65898" y="108559"/>
                </a:cubicBezTo>
                <a:cubicBezTo>
                  <a:pt x="65898" y="11186"/>
                  <a:pt x="65898" y="11186"/>
                  <a:pt x="65898" y="11186"/>
                </a:cubicBezTo>
                <a:cubicBezTo>
                  <a:pt x="65898" y="3813"/>
                  <a:pt x="60000" y="0"/>
                  <a:pt x="56949" y="0"/>
                </a:cubicBezTo>
                <a:close/>
                <a:moveTo>
                  <a:pt x="20949" y="75000"/>
                </a:moveTo>
                <a:lnTo>
                  <a:pt x="20949" y="75000"/>
                </a:lnTo>
                <a:cubicBezTo>
                  <a:pt x="20949" y="78559"/>
                  <a:pt x="18101" y="78559"/>
                  <a:pt x="18101" y="78559"/>
                </a:cubicBezTo>
                <a:cubicBezTo>
                  <a:pt x="12000" y="78559"/>
                  <a:pt x="12000" y="78559"/>
                  <a:pt x="12000" y="78559"/>
                </a:cubicBezTo>
                <a:cubicBezTo>
                  <a:pt x="12000" y="78559"/>
                  <a:pt x="8949" y="78559"/>
                  <a:pt x="8949" y="75000"/>
                </a:cubicBezTo>
                <a:cubicBezTo>
                  <a:pt x="8949" y="45000"/>
                  <a:pt x="8949" y="45000"/>
                  <a:pt x="8949" y="45000"/>
                </a:cubicBezTo>
                <a:cubicBezTo>
                  <a:pt x="8949" y="41186"/>
                  <a:pt x="12000" y="41186"/>
                  <a:pt x="12000" y="41186"/>
                </a:cubicBezTo>
                <a:cubicBezTo>
                  <a:pt x="18101" y="41186"/>
                  <a:pt x="18101" y="41186"/>
                  <a:pt x="18101" y="41186"/>
                </a:cubicBezTo>
                <a:cubicBezTo>
                  <a:pt x="18101" y="41186"/>
                  <a:pt x="20949" y="41186"/>
                  <a:pt x="20949" y="45000"/>
                </a:cubicBezTo>
                <a:lnTo>
                  <a:pt x="20949" y="75000"/>
                </a:lnTo>
                <a:close/>
                <a:moveTo>
                  <a:pt x="56949" y="108559"/>
                </a:moveTo>
                <a:lnTo>
                  <a:pt x="56949" y="108559"/>
                </a:lnTo>
                <a:cubicBezTo>
                  <a:pt x="30101" y="86186"/>
                  <a:pt x="30101" y="86186"/>
                  <a:pt x="30101" y="86186"/>
                </a:cubicBezTo>
                <a:cubicBezTo>
                  <a:pt x="30101" y="30000"/>
                  <a:pt x="30101" y="30000"/>
                  <a:pt x="30101" y="30000"/>
                </a:cubicBezTo>
                <a:cubicBezTo>
                  <a:pt x="56949" y="11186"/>
                  <a:pt x="56949" y="11186"/>
                  <a:pt x="56949" y="11186"/>
                </a:cubicBezTo>
                <a:lnTo>
                  <a:pt x="56949" y="108559"/>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2" name="Shape 4710"/>
          <p:cNvSpPr/>
          <p:nvPr/>
        </p:nvSpPr>
        <p:spPr>
          <a:xfrm>
            <a:off x="2487600" y="3087720"/>
            <a:ext cx="241200" cy="225360"/>
          </a:xfrm>
          <a:custGeom>
            <a:avLst/>
            <a:gdLst>
              <a:gd name="textAreaLeft" fmla="*/ 0 w 241200"/>
              <a:gd name="textAreaRight" fmla="*/ 241560 w 241200"/>
              <a:gd name="textAreaTop" fmla="*/ 0 h 225360"/>
              <a:gd name="textAreaBottom" fmla="*/ 225720 h 225360"/>
            </a:gdLst>
            <a:ahLst/>
            <a:rect l="textAreaLeft" t="textAreaTop" r="textAreaRight" b="textAreaBottom"/>
            <a:pathLst>
              <a:path w="120000" h="120000">
                <a:moveTo>
                  <a:pt x="66932" y="0"/>
                </a:moveTo>
                <a:lnTo>
                  <a:pt x="66932" y="0"/>
                </a:lnTo>
                <a:cubicBezTo>
                  <a:pt x="24621" y="30000"/>
                  <a:pt x="24621" y="30000"/>
                  <a:pt x="24621" y="30000"/>
                </a:cubicBezTo>
                <a:cubicBezTo>
                  <a:pt x="10517" y="30000"/>
                  <a:pt x="10517" y="30000"/>
                  <a:pt x="10517" y="30000"/>
                </a:cubicBezTo>
                <a:cubicBezTo>
                  <a:pt x="7171" y="30000"/>
                  <a:pt x="0" y="33813"/>
                  <a:pt x="0" y="41186"/>
                </a:cubicBezTo>
                <a:cubicBezTo>
                  <a:pt x="0" y="78559"/>
                  <a:pt x="0" y="78559"/>
                  <a:pt x="0" y="78559"/>
                </a:cubicBezTo>
                <a:cubicBezTo>
                  <a:pt x="0" y="86186"/>
                  <a:pt x="7171" y="89745"/>
                  <a:pt x="10517" y="89745"/>
                </a:cubicBezTo>
                <a:cubicBezTo>
                  <a:pt x="24621" y="89745"/>
                  <a:pt x="24621" y="89745"/>
                  <a:pt x="24621" y="89745"/>
                </a:cubicBezTo>
                <a:cubicBezTo>
                  <a:pt x="66932" y="119745"/>
                  <a:pt x="66932" y="119745"/>
                  <a:pt x="66932" y="119745"/>
                </a:cubicBezTo>
                <a:cubicBezTo>
                  <a:pt x="70517" y="119745"/>
                  <a:pt x="77450" y="116186"/>
                  <a:pt x="77450" y="108559"/>
                </a:cubicBezTo>
                <a:cubicBezTo>
                  <a:pt x="77450" y="11186"/>
                  <a:pt x="77450" y="11186"/>
                  <a:pt x="77450" y="11186"/>
                </a:cubicBezTo>
                <a:cubicBezTo>
                  <a:pt x="77450" y="3813"/>
                  <a:pt x="70517" y="0"/>
                  <a:pt x="66932" y="0"/>
                </a:cubicBezTo>
                <a:close/>
                <a:moveTo>
                  <a:pt x="24621" y="75000"/>
                </a:moveTo>
                <a:lnTo>
                  <a:pt x="24621" y="75000"/>
                </a:lnTo>
                <a:cubicBezTo>
                  <a:pt x="24621" y="78559"/>
                  <a:pt x="21274" y="78559"/>
                  <a:pt x="21274" y="78559"/>
                </a:cubicBezTo>
                <a:cubicBezTo>
                  <a:pt x="14103" y="78559"/>
                  <a:pt x="14103" y="78559"/>
                  <a:pt x="14103" y="78559"/>
                </a:cubicBezTo>
                <a:cubicBezTo>
                  <a:pt x="14103" y="78559"/>
                  <a:pt x="10517" y="78559"/>
                  <a:pt x="10517" y="75000"/>
                </a:cubicBezTo>
                <a:cubicBezTo>
                  <a:pt x="10517" y="45000"/>
                  <a:pt x="10517" y="45000"/>
                  <a:pt x="10517" y="45000"/>
                </a:cubicBezTo>
                <a:cubicBezTo>
                  <a:pt x="10517" y="41186"/>
                  <a:pt x="14103" y="41186"/>
                  <a:pt x="14103" y="41186"/>
                </a:cubicBezTo>
                <a:cubicBezTo>
                  <a:pt x="21274" y="41186"/>
                  <a:pt x="21274" y="41186"/>
                  <a:pt x="21274" y="41186"/>
                </a:cubicBezTo>
                <a:cubicBezTo>
                  <a:pt x="21274" y="41186"/>
                  <a:pt x="24621" y="41186"/>
                  <a:pt x="24621" y="45000"/>
                </a:cubicBezTo>
                <a:lnTo>
                  <a:pt x="24621" y="75000"/>
                </a:lnTo>
                <a:close/>
                <a:moveTo>
                  <a:pt x="66932" y="108559"/>
                </a:moveTo>
                <a:lnTo>
                  <a:pt x="66932" y="108559"/>
                </a:lnTo>
                <a:cubicBezTo>
                  <a:pt x="35378" y="86186"/>
                  <a:pt x="35378" y="86186"/>
                  <a:pt x="35378" y="86186"/>
                </a:cubicBezTo>
                <a:cubicBezTo>
                  <a:pt x="35378" y="78559"/>
                  <a:pt x="35378" y="37627"/>
                  <a:pt x="35378" y="30000"/>
                </a:cubicBezTo>
                <a:cubicBezTo>
                  <a:pt x="66932" y="11186"/>
                  <a:pt x="66932" y="11186"/>
                  <a:pt x="66932" y="11186"/>
                </a:cubicBezTo>
                <a:cubicBezTo>
                  <a:pt x="66932" y="15000"/>
                  <a:pt x="66932" y="104745"/>
                  <a:pt x="66932" y="108559"/>
                </a:cubicBezTo>
                <a:close/>
                <a:moveTo>
                  <a:pt x="91553" y="26186"/>
                </a:moveTo>
                <a:lnTo>
                  <a:pt x="91553" y="26186"/>
                </a:lnTo>
                <a:cubicBezTo>
                  <a:pt x="91553" y="33813"/>
                  <a:pt x="91553" y="33813"/>
                  <a:pt x="91553" y="33813"/>
                </a:cubicBezTo>
                <a:cubicBezTo>
                  <a:pt x="102071" y="37627"/>
                  <a:pt x="109243" y="48559"/>
                  <a:pt x="109243" y="60000"/>
                </a:cubicBezTo>
                <a:cubicBezTo>
                  <a:pt x="109243" y="71186"/>
                  <a:pt x="102071" y="82372"/>
                  <a:pt x="91553" y="86186"/>
                </a:cubicBezTo>
                <a:cubicBezTo>
                  <a:pt x="91553" y="93559"/>
                  <a:pt x="91553" y="93559"/>
                  <a:pt x="91553" y="93559"/>
                </a:cubicBezTo>
                <a:cubicBezTo>
                  <a:pt x="105657" y="93559"/>
                  <a:pt x="119760" y="78559"/>
                  <a:pt x="119760" y="60000"/>
                </a:cubicBezTo>
                <a:cubicBezTo>
                  <a:pt x="119760" y="41186"/>
                  <a:pt x="105657" y="26186"/>
                  <a:pt x="91553" y="2618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3" name="Shape 4712"/>
          <p:cNvSpPr/>
          <p:nvPr/>
        </p:nvSpPr>
        <p:spPr>
          <a:xfrm>
            <a:off x="1519200" y="3051000"/>
            <a:ext cx="227160" cy="295560"/>
          </a:xfrm>
          <a:custGeom>
            <a:avLst/>
            <a:gdLst>
              <a:gd name="textAreaLeft" fmla="*/ 0 w 227160"/>
              <a:gd name="textAreaRight" fmla="*/ 227520 w 227160"/>
              <a:gd name="textAreaTop" fmla="*/ 0 h 295560"/>
              <a:gd name="textAreaBottom" fmla="*/ 295920 h 295560"/>
            </a:gdLst>
            <a:ahLst/>
            <a:rect l="textAreaLeft" t="textAreaTop" r="textAreaRight" b="textAreaBottom"/>
            <a:pathLst>
              <a:path w="120000" h="120000">
                <a:moveTo>
                  <a:pt x="93559" y="85492"/>
                </a:moveTo>
                <a:lnTo>
                  <a:pt x="93559" y="85492"/>
                </a:lnTo>
                <a:cubicBezTo>
                  <a:pt x="93559" y="71340"/>
                  <a:pt x="78559" y="59903"/>
                  <a:pt x="60000" y="59903"/>
                </a:cubicBezTo>
                <a:cubicBezTo>
                  <a:pt x="41186" y="59903"/>
                  <a:pt x="26440" y="71340"/>
                  <a:pt x="26440" y="85492"/>
                </a:cubicBezTo>
                <a:cubicBezTo>
                  <a:pt x="26440" y="99838"/>
                  <a:pt x="41186" y="114184"/>
                  <a:pt x="60000" y="114184"/>
                </a:cubicBezTo>
                <a:cubicBezTo>
                  <a:pt x="78559" y="114184"/>
                  <a:pt x="93559" y="99838"/>
                  <a:pt x="93559" y="85492"/>
                </a:cubicBezTo>
                <a:close/>
                <a:moveTo>
                  <a:pt x="60000" y="105460"/>
                </a:moveTo>
                <a:lnTo>
                  <a:pt x="60000" y="105460"/>
                </a:lnTo>
                <a:cubicBezTo>
                  <a:pt x="45000" y="105460"/>
                  <a:pt x="33813" y="96930"/>
                  <a:pt x="33813" y="85492"/>
                </a:cubicBezTo>
                <a:cubicBezTo>
                  <a:pt x="33813" y="76962"/>
                  <a:pt x="45000" y="68432"/>
                  <a:pt x="60000" y="68432"/>
                </a:cubicBezTo>
                <a:cubicBezTo>
                  <a:pt x="75000" y="68432"/>
                  <a:pt x="86186" y="76962"/>
                  <a:pt x="86186" y="85492"/>
                </a:cubicBezTo>
                <a:cubicBezTo>
                  <a:pt x="86186" y="96930"/>
                  <a:pt x="75000" y="105460"/>
                  <a:pt x="60000" y="105460"/>
                </a:cubicBezTo>
                <a:close/>
                <a:moveTo>
                  <a:pt x="101186" y="0"/>
                </a:moveTo>
                <a:lnTo>
                  <a:pt x="101186" y="0"/>
                </a:lnTo>
                <a:cubicBezTo>
                  <a:pt x="18813" y="0"/>
                  <a:pt x="18813" y="0"/>
                  <a:pt x="18813" y="0"/>
                </a:cubicBezTo>
                <a:cubicBezTo>
                  <a:pt x="7627" y="0"/>
                  <a:pt x="0" y="5621"/>
                  <a:pt x="0" y="14151"/>
                </a:cubicBezTo>
                <a:cubicBezTo>
                  <a:pt x="0" y="105460"/>
                  <a:pt x="0" y="105460"/>
                  <a:pt x="0" y="105460"/>
                </a:cubicBezTo>
                <a:cubicBezTo>
                  <a:pt x="0" y="114184"/>
                  <a:pt x="7627" y="119806"/>
                  <a:pt x="18813" y="119806"/>
                </a:cubicBezTo>
                <a:cubicBezTo>
                  <a:pt x="101186" y="119806"/>
                  <a:pt x="101186" y="119806"/>
                  <a:pt x="101186" y="119806"/>
                </a:cubicBezTo>
                <a:cubicBezTo>
                  <a:pt x="112372" y="119806"/>
                  <a:pt x="119745" y="114184"/>
                  <a:pt x="119745" y="105460"/>
                </a:cubicBezTo>
                <a:cubicBezTo>
                  <a:pt x="119745" y="14151"/>
                  <a:pt x="119745" y="14151"/>
                  <a:pt x="119745" y="14151"/>
                </a:cubicBezTo>
                <a:cubicBezTo>
                  <a:pt x="119745" y="5621"/>
                  <a:pt x="112372" y="0"/>
                  <a:pt x="101186" y="0"/>
                </a:cubicBezTo>
                <a:close/>
                <a:moveTo>
                  <a:pt x="108559" y="105460"/>
                </a:moveTo>
                <a:lnTo>
                  <a:pt x="108559" y="105460"/>
                </a:lnTo>
                <a:cubicBezTo>
                  <a:pt x="108559" y="108368"/>
                  <a:pt x="105000" y="114184"/>
                  <a:pt x="101186" y="114184"/>
                </a:cubicBezTo>
                <a:cubicBezTo>
                  <a:pt x="60000" y="114184"/>
                  <a:pt x="60000" y="114184"/>
                  <a:pt x="60000" y="114184"/>
                </a:cubicBezTo>
                <a:cubicBezTo>
                  <a:pt x="18813" y="114184"/>
                  <a:pt x="18813" y="114184"/>
                  <a:pt x="18813" y="114184"/>
                </a:cubicBezTo>
                <a:cubicBezTo>
                  <a:pt x="15000" y="114184"/>
                  <a:pt x="11440" y="108368"/>
                  <a:pt x="11440" y="105460"/>
                </a:cubicBezTo>
                <a:cubicBezTo>
                  <a:pt x="11440" y="14151"/>
                  <a:pt x="11440" y="14151"/>
                  <a:pt x="11440" y="14151"/>
                </a:cubicBezTo>
                <a:cubicBezTo>
                  <a:pt x="11440" y="11437"/>
                  <a:pt x="15000" y="5621"/>
                  <a:pt x="18813" y="5621"/>
                </a:cubicBezTo>
                <a:cubicBezTo>
                  <a:pt x="101186" y="5621"/>
                  <a:pt x="101186" y="5621"/>
                  <a:pt x="101186" y="5621"/>
                </a:cubicBezTo>
                <a:cubicBezTo>
                  <a:pt x="105000" y="5621"/>
                  <a:pt x="108559" y="11437"/>
                  <a:pt x="108559" y="14151"/>
                </a:cubicBezTo>
                <a:lnTo>
                  <a:pt x="108559" y="105460"/>
                </a:lnTo>
                <a:close/>
                <a:moveTo>
                  <a:pt x="60000" y="14151"/>
                </a:moveTo>
                <a:lnTo>
                  <a:pt x="60000" y="14151"/>
                </a:lnTo>
                <a:cubicBezTo>
                  <a:pt x="45000" y="14151"/>
                  <a:pt x="33813" y="22681"/>
                  <a:pt x="33813" y="34119"/>
                </a:cubicBezTo>
                <a:cubicBezTo>
                  <a:pt x="33813" y="42843"/>
                  <a:pt x="45000" y="51179"/>
                  <a:pt x="60000" y="51179"/>
                </a:cubicBezTo>
                <a:cubicBezTo>
                  <a:pt x="75000" y="51179"/>
                  <a:pt x="86186" y="42843"/>
                  <a:pt x="86186" y="34119"/>
                </a:cubicBezTo>
                <a:cubicBezTo>
                  <a:pt x="86186" y="22681"/>
                  <a:pt x="75000" y="14151"/>
                  <a:pt x="60000" y="14151"/>
                </a:cubicBezTo>
                <a:close/>
                <a:moveTo>
                  <a:pt x="60000" y="45557"/>
                </a:moveTo>
                <a:lnTo>
                  <a:pt x="60000" y="45557"/>
                </a:lnTo>
                <a:cubicBezTo>
                  <a:pt x="52627" y="45557"/>
                  <a:pt x="45000" y="39935"/>
                  <a:pt x="45000" y="34119"/>
                </a:cubicBezTo>
                <a:cubicBezTo>
                  <a:pt x="45000" y="25589"/>
                  <a:pt x="52627" y="22681"/>
                  <a:pt x="60000" y="22681"/>
                </a:cubicBezTo>
                <a:cubicBezTo>
                  <a:pt x="67627" y="22681"/>
                  <a:pt x="75000" y="25589"/>
                  <a:pt x="75000" y="34119"/>
                </a:cubicBezTo>
                <a:cubicBezTo>
                  <a:pt x="75000" y="39935"/>
                  <a:pt x="67627" y="45557"/>
                  <a:pt x="60000" y="45557"/>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4" name="Shape 4714"/>
          <p:cNvSpPr/>
          <p:nvPr/>
        </p:nvSpPr>
        <p:spPr>
          <a:xfrm>
            <a:off x="5451480" y="2557440"/>
            <a:ext cx="204840" cy="304920"/>
          </a:xfrm>
          <a:custGeom>
            <a:avLst/>
            <a:gdLst>
              <a:gd name="textAreaLeft" fmla="*/ 0 w 204840"/>
              <a:gd name="textAreaRight" fmla="*/ 205200 w 204840"/>
              <a:gd name="textAreaTop" fmla="*/ 0 h 304920"/>
              <a:gd name="textAreaBottom" fmla="*/ 305280 h 304920"/>
            </a:gdLst>
            <a:ahLst/>
            <a:rect l="textAreaLeft" t="textAreaTop" r="textAreaRight" b="textAreaBottom"/>
            <a:pathLst>
              <a:path w="120000" h="120000">
                <a:moveTo>
                  <a:pt x="115794" y="27823"/>
                </a:moveTo>
                <a:lnTo>
                  <a:pt x="115794" y="27823"/>
                </a:lnTo>
                <a:cubicBezTo>
                  <a:pt x="107383" y="11167"/>
                  <a:pt x="86635" y="0"/>
                  <a:pt x="61962" y="0"/>
                </a:cubicBezTo>
                <a:cubicBezTo>
                  <a:pt x="33084" y="0"/>
                  <a:pt x="12616" y="11167"/>
                  <a:pt x="8411" y="27823"/>
                </a:cubicBezTo>
                <a:cubicBezTo>
                  <a:pt x="4205" y="27823"/>
                  <a:pt x="0" y="30662"/>
                  <a:pt x="0" y="33501"/>
                </a:cubicBezTo>
                <a:cubicBezTo>
                  <a:pt x="0" y="41829"/>
                  <a:pt x="0" y="41829"/>
                  <a:pt x="0" y="41829"/>
                </a:cubicBezTo>
                <a:cubicBezTo>
                  <a:pt x="0" y="44479"/>
                  <a:pt x="4205" y="50157"/>
                  <a:pt x="12616" y="50157"/>
                </a:cubicBezTo>
                <a:lnTo>
                  <a:pt x="12616" y="50157"/>
                </a:lnTo>
                <a:cubicBezTo>
                  <a:pt x="16542" y="52996"/>
                  <a:pt x="20747" y="58485"/>
                  <a:pt x="29158" y="61324"/>
                </a:cubicBezTo>
                <a:cubicBezTo>
                  <a:pt x="37289" y="111482"/>
                  <a:pt x="37289" y="111482"/>
                  <a:pt x="37289" y="111482"/>
                </a:cubicBezTo>
                <a:cubicBezTo>
                  <a:pt x="37289" y="116971"/>
                  <a:pt x="45700" y="119810"/>
                  <a:pt x="49626" y="119810"/>
                </a:cubicBezTo>
                <a:cubicBezTo>
                  <a:pt x="70373" y="119810"/>
                  <a:pt x="70373" y="119810"/>
                  <a:pt x="70373" y="119810"/>
                </a:cubicBezTo>
                <a:cubicBezTo>
                  <a:pt x="78504" y="119810"/>
                  <a:pt x="82710" y="116971"/>
                  <a:pt x="82710" y="111482"/>
                </a:cubicBezTo>
                <a:cubicBezTo>
                  <a:pt x="95046" y="61324"/>
                  <a:pt x="95046" y="61324"/>
                  <a:pt x="95046" y="61324"/>
                </a:cubicBezTo>
                <a:cubicBezTo>
                  <a:pt x="99252" y="58485"/>
                  <a:pt x="107383" y="52996"/>
                  <a:pt x="111588" y="50157"/>
                </a:cubicBezTo>
                <a:lnTo>
                  <a:pt x="111588" y="50157"/>
                </a:lnTo>
                <a:cubicBezTo>
                  <a:pt x="115794" y="50157"/>
                  <a:pt x="119719" y="44479"/>
                  <a:pt x="119719" y="41829"/>
                </a:cubicBezTo>
                <a:cubicBezTo>
                  <a:pt x="119719" y="33501"/>
                  <a:pt x="119719" y="33501"/>
                  <a:pt x="119719" y="33501"/>
                </a:cubicBezTo>
                <a:cubicBezTo>
                  <a:pt x="119719" y="30662"/>
                  <a:pt x="119719" y="27823"/>
                  <a:pt x="115794" y="27823"/>
                </a:cubicBezTo>
                <a:close/>
                <a:moveTo>
                  <a:pt x="61962" y="8328"/>
                </a:moveTo>
                <a:lnTo>
                  <a:pt x="61962" y="8328"/>
                </a:lnTo>
                <a:cubicBezTo>
                  <a:pt x="78504" y="8328"/>
                  <a:pt x="99252" y="16656"/>
                  <a:pt x="103177" y="27823"/>
                </a:cubicBezTo>
                <a:cubicBezTo>
                  <a:pt x="16542" y="27823"/>
                  <a:pt x="16542" y="27823"/>
                  <a:pt x="16542" y="27823"/>
                </a:cubicBezTo>
                <a:cubicBezTo>
                  <a:pt x="24953" y="16656"/>
                  <a:pt x="41495" y="8328"/>
                  <a:pt x="61962" y="8328"/>
                </a:cubicBezTo>
                <a:close/>
                <a:moveTo>
                  <a:pt x="70373" y="105993"/>
                </a:moveTo>
                <a:lnTo>
                  <a:pt x="70373" y="105993"/>
                </a:lnTo>
                <a:cubicBezTo>
                  <a:pt x="70373" y="108643"/>
                  <a:pt x="70373" y="111482"/>
                  <a:pt x="66168" y="111482"/>
                </a:cubicBezTo>
                <a:cubicBezTo>
                  <a:pt x="53831" y="111482"/>
                  <a:pt x="53831" y="111482"/>
                  <a:pt x="53831" y="111482"/>
                </a:cubicBezTo>
                <a:cubicBezTo>
                  <a:pt x="49626" y="111482"/>
                  <a:pt x="49626" y="108643"/>
                  <a:pt x="49626" y="105993"/>
                </a:cubicBezTo>
                <a:cubicBezTo>
                  <a:pt x="37289" y="64164"/>
                  <a:pt x="37289" y="64164"/>
                  <a:pt x="37289" y="64164"/>
                </a:cubicBezTo>
                <a:cubicBezTo>
                  <a:pt x="45700" y="66813"/>
                  <a:pt x="53831" y="66813"/>
                  <a:pt x="61962" y="66813"/>
                </a:cubicBezTo>
                <a:cubicBezTo>
                  <a:pt x="70373" y="66813"/>
                  <a:pt x="74579" y="66813"/>
                  <a:pt x="82710" y="64164"/>
                </a:cubicBezTo>
                <a:lnTo>
                  <a:pt x="70373" y="105993"/>
                </a:lnTo>
                <a:close/>
                <a:moveTo>
                  <a:pt x="61962" y="61324"/>
                </a:moveTo>
                <a:lnTo>
                  <a:pt x="61962" y="61324"/>
                </a:lnTo>
                <a:cubicBezTo>
                  <a:pt x="45700" y="61324"/>
                  <a:pt x="33084" y="55646"/>
                  <a:pt x="24953" y="50157"/>
                </a:cubicBezTo>
                <a:cubicBezTo>
                  <a:pt x="95046" y="50157"/>
                  <a:pt x="95046" y="50157"/>
                  <a:pt x="95046" y="50157"/>
                </a:cubicBezTo>
                <a:cubicBezTo>
                  <a:pt x="86635" y="55646"/>
                  <a:pt x="74579" y="61324"/>
                  <a:pt x="61962" y="61324"/>
                </a:cubicBezTo>
                <a:close/>
                <a:moveTo>
                  <a:pt x="103177" y="41829"/>
                </a:moveTo>
                <a:lnTo>
                  <a:pt x="103177" y="41829"/>
                </a:lnTo>
                <a:cubicBezTo>
                  <a:pt x="16542" y="41829"/>
                  <a:pt x="16542" y="41829"/>
                  <a:pt x="16542" y="41829"/>
                </a:cubicBezTo>
                <a:cubicBezTo>
                  <a:pt x="12616" y="41829"/>
                  <a:pt x="12616" y="38990"/>
                  <a:pt x="12616" y="38990"/>
                </a:cubicBezTo>
                <a:cubicBezTo>
                  <a:pt x="12616" y="36340"/>
                  <a:pt x="12616" y="33501"/>
                  <a:pt x="16542" y="33501"/>
                </a:cubicBezTo>
                <a:cubicBezTo>
                  <a:pt x="103177" y="33501"/>
                  <a:pt x="103177" y="33501"/>
                  <a:pt x="103177" y="33501"/>
                </a:cubicBezTo>
                <a:cubicBezTo>
                  <a:pt x="107383" y="33501"/>
                  <a:pt x="111588" y="36340"/>
                  <a:pt x="111588" y="38990"/>
                </a:cubicBezTo>
                <a:cubicBezTo>
                  <a:pt x="111588" y="38990"/>
                  <a:pt x="107383" y="41829"/>
                  <a:pt x="103177" y="4182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5" name="Shape 4716"/>
          <p:cNvSpPr/>
          <p:nvPr/>
        </p:nvSpPr>
        <p:spPr>
          <a:xfrm>
            <a:off x="4432320" y="2557440"/>
            <a:ext cx="284040" cy="304920"/>
          </a:xfrm>
          <a:custGeom>
            <a:avLst/>
            <a:gdLst>
              <a:gd name="textAreaLeft" fmla="*/ 0 w 284040"/>
              <a:gd name="textAreaRight" fmla="*/ 284400 w 284040"/>
              <a:gd name="textAreaTop" fmla="*/ 0 h 304920"/>
              <a:gd name="textAreaBottom" fmla="*/ 305280 h 304920"/>
            </a:gdLst>
            <a:ahLst/>
            <a:rect l="textAreaLeft" t="textAreaTop" r="textAreaRight" b="textAreaBottom"/>
            <a:pathLst>
              <a:path w="120000" h="120000">
                <a:moveTo>
                  <a:pt x="92903" y="66813"/>
                </a:moveTo>
                <a:lnTo>
                  <a:pt x="92903" y="66813"/>
                </a:lnTo>
                <a:cubicBezTo>
                  <a:pt x="98811" y="66813"/>
                  <a:pt x="104923" y="64164"/>
                  <a:pt x="104923" y="55646"/>
                </a:cubicBezTo>
                <a:cubicBezTo>
                  <a:pt x="104923" y="50157"/>
                  <a:pt x="98811" y="44479"/>
                  <a:pt x="92903" y="44479"/>
                </a:cubicBezTo>
                <a:cubicBezTo>
                  <a:pt x="83938" y="44479"/>
                  <a:pt x="80882" y="50157"/>
                  <a:pt x="80882" y="55646"/>
                </a:cubicBezTo>
                <a:cubicBezTo>
                  <a:pt x="80882" y="64164"/>
                  <a:pt x="83938" y="66813"/>
                  <a:pt x="92903" y="66813"/>
                </a:cubicBezTo>
                <a:close/>
                <a:moveTo>
                  <a:pt x="86791" y="52996"/>
                </a:moveTo>
                <a:lnTo>
                  <a:pt x="86791" y="52996"/>
                </a:lnTo>
                <a:cubicBezTo>
                  <a:pt x="95959" y="52996"/>
                  <a:pt x="95959" y="52996"/>
                  <a:pt x="95959" y="52996"/>
                </a:cubicBezTo>
                <a:cubicBezTo>
                  <a:pt x="95959" y="61324"/>
                  <a:pt x="95959" y="61324"/>
                  <a:pt x="95959" y="61324"/>
                </a:cubicBezTo>
                <a:cubicBezTo>
                  <a:pt x="86791" y="61324"/>
                  <a:pt x="86791" y="61324"/>
                  <a:pt x="86791" y="61324"/>
                </a:cubicBezTo>
                <a:lnTo>
                  <a:pt x="86791" y="52996"/>
                </a:lnTo>
                <a:close/>
                <a:moveTo>
                  <a:pt x="92903" y="97476"/>
                </a:moveTo>
                <a:lnTo>
                  <a:pt x="92903" y="97476"/>
                </a:lnTo>
                <a:cubicBezTo>
                  <a:pt x="98811" y="97476"/>
                  <a:pt x="104923" y="91987"/>
                  <a:pt x="104923" y="86309"/>
                </a:cubicBezTo>
                <a:cubicBezTo>
                  <a:pt x="104923" y="80820"/>
                  <a:pt x="98811" y="75331"/>
                  <a:pt x="92903" y="75331"/>
                </a:cubicBezTo>
                <a:cubicBezTo>
                  <a:pt x="83938" y="75331"/>
                  <a:pt x="80882" y="80820"/>
                  <a:pt x="80882" y="86309"/>
                </a:cubicBezTo>
                <a:cubicBezTo>
                  <a:pt x="80882" y="91987"/>
                  <a:pt x="83938" y="97476"/>
                  <a:pt x="92903" y="97476"/>
                </a:cubicBezTo>
                <a:close/>
                <a:moveTo>
                  <a:pt x="86791" y="83659"/>
                </a:moveTo>
                <a:lnTo>
                  <a:pt x="86791" y="83659"/>
                </a:lnTo>
                <a:cubicBezTo>
                  <a:pt x="95959" y="83659"/>
                  <a:pt x="95959" y="83659"/>
                  <a:pt x="95959" y="83659"/>
                </a:cubicBezTo>
                <a:cubicBezTo>
                  <a:pt x="95959" y="89148"/>
                  <a:pt x="95959" y="89148"/>
                  <a:pt x="95959" y="89148"/>
                </a:cubicBezTo>
                <a:cubicBezTo>
                  <a:pt x="86791" y="89148"/>
                  <a:pt x="86791" y="89148"/>
                  <a:pt x="86791" y="89148"/>
                </a:cubicBezTo>
                <a:lnTo>
                  <a:pt x="86791" y="83659"/>
                </a:lnTo>
                <a:close/>
                <a:moveTo>
                  <a:pt x="104923" y="0"/>
                </a:moveTo>
                <a:lnTo>
                  <a:pt x="104923" y="0"/>
                </a:lnTo>
                <a:cubicBezTo>
                  <a:pt x="14872" y="0"/>
                  <a:pt x="14872" y="0"/>
                  <a:pt x="14872" y="0"/>
                </a:cubicBezTo>
                <a:cubicBezTo>
                  <a:pt x="5908" y="0"/>
                  <a:pt x="0" y="8328"/>
                  <a:pt x="0" y="16656"/>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656"/>
                  <a:pt x="119796" y="16656"/>
                  <a:pt x="119796" y="16656"/>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656"/>
                  <a:pt x="8964" y="16656"/>
                  <a:pt x="8964" y="16656"/>
                </a:cubicBezTo>
                <a:cubicBezTo>
                  <a:pt x="8964" y="11167"/>
                  <a:pt x="11816" y="8328"/>
                  <a:pt x="14872" y="8328"/>
                </a:cubicBezTo>
                <a:cubicBezTo>
                  <a:pt x="104923" y="8328"/>
                  <a:pt x="104923" y="8328"/>
                  <a:pt x="104923" y="8328"/>
                </a:cubicBezTo>
                <a:cubicBezTo>
                  <a:pt x="107979" y="8328"/>
                  <a:pt x="110831" y="11167"/>
                  <a:pt x="110831" y="16656"/>
                </a:cubicBezTo>
                <a:lnTo>
                  <a:pt x="110831" y="22334"/>
                </a:lnTo>
                <a:close/>
                <a:moveTo>
                  <a:pt x="59898" y="66813"/>
                </a:moveTo>
                <a:lnTo>
                  <a:pt x="59898" y="66813"/>
                </a:lnTo>
                <a:cubicBezTo>
                  <a:pt x="66010" y="66813"/>
                  <a:pt x="71918" y="64164"/>
                  <a:pt x="71918" y="55646"/>
                </a:cubicBezTo>
                <a:cubicBezTo>
                  <a:pt x="71918" y="50157"/>
                  <a:pt x="66010" y="44479"/>
                  <a:pt x="59898" y="44479"/>
                </a:cubicBezTo>
                <a:cubicBezTo>
                  <a:pt x="53989" y="44479"/>
                  <a:pt x="47877" y="50157"/>
                  <a:pt x="47877" y="55646"/>
                </a:cubicBezTo>
                <a:cubicBezTo>
                  <a:pt x="47877" y="64164"/>
                  <a:pt x="53989" y="66813"/>
                  <a:pt x="59898" y="66813"/>
                </a:cubicBezTo>
                <a:close/>
                <a:moveTo>
                  <a:pt x="56842" y="52996"/>
                </a:moveTo>
                <a:lnTo>
                  <a:pt x="56842" y="52996"/>
                </a:lnTo>
                <a:cubicBezTo>
                  <a:pt x="62954" y="52996"/>
                  <a:pt x="62954" y="52996"/>
                  <a:pt x="62954" y="52996"/>
                </a:cubicBezTo>
                <a:cubicBezTo>
                  <a:pt x="62954" y="61324"/>
                  <a:pt x="62954" y="61324"/>
                  <a:pt x="62954" y="61324"/>
                </a:cubicBezTo>
                <a:cubicBezTo>
                  <a:pt x="56842" y="61324"/>
                  <a:pt x="56842" y="61324"/>
                  <a:pt x="56842" y="61324"/>
                </a:cubicBezTo>
                <a:lnTo>
                  <a:pt x="56842" y="52996"/>
                </a:lnTo>
                <a:close/>
                <a:moveTo>
                  <a:pt x="26893" y="66813"/>
                </a:moveTo>
                <a:lnTo>
                  <a:pt x="26893" y="66813"/>
                </a:lnTo>
                <a:cubicBezTo>
                  <a:pt x="35857" y="66813"/>
                  <a:pt x="38913" y="64164"/>
                  <a:pt x="38913" y="55646"/>
                </a:cubicBezTo>
                <a:cubicBezTo>
                  <a:pt x="38913" y="50157"/>
                  <a:pt x="35857" y="44479"/>
                  <a:pt x="26893" y="44479"/>
                </a:cubicBezTo>
                <a:cubicBezTo>
                  <a:pt x="20984" y="44479"/>
                  <a:pt x="14872" y="50157"/>
                  <a:pt x="14872" y="55646"/>
                </a:cubicBezTo>
                <a:cubicBezTo>
                  <a:pt x="14872" y="64164"/>
                  <a:pt x="20984" y="66813"/>
                  <a:pt x="26893" y="66813"/>
                </a:cubicBezTo>
                <a:close/>
                <a:moveTo>
                  <a:pt x="23837" y="52996"/>
                </a:moveTo>
                <a:lnTo>
                  <a:pt x="23837" y="52996"/>
                </a:lnTo>
                <a:cubicBezTo>
                  <a:pt x="33005" y="52996"/>
                  <a:pt x="33005" y="52996"/>
                  <a:pt x="33005" y="52996"/>
                </a:cubicBezTo>
                <a:cubicBezTo>
                  <a:pt x="33005" y="61324"/>
                  <a:pt x="33005" y="61324"/>
                  <a:pt x="33005" y="61324"/>
                </a:cubicBezTo>
                <a:cubicBezTo>
                  <a:pt x="23837" y="61324"/>
                  <a:pt x="23837" y="61324"/>
                  <a:pt x="23837" y="61324"/>
                </a:cubicBezTo>
                <a:lnTo>
                  <a:pt x="23837" y="52996"/>
                </a:lnTo>
                <a:close/>
                <a:moveTo>
                  <a:pt x="59898" y="97476"/>
                </a:moveTo>
                <a:lnTo>
                  <a:pt x="59898" y="97476"/>
                </a:lnTo>
                <a:cubicBezTo>
                  <a:pt x="66010" y="97476"/>
                  <a:pt x="71918" y="91987"/>
                  <a:pt x="71918" y="86309"/>
                </a:cubicBezTo>
                <a:cubicBezTo>
                  <a:pt x="71918" y="80820"/>
                  <a:pt x="66010" y="75331"/>
                  <a:pt x="59898" y="75331"/>
                </a:cubicBezTo>
                <a:cubicBezTo>
                  <a:pt x="53989" y="75331"/>
                  <a:pt x="47877" y="80820"/>
                  <a:pt x="47877" y="86309"/>
                </a:cubicBezTo>
                <a:cubicBezTo>
                  <a:pt x="47877" y="91987"/>
                  <a:pt x="53989" y="97476"/>
                  <a:pt x="59898" y="97476"/>
                </a:cubicBezTo>
                <a:close/>
                <a:moveTo>
                  <a:pt x="56842" y="83659"/>
                </a:moveTo>
                <a:lnTo>
                  <a:pt x="56842" y="83659"/>
                </a:lnTo>
                <a:cubicBezTo>
                  <a:pt x="62954" y="83659"/>
                  <a:pt x="62954" y="83659"/>
                  <a:pt x="62954" y="83659"/>
                </a:cubicBezTo>
                <a:cubicBezTo>
                  <a:pt x="62954" y="89148"/>
                  <a:pt x="62954" y="89148"/>
                  <a:pt x="62954" y="89148"/>
                </a:cubicBezTo>
                <a:cubicBezTo>
                  <a:pt x="56842" y="89148"/>
                  <a:pt x="56842" y="89148"/>
                  <a:pt x="56842" y="89148"/>
                </a:cubicBezTo>
                <a:lnTo>
                  <a:pt x="56842" y="83659"/>
                </a:lnTo>
                <a:close/>
                <a:moveTo>
                  <a:pt x="26893" y="97476"/>
                </a:moveTo>
                <a:lnTo>
                  <a:pt x="26893" y="97476"/>
                </a:lnTo>
                <a:cubicBezTo>
                  <a:pt x="35857" y="97476"/>
                  <a:pt x="38913" y="91987"/>
                  <a:pt x="38913" y="86309"/>
                </a:cubicBezTo>
                <a:cubicBezTo>
                  <a:pt x="38913" y="80820"/>
                  <a:pt x="35857" y="75331"/>
                  <a:pt x="26893" y="75331"/>
                </a:cubicBezTo>
                <a:cubicBezTo>
                  <a:pt x="20984" y="75331"/>
                  <a:pt x="14872" y="80820"/>
                  <a:pt x="14872" y="86309"/>
                </a:cubicBezTo>
                <a:cubicBezTo>
                  <a:pt x="14872" y="91987"/>
                  <a:pt x="20984" y="97476"/>
                  <a:pt x="26893" y="97476"/>
                </a:cubicBezTo>
                <a:close/>
                <a:moveTo>
                  <a:pt x="23837" y="83659"/>
                </a:moveTo>
                <a:lnTo>
                  <a:pt x="23837" y="83659"/>
                </a:lnTo>
                <a:cubicBezTo>
                  <a:pt x="33005" y="83659"/>
                  <a:pt x="33005" y="83659"/>
                  <a:pt x="33005" y="83659"/>
                </a:cubicBezTo>
                <a:cubicBezTo>
                  <a:pt x="33005" y="89148"/>
                  <a:pt x="33005" y="89148"/>
                  <a:pt x="33005" y="89148"/>
                </a:cubicBezTo>
                <a:cubicBezTo>
                  <a:pt x="23837" y="89148"/>
                  <a:pt x="23837" y="89148"/>
                  <a:pt x="23837" y="89148"/>
                </a:cubicBezTo>
                <a:lnTo>
                  <a:pt x="23837" y="83659"/>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6" name="Shape 4718"/>
          <p:cNvSpPr/>
          <p:nvPr/>
        </p:nvSpPr>
        <p:spPr>
          <a:xfrm>
            <a:off x="3443400" y="2577960"/>
            <a:ext cx="304560" cy="262080"/>
          </a:xfrm>
          <a:custGeom>
            <a:avLst/>
            <a:gdLst>
              <a:gd name="textAreaLeft" fmla="*/ 0 w 304560"/>
              <a:gd name="textAreaRight" fmla="*/ 304920 w 304560"/>
              <a:gd name="textAreaTop" fmla="*/ 0 h 262080"/>
              <a:gd name="textAreaBottom" fmla="*/ 262440 h 262080"/>
            </a:gdLst>
            <a:ahLst/>
            <a:rect l="textAreaLeft" t="textAreaTop" r="textAreaRight" b="textAreaBottom"/>
            <a:pathLst>
              <a:path w="120000" h="120000">
                <a:moveTo>
                  <a:pt x="41829" y="51868"/>
                </a:moveTo>
                <a:lnTo>
                  <a:pt x="41829" y="51868"/>
                </a:lnTo>
                <a:cubicBezTo>
                  <a:pt x="19495" y="51868"/>
                  <a:pt x="19495" y="51868"/>
                  <a:pt x="19495" y="51868"/>
                </a:cubicBezTo>
                <a:cubicBezTo>
                  <a:pt x="16656" y="51868"/>
                  <a:pt x="13817" y="54945"/>
                  <a:pt x="13817" y="54945"/>
                </a:cubicBezTo>
                <a:cubicBezTo>
                  <a:pt x="13817" y="58241"/>
                  <a:pt x="16656" y="61538"/>
                  <a:pt x="19495" y="61538"/>
                </a:cubicBezTo>
                <a:cubicBezTo>
                  <a:pt x="41829" y="61538"/>
                  <a:pt x="41829" y="61538"/>
                  <a:pt x="41829" y="61538"/>
                </a:cubicBezTo>
                <a:cubicBezTo>
                  <a:pt x="41829" y="61538"/>
                  <a:pt x="44479" y="58241"/>
                  <a:pt x="44479" y="54945"/>
                </a:cubicBezTo>
                <a:lnTo>
                  <a:pt x="41829" y="51868"/>
                </a:lnTo>
                <a:close/>
                <a:moveTo>
                  <a:pt x="41829" y="87472"/>
                </a:moveTo>
                <a:lnTo>
                  <a:pt x="41829" y="87472"/>
                </a:lnTo>
                <a:cubicBezTo>
                  <a:pt x="19495" y="87472"/>
                  <a:pt x="19495" y="87472"/>
                  <a:pt x="19495" y="87472"/>
                </a:cubicBezTo>
                <a:cubicBezTo>
                  <a:pt x="16656" y="87472"/>
                  <a:pt x="13817" y="87472"/>
                  <a:pt x="13817" y="90549"/>
                </a:cubicBezTo>
                <a:cubicBezTo>
                  <a:pt x="13817" y="93846"/>
                  <a:pt x="16656" y="93846"/>
                  <a:pt x="19495" y="93846"/>
                </a:cubicBezTo>
                <a:cubicBezTo>
                  <a:pt x="41829" y="93846"/>
                  <a:pt x="41829" y="93846"/>
                  <a:pt x="41829" y="93846"/>
                </a:cubicBezTo>
                <a:cubicBezTo>
                  <a:pt x="41829" y="93846"/>
                  <a:pt x="44479" y="93846"/>
                  <a:pt x="44479" y="90549"/>
                </a:cubicBezTo>
                <a:cubicBezTo>
                  <a:pt x="44479" y="87472"/>
                  <a:pt x="41829" y="87472"/>
                  <a:pt x="41829" y="87472"/>
                </a:cubicBezTo>
                <a:close/>
                <a:moveTo>
                  <a:pt x="41829" y="67912"/>
                </a:moveTo>
                <a:lnTo>
                  <a:pt x="41829" y="67912"/>
                </a:lnTo>
                <a:cubicBezTo>
                  <a:pt x="19495" y="67912"/>
                  <a:pt x="19495" y="67912"/>
                  <a:pt x="19495" y="67912"/>
                </a:cubicBezTo>
                <a:cubicBezTo>
                  <a:pt x="16656" y="67912"/>
                  <a:pt x="13817" y="71208"/>
                  <a:pt x="13817" y="74505"/>
                </a:cubicBezTo>
                <a:cubicBezTo>
                  <a:pt x="13817" y="74505"/>
                  <a:pt x="16656" y="77802"/>
                  <a:pt x="19495" y="77802"/>
                </a:cubicBezTo>
                <a:cubicBezTo>
                  <a:pt x="41829" y="77802"/>
                  <a:pt x="41829" y="77802"/>
                  <a:pt x="41829" y="77802"/>
                </a:cubicBezTo>
                <a:lnTo>
                  <a:pt x="44479" y="74505"/>
                </a:lnTo>
                <a:cubicBezTo>
                  <a:pt x="44479" y="71208"/>
                  <a:pt x="41829" y="67912"/>
                  <a:pt x="41829" y="67912"/>
                </a:cubicBezTo>
                <a:close/>
                <a:moveTo>
                  <a:pt x="77981" y="48571"/>
                </a:moveTo>
                <a:lnTo>
                  <a:pt x="77981" y="48571"/>
                </a:lnTo>
                <a:cubicBezTo>
                  <a:pt x="66813" y="48571"/>
                  <a:pt x="55646" y="58241"/>
                  <a:pt x="55646" y="74505"/>
                </a:cubicBezTo>
                <a:cubicBezTo>
                  <a:pt x="55646" y="87472"/>
                  <a:pt x="66813" y="100439"/>
                  <a:pt x="77981" y="100439"/>
                </a:cubicBezTo>
                <a:cubicBezTo>
                  <a:pt x="89148" y="100439"/>
                  <a:pt x="100315" y="87472"/>
                  <a:pt x="100315" y="74505"/>
                </a:cubicBezTo>
                <a:cubicBezTo>
                  <a:pt x="100315" y="58241"/>
                  <a:pt x="89148" y="48571"/>
                  <a:pt x="77981" y="48571"/>
                </a:cubicBezTo>
                <a:close/>
                <a:moveTo>
                  <a:pt x="77981" y="90549"/>
                </a:moveTo>
                <a:lnTo>
                  <a:pt x="77981" y="90549"/>
                </a:lnTo>
                <a:cubicBezTo>
                  <a:pt x="69652" y="90549"/>
                  <a:pt x="63974" y="84175"/>
                  <a:pt x="63974" y="74505"/>
                </a:cubicBezTo>
                <a:cubicBezTo>
                  <a:pt x="63974" y="64835"/>
                  <a:pt x="69652" y="54945"/>
                  <a:pt x="77981" y="54945"/>
                </a:cubicBezTo>
                <a:cubicBezTo>
                  <a:pt x="86309" y="54945"/>
                  <a:pt x="91798" y="64835"/>
                  <a:pt x="91798" y="74505"/>
                </a:cubicBezTo>
                <a:cubicBezTo>
                  <a:pt x="91798" y="84175"/>
                  <a:pt x="86309" y="90549"/>
                  <a:pt x="77981" y="90549"/>
                </a:cubicBezTo>
                <a:close/>
                <a:moveTo>
                  <a:pt x="102965" y="25934"/>
                </a:moveTo>
                <a:lnTo>
                  <a:pt x="102965" y="25934"/>
                </a:lnTo>
                <a:cubicBezTo>
                  <a:pt x="97476" y="25934"/>
                  <a:pt x="97476" y="25934"/>
                  <a:pt x="97476" y="25934"/>
                </a:cubicBezTo>
                <a:cubicBezTo>
                  <a:pt x="55646" y="0"/>
                  <a:pt x="55646" y="0"/>
                  <a:pt x="55646" y="0"/>
                </a:cubicBezTo>
                <a:cubicBezTo>
                  <a:pt x="55646" y="0"/>
                  <a:pt x="52807" y="0"/>
                  <a:pt x="52807" y="3296"/>
                </a:cubicBezTo>
                <a:cubicBezTo>
                  <a:pt x="50157" y="3296"/>
                  <a:pt x="52807" y="6593"/>
                  <a:pt x="52807" y="6593"/>
                </a:cubicBezTo>
                <a:cubicBezTo>
                  <a:pt x="80630" y="25934"/>
                  <a:pt x="80630" y="25934"/>
                  <a:pt x="80630" y="25934"/>
                </a:cubicBezTo>
                <a:cubicBezTo>
                  <a:pt x="13817" y="25934"/>
                  <a:pt x="13817" y="25934"/>
                  <a:pt x="13817" y="25934"/>
                </a:cubicBezTo>
                <a:cubicBezTo>
                  <a:pt x="5488" y="25934"/>
                  <a:pt x="0" y="32527"/>
                  <a:pt x="0" y="41978"/>
                </a:cubicBezTo>
                <a:cubicBezTo>
                  <a:pt x="0" y="103516"/>
                  <a:pt x="0" y="103516"/>
                  <a:pt x="0" y="103516"/>
                </a:cubicBezTo>
                <a:cubicBezTo>
                  <a:pt x="0" y="113406"/>
                  <a:pt x="5488" y="119780"/>
                  <a:pt x="13817" y="119780"/>
                </a:cubicBezTo>
                <a:cubicBezTo>
                  <a:pt x="102965" y="119780"/>
                  <a:pt x="102965" y="119780"/>
                  <a:pt x="102965" y="119780"/>
                </a:cubicBezTo>
                <a:cubicBezTo>
                  <a:pt x="111293" y="119780"/>
                  <a:pt x="119810" y="113406"/>
                  <a:pt x="119810" y="103516"/>
                </a:cubicBezTo>
                <a:cubicBezTo>
                  <a:pt x="119810" y="41978"/>
                  <a:pt x="119810" y="41978"/>
                  <a:pt x="119810" y="41978"/>
                </a:cubicBezTo>
                <a:cubicBezTo>
                  <a:pt x="119810" y="32527"/>
                  <a:pt x="111293" y="25934"/>
                  <a:pt x="102965" y="25934"/>
                </a:cubicBezTo>
                <a:close/>
                <a:moveTo>
                  <a:pt x="111293" y="103516"/>
                </a:moveTo>
                <a:lnTo>
                  <a:pt x="111293" y="103516"/>
                </a:lnTo>
                <a:cubicBezTo>
                  <a:pt x="111293" y="106813"/>
                  <a:pt x="108643" y="113406"/>
                  <a:pt x="102965" y="113406"/>
                </a:cubicBezTo>
                <a:cubicBezTo>
                  <a:pt x="13817" y="113406"/>
                  <a:pt x="13817" y="113406"/>
                  <a:pt x="13817" y="113406"/>
                </a:cubicBezTo>
                <a:cubicBezTo>
                  <a:pt x="10977" y="113406"/>
                  <a:pt x="8328" y="106813"/>
                  <a:pt x="8328" y="103516"/>
                </a:cubicBezTo>
                <a:cubicBezTo>
                  <a:pt x="8328" y="41978"/>
                  <a:pt x="8328" y="41978"/>
                  <a:pt x="8328" y="41978"/>
                </a:cubicBezTo>
                <a:cubicBezTo>
                  <a:pt x="8328" y="38901"/>
                  <a:pt x="10977" y="35604"/>
                  <a:pt x="13817" y="35604"/>
                </a:cubicBezTo>
                <a:cubicBezTo>
                  <a:pt x="102965" y="35604"/>
                  <a:pt x="102965" y="35604"/>
                  <a:pt x="102965" y="35604"/>
                </a:cubicBezTo>
                <a:cubicBezTo>
                  <a:pt x="108643" y="35604"/>
                  <a:pt x="111293" y="38901"/>
                  <a:pt x="111293" y="41978"/>
                </a:cubicBezTo>
                <a:lnTo>
                  <a:pt x="111293" y="103516"/>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7" name="Shape 4720"/>
          <p:cNvSpPr/>
          <p:nvPr/>
        </p:nvSpPr>
        <p:spPr>
          <a:xfrm>
            <a:off x="2459160" y="2577960"/>
            <a:ext cx="304560" cy="262080"/>
          </a:xfrm>
          <a:custGeom>
            <a:avLst/>
            <a:gdLst>
              <a:gd name="textAreaLeft" fmla="*/ 0 w 304560"/>
              <a:gd name="textAreaRight" fmla="*/ 304920 w 304560"/>
              <a:gd name="textAreaTop" fmla="*/ 0 h 262080"/>
              <a:gd name="textAreaBottom" fmla="*/ 262440 h 262080"/>
            </a:gdLst>
            <a:ahLst/>
            <a:rect l="textAreaLeft" t="textAreaTop" r="textAreaRight" b="textAreaBottom"/>
            <a:pathLst>
              <a:path w="120000" h="120000">
                <a:moveTo>
                  <a:pt x="111482" y="51868"/>
                </a:moveTo>
                <a:lnTo>
                  <a:pt x="111482" y="51868"/>
                </a:lnTo>
                <a:cubicBezTo>
                  <a:pt x="89148" y="67912"/>
                  <a:pt x="89148" y="67912"/>
                  <a:pt x="89148" y="67912"/>
                </a:cubicBezTo>
                <a:cubicBezTo>
                  <a:pt x="89148" y="64835"/>
                  <a:pt x="89148" y="58241"/>
                  <a:pt x="83659" y="54945"/>
                </a:cubicBezTo>
                <a:cubicBezTo>
                  <a:pt x="91987" y="51868"/>
                  <a:pt x="97665" y="41978"/>
                  <a:pt x="97665" y="29230"/>
                </a:cubicBezTo>
                <a:cubicBezTo>
                  <a:pt x="97665" y="12967"/>
                  <a:pt x="86498" y="0"/>
                  <a:pt x="72492" y="0"/>
                </a:cubicBezTo>
                <a:cubicBezTo>
                  <a:pt x="58675" y="0"/>
                  <a:pt x="44668" y="12967"/>
                  <a:pt x="44668" y="29230"/>
                </a:cubicBezTo>
                <a:cubicBezTo>
                  <a:pt x="44668" y="38901"/>
                  <a:pt x="47507" y="45494"/>
                  <a:pt x="52996" y="51868"/>
                </a:cubicBezTo>
                <a:cubicBezTo>
                  <a:pt x="39179" y="51868"/>
                  <a:pt x="39179" y="51868"/>
                  <a:pt x="39179" y="51868"/>
                </a:cubicBezTo>
                <a:cubicBezTo>
                  <a:pt x="44668" y="48571"/>
                  <a:pt x="44668" y="41978"/>
                  <a:pt x="44668" y="35604"/>
                </a:cubicBezTo>
                <a:cubicBezTo>
                  <a:pt x="44668" y="19560"/>
                  <a:pt x="36340" y="9670"/>
                  <a:pt x="22334" y="9670"/>
                </a:cubicBezTo>
                <a:cubicBezTo>
                  <a:pt x="11167" y="9670"/>
                  <a:pt x="0" y="19560"/>
                  <a:pt x="0" y="35604"/>
                </a:cubicBezTo>
                <a:cubicBezTo>
                  <a:pt x="0" y="41978"/>
                  <a:pt x="2839" y="48571"/>
                  <a:pt x="8328" y="54945"/>
                </a:cubicBezTo>
                <a:cubicBezTo>
                  <a:pt x="2839" y="58241"/>
                  <a:pt x="0" y="61538"/>
                  <a:pt x="0" y="67912"/>
                </a:cubicBezTo>
                <a:cubicBezTo>
                  <a:pt x="0" y="103516"/>
                  <a:pt x="0" y="103516"/>
                  <a:pt x="0" y="103516"/>
                </a:cubicBezTo>
                <a:cubicBezTo>
                  <a:pt x="0" y="113406"/>
                  <a:pt x="8328" y="119780"/>
                  <a:pt x="16845" y="119780"/>
                </a:cubicBezTo>
                <a:cubicBezTo>
                  <a:pt x="75331" y="119780"/>
                  <a:pt x="75331" y="119780"/>
                  <a:pt x="75331" y="119780"/>
                </a:cubicBezTo>
                <a:cubicBezTo>
                  <a:pt x="83659" y="119780"/>
                  <a:pt x="89148" y="113406"/>
                  <a:pt x="89148" y="103516"/>
                </a:cubicBezTo>
                <a:cubicBezTo>
                  <a:pt x="89148" y="100439"/>
                  <a:pt x="89148" y="100439"/>
                  <a:pt x="89148" y="100439"/>
                </a:cubicBezTo>
                <a:cubicBezTo>
                  <a:pt x="111482" y="119780"/>
                  <a:pt x="111482" y="119780"/>
                  <a:pt x="111482" y="119780"/>
                </a:cubicBezTo>
                <a:cubicBezTo>
                  <a:pt x="117160" y="119780"/>
                  <a:pt x="119810" y="116483"/>
                  <a:pt x="119810" y="113406"/>
                </a:cubicBezTo>
                <a:cubicBezTo>
                  <a:pt x="119810" y="61538"/>
                  <a:pt x="119810" y="61538"/>
                  <a:pt x="119810" y="61538"/>
                </a:cubicBezTo>
                <a:cubicBezTo>
                  <a:pt x="119810" y="54945"/>
                  <a:pt x="117160" y="51868"/>
                  <a:pt x="111482" y="51868"/>
                </a:cubicBezTo>
                <a:close/>
                <a:moveTo>
                  <a:pt x="8328" y="35604"/>
                </a:moveTo>
                <a:lnTo>
                  <a:pt x="8328" y="35604"/>
                </a:lnTo>
                <a:cubicBezTo>
                  <a:pt x="8328" y="25934"/>
                  <a:pt x="14006" y="16263"/>
                  <a:pt x="22334" y="16263"/>
                </a:cubicBezTo>
                <a:cubicBezTo>
                  <a:pt x="30662" y="16263"/>
                  <a:pt x="39179" y="25934"/>
                  <a:pt x="39179" y="35604"/>
                </a:cubicBezTo>
                <a:cubicBezTo>
                  <a:pt x="39179" y="45494"/>
                  <a:pt x="30662" y="51868"/>
                  <a:pt x="22334" y="51868"/>
                </a:cubicBezTo>
                <a:cubicBezTo>
                  <a:pt x="14006" y="51868"/>
                  <a:pt x="8328" y="45494"/>
                  <a:pt x="8328" y="35604"/>
                </a:cubicBezTo>
                <a:close/>
                <a:moveTo>
                  <a:pt x="83659" y="103516"/>
                </a:moveTo>
                <a:lnTo>
                  <a:pt x="83659" y="103516"/>
                </a:lnTo>
                <a:cubicBezTo>
                  <a:pt x="83659" y="106813"/>
                  <a:pt x="77981" y="113406"/>
                  <a:pt x="75331" y="113406"/>
                </a:cubicBezTo>
                <a:cubicBezTo>
                  <a:pt x="16845" y="113406"/>
                  <a:pt x="16845" y="113406"/>
                  <a:pt x="16845" y="113406"/>
                </a:cubicBezTo>
                <a:cubicBezTo>
                  <a:pt x="11167" y="113406"/>
                  <a:pt x="8328" y="106813"/>
                  <a:pt x="8328" y="103516"/>
                </a:cubicBezTo>
                <a:cubicBezTo>
                  <a:pt x="8328" y="67912"/>
                  <a:pt x="8328" y="67912"/>
                  <a:pt x="8328" y="67912"/>
                </a:cubicBezTo>
                <a:cubicBezTo>
                  <a:pt x="8328" y="64835"/>
                  <a:pt x="11167" y="61538"/>
                  <a:pt x="16845" y="61538"/>
                </a:cubicBezTo>
                <a:cubicBezTo>
                  <a:pt x="75331" y="61538"/>
                  <a:pt x="75331" y="61538"/>
                  <a:pt x="75331" y="61538"/>
                </a:cubicBezTo>
                <a:cubicBezTo>
                  <a:pt x="77981" y="61538"/>
                  <a:pt x="83659" y="64835"/>
                  <a:pt x="83659" y="67912"/>
                </a:cubicBezTo>
                <a:lnTo>
                  <a:pt x="83659" y="103516"/>
                </a:lnTo>
                <a:close/>
                <a:moveTo>
                  <a:pt x="72492" y="51868"/>
                </a:moveTo>
                <a:lnTo>
                  <a:pt x="72492" y="51868"/>
                </a:lnTo>
                <a:cubicBezTo>
                  <a:pt x="61324" y="51868"/>
                  <a:pt x="52996" y="41978"/>
                  <a:pt x="52996" y="29230"/>
                </a:cubicBezTo>
                <a:cubicBezTo>
                  <a:pt x="52996" y="19560"/>
                  <a:pt x="61324" y="9670"/>
                  <a:pt x="72492" y="9670"/>
                </a:cubicBezTo>
                <a:cubicBezTo>
                  <a:pt x="80820" y="9670"/>
                  <a:pt x="89148" y="19560"/>
                  <a:pt x="89148" y="29230"/>
                </a:cubicBezTo>
                <a:cubicBezTo>
                  <a:pt x="89148" y="41978"/>
                  <a:pt x="80820" y="51868"/>
                  <a:pt x="72492" y="51868"/>
                </a:cubicBezTo>
                <a:close/>
                <a:moveTo>
                  <a:pt x="111482" y="113406"/>
                </a:moveTo>
                <a:lnTo>
                  <a:pt x="111482" y="113406"/>
                </a:lnTo>
                <a:cubicBezTo>
                  <a:pt x="89148" y="90549"/>
                  <a:pt x="89148" y="90549"/>
                  <a:pt x="89148" y="90549"/>
                </a:cubicBezTo>
                <a:cubicBezTo>
                  <a:pt x="89148" y="87472"/>
                  <a:pt x="89148" y="80879"/>
                  <a:pt x="89148" y="77802"/>
                </a:cubicBezTo>
                <a:cubicBezTo>
                  <a:pt x="111482" y="61538"/>
                  <a:pt x="111482" y="61538"/>
                  <a:pt x="111482" y="61538"/>
                </a:cubicBezTo>
                <a:cubicBezTo>
                  <a:pt x="111482" y="67912"/>
                  <a:pt x="111482" y="110109"/>
                  <a:pt x="111482" y="11340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8" name="Shape 4722"/>
          <p:cNvSpPr/>
          <p:nvPr/>
        </p:nvSpPr>
        <p:spPr>
          <a:xfrm>
            <a:off x="1539720" y="2557440"/>
            <a:ext cx="185760" cy="304920"/>
          </a:xfrm>
          <a:custGeom>
            <a:avLst/>
            <a:gdLst>
              <a:gd name="textAreaLeft" fmla="*/ 0 w 185760"/>
              <a:gd name="textAreaRight" fmla="*/ 186120 w 185760"/>
              <a:gd name="textAreaTop" fmla="*/ 0 h 304920"/>
              <a:gd name="textAreaBottom" fmla="*/ 305280 h 304920"/>
            </a:gdLst>
            <a:ahLst/>
            <a:rect l="textAreaLeft" t="textAreaTop" r="textAreaRight" b="textAreaBottom"/>
            <a:pathLst>
              <a:path w="120000" h="120000">
                <a:moveTo>
                  <a:pt x="59843" y="30662"/>
                </a:moveTo>
                <a:lnTo>
                  <a:pt x="59843" y="30662"/>
                </a:lnTo>
                <a:cubicBezTo>
                  <a:pt x="55143" y="30662"/>
                  <a:pt x="55143" y="33501"/>
                  <a:pt x="55143" y="33501"/>
                </a:cubicBezTo>
                <a:cubicBezTo>
                  <a:pt x="55143" y="50157"/>
                  <a:pt x="55143" y="50157"/>
                  <a:pt x="55143" y="50157"/>
                </a:cubicBezTo>
                <a:cubicBezTo>
                  <a:pt x="55143" y="50157"/>
                  <a:pt x="55143" y="52996"/>
                  <a:pt x="59843" y="52996"/>
                </a:cubicBezTo>
                <a:cubicBezTo>
                  <a:pt x="64543" y="52996"/>
                  <a:pt x="64543" y="50157"/>
                  <a:pt x="64543" y="50157"/>
                </a:cubicBezTo>
                <a:cubicBezTo>
                  <a:pt x="64543" y="33501"/>
                  <a:pt x="64543" y="33501"/>
                  <a:pt x="64543" y="33501"/>
                </a:cubicBezTo>
                <a:cubicBezTo>
                  <a:pt x="64543" y="33501"/>
                  <a:pt x="64543" y="30662"/>
                  <a:pt x="59843" y="30662"/>
                </a:cubicBezTo>
                <a:close/>
                <a:moveTo>
                  <a:pt x="96814" y="16656"/>
                </a:moveTo>
                <a:lnTo>
                  <a:pt x="96814" y="16656"/>
                </a:lnTo>
                <a:cubicBezTo>
                  <a:pt x="64543" y="16656"/>
                  <a:pt x="64543" y="16656"/>
                  <a:pt x="64543" y="16656"/>
                </a:cubicBezTo>
                <a:cubicBezTo>
                  <a:pt x="64543" y="0"/>
                  <a:pt x="64543" y="0"/>
                  <a:pt x="64543" y="0"/>
                </a:cubicBezTo>
                <a:cubicBezTo>
                  <a:pt x="41357" y="0"/>
                  <a:pt x="41357" y="0"/>
                  <a:pt x="41357" y="0"/>
                </a:cubicBezTo>
                <a:cubicBezTo>
                  <a:pt x="36657" y="0"/>
                  <a:pt x="36657" y="2839"/>
                  <a:pt x="36657" y="5678"/>
                </a:cubicBezTo>
                <a:cubicBezTo>
                  <a:pt x="36657" y="5678"/>
                  <a:pt x="36657" y="8328"/>
                  <a:pt x="41357" y="8328"/>
                </a:cubicBezTo>
                <a:cubicBezTo>
                  <a:pt x="55143" y="8328"/>
                  <a:pt x="55143" y="8328"/>
                  <a:pt x="55143" y="8328"/>
                </a:cubicBezTo>
                <a:cubicBezTo>
                  <a:pt x="55143" y="16656"/>
                  <a:pt x="55143" y="16656"/>
                  <a:pt x="55143" y="16656"/>
                </a:cubicBezTo>
                <a:cubicBezTo>
                  <a:pt x="22872" y="16656"/>
                  <a:pt x="22872" y="16656"/>
                  <a:pt x="22872" y="16656"/>
                </a:cubicBezTo>
                <a:cubicBezTo>
                  <a:pt x="9086" y="16656"/>
                  <a:pt x="0" y="22334"/>
                  <a:pt x="0" y="30662"/>
                </a:cubicBezTo>
                <a:cubicBezTo>
                  <a:pt x="0" y="105993"/>
                  <a:pt x="0" y="105993"/>
                  <a:pt x="0" y="105993"/>
                </a:cubicBezTo>
                <a:cubicBezTo>
                  <a:pt x="0" y="114321"/>
                  <a:pt x="9086" y="119810"/>
                  <a:pt x="22872" y="119810"/>
                </a:cubicBezTo>
                <a:cubicBezTo>
                  <a:pt x="96814" y="119810"/>
                  <a:pt x="96814" y="119810"/>
                  <a:pt x="96814" y="119810"/>
                </a:cubicBezTo>
                <a:cubicBezTo>
                  <a:pt x="110600" y="119810"/>
                  <a:pt x="119686" y="114321"/>
                  <a:pt x="119686" y="105993"/>
                </a:cubicBezTo>
                <a:cubicBezTo>
                  <a:pt x="119686" y="30662"/>
                  <a:pt x="119686" y="30662"/>
                  <a:pt x="119686" y="30662"/>
                </a:cubicBezTo>
                <a:cubicBezTo>
                  <a:pt x="119686" y="22334"/>
                  <a:pt x="110600" y="16656"/>
                  <a:pt x="96814" y="16656"/>
                </a:cubicBezTo>
                <a:close/>
                <a:moveTo>
                  <a:pt x="110600" y="105993"/>
                </a:moveTo>
                <a:lnTo>
                  <a:pt x="110600" y="105993"/>
                </a:lnTo>
                <a:cubicBezTo>
                  <a:pt x="110600" y="108643"/>
                  <a:pt x="101201" y="111482"/>
                  <a:pt x="96814" y="111482"/>
                </a:cubicBezTo>
                <a:cubicBezTo>
                  <a:pt x="22872" y="111482"/>
                  <a:pt x="22872" y="111482"/>
                  <a:pt x="22872" y="111482"/>
                </a:cubicBezTo>
                <a:cubicBezTo>
                  <a:pt x="18485" y="111482"/>
                  <a:pt x="9086" y="108643"/>
                  <a:pt x="9086" y="105993"/>
                </a:cubicBezTo>
                <a:cubicBezTo>
                  <a:pt x="9086" y="30662"/>
                  <a:pt x="9086" y="30662"/>
                  <a:pt x="9086" y="30662"/>
                </a:cubicBezTo>
                <a:cubicBezTo>
                  <a:pt x="9086" y="27823"/>
                  <a:pt x="18485" y="22334"/>
                  <a:pt x="22872" y="22334"/>
                </a:cubicBezTo>
                <a:cubicBezTo>
                  <a:pt x="96814" y="22334"/>
                  <a:pt x="96814" y="22334"/>
                  <a:pt x="96814" y="22334"/>
                </a:cubicBezTo>
                <a:cubicBezTo>
                  <a:pt x="101201" y="22334"/>
                  <a:pt x="110600" y="27823"/>
                  <a:pt x="110600" y="30662"/>
                </a:cubicBezTo>
                <a:lnTo>
                  <a:pt x="110600" y="105993"/>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9" name="Shape 4724"/>
          <p:cNvSpPr/>
          <p:nvPr/>
        </p:nvSpPr>
        <p:spPr>
          <a:xfrm>
            <a:off x="5445000" y="2066760"/>
            <a:ext cx="211320" cy="306720"/>
          </a:xfrm>
          <a:custGeom>
            <a:avLst/>
            <a:gdLst>
              <a:gd name="textAreaLeft" fmla="*/ 0 w 211320"/>
              <a:gd name="textAreaRight" fmla="*/ 211680 w 211320"/>
              <a:gd name="textAreaTop" fmla="*/ 0 h 306720"/>
              <a:gd name="textAreaBottom" fmla="*/ 307080 h 306720"/>
            </a:gdLst>
            <a:ahLst/>
            <a:rect l="textAreaLeft" t="textAreaTop" r="textAreaRight" b="textAreaBottom"/>
            <a:pathLst>
              <a:path w="120000" h="120000">
                <a:moveTo>
                  <a:pt x="99909" y="0"/>
                </a:moveTo>
                <a:lnTo>
                  <a:pt x="99909" y="0"/>
                </a:lnTo>
                <a:cubicBezTo>
                  <a:pt x="19819" y="0"/>
                  <a:pt x="19819" y="0"/>
                  <a:pt x="19819" y="0"/>
                </a:cubicBezTo>
                <a:cubicBezTo>
                  <a:pt x="7873" y="0"/>
                  <a:pt x="0" y="5678"/>
                  <a:pt x="0" y="14006"/>
                </a:cubicBezTo>
                <a:cubicBezTo>
                  <a:pt x="0" y="103154"/>
                  <a:pt x="0" y="103154"/>
                  <a:pt x="0" y="103154"/>
                </a:cubicBezTo>
                <a:cubicBezTo>
                  <a:pt x="0" y="111482"/>
                  <a:pt x="7873" y="119810"/>
                  <a:pt x="19819" y="119810"/>
                </a:cubicBezTo>
                <a:cubicBezTo>
                  <a:pt x="99909" y="119810"/>
                  <a:pt x="99909" y="119810"/>
                  <a:pt x="99909" y="119810"/>
                </a:cubicBezTo>
                <a:cubicBezTo>
                  <a:pt x="111855" y="119810"/>
                  <a:pt x="119728" y="111482"/>
                  <a:pt x="119728" y="103154"/>
                </a:cubicBezTo>
                <a:cubicBezTo>
                  <a:pt x="119728" y="14006"/>
                  <a:pt x="119728" y="14006"/>
                  <a:pt x="119728" y="14006"/>
                </a:cubicBezTo>
                <a:cubicBezTo>
                  <a:pt x="119728" y="5678"/>
                  <a:pt x="111855" y="0"/>
                  <a:pt x="99909" y="0"/>
                </a:cubicBezTo>
                <a:close/>
                <a:moveTo>
                  <a:pt x="111855" y="103154"/>
                </a:moveTo>
                <a:lnTo>
                  <a:pt x="111855" y="103154"/>
                </a:lnTo>
                <a:cubicBezTo>
                  <a:pt x="111855" y="108643"/>
                  <a:pt x="103710" y="111482"/>
                  <a:pt x="99909" y="111482"/>
                </a:cubicBezTo>
                <a:cubicBezTo>
                  <a:pt x="19819" y="111482"/>
                  <a:pt x="19819" y="111482"/>
                  <a:pt x="19819" y="111482"/>
                </a:cubicBezTo>
                <a:cubicBezTo>
                  <a:pt x="16018" y="111482"/>
                  <a:pt x="7873" y="108643"/>
                  <a:pt x="7873" y="103154"/>
                </a:cubicBezTo>
                <a:cubicBezTo>
                  <a:pt x="7873" y="91987"/>
                  <a:pt x="7873" y="91987"/>
                  <a:pt x="7873" y="91987"/>
                </a:cubicBezTo>
                <a:cubicBezTo>
                  <a:pt x="111855" y="91987"/>
                  <a:pt x="111855" y="91987"/>
                  <a:pt x="111855" y="91987"/>
                </a:cubicBezTo>
                <a:lnTo>
                  <a:pt x="111855" y="103154"/>
                </a:lnTo>
                <a:close/>
                <a:moveTo>
                  <a:pt x="111855" y="86498"/>
                </a:moveTo>
                <a:lnTo>
                  <a:pt x="111855" y="86498"/>
                </a:lnTo>
                <a:cubicBezTo>
                  <a:pt x="7873" y="86498"/>
                  <a:pt x="7873" y="86498"/>
                  <a:pt x="7873" y="86498"/>
                </a:cubicBezTo>
                <a:cubicBezTo>
                  <a:pt x="7873" y="25173"/>
                  <a:pt x="7873" y="25173"/>
                  <a:pt x="7873" y="25173"/>
                </a:cubicBezTo>
                <a:cubicBezTo>
                  <a:pt x="111855" y="25173"/>
                  <a:pt x="111855" y="25173"/>
                  <a:pt x="111855" y="25173"/>
                </a:cubicBezTo>
                <a:lnTo>
                  <a:pt x="111855" y="86498"/>
                </a:lnTo>
                <a:close/>
                <a:moveTo>
                  <a:pt x="111855" y="19495"/>
                </a:moveTo>
                <a:lnTo>
                  <a:pt x="111855" y="19495"/>
                </a:lnTo>
                <a:cubicBezTo>
                  <a:pt x="7873" y="19495"/>
                  <a:pt x="7873" y="19495"/>
                  <a:pt x="7873" y="19495"/>
                </a:cubicBezTo>
                <a:cubicBezTo>
                  <a:pt x="7873" y="14006"/>
                  <a:pt x="7873" y="14006"/>
                  <a:pt x="7873" y="14006"/>
                </a:cubicBezTo>
                <a:cubicBezTo>
                  <a:pt x="7873" y="11167"/>
                  <a:pt x="16018" y="8328"/>
                  <a:pt x="19819" y="8328"/>
                </a:cubicBezTo>
                <a:cubicBezTo>
                  <a:pt x="99909" y="8328"/>
                  <a:pt x="99909" y="8328"/>
                  <a:pt x="99909" y="8328"/>
                </a:cubicBezTo>
                <a:cubicBezTo>
                  <a:pt x="103710" y="8328"/>
                  <a:pt x="111855" y="11167"/>
                  <a:pt x="111855" y="14006"/>
                </a:cubicBezTo>
                <a:lnTo>
                  <a:pt x="111855" y="19495"/>
                </a:lnTo>
                <a:close/>
                <a:moveTo>
                  <a:pt x="60000" y="108643"/>
                </a:moveTo>
                <a:lnTo>
                  <a:pt x="60000" y="108643"/>
                </a:lnTo>
                <a:cubicBezTo>
                  <a:pt x="63800" y="108643"/>
                  <a:pt x="67873" y="105993"/>
                  <a:pt x="67873" y="103154"/>
                </a:cubicBezTo>
                <a:cubicBezTo>
                  <a:pt x="67873" y="100315"/>
                  <a:pt x="63800" y="97665"/>
                  <a:pt x="60000" y="97665"/>
                </a:cubicBezTo>
                <a:cubicBezTo>
                  <a:pt x="55927" y="97665"/>
                  <a:pt x="51855" y="100315"/>
                  <a:pt x="51855" y="103154"/>
                </a:cubicBezTo>
                <a:cubicBezTo>
                  <a:pt x="51855" y="105993"/>
                  <a:pt x="55927" y="108643"/>
                  <a:pt x="60000" y="108643"/>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0" name="Shape 4726"/>
          <p:cNvSpPr/>
          <p:nvPr/>
        </p:nvSpPr>
        <p:spPr>
          <a:xfrm>
            <a:off x="4454640" y="2066760"/>
            <a:ext cx="241200" cy="306720"/>
          </a:xfrm>
          <a:custGeom>
            <a:avLst/>
            <a:gdLst>
              <a:gd name="textAreaLeft" fmla="*/ 0 w 241200"/>
              <a:gd name="textAreaRight" fmla="*/ 241560 w 241200"/>
              <a:gd name="textAreaTop" fmla="*/ 0 h 306720"/>
              <a:gd name="textAreaBottom" fmla="*/ 307080 h 306720"/>
            </a:gdLst>
            <a:ahLst/>
            <a:rect l="textAreaLeft" t="textAreaTop" r="textAreaRight" b="textAreaBottom"/>
            <a:pathLst>
              <a:path w="120000" h="120000">
                <a:moveTo>
                  <a:pt x="91497" y="97665"/>
                </a:moveTo>
                <a:lnTo>
                  <a:pt x="91497" y="97665"/>
                </a:lnTo>
                <a:cubicBezTo>
                  <a:pt x="91497" y="97665"/>
                  <a:pt x="88143" y="97665"/>
                  <a:pt x="88143" y="100315"/>
                </a:cubicBezTo>
                <a:cubicBezTo>
                  <a:pt x="88143" y="103154"/>
                  <a:pt x="91497" y="103154"/>
                  <a:pt x="91497" y="103154"/>
                </a:cubicBezTo>
                <a:cubicBezTo>
                  <a:pt x="95089" y="103154"/>
                  <a:pt x="98682" y="103154"/>
                  <a:pt x="98682" y="100315"/>
                </a:cubicBezTo>
                <a:cubicBezTo>
                  <a:pt x="98682" y="97665"/>
                  <a:pt x="95089" y="97665"/>
                  <a:pt x="91497" y="97665"/>
                </a:cubicBezTo>
                <a:close/>
                <a:moveTo>
                  <a:pt x="74011" y="80820"/>
                </a:moveTo>
                <a:lnTo>
                  <a:pt x="74011" y="80820"/>
                </a:lnTo>
                <a:cubicBezTo>
                  <a:pt x="70419" y="80820"/>
                  <a:pt x="70419" y="83659"/>
                  <a:pt x="70419" y="86498"/>
                </a:cubicBezTo>
                <a:cubicBezTo>
                  <a:pt x="70419" y="86498"/>
                  <a:pt x="70419" y="89148"/>
                  <a:pt x="74011" y="89148"/>
                </a:cubicBezTo>
                <a:cubicBezTo>
                  <a:pt x="77604" y="89148"/>
                  <a:pt x="77604" y="86498"/>
                  <a:pt x="77604" y="86498"/>
                </a:cubicBezTo>
                <a:cubicBezTo>
                  <a:pt x="77604" y="83659"/>
                  <a:pt x="77604" y="80820"/>
                  <a:pt x="74011" y="80820"/>
                </a:cubicBezTo>
                <a:close/>
                <a:moveTo>
                  <a:pt x="70419" y="97665"/>
                </a:moveTo>
                <a:lnTo>
                  <a:pt x="70419" y="97665"/>
                </a:lnTo>
                <a:cubicBezTo>
                  <a:pt x="67065" y="97665"/>
                  <a:pt x="63473" y="97665"/>
                  <a:pt x="63473" y="100315"/>
                </a:cubicBezTo>
                <a:cubicBezTo>
                  <a:pt x="63473" y="103154"/>
                  <a:pt x="67065" y="103154"/>
                  <a:pt x="70419" y="103154"/>
                </a:cubicBezTo>
                <a:cubicBezTo>
                  <a:pt x="70419" y="103154"/>
                  <a:pt x="74011" y="103154"/>
                  <a:pt x="74011" y="100315"/>
                </a:cubicBezTo>
                <a:cubicBezTo>
                  <a:pt x="74011" y="97665"/>
                  <a:pt x="70419" y="97665"/>
                  <a:pt x="70419" y="97665"/>
                </a:cubicBezTo>
                <a:close/>
                <a:moveTo>
                  <a:pt x="42395" y="89148"/>
                </a:moveTo>
                <a:lnTo>
                  <a:pt x="42395" y="89148"/>
                </a:lnTo>
                <a:cubicBezTo>
                  <a:pt x="35209" y="89148"/>
                  <a:pt x="35209" y="89148"/>
                  <a:pt x="35209" y="89148"/>
                </a:cubicBezTo>
                <a:cubicBezTo>
                  <a:pt x="35209" y="86498"/>
                  <a:pt x="35209" y="86498"/>
                  <a:pt x="35209" y="86498"/>
                </a:cubicBezTo>
                <a:cubicBezTo>
                  <a:pt x="35209" y="83659"/>
                  <a:pt x="35209" y="80820"/>
                  <a:pt x="31616" y="80820"/>
                </a:cubicBezTo>
                <a:cubicBezTo>
                  <a:pt x="28263" y="80820"/>
                  <a:pt x="28263" y="83659"/>
                  <a:pt x="28263" y="86498"/>
                </a:cubicBezTo>
                <a:cubicBezTo>
                  <a:pt x="28263" y="89148"/>
                  <a:pt x="28263" y="89148"/>
                  <a:pt x="28263" y="89148"/>
                </a:cubicBezTo>
                <a:cubicBezTo>
                  <a:pt x="21077" y="89148"/>
                  <a:pt x="21077" y="89148"/>
                  <a:pt x="21077" y="89148"/>
                </a:cubicBezTo>
                <a:lnTo>
                  <a:pt x="17485" y="91987"/>
                </a:lnTo>
                <a:cubicBezTo>
                  <a:pt x="17485" y="94826"/>
                  <a:pt x="21077" y="97665"/>
                  <a:pt x="21077" y="97665"/>
                </a:cubicBezTo>
                <a:cubicBezTo>
                  <a:pt x="28263" y="97665"/>
                  <a:pt x="28263" y="97665"/>
                  <a:pt x="28263" y="97665"/>
                </a:cubicBezTo>
                <a:cubicBezTo>
                  <a:pt x="28263" y="100315"/>
                  <a:pt x="28263" y="100315"/>
                  <a:pt x="28263" y="100315"/>
                </a:cubicBezTo>
                <a:cubicBezTo>
                  <a:pt x="28263" y="103154"/>
                  <a:pt x="28263" y="103154"/>
                  <a:pt x="31616" y="103154"/>
                </a:cubicBezTo>
                <a:cubicBezTo>
                  <a:pt x="35209" y="103154"/>
                  <a:pt x="35209" y="103154"/>
                  <a:pt x="35209" y="100315"/>
                </a:cubicBezTo>
                <a:cubicBezTo>
                  <a:pt x="35209" y="97665"/>
                  <a:pt x="35209" y="97665"/>
                  <a:pt x="35209" y="97665"/>
                </a:cubicBezTo>
                <a:cubicBezTo>
                  <a:pt x="42395" y="97665"/>
                  <a:pt x="42395" y="97665"/>
                  <a:pt x="42395" y="97665"/>
                </a:cubicBezTo>
                <a:cubicBezTo>
                  <a:pt x="42395" y="97665"/>
                  <a:pt x="45748" y="94826"/>
                  <a:pt x="45748" y="91987"/>
                </a:cubicBezTo>
                <a:lnTo>
                  <a:pt x="42395" y="89148"/>
                </a:lnTo>
                <a:close/>
                <a:moveTo>
                  <a:pt x="102275" y="0"/>
                </a:moveTo>
                <a:lnTo>
                  <a:pt x="102275" y="0"/>
                </a:lnTo>
                <a:cubicBezTo>
                  <a:pt x="17485" y="0"/>
                  <a:pt x="17485" y="0"/>
                  <a:pt x="17485" y="0"/>
                </a:cubicBezTo>
                <a:cubicBezTo>
                  <a:pt x="6946" y="0"/>
                  <a:pt x="0" y="5678"/>
                  <a:pt x="0" y="14006"/>
                </a:cubicBezTo>
                <a:cubicBezTo>
                  <a:pt x="0" y="103154"/>
                  <a:pt x="0" y="103154"/>
                  <a:pt x="0" y="103154"/>
                </a:cubicBezTo>
                <a:cubicBezTo>
                  <a:pt x="0" y="111482"/>
                  <a:pt x="6946" y="119810"/>
                  <a:pt x="17485" y="119810"/>
                </a:cubicBezTo>
                <a:cubicBezTo>
                  <a:pt x="102275" y="119810"/>
                  <a:pt x="102275" y="119810"/>
                  <a:pt x="102275" y="119810"/>
                </a:cubicBezTo>
                <a:cubicBezTo>
                  <a:pt x="112814" y="119810"/>
                  <a:pt x="119760" y="111482"/>
                  <a:pt x="119760" y="103154"/>
                </a:cubicBezTo>
                <a:cubicBezTo>
                  <a:pt x="119760" y="14006"/>
                  <a:pt x="119760" y="14006"/>
                  <a:pt x="119760" y="14006"/>
                </a:cubicBezTo>
                <a:cubicBezTo>
                  <a:pt x="119760" y="5678"/>
                  <a:pt x="112814" y="0"/>
                  <a:pt x="102275" y="0"/>
                </a:cubicBezTo>
                <a:close/>
                <a:moveTo>
                  <a:pt x="112814" y="103154"/>
                </a:moveTo>
                <a:lnTo>
                  <a:pt x="112814" y="103154"/>
                </a:lnTo>
                <a:cubicBezTo>
                  <a:pt x="112814" y="108643"/>
                  <a:pt x="105628" y="111482"/>
                  <a:pt x="102275" y="111482"/>
                </a:cubicBezTo>
                <a:cubicBezTo>
                  <a:pt x="17485" y="111482"/>
                  <a:pt x="17485" y="111482"/>
                  <a:pt x="17485" y="111482"/>
                </a:cubicBezTo>
                <a:cubicBezTo>
                  <a:pt x="14131" y="111482"/>
                  <a:pt x="6946" y="108643"/>
                  <a:pt x="6946" y="103154"/>
                </a:cubicBezTo>
                <a:cubicBezTo>
                  <a:pt x="6946" y="14006"/>
                  <a:pt x="6946" y="14006"/>
                  <a:pt x="6946" y="14006"/>
                </a:cubicBezTo>
                <a:cubicBezTo>
                  <a:pt x="6946" y="11167"/>
                  <a:pt x="14131" y="8328"/>
                  <a:pt x="17485" y="8328"/>
                </a:cubicBezTo>
                <a:cubicBezTo>
                  <a:pt x="102275" y="8328"/>
                  <a:pt x="102275" y="8328"/>
                  <a:pt x="102275" y="8328"/>
                </a:cubicBezTo>
                <a:cubicBezTo>
                  <a:pt x="105628" y="8328"/>
                  <a:pt x="112814" y="11167"/>
                  <a:pt x="112814" y="14006"/>
                </a:cubicBezTo>
                <a:lnTo>
                  <a:pt x="112814" y="103154"/>
                </a:lnTo>
                <a:close/>
                <a:moveTo>
                  <a:pt x="98682" y="80820"/>
                </a:moveTo>
                <a:lnTo>
                  <a:pt x="98682" y="80820"/>
                </a:lnTo>
                <a:cubicBezTo>
                  <a:pt x="95089" y="80820"/>
                  <a:pt x="91497" y="83659"/>
                  <a:pt x="91497" y="86498"/>
                </a:cubicBezTo>
                <a:cubicBezTo>
                  <a:pt x="91497" y="86498"/>
                  <a:pt x="95089" y="89148"/>
                  <a:pt x="98682" y="89148"/>
                </a:cubicBezTo>
                <a:lnTo>
                  <a:pt x="102275" y="86498"/>
                </a:lnTo>
                <a:cubicBezTo>
                  <a:pt x="102275" y="83659"/>
                  <a:pt x="98682" y="80820"/>
                  <a:pt x="98682" y="80820"/>
                </a:cubicBezTo>
                <a:close/>
                <a:moveTo>
                  <a:pt x="91497" y="14006"/>
                </a:moveTo>
                <a:lnTo>
                  <a:pt x="91497" y="14006"/>
                </a:lnTo>
                <a:cubicBezTo>
                  <a:pt x="28263" y="14006"/>
                  <a:pt x="28263" y="14006"/>
                  <a:pt x="28263" y="14006"/>
                </a:cubicBezTo>
                <a:cubicBezTo>
                  <a:pt x="21077" y="14006"/>
                  <a:pt x="17485" y="19495"/>
                  <a:pt x="17485" y="22334"/>
                </a:cubicBezTo>
                <a:cubicBezTo>
                  <a:pt x="17485" y="67003"/>
                  <a:pt x="17485" y="67003"/>
                  <a:pt x="17485" y="67003"/>
                </a:cubicBezTo>
                <a:cubicBezTo>
                  <a:pt x="17485" y="69652"/>
                  <a:pt x="21077" y="75331"/>
                  <a:pt x="28263" y="75331"/>
                </a:cubicBezTo>
                <a:cubicBezTo>
                  <a:pt x="91497" y="75331"/>
                  <a:pt x="91497" y="75331"/>
                  <a:pt x="91497" y="75331"/>
                </a:cubicBezTo>
                <a:cubicBezTo>
                  <a:pt x="98682" y="75331"/>
                  <a:pt x="102275" y="69652"/>
                  <a:pt x="102275" y="67003"/>
                </a:cubicBezTo>
                <a:cubicBezTo>
                  <a:pt x="102275" y="22334"/>
                  <a:pt x="102275" y="22334"/>
                  <a:pt x="102275" y="22334"/>
                </a:cubicBezTo>
                <a:cubicBezTo>
                  <a:pt x="102275" y="19495"/>
                  <a:pt x="98682" y="14006"/>
                  <a:pt x="91497" y="14006"/>
                </a:cubicBezTo>
                <a:close/>
                <a:moveTo>
                  <a:pt x="91497" y="64164"/>
                </a:moveTo>
                <a:lnTo>
                  <a:pt x="91497" y="64164"/>
                </a:lnTo>
                <a:cubicBezTo>
                  <a:pt x="91497" y="64164"/>
                  <a:pt x="91497" y="67003"/>
                  <a:pt x="88143" y="67003"/>
                </a:cubicBezTo>
                <a:cubicBezTo>
                  <a:pt x="31616" y="67003"/>
                  <a:pt x="31616" y="67003"/>
                  <a:pt x="31616" y="67003"/>
                </a:cubicBezTo>
                <a:cubicBezTo>
                  <a:pt x="28263" y="67003"/>
                  <a:pt x="28263" y="64164"/>
                  <a:pt x="28263" y="64164"/>
                </a:cubicBezTo>
                <a:cubicBezTo>
                  <a:pt x="28263" y="25173"/>
                  <a:pt x="28263" y="25173"/>
                  <a:pt x="28263" y="25173"/>
                </a:cubicBezTo>
                <a:cubicBezTo>
                  <a:pt x="28263" y="25173"/>
                  <a:pt x="28263" y="22334"/>
                  <a:pt x="31616" y="22334"/>
                </a:cubicBezTo>
                <a:cubicBezTo>
                  <a:pt x="88143" y="22334"/>
                  <a:pt x="88143" y="22334"/>
                  <a:pt x="88143" y="22334"/>
                </a:cubicBezTo>
                <a:cubicBezTo>
                  <a:pt x="91497" y="22334"/>
                  <a:pt x="91497" y="25173"/>
                  <a:pt x="91497" y="25173"/>
                </a:cubicBezTo>
                <a:lnTo>
                  <a:pt x="91497" y="64164"/>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1" name="Shape 4728"/>
          <p:cNvSpPr/>
          <p:nvPr/>
        </p:nvSpPr>
        <p:spPr>
          <a:xfrm>
            <a:off x="3443400" y="2116080"/>
            <a:ext cx="304560" cy="206280"/>
          </a:xfrm>
          <a:custGeom>
            <a:avLst/>
            <a:gdLst>
              <a:gd name="textAreaLeft" fmla="*/ 0 w 304560"/>
              <a:gd name="textAreaRight" fmla="*/ 304920 w 304560"/>
              <a:gd name="textAreaTop" fmla="*/ 0 h 206280"/>
              <a:gd name="textAreaBottom" fmla="*/ 206640 h 206280"/>
            </a:gdLst>
            <a:ahLst/>
            <a:rect l="textAreaLeft" t="textAreaTop" r="textAreaRight" b="textAreaBottom"/>
            <a:pathLst>
              <a:path w="120000" h="120000">
                <a:moveTo>
                  <a:pt x="19495" y="74299"/>
                </a:moveTo>
                <a:lnTo>
                  <a:pt x="19495" y="74299"/>
                </a:lnTo>
                <a:cubicBezTo>
                  <a:pt x="16656" y="74299"/>
                  <a:pt x="13817" y="78504"/>
                  <a:pt x="13817" y="82710"/>
                </a:cubicBezTo>
                <a:cubicBezTo>
                  <a:pt x="13817" y="82710"/>
                  <a:pt x="16656" y="86635"/>
                  <a:pt x="19495" y="86635"/>
                </a:cubicBezTo>
                <a:lnTo>
                  <a:pt x="22145" y="82710"/>
                </a:lnTo>
                <a:cubicBezTo>
                  <a:pt x="22145" y="78504"/>
                  <a:pt x="19495" y="74299"/>
                  <a:pt x="19495" y="74299"/>
                </a:cubicBezTo>
                <a:close/>
                <a:moveTo>
                  <a:pt x="86309" y="20747"/>
                </a:moveTo>
                <a:lnTo>
                  <a:pt x="86309" y="20747"/>
                </a:lnTo>
                <a:cubicBezTo>
                  <a:pt x="33312" y="20747"/>
                  <a:pt x="33312" y="20747"/>
                  <a:pt x="33312" y="20747"/>
                </a:cubicBezTo>
                <a:cubicBezTo>
                  <a:pt x="30662" y="20747"/>
                  <a:pt x="30662" y="24672"/>
                  <a:pt x="30662" y="24672"/>
                </a:cubicBezTo>
                <a:cubicBezTo>
                  <a:pt x="30662" y="90841"/>
                  <a:pt x="30662" y="90841"/>
                  <a:pt x="30662" y="90841"/>
                </a:cubicBezTo>
                <a:cubicBezTo>
                  <a:pt x="30662" y="95046"/>
                  <a:pt x="30662" y="99252"/>
                  <a:pt x="33312" y="99252"/>
                </a:cubicBezTo>
                <a:cubicBezTo>
                  <a:pt x="86309" y="99252"/>
                  <a:pt x="86309" y="99252"/>
                  <a:pt x="86309" y="99252"/>
                </a:cubicBezTo>
                <a:cubicBezTo>
                  <a:pt x="86309" y="99252"/>
                  <a:pt x="89148" y="95046"/>
                  <a:pt x="89148" y="90841"/>
                </a:cubicBezTo>
                <a:cubicBezTo>
                  <a:pt x="89148" y="24672"/>
                  <a:pt x="89148" y="24672"/>
                  <a:pt x="89148" y="24672"/>
                </a:cubicBezTo>
                <a:lnTo>
                  <a:pt x="86309" y="20747"/>
                </a:lnTo>
                <a:close/>
                <a:moveTo>
                  <a:pt x="80630" y="82710"/>
                </a:moveTo>
                <a:lnTo>
                  <a:pt x="80630" y="82710"/>
                </a:lnTo>
                <a:cubicBezTo>
                  <a:pt x="80630" y="82710"/>
                  <a:pt x="80630" y="86635"/>
                  <a:pt x="77981" y="86635"/>
                </a:cubicBezTo>
                <a:cubicBezTo>
                  <a:pt x="41829" y="86635"/>
                  <a:pt x="41829" y="86635"/>
                  <a:pt x="41829" y="86635"/>
                </a:cubicBezTo>
                <a:cubicBezTo>
                  <a:pt x="38990" y="86635"/>
                  <a:pt x="36151" y="82710"/>
                  <a:pt x="36151" y="82710"/>
                </a:cubicBezTo>
                <a:cubicBezTo>
                  <a:pt x="36151" y="37289"/>
                  <a:pt x="36151" y="37289"/>
                  <a:pt x="36151" y="37289"/>
                </a:cubicBezTo>
                <a:cubicBezTo>
                  <a:pt x="36151" y="33084"/>
                  <a:pt x="38990" y="33084"/>
                  <a:pt x="41829" y="33084"/>
                </a:cubicBezTo>
                <a:cubicBezTo>
                  <a:pt x="77981" y="33084"/>
                  <a:pt x="77981" y="33084"/>
                  <a:pt x="77981" y="33084"/>
                </a:cubicBezTo>
                <a:cubicBezTo>
                  <a:pt x="80630" y="33084"/>
                  <a:pt x="80630" y="33084"/>
                  <a:pt x="80630" y="37289"/>
                </a:cubicBezTo>
                <a:lnTo>
                  <a:pt x="80630" y="82710"/>
                </a:lnTo>
                <a:close/>
                <a:moveTo>
                  <a:pt x="19495" y="53831"/>
                </a:moveTo>
                <a:lnTo>
                  <a:pt x="19495" y="53831"/>
                </a:lnTo>
                <a:cubicBezTo>
                  <a:pt x="16656" y="53831"/>
                  <a:pt x="13817" y="57757"/>
                  <a:pt x="13817" y="57757"/>
                </a:cubicBezTo>
                <a:cubicBezTo>
                  <a:pt x="13817" y="61962"/>
                  <a:pt x="16656" y="66168"/>
                  <a:pt x="19495" y="66168"/>
                </a:cubicBezTo>
                <a:cubicBezTo>
                  <a:pt x="19495" y="66168"/>
                  <a:pt x="22145" y="61962"/>
                  <a:pt x="22145" y="57757"/>
                </a:cubicBezTo>
                <a:lnTo>
                  <a:pt x="19495" y="53831"/>
                </a:lnTo>
                <a:close/>
                <a:moveTo>
                  <a:pt x="102965" y="0"/>
                </a:moveTo>
                <a:lnTo>
                  <a:pt x="102965" y="0"/>
                </a:lnTo>
                <a:cubicBezTo>
                  <a:pt x="13817" y="0"/>
                  <a:pt x="13817" y="0"/>
                  <a:pt x="13817" y="0"/>
                </a:cubicBezTo>
                <a:cubicBezTo>
                  <a:pt x="5488" y="0"/>
                  <a:pt x="0" y="8411"/>
                  <a:pt x="0" y="20747"/>
                </a:cubicBezTo>
                <a:cubicBezTo>
                  <a:pt x="0" y="99252"/>
                  <a:pt x="0" y="99252"/>
                  <a:pt x="0" y="99252"/>
                </a:cubicBezTo>
                <a:cubicBezTo>
                  <a:pt x="0" y="111588"/>
                  <a:pt x="5488" y="119719"/>
                  <a:pt x="13817" y="119719"/>
                </a:cubicBezTo>
                <a:cubicBezTo>
                  <a:pt x="102965" y="119719"/>
                  <a:pt x="102965" y="119719"/>
                  <a:pt x="102965" y="119719"/>
                </a:cubicBezTo>
                <a:cubicBezTo>
                  <a:pt x="111293" y="119719"/>
                  <a:pt x="119810" y="111588"/>
                  <a:pt x="119810" y="99252"/>
                </a:cubicBezTo>
                <a:cubicBezTo>
                  <a:pt x="119810" y="20747"/>
                  <a:pt x="119810" y="20747"/>
                  <a:pt x="119810" y="20747"/>
                </a:cubicBezTo>
                <a:cubicBezTo>
                  <a:pt x="119810" y="8411"/>
                  <a:pt x="111293" y="0"/>
                  <a:pt x="102965" y="0"/>
                </a:cubicBezTo>
                <a:close/>
                <a:moveTo>
                  <a:pt x="111293" y="99252"/>
                </a:moveTo>
                <a:lnTo>
                  <a:pt x="111293" y="99252"/>
                </a:lnTo>
                <a:cubicBezTo>
                  <a:pt x="111293" y="103177"/>
                  <a:pt x="108643" y="107383"/>
                  <a:pt x="102965" y="107383"/>
                </a:cubicBezTo>
                <a:cubicBezTo>
                  <a:pt x="13817" y="107383"/>
                  <a:pt x="13817" y="107383"/>
                  <a:pt x="13817" y="107383"/>
                </a:cubicBezTo>
                <a:cubicBezTo>
                  <a:pt x="10977" y="107383"/>
                  <a:pt x="8328" y="103177"/>
                  <a:pt x="8328" y="99252"/>
                </a:cubicBezTo>
                <a:cubicBezTo>
                  <a:pt x="8328" y="20747"/>
                  <a:pt x="8328" y="20747"/>
                  <a:pt x="8328" y="20747"/>
                </a:cubicBezTo>
                <a:cubicBezTo>
                  <a:pt x="8328" y="16542"/>
                  <a:pt x="10977" y="8411"/>
                  <a:pt x="13817" y="8411"/>
                </a:cubicBezTo>
                <a:cubicBezTo>
                  <a:pt x="102965" y="8411"/>
                  <a:pt x="102965" y="8411"/>
                  <a:pt x="102965" y="8411"/>
                </a:cubicBezTo>
                <a:cubicBezTo>
                  <a:pt x="108643" y="8411"/>
                  <a:pt x="111293" y="16542"/>
                  <a:pt x="111293" y="20747"/>
                </a:cubicBezTo>
                <a:lnTo>
                  <a:pt x="111293" y="99252"/>
                </a:lnTo>
                <a:close/>
                <a:moveTo>
                  <a:pt x="100315" y="53831"/>
                </a:moveTo>
                <a:lnTo>
                  <a:pt x="100315" y="53831"/>
                </a:lnTo>
                <a:cubicBezTo>
                  <a:pt x="97476" y="53831"/>
                  <a:pt x="97476" y="57757"/>
                  <a:pt x="97476" y="57757"/>
                </a:cubicBezTo>
                <a:cubicBezTo>
                  <a:pt x="97476" y="61962"/>
                  <a:pt x="97476" y="66168"/>
                  <a:pt x="100315" y="66168"/>
                </a:cubicBezTo>
                <a:cubicBezTo>
                  <a:pt x="102965" y="66168"/>
                  <a:pt x="102965" y="61962"/>
                  <a:pt x="102965" y="57757"/>
                </a:cubicBezTo>
                <a:cubicBezTo>
                  <a:pt x="102965" y="57757"/>
                  <a:pt x="102965" y="53831"/>
                  <a:pt x="100315" y="53831"/>
                </a:cubicBezTo>
                <a:close/>
                <a:moveTo>
                  <a:pt x="100315" y="74299"/>
                </a:moveTo>
                <a:lnTo>
                  <a:pt x="100315" y="74299"/>
                </a:lnTo>
                <a:cubicBezTo>
                  <a:pt x="97476" y="74299"/>
                  <a:pt x="97476" y="78504"/>
                  <a:pt x="97476" y="82710"/>
                </a:cubicBezTo>
                <a:cubicBezTo>
                  <a:pt x="97476" y="82710"/>
                  <a:pt x="97476" y="86635"/>
                  <a:pt x="100315" y="86635"/>
                </a:cubicBezTo>
                <a:cubicBezTo>
                  <a:pt x="102965" y="86635"/>
                  <a:pt x="102965" y="82710"/>
                  <a:pt x="102965" y="82710"/>
                </a:cubicBezTo>
                <a:cubicBezTo>
                  <a:pt x="102965" y="78504"/>
                  <a:pt x="102965" y="74299"/>
                  <a:pt x="100315" y="74299"/>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2" name="Shape 4730"/>
          <p:cNvSpPr/>
          <p:nvPr/>
        </p:nvSpPr>
        <p:spPr>
          <a:xfrm>
            <a:off x="2538360" y="2066760"/>
            <a:ext cx="135000" cy="306720"/>
          </a:xfrm>
          <a:custGeom>
            <a:avLst/>
            <a:gdLst>
              <a:gd name="textAreaLeft" fmla="*/ 0 w 135000"/>
              <a:gd name="textAreaRight" fmla="*/ 135360 w 135000"/>
              <a:gd name="textAreaTop" fmla="*/ 0 h 306720"/>
              <a:gd name="textAreaBottom" fmla="*/ 307080 h 306720"/>
            </a:gdLst>
            <a:ahLst/>
            <a:rect l="textAreaLeft" t="textAreaTop" r="textAreaRight" b="textAreaBottom"/>
            <a:pathLst>
              <a:path w="120000" h="120000">
                <a:moveTo>
                  <a:pt x="119572" y="30662"/>
                </a:moveTo>
                <a:lnTo>
                  <a:pt x="119572" y="30662"/>
                </a:lnTo>
                <a:cubicBezTo>
                  <a:pt x="119572" y="14006"/>
                  <a:pt x="88398" y="0"/>
                  <a:pt x="56797" y="0"/>
                </a:cubicBezTo>
                <a:cubicBezTo>
                  <a:pt x="25195" y="0"/>
                  <a:pt x="0" y="14006"/>
                  <a:pt x="0" y="30662"/>
                </a:cubicBezTo>
                <a:cubicBezTo>
                  <a:pt x="0" y="44668"/>
                  <a:pt x="19217" y="55835"/>
                  <a:pt x="50391" y="58485"/>
                </a:cubicBezTo>
                <a:lnTo>
                  <a:pt x="50391" y="58485"/>
                </a:lnTo>
                <a:cubicBezTo>
                  <a:pt x="50391" y="114321"/>
                  <a:pt x="50391" y="114321"/>
                  <a:pt x="50391" y="114321"/>
                </a:cubicBezTo>
                <a:cubicBezTo>
                  <a:pt x="50391" y="117160"/>
                  <a:pt x="56797" y="119810"/>
                  <a:pt x="56797" y="119810"/>
                </a:cubicBezTo>
                <a:cubicBezTo>
                  <a:pt x="63202" y="119810"/>
                  <a:pt x="69181" y="117160"/>
                  <a:pt x="69181" y="114321"/>
                </a:cubicBezTo>
                <a:cubicBezTo>
                  <a:pt x="69181" y="58485"/>
                  <a:pt x="69181" y="58485"/>
                  <a:pt x="69181" y="58485"/>
                </a:cubicBezTo>
                <a:lnTo>
                  <a:pt x="69181" y="58485"/>
                </a:lnTo>
                <a:cubicBezTo>
                  <a:pt x="94377" y="55835"/>
                  <a:pt x="119572" y="44668"/>
                  <a:pt x="119572" y="30662"/>
                </a:cubicBezTo>
                <a:close/>
                <a:moveTo>
                  <a:pt x="56797" y="52996"/>
                </a:moveTo>
                <a:lnTo>
                  <a:pt x="56797" y="52996"/>
                </a:lnTo>
                <a:cubicBezTo>
                  <a:pt x="38007" y="52996"/>
                  <a:pt x="19217" y="41829"/>
                  <a:pt x="19217" y="30662"/>
                </a:cubicBezTo>
                <a:cubicBezTo>
                  <a:pt x="19217" y="16845"/>
                  <a:pt x="38007" y="8328"/>
                  <a:pt x="56797" y="8328"/>
                </a:cubicBezTo>
                <a:cubicBezTo>
                  <a:pt x="81992" y="8328"/>
                  <a:pt x="100782" y="16845"/>
                  <a:pt x="100782" y="30662"/>
                </a:cubicBezTo>
                <a:cubicBezTo>
                  <a:pt x="100782" y="41829"/>
                  <a:pt x="81992" y="52996"/>
                  <a:pt x="56797" y="52996"/>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3" name="Shape 4732"/>
          <p:cNvSpPr/>
          <p:nvPr/>
        </p:nvSpPr>
        <p:spPr>
          <a:xfrm>
            <a:off x="1582560" y="2066760"/>
            <a:ext cx="100080" cy="306720"/>
          </a:xfrm>
          <a:custGeom>
            <a:avLst/>
            <a:gdLst>
              <a:gd name="textAreaLeft" fmla="*/ 0 w 100080"/>
              <a:gd name="textAreaRight" fmla="*/ 100440 w 100080"/>
              <a:gd name="textAreaTop" fmla="*/ 0 h 306720"/>
              <a:gd name="textAreaBottom" fmla="*/ 307080 h 306720"/>
            </a:gdLst>
            <a:ahLst/>
            <a:rect l="textAreaLeft" t="textAreaTop" r="textAreaRight" b="textAreaBottom"/>
            <a:pathLst>
              <a:path w="120000" h="120000">
                <a:moveTo>
                  <a:pt x="102028" y="0"/>
                </a:moveTo>
                <a:lnTo>
                  <a:pt x="102028" y="0"/>
                </a:lnTo>
                <a:lnTo>
                  <a:pt x="93913" y="2839"/>
                </a:lnTo>
                <a:cubicBezTo>
                  <a:pt x="93913" y="30662"/>
                  <a:pt x="93913" y="30662"/>
                  <a:pt x="93913" y="30662"/>
                </a:cubicBezTo>
                <a:cubicBezTo>
                  <a:pt x="93913" y="36151"/>
                  <a:pt x="85217" y="39179"/>
                  <a:pt x="68405" y="39179"/>
                </a:cubicBezTo>
                <a:cubicBezTo>
                  <a:pt x="68405" y="2839"/>
                  <a:pt x="68405" y="2839"/>
                  <a:pt x="68405" y="2839"/>
                </a:cubicBezTo>
                <a:cubicBezTo>
                  <a:pt x="68405" y="2839"/>
                  <a:pt x="68405" y="0"/>
                  <a:pt x="59710" y="0"/>
                </a:cubicBezTo>
                <a:cubicBezTo>
                  <a:pt x="51014" y="0"/>
                  <a:pt x="51014" y="2839"/>
                  <a:pt x="51014" y="2839"/>
                </a:cubicBezTo>
                <a:cubicBezTo>
                  <a:pt x="51014" y="39179"/>
                  <a:pt x="51014" y="39179"/>
                  <a:pt x="51014" y="39179"/>
                </a:cubicBezTo>
                <a:cubicBezTo>
                  <a:pt x="34202" y="39179"/>
                  <a:pt x="25507" y="36151"/>
                  <a:pt x="25507" y="30662"/>
                </a:cubicBezTo>
                <a:cubicBezTo>
                  <a:pt x="25507" y="2839"/>
                  <a:pt x="25507" y="2839"/>
                  <a:pt x="25507" y="2839"/>
                </a:cubicBezTo>
                <a:lnTo>
                  <a:pt x="16811" y="0"/>
                </a:lnTo>
                <a:cubicBezTo>
                  <a:pt x="8695" y="0"/>
                  <a:pt x="0" y="2839"/>
                  <a:pt x="0" y="2839"/>
                </a:cubicBezTo>
                <a:cubicBezTo>
                  <a:pt x="0" y="30662"/>
                  <a:pt x="0" y="30662"/>
                  <a:pt x="0" y="30662"/>
                </a:cubicBezTo>
                <a:cubicBezTo>
                  <a:pt x="0" y="39179"/>
                  <a:pt x="25507" y="47318"/>
                  <a:pt x="51014" y="47318"/>
                </a:cubicBezTo>
                <a:cubicBezTo>
                  <a:pt x="51014" y="114321"/>
                  <a:pt x="51014" y="114321"/>
                  <a:pt x="51014" y="114321"/>
                </a:cubicBezTo>
                <a:cubicBezTo>
                  <a:pt x="51014" y="117160"/>
                  <a:pt x="51014" y="119810"/>
                  <a:pt x="59710" y="119810"/>
                </a:cubicBezTo>
                <a:cubicBezTo>
                  <a:pt x="68405" y="119810"/>
                  <a:pt x="68405" y="117160"/>
                  <a:pt x="68405" y="114321"/>
                </a:cubicBezTo>
                <a:cubicBezTo>
                  <a:pt x="68405" y="47318"/>
                  <a:pt x="68405" y="47318"/>
                  <a:pt x="68405" y="47318"/>
                </a:cubicBezTo>
                <a:cubicBezTo>
                  <a:pt x="93913" y="47318"/>
                  <a:pt x="119420" y="39179"/>
                  <a:pt x="119420" y="30662"/>
                </a:cubicBezTo>
                <a:cubicBezTo>
                  <a:pt x="119420" y="2839"/>
                  <a:pt x="119420" y="2839"/>
                  <a:pt x="119420" y="2839"/>
                </a:cubicBezTo>
                <a:cubicBezTo>
                  <a:pt x="119420" y="2839"/>
                  <a:pt x="110724" y="0"/>
                  <a:pt x="102028" y="0"/>
                </a:cubicBezTo>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4" name="Shape 4734"/>
          <p:cNvSpPr/>
          <p:nvPr/>
        </p:nvSpPr>
        <p:spPr>
          <a:xfrm>
            <a:off x="5424480" y="1593720"/>
            <a:ext cx="254160" cy="270000"/>
          </a:xfrm>
          <a:custGeom>
            <a:avLst/>
            <a:gdLst>
              <a:gd name="textAreaLeft" fmla="*/ 0 w 254160"/>
              <a:gd name="textAreaRight" fmla="*/ 254520 w 254160"/>
              <a:gd name="textAreaTop" fmla="*/ 0 h 270000"/>
              <a:gd name="textAreaBottom" fmla="*/ 270360 h 270000"/>
            </a:gdLst>
            <a:ahLst/>
            <a:rect l="textAreaLeft" t="textAreaTop" r="textAreaRight" b="textAreaBottom"/>
            <a:pathLst>
              <a:path w="120000" h="120000">
                <a:moveTo>
                  <a:pt x="119774" y="9428"/>
                </a:moveTo>
                <a:lnTo>
                  <a:pt x="119774" y="9428"/>
                </a:lnTo>
                <a:cubicBezTo>
                  <a:pt x="119774" y="6214"/>
                  <a:pt x="119774" y="6214"/>
                  <a:pt x="119774" y="6214"/>
                </a:cubicBezTo>
                <a:cubicBezTo>
                  <a:pt x="119774" y="3214"/>
                  <a:pt x="119774" y="3214"/>
                  <a:pt x="116384" y="0"/>
                </a:cubicBezTo>
                <a:lnTo>
                  <a:pt x="116384" y="0"/>
                </a:lnTo>
                <a:cubicBezTo>
                  <a:pt x="3163" y="0"/>
                  <a:pt x="3163" y="0"/>
                  <a:pt x="3163" y="0"/>
                </a:cubicBezTo>
                <a:cubicBezTo>
                  <a:pt x="3163" y="0"/>
                  <a:pt x="3163" y="0"/>
                  <a:pt x="0" y="3214"/>
                </a:cubicBezTo>
                <a:cubicBezTo>
                  <a:pt x="0" y="3214"/>
                  <a:pt x="0" y="6214"/>
                  <a:pt x="0" y="9428"/>
                </a:cubicBezTo>
                <a:cubicBezTo>
                  <a:pt x="56497" y="72428"/>
                  <a:pt x="56497" y="72428"/>
                  <a:pt x="56497" y="72428"/>
                </a:cubicBezTo>
                <a:cubicBezTo>
                  <a:pt x="56497" y="110357"/>
                  <a:pt x="56497" y="110357"/>
                  <a:pt x="56497" y="110357"/>
                </a:cubicBezTo>
                <a:cubicBezTo>
                  <a:pt x="39774" y="110357"/>
                  <a:pt x="39774" y="110357"/>
                  <a:pt x="39774" y="110357"/>
                </a:cubicBezTo>
                <a:cubicBezTo>
                  <a:pt x="36610" y="110357"/>
                  <a:pt x="36610" y="113571"/>
                  <a:pt x="36610" y="113571"/>
                </a:cubicBezTo>
                <a:cubicBezTo>
                  <a:pt x="36610" y="116785"/>
                  <a:pt x="36610" y="119785"/>
                  <a:pt x="39774" y="119785"/>
                </a:cubicBezTo>
                <a:cubicBezTo>
                  <a:pt x="82937" y="119785"/>
                  <a:pt x="82937" y="119785"/>
                  <a:pt x="82937" y="119785"/>
                </a:cubicBezTo>
                <a:cubicBezTo>
                  <a:pt x="86553" y="119785"/>
                  <a:pt x="89717" y="116785"/>
                  <a:pt x="89717" y="113571"/>
                </a:cubicBezTo>
                <a:cubicBezTo>
                  <a:pt x="89717" y="113571"/>
                  <a:pt x="86553" y="110357"/>
                  <a:pt x="82937" y="110357"/>
                </a:cubicBezTo>
                <a:cubicBezTo>
                  <a:pt x="66440" y="110357"/>
                  <a:pt x="66440" y="110357"/>
                  <a:pt x="66440" y="110357"/>
                </a:cubicBezTo>
                <a:cubicBezTo>
                  <a:pt x="66440" y="72428"/>
                  <a:pt x="66440" y="72428"/>
                  <a:pt x="66440" y="72428"/>
                </a:cubicBezTo>
                <a:lnTo>
                  <a:pt x="119774" y="9428"/>
                </a:lnTo>
                <a:close/>
                <a:moveTo>
                  <a:pt x="63050" y="63000"/>
                </a:moveTo>
                <a:lnTo>
                  <a:pt x="63050" y="63000"/>
                </a:lnTo>
                <a:cubicBezTo>
                  <a:pt x="13107" y="9428"/>
                  <a:pt x="13107" y="9428"/>
                  <a:pt x="13107" y="9428"/>
                </a:cubicBezTo>
                <a:cubicBezTo>
                  <a:pt x="106440" y="9428"/>
                  <a:pt x="106440" y="9428"/>
                  <a:pt x="106440" y="9428"/>
                </a:cubicBezTo>
                <a:lnTo>
                  <a:pt x="63050" y="63000"/>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5" name="Shape 4736"/>
          <p:cNvSpPr/>
          <p:nvPr/>
        </p:nvSpPr>
        <p:spPr>
          <a:xfrm>
            <a:off x="4454640" y="1579680"/>
            <a:ext cx="241200" cy="296640"/>
          </a:xfrm>
          <a:custGeom>
            <a:avLst/>
            <a:gdLst>
              <a:gd name="textAreaLeft" fmla="*/ 0 w 241200"/>
              <a:gd name="textAreaRight" fmla="*/ 241560 w 241200"/>
              <a:gd name="textAreaTop" fmla="*/ 0 h 296640"/>
              <a:gd name="textAreaBottom" fmla="*/ 297000 h 296640"/>
            </a:gdLst>
            <a:ahLst/>
            <a:rect l="textAreaLeft" t="textAreaTop" r="textAreaRight" b="textAreaBottom"/>
            <a:pathLst>
              <a:path w="120000" h="120000">
                <a:moveTo>
                  <a:pt x="105628" y="25589"/>
                </a:moveTo>
                <a:lnTo>
                  <a:pt x="105628" y="25589"/>
                </a:lnTo>
                <a:cubicBezTo>
                  <a:pt x="84550" y="31405"/>
                  <a:pt x="81197" y="42649"/>
                  <a:pt x="84550" y="51179"/>
                </a:cubicBezTo>
                <a:cubicBezTo>
                  <a:pt x="67065" y="37027"/>
                  <a:pt x="70419" y="22681"/>
                  <a:pt x="70419" y="0"/>
                </a:cubicBezTo>
                <a:cubicBezTo>
                  <a:pt x="21077" y="14151"/>
                  <a:pt x="31616" y="54087"/>
                  <a:pt x="31616" y="68432"/>
                </a:cubicBezTo>
                <a:cubicBezTo>
                  <a:pt x="21077" y="59903"/>
                  <a:pt x="17485" y="39741"/>
                  <a:pt x="17485" y="39741"/>
                </a:cubicBezTo>
                <a:cubicBezTo>
                  <a:pt x="3353" y="45557"/>
                  <a:pt x="0" y="59903"/>
                  <a:pt x="0" y="71147"/>
                </a:cubicBezTo>
                <a:cubicBezTo>
                  <a:pt x="0" y="99838"/>
                  <a:pt x="24670" y="119806"/>
                  <a:pt x="59880" y="119806"/>
                </a:cubicBezTo>
                <a:cubicBezTo>
                  <a:pt x="95089" y="119806"/>
                  <a:pt x="119760" y="99838"/>
                  <a:pt x="119760" y="71147"/>
                </a:cubicBezTo>
                <a:cubicBezTo>
                  <a:pt x="119760" y="54087"/>
                  <a:pt x="105628" y="48465"/>
                  <a:pt x="105628" y="25589"/>
                </a:cubicBezTo>
                <a:close/>
                <a:moveTo>
                  <a:pt x="63473" y="113990"/>
                </a:moveTo>
                <a:lnTo>
                  <a:pt x="63473" y="113990"/>
                </a:lnTo>
                <a:cubicBezTo>
                  <a:pt x="31616" y="113990"/>
                  <a:pt x="6946" y="94022"/>
                  <a:pt x="6946" y="68432"/>
                </a:cubicBezTo>
                <a:cubicBezTo>
                  <a:pt x="6946" y="65525"/>
                  <a:pt x="6946" y="59903"/>
                  <a:pt x="14131" y="56995"/>
                </a:cubicBezTo>
                <a:cubicBezTo>
                  <a:pt x="14131" y="59903"/>
                  <a:pt x="21077" y="79870"/>
                  <a:pt x="42395" y="76962"/>
                </a:cubicBezTo>
                <a:cubicBezTo>
                  <a:pt x="42395" y="62617"/>
                  <a:pt x="35209" y="22681"/>
                  <a:pt x="59880" y="11243"/>
                </a:cubicBezTo>
                <a:cubicBezTo>
                  <a:pt x="59880" y="31405"/>
                  <a:pt x="63473" y="59903"/>
                  <a:pt x="91497" y="62617"/>
                </a:cubicBezTo>
                <a:cubicBezTo>
                  <a:pt x="91497" y="54087"/>
                  <a:pt x="91497" y="42649"/>
                  <a:pt x="98682" y="39741"/>
                </a:cubicBezTo>
                <a:cubicBezTo>
                  <a:pt x="98682" y="51179"/>
                  <a:pt x="112814" y="59903"/>
                  <a:pt x="112814" y="71147"/>
                </a:cubicBezTo>
                <a:cubicBezTo>
                  <a:pt x="112814" y="94022"/>
                  <a:pt x="84550" y="113990"/>
                  <a:pt x="63473" y="11399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6" name="Shape 4738"/>
          <p:cNvSpPr/>
          <p:nvPr/>
        </p:nvSpPr>
        <p:spPr>
          <a:xfrm>
            <a:off x="3443400" y="1579680"/>
            <a:ext cx="304560" cy="296640"/>
          </a:xfrm>
          <a:custGeom>
            <a:avLst/>
            <a:gdLst>
              <a:gd name="textAreaLeft" fmla="*/ 0 w 304560"/>
              <a:gd name="textAreaRight" fmla="*/ 304920 w 304560"/>
              <a:gd name="textAreaTop" fmla="*/ 0 h 296640"/>
              <a:gd name="textAreaBottom" fmla="*/ 297000 h 296640"/>
            </a:gdLst>
            <a:ahLst/>
            <a:rect l="textAreaLeft" t="textAreaTop" r="textAreaRight" b="textAreaBottom"/>
            <a:pathLst>
              <a:path w="120000" h="120000">
                <a:moveTo>
                  <a:pt x="58485" y="17059"/>
                </a:moveTo>
                <a:lnTo>
                  <a:pt x="58485" y="17059"/>
                </a:lnTo>
                <a:cubicBezTo>
                  <a:pt x="44479" y="17059"/>
                  <a:pt x="33312" y="31405"/>
                  <a:pt x="33312" y="45557"/>
                </a:cubicBezTo>
                <a:cubicBezTo>
                  <a:pt x="33312" y="59903"/>
                  <a:pt x="44479" y="71147"/>
                  <a:pt x="58485" y="71147"/>
                </a:cubicBezTo>
                <a:cubicBezTo>
                  <a:pt x="72492" y="71147"/>
                  <a:pt x="86309" y="59903"/>
                  <a:pt x="86309" y="45557"/>
                </a:cubicBezTo>
                <a:cubicBezTo>
                  <a:pt x="86309" y="31405"/>
                  <a:pt x="72492" y="17059"/>
                  <a:pt x="58485" y="17059"/>
                </a:cubicBezTo>
                <a:close/>
                <a:moveTo>
                  <a:pt x="58485" y="62617"/>
                </a:moveTo>
                <a:lnTo>
                  <a:pt x="58485" y="62617"/>
                </a:lnTo>
                <a:cubicBezTo>
                  <a:pt x="50157" y="62617"/>
                  <a:pt x="41829" y="54087"/>
                  <a:pt x="41829" y="45557"/>
                </a:cubicBezTo>
                <a:cubicBezTo>
                  <a:pt x="41829" y="34119"/>
                  <a:pt x="50157" y="25589"/>
                  <a:pt x="58485" y="25589"/>
                </a:cubicBezTo>
                <a:cubicBezTo>
                  <a:pt x="69652" y="25589"/>
                  <a:pt x="77981" y="34119"/>
                  <a:pt x="77981" y="45557"/>
                </a:cubicBezTo>
                <a:cubicBezTo>
                  <a:pt x="77981" y="54087"/>
                  <a:pt x="69652" y="62617"/>
                  <a:pt x="58485" y="62617"/>
                </a:cubicBezTo>
                <a:close/>
                <a:moveTo>
                  <a:pt x="100315" y="65525"/>
                </a:moveTo>
                <a:lnTo>
                  <a:pt x="100315" y="65525"/>
                </a:lnTo>
                <a:cubicBezTo>
                  <a:pt x="102965" y="59903"/>
                  <a:pt x="105804" y="51179"/>
                  <a:pt x="105804" y="45557"/>
                </a:cubicBezTo>
                <a:cubicBezTo>
                  <a:pt x="105804" y="19967"/>
                  <a:pt x="83470" y="0"/>
                  <a:pt x="58485" y="0"/>
                </a:cubicBezTo>
                <a:cubicBezTo>
                  <a:pt x="33312" y="0"/>
                  <a:pt x="13817" y="19967"/>
                  <a:pt x="13817" y="45557"/>
                </a:cubicBezTo>
                <a:cubicBezTo>
                  <a:pt x="13817" y="51179"/>
                  <a:pt x="16656" y="59903"/>
                  <a:pt x="19495" y="65525"/>
                </a:cubicBezTo>
                <a:cubicBezTo>
                  <a:pt x="0" y="96930"/>
                  <a:pt x="0" y="96930"/>
                  <a:pt x="0" y="96930"/>
                </a:cubicBezTo>
                <a:cubicBezTo>
                  <a:pt x="0" y="96930"/>
                  <a:pt x="10977" y="99838"/>
                  <a:pt x="22145" y="102746"/>
                </a:cubicBezTo>
                <a:cubicBezTo>
                  <a:pt x="30662" y="111276"/>
                  <a:pt x="38990" y="119806"/>
                  <a:pt x="38990" y="119806"/>
                </a:cubicBezTo>
                <a:cubicBezTo>
                  <a:pt x="55646" y="91308"/>
                  <a:pt x="55646" y="91308"/>
                  <a:pt x="55646" y="91308"/>
                </a:cubicBezTo>
                <a:cubicBezTo>
                  <a:pt x="58485" y="91308"/>
                  <a:pt x="58485" y="91308"/>
                  <a:pt x="58485" y="91308"/>
                </a:cubicBezTo>
                <a:cubicBezTo>
                  <a:pt x="61324" y="91308"/>
                  <a:pt x="61324" y="91308"/>
                  <a:pt x="61324" y="91308"/>
                </a:cubicBezTo>
                <a:cubicBezTo>
                  <a:pt x="77981" y="119806"/>
                  <a:pt x="77981" y="119806"/>
                  <a:pt x="77981" y="119806"/>
                </a:cubicBezTo>
                <a:cubicBezTo>
                  <a:pt x="77981" y="119806"/>
                  <a:pt x="86309" y="111276"/>
                  <a:pt x="94637" y="102746"/>
                </a:cubicBezTo>
                <a:cubicBezTo>
                  <a:pt x="105804" y="99838"/>
                  <a:pt x="119810" y="96930"/>
                  <a:pt x="119810" y="96930"/>
                </a:cubicBezTo>
                <a:lnTo>
                  <a:pt x="100315" y="65525"/>
                </a:lnTo>
                <a:close/>
                <a:moveTo>
                  <a:pt x="38990" y="105460"/>
                </a:moveTo>
                <a:lnTo>
                  <a:pt x="38990" y="105460"/>
                </a:lnTo>
                <a:cubicBezTo>
                  <a:pt x="38990" y="105460"/>
                  <a:pt x="33312" y="102746"/>
                  <a:pt x="27823" y="96930"/>
                </a:cubicBezTo>
                <a:cubicBezTo>
                  <a:pt x="19495" y="94022"/>
                  <a:pt x="10977" y="91308"/>
                  <a:pt x="10977" y="91308"/>
                </a:cubicBezTo>
                <a:cubicBezTo>
                  <a:pt x="22145" y="74054"/>
                  <a:pt x="22145" y="74054"/>
                  <a:pt x="22145" y="74054"/>
                </a:cubicBezTo>
                <a:cubicBezTo>
                  <a:pt x="27823" y="79870"/>
                  <a:pt x="38990" y="88400"/>
                  <a:pt x="47318" y="88400"/>
                </a:cubicBezTo>
                <a:lnTo>
                  <a:pt x="38990" y="105460"/>
                </a:lnTo>
                <a:close/>
                <a:moveTo>
                  <a:pt x="58485" y="82584"/>
                </a:moveTo>
                <a:lnTo>
                  <a:pt x="58485" y="82584"/>
                </a:lnTo>
                <a:cubicBezTo>
                  <a:pt x="38990" y="82584"/>
                  <a:pt x="22145" y="65525"/>
                  <a:pt x="22145" y="45557"/>
                </a:cubicBezTo>
                <a:cubicBezTo>
                  <a:pt x="22145" y="22681"/>
                  <a:pt x="38990" y="5621"/>
                  <a:pt x="58485" y="5621"/>
                </a:cubicBezTo>
                <a:cubicBezTo>
                  <a:pt x="80630" y="5621"/>
                  <a:pt x="97476" y="22681"/>
                  <a:pt x="97476" y="45557"/>
                </a:cubicBezTo>
                <a:cubicBezTo>
                  <a:pt x="97476" y="65525"/>
                  <a:pt x="80630" y="82584"/>
                  <a:pt x="58485" y="82584"/>
                </a:cubicBezTo>
                <a:close/>
                <a:moveTo>
                  <a:pt x="91798" y="96930"/>
                </a:moveTo>
                <a:lnTo>
                  <a:pt x="91798" y="96930"/>
                </a:lnTo>
                <a:cubicBezTo>
                  <a:pt x="86309" y="102746"/>
                  <a:pt x="80630" y="105460"/>
                  <a:pt x="80630" y="105460"/>
                </a:cubicBezTo>
                <a:cubicBezTo>
                  <a:pt x="69652" y="88400"/>
                  <a:pt x="69652" y="88400"/>
                  <a:pt x="69652" y="88400"/>
                </a:cubicBezTo>
                <a:cubicBezTo>
                  <a:pt x="80630" y="88400"/>
                  <a:pt x="89148" y="79870"/>
                  <a:pt x="94637" y="74054"/>
                </a:cubicBezTo>
                <a:cubicBezTo>
                  <a:pt x="105804" y="91308"/>
                  <a:pt x="105804" y="91308"/>
                  <a:pt x="105804" y="91308"/>
                </a:cubicBezTo>
                <a:cubicBezTo>
                  <a:pt x="105804" y="91308"/>
                  <a:pt x="100315" y="94022"/>
                  <a:pt x="91798" y="96930"/>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7" name="Shape 4740"/>
          <p:cNvSpPr/>
          <p:nvPr/>
        </p:nvSpPr>
        <p:spPr>
          <a:xfrm>
            <a:off x="2459160" y="1579680"/>
            <a:ext cx="304560" cy="296640"/>
          </a:xfrm>
          <a:custGeom>
            <a:avLst/>
            <a:gdLst>
              <a:gd name="textAreaLeft" fmla="*/ 0 w 304560"/>
              <a:gd name="textAreaRight" fmla="*/ 304920 w 304560"/>
              <a:gd name="textAreaTop" fmla="*/ 0 h 296640"/>
              <a:gd name="textAreaBottom" fmla="*/ 297000 h 296640"/>
            </a:gdLst>
            <a:ahLst/>
            <a:rect l="textAreaLeft" t="textAreaTop" r="textAreaRight" b="textAreaBottom"/>
            <a:pathLst>
              <a:path w="120000" h="120000">
                <a:moveTo>
                  <a:pt x="33501" y="37027"/>
                </a:moveTo>
                <a:lnTo>
                  <a:pt x="33501" y="37027"/>
                </a:lnTo>
                <a:lnTo>
                  <a:pt x="30662" y="39741"/>
                </a:lnTo>
                <a:cubicBezTo>
                  <a:pt x="30662" y="79870"/>
                  <a:pt x="30662" y="79870"/>
                  <a:pt x="30662" y="79870"/>
                </a:cubicBezTo>
                <a:lnTo>
                  <a:pt x="33501" y="82584"/>
                </a:lnTo>
                <a:cubicBezTo>
                  <a:pt x="36340" y="82584"/>
                  <a:pt x="39179" y="79870"/>
                  <a:pt x="39179" y="79870"/>
                </a:cubicBezTo>
                <a:cubicBezTo>
                  <a:pt x="39179" y="39741"/>
                  <a:pt x="39179" y="39741"/>
                  <a:pt x="39179" y="39741"/>
                </a:cubicBezTo>
                <a:cubicBezTo>
                  <a:pt x="39179" y="39741"/>
                  <a:pt x="36340" y="37027"/>
                  <a:pt x="33501" y="37027"/>
                </a:cubicBezTo>
                <a:close/>
                <a:moveTo>
                  <a:pt x="64164" y="48465"/>
                </a:moveTo>
                <a:lnTo>
                  <a:pt x="64164" y="48465"/>
                </a:lnTo>
                <a:cubicBezTo>
                  <a:pt x="61324" y="48465"/>
                  <a:pt x="61324" y="51179"/>
                  <a:pt x="61324" y="51179"/>
                </a:cubicBezTo>
                <a:cubicBezTo>
                  <a:pt x="61324" y="74054"/>
                  <a:pt x="61324" y="74054"/>
                  <a:pt x="61324" y="74054"/>
                </a:cubicBezTo>
                <a:cubicBezTo>
                  <a:pt x="61324" y="76962"/>
                  <a:pt x="61324" y="79870"/>
                  <a:pt x="64164" y="79870"/>
                </a:cubicBezTo>
                <a:cubicBezTo>
                  <a:pt x="67003" y="79870"/>
                  <a:pt x="67003" y="76962"/>
                  <a:pt x="67003" y="74054"/>
                </a:cubicBezTo>
                <a:cubicBezTo>
                  <a:pt x="67003" y="51179"/>
                  <a:pt x="67003" y="51179"/>
                  <a:pt x="67003" y="51179"/>
                </a:cubicBezTo>
                <a:cubicBezTo>
                  <a:pt x="67003" y="51179"/>
                  <a:pt x="67003" y="48465"/>
                  <a:pt x="64164" y="48465"/>
                </a:cubicBezTo>
                <a:close/>
                <a:moveTo>
                  <a:pt x="89148" y="0"/>
                </a:moveTo>
                <a:lnTo>
                  <a:pt x="89148" y="0"/>
                </a:lnTo>
                <a:cubicBezTo>
                  <a:pt x="61324" y="22681"/>
                  <a:pt x="61324" y="22681"/>
                  <a:pt x="61324" y="22681"/>
                </a:cubicBezTo>
                <a:cubicBezTo>
                  <a:pt x="30662" y="11243"/>
                  <a:pt x="30662" y="11243"/>
                  <a:pt x="30662" y="11243"/>
                </a:cubicBezTo>
                <a:cubicBezTo>
                  <a:pt x="0" y="28497"/>
                  <a:pt x="0" y="28497"/>
                  <a:pt x="0" y="28497"/>
                </a:cubicBezTo>
                <a:cubicBezTo>
                  <a:pt x="0" y="119806"/>
                  <a:pt x="0" y="119806"/>
                  <a:pt x="0" y="119806"/>
                </a:cubicBezTo>
                <a:cubicBezTo>
                  <a:pt x="30662" y="102746"/>
                  <a:pt x="30662" y="102746"/>
                  <a:pt x="30662" y="102746"/>
                </a:cubicBezTo>
                <a:cubicBezTo>
                  <a:pt x="61324" y="113990"/>
                  <a:pt x="61324" y="113990"/>
                  <a:pt x="61324" y="113990"/>
                </a:cubicBezTo>
                <a:cubicBezTo>
                  <a:pt x="89148" y="91308"/>
                  <a:pt x="89148" y="91308"/>
                  <a:pt x="89148" y="91308"/>
                </a:cubicBezTo>
                <a:cubicBezTo>
                  <a:pt x="119810" y="113990"/>
                  <a:pt x="119810" y="113990"/>
                  <a:pt x="119810" y="113990"/>
                </a:cubicBezTo>
                <a:cubicBezTo>
                  <a:pt x="119810" y="22681"/>
                  <a:pt x="119810" y="22681"/>
                  <a:pt x="119810" y="22681"/>
                </a:cubicBezTo>
                <a:lnTo>
                  <a:pt x="89148" y="0"/>
                </a:lnTo>
                <a:close/>
                <a:moveTo>
                  <a:pt x="111482" y="99838"/>
                </a:moveTo>
                <a:lnTo>
                  <a:pt x="111482" y="99838"/>
                </a:lnTo>
                <a:cubicBezTo>
                  <a:pt x="89148" y="82584"/>
                  <a:pt x="89148" y="82584"/>
                  <a:pt x="89148" y="82584"/>
                </a:cubicBezTo>
                <a:cubicBezTo>
                  <a:pt x="61324" y="105460"/>
                  <a:pt x="61324" y="105460"/>
                  <a:pt x="61324" y="105460"/>
                </a:cubicBezTo>
                <a:cubicBezTo>
                  <a:pt x="30662" y="94022"/>
                  <a:pt x="30662" y="94022"/>
                  <a:pt x="30662" y="94022"/>
                </a:cubicBezTo>
                <a:cubicBezTo>
                  <a:pt x="8328" y="108368"/>
                  <a:pt x="8328" y="108368"/>
                  <a:pt x="8328" y="108368"/>
                </a:cubicBezTo>
                <a:cubicBezTo>
                  <a:pt x="8328" y="31405"/>
                  <a:pt x="8328" y="31405"/>
                  <a:pt x="8328" y="31405"/>
                </a:cubicBezTo>
                <a:cubicBezTo>
                  <a:pt x="30662" y="17059"/>
                  <a:pt x="30662" y="17059"/>
                  <a:pt x="30662" y="17059"/>
                </a:cubicBezTo>
                <a:cubicBezTo>
                  <a:pt x="61324" y="28497"/>
                  <a:pt x="61324" y="28497"/>
                  <a:pt x="61324" y="28497"/>
                </a:cubicBezTo>
                <a:cubicBezTo>
                  <a:pt x="89148" y="5621"/>
                  <a:pt x="89148" y="5621"/>
                  <a:pt x="89148" y="5621"/>
                </a:cubicBezTo>
                <a:cubicBezTo>
                  <a:pt x="111482" y="22681"/>
                  <a:pt x="111482" y="22681"/>
                  <a:pt x="111482" y="22681"/>
                </a:cubicBezTo>
                <a:lnTo>
                  <a:pt x="111482" y="99838"/>
                </a:lnTo>
                <a:close/>
                <a:moveTo>
                  <a:pt x="89148" y="62617"/>
                </a:moveTo>
                <a:lnTo>
                  <a:pt x="89148" y="62617"/>
                </a:lnTo>
                <a:cubicBezTo>
                  <a:pt x="89148" y="65525"/>
                  <a:pt x="91987" y="68432"/>
                  <a:pt x="94826" y="68432"/>
                </a:cubicBezTo>
                <a:cubicBezTo>
                  <a:pt x="94826" y="68432"/>
                  <a:pt x="97665" y="65525"/>
                  <a:pt x="97665" y="62617"/>
                </a:cubicBezTo>
                <a:cubicBezTo>
                  <a:pt x="97665" y="34119"/>
                  <a:pt x="97665" y="34119"/>
                  <a:pt x="97665" y="34119"/>
                </a:cubicBezTo>
                <a:cubicBezTo>
                  <a:pt x="97665" y="31405"/>
                  <a:pt x="94826" y="28497"/>
                  <a:pt x="94826" y="28497"/>
                </a:cubicBezTo>
                <a:cubicBezTo>
                  <a:pt x="91987" y="28497"/>
                  <a:pt x="89148" y="31405"/>
                  <a:pt x="89148" y="34119"/>
                </a:cubicBezTo>
                <a:lnTo>
                  <a:pt x="89148" y="62617"/>
                </a:ln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8" name="Shape 4742"/>
          <p:cNvSpPr/>
          <p:nvPr/>
        </p:nvSpPr>
        <p:spPr>
          <a:xfrm>
            <a:off x="1519200" y="1579680"/>
            <a:ext cx="227160" cy="296640"/>
          </a:xfrm>
          <a:custGeom>
            <a:avLst/>
            <a:gdLst>
              <a:gd name="textAreaLeft" fmla="*/ 0 w 227160"/>
              <a:gd name="textAreaRight" fmla="*/ 227520 w 227160"/>
              <a:gd name="textAreaTop" fmla="*/ 0 h 296640"/>
              <a:gd name="textAreaBottom" fmla="*/ 297000 h 296640"/>
            </a:gdLst>
            <a:ahLst/>
            <a:rect l="textAreaLeft" t="textAreaTop" r="textAreaRight" b="textAreaBottom"/>
            <a:pathLst>
              <a:path w="120000" h="120000">
                <a:moveTo>
                  <a:pt x="60000" y="0"/>
                </a:moveTo>
                <a:lnTo>
                  <a:pt x="60000" y="0"/>
                </a:lnTo>
                <a:cubicBezTo>
                  <a:pt x="26440" y="0"/>
                  <a:pt x="0" y="19967"/>
                  <a:pt x="0" y="45557"/>
                </a:cubicBezTo>
                <a:cubicBezTo>
                  <a:pt x="0" y="62617"/>
                  <a:pt x="48813" y="119806"/>
                  <a:pt x="60000" y="119806"/>
                </a:cubicBezTo>
                <a:cubicBezTo>
                  <a:pt x="71186" y="119806"/>
                  <a:pt x="119745" y="62617"/>
                  <a:pt x="119745" y="45557"/>
                </a:cubicBezTo>
                <a:cubicBezTo>
                  <a:pt x="119745" y="19967"/>
                  <a:pt x="93559" y="0"/>
                  <a:pt x="60000" y="0"/>
                </a:cubicBezTo>
                <a:close/>
                <a:moveTo>
                  <a:pt x="60000" y="108368"/>
                </a:moveTo>
                <a:lnTo>
                  <a:pt x="60000" y="108368"/>
                </a:lnTo>
                <a:cubicBezTo>
                  <a:pt x="52627" y="108368"/>
                  <a:pt x="11440" y="59903"/>
                  <a:pt x="11440" y="45557"/>
                </a:cubicBezTo>
                <a:cubicBezTo>
                  <a:pt x="11440" y="22681"/>
                  <a:pt x="33813" y="5621"/>
                  <a:pt x="60000" y="5621"/>
                </a:cubicBezTo>
                <a:cubicBezTo>
                  <a:pt x="86186" y="5621"/>
                  <a:pt x="108559" y="22681"/>
                  <a:pt x="108559" y="45557"/>
                </a:cubicBezTo>
                <a:cubicBezTo>
                  <a:pt x="108559" y="59903"/>
                  <a:pt x="67627" y="108368"/>
                  <a:pt x="60000" y="108368"/>
                </a:cubicBezTo>
                <a:close/>
                <a:moveTo>
                  <a:pt x="60000" y="25589"/>
                </a:moveTo>
                <a:lnTo>
                  <a:pt x="60000" y="25589"/>
                </a:lnTo>
                <a:cubicBezTo>
                  <a:pt x="45000" y="25589"/>
                  <a:pt x="33813" y="34119"/>
                  <a:pt x="33813" y="45557"/>
                </a:cubicBezTo>
                <a:cubicBezTo>
                  <a:pt x="33813" y="54087"/>
                  <a:pt x="45000" y="62617"/>
                  <a:pt x="60000" y="62617"/>
                </a:cubicBezTo>
                <a:cubicBezTo>
                  <a:pt x="75000" y="62617"/>
                  <a:pt x="86186" y="54087"/>
                  <a:pt x="86186" y="45557"/>
                </a:cubicBezTo>
                <a:cubicBezTo>
                  <a:pt x="86186" y="34119"/>
                  <a:pt x="75000" y="25589"/>
                  <a:pt x="60000" y="25589"/>
                </a:cubicBezTo>
                <a:close/>
                <a:moveTo>
                  <a:pt x="60000" y="56995"/>
                </a:moveTo>
                <a:lnTo>
                  <a:pt x="60000" y="56995"/>
                </a:lnTo>
                <a:cubicBezTo>
                  <a:pt x="52627" y="56995"/>
                  <a:pt x="45000" y="51179"/>
                  <a:pt x="45000" y="45557"/>
                </a:cubicBezTo>
                <a:cubicBezTo>
                  <a:pt x="45000" y="37027"/>
                  <a:pt x="52627" y="34119"/>
                  <a:pt x="60000" y="34119"/>
                </a:cubicBezTo>
                <a:cubicBezTo>
                  <a:pt x="67627" y="34119"/>
                  <a:pt x="75000" y="37027"/>
                  <a:pt x="75000" y="45557"/>
                </a:cubicBezTo>
                <a:cubicBezTo>
                  <a:pt x="75000" y="51179"/>
                  <a:pt x="67627" y="56995"/>
                  <a:pt x="60000" y="56995"/>
                </a:cubicBezTo>
                <a:close/>
              </a:path>
            </a:pathLst>
          </a:custGeom>
          <a:solidFill>
            <a:srgbClr val="888164"/>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10-13T02:59:09Z</dcterms:created>
  <dc:creator>user</dc:creator>
  <dc:description/>
  <dc:language>en-US</dc:language>
  <cp:lastModifiedBy>harist mulia</cp:lastModifiedBy>
  <dcterms:modified xsi:type="dcterms:W3CDTF">2023-08-13T09:43:08Z</dcterms:modified>
  <cp:revision>19</cp:revision>
  <dc:subject/>
  <dc:title>PowerPoint Presentation</dc:title>
</cp:coreProperties>
</file>