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B85A2F-7906-4403-82DB-67D439F033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59489-9A10-433F-A13B-D9CCAEBDA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ACCD22-252C-40B7-8F14-D3B974FB77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3881FC-E9D8-41AE-95D3-65A6A0B45A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1BE29-498E-4DD6-8715-36D585DB4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F0200-213E-4BB4-856E-4D13F2A32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ED7FD-0F42-4EF5-85EA-CA46640E4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52550-0A33-4D27-8E74-D8CF5FA57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BC866-7BA8-4049-9E84-9FCE73DC4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55400-357F-45C4-A8D5-E7C6BF1A6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2CE81-DCF7-49F4-B369-74BBADD4B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FB203-D018-4270-B534-CAFA452A3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873A7-5727-4190-9ABC-800908E10F18}"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Picture 6" descr=""/>
          <p:cNvPicPr/>
          <p:nvPr/>
        </p:nvPicPr>
        <p:blipFill>
          <a:blip r:embed="rId2"/>
          <a:stretch/>
        </p:blipFill>
        <p:spPr>
          <a:xfrm>
            <a:off x="5338800" y="1662120"/>
            <a:ext cx="6345360" cy="3533760"/>
          </a:xfrm>
          <a:prstGeom prst="rect">
            <a:avLst/>
          </a:prstGeom>
          <a:ln w="0">
            <a:noFill/>
          </a:ln>
        </p:spPr>
      </p:pic>
      <p:sp>
        <p:nvSpPr>
          <p:cNvPr id="3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Freeform: Shape 24"/>
          <p:cNvSpPr/>
          <p:nvPr/>
        </p:nvSpPr>
        <p:spPr>
          <a:xfrm>
            <a:off x="5102280" y="-14400"/>
            <a:ext cx="7051680" cy="6902640"/>
          </a:xfrm>
          <a:custGeom>
            <a:avLst/>
            <a:gdLst/>
            <a:ahLst/>
            <a:rect l="l" t="t" r="r" b="b"/>
            <a:pathLst>
              <a:path w="6743702" h="6887805">
                <a:moveTo>
                  <a:pt x="1775447" y="0"/>
                </a:moveTo>
                <a:lnTo>
                  <a:pt x="6743702" y="0"/>
                </a:lnTo>
                <a:lnTo>
                  <a:pt x="6743702" y="5256463"/>
                </a:lnTo>
                <a:lnTo>
                  <a:pt x="5427988" y="6572177"/>
                </a:lnTo>
                <a:cubicBezTo>
                  <a:pt x="5007146" y="6993015"/>
                  <a:pt x="4324832" y="6993015"/>
                  <a:pt x="3903990" y="6572177"/>
                </a:cubicBezTo>
                <a:lnTo>
                  <a:pt x="315628" y="2983814"/>
                </a:lnTo>
                <a:cubicBezTo>
                  <a:pt x="-105209" y="2562974"/>
                  <a:pt x="-105209" y="1880660"/>
                  <a:pt x="315628" y="1459820"/>
                </a:cubicBezTo>
                <a:lnTo>
                  <a:pt x="1775447" y="0"/>
                </a:lnTo>
                <a:close/>
              </a:path>
            </a:pathLst>
          </a:custGeom>
          <a:solidFill>
            <a:srgbClr val="da108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61" name="TextBox 19"/>
          <p:cNvSpPr/>
          <p:nvPr/>
        </p:nvSpPr>
        <p:spPr>
          <a:xfrm>
            <a:off x="620640" y="2422440"/>
            <a:ext cx="49802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262626"/>
                </a:solidFill>
                <a:latin typeface="Montserrat ExtraBold"/>
              </a:rPr>
              <a:t>Looting</a:t>
            </a:r>
            <a:endParaRPr b="0" lang="en-US" sz="8000" spc="-1" strike="noStrike">
              <a:solidFill>
                <a:srgbClr val="000000"/>
              </a:solidFill>
              <a:latin typeface="Calibri"/>
            </a:endParaRPr>
          </a:p>
        </p:txBody>
      </p:sp>
      <p:sp>
        <p:nvSpPr>
          <p:cNvPr id="462" name="TextBox 20"/>
          <p:cNvSpPr/>
          <p:nvPr/>
        </p:nvSpPr>
        <p:spPr>
          <a:xfrm>
            <a:off x="574560" y="3552840"/>
            <a:ext cx="336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Lato"/>
                <a:ea typeface="Lato"/>
              </a:rPr>
              <a:t>Corporate Presentation Template</a:t>
            </a:r>
            <a:endParaRPr b="0" lang="en-US" sz="1600" spc="-1" strike="noStrike">
              <a:solidFill>
                <a:srgbClr val="000000"/>
              </a:solidFill>
              <a:latin typeface="Calibri"/>
            </a:endParaRPr>
          </a:p>
        </p:txBody>
      </p:sp>
      <p:sp>
        <p:nvSpPr>
          <p:cNvPr id="463" name="TextBox 25"/>
          <p:cNvSpPr/>
          <p:nvPr/>
        </p:nvSpPr>
        <p:spPr>
          <a:xfrm>
            <a:off x="604800" y="4543560"/>
            <a:ext cx="5243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262626"/>
                </a:solidFill>
                <a:latin typeface="Montserrat ExtraLight"/>
              </a:rPr>
              <a:t>It is our attitude at the beginning of a difficult task which, more than anything else, will affect its successful outcom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9"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0"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1"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d0d0d"/>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702"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3"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4"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5"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6"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7"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8"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9"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0"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1"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2"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3"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4"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5"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6"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7"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8"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9"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0"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1"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2"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3"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4"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5"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6"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7"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8"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9"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0"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1"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2"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3"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4"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5"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6"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7"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8"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9"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0"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1"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2"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3"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4"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5"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6"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7"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8"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9"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0"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1"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2"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3"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4"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5"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6"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7"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8"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9"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0"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1"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2"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3"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4"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5"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6"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7"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8"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9"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0"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1"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2"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3"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4"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5"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6"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7"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8"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9"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0"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1"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2"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3"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4"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5"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6"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7"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8"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9"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0"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1"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2"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3"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4"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5"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6"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7"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8"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9"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0"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1"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2"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3"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4"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5"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6"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7"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8"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9"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0"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1"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2"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3"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4"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5"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6"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7"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8"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9"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0"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1"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2"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12"/>
          <p:cNvSpPr/>
          <p:nvPr/>
        </p:nvSpPr>
        <p:spPr>
          <a:xfrm>
            <a:off x="3200400" y="0"/>
            <a:ext cx="4183200" cy="6858000"/>
          </a:xfrm>
          <a:prstGeom prst="rect">
            <a:avLst/>
          </a:prstGeom>
          <a:solidFill>
            <a:srgbClr val="da10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5" name="Shape 5066"/>
          <p:cNvSpPr/>
          <p:nvPr/>
        </p:nvSpPr>
        <p:spPr>
          <a:xfrm>
            <a:off x="3941640" y="1085760"/>
            <a:ext cx="368280" cy="368280"/>
          </a:xfrm>
          <a:custGeom>
            <a:avLst/>
            <a:gdLst>
              <a:gd name="textAreaLeft" fmla="*/ 0 w 368280"/>
              <a:gd name="textAreaRight" fmla="*/ 368640 w 368280"/>
              <a:gd name="textAreaTop" fmla="*/ 0 h 368280"/>
              <a:gd name="textAreaBottom" fmla="*/ 368640 h 36828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6" name="Rectangle: Rounded Corners 15"/>
          <p:cNvSpPr/>
          <p:nvPr/>
        </p:nvSpPr>
        <p:spPr>
          <a:xfrm rot="2700000">
            <a:off x="3736440" y="882360"/>
            <a:ext cx="776160" cy="776520"/>
          </a:xfrm>
          <a:custGeom>
            <a:avLst/>
            <a:gdLst>
              <a:gd name="textAreaLeft" fmla="*/ 37800 w 776160"/>
              <a:gd name="textAreaRight" fmla="*/ 738360 w 776160"/>
              <a:gd name="textAreaTop" fmla="*/ 37800 h 776520"/>
              <a:gd name="textAreaBottom" fmla="*/ 738720 h 776520"/>
            </a:gdLst>
            <a:ahLst/>
            <a:rect l="textAreaLeft" t="textAreaTop" r="textAreaRight" b="textAreaBottom"/>
            <a:pathLst>
              <a:path w="21600" h="21610">
                <a:moveTo>
                  <a:pt x="3600" y="0"/>
                </a:moveTo>
                <a:arcTo wR="3600" hR="3600" stAng="16200000" swAng="-5400000"/>
                <a:lnTo>
                  <a:pt x="0" y="18010"/>
                </a:lnTo>
                <a:arcTo wR="3600" hR="3600" stAng="10800000" swAng="-5400000"/>
                <a:lnTo>
                  <a:pt x="18000" y="21610"/>
                </a:lnTo>
                <a:arcTo wR="3600" hR="3600" stAng="5400000" swAng="-5400000"/>
                <a:lnTo>
                  <a:pt x="21600" y="3600"/>
                </a:lnTo>
                <a:arcTo wR="3600" hR="3600" stAng="0" swAng="-5400000"/>
                <a:close/>
              </a:path>
            </a:pathLst>
          </a:cu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7" name="Shape 5118"/>
          <p:cNvSpPr/>
          <p:nvPr/>
        </p:nvSpPr>
        <p:spPr>
          <a:xfrm>
            <a:off x="3941640" y="3263760"/>
            <a:ext cx="368280" cy="330480"/>
          </a:xfrm>
          <a:custGeom>
            <a:avLst/>
            <a:gdLst>
              <a:gd name="textAreaLeft" fmla="*/ 0 w 368280"/>
              <a:gd name="textAreaRight" fmla="*/ 368640 w 368280"/>
              <a:gd name="textAreaTop" fmla="*/ 0 h 330480"/>
              <a:gd name="textAreaBottom" fmla="*/ 330840 h 33048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8" name="Rectangle: Rounded Corners 18"/>
          <p:cNvSpPr/>
          <p:nvPr/>
        </p:nvSpPr>
        <p:spPr>
          <a:xfrm rot="2700000">
            <a:off x="3736080" y="3040560"/>
            <a:ext cx="777600" cy="776520"/>
          </a:xfrm>
          <a:prstGeom prst="roundRect">
            <a:avLst>
              <a:gd name="adj" fmla="val 16667"/>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hape 5122"/>
          <p:cNvSpPr/>
          <p:nvPr/>
        </p:nvSpPr>
        <p:spPr>
          <a:xfrm>
            <a:off x="3938760" y="5261040"/>
            <a:ext cx="374400" cy="331560"/>
          </a:xfrm>
          <a:custGeom>
            <a:avLst/>
            <a:gdLst>
              <a:gd name="textAreaLeft" fmla="*/ 0 w 374400"/>
              <a:gd name="textAreaRight" fmla="*/ 374760 w 374400"/>
              <a:gd name="textAreaTop" fmla="*/ 0 h 331560"/>
              <a:gd name="textAreaBottom" fmla="*/ 331920 h 3315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0" name="Rectangle: Rounded Corners 21"/>
          <p:cNvSpPr/>
          <p:nvPr/>
        </p:nvSpPr>
        <p:spPr>
          <a:xfrm rot="2700000">
            <a:off x="3736440" y="5038200"/>
            <a:ext cx="776520" cy="776520"/>
          </a:xfrm>
          <a:prstGeom prst="roundRect">
            <a:avLst>
              <a:gd name="adj" fmla="val 16667"/>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1" name="Title 1"/>
          <p:cNvSpPr/>
          <p:nvPr/>
        </p:nvSpPr>
        <p:spPr>
          <a:xfrm>
            <a:off x="4819680" y="635040"/>
            <a:ext cx="1770120" cy="414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Medium"/>
                <a:ea typeface="Lato"/>
              </a:rPr>
              <a:t>1. Subtitle Here</a:t>
            </a:r>
            <a:endParaRPr b="0" lang="en-US" sz="1400" spc="-1" strike="noStrike">
              <a:solidFill>
                <a:srgbClr val="000000"/>
              </a:solidFill>
              <a:latin typeface="Calibri"/>
            </a:endParaRPr>
          </a:p>
        </p:txBody>
      </p:sp>
      <p:sp>
        <p:nvSpPr>
          <p:cNvPr id="472" name="Rectangle 23"/>
          <p:cNvSpPr/>
          <p:nvPr/>
        </p:nvSpPr>
        <p:spPr>
          <a:xfrm>
            <a:off x="4819680" y="1011240"/>
            <a:ext cx="1893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ffffff"/>
                </a:solidFill>
                <a:latin typeface="Lato"/>
                <a:ea typeface="Lato"/>
              </a:rPr>
              <a:t>Lorem ipsum dolor sit amet, consectetur adipiscing elit. Nulla imperdiet volutpat dui</a:t>
            </a:r>
            <a:endParaRPr b="0" lang="en-US" sz="1000" spc="-1" strike="noStrike">
              <a:solidFill>
                <a:srgbClr val="000000"/>
              </a:solidFill>
              <a:latin typeface="Calibri"/>
            </a:endParaRPr>
          </a:p>
        </p:txBody>
      </p:sp>
      <p:sp>
        <p:nvSpPr>
          <p:cNvPr id="473" name="Title 1"/>
          <p:cNvSpPr/>
          <p:nvPr/>
        </p:nvSpPr>
        <p:spPr>
          <a:xfrm>
            <a:off x="4819680" y="2762280"/>
            <a:ext cx="1770120" cy="414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Medium"/>
                <a:ea typeface="Lato"/>
              </a:rPr>
              <a:t>2. Subtitle Here</a:t>
            </a:r>
            <a:endParaRPr b="0" lang="en-US" sz="1400" spc="-1" strike="noStrike">
              <a:solidFill>
                <a:srgbClr val="000000"/>
              </a:solidFill>
              <a:latin typeface="Calibri"/>
            </a:endParaRPr>
          </a:p>
        </p:txBody>
      </p:sp>
      <p:sp>
        <p:nvSpPr>
          <p:cNvPr id="474" name="Rectangle 25"/>
          <p:cNvSpPr/>
          <p:nvPr/>
        </p:nvSpPr>
        <p:spPr>
          <a:xfrm>
            <a:off x="4819680" y="3138480"/>
            <a:ext cx="1893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ffffff"/>
                </a:solidFill>
                <a:latin typeface="Lato"/>
                <a:ea typeface="Lato"/>
              </a:rPr>
              <a:t>Lorem ipsum dolor sit amet, consectetur adipiscing elit. Nulla imperdiet volutpat dui</a:t>
            </a:r>
            <a:endParaRPr b="0" lang="en-US" sz="1000" spc="-1" strike="noStrike">
              <a:solidFill>
                <a:srgbClr val="000000"/>
              </a:solidFill>
              <a:latin typeface="Calibri"/>
            </a:endParaRPr>
          </a:p>
        </p:txBody>
      </p:sp>
      <p:sp>
        <p:nvSpPr>
          <p:cNvPr id="475" name="Title 1"/>
          <p:cNvSpPr/>
          <p:nvPr/>
        </p:nvSpPr>
        <p:spPr>
          <a:xfrm>
            <a:off x="4819680" y="4889520"/>
            <a:ext cx="1770120" cy="414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Montserrat Medium"/>
                <a:ea typeface="Lato"/>
              </a:rPr>
              <a:t>3. Subtitle Here</a:t>
            </a:r>
            <a:endParaRPr b="0" lang="en-US" sz="1400" spc="-1" strike="noStrike">
              <a:solidFill>
                <a:srgbClr val="000000"/>
              </a:solidFill>
              <a:latin typeface="Calibri"/>
            </a:endParaRPr>
          </a:p>
        </p:txBody>
      </p:sp>
      <p:sp>
        <p:nvSpPr>
          <p:cNvPr id="476" name="Rectangle 27"/>
          <p:cNvSpPr/>
          <p:nvPr/>
        </p:nvSpPr>
        <p:spPr>
          <a:xfrm>
            <a:off x="4819680" y="5265720"/>
            <a:ext cx="1893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ffffff"/>
                </a:solidFill>
                <a:latin typeface="Lato"/>
                <a:ea typeface="Lato"/>
              </a:rPr>
              <a:t>Lorem ipsum dolor sit amet, consectetur adipiscing elit. Nulla imperdiet volutpat dui</a:t>
            </a:r>
            <a:endParaRPr b="0" lang="en-US" sz="1000" spc="-1" strike="noStrike">
              <a:solidFill>
                <a:srgbClr val="000000"/>
              </a:solidFill>
              <a:latin typeface="Calibri"/>
            </a:endParaRPr>
          </a:p>
        </p:txBody>
      </p:sp>
      <p:sp>
        <p:nvSpPr>
          <p:cNvPr id="477" name="Title 1"/>
          <p:cNvSpPr/>
          <p:nvPr/>
        </p:nvSpPr>
        <p:spPr>
          <a:xfrm>
            <a:off x="7711920" y="1890720"/>
            <a:ext cx="5064120" cy="9889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Montserrat ExtraBold"/>
                <a:ea typeface="Open Sans"/>
              </a:rPr>
              <a:t>How we</a:t>
            </a:r>
            <a:endParaRPr b="0" lang="en-US" sz="4800" spc="-1" strike="noStrike">
              <a:solidFill>
                <a:srgbClr val="000000"/>
              </a:solidFill>
              <a:latin typeface="Calibri"/>
            </a:endParaRPr>
          </a:p>
        </p:txBody>
      </p:sp>
      <p:sp>
        <p:nvSpPr>
          <p:cNvPr id="478" name="Title 1"/>
          <p:cNvSpPr/>
          <p:nvPr/>
        </p:nvSpPr>
        <p:spPr>
          <a:xfrm>
            <a:off x="7711920" y="2530440"/>
            <a:ext cx="5064120" cy="9907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Montserrat ExtraBold"/>
                <a:ea typeface="Open Sans"/>
              </a:rPr>
              <a:t>Work</a:t>
            </a:r>
            <a:endParaRPr b="0" lang="en-US" sz="4800" spc="-1" strike="noStrike">
              <a:solidFill>
                <a:srgbClr val="000000"/>
              </a:solidFill>
              <a:latin typeface="Calibri"/>
            </a:endParaRPr>
          </a:p>
        </p:txBody>
      </p:sp>
      <p:sp>
        <p:nvSpPr>
          <p:cNvPr id="479" name="TextBox 31"/>
          <p:cNvSpPr/>
          <p:nvPr/>
        </p:nvSpPr>
        <p:spPr>
          <a:xfrm>
            <a:off x="8186760" y="3705120"/>
            <a:ext cx="349560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a:t>
            </a:r>
            <a:endParaRPr b="0" lang="en-US" sz="1000" spc="-1" strike="noStrike">
              <a:solidFill>
                <a:srgbClr val="000000"/>
              </a:solidFill>
              <a:latin typeface="Calibri"/>
            </a:endParaRPr>
          </a:p>
        </p:txBody>
      </p:sp>
      <p:pic>
        <p:nvPicPr>
          <p:cNvPr id="480" name="" descr=""/>
          <p:cNvPicPr/>
          <p:nvPr/>
        </p:nvPicPr>
        <p:blipFill>
          <a:blip r:embed="rId1"/>
          <a:stretch/>
        </p:blipFill>
        <p:spPr>
          <a:xfrm>
            <a:off x="0" y="0"/>
            <a:ext cx="32004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49"/>
          <p:cNvSpPr/>
          <p:nvPr/>
        </p:nvSpPr>
        <p:spPr>
          <a:xfrm>
            <a:off x="1014480" y="4903920"/>
            <a:ext cx="3205080" cy="46080"/>
          </a:xfrm>
          <a:prstGeom prst="rect">
            <a:avLst/>
          </a:prstGeom>
          <a:solidFill>
            <a:srgbClr val="e7e6e6"/>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TextBox 50"/>
          <p:cNvSpPr/>
          <p:nvPr/>
        </p:nvSpPr>
        <p:spPr>
          <a:xfrm>
            <a:off x="892080" y="3565440"/>
            <a:ext cx="396900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262626"/>
                </a:solidFill>
                <a:latin typeface="Lato"/>
                <a:ea typeface="Lato"/>
              </a:rPr>
              <a:t>Aliqu</a:t>
            </a:r>
            <a:r>
              <a:rPr b="0" lang="en-US" sz="1000" spc="-1" strike="noStrike">
                <a:solidFill>
                  <a:srgbClr val="262626"/>
                </a:solidFill>
                <a:latin typeface="Lato"/>
                <a:ea typeface="Lato"/>
              </a:rPr>
              <a:t>a</a:t>
            </a:r>
            <a:r>
              <a:rPr b="0" lang="id-ID" sz="1000" spc="-1" strike="noStrike">
                <a:solidFill>
                  <a:srgbClr val="262626"/>
                </a:solidFill>
                <a:latin typeface="Lato"/>
                <a:ea typeface="Lato"/>
              </a:rPr>
              <a:t>et nibh praesent tristique magna sit amet. Risus pretium quam vulputate dignissim. Enim</a:t>
            </a:r>
            <a:r>
              <a:rPr b="0" lang="en-US" sz="1000" spc="-1" strike="noStrike">
                <a:solidFill>
                  <a:srgbClr val="262626"/>
                </a:solidFill>
                <a:latin typeface="Lato"/>
                <a:ea typeface="Lato"/>
              </a:rPr>
              <a:t>agi</a:t>
            </a:r>
            <a:r>
              <a:rPr b="0" lang="id-ID" sz="1000" spc="-1" strike="noStrike">
                <a:solidFill>
                  <a:srgbClr val="262626"/>
                </a:solidFill>
                <a:latin typeface="Lato"/>
                <a:ea typeface="Lato"/>
              </a:rPr>
              <a:t> </a:t>
            </a:r>
            <a:r>
              <a:rPr b="0" lang="en-US" sz="1000" spc="-1" strike="noStrike">
                <a:solidFill>
                  <a:srgbClr val="262626"/>
                </a:solidFill>
                <a:latin typeface="Lato"/>
                <a:ea typeface="Lato"/>
              </a:rPr>
              <a:t>ci</a:t>
            </a:r>
            <a:r>
              <a:rPr b="0" lang="id-ID" sz="1000" spc="-1" strike="noStrike">
                <a:solidFill>
                  <a:srgbClr val="262626"/>
                </a:solidFill>
                <a:latin typeface="Lato"/>
                <a:ea typeface="Lato"/>
              </a:rPr>
              <a:t>nec dui nunc mattis enim amet. Risus pretium quam vulpu</a:t>
            </a:r>
            <a:endParaRPr b="0" lang="en-US" sz="1000" spc="-1" strike="noStrike">
              <a:solidFill>
                <a:srgbClr val="000000"/>
              </a:solidFill>
              <a:latin typeface="Calibri"/>
            </a:endParaRPr>
          </a:p>
        </p:txBody>
      </p:sp>
      <p:sp>
        <p:nvSpPr>
          <p:cNvPr id="483" name="TextBox 51"/>
          <p:cNvSpPr/>
          <p:nvPr/>
        </p:nvSpPr>
        <p:spPr>
          <a:xfrm>
            <a:off x="892080" y="2541600"/>
            <a:ext cx="199080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Montserrat Medium"/>
                <a:ea typeface="Times New Roman"/>
              </a:rPr>
              <a:t>Michael Smith</a:t>
            </a:r>
            <a:endParaRPr b="0" lang="en-US" sz="1800" spc="-1" strike="noStrike">
              <a:solidFill>
                <a:srgbClr val="000000"/>
              </a:solidFill>
              <a:latin typeface="Calibri"/>
            </a:endParaRPr>
          </a:p>
        </p:txBody>
      </p:sp>
      <p:grpSp>
        <p:nvGrpSpPr>
          <p:cNvPr id="484" name="Group 52"/>
          <p:cNvGrpSpPr/>
          <p:nvPr/>
        </p:nvGrpSpPr>
        <p:grpSpPr>
          <a:xfrm>
            <a:off x="1020600" y="3106800"/>
            <a:ext cx="1032120" cy="279360"/>
            <a:chOff x="1020600" y="3106800"/>
            <a:chExt cx="1032120" cy="279360"/>
          </a:xfrm>
        </p:grpSpPr>
        <p:sp>
          <p:nvSpPr>
            <p:cNvPr id="485" name="Freeform 675"/>
            <p:cNvSpPr/>
            <p:nvPr/>
          </p:nvSpPr>
          <p:spPr>
            <a:xfrm>
              <a:off x="1131120" y="3218400"/>
              <a:ext cx="55080" cy="55800"/>
            </a:xfrm>
            <a:custGeom>
              <a:avLst/>
              <a:gdLst/>
              <a:ahLst/>
              <a:rect l="l" t="t" r="r" b="b"/>
              <a:pathLst>
                <a:path w="798" h="646">
                  <a:moveTo>
                    <a:pt x="399" y="0"/>
                  </a:moveTo>
                  <a:lnTo>
                    <a:pt x="455" y="3"/>
                  </a:lnTo>
                  <a:lnTo>
                    <a:pt x="509" y="12"/>
                  </a:lnTo>
                  <a:lnTo>
                    <a:pt x="559" y="27"/>
                  </a:lnTo>
                  <a:lnTo>
                    <a:pt x="606" y="47"/>
                  </a:lnTo>
                  <a:lnTo>
                    <a:pt x="650" y="72"/>
                  </a:lnTo>
                  <a:lnTo>
                    <a:pt x="689" y="102"/>
                  </a:lnTo>
                  <a:lnTo>
                    <a:pt x="722" y="134"/>
                  </a:lnTo>
                  <a:lnTo>
                    <a:pt x="748" y="167"/>
                  </a:lnTo>
                  <a:lnTo>
                    <a:pt x="770" y="204"/>
                  </a:lnTo>
                  <a:lnTo>
                    <a:pt x="785" y="241"/>
                  </a:lnTo>
                  <a:lnTo>
                    <a:pt x="795" y="281"/>
                  </a:lnTo>
                  <a:lnTo>
                    <a:pt x="798" y="323"/>
                  </a:lnTo>
                  <a:lnTo>
                    <a:pt x="795" y="366"/>
                  </a:lnTo>
                  <a:lnTo>
                    <a:pt x="783" y="409"/>
                  </a:lnTo>
                  <a:lnTo>
                    <a:pt x="767" y="448"/>
                  </a:lnTo>
                  <a:lnTo>
                    <a:pt x="743" y="485"/>
                  </a:lnTo>
                  <a:lnTo>
                    <a:pt x="715" y="520"/>
                  </a:lnTo>
                  <a:lnTo>
                    <a:pt x="681" y="551"/>
                  </a:lnTo>
                  <a:lnTo>
                    <a:pt x="642" y="578"/>
                  </a:lnTo>
                  <a:lnTo>
                    <a:pt x="600" y="601"/>
                  </a:lnTo>
                  <a:lnTo>
                    <a:pt x="554" y="621"/>
                  </a:lnTo>
                  <a:lnTo>
                    <a:pt x="505" y="634"/>
                  </a:lnTo>
                  <a:lnTo>
                    <a:pt x="453" y="643"/>
                  </a:lnTo>
                  <a:lnTo>
                    <a:pt x="399" y="646"/>
                  </a:lnTo>
                  <a:lnTo>
                    <a:pt x="344" y="643"/>
                  </a:lnTo>
                  <a:lnTo>
                    <a:pt x="293" y="634"/>
                  </a:lnTo>
                  <a:lnTo>
                    <a:pt x="243" y="621"/>
                  </a:lnTo>
                  <a:lnTo>
                    <a:pt x="197" y="601"/>
                  </a:lnTo>
                  <a:lnTo>
                    <a:pt x="155" y="578"/>
                  </a:lnTo>
                  <a:lnTo>
                    <a:pt x="117" y="551"/>
                  </a:lnTo>
                  <a:lnTo>
                    <a:pt x="82" y="520"/>
                  </a:lnTo>
                  <a:lnTo>
                    <a:pt x="54" y="485"/>
                  </a:lnTo>
                  <a:lnTo>
                    <a:pt x="31" y="448"/>
                  </a:lnTo>
                  <a:lnTo>
                    <a:pt x="14" y="409"/>
                  </a:lnTo>
                  <a:lnTo>
                    <a:pt x="4" y="366"/>
                  </a:lnTo>
                  <a:lnTo>
                    <a:pt x="0" y="323"/>
                  </a:lnTo>
                  <a:lnTo>
                    <a:pt x="3" y="281"/>
                  </a:lnTo>
                  <a:lnTo>
                    <a:pt x="12" y="241"/>
                  </a:lnTo>
                  <a:lnTo>
                    <a:pt x="29" y="204"/>
                  </a:lnTo>
                  <a:lnTo>
                    <a:pt x="49" y="167"/>
                  </a:lnTo>
                  <a:lnTo>
                    <a:pt x="75" y="134"/>
                  </a:lnTo>
                  <a:lnTo>
                    <a:pt x="109" y="102"/>
                  </a:lnTo>
                  <a:lnTo>
                    <a:pt x="148" y="72"/>
                  </a:lnTo>
                  <a:lnTo>
                    <a:pt x="191" y="47"/>
                  </a:lnTo>
                  <a:lnTo>
                    <a:pt x="238" y="27"/>
                  </a:lnTo>
                  <a:lnTo>
                    <a:pt x="289" y="12"/>
                  </a:lnTo>
                  <a:lnTo>
                    <a:pt x="343" y="3"/>
                  </a:lnTo>
                  <a:lnTo>
                    <a:pt x="399" y="0"/>
                  </a:lnTo>
                  <a:close/>
                </a:path>
              </a:pathLst>
            </a:custGeom>
            <a:solidFill>
              <a:srgbClr val="da1088"/>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Calibri"/>
              </a:endParaRPr>
            </a:p>
          </p:txBody>
        </p:sp>
        <p:sp>
          <p:nvSpPr>
            <p:cNvPr id="486" name="Freeform 676"/>
            <p:cNvSpPr/>
            <p:nvPr/>
          </p:nvSpPr>
          <p:spPr>
            <a:xfrm>
              <a:off x="1192680" y="3184920"/>
              <a:ext cx="26640" cy="27000"/>
            </a:xfrm>
            <a:custGeom>
              <a:avLst/>
              <a:gdLst/>
              <a:ahLst/>
              <a:rect l="l" t="t" r="r" b="b"/>
              <a:pathLst>
                <a:path w="385" h="312">
                  <a:moveTo>
                    <a:pt x="334" y="0"/>
                  </a:moveTo>
                  <a:lnTo>
                    <a:pt x="385" y="0"/>
                  </a:lnTo>
                  <a:lnTo>
                    <a:pt x="385" y="311"/>
                  </a:lnTo>
                  <a:lnTo>
                    <a:pt x="1" y="312"/>
                  </a:lnTo>
                  <a:lnTo>
                    <a:pt x="0" y="1"/>
                  </a:lnTo>
                  <a:lnTo>
                    <a:pt x="334" y="0"/>
                  </a:lnTo>
                  <a:close/>
                </a:path>
              </a:pathLst>
            </a:custGeom>
            <a:solidFill>
              <a:srgbClr val="da108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487" name="Freeform 677"/>
            <p:cNvSpPr/>
            <p:nvPr/>
          </p:nvSpPr>
          <p:spPr>
            <a:xfrm>
              <a:off x="1020600" y="3106800"/>
              <a:ext cx="276480" cy="279360"/>
            </a:xfrm>
            <a:custGeom>
              <a:avLst/>
              <a:gdLst/>
              <a:ahLst/>
              <a:rect l="l" t="t" r="r" b="b"/>
              <a:pathLst>
                <a:path w="3987" h="3229">
                  <a:moveTo>
                    <a:pt x="1298" y="697"/>
                  </a:moveTo>
                  <a:lnTo>
                    <a:pt x="1243" y="700"/>
                  </a:lnTo>
                  <a:lnTo>
                    <a:pt x="1191" y="708"/>
                  </a:lnTo>
                  <a:lnTo>
                    <a:pt x="1140" y="721"/>
                  </a:lnTo>
                  <a:lnTo>
                    <a:pt x="1092" y="738"/>
                  </a:lnTo>
                  <a:lnTo>
                    <a:pt x="1047" y="761"/>
                  </a:lnTo>
                  <a:lnTo>
                    <a:pt x="1008" y="787"/>
                  </a:lnTo>
                  <a:lnTo>
                    <a:pt x="970" y="816"/>
                  </a:lnTo>
                  <a:lnTo>
                    <a:pt x="939" y="849"/>
                  </a:lnTo>
                  <a:lnTo>
                    <a:pt x="912" y="885"/>
                  </a:lnTo>
                  <a:lnTo>
                    <a:pt x="889" y="923"/>
                  </a:lnTo>
                  <a:lnTo>
                    <a:pt x="873" y="964"/>
                  </a:lnTo>
                  <a:lnTo>
                    <a:pt x="863" y="1007"/>
                  </a:lnTo>
                  <a:lnTo>
                    <a:pt x="860" y="1051"/>
                  </a:lnTo>
                  <a:lnTo>
                    <a:pt x="860" y="2178"/>
                  </a:lnTo>
                  <a:lnTo>
                    <a:pt x="863" y="2223"/>
                  </a:lnTo>
                  <a:lnTo>
                    <a:pt x="873" y="2265"/>
                  </a:lnTo>
                  <a:lnTo>
                    <a:pt x="889" y="2306"/>
                  </a:lnTo>
                  <a:lnTo>
                    <a:pt x="912" y="2345"/>
                  </a:lnTo>
                  <a:lnTo>
                    <a:pt x="939" y="2380"/>
                  </a:lnTo>
                  <a:lnTo>
                    <a:pt x="970" y="2413"/>
                  </a:lnTo>
                  <a:lnTo>
                    <a:pt x="1008" y="2443"/>
                  </a:lnTo>
                  <a:lnTo>
                    <a:pt x="1047" y="2469"/>
                  </a:lnTo>
                  <a:lnTo>
                    <a:pt x="1092" y="2491"/>
                  </a:lnTo>
                  <a:lnTo>
                    <a:pt x="1140" y="2508"/>
                  </a:lnTo>
                  <a:lnTo>
                    <a:pt x="1191" y="2521"/>
                  </a:lnTo>
                  <a:lnTo>
                    <a:pt x="1243" y="2530"/>
                  </a:lnTo>
                  <a:lnTo>
                    <a:pt x="1298" y="2533"/>
                  </a:lnTo>
                  <a:lnTo>
                    <a:pt x="2689" y="2533"/>
                  </a:lnTo>
                  <a:lnTo>
                    <a:pt x="2744" y="2530"/>
                  </a:lnTo>
                  <a:lnTo>
                    <a:pt x="2797" y="2521"/>
                  </a:lnTo>
                  <a:lnTo>
                    <a:pt x="2847" y="2508"/>
                  </a:lnTo>
                  <a:lnTo>
                    <a:pt x="2896" y="2491"/>
                  </a:lnTo>
                  <a:lnTo>
                    <a:pt x="2940" y="2469"/>
                  </a:lnTo>
                  <a:lnTo>
                    <a:pt x="2981" y="2443"/>
                  </a:lnTo>
                  <a:lnTo>
                    <a:pt x="3017" y="2413"/>
                  </a:lnTo>
                  <a:lnTo>
                    <a:pt x="3049" y="2380"/>
                  </a:lnTo>
                  <a:lnTo>
                    <a:pt x="3077" y="2345"/>
                  </a:lnTo>
                  <a:lnTo>
                    <a:pt x="3098" y="2306"/>
                  </a:lnTo>
                  <a:lnTo>
                    <a:pt x="3114" y="2265"/>
                  </a:lnTo>
                  <a:lnTo>
                    <a:pt x="3124" y="2223"/>
                  </a:lnTo>
                  <a:lnTo>
                    <a:pt x="3128" y="2178"/>
                  </a:lnTo>
                  <a:lnTo>
                    <a:pt x="3128" y="1051"/>
                  </a:lnTo>
                  <a:lnTo>
                    <a:pt x="3124" y="1007"/>
                  </a:lnTo>
                  <a:lnTo>
                    <a:pt x="3114" y="964"/>
                  </a:lnTo>
                  <a:lnTo>
                    <a:pt x="3098" y="923"/>
                  </a:lnTo>
                  <a:lnTo>
                    <a:pt x="3077" y="885"/>
                  </a:lnTo>
                  <a:lnTo>
                    <a:pt x="3049" y="849"/>
                  </a:lnTo>
                  <a:lnTo>
                    <a:pt x="3017" y="816"/>
                  </a:lnTo>
                  <a:lnTo>
                    <a:pt x="2981" y="787"/>
                  </a:lnTo>
                  <a:lnTo>
                    <a:pt x="2940" y="761"/>
                  </a:lnTo>
                  <a:lnTo>
                    <a:pt x="2896" y="738"/>
                  </a:lnTo>
                  <a:lnTo>
                    <a:pt x="2847" y="721"/>
                  </a:lnTo>
                  <a:lnTo>
                    <a:pt x="2797" y="708"/>
                  </a:lnTo>
                  <a:lnTo>
                    <a:pt x="2744" y="700"/>
                  </a:lnTo>
                  <a:lnTo>
                    <a:pt x="2689" y="697"/>
                  </a:lnTo>
                  <a:lnTo>
                    <a:pt x="1298" y="697"/>
                  </a:lnTo>
                  <a:close/>
                  <a:moveTo>
                    <a:pt x="1994" y="0"/>
                  </a:moveTo>
                  <a:lnTo>
                    <a:pt x="2120" y="4"/>
                  </a:lnTo>
                  <a:lnTo>
                    <a:pt x="2244" y="13"/>
                  </a:lnTo>
                  <a:lnTo>
                    <a:pt x="2365" y="28"/>
                  </a:lnTo>
                  <a:lnTo>
                    <a:pt x="2484" y="50"/>
                  </a:lnTo>
                  <a:lnTo>
                    <a:pt x="2600" y="77"/>
                  </a:lnTo>
                  <a:lnTo>
                    <a:pt x="2714" y="109"/>
                  </a:lnTo>
                  <a:lnTo>
                    <a:pt x="2824" y="148"/>
                  </a:lnTo>
                  <a:lnTo>
                    <a:pt x="2931" y="190"/>
                  </a:lnTo>
                  <a:lnTo>
                    <a:pt x="3033" y="237"/>
                  </a:lnTo>
                  <a:lnTo>
                    <a:pt x="3132" y="290"/>
                  </a:lnTo>
                  <a:lnTo>
                    <a:pt x="3226" y="348"/>
                  </a:lnTo>
                  <a:lnTo>
                    <a:pt x="3318" y="408"/>
                  </a:lnTo>
                  <a:lnTo>
                    <a:pt x="3404" y="474"/>
                  </a:lnTo>
                  <a:lnTo>
                    <a:pt x="3483" y="543"/>
                  </a:lnTo>
                  <a:lnTo>
                    <a:pt x="3559" y="616"/>
                  </a:lnTo>
                  <a:lnTo>
                    <a:pt x="3631" y="693"/>
                  </a:lnTo>
                  <a:lnTo>
                    <a:pt x="3695" y="774"/>
                  </a:lnTo>
                  <a:lnTo>
                    <a:pt x="3754" y="856"/>
                  </a:lnTo>
                  <a:lnTo>
                    <a:pt x="3806" y="943"/>
                  </a:lnTo>
                  <a:lnTo>
                    <a:pt x="3854" y="1032"/>
                  </a:lnTo>
                  <a:lnTo>
                    <a:pt x="3894" y="1124"/>
                  </a:lnTo>
                  <a:lnTo>
                    <a:pt x="3927" y="1218"/>
                  </a:lnTo>
                  <a:lnTo>
                    <a:pt x="3954" y="1314"/>
                  </a:lnTo>
                  <a:lnTo>
                    <a:pt x="3972" y="1413"/>
                  </a:lnTo>
                  <a:lnTo>
                    <a:pt x="3984" y="1513"/>
                  </a:lnTo>
                  <a:lnTo>
                    <a:pt x="3987" y="1615"/>
                  </a:lnTo>
                  <a:lnTo>
                    <a:pt x="3984" y="1717"/>
                  </a:lnTo>
                  <a:lnTo>
                    <a:pt x="3972" y="1817"/>
                  </a:lnTo>
                  <a:lnTo>
                    <a:pt x="3954" y="1916"/>
                  </a:lnTo>
                  <a:lnTo>
                    <a:pt x="3927" y="2012"/>
                  </a:lnTo>
                  <a:lnTo>
                    <a:pt x="3894" y="2105"/>
                  </a:lnTo>
                  <a:lnTo>
                    <a:pt x="3854" y="2197"/>
                  </a:lnTo>
                  <a:lnTo>
                    <a:pt x="3806" y="2286"/>
                  </a:lnTo>
                  <a:lnTo>
                    <a:pt x="3754" y="2373"/>
                  </a:lnTo>
                  <a:lnTo>
                    <a:pt x="3695" y="2456"/>
                  </a:lnTo>
                  <a:lnTo>
                    <a:pt x="3631" y="2537"/>
                  </a:lnTo>
                  <a:lnTo>
                    <a:pt x="3559" y="2613"/>
                  </a:lnTo>
                  <a:lnTo>
                    <a:pt x="3483" y="2686"/>
                  </a:lnTo>
                  <a:lnTo>
                    <a:pt x="3404" y="2756"/>
                  </a:lnTo>
                  <a:lnTo>
                    <a:pt x="3318" y="2821"/>
                  </a:lnTo>
                  <a:lnTo>
                    <a:pt x="3226" y="2882"/>
                  </a:lnTo>
                  <a:lnTo>
                    <a:pt x="3132" y="2939"/>
                  </a:lnTo>
                  <a:lnTo>
                    <a:pt x="3033" y="2992"/>
                  </a:lnTo>
                  <a:lnTo>
                    <a:pt x="2931" y="3039"/>
                  </a:lnTo>
                  <a:lnTo>
                    <a:pt x="2824" y="3082"/>
                  </a:lnTo>
                  <a:lnTo>
                    <a:pt x="2714" y="3120"/>
                  </a:lnTo>
                  <a:lnTo>
                    <a:pt x="2600" y="3152"/>
                  </a:lnTo>
                  <a:lnTo>
                    <a:pt x="2484" y="3180"/>
                  </a:lnTo>
                  <a:lnTo>
                    <a:pt x="2365" y="3201"/>
                  </a:lnTo>
                  <a:lnTo>
                    <a:pt x="2244" y="3216"/>
                  </a:lnTo>
                  <a:lnTo>
                    <a:pt x="2120" y="3225"/>
                  </a:lnTo>
                  <a:lnTo>
                    <a:pt x="1994" y="3229"/>
                  </a:lnTo>
                  <a:lnTo>
                    <a:pt x="1868" y="3225"/>
                  </a:lnTo>
                  <a:lnTo>
                    <a:pt x="1743" y="3216"/>
                  </a:lnTo>
                  <a:lnTo>
                    <a:pt x="1622" y="3201"/>
                  </a:lnTo>
                  <a:lnTo>
                    <a:pt x="1504" y="3180"/>
                  </a:lnTo>
                  <a:lnTo>
                    <a:pt x="1387" y="3152"/>
                  </a:lnTo>
                  <a:lnTo>
                    <a:pt x="1274" y="3120"/>
                  </a:lnTo>
                  <a:lnTo>
                    <a:pt x="1163" y="3082"/>
                  </a:lnTo>
                  <a:lnTo>
                    <a:pt x="1057" y="3039"/>
                  </a:lnTo>
                  <a:lnTo>
                    <a:pt x="954" y="2992"/>
                  </a:lnTo>
                  <a:lnTo>
                    <a:pt x="855" y="2939"/>
                  </a:lnTo>
                  <a:lnTo>
                    <a:pt x="761" y="2882"/>
                  </a:lnTo>
                  <a:lnTo>
                    <a:pt x="671" y="2821"/>
                  </a:lnTo>
                  <a:lnTo>
                    <a:pt x="585" y="2756"/>
                  </a:lnTo>
                  <a:lnTo>
                    <a:pt x="504" y="2686"/>
                  </a:lnTo>
                  <a:lnTo>
                    <a:pt x="428" y="2613"/>
                  </a:lnTo>
                  <a:lnTo>
                    <a:pt x="358" y="2537"/>
                  </a:lnTo>
                  <a:lnTo>
                    <a:pt x="293" y="2456"/>
                  </a:lnTo>
                  <a:lnTo>
                    <a:pt x="234" y="2373"/>
                  </a:lnTo>
                  <a:lnTo>
                    <a:pt x="181" y="2286"/>
                  </a:lnTo>
                  <a:lnTo>
                    <a:pt x="134" y="2197"/>
                  </a:lnTo>
                  <a:lnTo>
                    <a:pt x="95" y="2105"/>
                  </a:lnTo>
                  <a:lnTo>
                    <a:pt x="61" y="2012"/>
                  </a:lnTo>
                  <a:lnTo>
                    <a:pt x="35" y="1916"/>
                  </a:lnTo>
                  <a:lnTo>
                    <a:pt x="16" y="1817"/>
                  </a:lnTo>
                  <a:lnTo>
                    <a:pt x="3" y="1717"/>
                  </a:lnTo>
                  <a:lnTo>
                    <a:pt x="0" y="1615"/>
                  </a:lnTo>
                  <a:lnTo>
                    <a:pt x="3" y="1513"/>
                  </a:lnTo>
                  <a:lnTo>
                    <a:pt x="16" y="1413"/>
                  </a:lnTo>
                  <a:lnTo>
                    <a:pt x="35" y="1314"/>
                  </a:lnTo>
                  <a:lnTo>
                    <a:pt x="61" y="1218"/>
                  </a:lnTo>
                  <a:lnTo>
                    <a:pt x="95" y="1124"/>
                  </a:lnTo>
                  <a:lnTo>
                    <a:pt x="134" y="1032"/>
                  </a:lnTo>
                  <a:lnTo>
                    <a:pt x="181" y="943"/>
                  </a:lnTo>
                  <a:lnTo>
                    <a:pt x="234" y="856"/>
                  </a:lnTo>
                  <a:lnTo>
                    <a:pt x="293" y="774"/>
                  </a:lnTo>
                  <a:lnTo>
                    <a:pt x="358" y="693"/>
                  </a:lnTo>
                  <a:lnTo>
                    <a:pt x="428" y="616"/>
                  </a:lnTo>
                  <a:lnTo>
                    <a:pt x="504" y="543"/>
                  </a:lnTo>
                  <a:lnTo>
                    <a:pt x="585" y="474"/>
                  </a:lnTo>
                  <a:lnTo>
                    <a:pt x="671" y="408"/>
                  </a:lnTo>
                  <a:lnTo>
                    <a:pt x="761" y="348"/>
                  </a:lnTo>
                  <a:lnTo>
                    <a:pt x="855" y="290"/>
                  </a:lnTo>
                  <a:lnTo>
                    <a:pt x="954" y="237"/>
                  </a:lnTo>
                  <a:lnTo>
                    <a:pt x="1057" y="190"/>
                  </a:lnTo>
                  <a:lnTo>
                    <a:pt x="1163" y="148"/>
                  </a:lnTo>
                  <a:lnTo>
                    <a:pt x="1274" y="109"/>
                  </a:lnTo>
                  <a:lnTo>
                    <a:pt x="1387" y="77"/>
                  </a:lnTo>
                  <a:lnTo>
                    <a:pt x="1504" y="50"/>
                  </a:lnTo>
                  <a:lnTo>
                    <a:pt x="1622" y="28"/>
                  </a:lnTo>
                  <a:lnTo>
                    <a:pt x="1743" y="13"/>
                  </a:lnTo>
                  <a:lnTo>
                    <a:pt x="1868" y="4"/>
                  </a:lnTo>
                  <a:lnTo>
                    <a:pt x="1994"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8" name="Freeform 678"/>
            <p:cNvSpPr/>
            <p:nvPr/>
          </p:nvSpPr>
          <p:spPr>
            <a:xfrm>
              <a:off x="1095480" y="3229920"/>
              <a:ext cx="126720" cy="80280"/>
            </a:xfrm>
            <a:custGeom>
              <a:avLst/>
              <a:gdLst/>
              <a:ahLst/>
              <a:rect l="l" t="t" r="r" b="b"/>
              <a:pathLst>
                <a:path w="1826" h="928">
                  <a:moveTo>
                    <a:pt x="0" y="0"/>
                  </a:moveTo>
                  <a:lnTo>
                    <a:pt x="338" y="0"/>
                  </a:lnTo>
                  <a:lnTo>
                    <a:pt x="319" y="45"/>
                  </a:lnTo>
                  <a:lnTo>
                    <a:pt x="304" y="92"/>
                  </a:lnTo>
                  <a:lnTo>
                    <a:pt x="296" y="139"/>
                  </a:lnTo>
                  <a:lnTo>
                    <a:pt x="293" y="189"/>
                  </a:lnTo>
                  <a:lnTo>
                    <a:pt x="297" y="243"/>
                  </a:lnTo>
                  <a:lnTo>
                    <a:pt x="307" y="296"/>
                  </a:lnTo>
                  <a:lnTo>
                    <a:pt x="324" y="347"/>
                  </a:lnTo>
                  <a:lnTo>
                    <a:pt x="348" y="396"/>
                  </a:lnTo>
                  <a:lnTo>
                    <a:pt x="378" y="442"/>
                  </a:lnTo>
                  <a:lnTo>
                    <a:pt x="413" y="485"/>
                  </a:lnTo>
                  <a:lnTo>
                    <a:pt x="453" y="525"/>
                  </a:lnTo>
                  <a:lnTo>
                    <a:pt x="498" y="561"/>
                  </a:lnTo>
                  <a:lnTo>
                    <a:pt x="546" y="594"/>
                  </a:lnTo>
                  <a:lnTo>
                    <a:pt x="600" y="622"/>
                  </a:lnTo>
                  <a:lnTo>
                    <a:pt x="657" y="646"/>
                  </a:lnTo>
                  <a:lnTo>
                    <a:pt x="717" y="665"/>
                  </a:lnTo>
                  <a:lnTo>
                    <a:pt x="780" y="679"/>
                  </a:lnTo>
                  <a:lnTo>
                    <a:pt x="846" y="688"/>
                  </a:lnTo>
                  <a:lnTo>
                    <a:pt x="913" y="691"/>
                  </a:lnTo>
                  <a:lnTo>
                    <a:pt x="981" y="688"/>
                  </a:lnTo>
                  <a:lnTo>
                    <a:pt x="1045" y="679"/>
                  </a:lnTo>
                  <a:lnTo>
                    <a:pt x="1109" y="665"/>
                  </a:lnTo>
                  <a:lnTo>
                    <a:pt x="1169" y="646"/>
                  </a:lnTo>
                  <a:lnTo>
                    <a:pt x="1226" y="622"/>
                  </a:lnTo>
                  <a:lnTo>
                    <a:pt x="1279" y="594"/>
                  </a:lnTo>
                  <a:lnTo>
                    <a:pt x="1329" y="561"/>
                  </a:lnTo>
                  <a:lnTo>
                    <a:pt x="1373" y="525"/>
                  </a:lnTo>
                  <a:lnTo>
                    <a:pt x="1413" y="485"/>
                  </a:lnTo>
                  <a:lnTo>
                    <a:pt x="1448" y="442"/>
                  </a:lnTo>
                  <a:lnTo>
                    <a:pt x="1478" y="396"/>
                  </a:lnTo>
                  <a:lnTo>
                    <a:pt x="1502" y="347"/>
                  </a:lnTo>
                  <a:lnTo>
                    <a:pt x="1519" y="296"/>
                  </a:lnTo>
                  <a:lnTo>
                    <a:pt x="1529" y="243"/>
                  </a:lnTo>
                  <a:lnTo>
                    <a:pt x="1533" y="189"/>
                  </a:lnTo>
                  <a:lnTo>
                    <a:pt x="1531" y="139"/>
                  </a:lnTo>
                  <a:lnTo>
                    <a:pt x="1521" y="92"/>
                  </a:lnTo>
                  <a:lnTo>
                    <a:pt x="1507" y="45"/>
                  </a:lnTo>
                  <a:lnTo>
                    <a:pt x="1487" y="0"/>
                  </a:lnTo>
                  <a:lnTo>
                    <a:pt x="1826" y="0"/>
                  </a:lnTo>
                  <a:lnTo>
                    <a:pt x="1826" y="752"/>
                  </a:lnTo>
                  <a:lnTo>
                    <a:pt x="1822" y="783"/>
                  </a:lnTo>
                  <a:lnTo>
                    <a:pt x="1812" y="814"/>
                  </a:lnTo>
                  <a:lnTo>
                    <a:pt x="1796" y="841"/>
                  </a:lnTo>
                  <a:lnTo>
                    <a:pt x="1775" y="865"/>
                  </a:lnTo>
                  <a:lnTo>
                    <a:pt x="1749" y="886"/>
                  </a:lnTo>
                  <a:lnTo>
                    <a:pt x="1718" y="904"/>
                  </a:lnTo>
                  <a:lnTo>
                    <a:pt x="1684" y="917"/>
                  </a:lnTo>
                  <a:lnTo>
                    <a:pt x="1648" y="925"/>
                  </a:lnTo>
                  <a:lnTo>
                    <a:pt x="1608" y="928"/>
                  </a:lnTo>
                  <a:lnTo>
                    <a:pt x="217" y="928"/>
                  </a:lnTo>
                  <a:lnTo>
                    <a:pt x="179" y="925"/>
                  </a:lnTo>
                  <a:lnTo>
                    <a:pt x="141" y="917"/>
                  </a:lnTo>
                  <a:lnTo>
                    <a:pt x="107" y="904"/>
                  </a:lnTo>
                  <a:lnTo>
                    <a:pt x="77" y="886"/>
                  </a:lnTo>
                  <a:lnTo>
                    <a:pt x="51" y="865"/>
                  </a:lnTo>
                  <a:lnTo>
                    <a:pt x="30" y="841"/>
                  </a:lnTo>
                  <a:lnTo>
                    <a:pt x="14" y="814"/>
                  </a:lnTo>
                  <a:lnTo>
                    <a:pt x="4" y="783"/>
                  </a:lnTo>
                  <a:lnTo>
                    <a:pt x="0" y="752"/>
                  </a:lnTo>
                  <a:lnTo>
                    <a:pt x="0" y="0"/>
                  </a:lnTo>
                  <a:close/>
                </a:path>
              </a:pathLst>
            </a:custGeom>
            <a:solidFill>
              <a:srgbClr val="da1088"/>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Calibri"/>
              </a:endParaRPr>
            </a:p>
          </p:txBody>
        </p:sp>
        <p:sp>
          <p:nvSpPr>
            <p:cNvPr id="489" name="Freeform 1536"/>
            <p:cNvSpPr/>
            <p:nvPr/>
          </p:nvSpPr>
          <p:spPr>
            <a:xfrm>
              <a:off x="1398960" y="3106800"/>
              <a:ext cx="276480" cy="279360"/>
            </a:xfrm>
            <a:custGeom>
              <a:avLst/>
              <a:gdLst/>
              <a:ahLst/>
              <a:rect l="l" t="t" r="r" b="b"/>
              <a:pathLst>
                <a:path w="3474" h="3518">
                  <a:moveTo>
                    <a:pt x="2112" y="957"/>
                  </a:moveTo>
                  <a:lnTo>
                    <a:pt x="2061" y="961"/>
                  </a:lnTo>
                  <a:lnTo>
                    <a:pt x="2014" y="970"/>
                  </a:lnTo>
                  <a:lnTo>
                    <a:pt x="1968" y="985"/>
                  </a:lnTo>
                  <a:lnTo>
                    <a:pt x="1924" y="1005"/>
                  </a:lnTo>
                  <a:lnTo>
                    <a:pt x="1883" y="1030"/>
                  </a:lnTo>
                  <a:lnTo>
                    <a:pt x="1846" y="1060"/>
                  </a:lnTo>
                  <a:lnTo>
                    <a:pt x="1814" y="1094"/>
                  </a:lnTo>
                  <a:lnTo>
                    <a:pt x="1784" y="1131"/>
                  </a:lnTo>
                  <a:lnTo>
                    <a:pt x="1759" y="1172"/>
                  </a:lnTo>
                  <a:lnTo>
                    <a:pt x="1739" y="1216"/>
                  </a:lnTo>
                  <a:lnTo>
                    <a:pt x="1724" y="1263"/>
                  </a:lnTo>
                  <a:lnTo>
                    <a:pt x="1716" y="1311"/>
                  </a:lnTo>
                  <a:lnTo>
                    <a:pt x="1713" y="1362"/>
                  </a:lnTo>
                  <a:lnTo>
                    <a:pt x="1715" y="1409"/>
                  </a:lnTo>
                  <a:lnTo>
                    <a:pt x="1722" y="1454"/>
                  </a:lnTo>
                  <a:lnTo>
                    <a:pt x="1640" y="1448"/>
                  </a:lnTo>
                  <a:lnTo>
                    <a:pt x="1559" y="1435"/>
                  </a:lnTo>
                  <a:lnTo>
                    <a:pt x="1481" y="1416"/>
                  </a:lnTo>
                  <a:lnTo>
                    <a:pt x="1405" y="1392"/>
                  </a:lnTo>
                  <a:lnTo>
                    <a:pt x="1331" y="1363"/>
                  </a:lnTo>
                  <a:lnTo>
                    <a:pt x="1259" y="1329"/>
                  </a:lnTo>
                  <a:lnTo>
                    <a:pt x="1191" y="1289"/>
                  </a:lnTo>
                  <a:lnTo>
                    <a:pt x="1126" y="1247"/>
                  </a:lnTo>
                  <a:lnTo>
                    <a:pt x="1064" y="1198"/>
                  </a:lnTo>
                  <a:lnTo>
                    <a:pt x="1005" y="1146"/>
                  </a:lnTo>
                  <a:lnTo>
                    <a:pt x="950" y="1091"/>
                  </a:lnTo>
                  <a:lnTo>
                    <a:pt x="899" y="1032"/>
                  </a:lnTo>
                  <a:lnTo>
                    <a:pt x="880" y="1068"/>
                  </a:lnTo>
                  <a:lnTo>
                    <a:pt x="865" y="1108"/>
                  </a:lnTo>
                  <a:lnTo>
                    <a:pt x="854" y="1149"/>
                  </a:lnTo>
                  <a:lnTo>
                    <a:pt x="846" y="1192"/>
                  </a:lnTo>
                  <a:lnTo>
                    <a:pt x="844" y="1236"/>
                  </a:lnTo>
                  <a:lnTo>
                    <a:pt x="848" y="1287"/>
                  </a:lnTo>
                  <a:lnTo>
                    <a:pt x="857" y="1337"/>
                  </a:lnTo>
                  <a:lnTo>
                    <a:pt x="873" y="1384"/>
                  </a:lnTo>
                  <a:lnTo>
                    <a:pt x="893" y="1429"/>
                  </a:lnTo>
                  <a:lnTo>
                    <a:pt x="919" y="1471"/>
                  </a:lnTo>
                  <a:lnTo>
                    <a:pt x="950" y="1508"/>
                  </a:lnTo>
                  <a:lnTo>
                    <a:pt x="984" y="1542"/>
                  </a:lnTo>
                  <a:lnTo>
                    <a:pt x="1022" y="1572"/>
                  </a:lnTo>
                  <a:lnTo>
                    <a:pt x="974" y="1568"/>
                  </a:lnTo>
                  <a:lnTo>
                    <a:pt x="928" y="1557"/>
                  </a:lnTo>
                  <a:lnTo>
                    <a:pt x="883" y="1541"/>
                  </a:lnTo>
                  <a:lnTo>
                    <a:pt x="841" y="1522"/>
                  </a:lnTo>
                  <a:lnTo>
                    <a:pt x="841" y="1524"/>
                  </a:lnTo>
                  <a:lnTo>
                    <a:pt x="841" y="1527"/>
                  </a:lnTo>
                  <a:lnTo>
                    <a:pt x="844" y="1579"/>
                  </a:lnTo>
                  <a:lnTo>
                    <a:pt x="854" y="1629"/>
                  </a:lnTo>
                  <a:lnTo>
                    <a:pt x="870" y="1678"/>
                  </a:lnTo>
                  <a:lnTo>
                    <a:pt x="891" y="1723"/>
                  </a:lnTo>
                  <a:lnTo>
                    <a:pt x="918" y="1765"/>
                  </a:lnTo>
                  <a:lnTo>
                    <a:pt x="949" y="1803"/>
                  </a:lnTo>
                  <a:lnTo>
                    <a:pt x="984" y="1837"/>
                  </a:lnTo>
                  <a:lnTo>
                    <a:pt x="1025" y="1867"/>
                  </a:lnTo>
                  <a:lnTo>
                    <a:pt x="1067" y="1891"/>
                  </a:lnTo>
                  <a:lnTo>
                    <a:pt x="1113" y="1910"/>
                  </a:lnTo>
                  <a:lnTo>
                    <a:pt x="1162" y="1923"/>
                  </a:lnTo>
                  <a:lnTo>
                    <a:pt x="1128" y="1931"/>
                  </a:lnTo>
                  <a:lnTo>
                    <a:pt x="1092" y="1936"/>
                  </a:lnTo>
                  <a:lnTo>
                    <a:pt x="1056" y="1937"/>
                  </a:lnTo>
                  <a:lnTo>
                    <a:pt x="1018" y="1935"/>
                  </a:lnTo>
                  <a:lnTo>
                    <a:pt x="981" y="1930"/>
                  </a:lnTo>
                  <a:lnTo>
                    <a:pt x="1000" y="1977"/>
                  </a:lnTo>
                  <a:lnTo>
                    <a:pt x="1024" y="2021"/>
                  </a:lnTo>
                  <a:lnTo>
                    <a:pt x="1052" y="2062"/>
                  </a:lnTo>
                  <a:lnTo>
                    <a:pt x="1084" y="2098"/>
                  </a:lnTo>
                  <a:lnTo>
                    <a:pt x="1121" y="2130"/>
                  </a:lnTo>
                  <a:lnTo>
                    <a:pt x="1163" y="2157"/>
                  </a:lnTo>
                  <a:lnTo>
                    <a:pt x="1206" y="2179"/>
                  </a:lnTo>
                  <a:lnTo>
                    <a:pt x="1254" y="2196"/>
                  </a:lnTo>
                  <a:lnTo>
                    <a:pt x="1303" y="2207"/>
                  </a:lnTo>
                  <a:lnTo>
                    <a:pt x="1355" y="2211"/>
                  </a:lnTo>
                  <a:lnTo>
                    <a:pt x="1302" y="2250"/>
                  </a:lnTo>
                  <a:lnTo>
                    <a:pt x="1246" y="2284"/>
                  </a:lnTo>
                  <a:lnTo>
                    <a:pt x="1187" y="2314"/>
                  </a:lnTo>
                  <a:lnTo>
                    <a:pt x="1126" y="2339"/>
                  </a:lnTo>
                  <a:lnTo>
                    <a:pt x="1062" y="2359"/>
                  </a:lnTo>
                  <a:lnTo>
                    <a:pt x="995" y="2373"/>
                  </a:lnTo>
                  <a:lnTo>
                    <a:pt x="928" y="2382"/>
                  </a:lnTo>
                  <a:lnTo>
                    <a:pt x="858" y="2385"/>
                  </a:lnTo>
                  <a:lnTo>
                    <a:pt x="811" y="2383"/>
                  </a:lnTo>
                  <a:lnTo>
                    <a:pt x="763" y="2378"/>
                  </a:lnTo>
                  <a:lnTo>
                    <a:pt x="830" y="2419"/>
                  </a:lnTo>
                  <a:lnTo>
                    <a:pt x="902" y="2455"/>
                  </a:lnTo>
                  <a:lnTo>
                    <a:pt x="975" y="2487"/>
                  </a:lnTo>
                  <a:lnTo>
                    <a:pt x="1051" y="2513"/>
                  </a:lnTo>
                  <a:lnTo>
                    <a:pt x="1129" y="2534"/>
                  </a:lnTo>
                  <a:lnTo>
                    <a:pt x="1209" y="2548"/>
                  </a:lnTo>
                  <a:lnTo>
                    <a:pt x="1292" y="2558"/>
                  </a:lnTo>
                  <a:lnTo>
                    <a:pt x="1376" y="2561"/>
                  </a:lnTo>
                  <a:lnTo>
                    <a:pt x="1459" y="2558"/>
                  </a:lnTo>
                  <a:lnTo>
                    <a:pt x="1540" y="2550"/>
                  </a:lnTo>
                  <a:lnTo>
                    <a:pt x="1617" y="2537"/>
                  </a:lnTo>
                  <a:lnTo>
                    <a:pt x="1691" y="2519"/>
                  </a:lnTo>
                  <a:lnTo>
                    <a:pt x="1762" y="2497"/>
                  </a:lnTo>
                  <a:lnTo>
                    <a:pt x="1831" y="2471"/>
                  </a:lnTo>
                  <a:lnTo>
                    <a:pt x="1896" y="2440"/>
                  </a:lnTo>
                  <a:lnTo>
                    <a:pt x="1958" y="2406"/>
                  </a:lnTo>
                  <a:lnTo>
                    <a:pt x="2017" y="2367"/>
                  </a:lnTo>
                  <a:lnTo>
                    <a:pt x="2072" y="2327"/>
                  </a:lnTo>
                  <a:lnTo>
                    <a:pt x="2125" y="2283"/>
                  </a:lnTo>
                  <a:lnTo>
                    <a:pt x="2174" y="2235"/>
                  </a:lnTo>
                  <a:lnTo>
                    <a:pt x="2220" y="2186"/>
                  </a:lnTo>
                  <a:lnTo>
                    <a:pt x="2263" y="2133"/>
                  </a:lnTo>
                  <a:lnTo>
                    <a:pt x="2303" y="2079"/>
                  </a:lnTo>
                  <a:lnTo>
                    <a:pt x="2338" y="2023"/>
                  </a:lnTo>
                  <a:lnTo>
                    <a:pt x="2372" y="1965"/>
                  </a:lnTo>
                  <a:lnTo>
                    <a:pt x="2401" y="1905"/>
                  </a:lnTo>
                  <a:lnTo>
                    <a:pt x="2428" y="1845"/>
                  </a:lnTo>
                  <a:lnTo>
                    <a:pt x="2450" y="1784"/>
                  </a:lnTo>
                  <a:lnTo>
                    <a:pt x="2469" y="1722"/>
                  </a:lnTo>
                  <a:lnTo>
                    <a:pt x="2485" y="1659"/>
                  </a:lnTo>
                  <a:lnTo>
                    <a:pt x="2497" y="1596"/>
                  </a:lnTo>
                  <a:lnTo>
                    <a:pt x="2506" y="1534"/>
                  </a:lnTo>
                  <a:lnTo>
                    <a:pt x="2511" y="1471"/>
                  </a:lnTo>
                  <a:lnTo>
                    <a:pt x="2513" y="1409"/>
                  </a:lnTo>
                  <a:lnTo>
                    <a:pt x="2512" y="1357"/>
                  </a:lnTo>
                  <a:lnTo>
                    <a:pt x="2558" y="1321"/>
                  </a:lnTo>
                  <a:lnTo>
                    <a:pt x="2600" y="1282"/>
                  </a:lnTo>
                  <a:lnTo>
                    <a:pt x="2641" y="1240"/>
                  </a:lnTo>
                  <a:lnTo>
                    <a:pt x="2677" y="1195"/>
                  </a:lnTo>
                  <a:lnTo>
                    <a:pt x="2711" y="1148"/>
                  </a:lnTo>
                  <a:lnTo>
                    <a:pt x="2657" y="1170"/>
                  </a:lnTo>
                  <a:lnTo>
                    <a:pt x="2600" y="1188"/>
                  </a:lnTo>
                  <a:lnTo>
                    <a:pt x="2542" y="1201"/>
                  </a:lnTo>
                  <a:lnTo>
                    <a:pt x="2482" y="1211"/>
                  </a:lnTo>
                  <a:lnTo>
                    <a:pt x="2522" y="1184"/>
                  </a:lnTo>
                  <a:lnTo>
                    <a:pt x="2558" y="1152"/>
                  </a:lnTo>
                  <a:lnTo>
                    <a:pt x="2589" y="1116"/>
                  </a:lnTo>
                  <a:lnTo>
                    <a:pt x="2618" y="1076"/>
                  </a:lnTo>
                  <a:lnTo>
                    <a:pt x="2641" y="1033"/>
                  </a:lnTo>
                  <a:lnTo>
                    <a:pt x="2658" y="987"/>
                  </a:lnTo>
                  <a:lnTo>
                    <a:pt x="2598" y="1020"/>
                  </a:lnTo>
                  <a:lnTo>
                    <a:pt x="2536" y="1046"/>
                  </a:lnTo>
                  <a:lnTo>
                    <a:pt x="2471" y="1068"/>
                  </a:lnTo>
                  <a:lnTo>
                    <a:pt x="2404" y="1085"/>
                  </a:lnTo>
                  <a:lnTo>
                    <a:pt x="2371" y="1053"/>
                  </a:lnTo>
                  <a:lnTo>
                    <a:pt x="2334" y="1025"/>
                  </a:lnTo>
                  <a:lnTo>
                    <a:pt x="2295" y="1002"/>
                  </a:lnTo>
                  <a:lnTo>
                    <a:pt x="2253" y="984"/>
                  </a:lnTo>
                  <a:lnTo>
                    <a:pt x="2207" y="969"/>
                  </a:lnTo>
                  <a:lnTo>
                    <a:pt x="2160" y="961"/>
                  </a:lnTo>
                  <a:lnTo>
                    <a:pt x="2112" y="957"/>
                  </a:lnTo>
                  <a:close/>
                  <a:moveTo>
                    <a:pt x="1738" y="0"/>
                  </a:moveTo>
                  <a:lnTo>
                    <a:pt x="1847" y="5"/>
                  </a:lnTo>
                  <a:lnTo>
                    <a:pt x="1955" y="15"/>
                  </a:lnTo>
                  <a:lnTo>
                    <a:pt x="2060" y="31"/>
                  </a:lnTo>
                  <a:lnTo>
                    <a:pt x="2165" y="54"/>
                  </a:lnTo>
                  <a:lnTo>
                    <a:pt x="2266" y="84"/>
                  </a:lnTo>
                  <a:lnTo>
                    <a:pt x="2365" y="119"/>
                  </a:lnTo>
                  <a:lnTo>
                    <a:pt x="2460" y="161"/>
                  </a:lnTo>
                  <a:lnTo>
                    <a:pt x="2554" y="207"/>
                  </a:lnTo>
                  <a:lnTo>
                    <a:pt x="2643" y="259"/>
                  </a:lnTo>
                  <a:lnTo>
                    <a:pt x="2729" y="316"/>
                  </a:lnTo>
                  <a:lnTo>
                    <a:pt x="2811" y="379"/>
                  </a:lnTo>
                  <a:lnTo>
                    <a:pt x="2890" y="445"/>
                  </a:lnTo>
                  <a:lnTo>
                    <a:pt x="2965" y="516"/>
                  </a:lnTo>
                  <a:lnTo>
                    <a:pt x="3035" y="592"/>
                  </a:lnTo>
                  <a:lnTo>
                    <a:pt x="3101" y="671"/>
                  </a:lnTo>
                  <a:lnTo>
                    <a:pt x="3163" y="755"/>
                  </a:lnTo>
                  <a:lnTo>
                    <a:pt x="3220" y="843"/>
                  </a:lnTo>
                  <a:lnTo>
                    <a:pt x="3271" y="933"/>
                  </a:lnTo>
                  <a:lnTo>
                    <a:pt x="3316" y="1028"/>
                  </a:lnTo>
                  <a:lnTo>
                    <a:pt x="3358" y="1124"/>
                  </a:lnTo>
                  <a:lnTo>
                    <a:pt x="3393" y="1225"/>
                  </a:lnTo>
                  <a:lnTo>
                    <a:pt x="3422" y="1327"/>
                  </a:lnTo>
                  <a:lnTo>
                    <a:pt x="3445" y="1431"/>
                  </a:lnTo>
                  <a:lnTo>
                    <a:pt x="3461" y="1539"/>
                  </a:lnTo>
                  <a:lnTo>
                    <a:pt x="3471" y="1648"/>
                  </a:lnTo>
                  <a:lnTo>
                    <a:pt x="3474" y="1759"/>
                  </a:lnTo>
                  <a:lnTo>
                    <a:pt x="3471" y="1870"/>
                  </a:lnTo>
                  <a:lnTo>
                    <a:pt x="3461" y="1979"/>
                  </a:lnTo>
                  <a:lnTo>
                    <a:pt x="3445" y="2087"/>
                  </a:lnTo>
                  <a:lnTo>
                    <a:pt x="3422" y="2191"/>
                  </a:lnTo>
                  <a:lnTo>
                    <a:pt x="3393" y="2294"/>
                  </a:lnTo>
                  <a:lnTo>
                    <a:pt x="3358" y="2394"/>
                  </a:lnTo>
                  <a:lnTo>
                    <a:pt x="3316" y="2491"/>
                  </a:lnTo>
                  <a:lnTo>
                    <a:pt x="3271" y="2585"/>
                  </a:lnTo>
                  <a:lnTo>
                    <a:pt x="3220" y="2675"/>
                  </a:lnTo>
                  <a:lnTo>
                    <a:pt x="3163" y="2763"/>
                  </a:lnTo>
                  <a:lnTo>
                    <a:pt x="3101" y="2847"/>
                  </a:lnTo>
                  <a:lnTo>
                    <a:pt x="3035" y="2926"/>
                  </a:lnTo>
                  <a:lnTo>
                    <a:pt x="2965" y="3002"/>
                  </a:lnTo>
                  <a:lnTo>
                    <a:pt x="2890" y="3074"/>
                  </a:lnTo>
                  <a:lnTo>
                    <a:pt x="2811" y="3140"/>
                  </a:lnTo>
                  <a:lnTo>
                    <a:pt x="2729" y="3202"/>
                  </a:lnTo>
                  <a:lnTo>
                    <a:pt x="2643" y="3260"/>
                  </a:lnTo>
                  <a:lnTo>
                    <a:pt x="2554" y="3311"/>
                  </a:lnTo>
                  <a:lnTo>
                    <a:pt x="2460" y="3357"/>
                  </a:lnTo>
                  <a:lnTo>
                    <a:pt x="2365" y="3399"/>
                  </a:lnTo>
                  <a:lnTo>
                    <a:pt x="2266" y="3434"/>
                  </a:lnTo>
                  <a:lnTo>
                    <a:pt x="2165" y="3464"/>
                  </a:lnTo>
                  <a:lnTo>
                    <a:pt x="2060" y="3487"/>
                  </a:lnTo>
                  <a:lnTo>
                    <a:pt x="1955" y="3504"/>
                  </a:lnTo>
                  <a:lnTo>
                    <a:pt x="1847" y="3514"/>
                  </a:lnTo>
                  <a:lnTo>
                    <a:pt x="1738" y="3518"/>
                  </a:lnTo>
                  <a:lnTo>
                    <a:pt x="1628" y="3514"/>
                  </a:lnTo>
                  <a:lnTo>
                    <a:pt x="1519" y="3504"/>
                  </a:lnTo>
                  <a:lnTo>
                    <a:pt x="1414" y="3487"/>
                  </a:lnTo>
                  <a:lnTo>
                    <a:pt x="1310" y="3464"/>
                  </a:lnTo>
                  <a:lnTo>
                    <a:pt x="1208" y="3434"/>
                  </a:lnTo>
                  <a:lnTo>
                    <a:pt x="1110" y="3399"/>
                  </a:lnTo>
                  <a:lnTo>
                    <a:pt x="1014" y="3357"/>
                  </a:lnTo>
                  <a:lnTo>
                    <a:pt x="921" y="3311"/>
                  </a:lnTo>
                  <a:lnTo>
                    <a:pt x="831" y="3260"/>
                  </a:lnTo>
                  <a:lnTo>
                    <a:pt x="745" y="3202"/>
                  </a:lnTo>
                  <a:lnTo>
                    <a:pt x="663" y="3140"/>
                  </a:lnTo>
                  <a:lnTo>
                    <a:pt x="585" y="3074"/>
                  </a:lnTo>
                  <a:lnTo>
                    <a:pt x="510" y="3002"/>
                  </a:lnTo>
                  <a:lnTo>
                    <a:pt x="439" y="2926"/>
                  </a:lnTo>
                  <a:lnTo>
                    <a:pt x="373" y="2847"/>
                  </a:lnTo>
                  <a:lnTo>
                    <a:pt x="312" y="2763"/>
                  </a:lnTo>
                  <a:lnTo>
                    <a:pt x="255" y="2675"/>
                  </a:lnTo>
                  <a:lnTo>
                    <a:pt x="204" y="2585"/>
                  </a:lnTo>
                  <a:lnTo>
                    <a:pt x="157" y="2491"/>
                  </a:lnTo>
                  <a:lnTo>
                    <a:pt x="117" y="2394"/>
                  </a:lnTo>
                  <a:lnTo>
                    <a:pt x="83" y="2294"/>
                  </a:lnTo>
                  <a:lnTo>
                    <a:pt x="53" y="2191"/>
                  </a:lnTo>
                  <a:lnTo>
                    <a:pt x="30" y="2087"/>
                  </a:lnTo>
                  <a:lnTo>
                    <a:pt x="14" y="1979"/>
                  </a:lnTo>
                  <a:lnTo>
                    <a:pt x="3" y="1870"/>
                  </a:lnTo>
                  <a:lnTo>
                    <a:pt x="0" y="1759"/>
                  </a:lnTo>
                  <a:lnTo>
                    <a:pt x="3" y="1648"/>
                  </a:lnTo>
                  <a:lnTo>
                    <a:pt x="14" y="1539"/>
                  </a:lnTo>
                  <a:lnTo>
                    <a:pt x="30" y="1431"/>
                  </a:lnTo>
                  <a:lnTo>
                    <a:pt x="53" y="1327"/>
                  </a:lnTo>
                  <a:lnTo>
                    <a:pt x="83" y="1225"/>
                  </a:lnTo>
                  <a:lnTo>
                    <a:pt x="117" y="1124"/>
                  </a:lnTo>
                  <a:lnTo>
                    <a:pt x="157" y="1028"/>
                  </a:lnTo>
                  <a:lnTo>
                    <a:pt x="204" y="933"/>
                  </a:lnTo>
                  <a:lnTo>
                    <a:pt x="255" y="843"/>
                  </a:lnTo>
                  <a:lnTo>
                    <a:pt x="312" y="755"/>
                  </a:lnTo>
                  <a:lnTo>
                    <a:pt x="373" y="671"/>
                  </a:lnTo>
                  <a:lnTo>
                    <a:pt x="439" y="592"/>
                  </a:lnTo>
                  <a:lnTo>
                    <a:pt x="510" y="516"/>
                  </a:lnTo>
                  <a:lnTo>
                    <a:pt x="585" y="445"/>
                  </a:lnTo>
                  <a:lnTo>
                    <a:pt x="663" y="379"/>
                  </a:lnTo>
                  <a:lnTo>
                    <a:pt x="745" y="316"/>
                  </a:lnTo>
                  <a:lnTo>
                    <a:pt x="831" y="259"/>
                  </a:lnTo>
                  <a:lnTo>
                    <a:pt x="921" y="207"/>
                  </a:lnTo>
                  <a:lnTo>
                    <a:pt x="1014" y="161"/>
                  </a:lnTo>
                  <a:lnTo>
                    <a:pt x="1110" y="119"/>
                  </a:lnTo>
                  <a:lnTo>
                    <a:pt x="1208" y="84"/>
                  </a:lnTo>
                  <a:lnTo>
                    <a:pt x="1310" y="54"/>
                  </a:lnTo>
                  <a:lnTo>
                    <a:pt x="1414" y="31"/>
                  </a:lnTo>
                  <a:lnTo>
                    <a:pt x="1519" y="15"/>
                  </a:lnTo>
                  <a:lnTo>
                    <a:pt x="1628" y="5"/>
                  </a:lnTo>
                  <a:lnTo>
                    <a:pt x="1738"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0" name="Freeform 6"/>
            <p:cNvSpPr/>
            <p:nvPr/>
          </p:nvSpPr>
          <p:spPr>
            <a:xfrm>
              <a:off x="1777680" y="3106800"/>
              <a:ext cx="275040" cy="278640"/>
            </a:xfrm>
            <a:custGeom>
              <a:avLst/>
              <a:gdLst/>
              <a:ahLst/>
              <a:rect l="l" t="t" r="r" b="b"/>
              <a:pathLst>
                <a:path w="3263" h="3314">
                  <a:moveTo>
                    <a:pt x="1776" y="753"/>
                  </a:moveTo>
                  <a:lnTo>
                    <a:pt x="1729" y="754"/>
                  </a:lnTo>
                  <a:lnTo>
                    <a:pt x="1686" y="759"/>
                  </a:lnTo>
                  <a:lnTo>
                    <a:pt x="1646" y="769"/>
                  </a:lnTo>
                  <a:lnTo>
                    <a:pt x="1610" y="780"/>
                  </a:lnTo>
                  <a:lnTo>
                    <a:pt x="1577" y="794"/>
                  </a:lnTo>
                  <a:lnTo>
                    <a:pt x="1547" y="810"/>
                  </a:lnTo>
                  <a:lnTo>
                    <a:pt x="1521" y="829"/>
                  </a:lnTo>
                  <a:lnTo>
                    <a:pt x="1496" y="850"/>
                  </a:lnTo>
                  <a:lnTo>
                    <a:pt x="1475" y="871"/>
                  </a:lnTo>
                  <a:lnTo>
                    <a:pt x="1456" y="895"/>
                  </a:lnTo>
                  <a:lnTo>
                    <a:pt x="1439" y="920"/>
                  </a:lnTo>
                  <a:lnTo>
                    <a:pt x="1426" y="946"/>
                  </a:lnTo>
                  <a:lnTo>
                    <a:pt x="1413" y="973"/>
                  </a:lnTo>
                  <a:lnTo>
                    <a:pt x="1403" y="1000"/>
                  </a:lnTo>
                  <a:lnTo>
                    <a:pt x="1395" y="1027"/>
                  </a:lnTo>
                  <a:lnTo>
                    <a:pt x="1389" y="1054"/>
                  </a:lnTo>
                  <a:lnTo>
                    <a:pt x="1384" y="1081"/>
                  </a:lnTo>
                  <a:lnTo>
                    <a:pt x="1381" y="1107"/>
                  </a:lnTo>
                  <a:lnTo>
                    <a:pt x="1379" y="1132"/>
                  </a:lnTo>
                  <a:lnTo>
                    <a:pt x="1379" y="1156"/>
                  </a:lnTo>
                  <a:lnTo>
                    <a:pt x="1379" y="1376"/>
                  </a:lnTo>
                  <a:lnTo>
                    <a:pt x="1192" y="1376"/>
                  </a:lnTo>
                  <a:lnTo>
                    <a:pt x="1192" y="1715"/>
                  </a:lnTo>
                  <a:lnTo>
                    <a:pt x="1379" y="1715"/>
                  </a:lnTo>
                  <a:lnTo>
                    <a:pt x="1379" y="2676"/>
                  </a:lnTo>
                  <a:lnTo>
                    <a:pt x="1772" y="2676"/>
                  </a:lnTo>
                  <a:lnTo>
                    <a:pt x="1772" y="1715"/>
                  </a:lnTo>
                  <a:lnTo>
                    <a:pt x="2037" y="1715"/>
                  </a:lnTo>
                  <a:lnTo>
                    <a:pt x="2072" y="1376"/>
                  </a:lnTo>
                  <a:lnTo>
                    <a:pt x="1772" y="1376"/>
                  </a:lnTo>
                  <a:lnTo>
                    <a:pt x="1772" y="1176"/>
                  </a:lnTo>
                  <a:lnTo>
                    <a:pt x="1774" y="1153"/>
                  </a:lnTo>
                  <a:lnTo>
                    <a:pt x="1779" y="1135"/>
                  </a:lnTo>
                  <a:lnTo>
                    <a:pt x="1786" y="1119"/>
                  </a:lnTo>
                  <a:lnTo>
                    <a:pt x="1795" y="1107"/>
                  </a:lnTo>
                  <a:lnTo>
                    <a:pt x="1806" y="1097"/>
                  </a:lnTo>
                  <a:lnTo>
                    <a:pt x="1819" y="1091"/>
                  </a:lnTo>
                  <a:lnTo>
                    <a:pt x="1831" y="1087"/>
                  </a:lnTo>
                  <a:lnTo>
                    <a:pt x="1843" y="1085"/>
                  </a:lnTo>
                  <a:lnTo>
                    <a:pt x="1855" y="1084"/>
                  </a:lnTo>
                  <a:lnTo>
                    <a:pt x="2066" y="1084"/>
                  </a:lnTo>
                  <a:lnTo>
                    <a:pt x="2066" y="754"/>
                  </a:lnTo>
                  <a:lnTo>
                    <a:pt x="1776" y="753"/>
                  </a:lnTo>
                  <a:close/>
                  <a:moveTo>
                    <a:pt x="1632" y="0"/>
                  </a:moveTo>
                  <a:lnTo>
                    <a:pt x="1735" y="4"/>
                  </a:lnTo>
                  <a:lnTo>
                    <a:pt x="1836" y="13"/>
                  </a:lnTo>
                  <a:lnTo>
                    <a:pt x="1935" y="29"/>
                  </a:lnTo>
                  <a:lnTo>
                    <a:pt x="2033" y="51"/>
                  </a:lnTo>
                  <a:lnTo>
                    <a:pt x="2128" y="79"/>
                  </a:lnTo>
                  <a:lnTo>
                    <a:pt x="2221" y="112"/>
                  </a:lnTo>
                  <a:lnTo>
                    <a:pt x="2310" y="151"/>
                  </a:lnTo>
                  <a:lnTo>
                    <a:pt x="2398" y="195"/>
                  </a:lnTo>
                  <a:lnTo>
                    <a:pt x="2482" y="243"/>
                  </a:lnTo>
                  <a:lnTo>
                    <a:pt x="2562" y="297"/>
                  </a:lnTo>
                  <a:lnTo>
                    <a:pt x="2640" y="356"/>
                  </a:lnTo>
                  <a:lnTo>
                    <a:pt x="2715" y="418"/>
                  </a:lnTo>
                  <a:lnTo>
                    <a:pt x="2785" y="486"/>
                  </a:lnTo>
                  <a:lnTo>
                    <a:pt x="2850" y="557"/>
                  </a:lnTo>
                  <a:lnTo>
                    <a:pt x="2912" y="632"/>
                  </a:lnTo>
                  <a:lnTo>
                    <a:pt x="2971" y="711"/>
                  </a:lnTo>
                  <a:lnTo>
                    <a:pt x="3024" y="794"/>
                  </a:lnTo>
                  <a:lnTo>
                    <a:pt x="3072" y="879"/>
                  </a:lnTo>
                  <a:lnTo>
                    <a:pt x="3115" y="968"/>
                  </a:lnTo>
                  <a:lnTo>
                    <a:pt x="3153" y="1059"/>
                  </a:lnTo>
                  <a:lnTo>
                    <a:pt x="3186" y="1153"/>
                  </a:lnTo>
                  <a:lnTo>
                    <a:pt x="3214" y="1250"/>
                  </a:lnTo>
                  <a:lnTo>
                    <a:pt x="3235" y="1348"/>
                  </a:lnTo>
                  <a:lnTo>
                    <a:pt x="3250" y="1450"/>
                  </a:lnTo>
                  <a:lnTo>
                    <a:pt x="3259" y="1552"/>
                  </a:lnTo>
                  <a:lnTo>
                    <a:pt x="3263" y="1657"/>
                  </a:lnTo>
                  <a:lnTo>
                    <a:pt x="3259" y="1762"/>
                  </a:lnTo>
                  <a:lnTo>
                    <a:pt x="3250" y="1864"/>
                  </a:lnTo>
                  <a:lnTo>
                    <a:pt x="3235" y="1966"/>
                  </a:lnTo>
                  <a:lnTo>
                    <a:pt x="3214" y="2064"/>
                  </a:lnTo>
                  <a:lnTo>
                    <a:pt x="3186" y="2161"/>
                  </a:lnTo>
                  <a:lnTo>
                    <a:pt x="3153" y="2255"/>
                  </a:lnTo>
                  <a:lnTo>
                    <a:pt x="3115" y="2346"/>
                  </a:lnTo>
                  <a:lnTo>
                    <a:pt x="3072" y="2435"/>
                  </a:lnTo>
                  <a:lnTo>
                    <a:pt x="3024" y="2520"/>
                  </a:lnTo>
                  <a:lnTo>
                    <a:pt x="2971" y="2603"/>
                  </a:lnTo>
                  <a:lnTo>
                    <a:pt x="2912" y="2682"/>
                  </a:lnTo>
                  <a:lnTo>
                    <a:pt x="2850" y="2757"/>
                  </a:lnTo>
                  <a:lnTo>
                    <a:pt x="2785" y="2828"/>
                  </a:lnTo>
                  <a:lnTo>
                    <a:pt x="2715" y="2895"/>
                  </a:lnTo>
                  <a:lnTo>
                    <a:pt x="2640" y="2958"/>
                  </a:lnTo>
                  <a:lnTo>
                    <a:pt x="2562" y="3017"/>
                  </a:lnTo>
                  <a:lnTo>
                    <a:pt x="2482" y="3071"/>
                  </a:lnTo>
                  <a:lnTo>
                    <a:pt x="2398" y="3119"/>
                  </a:lnTo>
                  <a:lnTo>
                    <a:pt x="2310" y="3163"/>
                  </a:lnTo>
                  <a:lnTo>
                    <a:pt x="2221" y="3202"/>
                  </a:lnTo>
                  <a:lnTo>
                    <a:pt x="2128" y="3235"/>
                  </a:lnTo>
                  <a:lnTo>
                    <a:pt x="2033" y="3263"/>
                  </a:lnTo>
                  <a:lnTo>
                    <a:pt x="1935" y="3285"/>
                  </a:lnTo>
                  <a:lnTo>
                    <a:pt x="1836" y="3301"/>
                  </a:lnTo>
                  <a:lnTo>
                    <a:pt x="1735" y="3310"/>
                  </a:lnTo>
                  <a:lnTo>
                    <a:pt x="1632" y="3314"/>
                  </a:lnTo>
                  <a:lnTo>
                    <a:pt x="1529" y="3310"/>
                  </a:lnTo>
                  <a:lnTo>
                    <a:pt x="1427" y="3301"/>
                  </a:lnTo>
                  <a:lnTo>
                    <a:pt x="1328" y="3285"/>
                  </a:lnTo>
                  <a:lnTo>
                    <a:pt x="1231" y="3263"/>
                  </a:lnTo>
                  <a:lnTo>
                    <a:pt x="1135" y="3235"/>
                  </a:lnTo>
                  <a:lnTo>
                    <a:pt x="1043" y="3202"/>
                  </a:lnTo>
                  <a:lnTo>
                    <a:pt x="952" y="3163"/>
                  </a:lnTo>
                  <a:lnTo>
                    <a:pt x="865" y="3119"/>
                  </a:lnTo>
                  <a:lnTo>
                    <a:pt x="781" y="3071"/>
                  </a:lnTo>
                  <a:lnTo>
                    <a:pt x="700" y="3017"/>
                  </a:lnTo>
                  <a:lnTo>
                    <a:pt x="622" y="2958"/>
                  </a:lnTo>
                  <a:lnTo>
                    <a:pt x="549" y="2895"/>
                  </a:lnTo>
                  <a:lnTo>
                    <a:pt x="479" y="2828"/>
                  </a:lnTo>
                  <a:lnTo>
                    <a:pt x="412" y="2757"/>
                  </a:lnTo>
                  <a:lnTo>
                    <a:pt x="350" y="2682"/>
                  </a:lnTo>
                  <a:lnTo>
                    <a:pt x="293" y="2603"/>
                  </a:lnTo>
                  <a:lnTo>
                    <a:pt x="240" y="2520"/>
                  </a:lnTo>
                  <a:lnTo>
                    <a:pt x="192" y="2435"/>
                  </a:lnTo>
                  <a:lnTo>
                    <a:pt x="148" y="2346"/>
                  </a:lnTo>
                  <a:lnTo>
                    <a:pt x="110" y="2255"/>
                  </a:lnTo>
                  <a:lnTo>
                    <a:pt x="78" y="2161"/>
                  </a:lnTo>
                  <a:lnTo>
                    <a:pt x="50" y="2064"/>
                  </a:lnTo>
                  <a:lnTo>
                    <a:pt x="29" y="1966"/>
                  </a:lnTo>
                  <a:lnTo>
                    <a:pt x="13" y="1864"/>
                  </a:lnTo>
                  <a:lnTo>
                    <a:pt x="3" y="1762"/>
                  </a:lnTo>
                  <a:lnTo>
                    <a:pt x="0" y="1657"/>
                  </a:lnTo>
                  <a:lnTo>
                    <a:pt x="3" y="1552"/>
                  </a:lnTo>
                  <a:lnTo>
                    <a:pt x="13" y="1450"/>
                  </a:lnTo>
                  <a:lnTo>
                    <a:pt x="29" y="1348"/>
                  </a:lnTo>
                  <a:lnTo>
                    <a:pt x="50" y="1250"/>
                  </a:lnTo>
                  <a:lnTo>
                    <a:pt x="78" y="1153"/>
                  </a:lnTo>
                  <a:lnTo>
                    <a:pt x="110" y="1059"/>
                  </a:lnTo>
                  <a:lnTo>
                    <a:pt x="148" y="968"/>
                  </a:lnTo>
                  <a:lnTo>
                    <a:pt x="192" y="879"/>
                  </a:lnTo>
                  <a:lnTo>
                    <a:pt x="240" y="794"/>
                  </a:lnTo>
                  <a:lnTo>
                    <a:pt x="293" y="711"/>
                  </a:lnTo>
                  <a:lnTo>
                    <a:pt x="350" y="632"/>
                  </a:lnTo>
                  <a:lnTo>
                    <a:pt x="412" y="557"/>
                  </a:lnTo>
                  <a:lnTo>
                    <a:pt x="479" y="486"/>
                  </a:lnTo>
                  <a:lnTo>
                    <a:pt x="549" y="418"/>
                  </a:lnTo>
                  <a:lnTo>
                    <a:pt x="622" y="356"/>
                  </a:lnTo>
                  <a:lnTo>
                    <a:pt x="700" y="297"/>
                  </a:lnTo>
                  <a:lnTo>
                    <a:pt x="781" y="243"/>
                  </a:lnTo>
                  <a:lnTo>
                    <a:pt x="865" y="195"/>
                  </a:lnTo>
                  <a:lnTo>
                    <a:pt x="952" y="151"/>
                  </a:lnTo>
                  <a:lnTo>
                    <a:pt x="1043" y="112"/>
                  </a:lnTo>
                  <a:lnTo>
                    <a:pt x="1135" y="79"/>
                  </a:lnTo>
                  <a:lnTo>
                    <a:pt x="1231" y="51"/>
                  </a:lnTo>
                  <a:lnTo>
                    <a:pt x="1328" y="29"/>
                  </a:lnTo>
                  <a:lnTo>
                    <a:pt x="1427" y="13"/>
                  </a:lnTo>
                  <a:lnTo>
                    <a:pt x="1529" y="4"/>
                  </a:lnTo>
                  <a:lnTo>
                    <a:pt x="1632"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91" name="TextBox 18"/>
          <p:cNvSpPr/>
          <p:nvPr/>
        </p:nvSpPr>
        <p:spPr>
          <a:xfrm flipH="1">
            <a:off x="4485600" y="4794120"/>
            <a:ext cx="530280" cy="273960"/>
          </a:xfrm>
          <a:prstGeom prst="rect">
            <a:avLst/>
          </a:prstGeom>
          <a:noFill/>
          <a:ln w="0">
            <a:noFill/>
          </a:ln>
        </p:spPr>
        <p:style>
          <a:lnRef idx="0"/>
          <a:fillRef idx="0"/>
          <a:effectRef idx="0"/>
          <a:fontRef idx="minor"/>
        </p:style>
        <p:txBody>
          <a:bodyPr lIns="0" rIns="0" tIns="0" bIns="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262626"/>
                </a:solidFill>
                <a:latin typeface="Lato"/>
                <a:ea typeface="Lato"/>
              </a:rPr>
              <a:t>87</a:t>
            </a:r>
            <a:r>
              <a:rPr b="0" lang="en-ID" sz="1200" spc="-1" strike="noStrike">
                <a:solidFill>
                  <a:srgbClr val="262626"/>
                </a:solidFill>
                <a:latin typeface="Lato"/>
                <a:ea typeface="Lato"/>
              </a:rPr>
              <a:t>%</a:t>
            </a:r>
            <a:endParaRPr b="0" lang="en-US" sz="1200" spc="-1" strike="noStrike">
              <a:solidFill>
                <a:srgbClr val="000000"/>
              </a:solidFill>
              <a:latin typeface="Calibri"/>
            </a:endParaRPr>
          </a:p>
        </p:txBody>
      </p:sp>
      <p:sp>
        <p:nvSpPr>
          <p:cNvPr id="492" name="TextBox 60"/>
          <p:cNvSpPr/>
          <p:nvPr/>
        </p:nvSpPr>
        <p:spPr>
          <a:xfrm flipH="1">
            <a:off x="1019160" y="4611600"/>
            <a:ext cx="1922400" cy="25128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100" spc="-1" strike="noStrike">
                <a:solidFill>
                  <a:srgbClr val="000000"/>
                </a:solidFill>
                <a:latin typeface="Calibri"/>
                <a:ea typeface="Lato Medium"/>
              </a:rPr>
              <a:t>Type Your Skill Here</a:t>
            </a:r>
            <a:endParaRPr b="0" lang="en-US" sz="1100" spc="-1" strike="noStrike">
              <a:solidFill>
                <a:srgbClr val="000000"/>
              </a:solidFill>
              <a:latin typeface="Calibri"/>
            </a:endParaRPr>
          </a:p>
        </p:txBody>
      </p:sp>
      <p:sp>
        <p:nvSpPr>
          <p:cNvPr id="493" name="Rectangle 61"/>
          <p:cNvSpPr/>
          <p:nvPr/>
        </p:nvSpPr>
        <p:spPr>
          <a:xfrm>
            <a:off x="1014480" y="4903920"/>
            <a:ext cx="2301840" cy="46080"/>
          </a:xfrm>
          <a:prstGeom prst="rect">
            <a:avLst/>
          </a:prstGeom>
          <a:solidFill>
            <a:srgbClr val="da1088"/>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4" name="Rectangle 62"/>
          <p:cNvSpPr/>
          <p:nvPr/>
        </p:nvSpPr>
        <p:spPr>
          <a:xfrm>
            <a:off x="1014480" y="5423040"/>
            <a:ext cx="3205080" cy="44280"/>
          </a:xfrm>
          <a:prstGeom prst="rect">
            <a:avLst/>
          </a:prstGeom>
          <a:solidFill>
            <a:srgbClr val="e7e6e6"/>
          </a:solidFill>
          <a:ln w="0">
            <a:noFill/>
          </a:ln>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5" name="Rectangle 63"/>
          <p:cNvSpPr/>
          <p:nvPr/>
        </p:nvSpPr>
        <p:spPr>
          <a:xfrm>
            <a:off x="1014480" y="5425920"/>
            <a:ext cx="2477880" cy="46080"/>
          </a:xfrm>
          <a:prstGeom prst="rect">
            <a:avLst/>
          </a:prstGeom>
          <a:solidFill>
            <a:srgbClr val="da1088"/>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TextBox 25"/>
          <p:cNvSpPr/>
          <p:nvPr/>
        </p:nvSpPr>
        <p:spPr>
          <a:xfrm flipH="1">
            <a:off x="4485600" y="5311800"/>
            <a:ext cx="530280" cy="273960"/>
          </a:xfrm>
          <a:prstGeom prst="rect">
            <a:avLst/>
          </a:prstGeom>
          <a:noFill/>
          <a:ln w="0">
            <a:noFill/>
          </a:ln>
        </p:spPr>
        <p:style>
          <a:lnRef idx="0"/>
          <a:fillRef idx="0"/>
          <a:effectRef idx="0"/>
          <a:fontRef idx="minor"/>
        </p:style>
        <p:txBody>
          <a:bodyPr lIns="0" rIns="0" tIns="0" bIns="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262626"/>
                </a:solidFill>
                <a:latin typeface="Lato"/>
                <a:ea typeface="Lato"/>
              </a:rPr>
              <a:t>89</a:t>
            </a:r>
            <a:r>
              <a:rPr b="0" lang="en-ID" sz="1200" spc="-1" strike="noStrike">
                <a:solidFill>
                  <a:srgbClr val="262626"/>
                </a:solidFill>
                <a:latin typeface="Lato"/>
                <a:ea typeface="Lato"/>
              </a:rPr>
              <a:t>%</a:t>
            </a:r>
            <a:endParaRPr b="0" lang="en-US" sz="1200" spc="-1" strike="noStrike">
              <a:solidFill>
                <a:srgbClr val="000000"/>
              </a:solidFill>
              <a:latin typeface="Calibri"/>
            </a:endParaRPr>
          </a:p>
        </p:txBody>
      </p:sp>
      <p:sp>
        <p:nvSpPr>
          <p:cNvPr id="497" name="TextBox 65"/>
          <p:cNvSpPr/>
          <p:nvPr/>
        </p:nvSpPr>
        <p:spPr>
          <a:xfrm flipH="1">
            <a:off x="1019160" y="5129280"/>
            <a:ext cx="1922400" cy="251280"/>
          </a:xfrm>
          <a:prstGeom prst="rect">
            <a:avLst/>
          </a:prstGeom>
          <a:noFill/>
          <a:ln w="0">
            <a:noFill/>
          </a:ln>
        </p:spPr>
        <p:style>
          <a:lnRef idx="0"/>
          <a:fillRef idx="0"/>
          <a:effectRef idx="0"/>
          <a:fontRef idx="minor"/>
        </p:style>
        <p:txBody>
          <a:bodyPr lIns="0" rIns="0" tIns="0" bIns="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100" spc="-1" strike="noStrike">
                <a:solidFill>
                  <a:srgbClr val="000000"/>
                </a:solidFill>
                <a:latin typeface="Calibri"/>
                <a:ea typeface="Lato Medium"/>
              </a:rPr>
              <a:t>Type Your Experience Here</a:t>
            </a:r>
            <a:endParaRPr b="0" lang="en-US" sz="1100" spc="-1" strike="noStrike">
              <a:solidFill>
                <a:srgbClr val="000000"/>
              </a:solidFill>
              <a:latin typeface="Calibri"/>
            </a:endParaRPr>
          </a:p>
        </p:txBody>
      </p:sp>
      <p:sp>
        <p:nvSpPr>
          <p:cNvPr id="498" name="Oval 66"/>
          <p:cNvSpPr/>
          <p:nvPr/>
        </p:nvSpPr>
        <p:spPr>
          <a:xfrm>
            <a:off x="3097080" y="4800600"/>
            <a:ext cx="231840" cy="233280"/>
          </a:xfrm>
          <a:prstGeom prst="ellipse">
            <a:avLst/>
          </a:prstGeom>
          <a:solidFill>
            <a:srgbClr val="da10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9" name="Oval 67"/>
          <p:cNvSpPr/>
          <p:nvPr/>
        </p:nvSpPr>
        <p:spPr>
          <a:xfrm>
            <a:off x="3141720" y="4844880"/>
            <a:ext cx="142920" cy="144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0" name="Oval 68"/>
          <p:cNvSpPr/>
          <p:nvPr/>
        </p:nvSpPr>
        <p:spPr>
          <a:xfrm>
            <a:off x="3262320" y="5318280"/>
            <a:ext cx="231840" cy="233280"/>
          </a:xfrm>
          <a:prstGeom prst="ellipse">
            <a:avLst/>
          </a:prstGeom>
          <a:solidFill>
            <a:srgbClr val="da10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1" name="Oval 69"/>
          <p:cNvSpPr/>
          <p:nvPr/>
        </p:nvSpPr>
        <p:spPr>
          <a:xfrm>
            <a:off x="3306600" y="5362560"/>
            <a:ext cx="142920" cy="144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2" name="Title 1"/>
          <p:cNvSpPr/>
          <p:nvPr/>
        </p:nvSpPr>
        <p:spPr>
          <a:xfrm>
            <a:off x="428760" y="860400"/>
            <a:ext cx="5667120" cy="9889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62626"/>
                </a:solidFill>
                <a:latin typeface="Montserrat Medium"/>
                <a:ea typeface="Open Sans"/>
              </a:rPr>
              <a:t>Developer</a:t>
            </a:r>
            <a:endParaRPr b="0" lang="en-US" sz="6000" spc="-1" strike="noStrike">
              <a:solidFill>
                <a:srgbClr val="000000"/>
              </a:solidFill>
              <a:latin typeface="Calibri"/>
            </a:endParaRPr>
          </a:p>
        </p:txBody>
      </p:sp>
      <p:sp>
        <p:nvSpPr>
          <p:cNvPr id="503" name="Title 1"/>
          <p:cNvSpPr/>
          <p:nvPr/>
        </p:nvSpPr>
        <p:spPr>
          <a:xfrm>
            <a:off x="423720" y="1519200"/>
            <a:ext cx="6096240" cy="9889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62626"/>
                </a:solidFill>
                <a:latin typeface="Montserrat Medium"/>
                <a:ea typeface="Open Sans"/>
              </a:rPr>
              <a:t>Looting</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Rounded Corners 75"/>
          <p:cNvSpPr/>
          <p:nvPr/>
        </p:nvSpPr>
        <p:spPr>
          <a:xfrm rot="2700000">
            <a:off x="8414640" y="2427480"/>
            <a:ext cx="1981440" cy="1981080"/>
          </a:xfrm>
          <a:prstGeom prst="roundRect">
            <a:avLst>
              <a:gd name="adj" fmla="val 16667"/>
            </a:avLst>
          </a:prstGeom>
          <a:solidFill>
            <a:srgbClr val="da10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5" name="Rectangle: Rounded Corners 74"/>
          <p:cNvSpPr/>
          <p:nvPr/>
        </p:nvSpPr>
        <p:spPr>
          <a:xfrm rot="2700000">
            <a:off x="5100840" y="2462760"/>
            <a:ext cx="1982880" cy="1981080"/>
          </a:xfrm>
          <a:prstGeom prst="roundRect">
            <a:avLst>
              <a:gd name="adj" fmla="val 16667"/>
            </a:avLst>
          </a:prstGeom>
          <a:solidFill>
            <a:srgbClr val="da10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6" name="Rectangle: Rounded Corners 73"/>
          <p:cNvSpPr/>
          <p:nvPr/>
        </p:nvSpPr>
        <p:spPr>
          <a:xfrm rot="2700000">
            <a:off x="1841040" y="2387160"/>
            <a:ext cx="1981440" cy="1981440"/>
          </a:xfrm>
          <a:prstGeom prst="roundRect">
            <a:avLst>
              <a:gd name="adj" fmla="val 16667"/>
            </a:avLst>
          </a:prstGeom>
          <a:solidFill>
            <a:srgbClr val="da10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Rectangle 7"/>
          <p:cNvSpPr/>
          <p:nvPr/>
        </p:nvSpPr>
        <p:spPr>
          <a:xfrm>
            <a:off x="5270400" y="5607000"/>
            <a:ext cx="1646280" cy="344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262626"/>
                </a:solidFill>
                <a:latin typeface="Calibri"/>
              </a:rPr>
              <a:t>General Manager</a:t>
            </a:r>
            <a:endParaRPr b="0" lang="en-US" sz="1100" spc="-1" strike="noStrike">
              <a:solidFill>
                <a:srgbClr val="000000"/>
              </a:solidFill>
              <a:latin typeface="Calibri"/>
            </a:endParaRPr>
          </a:p>
        </p:txBody>
      </p:sp>
      <p:sp>
        <p:nvSpPr>
          <p:cNvPr id="508" name="Rectangle 21"/>
          <p:cNvSpPr/>
          <p:nvPr/>
        </p:nvSpPr>
        <p:spPr>
          <a:xfrm>
            <a:off x="4449600" y="5240160"/>
            <a:ext cx="3286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da1088"/>
                </a:solidFill>
                <a:latin typeface="Montserrat Medium"/>
              </a:rPr>
              <a:t>Dony James Morgan</a:t>
            </a:r>
            <a:endParaRPr b="0" lang="en-US" sz="1600" spc="-1" strike="noStrike">
              <a:solidFill>
                <a:srgbClr val="000000"/>
              </a:solidFill>
              <a:latin typeface="Calibri"/>
            </a:endParaRPr>
          </a:p>
        </p:txBody>
      </p:sp>
      <p:sp>
        <p:nvSpPr>
          <p:cNvPr id="509" name="Rectangle 17"/>
          <p:cNvSpPr/>
          <p:nvPr/>
        </p:nvSpPr>
        <p:spPr>
          <a:xfrm>
            <a:off x="2009880" y="5621400"/>
            <a:ext cx="1646280" cy="344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100" spc="-1" strike="noStrike">
                <a:solidFill>
                  <a:srgbClr val="262626"/>
                </a:solidFill>
                <a:latin typeface="Calibri"/>
              </a:rPr>
              <a:t>Secretary</a:t>
            </a:r>
            <a:endParaRPr b="0" lang="en-US" sz="1100" spc="-1" strike="noStrike">
              <a:solidFill>
                <a:srgbClr val="000000"/>
              </a:solidFill>
              <a:latin typeface="Calibri"/>
            </a:endParaRPr>
          </a:p>
        </p:txBody>
      </p:sp>
      <p:sp>
        <p:nvSpPr>
          <p:cNvPr id="510" name="Rectangle 21"/>
          <p:cNvSpPr/>
          <p:nvPr/>
        </p:nvSpPr>
        <p:spPr>
          <a:xfrm>
            <a:off x="1195560" y="5240160"/>
            <a:ext cx="3286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da1088"/>
                </a:solidFill>
                <a:latin typeface="Montserrat Medium"/>
              </a:rPr>
              <a:t>Xiva Francissca Clair</a:t>
            </a:r>
            <a:endParaRPr b="0" lang="en-US" sz="1600" spc="-1" strike="noStrike">
              <a:solidFill>
                <a:srgbClr val="000000"/>
              </a:solidFill>
              <a:latin typeface="Calibri"/>
            </a:endParaRPr>
          </a:p>
        </p:txBody>
      </p:sp>
      <p:sp>
        <p:nvSpPr>
          <p:cNvPr id="511" name="Rectangle 28"/>
          <p:cNvSpPr/>
          <p:nvPr/>
        </p:nvSpPr>
        <p:spPr>
          <a:xfrm>
            <a:off x="8529480" y="5621400"/>
            <a:ext cx="1646280" cy="344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d-ID" sz="1100" spc="-1" strike="noStrike">
                <a:solidFill>
                  <a:srgbClr val="262626"/>
                </a:solidFill>
                <a:latin typeface="Calibri"/>
              </a:rPr>
              <a:t>Supervisors</a:t>
            </a:r>
            <a:endParaRPr b="0" lang="en-US" sz="1100" spc="-1" strike="noStrike">
              <a:solidFill>
                <a:srgbClr val="000000"/>
              </a:solidFill>
              <a:latin typeface="Calibri"/>
            </a:endParaRPr>
          </a:p>
        </p:txBody>
      </p:sp>
      <p:sp>
        <p:nvSpPr>
          <p:cNvPr id="512" name="Rectangle 21"/>
          <p:cNvSpPr/>
          <p:nvPr/>
        </p:nvSpPr>
        <p:spPr>
          <a:xfrm>
            <a:off x="7710480" y="5240160"/>
            <a:ext cx="3286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da1088"/>
                </a:solidFill>
                <a:latin typeface="Montserrat Medium"/>
              </a:rPr>
              <a:t>Anna Lissa Christ</a:t>
            </a:r>
            <a:endParaRPr b="0" lang="en-US" sz="1600" spc="-1" strike="noStrike">
              <a:solidFill>
                <a:srgbClr val="000000"/>
              </a:solidFill>
              <a:latin typeface="Calibri"/>
            </a:endParaRPr>
          </a:p>
        </p:txBody>
      </p:sp>
      <p:sp>
        <p:nvSpPr>
          <p:cNvPr id="513" name="Title 1"/>
          <p:cNvSpPr/>
          <p:nvPr/>
        </p:nvSpPr>
        <p:spPr>
          <a:xfrm>
            <a:off x="1130400" y="677880"/>
            <a:ext cx="9931320" cy="98892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Montserrat Medium"/>
                <a:ea typeface="Open Sans"/>
              </a:rPr>
              <a:t>Looting Team</a:t>
            </a:r>
            <a:endParaRPr b="0" lang="en-US" sz="4400" spc="-1" strike="noStrike">
              <a:solidFill>
                <a:srgbClr val="000000"/>
              </a:solidFill>
              <a:latin typeface="Calibri"/>
            </a:endParaRPr>
          </a:p>
        </p:txBody>
      </p:sp>
      <p:grpSp>
        <p:nvGrpSpPr>
          <p:cNvPr id="514" name="Group 45"/>
          <p:cNvGrpSpPr/>
          <p:nvPr/>
        </p:nvGrpSpPr>
        <p:grpSpPr>
          <a:xfrm>
            <a:off x="2313000" y="4943520"/>
            <a:ext cx="1039680" cy="280800"/>
            <a:chOff x="2313000" y="4943520"/>
            <a:chExt cx="1039680" cy="280800"/>
          </a:xfrm>
        </p:grpSpPr>
        <p:sp>
          <p:nvSpPr>
            <p:cNvPr id="515" name="Freeform 675"/>
            <p:cNvSpPr/>
            <p:nvPr/>
          </p:nvSpPr>
          <p:spPr>
            <a:xfrm>
              <a:off x="2424240" y="5055480"/>
              <a:ext cx="55440" cy="56160"/>
            </a:xfrm>
            <a:custGeom>
              <a:avLst/>
              <a:gdLst/>
              <a:ahLst/>
              <a:rect l="l" t="t" r="r" b="b"/>
              <a:pathLst>
                <a:path w="798" h="646">
                  <a:moveTo>
                    <a:pt x="399" y="0"/>
                  </a:moveTo>
                  <a:lnTo>
                    <a:pt x="455" y="3"/>
                  </a:lnTo>
                  <a:lnTo>
                    <a:pt x="509" y="12"/>
                  </a:lnTo>
                  <a:lnTo>
                    <a:pt x="559" y="27"/>
                  </a:lnTo>
                  <a:lnTo>
                    <a:pt x="606" y="47"/>
                  </a:lnTo>
                  <a:lnTo>
                    <a:pt x="650" y="72"/>
                  </a:lnTo>
                  <a:lnTo>
                    <a:pt x="689" y="102"/>
                  </a:lnTo>
                  <a:lnTo>
                    <a:pt x="722" y="134"/>
                  </a:lnTo>
                  <a:lnTo>
                    <a:pt x="748" y="167"/>
                  </a:lnTo>
                  <a:lnTo>
                    <a:pt x="770" y="204"/>
                  </a:lnTo>
                  <a:lnTo>
                    <a:pt x="785" y="241"/>
                  </a:lnTo>
                  <a:lnTo>
                    <a:pt x="795" y="281"/>
                  </a:lnTo>
                  <a:lnTo>
                    <a:pt x="798" y="323"/>
                  </a:lnTo>
                  <a:lnTo>
                    <a:pt x="795" y="366"/>
                  </a:lnTo>
                  <a:lnTo>
                    <a:pt x="783" y="409"/>
                  </a:lnTo>
                  <a:lnTo>
                    <a:pt x="767" y="448"/>
                  </a:lnTo>
                  <a:lnTo>
                    <a:pt x="743" y="485"/>
                  </a:lnTo>
                  <a:lnTo>
                    <a:pt x="715" y="520"/>
                  </a:lnTo>
                  <a:lnTo>
                    <a:pt x="681" y="551"/>
                  </a:lnTo>
                  <a:lnTo>
                    <a:pt x="642" y="578"/>
                  </a:lnTo>
                  <a:lnTo>
                    <a:pt x="600" y="601"/>
                  </a:lnTo>
                  <a:lnTo>
                    <a:pt x="554" y="621"/>
                  </a:lnTo>
                  <a:lnTo>
                    <a:pt x="505" y="634"/>
                  </a:lnTo>
                  <a:lnTo>
                    <a:pt x="453" y="643"/>
                  </a:lnTo>
                  <a:lnTo>
                    <a:pt x="399" y="646"/>
                  </a:lnTo>
                  <a:lnTo>
                    <a:pt x="344" y="643"/>
                  </a:lnTo>
                  <a:lnTo>
                    <a:pt x="293" y="634"/>
                  </a:lnTo>
                  <a:lnTo>
                    <a:pt x="243" y="621"/>
                  </a:lnTo>
                  <a:lnTo>
                    <a:pt x="197" y="601"/>
                  </a:lnTo>
                  <a:lnTo>
                    <a:pt x="155" y="578"/>
                  </a:lnTo>
                  <a:lnTo>
                    <a:pt x="117" y="551"/>
                  </a:lnTo>
                  <a:lnTo>
                    <a:pt x="82" y="520"/>
                  </a:lnTo>
                  <a:lnTo>
                    <a:pt x="54" y="485"/>
                  </a:lnTo>
                  <a:lnTo>
                    <a:pt x="31" y="448"/>
                  </a:lnTo>
                  <a:lnTo>
                    <a:pt x="14" y="409"/>
                  </a:lnTo>
                  <a:lnTo>
                    <a:pt x="4" y="366"/>
                  </a:lnTo>
                  <a:lnTo>
                    <a:pt x="0" y="323"/>
                  </a:lnTo>
                  <a:lnTo>
                    <a:pt x="3" y="281"/>
                  </a:lnTo>
                  <a:lnTo>
                    <a:pt x="12" y="241"/>
                  </a:lnTo>
                  <a:lnTo>
                    <a:pt x="29" y="204"/>
                  </a:lnTo>
                  <a:lnTo>
                    <a:pt x="49" y="167"/>
                  </a:lnTo>
                  <a:lnTo>
                    <a:pt x="75" y="134"/>
                  </a:lnTo>
                  <a:lnTo>
                    <a:pt x="109" y="102"/>
                  </a:lnTo>
                  <a:lnTo>
                    <a:pt x="148" y="72"/>
                  </a:lnTo>
                  <a:lnTo>
                    <a:pt x="191" y="47"/>
                  </a:lnTo>
                  <a:lnTo>
                    <a:pt x="238" y="27"/>
                  </a:lnTo>
                  <a:lnTo>
                    <a:pt x="289" y="12"/>
                  </a:lnTo>
                  <a:lnTo>
                    <a:pt x="343" y="3"/>
                  </a:lnTo>
                  <a:lnTo>
                    <a:pt x="399" y="0"/>
                  </a:lnTo>
                  <a:close/>
                </a:path>
              </a:pathLst>
            </a:custGeom>
            <a:solidFill>
              <a:srgbClr val="da1088"/>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Calibri"/>
              </a:endParaRPr>
            </a:p>
          </p:txBody>
        </p:sp>
        <p:sp>
          <p:nvSpPr>
            <p:cNvPr id="516" name="Freeform 676"/>
            <p:cNvSpPr/>
            <p:nvPr/>
          </p:nvSpPr>
          <p:spPr>
            <a:xfrm>
              <a:off x="2486160" y="5022000"/>
              <a:ext cx="26640" cy="27000"/>
            </a:xfrm>
            <a:custGeom>
              <a:avLst/>
              <a:gdLst/>
              <a:ahLst/>
              <a:rect l="l" t="t" r="r" b="b"/>
              <a:pathLst>
                <a:path w="385" h="312">
                  <a:moveTo>
                    <a:pt x="334" y="0"/>
                  </a:moveTo>
                  <a:lnTo>
                    <a:pt x="385" y="0"/>
                  </a:lnTo>
                  <a:lnTo>
                    <a:pt x="385" y="311"/>
                  </a:lnTo>
                  <a:lnTo>
                    <a:pt x="1" y="312"/>
                  </a:lnTo>
                  <a:lnTo>
                    <a:pt x="0" y="1"/>
                  </a:lnTo>
                  <a:lnTo>
                    <a:pt x="334" y="0"/>
                  </a:lnTo>
                  <a:close/>
                </a:path>
              </a:pathLst>
            </a:custGeom>
            <a:solidFill>
              <a:srgbClr val="da108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517" name="Freeform 677"/>
            <p:cNvSpPr/>
            <p:nvPr/>
          </p:nvSpPr>
          <p:spPr>
            <a:xfrm>
              <a:off x="2313000" y="4943520"/>
              <a:ext cx="278640" cy="280800"/>
            </a:xfrm>
            <a:custGeom>
              <a:avLst/>
              <a:gdLst/>
              <a:ahLst/>
              <a:rect l="l" t="t" r="r" b="b"/>
              <a:pathLst>
                <a:path w="3987" h="3229">
                  <a:moveTo>
                    <a:pt x="1298" y="697"/>
                  </a:moveTo>
                  <a:lnTo>
                    <a:pt x="1243" y="700"/>
                  </a:lnTo>
                  <a:lnTo>
                    <a:pt x="1191" y="708"/>
                  </a:lnTo>
                  <a:lnTo>
                    <a:pt x="1140" y="721"/>
                  </a:lnTo>
                  <a:lnTo>
                    <a:pt x="1092" y="738"/>
                  </a:lnTo>
                  <a:lnTo>
                    <a:pt x="1047" y="761"/>
                  </a:lnTo>
                  <a:lnTo>
                    <a:pt x="1008" y="787"/>
                  </a:lnTo>
                  <a:lnTo>
                    <a:pt x="970" y="816"/>
                  </a:lnTo>
                  <a:lnTo>
                    <a:pt x="939" y="849"/>
                  </a:lnTo>
                  <a:lnTo>
                    <a:pt x="912" y="885"/>
                  </a:lnTo>
                  <a:lnTo>
                    <a:pt x="889" y="923"/>
                  </a:lnTo>
                  <a:lnTo>
                    <a:pt x="873" y="964"/>
                  </a:lnTo>
                  <a:lnTo>
                    <a:pt x="863" y="1007"/>
                  </a:lnTo>
                  <a:lnTo>
                    <a:pt x="860" y="1051"/>
                  </a:lnTo>
                  <a:lnTo>
                    <a:pt x="860" y="2178"/>
                  </a:lnTo>
                  <a:lnTo>
                    <a:pt x="863" y="2223"/>
                  </a:lnTo>
                  <a:lnTo>
                    <a:pt x="873" y="2265"/>
                  </a:lnTo>
                  <a:lnTo>
                    <a:pt x="889" y="2306"/>
                  </a:lnTo>
                  <a:lnTo>
                    <a:pt x="912" y="2345"/>
                  </a:lnTo>
                  <a:lnTo>
                    <a:pt x="939" y="2380"/>
                  </a:lnTo>
                  <a:lnTo>
                    <a:pt x="970" y="2413"/>
                  </a:lnTo>
                  <a:lnTo>
                    <a:pt x="1008" y="2443"/>
                  </a:lnTo>
                  <a:lnTo>
                    <a:pt x="1047" y="2469"/>
                  </a:lnTo>
                  <a:lnTo>
                    <a:pt x="1092" y="2491"/>
                  </a:lnTo>
                  <a:lnTo>
                    <a:pt x="1140" y="2508"/>
                  </a:lnTo>
                  <a:lnTo>
                    <a:pt x="1191" y="2521"/>
                  </a:lnTo>
                  <a:lnTo>
                    <a:pt x="1243" y="2530"/>
                  </a:lnTo>
                  <a:lnTo>
                    <a:pt x="1298" y="2533"/>
                  </a:lnTo>
                  <a:lnTo>
                    <a:pt x="2689" y="2533"/>
                  </a:lnTo>
                  <a:lnTo>
                    <a:pt x="2744" y="2530"/>
                  </a:lnTo>
                  <a:lnTo>
                    <a:pt x="2797" y="2521"/>
                  </a:lnTo>
                  <a:lnTo>
                    <a:pt x="2847" y="2508"/>
                  </a:lnTo>
                  <a:lnTo>
                    <a:pt x="2896" y="2491"/>
                  </a:lnTo>
                  <a:lnTo>
                    <a:pt x="2940" y="2469"/>
                  </a:lnTo>
                  <a:lnTo>
                    <a:pt x="2981" y="2443"/>
                  </a:lnTo>
                  <a:lnTo>
                    <a:pt x="3017" y="2413"/>
                  </a:lnTo>
                  <a:lnTo>
                    <a:pt x="3049" y="2380"/>
                  </a:lnTo>
                  <a:lnTo>
                    <a:pt x="3077" y="2345"/>
                  </a:lnTo>
                  <a:lnTo>
                    <a:pt x="3098" y="2306"/>
                  </a:lnTo>
                  <a:lnTo>
                    <a:pt x="3114" y="2265"/>
                  </a:lnTo>
                  <a:lnTo>
                    <a:pt x="3124" y="2223"/>
                  </a:lnTo>
                  <a:lnTo>
                    <a:pt x="3128" y="2178"/>
                  </a:lnTo>
                  <a:lnTo>
                    <a:pt x="3128" y="1051"/>
                  </a:lnTo>
                  <a:lnTo>
                    <a:pt x="3124" y="1007"/>
                  </a:lnTo>
                  <a:lnTo>
                    <a:pt x="3114" y="964"/>
                  </a:lnTo>
                  <a:lnTo>
                    <a:pt x="3098" y="923"/>
                  </a:lnTo>
                  <a:lnTo>
                    <a:pt x="3077" y="885"/>
                  </a:lnTo>
                  <a:lnTo>
                    <a:pt x="3049" y="849"/>
                  </a:lnTo>
                  <a:lnTo>
                    <a:pt x="3017" y="816"/>
                  </a:lnTo>
                  <a:lnTo>
                    <a:pt x="2981" y="787"/>
                  </a:lnTo>
                  <a:lnTo>
                    <a:pt x="2940" y="761"/>
                  </a:lnTo>
                  <a:lnTo>
                    <a:pt x="2896" y="738"/>
                  </a:lnTo>
                  <a:lnTo>
                    <a:pt x="2847" y="721"/>
                  </a:lnTo>
                  <a:lnTo>
                    <a:pt x="2797" y="708"/>
                  </a:lnTo>
                  <a:lnTo>
                    <a:pt x="2744" y="700"/>
                  </a:lnTo>
                  <a:lnTo>
                    <a:pt x="2689" y="697"/>
                  </a:lnTo>
                  <a:lnTo>
                    <a:pt x="1298" y="697"/>
                  </a:lnTo>
                  <a:close/>
                  <a:moveTo>
                    <a:pt x="1994" y="0"/>
                  </a:moveTo>
                  <a:lnTo>
                    <a:pt x="2120" y="4"/>
                  </a:lnTo>
                  <a:lnTo>
                    <a:pt x="2244" y="13"/>
                  </a:lnTo>
                  <a:lnTo>
                    <a:pt x="2365" y="28"/>
                  </a:lnTo>
                  <a:lnTo>
                    <a:pt x="2484" y="50"/>
                  </a:lnTo>
                  <a:lnTo>
                    <a:pt x="2600" y="77"/>
                  </a:lnTo>
                  <a:lnTo>
                    <a:pt x="2714" y="109"/>
                  </a:lnTo>
                  <a:lnTo>
                    <a:pt x="2824" y="148"/>
                  </a:lnTo>
                  <a:lnTo>
                    <a:pt x="2931" y="190"/>
                  </a:lnTo>
                  <a:lnTo>
                    <a:pt x="3033" y="237"/>
                  </a:lnTo>
                  <a:lnTo>
                    <a:pt x="3132" y="290"/>
                  </a:lnTo>
                  <a:lnTo>
                    <a:pt x="3226" y="348"/>
                  </a:lnTo>
                  <a:lnTo>
                    <a:pt x="3318" y="408"/>
                  </a:lnTo>
                  <a:lnTo>
                    <a:pt x="3404" y="474"/>
                  </a:lnTo>
                  <a:lnTo>
                    <a:pt x="3483" y="543"/>
                  </a:lnTo>
                  <a:lnTo>
                    <a:pt x="3559" y="616"/>
                  </a:lnTo>
                  <a:lnTo>
                    <a:pt x="3631" y="693"/>
                  </a:lnTo>
                  <a:lnTo>
                    <a:pt x="3695" y="774"/>
                  </a:lnTo>
                  <a:lnTo>
                    <a:pt x="3754" y="856"/>
                  </a:lnTo>
                  <a:lnTo>
                    <a:pt x="3806" y="943"/>
                  </a:lnTo>
                  <a:lnTo>
                    <a:pt x="3854" y="1032"/>
                  </a:lnTo>
                  <a:lnTo>
                    <a:pt x="3894" y="1124"/>
                  </a:lnTo>
                  <a:lnTo>
                    <a:pt x="3927" y="1218"/>
                  </a:lnTo>
                  <a:lnTo>
                    <a:pt x="3954" y="1314"/>
                  </a:lnTo>
                  <a:lnTo>
                    <a:pt x="3972" y="1413"/>
                  </a:lnTo>
                  <a:lnTo>
                    <a:pt x="3984" y="1513"/>
                  </a:lnTo>
                  <a:lnTo>
                    <a:pt x="3987" y="1615"/>
                  </a:lnTo>
                  <a:lnTo>
                    <a:pt x="3984" y="1717"/>
                  </a:lnTo>
                  <a:lnTo>
                    <a:pt x="3972" y="1817"/>
                  </a:lnTo>
                  <a:lnTo>
                    <a:pt x="3954" y="1916"/>
                  </a:lnTo>
                  <a:lnTo>
                    <a:pt x="3927" y="2012"/>
                  </a:lnTo>
                  <a:lnTo>
                    <a:pt x="3894" y="2105"/>
                  </a:lnTo>
                  <a:lnTo>
                    <a:pt x="3854" y="2197"/>
                  </a:lnTo>
                  <a:lnTo>
                    <a:pt x="3806" y="2286"/>
                  </a:lnTo>
                  <a:lnTo>
                    <a:pt x="3754" y="2373"/>
                  </a:lnTo>
                  <a:lnTo>
                    <a:pt x="3695" y="2456"/>
                  </a:lnTo>
                  <a:lnTo>
                    <a:pt x="3631" y="2537"/>
                  </a:lnTo>
                  <a:lnTo>
                    <a:pt x="3559" y="2613"/>
                  </a:lnTo>
                  <a:lnTo>
                    <a:pt x="3483" y="2686"/>
                  </a:lnTo>
                  <a:lnTo>
                    <a:pt x="3404" y="2756"/>
                  </a:lnTo>
                  <a:lnTo>
                    <a:pt x="3318" y="2821"/>
                  </a:lnTo>
                  <a:lnTo>
                    <a:pt x="3226" y="2882"/>
                  </a:lnTo>
                  <a:lnTo>
                    <a:pt x="3132" y="2939"/>
                  </a:lnTo>
                  <a:lnTo>
                    <a:pt x="3033" y="2992"/>
                  </a:lnTo>
                  <a:lnTo>
                    <a:pt x="2931" y="3039"/>
                  </a:lnTo>
                  <a:lnTo>
                    <a:pt x="2824" y="3082"/>
                  </a:lnTo>
                  <a:lnTo>
                    <a:pt x="2714" y="3120"/>
                  </a:lnTo>
                  <a:lnTo>
                    <a:pt x="2600" y="3152"/>
                  </a:lnTo>
                  <a:lnTo>
                    <a:pt x="2484" y="3180"/>
                  </a:lnTo>
                  <a:lnTo>
                    <a:pt x="2365" y="3201"/>
                  </a:lnTo>
                  <a:lnTo>
                    <a:pt x="2244" y="3216"/>
                  </a:lnTo>
                  <a:lnTo>
                    <a:pt x="2120" y="3225"/>
                  </a:lnTo>
                  <a:lnTo>
                    <a:pt x="1994" y="3229"/>
                  </a:lnTo>
                  <a:lnTo>
                    <a:pt x="1868" y="3225"/>
                  </a:lnTo>
                  <a:lnTo>
                    <a:pt x="1743" y="3216"/>
                  </a:lnTo>
                  <a:lnTo>
                    <a:pt x="1622" y="3201"/>
                  </a:lnTo>
                  <a:lnTo>
                    <a:pt x="1504" y="3180"/>
                  </a:lnTo>
                  <a:lnTo>
                    <a:pt x="1387" y="3152"/>
                  </a:lnTo>
                  <a:lnTo>
                    <a:pt x="1274" y="3120"/>
                  </a:lnTo>
                  <a:lnTo>
                    <a:pt x="1163" y="3082"/>
                  </a:lnTo>
                  <a:lnTo>
                    <a:pt x="1057" y="3039"/>
                  </a:lnTo>
                  <a:lnTo>
                    <a:pt x="954" y="2992"/>
                  </a:lnTo>
                  <a:lnTo>
                    <a:pt x="855" y="2939"/>
                  </a:lnTo>
                  <a:lnTo>
                    <a:pt x="761" y="2882"/>
                  </a:lnTo>
                  <a:lnTo>
                    <a:pt x="671" y="2821"/>
                  </a:lnTo>
                  <a:lnTo>
                    <a:pt x="585" y="2756"/>
                  </a:lnTo>
                  <a:lnTo>
                    <a:pt x="504" y="2686"/>
                  </a:lnTo>
                  <a:lnTo>
                    <a:pt x="428" y="2613"/>
                  </a:lnTo>
                  <a:lnTo>
                    <a:pt x="358" y="2537"/>
                  </a:lnTo>
                  <a:lnTo>
                    <a:pt x="293" y="2456"/>
                  </a:lnTo>
                  <a:lnTo>
                    <a:pt x="234" y="2373"/>
                  </a:lnTo>
                  <a:lnTo>
                    <a:pt x="181" y="2286"/>
                  </a:lnTo>
                  <a:lnTo>
                    <a:pt x="134" y="2197"/>
                  </a:lnTo>
                  <a:lnTo>
                    <a:pt x="95" y="2105"/>
                  </a:lnTo>
                  <a:lnTo>
                    <a:pt x="61" y="2012"/>
                  </a:lnTo>
                  <a:lnTo>
                    <a:pt x="35" y="1916"/>
                  </a:lnTo>
                  <a:lnTo>
                    <a:pt x="16" y="1817"/>
                  </a:lnTo>
                  <a:lnTo>
                    <a:pt x="3" y="1717"/>
                  </a:lnTo>
                  <a:lnTo>
                    <a:pt x="0" y="1615"/>
                  </a:lnTo>
                  <a:lnTo>
                    <a:pt x="3" y="1513"/>
                  </a:lnTo>
                  <a:lnTo>
                    <a:pt x="16" y="1413"/>
                  </a:lnTo>
                  <a:lnTo>
                    <a:pt x="35" y="1314"/>
                  </a:lnTo>
                  <a:lnTo>
                    <a:pt x="61" y="1218"/>
                  </a:lnTo>
                  <a:lnTo>
                    <a:pt x="95" y="1124"/>
                  </a:lnTo>
                  <a:lnTo>
                    <a:pt x="134" y="1032"/>
                  </a:lnTo>
                  <a:lnTo>
                    <a:pt x="181" y="943"/>
                  </a:lnTo>
                  <a:lnTo>
                    <a:pt x="234" y="856"/>
                  </a:lnTo>
                  <a:lnTo>
                    <a:pt x="293" y="774"/>
                  </a:lnTo>
                  <a:lnTo>
                    <a:pt x="358" y="693"/>
                  </a:lnTo>
                  <a:lnTo>
                    <a:pt x="428" y="616"/>
                  </a:lnTo>
                  <a:lnTo>
                    <a:pt x="504" y="543"/>
                  </a:lnTo>
                  <a:lnTo>
                    <a:pt x="585" y="474"/>
                  </a:lnTo>
                  <a:lnTo>
                    <a:pt x="671" y="408"/>
                  </a:lnTo>
                  <a:lnTo>
                    <a:pt x="761" y="348"/>
                  </a:lnTo>
                  <a:lnTo>
                    <a:pt x="855" y="290"/>
                  </a:lnTo>
                  <a:lnTo>
                    <a:pt x="954" y="237"/>
                  </a:lnTo>
                  <a:lnTo>
                    <a:pt x="1057" y="190"/>
                  </a:lnTo>
                  <a:lnTo>
                    <a:pt x="1163" y="148"/>
                  </a:lnTo>
                  <a:lnTo>
                    <a:pt x="1274" y="109"/>
                  </a:lnTo>
                  <a:lnTo>
                    <a:pt x="1387" y="77"/>
                  </a:lnTo>
                  <a:lnTo>
                    <a:pt x="1504" y="50"/>
                  </a:lnTo>
                  <a:lnTo>
                    <a:pt x="1622" y="28"/>
                  </a:lnTo>
                  <a:lnTo>
                    <a:pt x="1743" y="13"/>
                  </a:lnTo>
                  <a:lnTo>
                    <a:pt x="1868" y="4"/>
                  </a:lnTo>
                  <a:lnTo>
                    <a:pt x="1994"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8" name="Freeform 678"/>
            <p:cNvSpPr/>
            <p:nvPr/>
          </p:nvSpPr>
          <p:spPr>
            <a:xfrm>
              <a:off x="2388240" y="5067360"/>
              <a:ext cx="127440" cy="80640"/>
            </a:xfrm>
            <a:custGeom>
              <a:avLst/>
              <a:gdLst/>
              <a:ahLst/>
              <a:rect l="l" t="t" r="r" b="b"/>
              <a:pathLst>
                <a:path w="1826" h="928">
                  <a:moveTo>
                    <a:pt x="0" y="0"/>
                  </a:moveTo>
                  <a:lnTo>
                    <a:pt x="338" y="0"/>
                  </a:lnTo>
                  <a:lnTo>
                    <a:pt x="319" y="45"/>
                  </a:lnTo>
                  <a:lnTo>
                    <a:pt x="304" y="92"/>
                  </a:lnTo>
                  <a:lnTo>
                    <a:pt x="296" y="139"/>
                  </a:lnTo>
                  <a:lnTo>
                    <a:pt x="293" y="189"/>
                  </a:lnTo>
                  <a:lnTo>
                    <a:pt x="297" y="243"/>
                  </a:lnTo>
                  <a:lnTo>
                    <a:pt x="307" y="296"/>
                  </a:lnTo>
                  <a:lnTo>
                    <a:pt x="324" y="347"/>
                  </a:lnTo>
                  <a:lnTo>
                    <a:pt x="348" y="396"/>
                  </a:lnTo>
                  <a:lnTo>
                    <a:pt x="378" y="442"/>
                  </a:lnTo>
                  <a:lnTo>
                    <a:pt x="413" y="485"/>
                  </a:lnTo>
                  <a:lnTo>
                    <a:pt x="453" y="525"/>
                  </a:lnTo>
                  <a:lnTo>
                    <a:pt x="498" y="561"/>
                  </a:lnTo>
                  <a:lnTo>
                    <a:pt x="546" y="594"/>
                  </a:lnTo>
                  <a:lnTo>
                    <a:pt x="600" y="622"/>
                  </a:lnTo>
                  <a:lnTo>
                    <a:pt x="657" y="646"/>
                  </a:lnTo>
                  <a:lnTo>
                    <a:pt x="717" y="665"/>
                  </a:lnTo>
                  <a:lnTo>
                    <a:pt x="780" y="679"/>
                  </a:lnTo>
                  <a:lnTo>
                    <a:pt x="846" y="688"/>
                  </a:lnTo>
                  <a:lnTo>
                    <a:pt x="913" y="691"/>
                  </a:lnTo>
                  <a:lnTo>
                    <a:pt x="981" y="688"/>
                  </a:lnTo>
                  <a:lnTo>
                    <a:pt x="1045" y="679"/>
                  </a:lnTo>
                  <a:lnTo>
                    <a:pt x="1109" y="665"/>
                  </a:lnTo>
                  <a:lnTo>
                    <a:pt x="1169" y="646"/>
                  </a:lnTo>
                  <a:lnTo>
                    <a:pt x="1226" y="622"/>
                  </a:lnTo>
                  <a:lnTo>
                    <a:pt x="1279" y="594"/>
                  </a:lnTo>
                  <a:lnTo>
                    <a:pt x="1329" y="561"/>
                  </a:lnTo>
                  <a:lnTo>
                    <a:pt x="1373" y="525"/>
                  </a:lnTo>
                  <a:lnTo>
                    <a:pt x="1413" y="485"/>
                  </a:lnTo>
                  <a:lnTo>
                    <a:pt x="1448" y="442"/>
                  </a:lnTo>
                  <a:lnTo>
                    <a:pt x="1478" y="396"/>
                  </a:lnTo>
                  <a:lnTo>
                    <a:pt x="1502" y="347"/>
                  </a:lnTo>
                  <a:lnTo>
                    <a:pt x="1519" y="296"/>
                  </a:lnTo>
                  <a:lnTo>
                    <a:pt x="1529" y="243"/>
                  </a:lnTo>
                  <a:lnTo>
                    <a:pt x="1533" y="189"/>
                  </a:lnTo>
                  <a:lnTo>
                    <a:pt x="1531" y="139"/>
                  </a:lnTo>
                  <a:lnTo>
                    <a:pt x="1521" y="92"/>
                  </a:lnTo>
                  <a:lnTo>
                    <a:pt x="1507" y="45"/>
                  </a:lnTo>
                  <a:lnTo>
                    <a:pt x="1487" y="0"/>
                  </a:lnTo>
                  <a:lnTo>
                    <a:pt x="1826" y="0"/>
                  </a:lnTo>
                  <a:lnTo>
                    <a:pt x="1826" y="752"/>
                  </a:lnTo>
                  <a:lnTo>
                    <a:pt x="1822" y="783"/>
                  </a:lnTo>
                  <a:lnTo>
                    <a:pt x="1812" y="814"/>
                  </a:lnTo>
                  <a:lnTo>
                    <a:pt x="1796" y="841"/>
                  </a:lnTo>
                  <a:lnTo>
                    <a:pt x="1775" y="865"/>
                  </a:lnTo>
                  <a:lnTo>
                    <a:pt x="1749" y="886"/>
                  </a:lnTo>
                  <a:lnTo>
                    <a:pt x="1718" y="904"/>
                  </a:lnTo>
                  <a:lnTo>
                    <a:pt x="1684" y="917"/>
                  </a:lnTo>
                  <a:lnTo>
                    <a:pt x="1648" y="925"/>
                  </a:lnTo>
                  <a:lnTo>
                    <a:pt x="1608" y="928"/>
                  </a:lnTo>
                  <a:lnTo>
                    <a:pt x="217" y="928"/>
                  </a:lnTo>
                  <a:lnTo>
                    <a:pt x="179" y="925"/>
                  </a:lnTo>
                  <a:lnTo>
                    <a:pt x="141" y="917"/>
                  </a:lnTo>
                  <a:lnTo>
                    <a:pt x="107" y="904"/>
                  </a:lnTo>
                  <a:lnTo>
                    <a:pt x="77" y="886"/>
                  </a:lnTo>
                  <a:lnTo>
                    <a:pt x="51" y="865"/>
                  </a:lnTo>
                  <a:lnTo>
                    <a:pt x="30" y="841"/>
                  </a:lnTo>
                  <a:lnTo>
                    <a:pt x="14" y="814"/>
                  </a:lnTo>
                  <a:lnTo>
                    <a:pt x="4" y="783"/>
                  </a:lnTo>
                  <a:lnTo>
                    <a:pt x="0" y="752"/>
                  </a:lnTo>
                  <a:lnTo>
                    <a:pt x="0" y="0"/>
                  </a:lnTo>
                  <a:close/>
                </a:path>
              </a:pathLst>
            </a:custGeom>
            <a:solidFill>
              <a:srgbClr val="da1088"/>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Calibri"/>
              </a:endParaRPr>
            </a:p>
          </p:txBody>
        </p:sp>
        <p:sp>
          <p:nvSpPr>
            <p:cNvPr id="519" name="Freeform 1536"/>
            <p:cNvSpPr/>
            <p:nvPr/>
          </p:nvSpPr>
          <p:spPr>
            <a:xfrm>
              <a:off x="2694240" y="4943520"/>
              <a:ext cx="278640" cy="280800"/>
            </a:xfrm>
            <a:custGeom>
              <a:avLst/>
              <a:gdLst/>
              <a:ahLst/>
              <a:rect l="l" t="t" r="r" b="b"/>
              <a:pathLst>
                <a:path w="3474" h="3518">
                  <a:moveTo>
                    <a:pt x="2112" y="957"/>
                  </a:moveTo>
                  <a:lnTo>
                    <a:pt x="2061" y="961"/>
                  </a:lnTo>
                  <a:lnTo>
                    <a:pt x="2014" y="970"/>
                  </a:lnTo>
                  <a:lnTo>
                    <a:pt x="1968" y="985"/>
                  </a:lnTo>
                  <a:lnTo>
                    <a:pt x="1924" y="1005"/>
                  </a:lnTo>
                  <a:lnTo>
                    <a:pt x="1883" y="1030"/>
                  </a:lnTo>
                  <a:lnTo>
                    <a:pt x="1846" y="1060"/>
                  </a:lnTo>
                  <a:lnTo>
                    <a:pt x="1814" y="1094"/>
                  </a:lnTo>
                  <a:lnTo>
                    <a:pt x="1784" y="1131"/>
                  </a:lnTo>
                  <a:lnTo>
                    <a:pt x="1759" y="1172"/>
                  </a:lnTo>
                  <a:lnTo>
                    <a:pt x="1739" y="1216"/>
                  </a:lnTo>
                  <a:lnTo>
                    <a:pt x="1724" y="1263"/>
                  </a:lnTo>
                  <a:lnTo>
                    <a:pt x="1716" y="1311"/>
                  </a:lnTo>
                  <a:lnTo>
                    <a:pt x="1713" y="1362"/>
                  </a:lnTo>
                  <a:lnTo>
                    <a:pt x="1715" y="1409"/>
                  </a:lnTo>
                  <a:lnTo>
                    <a:pt x="1722" y="1454"/>
                  </a:lnTo>
                  <a:lnTo>
                    <a:pt x="1640" y="1448"/>
                  </a:lnTo>
                  <a:lnTo>
                    <a:pt x="1559" y="1435"/>
                  </a:lnTo>
                  <a:lnTo>
                    <a:pt x="1481" y="1416"/>
                  </a:lnTo>
                  <a:lnTo>
                    <a:pt x="1405" y="1392"/>
                  </a:lnTo>
                  <a:lnTo>
                    <a:pt x="1331" y="1363"/>
                  </a:lnTo>
                  <a:lnTo>
                    <a:pt x="1259" y="1329"/>
                  </a:lnTo>
                  <a:lnTo>
                    <a:pt x="1191" y="1289"/>
                  </a:lnTo>
                  <a:lnTo>
                    <a:pt x="1126" y="1247"/>
                  </a:lnTo>
                  <a:lnTo>
                    <a:pt x="1064" y="1198"/>
                  </a:lnTo>
                  <a:lnTo>
                    <a:pt x="1005" y="1146"/>
                  </a:lnTo>
                  <a:lnTo>
                    <a:pt x="950" y="1091"/>
                  </a:lnTo>
                  <a:lnTo>
                    <a:pt x="899" y="1032"/>
                  </a:lnTo>
                  <a:lnTo>
                    <a:pt x="880" y="1068"/>
                  </a:lnTo>
                  <a:lnTo>
                    <a:pt x="865" y="1108"/>
                  </a:lnTo>
                  <a:lnTo>
                    <a:pt x="854" y="1149"/>
                  </a:lnTo>
                  <a:lnTo>
                    <a:pt x="846" y="1192"/>
                  </a:lnTo>
                  <a:lnTo>
                    <a:pt x="844" y="1236"/>
                  </a:lnTo>
                  <a:lnTo>
                    <a:pt x="848" y="1287"/>
                  </a:lnTo>
                  <a:lnTo>
                    <a:pt x="857" y="1337"/>
                  </a:lnTo>
                  <a:lnTo>
                    <a:pt x="873" y="1384"/>
                  </a:lnTo>
                  <a:lnTo>
                    <a:pt x="893" y="1429"/>
                  </a:lnTo>
                  <a:lnTo>
                    <a:pt x="919" y="1471"/>
                  </a:lnTo>
                  <a:lnTo>
                    <a:pt x="950" y="1508"/>
                  </a:lnTo>
                  <a:lnTo>
                    <a:pt x="984" y="1542"/>
                  </a:lnTo>
                  <a:lnTo>
                    <a:pt x="1022" y="1572"/>
                  </a:lnTo>
                  <a:lnTo>
                    <a:pt x="974" y="1568"/>
                  </a:lnTo>
                  <a:lnTo>
                    <a:pt x="928" y="1557"/>
                  </a:lnTo>
                  <a:lnTo>
                    <a:pt x="883" y="1541"/>
                  </a:lnTo>
                  <a:lnTo>
                    <a:pt x="841" y="1522"/>
                  </a:lnTo>
                  <a:lnTo>
                    <a:pt x="841" y="1524"/>
                  </a:lnTo>
                  <a:lnTo>
                    <a:pt x="841" y="1527"/>
                  </a:lnTo>
                  <a:lnTo>
                    <a:pt x="844" y="1579"/>
                  </a:lnTo>
                  <a:lnTo>
                    <a:pt x="854" y="1629"/>
                  </a:lnTo>
                  <a:lnTo>
                    <a:pt x="870" y="1678"/>
                  </a:lnTo>
                  <a:lnTo>
                    <a:pt x="891" y="1723"/>
                  </a:lnTo>
                  <a:lnTo>
                    <a:pt x="918" y="1765"/>
                  </a:lnTo>
                  <a:lnTo>
                    <a:pt x="949" y="1803"/>
                  </a:lnTo>
                  <a:lnTo>
                    <a:pt x="984" y="1837"/>
                  </a:lnTo>
                  <a:lnTo>
                    <a:pt x="1025" y="1867"/>
                  </a:lnTo>
                  <a:lnTo>
                    <a:pt x="1067" y="1891"/>
                  </a:lnTo>
                  <a:lnTo>
                    <a:pt x="1113" y="1910"/>
                  </a:lnTo>
                  <a:lnTo>
                    <a:pt x="1162" y="1923"/>
                  </a:lnTo>
                  <a:lnTo>
                    <a:pt x="1128" y="1931"/>
                  </a:lnTo>
                  <a:lnTo>
                    <a:pt x="1092" y="1936"/>
                  </a:lnTo>
                  <a:lnTo>
                    <a:pt x="1056" y="1937"/>
                  </a:lnTo>
                  <a:lnTo>
                    <a:pt x="1018" y="1935"/>
                  </a:lnTo>
                  <a:lnTo>
                    <a:pt x="981" y="1930"/>
                  </a:lnTo>
                  <a:lnTo>
                    <a:pt x="1000" y="1977"/>
                  </a:lnTo>
                  <a:lnTo>
                    <a:pt x="1024" y="2021"/>
                  </a:lnTo>
                  <a:lnTo>
                    <a:pt x="1052" y="2062"/>
                  </a:lnTo>
                  <a:lnTo>
                    <a:pt x="1084" y="2098"/>
                  </a:lnTo>
                  <a:lnTo>
                    <a:pt x="1121" y="2130"/>
                  </a:lnTo>
                  <a:lnTo>
                    <a:pt x="1163" y="2157"/>
                  </a:lnTo>
                  <a:lnTo>
                    <a:pt x="1206" y="2179"/>
                  </a:lnTo>
                  <a:lnTo>
                    <a:pt x="1254" y="2196"/>
                  </a:lnTo>
                  <a:lnTo>
                    <a:pt x="1303" y="2207"/>
                  </a:lnTo>
                  <a:lnTo>
                    <a:pt x="1355" y="2211"/>
                  </a:lnTo>
                  <a:lnTo>
                    <a:pt x="1302" y="2250"/>
                  </a:lnTo>
                  <a:lnTo>
                    <a:pt x="1246" y="2284"/>
                  </a:lnTo>
                  <a:lnTo>
                    <a:pt x="1187" y="2314"/>
                  </a:lnTo>
                  <a:lnTo>
                    <a:pt x="1126" y="2339"/>
                  </a:lnTo>
                  <a:lnTo>
                    <a:pt x="1062" y="2359"/>
                  </a:lnTo>
                  <a:lnTo>
                    <a:pt x="995" y="2373"/>
                  </a:lnTo>
                  <a:lnTo>
                    <a:pt x="928" y="2382"/>
                  </a:lnTo>
                  <a:lnTo>
                    <a:pt x="858" y="2385"/>
                  </a:lnTo>
                  <a:lnTo>
                    <a:pt x="811" y="2383"/>
                  </a:lnTo>
                  <a:lnTo>
                    <a:pt x="763" y="2378"/>
                  </a:lnTo>
                  <a:lnTo>
                    <a:pt x="830" y="2419"/>
                  </a:lnTo>
                  <a:lnTo>
                    <a:pt x="902" y="2455"/>
                  </a:lnTo>
                  <a:lnTo>
                    <a:pt x="975" y="2487"/>
                  </a:lnTo>
                  <a:lnTo>
                    <a:pt x="1051" y="2513"/>
                  </a:lnTo>
                  <a:lnTo>
                    <a:pt x="1129" y="2534"/>
                  </a:lnTo>
                  <a:lnTo>
                    <a:pt x="1209" y="2548"/>
                  </a:lnTo>
                  <a:lnTo>
                    <a:pt x="1292" y="2558"/>
                  </a:lnTo>
                  <a:lnTo>
                    <a:pt x="1376" y="2561"/>
                  </a:lnTo>
                  <a:lnTo>
                    <a:pt x="1459" y="2558"/>
                  </a:lnTo>
                  <a:lnTo>
                    <a:pt x="1540" y="2550"/>
                  </a:lnTo>
                  <a:lnTo>
                    <a:pt x="1617" y="2537"/>
                  </a:lnTo>
                  <a:lnTo>
                    <a:pt x="1691" y="2519"/>
                  </a:lnTo>
                  <a:lnTo>
                    <a:pt x="1762" y="2497"/>
                  </a:lnTo>
                  <a:lnTo>
                    <a:pt x="1831" y="2471"/>
                  </a:lnTo>
                  <a:lnTo>
                    <a:pt x="1896" y="2440"/>
                  </a:lnTo>
                  <a:lnTo>
                    <a:pt x="1958" y="2406"/>
                  </a:lnTo>
                  <a:lnTo>
                    <a:pt x="2017" y="2367"/>
                  </a:lnTo>
                  <a:lnTo>
                    <a:pt x="2072" y="2327"/>
                  </a:lnTo>
                  <a:lnTo>
                    <a:pt x="2125" y="2283"/>
                  </a:lnTo>
                  <a:lnTo>
                    <a:pt x="2174" y="2235"/>
                  </a:lnTo>
                  <a:lnTo>
                    <a:pt x="2220" y="2186"/>
                  </a:lnTo>
                  <a:lnTo>
                    <a:pt x="2263" y="2133"/>
                  </a:lnTo>
                  <a:lnTo>
                    <a:pt x="2303" y="2079"/>
                  </a:lnTo>
                  <a:lnTo>
                    <a:pt x="2338" y="2023"/>
                  </a:lnTo>
                  <a:lnTo>
                    <a:pt x="2372" y="1965"/>
                  </a:lnTo>
                  <a:lnTo>
                    <a:pt x="2401" y="1905"/>
                  </a:lnTo>
                  <a:lnTo>
                    <a:pt x="2428" y="1845"/>
                  </a:lnTo>
                  <a:lnTo>
                    <a:pt x="2450" y="1784"/>
                  </a:lnTo>
                  <a:lnTo>
                    <a:pt x="2469" y="1722"/>
                  </a:lnTo>
                  <a:lnTo>
                    <a:pt x="2485" y="1659"/>
                  </a:lnTo>
                  <a:lnTo>
                    <a:pt x="2497" y="1596"/>
                  </a:lnTo>
                  <a:lnTo>
                    <a:pt x="2506" y="1534"/>
                  </a:lnTo>
                  <a:lnTo>
                    <a:pt x="2511" y="1471"/>
                  </a:lnTo>
                  <a:lnTo>
                    <a:pt x="2513" y="1409"/>
                  </a:lnTo>
                  <a:lnTo>
                    <a:pt x="2512" y="1357"/>
                  </a:lnTo>
                  <a:lnTo>
                    <a:pt x="2558" y="1321"/>
                  </a:lnTo>
                  <a:lnTo>
                    <a:pt x="2600" y="1282"/>
                  </a:lnTo>
                  <a:lnTo>
                    <a:pt x="2641" y="1240"/>
                  </a:lnTo>
                  <a:lnTo>
                    <a:pt x="2677" y="1195"/>
                  </a:lnTo>
                  <a:lnTo>
                    <a:pt x="2711" y="1148"/>
                  </a:lnTo>
                  <a:lnTo>
                    <a:pt x="2657" y="1170"/>
                  </a:lnTo>
                  <a:lnTo>
                    <a:pt x="2600" y="1188"/>
                  </a:lnTo>
                  <a:lnTo>
                    <a:pt x="2542" y="1201"/>
                  </a:lnTo>
                  <a:lnTo>
                    <a:pt x="2482" y="1211"/>
                  </a:lnTo>
                  <a:lnTo>
                    <a:pt x="2522" y="1184"/>
                  </a:lnTo>
                  <a:lnTo>
                    <a:pt x="2558" y="1152"/>
                  </a:lnTo>
                  <a:lnTo>
                    <a:pt x="2589" y="1116"/>
                  </a:lnTo>
                  <a:lnTo>
                    <a:pt x="2618" y="1076"/>
                  </a:lnTo>
                  <a:lnTo>
                    <a:pt x="2641" y="1033"/>
                  </a:lnTo>
                  <a:lnTo>
                    <a:pt x="2658" y="987"/>
                  </a:lnTo>
                  <a:lnTo>
                    <a:pt x="2598" y="1020"/>
                  </a:lnTo>
                  <a:lnTo>
                    <a:pt x="2536" y="1046"/>
                  </a:lnTo>
                  <a:lnTo>
                    <a:pt x="2471" y="1068"/>
                  </a:lnTo>
                  <a:lnTo>
                    <a:pt x="2404" y="1085"/>
                  </a:lnTo>
                  <a:lnTo>
                    <a:pt x="2371" y="1053"/>
                  </a:lnTo>
                  <a:lnTo>
                    <a:pt x="2334" y="1025"/>
                  </a:lnTo>
                  <a:lnTo>
                    <a:pt x="2295" y="1002"/>
                  </a:lnTo>
                  <a:lnTo>
                    <a:pt x="2253" y="984"/>
                  </a:lnTo>
                  <a:lnTo>
                    <a:pt x="2207" y="969"/>
                  </a:lnTo>
                  <a:lnTo>
                    <a:pt x="2160" y="961"/>
                  </a:lnTo>
                  <a:lnTo>
                    <a:pt x="2112" y="957"/>
                  </a:lnTo>
                  <a:close/>
                  <a:moveTo>
                    <a:pt x="1738" y="0"/>
                  </a:moveTo>
                  <a:lnTo>
                    <a:pt x="1847" y="5"/>
                  </a:lnTo>
                  <a:lnTo>
                    <a:pt x="1955" y="15"/>
                  </a:lnTo>
                  <a:lnTo>
                    <a:pt x="2060" y="31"/>
                  </a:lnTo>
                  <a:lnTo>
                    <a:pt x="2165" y="54"/>
                  </a:lnTo>
                  <a:lnTo>
                    <a:pt x="2266" y="84"/>
                  </a:lnTo>
                  <a:lnTo>
                    <a:pt x="2365" y="119"/>
                  </a:lnTo>
                  <a:lnTo>
                    <a:pt x="2460" y="161"/>
                  </a:lnTo>
                  <a:lnTo>
                    <a:pt x="2554" y="207"/>
                  </a:lnTo>
                  <a:lnTo>
                    <a:pt x="2643" y="259"/>
                  </a:lnTo>
                  <a:lnTo>
                    <a:pt x="2729" y="316"/>
                  </a:lnTo>
                  <a:lnTo>
                    <a:pt x="2811" y="379"/>
                  </a:lnTo>
                  <a:lnTo>
                    <a:pt x="2890" y="445"/>
                  </a:lnTo>
                  <a:lnTo>
                    <a:pt x="2965" y="516"/>
                  </a:lnTo>
                  <a:lnTo>
                    <a:pt x="3035" y="592"/>
                  </a:lnTo>
                  <a:lnTo>
                    <a:pt x="3101" y="671"/>
                  </a:lnTo>
                  <a:lnTo>
                    <a:pt x="3163" y="755"/>
                  </a:lnTo>
                  <a:lnTo>
                    <a:pt x="3220" y="843"/>
                  </a:lnTo>
                  <a:lnTo>
                    <a:pt x="3271" y="933"/>
                  </a:lnTo>
                  <a:lnTo>
                    <a:pt x="3316" y="1028"/>
                  </a:lnTo>
                  <a:lnTo>
                    <a:pt x="3358" y="1124"/>
                  </a:lnTo>
                  <a:lnTo>
                    <a:pt x="3393" y="1225"/>
                  </a:lnTo>
                  <a:lnTo>
                    <a:pt x="3422" y="1327"/>
                  </a:lnTo>
                  <a:lnTo>
                    <a:pt x="3445" y="1431"/>
                  </a:lnTo>
                  <a:lnTo>
                    <a:pt x="3461" y="1539"/>
                  </a:lnTo>
                  <a:lnTo>
                    <a:pt x="3471" y="1648"/>
                  </a:lnTo>
                  <a:lnTo>
                    <a:pt x="3474" y="1759"/>
                  </a:lnTo>
                  <a:lnTo>
                    <a:pt x="3471" y="1870"/>
                  </a:lnTo>
                  <a:lnTo>
                    <a:pt x="3461" y="1979"/>
                  </a:lnTo>
                  <a:lnTo>
                    <a:pt x="3445" y="2087"/>
                  </a:lnTo>
                  <a:lnTo>
                    <a:pt x="3422" y="2191"/>
                  </a:lnTo>
                  <a:lnTo>
                    <a:pt x="3393" y="2294"/>
                  </a:lnTo>
                  <a:lnTo>
                    <a:pt x="3358" y="2394"/>
                  </a:lnTo>
                  <a:lnTo>
                    <a:pt x="3316" y="2491"/>
                  </a:lnTo>
                  <a:lnTo>
                    <a:pt x="3271" y="2585"/>
                  </a:lnTo>
                  <a:lnTo>
                    <a:pt x="3220" y="2675"/>
                  </a:lnTo>
                  <a:lnTo>
                    <a:pt x="3163" y="2763"/>
                  </a:lnTo>
                  <a:lnTo>
                    <a:pt x="3101" y="2847"/>
                  </a:lnTo>
                  <a:lnTo>
                    <a:pt x="3035" y="2926"/>
                  </a:lnTo>
                  <a:lnTo>
                    <a:pt x="2965" y="3002"/>
                  </a:lnTo>
                  <a:lnTo>
                    <a:pt x="2890" y="3074"/>
                  </a:lnTo>
                  <a:lnTo>
                    <a:pt x="2811" y="3140"/>
                  </a:lnTo>
                  <a:lnTo>
                    <a:pt x="2729" y="3202"/>
                  </a:lnTo>
                  <a:lnTo>
                    <a:pt x="2643" y="3260"/>
                  </a:lnTo>
                  <a:lnTo>
                    <a:pt x="2554" y="3311"/>
                  </a:lnTo>
                  <a:lnTo>
                    <a:pt x="2460" y="3357"/>
                  </a:lnTo>
                  <a:lnTo>
                    <a:pt x="2365" y="3399"/>
                  </a:lnTo>
                  <a:lnTo>
                    <a:pt x="2266" y="3434"/>
                  </a:lnTo>
                  <a:lnTo>
                    <a:pt x="2165" y="3464"/>
                  </a:lnTo>
                  <a:lnTo>
                    <a:pt x="2060" y="3487"/>
                  </a:lnTo>
                  <a:lnTo>
                    <a:pt x="1955" y="3504"/>
                  </a:lnTo>
                  <a:lnTo>
                    <a:pt x="1847" y="3514"/>
                  </a:lnTo>
                  <a:lnTo>
                    <a:pt x="1738" y="3518"/>
                  </a:lnTo>
                  <a:lnTo>
                    <a:pt x="1628" y="3514"/>
                  </a:lnTo>
                  <a:lnTo>
                    <a:pt x="1519" y="3504"/>
                  </a:lnTo>
                  <a:lnTo>
                    <a:pt x="1414" y="3487"/>
                  </a:lnTo>
                  <a:lnTo>
                    <a:pt x="1310" y="3464"/>
                  </a:lnTo>
                  <a:lnTo>
                    <a:pt x="1208" y="3434"/>
                  </a:lnTo>
                  <a:lnTo>
                    <a:pt x="1110" y="3399"/>
                  </a:lnTo>
                  <a:lnTo>
                    <a:pt x="1014" y="3357"/>
                  </a:lnTo>
                  <a:lnTo>
                    <a:pt x="921" y="3311"/>
                  </a:lnTo>
                  <a:lnTo>
                    <a:pt x="831" y="3260"/>
                  </a:lnTo>
                  <a:lnTo>
                    <a:pt x="745" y="3202"/>
                  </a:lnTo>
                  <a:lnTo>
                    <a:pt x="663" y="3140"/>
                  </a:lnTo>
                  <a:lnTo>
                    <a:pt x="585" y="3074"/>
                  </a:lnTo>
                  <a:lnTo>
                    <a:pt x="510" y="3002"/>
                  </a:lnTo>
                  <a:lnTo>
                    <a:pt x="439" y="2926"/>
                  </a:lnTo>
                  <a:lnTo>
                    <a:pt x="373" y="2847"/>
                  </a:lnTo>
                  <a:lnTo>
                    <a:pt x="312" y="2763"/>
                  </a:lnTo>
                  <a:lnTo>
                    <a:pt x="255" y="2675"/>
                  </a:lnTo>
                  <a:lnTo>
                    <a:pt x="204" y="2585"/>
                  </a:lnTo>
                  <a:lnTo>
                    <a:pt x="157" y="2491"/>
                  </a:lnTo>
                  <a:lnTo>
                    <a:pt x="117" y="2394"/>
                  </a:lnTo>
                  <a:lnTo>
                    <a:pt x="83" y="2294"/>
                  </a:lnTo>
                  <a:lnTo>
                    <a:pt x="53" y="2191"/>
                  </a:lnTo>
                  <a:lnTo>
                    <a:pt x="30" y="2087"/>
                  </a:lnTo>
                  <a:lnTo>
                    <a:pt x="14" y="1979"/>
                  </a:lnTo>
                  <a:lnTo>
                    <a:pt x="3" y="1870"/>
                  </a:lnTo>
                  <a:lnTo>
                    <a:pt x="0" y="1759"/>
                  </a:lnTo>
                  <a:lnTo>
                    <a:pt x="3" y="1648"/>
                  </a:lnTo>
                  <a:lnTo>
                    <a:pt x="14" y="1539"/>
                  </a:lnTo>
                  <a:lnTo>
                    <a:pt x="30" y="1431"/>
                  </a:lnTo>
                  <a:lnTo>
                    <a:pt x="53" y="1327"/>
                  </a:lnTo>
                  <a:lnTo>
                    <a:pt x="83" y="1225"/>
                  </a:lnTo>
                  <a:lnTo>
                    <a:pt x="117" y="1124"/>
                  </a:lnTo>
                  <a:lnTo>
                    <a:pt x="157" y="1028"/>
                  </a:lnTo>
                  <a:lnTo>
                    <a:pt x="204" y="933"/>
                  </a:lnTo>
                  <a:lnTo>
                    <a:pt x="255" y="843"/>
                  </a:lnTo>
                  <a:lnTo>
                    <a:pt x="312" y="755"/>
                  </a:lnTo>
                  <a:lnTo>
                    <a:pt x="373" y="671"/>
                  </a:lnTo>
                  <a:lnTo>
                    <a:pt x="439" y="592"/>
                  </a:lnTo>
                  <a:lnTo>
                    <a:pt x="510" y="516"/>
                  </a:lnTo>
                  <a:lnTo>
                    <a:pt x="585" y="445"/>
                  </a:lnTo>
                  <a:lnTo>
                    <a:pt x="663" y="379"/>
                  </a:lnTo>
                  <a:lnTo>
                    <a:pt x="745" y="316"/>
                  </a:lnTo>
                  <a:lnTo>
                    <a:pt x="831" y="259"/>
                  </a:lnTo>
                  <a:lnTo>
                    <a:pt x="921" y="207"/>
                  </a:lnTo>
                  <a:lnTo>
                    <a:pt x="1014" y="161"/>
                  </a:lnTo>
                  <a:lnTo>
                    <a:pt x="1110" y="119"/>
                  </a:lnTo>
                  <a:lnTo>
                    <a:pt x="1208" y="84"/>
                  </a:lnTo>
                  <a:lnTo>
                    <a:pt x="1310" y="54"/>
                  </a:lnTo>
                  <a:lnTo>
                    <a:pt x="1414" y="31"/>
                  </a:lnTo>
                  <a:lnTo>
                    <a:pt x="1519" y="15"/>
                  </a:lnTo>
                  <a:lnTo>
                    <a:pt x="1628" y="5"/>
                  </a:lnTo>
                  <a:lnTo>
                    <a:pt x="1738"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0" name="Freeform 6"/>
            <p:cNvSpPr/>
            <p:nvPr/>
          </p:nvSpPr>
          <p:spPr>
            <a:xfrm>
              <a:off x="3075480" y="4943520"/>
              <a:ext cx="277200" cy="280080"/>
            </a:xfrm>
            <a:custGeom>
              <a:avLst/>
              <a:gdLst/>
              <a:ahLst/>
              <a:rect l="l" t="t" r="r" b="b"/>
              <a:pathLst>
                <a:path w="3263" h="3314">
                  <a:moveTo>
                    <a:pt x="1776" y="753"/>
                  </a:moveTo>
                  <a:lnTo>
                    <a:pt x="1729" y="754"/>
                  </a:lnTo>
                  <a:lnTo>
                    <a:pt x="1686" y="759"/>
                  </a:lnTo>
                  <a:lnTo>
                    <a:pt x="1646" y="769"/>
                  </a:lnTo>
                  <a:lnTo>
                    <a:pt x="1610" y="780"/>
                  </a:lnTo>
                  <a:lnTo>
                    <a:pt x="1577" y="794"/>
                  </a:lnTo>
                  <a:lnTo>
                    <a:pt x="1547" y="810"/>
                  </a:lnTo>
                  <a:lnTo>
                    <a:pt x="1521" y="829"/>
                  </a:lnTo>
                  <a:lnTo>
                    <a:pt x="1496" y="850"/>
                  </a:lnTo>
                  <a:lnTo>
                    <a:pt x="1475" y="871"/>
                  </a:lnTo>
                  <a:lnTo>
                    <a:pt x="1456" y="895"/>
                  </a:lnTo>
                  <a:lnTo>
                    <a:pt x="1439" y="920"/>
                  </a:lnTo>
                  <a:lnTo>
                    <a:pt x="1426" y="946"/>
                  </a:lnTo>
                  <a:lnTo>
                    <a:pt x="1413" y="973"/>
                  </a:lnTo>
                  <a:lnTo>
                    <a:pt x="1403" y="1000"/>
                  </a:lnTo>
                  <a:lnTo>
                    <a:pt x="1395" y="1027"/>
                  </a:lnTo>
                  <a:lnTo>
                    <a:pt x="1389" y="1054"/>
                  </a:lnTo>
                  <a:lnTo>
                    <a:pt x="1384" y="1081"/>
                  </a:lnTo>
                  <a:lnTo>
                    <a:pt x="1381" y="1107"/>
                  </a:lnTo>
                  <a:lnTo>
                    <a:pt x="1379" y="1132"/>
                  </a:lnTo>
                  <a:lnTo>
                    <a:pt x="1379" y="1156"/>
                  </a:lnTo>
                  <a:lnTo>
                    <a:pt x="1379" y="1376"/>
                  </a:lnTo>
                  <a:lnTo>
                    <a:pt x="1192" y="1376"/>
                  </a:lnTo>
                  <a:lnTo>
                    <a:pt x="1192" y="1715"/>
                  </a:lnTo>
                  <a:lnTo>
                    <a:pt x="1379" y="1715"/>
                  </a:lnTo>
                  <a:lnTo>
                    <a:pt x="1379" y="2676"/>
                  </a:lnTo>
                  <a:lnTo>
                    <a:pt x="1772" y="2676"/>
                  </a:lnTo>
                  <a:lnTo>
                    <a:pt x="1772" y="1715"/>
                  </a:lnTo>
                  <a:lnTo>
                    <a:pt x="2037" y="1715"/>
                  </a:lnTo>
                  <a:lnTo>
                    <a:pt x="2072" y="1376"/>
                  </a:lnTo>
                  <a:lnTo>
                    <a:pt x="1772" y="1376"/>
                  </a:lnTo>
                  <a:lnTo>
                    <a:pt x="1772" y="1176"/>
                  </a:lnTo>
                  <a:lnTo>
                    <a:pt x="1774" y="1153"/>
                  </a:lnTo>
                  <a:lnTo>
                    <a:pt x="1779" y="1135"/>
                  </a:lnTo>
                  <a:lnTo>
                    <a:pt x="1786" y="1119"/>
                  </a:lnTo>
                  <a:lnTo>
                    <a:pt x="1795" y="1107"/>
                  </a:lnTo>
                  <a:lnTo>
                    <a:pt x="1806" y="1097"/>
                  </a:lnTo>
                  <a:lnTo>
                    <a:pt x="1819" y="1091"/>
                  </a:lnTo>
                  <a:lnTo>
                    <a:pt x="1831" y="1087"/>
                  </a:lnTo>
                  <a:lnTo>
                    <a:pt x="1843" y="1085"/>
                  </a:lnTo>
                  <a:lnTo>
                    <a:pt x="1855" y="1084"/>
                  </a:lnTo>
                  <a:lnTo>
                    <a:pt x="2066" y="1084"/>
                  </a:lnTo>
                  <a:lnTo>
                    <a:pt x="2066" y="754"/>
                  </a:lnTo>
                  <a:lnTo>
                    <a:pt x="1776" y="753"/>
                  </a:lnTo>
                  <a:close/>
                  <a:moveTo>
                    <a:pt x="1632" y="0"/>
                  </a:moveTo>
                  <a:lnTo>
                    <a:pt x="1735" y="4"/>
                  </a:lnTo>
                  <a:lnTo>
                    <a:pt x="1836" y="13"/>
                  </a:lnTo>
                  <a:lnTo>
                    <a:pt x="1935" y="29"/>
                  </a:lnTo>
                  <a:lnTo>
                    <a:pt x="2033" y="51"/>
                  </a:lnTo>
                  <a:lnTo>
                    <a:pt x="2128" y="79"/>
                  </a:lnTo>
                  <a:lnTo>
                    <a:pt x="2221" y="112"/>
                  </a:lnTo>
                  <a:lnTo>
                    <a:pt x="2310" y="151"/>
                  </a:lnTo>
                  <a:lnTo>
                    <a:pt x="2398" y="195"/>
                  </a:lnTo>
                  <a:lnTo>
                    <a:pt x="2482" y="243"/>
                  </a:lnTo>
                  <a:lnTo>
                    <a:pt x="2562" y="297"/>
                  </a:lnTo>
                  <a:lnTo>
                    <a:pt x="2640" y="356"/>
                  </a:lnTo>
                  <a:lnTo>
                    <a:pt x="2715" y="418"/>
                  </a:lnTo>
                  <a:lnTo>
                    <a:pt x="2785" y="486"/>
                  </a:lnTo>
                  <a:lnTo>
                    <a:pt x="2850" y="557"/>
                  </a:lnTo>
                  <a:lnTo>
                    <a:pt x="2912" y="632"/>
                  </a:lnTo>
                  <a:lnTo>
                    <a:pt x="2971" y="711"/>
                  </a:lnTo>
                  <a:lnTo>
                    <a:pt x="3024" y="794"/>
                  </a:lnTo>
                  <a:lnTo>
                    <a:pt x="3072" y="879"/>
                  </a:lnTo>
                  <a:lnTo>
                    <a:pt x="3115" y="968"/>
                  </a:lnTo>
                  <a:lnTo>
                    <a:pt x="3153" y="1059"/>
                  </a:lnTo>
                  <a:lnTo>
                    <a:pt x="3186" y="1153"/>
                  </a:lnTo>
                  <a:lnTo>
                    <a:pt x="3214" y="1250"/>
                  </a:lnTo>
                  <a:lnTo>
                    <a:pt x="3235" y="1348"/>
                  </a:lnTo>
                  <a:lnTo>
                    <a:pt x="3250" y="1450"/>
                  </a:lnTo>
                  <a:lnTo>
                    <a:pt x="3259" y="1552"/>
                  </a:lnTo>
                  <a:lnTo>
                    <a:pt x="3263" y="1657"/>
                  </a:lnTo>
                  <a:lnTo>
                    <a:pt x="3259" y="1762"/>
                  </a:lnTo>
                  <a:lnTo>
                    <a:pt x="3250" y="1864"/>
                  </a:lnTo>
                  <a:lnTo>
                    <a:pt x="3235" y="1966"/>
                  </a:lnTo>
                  <a:lnTo>
                    <a:pt x="3214" y="2064"/>
                  </a:lnTo>
                  <a:lnTo>
                    <a:pt x="3186" y="2161"/>
                  </a:lnTo>
                  <a:lnTo>
                    <a:pt x="3153" y="2255"/>
                  </a:lnTo>
                  <a:lnTo>
                    <a:pt x="3115" y="2346"/>
                  </a:lnTo>
                  <a:lnTo>
                    <a:pt x="3072" y="2435"/>
                  </a:lnTo>
                  <a:lnTo>
                    <a:pt x="3024" y="2520"/>
                  </a:lnTo>
                  <a:lnTo>
                    <a:pt x="2971" y="2603"/>
                  </a:lnTo>
                  <a:lnTo>
                    <a:pt x="2912" y="2682"/>
                  </a:lnTo>
                  <a:lnTo>
                    <a:pt x="2850" y="2757"/>
                  </a:lnTo>
                  <a:lnTo>
                    <a:pt x="2785" y="2828"/>
                  </a:lnTo>
                  <a:lnTo>
                    <a:pt x="2715" y="2895"/>
                  </a:lnTo>
                  <a:lnTo>
                    <a:pt x="2640" y="2958"/>
                  </a:lnTo>
                  <a:lnTo>
                    <a:pt x="2562" y="3017"/>
                  </a:lnTo>
                  <a:lnTo>
                    <a:pt x="2482" y="3071"/>
                  </a:lnTo>
                  <a:lnTo>
                    <a:pt x="2398" y="3119"/>
                  </a:lnTo>
                  <a:lnTo>
                    <a:pt x="2310" y="3163"/>
                  </a:lnTo>
                  <a:lnTo>
                    <a:pt x="2221" y="3202"/>
                  </a:lnTo>
                  <a:lnTo>
                    <a:pt x="2128" y="3235"/>
                  </a:lnTo>
                  <a:lnTo>
                    <a:pt x="2033" y="3263"/>
                  </a:lnTo>
                  <a:lnTo>
                    <a:pt x="1935" y="3285"/>
                  </a:lnTo>
                  <a:lnTo>
                    <a:pt x="1836" y="3301"/>
                  </a:lnTo>
                  <a:lnTo>
                    <a:pt x="1735" y="3310"/>
                  </a:lnTo>
                  <a:lnTo>
                    <a:pt x="1632" y="3314"/>
                  </a:lnTo>
                  <a:lnTo>
                    <a:pt x="1529" y="3310"/>
                  </a:lnTo>
                  <a:lnTo>
                    <a:pt x="1427" y="3301"/>
                  </a:lnTo>
                  <a:lnTo>
                    <a:pt x="1328" y="3285"/>
                  </a:lnTo>
                  <a:lnTo>
                    <a:pt x="1231" y="3263"/>
                  </a:lnTo>
                  <a:lnTo>
                    <a:pt x="1135" y="3235"/>
                  </a:lnTo>
                  <a:lnTo>
                    <a:pt x="1043" y="3202"/>
                  </a:lnTo>
                  <a:lnTo>
                    <a:pt x="952" y="3163"/>
                  </a:lnTo>
                  <a:lnTo>
                    <a:pt x="865" y="3119"/>
                  </a:lnTo>
                  <a:lnTo>
                    <a:pt x="781" y="3071"/>
                  </a:lnTo>
                  <a:lnTo>
                    <a:pt x="700" y="3017"/>
                  </a:lnTo>
                  <a:lnTo>
                    <a:pt x="622" y="2958"/>
                  </a:lnTo>
                  <a:lnTo>
                    <a:pt x="549" y="2895"/>
                  </a:lnTo>
                  <a:lnTo>
                    <a:pt x="479" y="2828"/>
                  </a:lnTo>
                  <a:lnTo>
                    <a:pt x="412" y="2757"/>
                  </a:lnTo>
                  <a:lnTo>
                    <a:pt x="350" y="2682"/>
                  </a:lnTo>
                  <a:lnTo>
                    <a:pt x="293" y="2603"/>
                  </a:lnTo>
                  <a:lnTo>
                    <a:pt x="240" y="2520"/>
                  </a:lnTo>
                  <a:lnTo>
                    <a:pt x="192" y="2435"/>
                  </a:lnTo>
                  <a:lnTo>
                    <a:pt x="148" y="2346"/>
                  </a:lnTo>
                  <a:lnTo>
                    <a:pt x="110" y="2255"/>
                  </a:lnTo>
                  <a:lnTo>
                    <a:pt x="78" y="2161"/>
                  </a:lnTo>
                  <a:lnTo>
                    <a:pt x="50" y="2064"/>
                  </a:lnTo>
                  <a:lnTo>
                    <a:pt x="29" y="1966"/>
                  </a:lnTo>
                  <a:lnTo>
                    <a:pt x="13" y="1864"/>
                  </a:lnTo>
                  <a:lnTo>
                    <a:pt x="3" y="1762"/>
                  </a:lnTo>
                  <a:lnTo>
                    <a:pt x="0" y="1657"/>
                  </a:lnTo>
                  <a:lnTo>
                    <a:pt x="3" y="1552"/>
                  </a:lnTo>
                  <a:lnTo>
                    <a:pt x="13" y="1450"/>
                  </a:lnTo>
                  <a:lnTo>
                    <a:pt x="29" y="1348"/>
                  </a:lnTo>
                  <a:lnTo>
                    <a:pt x="50" y="1250"/>
                  </a:lnTo>
                  <a:lnTo>
                    <a:pt x="78" y="1153"/>
                  </a:lnTo>
                  <a:lnTo>
                    <a:pt x="110" y="1059"/>
                  </a:lnTo>
                  <a:lnTo>
                    <a:pt x="148" y="968"/>
                  </a:lnTo>
                  <a:lnTo>
                    <a:pt x="192" y="879"/>
                  </a:lnTo>
                  <a:lnTo>
                    <a:pt x="240" y="794"/>
                  </a:lnTo>
                  <a:lnTo>
                    <a:pt x="293" y="711"/>
                  </a:lnTo>
                  <a:lnTo>
                    <a:pt x="350" y="632"/>
                  </a:lnTo>
                  <a:lnTo>
                    <a:pt x="412" y="557"/>
                  </a:lnTo>
                  <a:lnTo>
                    <a:pt x="479" y="486"/>
                  </a:lnTo>
                  <a:lnTo>
                    <a:pt x="549" y="418"/>
                  </a:lnTo>
                  <a:lnTo>
                    <a:pt x="622" y="356"/>
                  </a:lnTo>
                  <a:lnTo>
                    <a:pt x="700" y="297"/>
                  </a:lnTo>
                  <a:lnTo>
                    <a:pt x="781" y="243"/>
                  </a:lnTo>
                  <a:lnTo>
                    <a:pt x="865" y="195"/>
                  </a:lnTo>
                  <a:lnTo>
                    <a:pt x="952" y="151"/>
                  </a:lnTo>
                  <a:lnTo>
                    <a:pt x="1043" y="112"/>
                  </a:lnTo>
                  <a:lnTo>
                    <a:pt x="1135" y="79"/>
                  </a:lnTo>
                  <a:lnTo>
                    <a:pt x="1231" y="51"/>
                  </a:lnTo>
                  <a:lnTo>
                    <a:pt x="1328" y="29"/>
                  </a:lnTo>
                  <a:lnTo>
                    <a:pt x="1427" y="13"/>
                  </a:lnTo>
                  <a:lnTo>
                    <a:pt x="1529" y="4"/>
                  </a:lnTo>
                  <a:lnTo>
                    <a:pt x="1632"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21" name="Group 59"/>
          <p:cNvGrpSpPr/>
          <p:nvPr/>
        </p:nvGrpSpPr>
        <p:grpSpPr>
          <a:xfrm>
            <a:off x="5591160" y="4957920"/>
            <a:ext cx="1039680" cy="282240"/>
            <a:chOff x="5591160" y="4957920"/>
            <a:chExt cx="1039680" cy="282240"/>
          </a:xfrm>
        </p:grpSpPr>
        <p:sp>
          <p:nvSpPr>
            <p:cNvPr id="522" name="Freeform 675"/>
            <p:cNvSpPr/>
            <p:nvPr/>
          </p:nvSpPr>
          <p:spPr>
            <a:xfrm>
              <a:off x="5702400" y="5070600"/>
              <a:ext cx="55440" cy="56520"/>
            </a:xfrm>
            <a:custGeom>
              <a:avLst/>
              <a:gdLst/>
              <a:ahLst/>
              <a:rect l="l" t="t" r="r" b="b"/>
              <a:pathLst>
                <a:path w="798" h="646">
                  <a:moveTo>
                    <a:pt x="399" y="0"/>
                  </a:moveTo>
                  <a:lnTo>
                    <a:pt x="455" y="3"/>
                  </a:lnTo>
                  <a:lnTo>
                    <a:pt x="509" y="12"/>
                  </a:lnTo>
                  <a:lnTo>
                    <a:pt x="559" y="27"/>
                  </a:lnTo>
                  <a:lnTo>
                    <a:pt x="606" y="47"/>
                  </a:lnTo>
                  <a:lnTo>
                    <a:pt x="650" y="72"/>
                  </a:lnTo>
                  <a:lnTo>
                    <a:pt x="689" y="102"/>
                  </a:lnTo>
                  <a:lnTo>
                    <a:pt x="722" y="134"/>
                  </a:lnTo>
                  <a:lnTo>
                    <a:pt x="748" y="167"/>
                  </a:lnTo>
                  <a:lnTo>
                    <a:pt x="770" y="204"/>
                  </a:lnTo>
                  <a:lnTo>
                    <a:pt x="785" y="241"/>
                  </a:lnTo>
                  <a:lnTo>
                    <a:pt x="795" y="281"/>
                  </a:lnTo>
                  <a:lnTo>
                    <a:pt x="798" y="323"/>
                  </a:lnTo>
                  <a:lnTo>
                    <a:pt x="795" y="366"/>
                  </a:lnTo>
                  <a:lnTo>
                    <a:pt x="783" y="409"/>
                  </a:lnTo>
                  <a:lnTo>
                    <a:pt x="767" y="448"/>
                  </a:lnTo>
                  <a:lnTo>
                    <a:pt x="743" y="485"/>
                  </a:lnTo>
                  <a:lnTo>
                    <a:pt x="715" y="520"/>
                  </a:lnTo>
                  <a:lnTo>
                    <a:pt x="681" y="551"/>
                  </a:lnTo>
                  <a:lnTo>
                    <a:pt x="642" y="578"/>
                  </a:lnTo>
                  <a:lnTo>
                    <a:pt x="600" y="601"/>
                  </a:lnTo>
                  <a:lnTo>
                    <a:pt x="554" y="621"/>
                  </a:lnTo>
                  <a:lnTo>
                    <a:pt x="505" y="634"/>
                  </a:lnTo>
                  <a:lnTo>
                    <a:pt x="453" y="643"/>
                  </a:lnTo>
                  <a:lnTo>
                    <a:pt x="399" y="646"/>
                  </a:lnTo>
                  <a:lnTo>
                    <a:pt x="344" y="643"/>
                  </a:lnTo>
                  <a:lnTo>
                    <a:pt x="293" y="634"/>
                  </a:lnTo>
                  <a:lnTo>
                    <a:pt x="243" y="621"/>
                  </a:lnTo>
                  <a:lnTo>
                    <a:pt x="197" y="601"/>
                  </a:lnTo>
                  <a:lnTo>
                    <a:pt x="155" y="578"/>
                  </a:lnTo>
                  <a:lnTo>
                    <a:pt x="117" y="551"/>
                  </a:lnTo>
                  <a:lnTo>
                    <a:pt x="82" y="520"/>
                  </a:lnTo>
                  <a:lnTo>
                    <a:pt x="54" y="485"/>
                  </a:lnTo>
                  <a:lnTo>
                    <a:pt x="31" y="448"/>
                  </a:lnTo>
                  <a:lnTo>
                    <a:pt x="14" y="409"/>
                  </a:lnTo>
                  <a:lnTo>
                    <a:pt x="4" y="366"/>
                  </a:lnTo>
                  <a:lnTo>
                    <a:pt x="0" y="323"/>
                  </a:lnTo>
                  <a:lnTo>
                    <a:pt x="3" y="281"/>
                  </a:lnTo>
                  <a:lnTo>
                    <a:pt x="12" y="241"/>
                  </a:lnTo>
                  <a:lnTo>
                    <a:pt x="29" y="204"/>
                  </a:lnTo>
                  <a:lnTo>
                    <a:pt x="49" y="167"/>
                  </a:lnTo>
                  <a:lnTo>
                    <a:pt x="75" y="134"/>
                  </a:lnTo>
                  <a:lnTo>
                    <a:pt x="109" y="102"/>
                  </a:lnTo>
                  <a:lnTo>
                    <a:pt x="148" y="72"/>
                  </a:lnTo>
                  <a:lnTo>
                    <a:pt x="191" y="47"/>
                  </a:lnTo>
                  <a:lnTo>
                    <a:pt x="238" y="27"/>
                  </a:lnTo>
                  <a:lnTo>
                    <a:pt x="289" y="12"/>
                  </a:lnTo>
                  <a:lnTo>
                    <a:pt x="343" y="3"/>
                  </a:lnTo>
                  <a:lnTo>
                    <a:pt x="399" y="0"/>
                  </a:lnTo>
                  <a:close/>
                </a:path>
              </a:pathLst>
            </a:custGeom>
            <a:solidFill>
              <a:srgbClr val="da1088"/>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523" name="Freeform 676"/>
            <p:cNvSpPr/>
            <p:nvPr/>
          </p:nvSpPr>
          <p:spPr>
            <a:xfrm>
              <a:off x="5764320" y="5036760"/>
              <a:ext cx="26640" cy="27000"/>
            </a:xfrm>
            <a:custGeom>
              <a:avLst/>
              <a:gdLst/>
              <a:ahLst/>
              <a:rect l="l" t="t" r="r" b="b"/>
              <a:pathLst>
                <a:path w="385" h="312">
                  <a:moveTo>
                    <a:pt x="334" y="0"/>
                  </a:moveTo>
                  <a:lnTo>
                    <a:pt x="385" y="0"/>
                  </a:lnTo>
                  <a:lnTo>
                    <a:pt x="385" y="311"/>
                  </a:lnTo>
                  <a:lnTo>
                    <a:pt x="1" y="312"/>
                  </a:lnTo>
                  <a:lnTo>
                    <a:pt x="0" y="1"/>
                  </a:lnTo>
                  <a:lnTo>
                    <a:pt x="334" y="0"/>
                  </a:lnTo>
                  <a:close/>
                </a:path>
              </a:pathLst>
            </a:custGeom>
            <a:solidFill>
              <a:srgbClr val="da108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524" name="Freeform 677"/>
            <p:cNvSpPr/>
            <p:nvPr/>
          </p:nvSpPr>
          <p:spPr>
            <a:xfrm>
              <a:off x="5591160" y="4957920"/>
              <a:ext cx="278640" cy="282240"/>
            </a:xfrm>
            <a:custGeom>
              <a:avLst/>
              <a:gdLst/>
              <a:ahLst/>
              <a:rect l="l" t="t" r="r" b="b"/>
              <a:pathLst>
                <a:path w="3987" h="3229">
                  <a:moveTo>
                    <a:pt x="1298" y="697"/>
                  </a:moveTo>
                  <a:lnTo>
                    <a:pt x="1243" y="700"/>
                  </a:lnTo>
                  <a:lnTo>
                    <a:pt x="1191" y="708"/>
                  </a:lnTo>
                  <a:lnTo>
                    <a:pt x="1140" y="721"/>
                  </a:lnTo>
                  <a:lnTo>
                    <a:pt x="1092" y="738"/>
                  </a:lnTo>
                  <a:lnTo>
                    <a:pt x="1047" y="761"/>
                  </a:lnTo>
                  <a:lnTo>
                    <a:pt x="1008" y="787"/>
                  </a:lnTo>
                  <a:lnTo>
                    <a:pt x="970" y="816"/>
                  </a:lnTo>
                  <a:lnTo>
                    <a:pt x="939" y="849"/>
                  </a:lnTo>
                  <a:lnTo>
                    <a:pt x="912" y="885"/>
                  </a:lnTo>
                  <a:lnTo>
                    <a:pt x="889" y="923"/>
                  </a:lnTo>
                  <a:lnTo>
                    <a:pt x="873" y="964"/>
                  </a:lnTo>
                  <a:lnTo>
                    <a:pt x="863" y="1007"/>
                  </a:lnTo>
                  <a:lnTo>
                    <a:pt x="860" y="1051"/>
                  </a:lnTo>
                  <a:lnTo>
                    <a:pt x="860" y="2178"/>
                  </a:lnTo>
                  <a:lnTo>
                    <a:pt x="863" y="2223"/>
                  </a:lnTo>
                  <a:lnTo>
                    <a:pt x="873" y="2265"/>
                  </a:lnTo>
                  <a:lnTo>
                    <a:pt x="889" y="2306"/>
                  </a:lnTo>
                  <a:lnTo>
                    <a:pt x="912" y="2345"/>
                  </a:lnTo>
                  <a:lnTo>
                    <a:pt x="939" y="2380"/>
                  </a:lnTo>
                  <a:lnTo>
                    <a:pt x="970" y="2413"/>
                  </a:lnTo>
                  <a:lnTo>
                    <a:pt x="1008" y="2443"/>
                  </a:lnTo>
                  <a:lnTo>
                    <a:pt x="1047" y="2469"/>
                  </a:lnTo>
                  <a:lnTo>
                    <a:pt x="1092" y="2491"/>
                  </a:lnTo>
                  <a:lnTo>
                    <a:pt x="1140" y="2508"/>
                  </a:lnTo>
                  <a:lnTo>
                    <a:pt x="1191" y="2521"/>
                  </a:lnTo>
                  <a:lnTo>
                    <a:pt x="1243" y="2530"/>
                  </a:lnTo>
                  <a:lnTo>
                    <a:pt x="1298" y="2533"/>
                  </a:lnTo>
                  <a:lnTo>
                    <a:pt x="2689" y="2533"/>
                  </a:lnTo>
                  <a:lnTo>
                    <a:pt x="2744" y="2530"/>
                  </a:lnTo>
                  <a:lnTo>
                    <a:pt x="2797" y="2521"/>
                  </a:lnTo>
                  <a:lnTo>
                    <a:pt x="2847" y="2508"/>
                  </a:lnTo>
                  <a:lnTo>
                    <a:pt x="2896" y="2491"/>
                  </a:lnTo>
                  <a:lnTo>
                    <a:pt x="2940" y="2469"/>
                  </a:lnTo>
                  <a:lnTo>
                    <a:pt x="2981" y="2443"/>
                  </a:lnTo>
                  <a:lnTo>
                    <a:pt x="3017" y="2413"/>
                  </a:lnTo>
                  <a:lnTo>
                    <a:pt x="3049" y="2380"/>
                  </a:lnTo>
                  <a:lnTo>
                    <a:pt x="3077" y="2345"/>
                  </a:lnTo>
                  <a:lnTo>
                    <a:pt x="3098" y="2306"/>
                  </a:lnTo>
                  <a:lnTo>
                    <a:pt x="3114" y="2265"/>
                  </a:lnTo>
                  <a:lnTo>
                    <a:pt x="3124" y="2223"/>
                  </a:lnTo>
                  <a:lnTo>
                    <a:pt x="3128" y="2178"/>
                  </a:lnTo>
                  <a:lnTo>
                    <a:pt x="3128" y="1051"/>
                  </a:lnTo>
                  <a:lnTo>
                    <a:pt x="3124" y="1007"/>
                  </a:lnTo>
                  <a:lnTo>
                    <a:pt x="3114" y="964"/>
                  </a:lnTo>
                  <a:lnTo>
                    <a:pt x="3098" y="923"/>
                  </a:lnTo>
                  <a:lnTo>
                    <a:pt x="3077" y="885"/>
                  </a:lnTo>
                  <a:lnTo>
                    <a:pt x="3049" y="849"/>
                  </a:lnTo>
                  <a:lnTo>
                    <a:pt x="3017" y="816"/>
                  </a:lnTo>
                  <a:lnTo>
                    <a:pt x="2981" y="787"/>
                  </a:lnTo>
                  <a:lnTo>
                    <a:pt x="2940" y="761"/>
                  </a:lnTo>
                  <a:lnTo>
                    <a:pt x="2896" y="738"/>
                  </a:lnTo>
                  <a:lnTo>
                    <a:pt x="2847" y="721"/>
                  </a:lnTo>
                  <a:lnTo>
                    <a:pt x="2797" y="708"/>
                  </a:lnTo>
                  <a:lnTo>
                    <a:pt x="2744" y="700"/>
                  </a:lnTo>
                  <a:lnTo>
                    <a:pt x="2689" y="697"/>
                  </a:lnTo>
                  <a:lnTo>
                    <a:pt x="1298" y="697"/>
                  </a:lnTo>
                  <a:close/>
                  <a:moveTo>
                    <a:pt x="1994" y="0"/>
                  </a:moveTo>
                  <a:lnTo>
                    <a:pt x="2120" y="4"/>
                  </a:lnTo>
                  <a:lnTo>
                    <a:pt x="2244" y="13"/>
                  </a:lnTo>
                  <a:lnTo>
                    <a:pt x="2365" y="28"/>
                  </a:lnTo>
                  <a:lnTo>
                    <a:pt x="2484" y="50"/>
                  </a:lnTo>
                  <a:lnTo>
                    <a:pt x="2600" y="77"/>
                  </a:lnTo>
                  <a:lnTo>
                    <a:pt x="2714" y="109"/>
                  </a:lnTo>
                  <a:lnTo>
                    <a:pt x="2824" y="148"/>
                  </a:lnTo>
                  <a:lnTo>
                    <a:pt x="2931" y="190"/>
                  </a:lnTo>
                  <a:lnTo>
                    <a:pt x="3033" y="237"/>
                  </a:lnTo>
                  <a:lnTo>
                    <a:pt x="3132" y="290"/>
                  </a:lnTo>
                  <a:lnTo>
                    <a:pt x="3226" y="348"/>
                  </a:lnTo>
                  <a:lnTo>
                    <a:pt x="3318" y="408"/>
                  </a:lnTo>
                  <a:lnTo>
                    <a:pt x="3404" y="474"/>
                  </a:lnTo>
                  <a:lnTo>
                    <a:pt x="3483" y="543"/>
                  </a:lnTo>
                  <a:lnTo>
                    <a:pt x="3559" y="616"/>
                  </a:lnTo>
                  <a:lnTo>
                    <a:pt x="3631" y="693"/>
                  </a:lnTo>
                  <a:lnTo>
                    <a:pt x="3695" y="774"/>
                  </a:lnTo>
                  <a:lnTo>
                    <a:pt x="3754" y="856"/>
                  </a:lnTo>
                  <a:lnTo>
                    <a:pt x="3806" y="943"/>
                  </a:lnTo>
                  <a:lnTo>
                    <a:pt x="3854" y="1032"/>
                  </a:lnTo>
                  <a:lnTo>
                    <a:pt x="3894" y="1124"/>
                  </a:lnTo>
                  <a:lnTo>
                    <a:pt x="3927" y="1218"/>
                  </a:lnTo>
                  <a:lnTo>
                    <a:pt x="3954" y="1314"/>
                  </a:lnTo>
                  <a:lnTo>
                    <a:pt x="3972" y="1413"/>
                  </a:lnTo>
                  <a:lnTo>
                    <a:pt x="3984" y="1513"/>
                  </a:lnTo>
                  <a:lnTo>
                    <a:pt x="3987" y="1615"/>
                  </a:lnTo>
                  <a:lnTo>
                    <a:pt x="3984" y="1717"/>
                  </a:lnTo>
                  <a:lnTo>
                    <a:pt x="3972" y="1817"/>
                  </a:lnTo>
                  <a:lnTo>
                    <a:pt x="3954" y="1916"/>
                  </a:lnTo>
                  <a:lnTo>
                    <a:pt x="3927" y="2012"/>
                  </a:lnTo>
                  <a:lnTo>
                    <a:pt x="3894" y="2105"/>
                  </a:lnTo>
                  <a:lnTo>
                    <a:pt x="3854" y="2197"/>
                  </a:lnTo>
                  <a:lnTo>
                    <a:pt x="3806" y="2286"/>
                  </a:lnTo>
                  <a:lnTo>
                    <a:pt x="3754" y="2373"/>
                  </a:lnTo>
                  <a:lnTo>
                    <a:pt x="3695" y="2456"/>
                  </a:lnTo>
                  <a:lnTo>
                    <a:pt x="3631" y="2537"/>
                  </a:lnTo>
                  <a:lnTo>
                    <a:pt x="3559" y="2613"/>
                  </a:lnTo>
                  <a:lnTo>
                    <a:pt x="3483" y="2686"/>
                  </a:lnTo>
                  <a:lnTo>
                    <a:pt x="3404" y="2756"/>
                  </a:lnTo>
                  <a:lnTo>
                    <a:pt x="3318" y="2821"/>
                  </a:lnTo>
                  <a:lnTo>
                    <a:pt x="3226" y="2882"/>
                  </a:lnTo>
                  <a:lnTo>
                    <a:pt x="3132" y="2939"/>
                  </a:lnTo>
                  <a:lnTo>
                    <a:pt x="3033" y="2992"/>
                  </a:lnTo>
                  <a:lnTo>
                    <a:pt x="2931" y="3039"/>
                  </a:lnTo>
                  <a:lnTo>
                    <a:pt x="2824" y="3082"/>
                  </a:lnTo>
                  <a:lnTo>
                    <a:pt x="2714" y="3120"/>
                  </a:lnTo>
                  <a:lnTo>
                    <a:pt x="2600" y="3152"/>
                  </a:lnTo>
                  <a:lnTo>
                    <a:pt x="2484" y="3180"/>
                  </a:lnTo>
                  <a:lnTo>
                    <a:pt x="2365" y="3201"/>
                  </a:lnTo>
                  <a:lnTo>
                    <a:pt x="2244" y="3216"/>
                  </a:lnTo>
                  <a:lnTo>
                    <a:pt x="2120" y="3225"/>
                  </a:lnTo>
                  <a:lnTo>
                    <a:pt x="1994" y="3229"/>
                  </a:lnTo>
                  <a:lnTo>
                    <a:pt x="1868" y="3225"/>
                  </a:lnTo>
                  <a:lnTo>
                    <a:pt x="1743" y="3216"/>
                  </a:lnTo>
                  <a:lnTo>
                    <a:pt x="1622" y="3201"/>
                  </a:lnTo>
                  <a:lnTo>
                    <a:pt x="1504" y="3180"/>
                  </a:lnTo>
                  <a:lnTo>
                    <a:pt x="1387" y="3152"/>
                  </a:lnTo>
                  <a:lnTo>
                    <a:pt x="1274" y="3120"/>
                  </a:lnTo>
                  <a:lnTo>
                    <a:pt x="1163" y="3082"/>
                  </a:lnTo>
                  <a:lnTo>
                    <a:pt x="1057" y="3039"/>
                  </a:lnTo>
                  <a:lnTo>
                    <a:pt x="954" y="2992"/>
                  </a:lnTo>
                  <a:lnTo>
                    <a:pt x="855" y="2939"/>
                  </a:lnTo>
                  <a:lnTo>
                    <a:pt x="761" y="2882"/>
                  </a:lnTo>
                  <a:lnTo>
                    <a:pt x="671" y="2821"/>
                  </a:lnTo>
                  <a:lnTo>
                    <a:pt x="585" y="2756"/>
                  </a:lnTo>
                  <a:lnTo>
                    <a:pt x="504" y="2686"/>
                  </a:lnTo>
                  <a:lnTo>
                    <a:pt x="428" y="2613"/>
                  </a:lnTo>
                  <a:lnTo>
                    <a:pt x="358" y="2537"/>
                  </a:lnTo>
                  <a:lnTo>
                    <a:pt x="293" y="2456"/>
                  </a:lnTo>
                  <a:lnTo>
                    <a:pt x="234" y="2373"/>
                  </a:lnTo>
                  <a:lnTo>
                    <a:pt x="181" y="2286"/>
                  </a:lnTo>
                  <a:lnTo>
                    <a:pt x="134" y="2197"/>
                  </a:lnTo>
                  <a:lnTo>
                    <a:pt x="95" y="2105"/>
                  </a:lnTo>
                  <a:lnTo>
                    <a:pt x="61" y="2012"/>
                  </a:lnTo>
                  <a:lnTo>
                    <a:pt x="35" y="1916"/>
                  </a:lnTo>
                  <a:lnTo>
                    <a:pt x="16" y="1817"/>
                  </a:lnTo>
                  <a:lnTo>
                    <a:pt x="3" y="1717"/>
                  </a:lnTo>
                  <a:lnTo>
                    <a:pt x="0" y="1615"/>
                  </a:lnTo>
                  <a:lnTo>
                    <a:pt x="3" y="1513"/>
                  </a:lnTo>
                  <a:lnTo>
                    <a:pt x="16" y="1413"/>
                  </a:lnTo>
                  <a:lnTo>
                    <a:pt x="35" y="1314"/>
                  </a:lnTo>
                  <a:lnTo>
                    <a:pt x="61" y="1218"/>
                  </a:lnTo>
                  <a:lnTo>
                    <a:pt x="95" y="1124"/>
                  </a:lnTo>
                  <a:lnTo>
                    <a:pt x="134" y="1032"/>
                  </a:lnTo>
                  <a:lnTo>
                    <a:pt x="181" y="943"/>
                  </a:lnTo>
                  <a:lnTo>
                    <a:pt x="234" y="856"/>
                  </a:lnTo>
                  <a:lnTo>
                    <a:pt x="293" y="774"/>
                  </a:lnTo>
                  <a:lnTo>
                    <a:pt x="358" y="693"/>
                  </a:lnTo>
                  <a:lnTo>
                    <a:pt x="428" y="616"/>
                  </a:lnTo>
                  <a:lnTo>
                    <a:pt x="504" y="543"/>
                  </a:lnTo>
                  <a:lnTo>
                    <a:pt x="585" y="474"/>
                  </a:lnTo>
                  <a:lnTo>
                    <a:pt x="671" y="408"/>
                  </a:lnTo>
                  <a:lnTo>
                    <a:pt x="761" y="348"/>
                  </a:lnTo>
                  <a:lnTo>
                    <a:pt x="855" y="290"/>
                  </a:lnTo>
                  <a:lnTo>
                    <a:pt x="954" y="237"/>
                  </a:lnTo>
                  <a:lnTo>
                    <a:pt x="1057" y="190"/>
                  </a:lnTo>
                  <a:lnTo>
                    <a:pt x="1163" y="148"/>
                  </a:lnTo>
                  <a:lnTo>
                    <a:pt x="1274" y="109"/>
                  </a:lnTo>
                  <a:lnTo>
                    <a:pt x="1387" y="77"/>
                  </a:lnTo>
                  <a:lnTo>
                    <a:pt x="1504" y="50"/>
                  </a:lnTo>
                  <a:lnTo>
                    <a:pt x="1622" y="28"/>
                  </a:lnTo>
                  <a:lnTo>
                    <a:pt x="1743" y="13"/>
                  </a:lnTo>
                  <a:lnTo>
                    <a:pt x="1868" y="4"/>
                  </a:lnTo>
                  <a:lnTo>
                    <a:pt x="1994"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5" name="Freeform 678"/>
            <p:cNvSpPr/>
            <p:nvPr/>
          </p:nvSpPr>
          <p:spPr>
            <a:xfrm>
              <a:off x="5666400" y="5082480"/>
              <a:ext cx="127440" cy="81000"/>
            </a:xfrm>
            <a:custGeom>
              <a:avLst/>
              <a:gdLst/>
              <a:ahLst/>
              <a:rect l="l" t="t" r="r" b="b"/>
              <a:pathLst>
                <a:path w="1826" h="928">
                  <a:moveTo>
                    <a:pt x="0" y="0"/>
                  </a:moveTo>
                  <a:lnTo>
                    <a:pt x="338" y="0"/>
                  </a:lnTo>
                  <a:lnTo>
                    <a:pt x="319" y="45"/>
                  </a:lnTo>
                  <a:lnTo>
                    <a:pt x="304" y="92"/>
                  </a:lnTo>
                  <a:lnTo>
                    <a:pt x="296" y="139"/>
                  </a:lnTo>
                  <a:lnTo>
                    <a:pt x="293" y="189"/>
                  </a:lnTo>
                  <a:lnTo>
                    <a:pt x="297" y="243"/>
                  </a:lnTo>
                  <a:lnTo>
                    <a:pt x="307" y="296"/>
                  </a:lnTo>
                  <a:lnTo>
                    <a:pt x="324" y="347"/>
                  </a:lnTo>
                  <a:lnTo>
                    <a:pt x="348" y="396"/>
                  </a:lnTo>
                  <a:lnTo>
                    <a:pt x="378" y="442"/>
                  </a:lnTo>
                  <a:lnTo>
                    <a:pt x="413" y="485"/>
                  </a:lnTo>
                  <a:lnTo>
                    <a:pt x="453" y="525"/>
                  </a:lnTo>
                  <a:lnTo>
                    <a:pt x="498" y="561"/>
                  </a:lnTo>
                  <a:lnTo>
                    <a:pt x="546" y="594"/>
                  </a:lnTo>
                  <a:lnTo>
                    <a:pt x="600" y="622"/>
                  </a:lnTo>
                  <a:lnTo>
                    <a:pt x="657" y="646"/>
                  </a:lnTo>
                  <a:lnTo>
                    <a:pt x="717" y="665"/>
                  </a:lnTo>
                  <a:lnTo>
                    <a:pt x="780" y="679"/>
                  </a:lnTo>
                  <a:lnTo>
                    <a:pt x="846" y="688"/>
                  </a:lnTo>
                  <a:lnTo>
                    <a:pt x="913" y="691"/>
                  </a:lnTo>
                  <a:lnTo>
                    <a:pt x="981" y="688"/>
                  </a:lnTo>
                  <a:lnTo>
                    <a:pt x="1045" y="679"/>
                  </a:lnTo>
                  <a:lnTo>
                    <a:pt x="1109" y="665"/>
                  </a:lnTo>
                  <a:lnTo>
                    <a:pt x="1169" y="646"/>
                  </a:lnTo>
                  <a:lnTo>
                    <a:pt x="1226" y="622"/>
                  </a:lnTo>
                  <a:lnTo>
                    <a:pt x="1279" y="594"/>
                  </a:lnTo>
                  <a:lnTo>
                    <a:pt x="1329" y="561"/>
                  </a:lnTo>
                  <a:lnTo>
                    <a:pt x="1373" y="525"/>
                  </a:lnTo>
                  <a:lnTo>
                    <a:pt x="1413" y="485"/>
                  </a:lnTo>
                  <a:lnTo>
                    <a:pt x="1448" y="442"/>
                  </a:lnTo>
                  <a:lnTo>
                    <a:pt x="1478" y="396"/>
                  </a:lnTo>
                  <a:lnTo>
                    <a:pt x="1502" y="347"/>
                  </a:lnTo>
                  <a:lnTo>
                    <a:pt x="1519" y="296"/>
                  </a:lnTo>
                  <a:lnTo>
                    <a:pt x="1529" y="243"/>
                  </a:lnTo>
                  <a:lnTo>
                    <a:pt x="1533" y="189"/>
                  </a:lnTo>
                  <a:lnTo>
                    <a:pt x="1531" y="139"/>
                  </a:lnTo>
                  <a:lnTo>
                    <a:pt x="1521" y="92"/>
                  </a:lnTo>
                  <a:lnTo>
                    <a:pt x="1507" y="45"/>
                  </a:lnTo>
                  <a:lnTo>
                    <a:pt x="1487" y="0"/>
                  </a:lnTo>
                  <a:lnTo>
                    <a:pt x="1826" y="0"/>
                  </a:lnTo>
                  <a:lnTo>
                    <a:pt x="1826" y="752"/>
                  </a:lnTo>
                  <a:lnTo>
                    <a:pt x="1822" y="783"/>
                  </a:lnTo>
                  <a:lnTo>
                    <a:pt x="1812" y="814"/>
                  </a:lnTo>
                  <a:lnTo>
                    <a:pt x="1796" y="841"/>
                  </a:lnTo>
                  <a:lnTo>
                    <a:pt x="1775" y="865"/>
                  </a:lnTo>
                  <a:lnTo>
                    <a:pt x="1749" y="886"/>
                  </a:lnTo>
                  <a:lnTo>
                    <a:pt x="1718" y="904"/>
                  </a:lnTo>
                  <a:lnTo>
                    <a:pt x="1684" y="917"/>
                  </a:lnTo>
                  <a:lnTo>
                    <a:pt x="1648" y="925"/>
                  </a:lnTo>
                  <a:lnTo>
                    <a:pt x="1608" y="928"/>
                  </a:lnTo>
                  <a:lnTo>
                    <a:pt x="217" y="928"/>
                  </a:lnTo>
                  <a:lnTo>
                    <a:pt x="179" y="925"/>
                  </a:lnTo>
                  <a:lnTo>
                    <a:pt x="141" y="917"/>
                  </a:lnTo>
                  <a:lnTo>
                    <a:pt x="107" y="904"/>
                  </a:lnTo>
                  <a:lnTo>
                    <a:pt x="77" y="886"/>
                  </a:lnTo>
                  <a:lnTo>
                    <a:pt x="51" y="865"/>
                  </a:lnTo>
                  <a:lnTo>
                    <a:pt x="30" y="841"/>
                  </a:lnTo>
                  <a:lnTo>
                    <a:pt x="14" y="814"/>
                  </a:lnTo>
                  <a:lnTo>
                    <a:pt x="4" y="783"/>
                  </a:lnTo>
                  <a:lnTo>
                    <a:pt x="0" y="752"/>
                  </a:lnTo>
                  <a:lnTo>
                    <a:pt x="0" y="0"/>
                  </a:lnTo>
                  <a:close/>
                </a:path>
              </a:pathLst>
            </a:custGeom>
            <a:solidFill>
              <a:srgbClr val="da1088"/>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526" name="Freeform 1536"/>
            <p:cNvSpPr/>
            <p:nvPr/>
          </p:nvSpPr>
          <p:spPr>
            <a:xfrm>
              <a:off x="5972400" y="4957920"/>
              <a:ext cx="278640" cy="282240"/>
            </a:xfrm>
            <a:custGeom>
              <a:avLst/>
              <a:gdLst/>
              <a:ahLst/>
              <a:rect l="l" t="t" r="r" b="b"/>
              <a:pathLst>
                <a:path w="3474" h="3518">
                  <a:moveTo>
                    <a:pt x="2112" y="957"/>
                  </a:moveTo>
                  <a:lnTo>
                    <a:pt x="2061" y="961"/>
                  </a:lnTo>
                  <a:lnTo>
                    <a:pt x="2014" y="970"/>
                  </a:lnTo>
                  <a:lnTo>
                    <a:pt x="1968" y="985"/>
                  </a:lnTo>
                  <a:lnTo>
                    <a:pt x="1924" y="1005"/>
                  </a:lnTo>
                  <a:lnTo>
                    <a:pt x="1883" y="1030"/>
                  </a:lnTo>
                  <a:lnTo>
                    <a:pt x="1846" y="1060"/>
                  </a:lnTo>
                  <a:lnTo>
                    <a:pt x="1814" y="1094"/>
                  </a:lnTo>
                  <a:lnTo>
                    <a:pt x="1784" y="1131"/>
                  </a:lnTo>
                  <a:lnTo>
                    <a:pt x="1759" y="1172"/>
                  </a:lnTo>
                  <a:lnTo>
                    <a:pt x="1739" y="1216"/>
                  </a:lnTo>
                  <a:lnTo>
                    <a:pt x="1724" y="1263"/>
                  </a:lnTo>
                  <a:lnTo>
                    <a:pt x="1716" y="1311"/>
                  </a:lnTo>
                  <a:lnTo>
                    <a:pt x="1713" y="1362"/>
                  </a:lnTo>
                  <a:lnTo>
                    <a:pt x="1715" y="1409"/>
                  </a:lnTo>
                  <a:lnTo>
                    <a:pt x="1722" y="1454"/>
                  </a:lnTo>
                  <a:lnTo>
                    <a:pt x="1640" y="1448"/>
                  </a:lnTo>
                  <a:lnTo>
                    <a:pt x="1559" y="1435"/>
                  </a:lnTo>
                  <a:lnTo>
                    <a:pt x="1481" y="1416"/>
                  </a:lnTo>
                  <a:lnTo>
                    <a:pt x="1405" y="1392"/>
                  </a:lnTo>
                  <a:lnTo>
                    <a:pt x="1331" y="1363"/>
                  </a:lnTo>
                  <a:lnTo>
                    <a:pt x="1259" y="1329"/>
                  </a:lnTo>
                  <a:lnTo>
                    <a:pt x="1191" y="1289"/>
                  </a:lnTo>
                  <a:lnTo>
                    <a:pt x="1126" y="1247"/>
                  </a:lnTo>
                  <a:lnTo>
                    <a:pt x="1064" y="1198"/>
                  </a:lnTo>
                  <a:lnTo>
                    <a:pt x="1005" y="1146"/>
                  </a:lnTo>
                  <a:lnTo>
                    <a:pt x="950" y="1091"/>
                  </a:lnTo>
                  <a:lnTo>
                    <a:pt x="899" y="1032"/>
                  </a:lnTo>
                  <a:lnTo>
                    <a:pt x="880" y="1068"/>
                  </a:lnTo>
                  <a:lnTo>
                    <a:pt x="865" y="1108"/>
                  </a:lnTo>
                  <a:lnTo>
                    <a:pt x="854" y="1149"/>
                  </a:lnTo>
                  <a:lnTo>
                    <a:pt x="846" y="1192"/>
                  </a:lnTo>
                  <a:lnTo>
                    <a:pt x="844" y="1236"/>
                  </a:lnTo>
                  <a:lnTo>
                    <a:pt x="848" y="1287"/>
                  </a:lnTo>
                  <a:lnTo>
                    <a:pt x="857" y="1337"/>
                  </a:lnTo>
                  <a:lnTo>
                    <a:pt x="873" y="1384"/>
                  </a:lnTo>
                  <a:lnTo>
                    <a:pt x="893" y="1429"/>
                  </a:lnTo>
                  <a:lnTo>
                    <a:pt x="919" y="1471"/>
                  </a:lnTo>
                  <a:lnTo>
                    <a:pt x="950" y="1508"/>
                  </a:lnTo>
                  <a:lnTo>
                    <a:pt x="984" y="1542"/>
                  </a:lnTo>
                  <a:lnTo>
                    <a:pt x="1022" y="1572"/>
                  </a:lnTo>
                  <a:lnTo>
                    <a:pt x="974" y="1568"/>
                  </a:lnTo>
                  <a:lnTo>
                    <a:pt x="928" y="1557"/>
                  </a:lnTo>
                  <a:lnTo>
                    <a:pt x="883" y="1541"/>
                  </a:lnTo>
                  <a:lnTo>
                    <a:pt x="841" y="1522"/>
                  </a:lnTo>
                  <a:lnTo>
                    <a:pt x="841" y="1524"/>
                  </a:lnTo>
                  <a:lnTo>
                    <a:pt x="841" y="1527"/>
                  </a:lnTo>
                  <a:lnTo>
                    <a:pt x="844" y="1579"/>
                  </a:lnTo>
                  <a:lnTo>
                    <a:pt x="854" y="1629"/>
                  </a:lnTo>
                  <a:lnTo>
                    <a:pt x="870" y="1678"/>
                  </a:lnTo>
                  <a:lnTo>
                    <a:pt x="891" y="1723"/>
                  </a:lnTo>
                  <a:lnTo>
                    <a:pt x="918" y="1765"/>
                  </a:lnTo>
                  <a:lnTo>
                    <a:pt x="949" y="1803"/>
                  </a:lnTo>
                  <a:lnTo>
                    <a:pt x="984" y="1837"/>
                  </a:lnTo>
                  <a:lnTo>
                    <a:pt x="1025" y="1867"/>
                  </a:lnTo>
                  <a:lnTo>
                    <a:pt x="1067" y="1891"/>
                  </a:lnTo>
                  <a:lnTo>
                    <a:pt x="1113" y="1910"/>
                  </a:lnTo>
                  <a:lnTo>
                    <a:pt x="1162" y="1923"/>
                  </a:lnTo>
                  <a:lnTo>
                    <a:pt x="1128" y="1931"/>
                  </a:lnTo>
                  <a:lnTo>
                    <a:pt x="1092" y="1936"/>
                  </a:lnTo>
                  <a:lnTo>
                    <a:pt x="1056" y="1937"/>
                  </a:lnTo>
                  <a:lnTo>
                    <a:pt x="1018" y="1935"/>
                  </a:lnTo>
                  <a:lnTo>
                    <a:pt x="981" y="1930"/>
                  </a:lnTo>
                  <a:lnTo>
                    <a:pt x="1000" y="1977"/>
                  </a:lnTo>
                  <a:lnTo>
                    <a:pt x="1024" y="2021"/>
                  </a:lnTo>
                  <a:lnTo>
                    <a:pt x="1052" y="2062"/>
                  </a:lnTo>
                  <a:lnTo>
                    <a:pt x="1084" y="2098"/>
                  </a:lnTo>
                  <a:lnTo>
                    <a:pt x="1121" y="2130"/>
                  </a:lnTo>
                  <a:lnTo>
                    <a:pt x="1163" y="2157"/>
                  </a:lnTo>
                  <a:lnTo>
                    <a:pt x="1206" y="2179"/>
                  </a:lnTo>
                  <a:lnTo>
                    <a:pt x="1254" y="2196"/>
                  </a:lnTo>
                  <a:lnTo>
                    <a:pt x="1303" y="2207"/>
                  </a:lnTo>
                  <a:lnTo>
                    <a:pt x="1355" y="2211"/>
                  </a:lnTo>
                  <a:lnTo>
                    <a:pt x="1302" y="2250"/>
                  </a:lnTo>
                  <a:lnTo>
                    <a:pt x="1246" y="2284"/>
                  </a:lnTo>
                  <a:lnTo>
                    <a:pt x="1187" y="2314"/>
                  </a:lnTo>
                  <a:lnTo>
                    <a:pt x="1126" y="2339"/>
                  </a:lnTo>
                  <a:lnTo>
                    <a:pt x="1062" y="2359"/>
                  </a:lnTo>
                  <a:lnTo>
                    <a:pt x="995" y="2373"/>
                  </a:lnTo>
                  <a:lnTo>
                    <a:pt x="928" y="2382"/>
                  </a:lnTo>
                  <a:lnTo>
                    <a:pt x="858" y="2385"/>
                  </a:lnTo>
                  <a:lnTo>
                    <a:pt x="811" y="2383"/>
                  </a:lnTo>
                  <a:lnTo>
                    <a:pt x="763" y="2378"/>
                  </a:lnTo>
                  <a:lnTo>
                    <a:pt x="830" y="2419"/>
                  </a:lnTo>
                  <a:lnTo>
                    <a:pt x="902" y="2455"/>
                  </a:lnTo>
                  <a:lnTo>
                    <a:pt x="975" y="2487"/>
                  </a:lnTo>
                  <a:lnTo>
                    <a:pt x="1051" y="2513"/>
                  </a:lnTo>
                  <a:lnTo>
                    <a:pt x="1129" y="2534"/>
                  </a:lnTo>
                  <a:lnTo>
                    <a:pt x="1209" y="2548"/>
                  </a:lnTo>
                  <a:lnTo>
                    <a:pt x="1292" y="2558"/>
                  </a:lnTo>
                  <a:lnTo>
                    <a:pt x="1376" y="2561"/>
                  </a:lnTo>
                  <a:lnTo>
                    <a:pt x="1459" y="2558"/>
                  </a:lnTo>
                  <a:lnTo>
                    <a:pt x="1540" y="2550"/>
                  </a:lnTo>
                  <a:lnTo>
                    <a:pt x="1617" y="2537"/>
                  </a:lnTo>
                  <a:lnTo>
                    <a:pt x="1691" y="2519"/>
                  </a:lnTo>
                  <a:lnTo>
                    <a:pt x="1762" y="2497"/>
                  </a:lnTo>
                  <a:lnTo>
                    <a:pt x="1831" y="2471"/>
                  </a:lnTo>
                  <a:lnTo>
                    <a:pt x="1896" y="2440"/>
                  </a:lnTo>
                  <a:lnTo>
                    <a:pt x="1958" y="2406"/>
                  </a:lnTo>
                  <a:lnTo>
                    <a:pt x="2017" y="2367"/>
                  </a:lnTo>
                  <a:lnTo>
                    <a:pt x="2072" y="2327"/>
                  </a:lnTo>
                  <a:lnTo>
                    <a:pt x="2125" y="2283"/>
                  </a:lnTo>
                  <a:lnTo>
                    <a:pt x="2174" y="2235"/>
                  </a:lnTo>
                  <a:lnTo>
                    <a:pt x="2220" y="2186"/>
                  </a:lnTo>
                  <a:lnTo>
                    <a:pt x="2263" y="2133"/>
                  </a:lnTo>
                  <a:lnTo>
                    <a:pt x="2303" y="2079"/>
                  </a:lnTo>
                  <a:lnTo>
                    <a:pt x="2338" y="2023"/>
                  </a:lnTo>
                  <a:lnTo>
                    <a:pt x="2372" y="1965"/>
                  </a:lnTo>
                  <a:lnTo>
                    <a:pt x="2401" y="1905"/>
                  </a:lnTo>
                  <a:lnTo>
                    <a:pt x="2428" y="1845"/>
                  </a:lnTo>
                  <a:lnTo>
                    <a:pt x="2450" y="1784"/>
                  </a:lnTo>
                  <a:lnTo>
                    <a:pt x="2469" y="1722"/>
                  </a:lnTo>
                  <a:lnTo>
                    <a:pt x="2485" y="1659"/>
                  </a:lnTo>
                  <a:lnTo>
                    <a:pt x="2497" y="1596"/>
                  </a:lnTo>
                  <a:lnTo>
                    <a:pt x="2506" y="1534"/>
                  </a:lnTo>
                  <a:lnTo>
                    <a:pt x="2511" y="1471"/>
                  </a:lnTo>
                  <a:lnTo>
                    <a:pt x="2513" y="1409"/>
                  </a:lnTo>
                  <a:lnTo>
                    <a:pt x="2512" y="1357"/>
                  </a:lnTo>
                  <a:lnTo>
                    <a:pt x="2558" y="1321"/>
                  </a:lnTo>
                  <a:lnTo>
                    <a:pt x="2600" y="1282"/>
                  </a:lnTo>
                  <a:lnTo>
                    <a:pt x="2641" y="1240"/>
                  </a:lnTo>
                  <a:lnTo>
                    <a:pt x="2677" y="1195"/>
                  </a:lnTo>
                  <a:lnTo>
                    <a:pt x="2711" y="1148"/>
                  </a:lnTo>
                  <a:lnTo>
                    <a:pt x="2657" y="1170"/>
                  </a:lnTo>
                  <a:lnTo>
                    <a:pt x="2600" y="1188"/>
                  </a:lnTo>
                  <a:lnTo>
                    <a:pt x="2542" y="1201"/>
                  </a:lnTo>
                  <a:lnTo>
                    <a:pt x="2482" y="1211"/>
                  </a:lnTo>
                  <a:lnTo>
                    <a:pt x="2522" y="1184"/>
                  </a:lnTo>
                  <a:lnTo>
                    <a:pt x="2558" y="1152"/>
                  </a:lnTo>
                  <a:lnTo>
                    <a:pt x="2589" y="1116"/>
                  </a:lnTo>
                  <a:lnTo>
                    <a:pt x="2618" y="1076"/>
                  </a:lnTo>
                  <a:lnTo>
                    <a:pt x="2641" y="1033"/>
                  </a:lnTo>
                  <a:lnTo>
                    <a:pt x="2658" y="987"/>
                  </a:lnTo>
                  <a:lnTo>
                    <a:pt x="2598" y="1020"/>
                  </a:lnTo>
                  <a:lnTo>
                    <a:pt x="2536" y="1046"/>
                  </a:lnTo>
                  <a:lnTo>
                    <a:pt x="2471" y="1068"/>
                  </a:lnTo>
                  <a:lnTo>
                    <a:pt x="2404" y="1085"/>
                  </a:lnTo>
                  <a:lnTo>
                    <a:pt x="2371" y="1053"/>
                  </a:lnTo>
                  <a:lnTo>
                    <a:pt x="2334" y="1025"/>
                  </a:lnTo>
                  <a:lnTo>
                    <a:pt x="2295" y="1002"/>
                  </a:lnTo>
                  <a:lnTo>
                    <a:pt x="2253" y="984"/>
                  </a:lnTo>
                  <a:lnTo>
                    <a:pt x="2207" y="969"/>
                  </a:lnTo>
                  <a:lnTo>
                    <a:pt x="2160" y="961"/>
                  </a:lnTo>
                  <a:lnTo>
                    <a:pt x="2112" y="957"/>
                  </a:lnTo>
                  <a:close/>
                  <a:moveTo>
                    <a:pt x="1738" y="0"/>
                  </a:moveTo>
                  <a:lnTo>
                    <a:pt x="1847" y="5"/>
                  </a:lnTo>
                  <a:lnTo>
                    <a:pt x="1955" y="15"/>
                  </a:lnTo>
                  <a:lnTo>
                    <a:pt x="2060" y="31"/>
                  </a:lnTo>
                  <a:lnTo>
                    <a:pt x="2165" y="54"/>
                  </a:lnTo>
                  <a:lnTo>
                    <a:pt x="2266" y="84"/>
                  </a:lnTo>
                  <a:lnTo>
                    <a:pt x="2365" y="119"/>
                  </a:lnTo>
                  <a:lnTo>
                    <a:pt x="2460" y="161"/>
                  </a:lnTo>
                  <a:lnTo>
                    <a:pt x="2554" y="207"/>
                  </a:lnTo>
                  <a:lnTo>
                    <a:pt x="2643" y="259"/>
                  </a:lnTo>
                  <a:lnTo>
                    <a:pt x="2729" y="316"/>
                  </a:lnTo>
                  <a:lnTo>
                    <a:pt x="2811" y="379"/>
                  </a:lnTo>
                  <a:lnTo>
                    <a:pt x="2890" y="445"/>
                  </a:lnTo>
                  <a:lnTo>
                    <a:pt x="2965" y="516"/>
                  </a:lnTo>
                  <a:lnTo>
                    <a:pt x="3035" y="592"/>
                  </a:lnTo>
                  <a:lnTo>
                    <a:pt x="3101" y="671"/>
                  </a:lnTo>
                  <a:lnTo>
                    <a:pt x="3163" y="755"/>
                  </a:lnTo>
                  <a:lnTo>
                    <a:pt x="3220" y="843"/>
                  </a:lnTo>
                  <a:lnTo>
                    <a:pt x="3271" y="933"/>
                  </a:lnTo>
                  <a:lnTo>
                    <a:pt x="3316" y="1028"/>
                  </a:lnTo>
                  <a:lnTo>
                    <a:pt x="3358" y="1124"/>
                  </a:lnTo>
                  <a:lnTo>
                    <a:pt x="3393" y="1225"/>
                  </a:lnTo>
                  <a:lnTo>
                    <a:pt x="3422" y="1327"/>
                  </a:lnTo>
                  <a:lnTo>
                    <a:pt x="3445" y="1431"/>
                  </a:lnTo>
                  <a:lnTo>
                    <a:pt x="3461" y="1539"/>
                  </a:lnTo>
                  <a:lnTo>
                    <a:pt x="3471" y="1648"/>
                  </a:lnTo>
                  <a:lnTo>
                    <a:pt x="3474" y="1759"/>
                  </a:lnTo>
                  <a:lnTo>
                    <a:pt x="3471" y="1870"/>
                  </a:lnTo>
                  <a:lnTo>
                    <a:pt x="3461" y="1979"/>
                  </a:lnTo>
                  <a:lnTo>
                    <a:pt x="3445" y="2087"/>
                  </a:lnTo>
                  <a:lnTo>
                    <a:pt x="3422" y="2191"/>
                  </a:lnTo>
                  <a:lnTo>
                    <a:pt x="3393" y="2294"/>
                  </a:lnTo>
                  <a:lnTo>
                    <a:pt x="3358" y="2394"/>
                  </a:lnTo>
                  <a:lnTo>
                    <a:pt x="3316" y="2491"/>
                  </a:lnTo>
                  <a:lnTo>
                    <a:pt x="3271" y="2585"/>
                  </a:lnTo>
                  <a:lnTo>
                    <a:pt x="3220" y="2675"/>
                  </a:lnTo>
                  <a:lnTo>
                    <a:pt x="3163" y="2763"/>
                  </a:lnTo>
                  <a:lnTo>
                    <a:pt x="3101" y="2847"/>
                  </a:lnTo>
                  <a:lnTo>
                    <a:pt x="3035" y="2926"/>
                  </a:lnTo>
                  <a:lnTo>
                    <a:pt x="2965" y="3002"/>
                  </a:lnTo>
                  <a:lnTo>
                    <a:pt x="2890" y="3074"/>
                  </a:lnTo>
                  <a:lnTo>
                    <a:pt x="2811" y="3140"/>
                  </a:lnTo>
                  <a:lnTo>
                    <a:pt x="2729" y="3202"/>
                  </a:lnTo>
                  <a:lnTo>
                    <a:pt x="2643" y="3260"/>
                  </a:lnTo>
                  <a:lnTo>
                    <a:pt x="2554" y="3311"/>
                  </a:lnTo>
                  <a:lnTo>
                    <a:pt x="2460" y="3357"/>
                  </a:lnTo>
                  <a:lnTo>
                    <a:pt x="2365" y="3399"/>
                  </a:lnTo>
                  <a:lnTo>
                    <a:pt x="2266" y="3434"/>
                  </a:lnTo>
                  <a:lnTo>
                    <a:pt x="2165" y="3464"/>
                  </a:lnTo>
                  <a:lnTo>
                    <a:pt x="2060" y="3487"/>
                  </a:lnTo>
                  <a:lnTo>
                    <a:pt x="1955" y="3504"/>
                  </a:lnTo>
                  <a:lnTo>
                    <a:pt x="1847" y="3514"/>
                  </a:lnTo>
                  <a:lnTo>
                    <a:pt x="1738" y="3518"/>
                  </a:lnTo>
                  <a:lnTo>
                    <a:pt x="1628" y="3514"/>
                  </a:lnTo>
                  <a:lnTo>
                    <a:pt x="1519" y="3504"/>
                  </a:lnTo>
                  <a:lnTo>
                    <a:pt x="1414" y="3487"/>
                  </a:lnTo>
                  <a:lnTo>
                    <a:pt x="1310" y="3464"/>
                  </a:lnTo>
                  <a:lnTo>
                    <a:pt x="1208" y="3434"/>
                  </a:lnTo>
                  <a:lnTo>
                    <a:pt x="1110" y="3399"/>
                  </a:lnTo>
                  <a:lnTo>
                    <a:pt x="1014" y="3357"/>
                  </a:lnTo>
                  <a:lnTo>
                    <a:pt x="921" y="3311"/>
                  </a:lnTo>
                  <a:lnTo>
                    <a:pt x="831" y="3260"/>
                  </a:lnTo>
                  <a:lnTo>
                    <a:pt x="745" y="3202"/>
                  </a:lnTo>
                  <a:lnTo>
                    <a:pt x="663" y="3140"/>
                  </a:lnTo>
                  <a:lnTo>
                    <a:pt x="585" y="3074"/>
                  </a:lnTo>
                  <a:lnTo>
                    <a:pt x="510" y="3002"/>
                  </a:lnTo>
                  <a:lnTo>
                    <a:pt x="439" y="2926"/>
                  </a:lnTo>
                  <a:lnTo>
                    <a:pt x="373" y="2847"/>
                  </a:lnTo>
                  <a:lnTo>
                    <a:pt x="312" y="2763"/>
                  </a:lnTo>
                  <a:lnTo>
                    <a:pt x="255" y="2675"/>
                  </a:lnTo>
                  <a:lnTo>
                    <a:pt x="204" y="2585"/>
                  </a:lnTo>
                  <a:lnTo>
                    <a:pt x="157" y="2491"/>
                  </a:lnTo>
                  <a:lnTo>
                    <a:pt x="117" y="2394"/>
                  </a:lnTo>
                  <a:lnTo>
                    <a:pt x="83" y="2294"/>
                  </a:lnTo>
                  <a:lnTo>
                    <a:pt x="53" y="2191"/>
                  </a:lnTo>
                  <a:lnTo>
                    <a:pt x="30" y="2087"/>
                  </a:lnTo>
                  <a:lnTo>
                    <a:pt x="14" y="1979"/>
                  </a:lnTo>
                  <a:lnTo>
                    <a:pt x="3" y="1870"/>
                  </a:lnTo>
                  <a:lnTo>
                    <a:pt x="0" y="1759"/>
                  </a:lnTo>
                  <a:lnTo>
                    <a:pt x="3" y="1648"/>
                  </a:lnTo>
                  <a:lnTo>
                    <a:pt x="14" y="1539"/>
                  </a:lnTo>
                  <a:lnTo>
                    <a:pt x="30" y="1431"/>
                  </a:lnTo>
                  <a:lnTo>
                    <a:pt x="53" y="1327"/>
                  </a:lnTo>
                  <a:lnTo>
                    <a:pt x="83" y="1225"/>
                  </a:lnTo>
                  <a:lnTo>
                    <a:pt x="117" y="1124"/>
                  </a:lnTo>
                  <a:lnTo>
                    <a:pt x="157" y="1028"/>
                  </a:lnTo>
                  <a:lnTo>
                    <a:pt x="204" y="933"/>
                  </a:lnTo>
                  <a:lnTo>
                    <a:pt x="255" y="843"/>
                  </a:lnTo>
                  <a:lnTo>
                    <a:pt x="312" y="755"/>
                  </a:lnTo>
                  <a:lnTo>
                    <a:pt x="373" y="671"/>
                  </a:lnTo>
                  <a:lnTo>
                    <a:pt x="439" y="592"/>
                  </a:lnTo>
                  <a:lnTo>
                    <a:pt x="510" y="516"/>
                  </a:lnTo>
                  <a:lnTo>
                    <a:pt x="585" y="445"/>
                  </a:lnTo>
                  <a:lnTo>
                    <a:pt x="663" y="379"/>
                  </a:lnTo>
                  <a:lnTo>
                    <a:pt x="745" y="316"/>
                  </a:lnTo>
                  <a:lnTo>
                    <a:pt x="831" y="259"/>
                  </a:lnTo>
                  <a:lnTo>
                    <a:pt x="921" y="207"/>
                  </a:lnTo>
                  <a:lnTo>
                    <a:pt x="1014" y="161"/>
                  </a:lnTo>
                  <a:lnTo>
                    <a:pt x="1110" y="119"/>
                  </a:lnTo>
                  <a:lnTo>
                    <a:pt x="1208" y="84"/>
                  </a:lnTo>
                  <a:lnTo>
                    <a:pt x="1310" y="54"/>
                  </a:lnTo>
                  <a:lnTo>
                    <a:pt x="1414" y="31"/>
                  </a:lnTo>
                  <a:lnTo>
                    <a:pt x="1519" y="15"/>
                  </a:lnTo>
                  <a:lnTo>
                    <a:pt x="1628" y="5"/>
                  </a:lnTo>
                  <a:lnTo>
                    <a:pt x="1738"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7" name="Freeform 6"/>
            <p:cNvSpPr/>
            <p:nvPr/>
          </p:nvSpPr>
          <p:spPr>
            <a:xfrm>
              <a:off x="6353640" y="4957920"/>
              <a:ext cx="277200" cy="281520"/>
            </a:xfrm>
            <a:custGeom>
              <a:avLst/>
              <a:gdLst/>
              <a:ahLst/>
              <a:rect l="l" t="t" r="r" b="b"/>
              <a:pathLst>
                <a:path w="3263" h="3314">
                  <a:moveTo>
                    <a:pt x="1776" y="753"/>
                  </a:moveTo>
                  <a:lnTo>
                    <a:pt x="1729" y="754"/>
                  </a:lnTo>
                  <a:lnTo>
                    <a:pt x="1686" y="759"/>
                  </a:lnTo>
                  <a:lnTo>
                    <a:pt x="1646" y="769"/>
                  </a:lnTo>
                  <a:lnTo>
                    <a:pt x="1610" y="780"/>
                  </a:lnTo>
                  <a:lnTo>
                    <a:pt x="1577" y="794"/>
                  </a:lnTo>
                  <a:lnTo>
                    <a:pt x="1547" y="810"/>
                  </a:lnTo>
                  <a:lnTo>
                    <a:pt x="1521" y="829"/>
                  </a:lnTo>
                  <a:lnTo>
                    <a:pt x="1496" y="850"/>
                  </a:lnTo>
                  <a:lnTo>
                    <a:pt x="1475" y="871"/>
                  </a:lnTo>
                  <a:lnTo>
                    <a:pt x="1456" y="895"/>
                  </a:lnTo>
                  <a:lnTo>
                    <a:pt x="1439" y="920"/>
                  </a:lnTo>
                  <a:lnTo>
                    <a:pt x="1426" y="946"/>
                  </a:lnTo>
                  <a:lnTo>
                    <a:pt x="1413" y="973"/>
                  </a:lnTo>
                  <a:lnTo>
                    <a:pt x="1403" y="1000"/>
                  </a:lnTo>
                  <a:lnTo>
                    <a:pt x="1395" y="1027"/>
                  </a:lnTo>
                  <a:lnTo>
                    <a:pt x="1389" y="1054"/>
                  </a:lnTo>
                  <a:lnTo>
                    <a:pt x="1384" y="1081"/>
                  </a:lnTo>
                  <a:lnTo>
                    <a:pt x="1381" y="1107"/>
                  </a:lnTo>
                  <a:lnTo>
                    <a:pt x="1379" y="1132"/>
                  </a:lnTo>
                  <a:lnTo>
                    <a:pt x="1379" y="1156"/>
                  </a:lnTo>
                  <a:lnTo>
                    <a:pt x="1379" y="1376"/>
                  </a:lnTo>
                  <a:lnTo>
                    <a:pt x="1192" y="1376"/>
                  </a:lnTo>
                  <a:lnTo>
                    <a:pt x="1192" y="1715"/>
                  </a:lnTo>
                  <a:lnTo>
                    <a:pt x="1379" y="1715"/>
                  </a:lnTo>
                  <a:lnTo>
                    <a:pt x="1379" y="2676"/>
                  </a:lnTo>
                  <a:lnTo>
                    <a:pt x="1772" y="2676"/>
                  </a:lnTo>
                  <a:lnTo>
                    <a:pt x="1772" y="1715"/>
                  </a:lnTo>
                  <a:lnTo>
                    <a:pt x="2037" y="1715"/>
                  </a:lnTo>
                  <a:lnTo>
                    <a:pt x="2072" y="1376"/>
                  </a:lnTo>
                  <a:lnTo>
                    <a:pt x="1772" y="1376"/>
                  </a:lnTo>
                  <a:lnTo>
                    <a:pt x="1772" y="1176"/>
                  </a:lnTo>
                  <a:lnTo>
                    <a:pt x="1774" y="1153"/>
                  </a:lnTo>
                  <a:lnTo>
                    <a:pt x="1779" y="1135"/>
                  </a:lnTo>
                  <a:lnTo>
                    <a:pt x="1786" y="1119"/>
                  </a:lnTo>
                  <a:lnTo>
                    <a:pt x="1795" y="1107"/>
                  </a:lnTo>
                  <a:lnTo>
                    <a:pt x="1806" y="1097"/>
                  </a:lnTo>
                  <a:lnTo>
                    <a:pt x="1819" y="1091"/>
                  </a:lnTo>
                  <a:lnTo>
                    <a:pt x="1831" y="1087"/>
                  </a:lnTo>
                  <a:lnTo>
                    <a:pt x="1843" y="1085"/>
                  </a:lnTo>
                  <a:lnTo>
                    <a:pt x="1855" y="1084"/>
                  </a:lnTo>
                  <a:lnTo>
                    <a:pt x="2066" y="1084"/>
                  </a:lnTo>
                  <a:lnTo>
                    <a:pt x="2066" y="754"/>
                  </a:lnTo>
                  <a:lnTo>
                    <a:pt x="1776" y="753"/>
                  </a:lnTo>
                  <a:close/>
                  <a:moveTo>
                    <a:pt x="1632" y="0"/>
                  </a:moveTo>
                  <a:lnTo>
                    <a:pt x="1735" y="4"/>
                  </a:lnTo>
                  <a:lnTo>
                    <a:pt x="1836" y="13"/>
                  </a:lnTo>
                  <a:lnTo>
                    <a:pt x="1935" y="29"/>
                  </a:lnTo>
                  <a:lnTo>
                    <a:pt x="2033" y="51"/>
                  </a:lnTo>
                  <a:lnTo>
                    <a:pt x="2128" y="79"/>
                  </a:lnTo>
                  <a:lnTo>
                    <a:pt x="2221" y="112"/>
                  </a:lnTo>
                  <a:lnTo>
                    <a:pt x="2310" y="151"/>
                  </a:lnTo>
                  <a:lnTo>
                    <a:pt x="2398" y="195"/>
                  </a:lnTo>
                  <a:lnTo>
                    <a:pt x="2482" y="243"/>
                  </a:lnTo>
                  <a:lnTo>
                    <a:pt x="2562" y="297"/>
                  </a:lnTo>
                  <a:lnTo>
                    <a:pt x="2640" y="356"/>
                  </a:lnTo>
                  <a:lnTo>
                    <a:pt x="2715" y="418"/>
                  </a:lnTo>
                  <a:lnTo>
                    <a:pt x="2785" y="486"/>
                  </a:lnTo>
                  <a:lnTo>
                    <a:pt x="2850" y="557"/>
                  </a:lnTo>
                  <a:lnTo>
                    <a:pt x="2912" y="632"/>
                  </a:lnTo>
                  <a:lnTo>
                    <a:pt x="2971" y="711"/>
                  </a:lnTo>
                  <a:lnTo>
                    <a:pt x="3024" y="794"/>
                  </a:lnTo>
                  <a:lnTo>
                    <a:pt x="3072" y="879"/>
                  </a:lnTo>
                  <a:lnTo>
                    <a:pt x="3115" y="968"/>
                  </a:lnTo>
                  <a:lnTo>
                    <a:pt x="3153" y="1059"/>
                  </a:lnTo>
                  <a:lnTo>
                    <a:pt x="3186" y="1153"/>
                  </a:lnTo>
                  <a:lnTo>
                    <a:pt x="3214" y="1250"/>
                  </a:lnTo>
                  <a:lnTo>
                    <a:pt x="3235" y="1348"/>
                  </a:lnTo>
                  <a:lnTo>
                    <a:pt x="3250" y="1450"/>
                  </a:lnTo>
                  <a:lnTo>
                    <a:pt x="3259" y="1552"/>
                  </a:lnTo>
                  <a:lnTo>
                    <a:pt x="3263" y="1657"/>
                  </a:lnTo>
                  <a:lnTo>
                    <a:pt x="3259" y="1762"/>
                  </a:lnTo>
                  <a:lnTo>
                    <a:pt x="3250" y="1864"/>
                  </a:lnTo>
                  <a:lnTo>
                    <a:pt x="3235" y="1966"/>
                  </a:lnTo>
                  <a:lnTo>
                    <a:pt x="3214" y="2064"/>
                  </a:lnTo>
                  <a:lnTo>
                    <a:pt x="3186" y="2161"/>
                  </a:lnTo>
                  <a:lnTo>
                    <a:pt x="3153" y="2255"/>
                  </a:lnTo>
                  <a:lnTo>
                    <a:pt x="3115" y="2346"/>
                  </a:lnTo>
                  <a:lnTo>
                    <a:pt x="3072" y="2435"/>
                  </a:lnTo>
                  <a:lnTo>
                    <a:pt x="3024" y="2520"/>
                  </a:lnTo>
                  <a:lnTo>
                    <a:pt x="2971" y="2603"/>
                  </a:lnTo>
                  <a:lnTo>
                    <a:pt x="2912" y="2682"/>
                  </a:lnTo>
                  <a:lnTo>
                    <a:pt x="2850" y="2757"/>
                  </a:lnTo>
                  <a:lnTo>
                    <a:pt x="2785" y="2828"/>
                  </a:lnTo>
                  <a:lnTo>
                    <a:pt x="2715" y="2895"/>
                  </a:lnTo>
                  <a:lnTo>
                    <a:pt x="2640" y="2958"/>
                  </a:lnTo>
                  <a:lnTo>
                    <a:pt x="2562" y="3017"/>
                  </a:lnTo>
                  <a:lnTo>
                    <a:pt x="2482" y="3071"/>
                  </a:lnTo>
                  <a:lnTo>
                    <a:pt x="2398" y="3119"/>
                  </a:lnTo>
                  <a:lnTo>
                    <a:pt x="2310" y="3163"/>
                  </a:lnTo>
                  <a:lnTo>
                    <a:pt x="2221" y="3202"/>
                  </a:lnTo>
                  <a:lnTo>
                    <a:pt x="2128" y="3235"/>
                  </a:lnTo>
                  <a:lnTo>
                    <a:pt x="2033" y="3263"/>
                  </a:lnTo>
                  <a:lnTo>
                    <a:pt x="1935" y="3285"/>
                  </a:lnTo>
                  <a:lnTo>
                    <a:pt x="1836" y="3301"/>
                  </a:lnTo>
                  <a:lnTo>
                    <a:pt x="1735" y="3310"/>
                  </a:lnTo>
                  <a:lnTo>
                    <a:pt x="1632" y="3314"/>
                  </a:lnTo>
                  <a:lnTo>
                    <a:pt x="1529" y="3310"/>
                  </a:lnTo>
                  <a:lnTo>
                    <a:pt x="1427" y="3301"/>
                  </a:lnTo>
                  <a:lnTo>
                    <a:pt x="1328" y="3285"/>
                  </a:lnTo>
                  <a:lnTo>
                    <a:pt x="1231" y="3263"/>
                  </a:lnTo>
                  <a:lnTo>
                    <a:pt x="1135" y="3235"/>
                  </a:lnTo>
                  <a:lnTo>
                    <a:pt x="1043" y="3202"/>
                  </a:lnTo>
                  <a:lnTo>
                    <a:pt x="952" y="3163"/>
                  </a:lnTo>
                  <a:lnTo>
                    <a:pt x="865" y="3119"/>
                  </a:lnTo>
                  <a:lnTo>
                    <a:pt x="781" y="3071"/>
                  </a:lnTo>
                  <a:lnTo>
                    <a:pt x="700" y="3017"/>
                  </a:lnTo>
                  <a:lnTo>
                    <a:pt x="622" y="2958"/>
                  </a:lnTo>
                  <a:lnTo>
                    <a:pt x="549" y="2895"/>
                  </a:lnTo>
                  <a:lnTo>
                    <a:pt x="479" y="2828"/>
                  </a:lnTo>
                  <a:lnTo>
                    <a:pt x="412" y="2757"/>
                  </a:lnTo>
                  <a:lnTo>
                    <a:pt x="350" y="2682"/>
                  </a:lnTo>
                  <a:lnTo>
                    <a:pt x="293" y="2603"/>
                  </a:lnTo>
                  <a:lnTo>
                    <a:pt x="240" y="2520"/>
                  </a:lnTo>
                  <a:lnTo>
                    <a:pt x="192" y="2435"/>
                  </a:lnTo>
                  <a:lnTo>
                    <a:pt x="148" y="2346"/>
                  </a:lnTo>
                  <a:lnTo>
                    <a:pt x="110" y="2255"/>
                  </a:lnTo>
                  <a:lnTo>
                    <a:pt x="78" y="2161"/>
                  </a:lnTo>
                  <a:lnTo>
                    <a:pt x="50" y="2064"/>
                  </a:lnTo>
                  <a:lnTo>
                    <a:pt x="29" y="1966"/>
                  </a:lnTo>
                  <a:lnTo>
                    <a:pt x="13" y="1864"/>
                  </a:lnTo>
                  <a:lnTo>
                    <a:pt x="3" y="1762"/>
                  </a:lnTo>
                  <a:lnTo>
                    <a:pt x="0" y="1657"/>
                  </a:lnTo>
                  <a:lnTo>
                    <a:pt x="3" y="1552"/>
                  </a:lnTo>
                  <a:lnTo>
                    <a:pt x="13" y="1450"/>
                  </a:lnTo>
                  <a:lnTo>
                    <a:pt x="29" y="1348"/>
                  </a:lnTo>
                  <a:lnTo>
                    <a:pt x="50" y="1250"/>
                  </a:lnTo>
                  <a:lnTo>
                    <a:pt x="78" y="1153"/>
                  </a:lnTo>
                  <a:lnTo>
                    <a:pt x="110" y="1059"/>
                  </a:lnTo>
                  <a:lnTo>
                    <a:pt x="148" y="968"/>
                  </a:lnTo>
                  <a:lnTo>
                    <a:pt x="192" y="879"/>
                  </a:lnTo>
                  <a:lnTo>
                    <a:pt x="240" y="794"/>
                  </a:lnTo>
                  <a:lnTo>
                    <a:pt x="293" y="711"/>
                  </a:lnTo>
                  <a:lnTo>
                    <a:pt x="350" y="632"/>
                  </a:lnTo>
                  <a:lnTo>
                    <a:pt x="412" y="557"/>
                  </a:lnTo>
                  <a:lnTo>
                    <a:pt x="479" y="486"/>
                  </a:lnTo>
                  <a:lnTo>
                    <a:pt x="549" y="418"/>
                  </a:lnTo>
                  <a:lnTo>
                    <a:pt x="622" y="356"/>
                  </a:lnTo>
                  <a:lnTo>
                    <a:pt x="700" y="297"/>
                  </a:lnTo>
                  <a:lnTo>
                    <a:pt x="781" y="243"/>
                  </a:lnTo>
                  <a:lnTo>
                    <a:pt x="865" y="195"/>
                  </a:lnTo>
                  <a:lnTo>
                    <a:pt x="952" y="151"/>
                  </a:lnTo>
                  <a:lnTo>
                    <a:pt x="1043" y="112"/>
                  </a:lnTo>
                  <a:lnTo>
                    <a:pt x="1135" y="79"/>
                  </a:lnTo>
                  <a:lnTo>
                    <a:pt x="1231" y="51"/>
                  </a:lnTo>
                  <a:lnTo>
                    <a:pt x="1328" y="29"/>
                  </a:lnTo>
                  <a:lnTo>
                    <a:pt x="1427" y="13"/>
                  </a:lnTo>
                  <a:lnTo>
                    <a:pt x="1529" y="4"/>
                  </a:lnTo>
                  <a:lnTo>
                    <a:pt x="1632"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28" name="Group 66"/>
          <p:cNvGrpSpPr/>
          <p:nvPr/>
        </p:nvGrpSpPr>
        <p:grpSpPr>
          <a:xfrm>
            <a:off x="8871120" y="4973760"/>
            <a:ext cx="1039680" cy="282600"/>
            <a:chOff x="8871120" y="4973760"/>
            <a:chExt cx="1039680" cy="282600"/>
          </a:xfrm>
        </p:grpSpPr>
        <p:sp>
          <p:nvSpPr>
            <p:cNvPr id="529" name="Freeform 675"/>
            <p:cNvSpPr/>
            <p:nvPr/>
          </p:nvSpPr>
          <p:spPr>
            <a:xfrm>
              <a:off x="8982360" y="5086440"/>
              <a:ext cx="55440" cy="56520"/>
            </a:xfrm>
            <a:custGeom>
              <a:avLst/>
              <a:gdLst/>
              <a:ahLst/>
              <a:rect l="l" t="t" r="r" b="b"/>
              <a:pathLst>
                <a:path w="798" h="646">
                  <a:moveTo>
                    <a:pt x="399" y="0"/>
                  </a:moveTo>
                  <a:lnTo>
                    <a:pt x="455" y="3"/>
                  </a:lnTo>
                  <a:lnTo>
                    <a:pt x="509" y="12"/>
                  </a:lnTo>
                  <a:lnTo>
                    <a:pt x="559" y="27"/>
                  </a:lnTo>
                  <a:lnTo>
                    <a:pt x="606" y="47"/>
                  </a:lnTo>
                  <a:lnTo>
                    <a:pt x="650" y="72"/>
                  </a:lnTo>
                  <a:lnTo>
                    <a:pt x="689" y="102"/>
                  </a:lnTo>
                  <a:lnTo>
                    <a:pt x="722" y="134"/>
                  </a:lnTo>
                  <a:lnTo>
                    <a:pt x="748" y="167"/>
                  </a:lnTo>
                  <a:lnTo>
                    <a:pt x="770" y="204"/>
                  </a:lnTo>
                  <a:lnTo>
                    <a:pt x="785" y="241"/>
                  </a:lnTo>
                  <a:lnTo>
                    <a:pt x="795" y="281"/>
                  </a:lnTo>
                  <a:lnTo>
                    <a:pt x="798" y="323"/>
                  </a:lnTo>
                  <a:lnTo>
                    <a:pt x="795" y="366"/>
                  </a:lnTo>
                  <a:lnTo>
                    <a:pt x="783" y="409"/>
                  </a:lnTo>
                  <a:lnTo>
                    <a:pt x="767" y="448"/>
                  </a:lnTo>
                  <a:lnTo>
                    <a:pt x="743" y="485"/>
                  </a:lnTo>
                  <a:lnTo>
                    <a:pt x="715" y="520"/>
                  </a:lnTo>
                  <a:lnTo>
                    <a:pt x="681" y="551"/>
                  </a:lnTo>
                  <a:lnTo>
                    <a:pt x="642" y="578"/>
                  </a:lnTo>
                  <a:lnTo>
                    <a:pt x="600" y="601"/>
                  </a:lnTo>
                  <a:lnTo>
                    <a:pt x="554" y="621"/>
                  </a:lnTo>
                  <a:lnTo>
                    <a:pt x="505" y="634"/>
                  </a:lnTo>
                  <a:lnTo>
                    <a:pt x="453" y="643"/>
                  </a:lnTo>
                  <a:lnTo>
                    <a:pt x="399" y="646"/>
                  </a:lnTo>
                  <a:lnTo>
                    <a:pt x="344" y="643"/>
                  </a:lnTo>
                  <a:lnTo>
                    <a:pt x="293" y="634"/>
                  </a:lnTo>
                  <a:lnTo>
                    <a:pt x="243" y="621"/>
                  </a:lnTo>
                  <a:lnTo>
                    <a:pt x="197" y="601"/>
                  </a:lnTo>
                  <a:lnTo>
                    <a:pt x="155" y="578"/>
                  </a:lnTo>
                  <a:lnTo>
                    <a:pt x="117" y="551"/>
                  </a:lnTo>
                  <a:lnTo>
                    <a:pt x="82" y="520"/>
                  </a:lnTo>
                  <a:lnTo>
                    <a:pt x="54" y="485"/>
                  </a:lnTo>
                  <a:lnTo>
                    <a:pt x="31" y="448"/>
                  </a:lnTo>
                  <a:lnTo>
                    <a:pt x="14" y="409"/>
                  </a:lnTo>
                  <a:lnTo>
                    <a:pt x="4" y="366"/>
                  </a:lnTo>
                  <a:lnTo>
                    <a:pt x="0" y="323"/>
                  </a:lnTo>
                  <a:lnTo>
                    <a:pt x="3" y="281"/>
                  </a:lnTo>
                  <a:lnTo>
                    <a:pt x="12" y="241"/>
                  </a:lnTo>
                  <a:lnTo>
                    <a:pt x="29" y="204"/>
                  </a:lnTo>
                  <a:lnTo>
                    <a:pt x="49" y="167"/>
                  </a:lnTo>
                  <a:lnTo>
                    <a:pt x="75" y="134"/>
                  </a:lnTo>
                  <a:lnTo>
                    <a:pt x="109" y="102"/>
                  </a:lnTo>
                  <a:lnTo>
                    <a:pt x="148" y="72"/>
                  </a:lnTo>
                  <a:lnTo>
                    <a:pt x="191" y="47"/>
                  </a:lnTo>
                  <a:lnTo>
                    <a:pt x="238" y="27"/>
                  </a:lnTo>
                  <a:lnTo>
                    <a:pt x="289" y="12"/>
                  </a:lnTo>
                  <a:lnTo>
                    <a:pt x="343" y="3"/>
                  </a:lnTo>
                  <a:lnTo>
                    <a:pt x="399" y="0"/>
                  </a:lnTo>
                  <a:close/>
                </a:path>
              </a:pathLst>
            </a:custGeom>
            <a:solidFill>
              <a:srgbClr val="da1088"/>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Calibri"/>
              </a:endParaRPr>
            </a:p>
          </p:txBody>
        </p:sp>
        <p:sp>
          <p:nvSpPr>
            <p:cNvPr id="530" name="Freeform 676"/>
            <p:cNvSpPr/>
            <p:nvPr/>
          </p:nvSpPr>
          <p:spPr>
            <a:xfrm>
              <a:off x="9044280" y="5052960"/>
              <a:ext cx="26640" cy="27000"/>
            </a:xfrm>
            <a:custGeom>
              <a:avLst/>
              <a:gdLst/>
              <a:ahLst/>
              <a:rect l="l" t="t" r="r" b="b"/>
              <a:pathLst>
                <a:path w="385" h="312">
                  <a:moveTo>
                    <a:pt x="334" y="0"/>
                  </a:moveTo>
                  <a:lnTo>
                    <a:pt x="385" y="0"/>
                  </a:lnTo>
                  <a:lnTo>
                    <a:pt x="385" y="311"/>
                  </a:lnTo>
                  <a:lnTo>
                    <a:pt x="1" y="312"/>
                  </a:lnTo>
                  <a:lnTo>
                    <a:pt x="0" y="1"/>
                  </a:lnTo>
                  <a:lnTo>
                    <a:pt x="334" y="0"/>
                  </a:lnTo>
                  <a:close/>
                </a:path>
              </a:pathLst>
            </a:custGeom>
            <a:solidFill>
              <a:srgbClr val="da108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531" name="Freeform 677"/>
            <p:cNvSpPr/>
            <p:nvPr/>
          </p:nvSpPr>
          <p:spPr>
            <a:xfrm>
              <a:off x="8871120" y="4973760"/>
              <a:ext cx="278640" cy="282600"/>
            </a:xfrm>
            <a:custGeom>
              <a:avLst/>
              <a:gdLst/>
              <a:ahLst/>
              <a:rect l="l" t="t" r="r" b="b"/>
              <a:pathLst>
                <a:path w="3987" h="3229">
                  <a:moveTo>
                    <a:pt x="1298" y="697"/>
                  </a:moveTo>
                  <a:lnTo>
                    <a:pt x="1243" y="700"/>
                  </a:lnTo>
                  <a:lnTo>
                    <a:pt x="1191" y="708"/>
                  </a:lnTo>
                  <a:lnTo>
                    <a:pt x="1140" y="721"/>
                  </a:lnTo>
                  <a:lnTo>
                    <a:pt x="1092" y="738"/>
                  </a:lnTo>
                  <a:lnTo>
                    <a:pt x="1047" y="761"/>
                  </a:lnTo>
                  <a:lnTo>
                    <a:pt x="1008" y="787"/>
                  </a:lnTo>
                  <a:lnTo>
                    <a:pt x="970" y="816"/>
                  </a:lnTo>
                  <a:lnTo>
                    <a:pt x="939" y="849"/>
                  </a:lnTo>
                  <a:lnTo>
                    <a:pt x="912" y="885"/>
                  </a:lnTo>
                  <a:lnTo>
                    <a:pt x="889" y="923"/>
                  </a:lnTo>
                  <a:lnTo>
                    <a:pt x="873" y="964"/>
                  </a:lnTo>
                  <a:lnTo>
                    <a:pt x="863" y="1007"/>
                  </a:lnTo>
                  <a:lnTo>
                    <a:pt x="860" y="1051"/>
                  </a:lnTo>
                  <a:lnTo>
                    <a:pt x="860" y="2178"/>
                  </a:lnTo>
                  <a:lnTo>
                    <a:pt x="863" y="2223"/>
                  </a:lnTo>
                  <a:lnTo>
                    <a:pt x="873" y="2265"/>
                  </a:lnTo>
                  <a:lnTo>
                    <a:pt x="889" y="2306"/>
                  </a:lnTo>
                  <a:lnTo>
                    <a:pt x="912" y="2345"/>
                  </a:lnTo>
                  <a:lnTo>
                    <a:pt x="939" y="2380"/>
                  </a:lnTo>
                  <a:lnTo>
                    <a:pt x="970" y="2413"/>
                  </a:lnTo>
                  <a:lnTo>
                    <a:pt x="1008" y="2443"/>
                  </a:lnTo>
                  <a:lnTo>
                    <a:pt x="1047" y="2469"/>
                  </a:lnTo>
                  <a:lnTo>
                    <a:pt x="1092" y="2491"/>
                  </a:lnTo>
                  <a:lnTo>
                    <a:pt x="1140" y="2508"/>
                  </a:lnTo>
                  <a:lnTo>
                    <a:pt x="1191" y="2521"/>
                  </a:lnTo>
                  <a:lnTo>
                    <a:pt x="1243" y="2530"/>
                  </a:lnTo>
                  <a:lnTo>
                    <a:pt x="1298" y="2533"/>
                  </a:lnTo>
                  <a:lnTo>
                    <a:pt x="2689" y="2533"/>
                  </a:lnTo>
                  <a:lnTo>
                    <a:pt x="2744" y="2530"/>
                  </a:lnTo>
                  <a:lnTo>
                    <a:pt x="2797" y="2521"/>
                  </a:lnTo>
                  <a:lnTo>
                    <a:pt x="2847" y="2508"/>
                  </a:lnTo>
                  <a:lnTo>
                    <a:pt x="2896" y="2491"/>
                  </a:lnTo>
                  <a:lnTo>
                    <a:pt x="2940" y="2469"/>
                  </a:lnTo>
                  <a:lnTo>
                    <a:pt x="2981" y="2443"/>
                  </a:lnTo>
                  <a:lnTo>
                    <a:pt x="3017" y="2413"/>
                  </a:lnTo>
                  <a:lnTo>
                    <a:pt x="3049" y="2380"/>
                  </a:lnTo>
                  <a:lnTo>
                    <a:pt x="3077" y="2345"/>
                  </a:lnTo>
                  <a:lnTo>
                    <a:pt x="3098" y="2306"/>
                  </a:lnTo>
                  <a:lnTo>
                    <a:pt x="3114" y="2265"/>
                  </a:lnTo>
                  <a:lnTo>
                    <a:pt x="3124" y="2223"/>
                  </a:lnTo>
                  <a:lnTo>
                    <a:pt x="3128" y="2178"/>
                  </a:lnTo>
                  <a:lnTo>
                    <a:pt x="3128" y="1051"/>
                  </a:lnTo>
                  <a:lnTo>
                    <a:pt x="3124" y="1007"/>
                  </a:lnTo>
                  <a:lnTo>
                    <a:pt x="3114" y="964"/>
                  </a:lnTo>
                  <a:lnTo>
                    <a:pt x="3098" y="923"/>
                  </a:lnTo>
                  <a:lnTo>
                    <a:pt x="3077" y="885"/>
                  </a:lnTo>
                  <a:lnTo>
                    <a:pt x="3049" y="849"/>
                  </a:lnTo>
                  <a:lnTo>
                    <a:pt x="3017" y="816"/>
                  </a:lnTo>
                  <a:lnTo>
                    <a:pt x="2981" y="787"/>
                  </a:lnTo>
                  <a:lnTo>
                    <a:pt x="2940" y="761"/>
                  </a:lnTo>
                  <a:lnTo>
                    <a:pt x="2896" y="738"/>
                  </a:lnTo>
                  <a:lnTo>
                    <a:pt x="2847" y="721"/>
                  </a:lnTo>
                  <a:lnTo>
                    <a:pt x="2797" y="708"/>
                  </a:lnTo>
                  <a:lnTo>
                    <a:pt x="2744" y="700"/>
                  </a:lnTo>
                  <a:lnTo>
                    <a:pt x="2689" y="697"/>
                  </a:lnTo>
                  <a:lnTo>
                    <a:pt x="1298" y="697"/>
                  </a:lnTo>
                  <a:close/>
                  <a:moveTo>
                    <a:pt x="1994" y="0"/>
                  </a:moveTo>
                  <a:lnTo>
                    <a:pt x="2120" y="4"/>
                  </a:lnTo>
                  <a:lnTo>
                    <a:pt x="2244" y="13"/>
                  </a:lnTo>
                  <a:lnTo>
                    <a:pt x="2365" y="28"/>
                  </a:lnTo>
                  <a:lnTo>
                    <a:pt x="2484" y="50"/>
                  </a:lnTo>
                  <a:lnTo>
                    <a:pt x="2600" y="77"/>
                  </a:lnTo>
                  <a:lnTo>
                    <a:pt x="2714" y="109"/>
                  </a:lnTo>
                  <a:lnTo>
                    <a:pt x="2824" y="148"/>
                  </a:lnTo>
                  <a:lnTo>
                    <a:pt x="2931" y="190"/>
                  </a:lnTo>
                  <a:lnTo>
                    <a:pt x="3033" y="237"/>
                  </a:lnTo>
                  <a:lnTo>
                    <a:pt x="3132" y="290"/>
                  </a:lnTo>
                  <a:lnTo>
                    <a:pt x="3226" y="348"/>
                  </a:lnTo>
                  <a:lnTo>
                    <a:pt x="3318" y="408"/>
                  </a:lnTo>
                  <a:lnTo>
                    <a:pt x="3404" y="474"/>
                  </a:lnTo>
                  <a:lnTo>
                    <a:pt x="3483" y="543"/>
                  </a:lnTo>
                  <a:lnTo>
                    <a:pt x="3559" y="616"/>
                  </a:lnTo>
                  <a:lnTo>
                    <a:pt x="3631" y="693"/>
                  </a:lnTo>
                  <a:lnTo>
                    <a:pt x="3695" y="774"/>
                  </a:lnTo>
                  <a:lnTo>
                    <a:pt x="3754" y="856"/>
                  </a:lnTo>
                  <a:lnTo>
                    <a:pt x="3806" y="943"/>
                  </a:lnTo>
                  <a:lnTo>
                    <a:pt x="3854" y="1032"/>
                  </a:lnTo>
                  <a:lnTo>
                    <a:pt x="3894" y="1124"/>
                  </a:lnTo>
                  <a:lnTo>
                    <a:pt x="3927" y="1218"/>
                  </a:lnTo>
                  <a:lnTo>
                    <a:pt x="3954" y="1314"/>
                  </a:lnTo>
                  <a:lnTo>
                    <a:pt x="3972" y="1413"/>
                  </a:lnTo>
                  <a:lnTo>
                    <a:pt x="3984" y="1513"/>
                  </a:lnTo>
                  <a:lnTo>
                    <a:pt x="3987" y="1615"/>
                  </a:lnTo>
                  <a:lnTo>
                    <a:pt x="3984" y="1717"/>
                  </a:lnTo>
                  <a:lnTo>
                    <a:pt x="3972" y="1817"/>
                  </a:lnTo>
                  <a:lnTo>
                    <a:pt x="3954" y="1916"/>
                  </a:lnTo>
                  <a:lnTo>
                    <a:pt x="3927" y="2012"/>
                  </a:lnTo>
                  <a:lnTo>
                    <a:pt x="3894" y="2105"/>
                  </a:lnTo>
                  <a:lnTo>
                    <a:pt x="3854" y="2197"/>
                  </a:lnTo>
                  <a:lnTo>
                    <a:pt x="3806" y="2286"/>
                  </a:lnTo>
                  <a:lnTo>
                    <a:pt x="3754" y="2373"/>
                  </a:lnTo>
                  <a:lnTo>
                    <a:pt x="3695" y="2456"/>
                  </a:lnTo>
                  <a:lnTo>
                    <a:pt x="3631" y="2537"/>
                  </a:lnTo>
                  <a:lnTo>
                    <a:pt x="3559" y="2613"/>
                  </a:lnTo>
                  <a:lnTo>
                    <a:pt x="3483" y="2686"/>
                  </a:lnTo>
                  <a:lnTo>
                    <a:pt x="3404" y="2756"/>
                  </a:lnTo>
                  <a:lnTo>
                    <a:pt x="3318" y="2821"/>
                  </a:lnTo>
                  <a:lnTo>
                    <a:pt x="3226" y="2882"/>
                  </a:lnTo>
                  <a:lnTo>
                    <a:pt x="3132" y="2939"/>
                  </a:lnTo>
                  <a:lnTo>
                    <a:pt x="3033" y="2992"/>
                  </a:lnTo>
                  <a:lnTo>
                    <a:pt x="2931" y="3039"/>
                  </a:lnTo>
                  <a:lnTo>
                    <a:pt x="2824" y="3082"/>
                  </a:lnTo>
                  <a:lnTo>
                    <a:pt x="2714" y="3120"/>
                  </a:lnTo>
                  <a:lnTo>
                    <a:pt x="2600" y="3152"/>
                  </a:lnTo>
                  <a:lnTo>
                    <a:pt x="2484" y="3180"/>
                  </a:lnTo>
                  <a:lnTo>
                    <a:pt x="2365" y="3201"/>
                  </a:lnTo>
                  <a:lnTo>
                    <a:pt x="2244" y="3216"/>
                  </a:lnTo>
                  <a:lnTo>
                    <a:pt x="2120" y="3225"/>
                  </a:lnTo>
                  <a:lnTo>
                    <a:pt x="1994" y="3229"/>
                  </a:lnTo>
                  <a:lnTo>
                    <a:pt x="1868" y="3225"/>
                  </a:lnTo>
                  <a:lnTo>
                    <a:pt x="1743" y="3216"/>
                  </a:lnTo>
                  <a:lnTo>
                    <a:pt x="1622" y="3201"/>
                  </a:lnTo>
                  <a:lnTo>
                    <a:pt x="1504" y="3180"/>
                  </a:lnTo>
                  <a:lnTo>
                    <a:pt x="1387" y="3152"/>
                  </a:lnTo>
                  <a:lnTo>
                    <a:pt x="1274" y="3120"/>
                  </a:lnTo>
                  <a:lnTo>
                    <a:pt x="1163" y="3082"/>
                  </a:lnTo>
                  <a:lnTo>
                    <a:pt x="1057" y="3039"/>
                  </a:lnTo>
                  <a:lnTo>
                    <a:pt x="954" y="2992"/>
                  </a:lnTo>
                  <a:lnTo>
                    <a:pt x="855" y="2939"/>
                  </a:lnTo>
                  <a:lnTo>
                    <a:pt x="761" y="2882"/>
                  </a:lnTo>
                  <a:lnTo>
                    <a:pt x="671" y="2821"/>
                  </a:lnTo>
                  <a:lnTo>
                    <a:pt x="585" y="2756"/>
                  </a:lnTo>
                  <a:lnTo>
                    <a:pt x="504" y="2686"/>
                  </a:lnTo>
                  <a:lnTo>
                    <a:pt x="428" y="2613"/>
                  </a:lnTo>
                  <a:lnTo>
                    <a:pt x="358" y="2537"/>
                  </a:lnTo>
                  <a:lnTo>
                    <a:pt x="293" y="2456"/>
                  </a:lnTo>
                  <a:lnTo>
                    <a:pt x="234" y="2373"/>
                  </a:lnTo>
                  <a:lnTo>
                    <a:pt x="181" y="2286"/>
                  </a:lnTo>
                  <a:lnTo>
                    <a:pt x="134" y="2197"/>
                  </a:lnTo>
                  <a:lnTo>
                    <a:pt x="95" y="2105"/>
                  </a:lnTo>
                  <a:lnTo>
                    <a:pt x="61" y="2012"/>
                  </a:lnTo>
                  <a:lnTo>
                    <a:pt x="35" y="1916"/>
                  </a:lnTo>
                  <a:lnTo>
                    <a:pt x="16" y="1817"/>
                  </a:lnTo>
                  <a:lnTo>
                    <a:pt x="3" y="1717"/>
                  </a:lnTo>
                  <a:lnTo>
                    <a:pt x="0" y="1615"/>
                  </a:lnTo>
                  <a:lnTo>
                    <a:pt x="3" y="1513"/>
                  </a:lnTo>
                  <a:lnTo>
                    <a:pt x="16" y="1413"/>
                  </a:lnTo>
                  <a:lnTo>
                    <a:pt x="35" y="1314"/>
                  </a:lnTo>
                  <a:lnTo>
                    <a:pt x="61" y="1218"/>
                  </a:lnTo>
                  <a:lnTo>
                    <a:pt x="95" y="1124"/>
                  </a:lnTo>
                  <a:lnTo>
                    <a:pt x="134" y="1032"/>
                  </a:lnTo>
                  <a:lnTo>
                    <a:pt x="181" y="943"/>
                  </a:lnTo>
                  <a:lnTo>
                    <a:pt x="234" y="856"/>
                  </a:lnTo>
                  <a:lnTo>
                    <a:pt x="293" y="774"/>
                  </a:lnTo>
                  <a:lnTo>
                    <a:pt x="358" y="693"/>
                  </a:lnTo>
                  <a:lnTo>
                    <a:pt x="428" y="616"/>
                  </a:lnTo>
                  <a:lnTo>
                    <a:pt x="504" y="543"/>
                  </a:lnTo>
                  <a:lnTo>
                    <a:pt x="585" y="474"/>
                  </a:lnTo>
                  <a:lnTo>
                    <a:pt x="671" y="408"/>
                  </a:lnTo>
                  <a:lnTo>
                    <a:pt x="761" y="348"/>
                  </a:lnTo>
                  <a:lnTo>
                    <a:pt x="855" y="290"/>
                  </a:lnTo>
                  <a:lnTo>
                    <a:pt x="954" y="237"/>
                  </a:lnTo>
                  <a:lnTo>
                    <a:pt x="1057" y="190"/>
                  </a:lnTo>
                  <a:lnTo>
                    <a:pt x="1163" y="148"/>
                  </a:lnTo>
                  <a:lnTo>
                    <a:pt x="1274" y="109"/>
                  </a:lnTo>
                  <a:lnTo>
                    <a:pt x="1387" y="77"/>
                  </a:lnTo>
                  <a:lnTo>
                    <a:pt x="1504" y="50"/>
                  </a:lnTo>
                  <a:lnTo>
                    <a:pt x="1622" y="28"/>
                  </a:lnTo>
                  <a:lnTo>
                    <a:pt x="1743" y="13"/>
                  </a:lnTo>
                  <a:lnTo>
                    <a:pt x="1868" y="4"/>
                  </a:lnTo>
                  <a:lnTo>
                    <a:pt x="1994"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2" name="Freeform 678"/>
            <p:cNvSpPr/>
            <p:nvPr/>
          </p:nvSpPr>
          <p:spPr>
            <a:xfrm>
              <a:off x="8946360" y="5098320"/>
              <a:ext cx="127440" cy="81000"/>
            </a:xfrm>
            <a:custGeom>
              <a:avLst/>
              <a:gdLst/>
              <a:ahLst/>
              <a:rect l="l" t="t" r="r" b="b"/>
              <a:pathLst>
                <a:path w="1826" h="928">
                  <a:moveTo>
                    <a:pt x="0" y="0"/>
                  </a:moveTo>
                  <a:lnTo>
                    <a:pt x="338" y="0"/>
                  </a:lnTo>
                  <a:lnTo>
                    <a:pt x="319" y="45"/>
                  </a:lnTo>
                  <a:lnTo>
                    <a:pt x="304" y="92"/>
                  </a:lnTo>
                  <a:lnTo>
                    <a:pt x="296" y="139"/>
                  </a:lnTo>
                  <a:lnTo>
                    <a:pt x="293" y="189"/>
                  </a:lnTo>
                  <a:lnTo>
                    <a:pt x="297" y="243"/>
                  </a:lnTo>
                  <a:lnTo>
                    <a:pt x="307" y="296"/>
                  </a:lnTo>
                  <a:lnTo>
                    <a:pt x="324" y="347"/>
                  </a:lnTo>
                  <a:lnTo>
                    <a:pt x="348" y="396"/>
                  </a:lnTo>
                  <a:lnTo>
                    <a:pt x="378" y="442"/>
                  </a:lnTo>
                  <a:lnTo>
                    <a:pt x="413" y="485"/>
                  </a:lnTo>
                  <a:lnTo>
                    <a:pt x="453" y="525"/>
                  </a:lnTo>
                  <a:lnTo>
                    <a:pt x="498" y="561"/>
                  </a:lnTo>
                  <a:lnTo>
                    <a:pt x="546" y="594"/>
                  </a:lnTo>
                  <a:lnTo>
                    <a:pt x="600" y="622"/>
                  </a:lnTo>
                  <a:lnTo>
                    <a:pt x="657" y="646"/>
                  </a:lnTo>
                  <a:lnTo>
                    <a:pt x="717" y="665"/>
                  </a:lnTo>
                  <a:lnTo>
                    <a:pt x="780" y="679"/>
                  </a:lnTo>
                  <a:lnTo>
                    <a:pt x="846" y="688"/>
                  </a:lnTo>
                  <a:lnTo>
                    <a:pt x="913" y="691"/>
                  </a:lnTo>
                  <a:lnTo>
                    <a:pt x="981" y="688"/>
                  </a:lnTo>
                  <a:lnTo>
                    <a:pt x="1045" y="679"/>
                  </a:lnTo>
                  <a:lnTo>
                    <a:pt x="1109" y="665"/>
                  </a:lnTo>
                  <a:lnTo>
                    <a:pt x="1169" y="646"/>
                  </a:lnTo>
                  <a:lnTo>
                    <a:pt x="1226" y="622"/>
                  </a:lnTo>
                  <a:lnTo>
                    <a:pt x="1279" y="594"/>
                  </a:lnTo>
                  <a:lnTo>
                    <a:pt x="1329" y="561"/>
                  </a:lnTo>
                  <a:lnTo>
                    <a:pt x="1373" y="525"/>
                  </a:lnTo>
                  <a:lnTo>
                    <a:pt x="1413" y="485"/>
                  </a:lnTo>
                  <a:lnTo>
                    <a:pt x="1448" y="442"/>
                  </a:lnTo>
                  <a:lnTo>
                    <a:pt x="1478" y="396"/>
                  </a:lnTo>
                  <a:lnTo>
                    <a:pt x="1502" y="347"/>
                  </a:lnTo>
                  <a:lnTo>
                    <a:pt x="1519" y="296"/>
                  </a:lnTo>
                  <a:lnTo>
                    <a:pt x="1529" y="243"/>
                  </a:lnTo>
                  <a:lnTo>
                    <a:pt x="1533" y="189"/>
                  </a:lnTo>
                  <a:lnTo>
                    <a:pt x="1531" y="139"/>
                  </a:lnTo>
                  <a:lnTo>
                    <a:pt x="1521" y="92"/>
                  </a:lnTo>
                  <a:lnTo>
                    <a:pt x="1507" y="45"/>
                  </a:lnTo>
                  <a:lnTo>
                    <a:pt x="1487" y="0"/>
                  </a:lnTo>
                  <a:lnTo>
                    <a:pt x="1826" y="0"/>
                  </a:lnTo>
                  <a:lnTo>
                    <a:pt x="1826" y="752"/>
                  </a:lnTo>
                  <a:lnTo>
                    <a:pt x="1822" y="783"/>
                  </a:lnTo>
                  <a:lnTo>
                    <a:pt x="1812" y="814"/>
                  </a:lnTo>
                  <a:lnTo>
                    <a:pt x="1796" y="841"/>
                  </a:lnTo>
                  <a:lnTo>
                    <a:pt x="1775" y="865"/>
                  </a:lnTo>
                  <a:lnTo>
                    <a:pt x="1749" y="886"/>
                  </a:lnTo>
                  <a:lnTo>
                    <a:pt x="1718" y="904"/>
                  </a:lnTo>
                  <a:lnTo>
                    <a:pt x="1684" y="917"/>
                  </a:lnTo>
                  <a:lnTo>
                    <a:pt x="1648" y="925"/>
                  </a:lnTo>
                  <a:lnTo>
                    <a:pt x="1608" y="928"/>
                  </a:lnTo>
                  <a:lnTo>
                    <a:pt x="217" y="928"/>
                  </a:lnTo>
                  <a:lnTo>
                    <a:pt x="179" y="925"/>
                  </a:lnTo>
                  <a:lnTo>
                    <a:pt x="141" y="917"/>
                  </a:lnTo>
                  <a:lnTo>
                    <a:pt x="107" y="904"/>
                  </a:lnTo>
                  <a:lnTo>
                    <a:pt x="77" y="886"/>
                  </a:lnTo>
                  <a:lnTo>
                    <a:pt x="51" y="865"/>
                  </a:lnTo>
                  <a:lnTo>
                    <a:pt x="30" y="841"/>
                  </a:lnTo>
                  <a:lnTo>
                    <a:pt x="14" y="814"/>
                  </a:lnTo>
                  <a:lnTo>
                    <a:pt x="4" y="783"/>
                  </a:lnTo>
                  <a:lnTo>
                    <a:pt x="0" y="752"/>
                  </a:lnTo>
                  <a:lnTo>
                    <a:pt x="0" y="0"/>
                  </a:lnTo>
                  <a:close/>
                </a:path>
              </a:pathLst>
            </a:custGeom>
            <a:solidFill>
              <a:srgbClr val="da1088"/>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Calibri"/>
              </a:endParaRPr>
            </a:p>
          </p:txBody>
        </p:sp>
        <p:sp>
          <p:nvSpPr>
            <p:cNvPr id="533" name="Freeform 1536"/>
            <p:cNvSpPr/>
            <p:nvPr/>
          </p:nvSpPr>
          <p:spPr>
            <a:xfrm>
              <a:off x="9252360" y="4973760"/>
              <a:ext cx="278640" cy="282600"/>
            </a:xfrm>
            <a:custGeom>
              <a:avLst/>
              <a:gdLst/>
              <a:ahLst/>
              <a:rect l="l" t="t" r="r" b="b"/>
              <a:pathLst>
                <a:path w="3474" h="3518">
                  <a:moveTo>
                    <a:pt x="2112" y="957"/>
                  </a:moveTo>
                  <a:lnTo>
                    <a:pt x="2061" y="961"/>
                  </a:lnTo>
                  <a:lnTo>
                    <a:pt x="2014" y="970"/>
                  </a:lnTo>
                  <a:lnTo>
                    <a:pt x="1968" y="985"/>
                  </a:lnTo>
                  <a:lnTo>
                    <a:pt x="1924" y="1005"/>
                  </a:lnTo>
                  <a:lnTo>
                    <a:pt x="1883" y="1030"/>
                  </a:lnTo>
                  <a:lnTo>
                    <a:pt x="1846" y="1060"/>
                  </a:lnTo>
                  <a:lnTo>
                    <a:pt x="1814" y="1094"/>
                  </a:lnTo>
                  <a:lnTo>
                    <a:pt x="1784" y="1131"/>
                  </a:lnTo>
                  <a:lnTo>
                    <a:pt x="1759" y="1172"/>
                  </a:lnTo>
                  <a:lnTo>
                    <a:pt x="1739" y="1216"/>
                  </a:lnTo>
                  <a:lnTo>
                    <a:pt x="1724" y="1263"/>
                  </a:lnTo>
                  <a:lnTo>
                    <a:pt x="1716" y="1311"/>
                  </a:lnTo>
                  <a:lnTo>
                    <a:pt x="1713" y="1362"/>
                  </a:lnTo>
                  <a:lnTo>
                    <a:pt x="1715" y="1409"/>
                  </a:lnTo>
                  <a:lnTo>
                    <a:pt x="1722" y="1454"/>
                  </a:lnTo>
                  <a:lnTo>
                    <a:pt x="1640" y="1448"/>
                  </a:lnTo>
                  <a:lnTo>
                    <a:pt x="1559" y="1435"/>
                  </a:lnTo>
                  <a:lnTo>
                    <a:pt x="1481" y="1416"/>
                  </a:lnTo>
                  <a:lnTo>
                    <a:pt x="1405" y="1392"/>
                  </a:lnTo>
                  <a:lnTo>
                    <a:pt x="1331" y="1363"/>
                  </a:lnTo>
                  <a:lnTo>
                    <a:pt x="1259" y="1329"/>
                  </a:lnTo>
                  <a:lnTo>
                    <a:pt x="1191" y="1289"/>
                  </a:lnTo>
                  <a:lnTo>
                    <a:pt x="1126" y="1247"/>
                  </a:lnTo>
                  <a:lnTo>
                    <a:pt x="1064" y="1198"/>
                  </a:lnTo>
                  <a:lnTo>
                    <a:pt x="1005" y="1146"/>
                  </a:lnTo>
                  <a:lnTo>
                    <a:pt x="950" y="1091"/>
                  </a:lnTo>
                  <a:lnTo>
                    <a:pt x="899" y="1032"/>
                  </a:lnTo>
                  <a:lnTo>
                    <a:pt x="880" y="1068"/>
                  </a:lnTo>
                  <a:lnTo>
                    <a:pt x="865" y="1108"/>
                  </a:lnTo>
                  <a:lnTo>
                    <a:pt x="854" y="1149"/>
                  </a:lnTo>
                  <a:lnTo>
                    <a:pt x="846" y="1192"/>
                  </a:lnTo>
                  <a:lnTo>
                    <a:pt x="844" y="1236"/>
                  </a:lnTo>
                  <a:lnTo>
                    <a:pt x="848" y="1287"/>
                  </a:lnTo>
                  <a:lnTo>
                    <a:pt x="857" y="1337"/>
                  </a:lnTo>
                  <a:lnTo>
                    <a:pt x="873" y="1384"/>
                  </a:lnTo>
                  <a:lnTo>
                    <a:pt x="893" y="1429"/>
                  </a:lnTo>
                  <a:lnTo>
                    <a:pt x="919" y="1471"/>
                  </a:lnTo>
                  <a:lnTo>
                    <a:pt x="950" y="1508"/>
                  </a:lnTo>
                  <a:lnTo>
                    <a:pt x="984" y="1542"/>
                  </a:lnTo>
                  <a:lnTo>
                    <a:pt x="1022" y="1572"/>
                  </a:lnTo>
                  <a:lnTo>
                    <a:pt x="974" y="1568"/>
                  </a:lnTo>
                  <a:lnTo>
                    <a:pt x="928" y="1557"/>
                  </a:lnTo>
                  <a:lnTo>
                    <a:pt x="883" y="1541"/>
                  </a:lnTo>
                  <a:lnTo>
                    <a:pt x="841" y="1522"/>
                  </a:lnTo>
                  <a:lnTo>
                    <a:pt x="841" y="1524"/>
                  </a:lnTo>
                  <a:lnTo>
                    <a:pt x="841" y="1527"/>
                  </a:lnTo>
                  <a:lnTo>
                    <a:pt x="844" y="1579"/>
                  </a:lnTo>
                  <a:lnTo>
                    <a:pt x="854" y="1629"/>
                  </a:lnTo>
                  <a:lnTo>
                    <a:pt x="870" y="1678"/>
                  </a:lnTo>
                  <a:lnTo>
                    <a:pt x="891" y="1723"/>
                  </a:lnTo>
                  <a:lnTo>
                    <a:pt x="918" y="1765"/>
                  </a:lnTo>
                  <a:lnTo>
                    <a:pt x="949" y="1803"/>
                  </a:lnTo>
                  <a:lnTo>
                    <a:pt x="984" y="1837"/>
                  </a:lnTo>
                  <a:lnTo>
                    <a:pt x="1025" y="1867"/>
                  </a:lnTo>
                  <a:lnTo>
                    <a:pt x="1067" y="1891"/>
                  </a:lnTo>
                  <a:lnTo>
                    <a:pt x="1113" y="1910"/>
                  </a:lnTo>
                  <a:lnTo>
                    <a:pt x="1162" y="1923"/>
                  </a:lnTo>
                  <a:lnTo>
                    <a:pt x="1128" y="1931"/>
                  </a:lnTo>
                  <a:lnTo>
                    <a:pt x="1092" y="1936"/>
                  </a:lnTo>
                  <a:lnTo>
                    <a:pt x="1056" y="1937"/>
                  </a:lnTo>
                  <a:lnTo>
                    <a:pt x="1018" y="1935"/>
                  </a:lnTo>
                  <a:lnTo>
                    <a:pt x="981" y="1930"/>
                  </a:lnTo>
                  <a:lnTo>
                    <a:pt x="1000" y="1977"/>
                  </a:lnTo>
                  <a:lnTo>
                    <a:pt x="1024" y="2021"/>
                  </a:lnTo>
                  <a:lnTo>
                    <a:pt x="1052" y="2062"/>
                  </a:lnTo>
                  <a:lnTo>
                    <a:pt x="1084" y="2098"/>
                  </a:lnTo>
                  <a:lnTo>
                    <a:pt x="1121" y="2130"/>
                  </a:lnTo>
                  <a:lnTo>
                    <a:pt x="1163" y="2157"/>
                  </a:lnTo>
                  <a:lnTo>
                    <a:pt x="1206" y="2179"/>
                  </a:lnTo>
                  <a:lnTo>
                    <a:pt x="1254" y="2196"/>
                  </a:lnTo>
                  <a:lnTo>
                    <a:pt x="1303" y="2207"/>
                  </a:lnTo>
                  <a:lnTo>
                    <a:pt x="1355" y="2211"/>
                  </a:lnTo>
                  <a:lnTo>
                    <a:pt x="1302" y="2250"/>
                  </a:lnTo>
                  <a:lnTo>
                    <a:pt x="1246" y="2284"/>
                  </a:lnTo>
                  <a:lnTo>
                    <a:pt x="1187" y="2314"/>
                  </a:lnTo>
                  <a:lnTo>
                    <a:pt x="1126" y="2339"/>
                  </a:lnTo>
                  <a:lnTo>
                    <a:pt x="1062" y="2359"/>
                  </a:lnTo>
                  <a:lnTo>
                    <a:pt x="995" y="2373"/>
                  </a:lnTo>
                  <a:lnTo>
                    <a:pt x="928" y="2382"/>
                  </a:lnTo>
                  <a:lnTo>
                    <a:pt x="858" y="2385"/>
                  </a:lnTo>
                  <a:lnTo>
                    <a:pt x="811" y="2383"/>
                  </a:lnTo>
                  <a:lnTo>
                    <a:pt x="763" y="2378"/>
                  </a:lnTo>
                  <a:lnTo>
                    <a:pt x="830" y="2419"/>
                  </a:lnTo>
                  <a:lnTo>
                    <a:pt x="902" y="2455"/>
                  </a:lnTo>
                  <a:lnTo>
                    <a:pt x="975" y="2487"/>
                  </a:lnTo>
                  <a:lnTo>
                    <a:pt x="1051" y="2513"/>
                  </a:lnTo>
                  <a:lnTo>
                    <a:pt x="1129" y="2534"/>
                  </a:lnTo>
                  <a:lnTo>
                    <a:pt x="1209" y="2548"/>
                  </a:lnTo>
                  <a:lnTo>
                    <a:pt x="1292" y="2558"/>
                  </a:lnTo>
                  <a:lnTo>
                    <a:pt x="1376" y="2561"/>
                  </a:lnTo>
                  <a:lnTo>
                    <a:pt x="1459" y="2558"/>
                  </a:lnTo>
                  <a:lnTo>
                    <a:pt x="1540" y="2550"/>
                  </a:lnTo>
                  <a:lnTo>
                    <a:pt x="1617" y="2537"/>
                  </a:lnTo>
                  <a:lnTo>
                    <a:pt x="1691" y="2519"/>
                  </a:lnTo>
                  <a:lnTo>
                    <a:pt x="1762" y="2497"/>
                  </a:lnTo>
                  <a:lnTo>
                    <a:pt x="1831" y="2471"/>
                  </a:lnTo>
                  <a:lnTo>
                    <a:pt x="1896" y="2440"/>
                  </a:lnTo>
                  <a:lnTo>
                    <a:pt x="1958" y="2406"/>
                  </a:lnTo>
                  <a:lnTo>
                    <a:pt x="2017" y="2367"/>
                  </a:lnTo>
                  <a:lnTo>
                    <a:pt x="2072" y="2327"/>
                  </a:lnTo>
                  <a:lnTo>
                    <a:pt x="2125" y="2283"/>
                  </a:lnTo>
                  <a:lnTo>
                    <a:pt x="2174" y="2235"/>
                  </a:lnTo>
                  <a:lnTo>
                    <a:pt x="2220" y="2186"/>
                  </a:lnTo>
                  <a:lnTo>
                    <a:pt x="2263" y="2133"/>
                  </a:lnTo>
                  <a:lnTo>
                    <a:pt x="2303" y="2079"/>
                  </a:lnTo>
                  <a:lnTo>
                    <a:pt x="2338" y="2023"/>
                  </a:lnTo>
                  <a:lnTo>
                    <a:pt x="2372" y="1965"/>
                  </a:lnTo>
                  <a:lnTo>
                    <a:pt x="2401" y="1905"/>
                  </a:lnTo>
                  <a:lnTo>
                    <a:pt x="2428" y="1845"/>
                  </a:lnTo>
                  <a:lnTo>
                    <a:pt x="2450" y="1784"/>
                  </a:lnTo>
                  <a:lnTo>
                    <a:pt x="2469" y="1722"/>
                  </a:lnTo>
                  <a:lnTo>
                    <a:pt x="2485" y="1659"/>
                  </a:lnTo>
                  <a:lnTo>
                    <a:pt x="2497" y="1596"/>
                  </a:lnTo>
                  <a:lnTo>
                    <a:pt x="2506" y="1534"/>
                  </a:lnTo>
                  <a:lnTo>
                    <a:pt x="2511" y="1471"/>
                  </a:lnTo>
                  <a:lnTo>
                    <a:pt x="2513" y="1409"/>
                  </a:lnTo>
                  <a:lnTo>
                    <a:pt x="2512" y="1357"/>
                  </a:lnTo>
                  <a:lnTo>
                    <a:pt x="2558" y="1321"/>
                  </a:lnTo>
                  <a:lnTo>
                    <a:pt x="2600" y="1282"/>
                  </a:lnTo>
                  <a:lnTo>
                    <a:pt x="2641" y="1240"/>
                  </a:lnTo>
                  <a:lnTo>
                    <a:pt x="2677" y="1195"/>
                  </a:lnTo>
                  <a:lnTo>
                    <a:pt x="2711" y="1148"/>
                  </a:lnTo>
                  <a:lnTo>
                    <a:pt x="2657" y="1170"/>
                  </a:lnTo>
                  <a:lnTo>
                    <a:pt x="2600" y="1188"/>
                  </a:lnTo>
                  <a:lnTo>
                    <a:pt x="2542" y="1201"/>
                  </a:lnTo>
                  <a:lnTo>
                    <a:pt x="2482" y="1211"/>
                  </a:lnTo>
                  <a:lnTo>
                    <a:pt x="2522" y="1184"/>
                  </a:lnTo>
                  <a:lnTo>
                    <a:pt x="2558" y="1152"/>
                  </a:lnTo>
                  <a:lnTo>
                    <a:pt x="2589" y="1116"/>
                  </a:lnTo>
                  <a:lnTo>
                    <a:pt x="2618" y="1076"/>
                  </a:lnTo>
                  <a:lnTo>
                    <a:pt x="2641" y="1033"/>
                  </a:lnTo>
                  <a:lnTo>
                    <a:pt x="2658" y="987"/>
                  </a:lnTo>
                  <a:lnTo>
                    <a:pt x="2598" y="1020"/>
                  </a:lnTo>
                  <a:lnTo>
                    <a:pt x="2536" y="1046"/>
                  </a:lnTo>
                  <a:lnTo>
                    <a:pt x="2471" y="1068"/>
                  </a:lnTo>
                  <a:lnTo>
                    <a:pt x="2404" y="1085"/>
                  </a:lnTo>
                  <a:lnTo>
                    <a:pt x="2371" y="1053"/>
                  </a:lnTo>
                  <a:lnTo>
                    <a:pt x="2334" y="1025"/>
                  </a:lnTo>
                  <a:lnTo>
                    <a:pt x="2295" y="1002"/>
                  </a:lnTo>
                  <a:lnTo>
                    <a:pt x="2253" y="984"/>
                  </a:lnTo>
                  <a:lnTo>
                    <a:pt x="2207" y="969"/>
                  </a:lnTo>
                  <a:lnTo>
                    <a:pt x="2160" y="961"/>
                  </a:lnTo>
                  <a:lnTo>
                    <a:pt x="2112" y="957"/>
                  </a:lnTo>
                  <a:close/>
                  <a:moveTo>
                    <a:pt x="1738" y="0"/>
                  </a:moveTo>
                  <a:lnTo>
                    <a:pt x="1847" y="5"/>
                  </a:lnTo>
                  <a:lnTo>
                    <a:pt x="1955" y="15"/>
                  </a:lnTo>
                  <a:lnTo>
                    <a:pt x="2060" y="31"/>
                  </a:lnTo>
                  <a:lnTo>
                    <a:pt x="2165" y="54"/>
                  </a:lnTo>
                  <a:lnTo>
                    <a:pt x="2266" y="84"/>
                  </a:lnTo>
                  <a:lnTo>
                    <a:pt x="2365" y="119"/>
                  </a:lnTo>
                  <a:lnTo>
                    <a:pt x="2460" y="161"/>
                  </a:lnTo>
                  <a:lnTo>
                    <a:pt x="2554" y="207"/>
                  </a:lnTo>
                  <a:lnTo>
                    <a:pt x="2643" y="259"/>
                  </a:lnTo>
                  <a:lnTo>
                    <a:pt x="2729" y="316"/>
                  </a:lnTo>
                  <a:lnTo>
                    <a:pt x="2811" y="379"/>
                  </a:lnTo>
                  <a:lnTo>
                    <a:pt x="2890" y="445"/>
                  </a:lnTo>
                  <a:lnTo>
                    <a:pt x="2965" y="516"/>
                  </a:lnTo>
                  <a:lnTo>
                    <a:pt x="3035" y="592"/>
                  </a:lnTo>
                  <a:lnTo>
                    <a:pt x="3101" y="671"/>
                  </a:lnTo>
                  <a:lnTo>
                    <a:pt x="3163" y="755"/>
                  </a:lnTo>
                  <a:lnTo>
                    <a:pt x="3220" y="843"/>
                  </a:lnTo>
                  <a:lnTo>
                    <a:pt x="3271" y="933"/>
                  </a:lnTo>
                  <a:lnTo>
                    <a:pt x="3316" y="1028"/>
                  </a:lnTo>
                  <a:lnTo>
                    <a:pt x="3358" y="1124"/>
                  </a:lnTo>
                  <a:lnTo>
                    <a:pt x="3393" y="1225"/>
                  </a:lnTo>
                  <a:lnTo>
                    <a:pt x="3422" y="1327"/>
                  </a:lnTo>
                  <a:lnTo>
                    <a:pt x="3445" y="1431"/>
                  </a:lnTo>
                  <a:lnTo>
                    <a:pt x="3461" y="1539"/>
                  </a:lnTo>
                  <a:lnTo>
                    <a:pt x="3471" y="1648"/>
                  </a:lnTo>
                  <a:lnTo>
                    <a:pt x="3474" y="1759"/>
                  </a:lnTo>
                  <a:lnTo>
                    <a:pt x="3471" y="1870"/>
                  </a:lnTo>
                  <a:lnTo>
                    <a:pt x="3461" y="1979"/>
                  </a:lnTo>
                  <a:lnTo>
                    <a:pt x="3445" y="2087"/>
                  </a:lnTo>
                  <a:lnTo>
                    <a:pt x="3422" y="2191"/>
                  </a:lnTo>
                  <a:lnTo>
                    <a:pt x="3393" y="2294"/>
                  </a:lnTo>
                  <a:lnTo>
                    <a:pt x="3358" y="2394"/>
                  </a:lnTo>
                  <a:lnTo>
                    <a:pt x="3316" y="2491"/>
                  </a:lnTo>
                  <a:lnTo>
                    <a:pt x="3271" y="2585"/>
                  </a:lnTo>
                  <a:lnTo>
                    <a:pt x="3220" y="2675"/>
                  </a:lnTo>
                  <a:lnTo>
                    <a:pt x="3163" y="2763"/>
                  </a:lnTo>
                  <a:lnTo>
                    <a:pt x="3101" y="2847"/>
                  </a:lnTo>
                  <a:lnTo>
                    <a:pt x="3035" y="2926"/>
                  </a:lnTo>
                  <a:lnTo>
                    <a:pt x="2965" y="3002"/>
                  </a:lnTo>
                  <a:lnTo>
                    <a:pt x="2890" y="3074"/>
                  </a:lnTo>
                  <a:lnTo>
                    <a:pt x="2811" y="3140"/>
                  </a:lnTo>
                  <a:lnTo>
                    <a:pt x="2729" y="3202"/>
                  </a:lnTo>
                  <a:lnTo>
                    <a:pt x="2643" y="3260"/>
                  </a:lnTo>
                  <a:lnTo>
                    <a:pt x="2554" y="3311"/>
                  </a:lnTo>
                  <a:lnTo>
                    <a:pt x="2460" y="3357"/>
                  </a:lnTo>
                  <a:lnTo>
                    <a:pt x="2365" y="3399"/>
                  </a:lnTo>
                  <a:lnTo>
                    <a:pt x="2266" y="3434"/>
                  </a:lnTo>
                  <a:lnTo>
                    <a:pt x="2165" y="3464"/>
                  </a:lnTo>
                  <a:lnTo>
                    <a:pt x="2060" y="3487"/>
                  </a:lnTo>
                  <a:lnTo>
                    <a:pt x="1955" y="3504"/>
                  </a:lnTo>
                  <a:lnTo>
                    <a:pt x="1847" y="3514"/>
                  </a:lnTo>
                  <a:lnTo>
                    <a:pt x="1738" y="3518"/>
                  </a:lnTo>
                  <a:lnTo>
                    <a:pt x="1628" y="3514"/>
                  </a:lnTo>
                  <a:lnTo>
                    <a:pt x="1519" y="3504"/>
                  </a:lnTo>
                  <a:lnTo>
                    <a:pt x="1414" y="3487"/>
                  </a:lnTo>
                  <a:lnTo>
                    <a:pt x="1310" y="3464"/>
                  </a:lnTo>
                  <a:lnTo>
                    <a:pt x="1208" y="3434"/>
                  </a:lnTo>
                  <a:lnTo>
                    <a:pt x="1110" y="3399"/>
                  </a:lnTo>
                  <a:lnTo>
                    <a:pt x="1014" y="3357"/>
                  </a:lnTo>
                  <a:lnTo>
                    <a:pt x="921" y="3311"/>
                  </a:lnTo>
                  <a:lnTo>
                    <a:pt x="831" y="3260"/>
                  </a:lnTo>
                  <a:lnTo>
                    <a:pt x="745" y="3202"/>
                  </a:lnTo>
                  <a:lnTo>
                    <a:pt x="663" y="3140"/>
                  </a:lnTo>
                  <a:lnTo>
                    <a:pt x="585" y="3074"/>
                  </a:lnTo>
                  <a:lnTo>
                    <a:pt x="510" y="3002"/>
                  </a:lnTo>
                  <a:lnTo>
                    <a:pt x="439" y="2926"/>
                  </a:lnTo>
                  <a:lnTo>
                    <a:pt x="373" y="2847"/>
                  </a:lnTo>
                  <a:lnTo>
                    <a:pt x="312" y="2763"/>
                  </a:lnTo>
                  <a:lnTo>
                    <a:pt x="255" y="2675"/>
                  </a:lnTo>
                  <a:lnTo>
                    <a:pt x="204" y="2585"/>
                  </a:lnTo>
                  <a:lnTo>
                    <a:pt x="157" y="2491"/>
                  </a:lnTo>
                  <a:lnTo>
                    <a:pt x="117" y="2394"/>
                  </a:lnTo>
                  <a:lnTo>
                    <a:pt x="83" y="2294"/>
                  </a:lnTo>
                  <a:lnTo>
                    <a:pt x="53" y="2191"/>
                  </a:lnTo>
                  <a:lnTo>
                    <a:pt x="30" y="2087"/>
                  </a:lnTo>
                  <a:lnTo>
                    <a:pt x="14" y="1979"/>
                  </a:lnTo>
                  <a:lnTo>
                    <a:pt x="3" y="1870"/>
                  </a:lnTo>
                  <a:lnTo>
                    <a:pt x="0" y="1759"/>
                  </a:lnTo>
                  <a:lnTo>
                    <a:pt x="3" y="1648"/>
                  </a:lnTo>
                  <a:lnTo>
                    <a:pt x="14" y="1539"/>
                  </a:lnTo>
                  <a:lnTo>
                    <a:pt x="30" y="1431"/>
                  </a:lnTo>
                  <a:lnTo>
                    <a:pt x="53" y="1327"/>
                  </a:lnTo>
                  <a:lnTo>
                    <a:pt x="83" y="1225"/>
                  </a:lnTo>
                  <a:lnTo>
                    <a:pt x="117" y="1124"/>
                  </a:lnTo>
                  <a:lnTo>
                    <a:pt x="157" y="1028"/>
                  </a:lnTo>
                  <a:lnTo>
                    <a:pt x="204" y="933"/>
                  </a:lnTo>
                  <a:lnTo>
                    <a:pt x="255" y="843"/>
                  </a:lnTo>
                  <a:lnTo>
                    <a:pt x="312" y="755"/>
                  </a:lnTo>
                  <a:lnTo>
                    <a:pt x="373" y="671"/>
                  </a:lnTo>
                  <a:lnTo>
                    <a:pt x="439" y="592"/>
                  </a:lnTo>
                  <a:lnTo>
                    <a:pt x="510" y="516"/>
                  </a:lnTo>
                  <a:lnTo>
                    <a:pt x="585" y="445"/>
                  </a:lnTo>
                  <a:lnTo>
                    <a:pt x="663" y="379"/>
                  </a:lnTo>
                  <a:lnTo>
                    <a:pt x="745" y="316"/>
                  </a:lnTo>
                  <a:lnTo>
                    <a:pt x="831" y="259"/>
                  </a:lnTo>
                  <a:lnTo>
                    <a:pt x="921" y="207"/>
                  </a:lnTo>
                  <a:lnTo>
                    <a:pt x="1014" y="161"/>
                  </a:lnTo>
                  <a:lnTo>
                    <a:pt x="1110" y="119"/>
                  </a:lnTo>
                  <a:lnTo>
                    <a:pt x="1208" y="84"/>
                  </a:lnTo>
                  <a:lnTo>
                    <a:pt x="1310" y="54"/>
                  </a:lnTo>
                  <a:lnTo>
                    <a:pt x="1414" y="31"/>
                  </a:lnTo>
                  <a:lnTo>
                    <a:pt x="1519" y="15"/>
                  </a:lnTo>
                  <a:lnTo>
                    <a:pt x="1628" y="5"/>
                  </a:lnTo>
                  <a:lnTo>
                    <a:pt x="1738"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4" name="Freeform 6"/>
            <p:cNvSpPr/>
            <p:nvPr/>
          </p:nvSpPr>
          <p:spPr>
            <a:xfrm>
              <a:off x="9633600" y="4973760"/>
              <a:ext cx="277200" cy="281880"/>
            </a:xfrm>
            <a:custGeom>
              <a:avLst/>
              <a:gdLst/>
              <a:ahLst/>
              <a:rect l="l" t="t" r="r" b="b"/>
              <a:pathLst>
                <a:path w="3263" h="3314">
                  <a:moveTo>
                    <a:pt x="1776" y="753"/>
                  </a:moveTo>
                  <a:lnTo>
                    <a:pt x="1729" y="754"/>
                  </a:lnTo>
                  <a:lnTo>
                    <a:pt x="1686" y="759"/>
                  </a:lnTo>
                  <a:lnTo>
                    <a:pt x="1646" y="769"/>
                  </a:lnTo>
                  <a:lnTo>
                    <a:pt x="1610" y="780"/>
                  </a:lnTo>
                  <a:lnTo>
                    <a:pt x="1577" y="794"/>
                  </a:lnTo>
                  <a:lnTo>
                    <a:pt x="1547" y="810"/>
                  </a:lnTo>
                  <a:lnTo>
                    <a:pt x="1521" y="829"/>
                  </a:lnTo>
                  <a:lnTo>
                    <a:pt x="1496" y="850"/>
                  </a:lnTo>
                  <a:lnTo>
                    <a:pt x="1475" y="871"/>
                  </a:lnTo>
                  <a:lnTo>
                    <a:pt x="1456" y="895"/>
                  </a:lnTo>
                  <a:lnTo>
                    <a:pt x="1439" y="920"/>
                  </a:lnTo>
                  <a:lnTo>
                    <a:pt x="1426" y="946"/>
                  </a:lnTo>
                  <a:lnTo>
                    <a:pt x="1413" y="973"/>
                  </a:lnTo>
                  <a:lnTo>
                    <a:pt x="1403" y="1000"/>
                  </a:lnTo>
                  <a:lnTo>
                    <a:pt x="1395" y="1027"/>
                  </a:lnTo>
                  <a:lnTo>
                    <a:pt x="1389" y="1054"/>
                  </a:lnTo>
                  <a:lnTo>
                    <a:pt x="1384" y="1081"/>
                  </a:lnTo>
                  <a:lnTo>
                    <a:pt x="1381" y="1107"/>
                  </a:lnTo>
                  <a:lnTo>
                    <a:pt x="1379" y="1132"/>
                  </a:lnTo>
                  <a:lnTo>
                    <a:pt x="1379" y="1156"/>
                  </a:lnTo>
                  <a:lnTo>
                    <a:pt x="1379" y="1376"/>
                  </a:lnTo>
                  <a:lnTo>
                    <a:pt x="1192" y="1376"/>
                  </a:lnTo>
                  <a:lnTo>
                    <a:pt x="1192" y="1715"/>
                  </a:lnTo>
                  <a:lnTo>
                    <a:pt x="1379" y="1715"/>
                  </a:lnTo>
                  <a:lnTo>
                    <a:pt x="1379" y="2676"/>
                  </a:lnTo>
                  <a:lnTo>
                    <a:pt x="1772" y="2676"/>
                  </a:lnTo>
                  <a:lnTo>
                    <a:pt x="1772" y="1715"/>
                  </a:lnTo>
                  <a:lnTo>
                    <a:pt x="2037" y="1715"/>
                  </a:lnTo>
                  <a:lnTo>
                    <a:pt x="2072" y="1376"/>
                  </a:lnTo>
                  <a:lnTo>
                    <a:pt x="1772" y="1376"/>
                  </a:lnTo>
                  <a:lnTo>
                    <a:pt x="1772" y="1176"/>
                  </a:lnTo>
                  <a:lnTo>
                    <a:pt x="1774" y="1153"/>
                  </a:lnTo>
                  <a:lnTo>
                    <a:pt x="1779" y="1135"/>
                  </a:lnTo>
                  <a:lnTo>
                    <a:pt x="1786" y="1119"/>
                  </a:lnTo>
                  <a:lnTo>
                    <a:pt x="1795" y="1107"/>
                  </a:lnTo>
                  <a:lnTo>
                    <a:pt x="1806" y="1097"/>
                  </a:lnTo>
                  <a:lnTo>
                    <a:pt x="1819" y="1091"/>
                  </a:lnTo>
                  <a:lnTo>
                    <a:pt x="1831" y="1087"/>
                  </a:lnTo>
                  <a:lnTo>
                    <a:pt x="1843" y="1085"/>
                  </a:lnTo>
                  <a:lnTo>
                    <a:pt x="1855" y="1084"/>
                  </a:lnTo>
                  <a:lnTo>
                    <a:pt x="2066" y="1084"/>
                  </a:lnTo>
                  <a:lnTo>
                    <a:pt x="2066" y="754"/>
                  </a:lnTo>
                  <a:lnTo>
                    <a:pt x="1776" y="753"/>
                  </a:lnTo>
                  <a:close/>
                  <a:moveTo>
                    <a:pt x="1632" y="0"/>
                  </a:moveTo>
                  <a:lnTo>
                    <a:pt x="1735" y="4"/>
                  </a:lnTo>
                  <a:lnTo>
                    <a:pt x="1836" y="13"/>
                  </a:lnTo>
                  <a:lnTo>
                    <a:pt x="1935" y="29"/>
                  </a:lnTo>
                  <a:lnTo>
                    <a:pt x="2033" y="51"/>
                  </a:lnTo>
                  <a:lnTo>
                    <a:pt x="2128" y="79"/>
                  </a:lnTo>
                  <a:lnTo>
                    <a:pt x="2221" y="112"/>
                  </a:lnTo>
                  <a:lnTo>
                    <a:pt x="2310" y="151"/>
                  </a:lnTo>
                  <a:lnTo>
                    <a:pt x="2398" y="195"/>
                  </a:lnTo>
                  <a:lnTo>
                    <a:pt x="2482" y="243"/>
                  </a:lnTo>
                  <a:lnTo>
                    <a:pt x="2562" y="297"/>
                  </a:lnTo>
                  <a:lnTo>
                    <a:pt x="2640" y="356"/>
                  </a:lnTo>
                  <a:lnTo>
                    <a:pt x="2715" y="418"/>
                  </a:lnTo>
                  <a:lnTo>
                    <a:pt x="2785" y="486"/>
                  </a:lnTo>
                  <a:lnTo>
                    <a:pt x="2850" y="557"/>
                  </a:lnTo>
                  <a:lnTo>
                    <a:pt x="2912" y="632"/>
                  </a:lnTo>
                  <a:lnTo>
                    <a:pt x="2971" y="711"/>
                  </a:lnTo>
                  <a:lnTo>
                    <a:pt x="3024" y="794"/>
                  </a:lnTo>
                  <a:lnTo>
                    <a:pt x="3072" y="879"/>
                  </a:lnTo>
                  <a:lnTo>
                    <a:pt x="3115" y="968"/>
                  </a:lnTo>
                  <a:lnTo>
                    <a:pt x="3153" y="1059"/>
                  </a:lnTo>
                  <a:lnTo>
                    <a:pt x="3186" y="1153"/>
                  </a:lnTo>
                  <a:lnTo>
                    <a:pt x="3214" y="1250"/>
                  </a:lnTo>
                  <a:lnTo>
                    <a:pt x="3235" y="1348"/>
                  </a:lnTo>
                  <a:lnTo>
                    <a:pt x="3250" y="1450"/>
                  </a:lnTo>
                  <a:lnTo>
                    <a:pt x="3259" y="1552"/>
                  </a:lnTo>
                  <a:lnTo>
                    <a:pt x="3263" y="1657"/>
                  </a:lnTo>
                  <a:lnTo>
                    <a:pt x="3259" y="1762"/>
                  </a:lnTo>
                  <a:lnTo>
                    <a:pt x="3250" y="1864"/>
                  </a:lnTo>
                  <a:lnTo>
                    <a:pt x="3235" y="1966"/>
                  </a:lnTo>
                  <a:lnTo>
                    <a:pt x="3214" y="2064"/>
                  </a:lnTo>
                  <a:lnTo>
                    <a:pt x="3186" y="2161"/>
                  </a:lnTo>
                  <a:lnTo>
                    <a:pt x="3153" y="2255"/>
                  </a:lnTo>
                  <a:lnTo>
                    <a:pt x="3115" y="2346"/>
                  </a:lnTo>
                  <a:lnTo>
                    <a:pt x="3072" y="2435"/>
                  </a:lnTo>
                  <a:lnTo>
                    <a:pt x="3024" y="2520"/>
                  </a:lnTo>
                  <a:lnTo>
                    <a:pt x="2971" y="2603"/>
                  </a:lnTo>
                  <a:lnTo>
                    <a:pt x="2912" y="2682"/>
                  </a:lnTo>
                  <a:lnTo>
                    <a:pt x="2850" y="2757"/>
                  </a:lnTo>
                  <a:lnTo>
                    <a:pt x="2785" y="2828"/>
                  </a:lnTo>
                  <a:lnTo>
                    <a:pt x="2715" y="2895"/>
                  </a:lnTo>
                  <a:lnTo>
                    <a:pt x="2640" y="2958"/>
                  </a:lnTo>
                  <a:lnTo>
                    <a:pt x="2562" y="3017"/>
                  </a:lnTo>
                  <a:lnTo>
                    <a:pt x="2482" y="3071"/>
                  </a:lnTo>
                  <a:lnTo>
                    <a:pt x="2398" y="3119"/>
                  </a:lnTo>
                  <a:lnTo>
                    <a:pt x="2310" y="3163"/>
                  </a:lnTo>
                  <a:lnTo>
                    <a:pt x="2221" y="3202"/>
                  </a:lnTo>
                  <a:lnTo>
                    <a:pt x="2128" y="3235"/>
                  </a:lnTo>
                  <a:lnTo>
                    <a:pt x="2033" y="3263"/>
                  </a:lnTo>
                  <a:lnTo>
                    <a:pt x="1935" y="3285"/>
                  </a:lnTo>
                  <a:lnTo>
                    <a:pt x="1836" y="3301"/>
                  </a:lnTo>
                  <a:lnTo>
                    <a:pt x="1735" y="3310"/>
                  </a:lnTo>
                  <a:lnTo>
                    <a:pt x="1632" y="3314"/>
                  </a:lnTo>
                  <a:lnTo>
                    <a:pt x="1529" y="3310"/>
                  </a:lnTo>
                  <a:lnTo>
                    <a:pt x="1427" y="3301"/>
                  </a:lnTo>
                  <a:lnTo>
                    <a:pt x="1328" y="3285"/>
                  </a:lnTo>
                  <a:lnTo>
                    <a:pt x="1231" y="3263"/>
                  </a:lnTo>
                  <a:lnTo>
                    <a:pt x="1135" y="3235"/>
                  </a:lnTo>
                  <a:lnTo>
                    <a:pt x="1043" y="3202"/>
                  </a:lnTo>
                  <a:lnTo>
                    <a:pt x="952" y="3163"/>
                  </a:lnTo>
                  <a:lnTo>
                    <a:pt x="865" y="3119"/>
                  </a:lnTo>
                  <a:lnTo>
                    <a:pt x="781" y="3071"/>
                  </a:lnTo>
                  <a:lnTo>
                    <a:pt x="700" y="3017"/>
                  </a:lnTo>
                  <a:lnTo>
                    <a:pt x="622" y="2958"/>
                  </a:lnTo>
                  <a:lnTo>
                    <a:pt x="549" y="2895"/>
                  </a:lnTo>
                  <a:lnTo>
                    <a:pt x="479" y="2828"/>
                  </a:lnTo>
                  <a:lnTo>
                    <a:pt x="412" y="2757"/>
                  </a:lnTo>
                  <a:lnTo>
                    <a:pt x="350" y="2682"/>
                  </a:lnTo>
                  <a:lnTo>
                    <a:pt x="293" y="2603"/>
                  </a:lnTo>
                  <a:lnTo>
                    <a:pt x="240" y="2520"/>
                  </a:lnTo>
                  <a:lnTo>
                    <a:pt x="192" y="2435"/>
                  </a:lnTo>
                  <a:lnTo>
                    <a:pt x="148" y="2346"/>
                  </a:lnTo>
                  <a:lnTo>
                    <a:pt x="110" y="2255"/>
                  </a:lnTo>
                  <a:lnTo>
                    <a:pt x="78" y="2161"/>
                  </a:lnTo>
                  <a:lnTo>
                    <a:pt x="50" y="2064"/>
                  </a:lnTo>
                  <a:lnTo>
                    <a:pt x="29" y="1966"/>
                  </a:lnTo>
                  <a:lnTo>
                    <a:pt x="13" y="1864"/>
                  </a:lnTo>
                  <a:lnTo>
                    <a:pt x="3" y="1762"/>
                  </a:lnTo>
                  <a:lnTo>
                    <a:pt x="0" y="1657"/>
                  </a:lnTo>
                  <a:lnTo>
                    <a:pt x="3" y="1552"/>
                  </a:lnTo>
                  <a:lnTo>
                    <a:pt x="13" y="1450"/>
                  </a:lnTo>
                  <a:lnTo>
                    <a:pt x="29" y="1348"/>
                  </a:lnTo>
                  <a:lnTo>
                    <a:pt x="50" y="1250"/>
                  </a:lnTo>
                  <a:lnTo>
                    <a:pt x="78" y="1153"/>
                  </a:lnTo>
                  <a:lnTo>
                    <a:pt x="110" y="1059"/>
                  </a:lnTo>
                  <a:lnTo>
                    <a:pt x="148" y="968"/>
                  </a:lnTo>
                  <a:lnTo>
                    <a:pt x="192" y="879"/>
                  </a:lnTo>
                  <a:lnTo>
                    <a:pt x="240" y="794"/>
                  </a:lnTo>
                  <a:lnTo>
                    <a:pt x="293" y="711"/>
                  </a:lnTo>
                  <a:lnTo>
                    <a:pt x="350" y="632"/>
                  </a:lnTo>
                  <a:lnTo>
                    <a:pt x="412" y="557"/>
                  </a:lnTo>
                  <a:lnTo>
                    <a:pt x="479" y="486"/>
                  </a:lnTo>
                  <a:lnTo>
                    <a:pt x="549" y="418"/>
                  </a:lnTo>
                  <a:lnTo>
                    <a:pt x="622" y="356"/>
                  </a:lnTo>
                  <a:lnTo>
                    <a:pt x="700" y="297"/>
                  </a:lnTo>
                  <a:lnTo>
                    <a:pt x="781" y="243"/>
                  </a:lnTo>
                  <a:lnTo>
                    <a:pt x="865" y="195"/>
                  </a:lnTo>
                  <a:lnTo>
                    <a:pt x="952" y="151"/>
                  </a:lnTo>
                  <a:lnTo>
                    <a:pt x="1043" y="112"/>
                  </a:lnTo>
                  <a:lnTo>
                    <a:pt x="1135" y="79"/>
                  </a:lnTo>
                  <a:lnTo>
                    <a:pt x="1231" y="51"/>
                  </a:lnTo>
                  <a:lnTo>
                    <a:pt x="1328" y="29"/>
                  </a:lnTo>
                  <a:lnTo>
                    <a:pt x="1427" y="13"/>
                  </a:lnTo>
                  <a:lnTo>
                    <a:pt x="1529" y="4"/>
                  </a:lnTo>
                  <a:lnTo>
                    <a:pt x="1632" y="0"/>
                  </a:lnTo>
                  <a:close/>
                </a:path>
              </a:pathLst>
            </a:custGeom>
            <a:solidFill>
              <a:srgbClr val="da10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5" name="Chart 1" descr=""/>
          <p:cNvPicPr/>
          <p:nvPr/>
        </p:nvPicPr>
        <p:blipFill>
          <a:blip r:embed="rId1"/>
          <a:stretch/>
        </p:blipFill>
        <p:spPr>
          <a:xfrm>
            <a:off x="627120" y="2265480"/>
            <a:ext cx="6491160" cy="3938400"/>
          </a:xfrm>
          <a:prstGeom prst="rect">
            <a:avLst/>
          </a:prstGeom>
          <a:ln w="0">
            <a:noFill/>
          </a:ln>
        </p:spPr>
      </p:pic>
      <p:sp>
        <p:nvSpPr>
          <p:cNvPr id="536" name="Title 1"/>
          <p:cNvSpPr/>
          <p:nvPr/>
        </p:nvSpPr>
        <p:spPr>
          <a:xfrm>
            <a:off x="1130400" y="677880"/>
            <a:ext cx="9931320" cy="98892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Montserrat Medium"/>
                <a:ea typeface="Open Sans"/>
              </a:rPr>
              <a:t>Infographic</a:t>
            </a:r>
            <a:endParaRPr b="0" lang="en-US" sz="4400" spc="-1" strike="noStrike">
              <a:solidFill>
                <a:srgbClr val="000000"/>
              </a:solidFill>
              <a:latin typeface="Calibri"/>
            </a:endParaRPr>
          </a:p>
        </p:txBody>
      </p:sp>
      <p:sp>
        <p:nvSpPr>
          <p:cNvPr id="537" name="TextBox 15"/>
          <p:cNvSpPr/>
          <p:nvPr/>
        </p:nvSpPr>
        <p:spPr>
          <a:xfrm>
            <a:off x="7481880" y="3424320"/>
            <a:ext cx="267660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262626"/>
                </a:solidFill>
                <a:latin typeface="Lato"/>
                <a:ea typeface="Lato"/>
              </a:rPr>
              <a:t>Aliqu</a:t>
            </a:r>
            <a:r>
              <a:rPr b="0" lang="en-US" sz="1000" spc="-1" strike="noStrike">
                <a:solidFill>
                  <a:srgbClr val="262626"/>
                </a:solidFill>
                <a:latin typeface="Lato"/>
                <a:ea typeface="Lato"/>
              </a:rPr>
              <a:t>a</a:t>
            </a:r>
            <a:r>
              <a:rPr b="0" lang="id-ID" sz="1000" spc="-1" strike="noStrike">
                <a:solidFill>
                  <a:srgbClr val="262626"/>
                </a:solidFill>
                <a:latin typeface="Lato"/>
                <a:ea typeface="Lato"/>
              </a:rPr>
              <a:t>et nibh praesent tristique magna sit amet. Risus pretium quam vulputate dignissim. Enim</a:t>
            </a:r>
            <a:r>
              <a:rPr b="0" lang="en-US" sz="1000" spc="-1" strike="noStrike">
                <a:solidFill>
                  <a:srgbClr val="262626"/>
                </a:solidFill>
                <a:latin typeface="Lato"/>
                <a:ea typeface="Lato"/>
              </a:rPr>
              <a:t>agi</a:t>
            </a:r>
            <a:r>
              <a:rPr b="0" lang="id-ID" sz="1000" spc="-1" strike="noStrike">
                <a:solidFill>
                  <a:srgbClr val="262626"/>
                </a:solidFill>
                <a:latin typeface="Lato"/>
                <a:ea typeface="Lato"/>
              </a:rPr>
              <a:t> </a:t>
            </a:r>
            <a:r>
              <a:rPr b="0" lang="en-US" sz="1000" spc="-1" strike="noStrike">
                <a:solidFill>
                  <a:srgbClr val="262626"/>
                </a:solidFill>
                <a:latin typeface="Lato"/>
                <a:ea typeface="Lato"/>
              </a:rPr>
              <a:t>ci</a:t>
            </a:r>
            <a:r>
              <a:rPr b="0" lang="id-ID" sz="1000" spc="-1" strike="noStrike">
                <a:solidFill>
                  <a:srgbClr val="262626"/>
                </a:solidFill>
                <a:latin typeface="Lato"/>
                <a:ea typeface="Lato"/>
              </a:rPr>
              <a:t>nec</a:t>
            </a:r>
            <a:endParaRPr b="0" lang="en-US" sz="1000" spc="-1" strike="noStrike">
              <a:solidFill>
                <a:srgbClr val="000000"/>
              </a:solidFill>
              <a:latin typeface="Calibri"/>
            </a:endParaRPr>
          </a:p>
        </p:txBody>
      </p:sp>
      <p:sp>
        <p:nvSpPr>
          <p:cNvPr id="538" name="TextBox 16"/>
          <p:cNvSpPr/>
          <p:nvPr/>
        </p:nvSpPr>
        <p:spPr>
          <a:xfrm>
            <a:off x="7481880" y="3049560"/>
            <a:ext cx="2676600" cy="413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Roboto"/>
                <a:ea typeface="Times New Roman"/>
              </a:rPr>
              <a:t>Emulate Other</a:t>
            </a:r>
            <a:endParaRPr b="0" lang="en-US" sz="1400" spc="-1" strike="noStrike">
              <a:solidFill>
                <a:srgbClr val="000000"/>
              </a:solidFill>
              <a:latin typeface="Calibri"/>
            </a:endParaRPr>
          </a:p>
        </p:txBody>
      </p:sp>
      <p:sp>
        <p:nvSpPr>
          <p:cNvPr id="539" name="TextBox 17"/>
          <p:cNvSpPr/>
          <p:nvPr/>
        </p:nvSpPr>
        <p:spPr>
          <a:xfrm>
            <a:off x="7481880" y="4807080"/>
            <a:ext cx="267660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262626"/>
                </a:solidFill>
                <a:latin typeface="Lato"/>
                <a:ea typeface="Lato"/>
              </a:rPr>
              <a:t>Aliqu</a:t>
            </a:r>
            <a:r>
              <a:rPr b="0" lang="en-US" sz="1000" spc="-1" strike="noStrike">
                <a:solidFill>
                  <a:srgbClr val="262626"/>
                </a:solidFill>
                <a:latin typeface="Lato"/>
                <a:ea typeface="Lato"/>
              </a:rPr>
              <a:t>a</a:t>
            </a:r>
            <a:r>
              <a:rPr b="0" lang="id-ID" sz="1000" spc="-1" strike="noStrike">
                <a:solidFill>
                  <a:srgbClr val="262626"/>
                </a:solidFill>
                <a:latin typeface="Lato"/>
                <a:ea typeface="Lato"/>
              </a:rPr>
              <a:t>et nibh praesent tristique magna sit amet. Risus pretium quam vulputate dignissim. Enim</a:t>
            </a:r>
            <a:r>
              <a:rPr b="0" lang="en-US" sz="1000" spc="-1" strike="noStrike">
                <a:solidFill>
                  <a:srgbClr val="262626"/>
                </a:solidFill>
                <a:latin typeface="Lato"/>
                <a:ea typeface="Lato"/>
              </a:rPr>
              <a:t>agi</a:t>
            </a:r>
            <a:r>
              <a:rPr b="0" lang="id-ID" sz="1000" spc="-1" strike="noStrike">
                <a:solidFill>
                  <a:srgbClr val="262626"/>
                </a:solidFill>
                <a:latin typeface="Lato"/>
                <a:ea typeface="Lato"/>
              </a:rPr>
              <a:t> </a:t>
            </a:r>
            <a:r>
              <a:rPr b="0" lang="en-US" sz="1000" spc="-1" strike="noStrike">
                <a:solidFill>
                  <a:srgbClr val="262626"/>
                </a:solidFill>
                <a:latin typeface="Lato"/>
                <a:ea typeface="Lato"/>
              </a:rPr>
              <a:t>ci</a:t>
            </a:r>
            <a:r>
              <a:rPr b="0" lang="id-ID" sz="1000" spc="-1" strike="noStrike">
                <a:solidFill>
                  <a:srgbClr val="262626"/>
                </a:solidFill>
                <a:latin typeface="Lato"/>
                <a:ea typeface="Lato"/>
              </a:rPr>
              <a:t>nec</a:t>
            </a:r>
            <a:endParaRPr b="0" lang="en-US" sz="1000" spc="-1" strike="noStrike">
              <a:solidFill>
                <a:srgbClr val="000000"/>
              </a:solidFill>
              <a:latin typeface="Calibri"/>
            </a:endParaRPr>
          </a:p>
        </p:txBody>
      </p:sp>
      <p:sp>
        <p:nvSpPr>
          <p:cNvPr id="540" name="TextBox 12"/>
          <p:cNvSpPr/>
          <p:nvPr/>
        </p:nvSpPr>
        <p:spPr>
          <a:xfrm>
            <a:off x="7481880" y="4432320"/>
            <a:ext cx="2676600" cy="413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Roboto"/>
                <a:ea typeface="Times New Roman"/>
              </a:rPr>
              <a:t>Be Consisten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TextBox 28"/>
          <p:cNvSpPr/>
          <p:nvPr/>
        </p:nvSpPr>
        <p:spPr>
          <a:xfrm>
            <a:off x="982800" y="3732120"/>
            <a:ext cx="4065480" cy="2148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a:t>
            </a:r>
            <a:endParaRPr b="0" lang="en-US" sz="1000" spc="-1" strike="noStrike">
              <a:solidFill>
                <a:srgbClr val="000000"/>
              </a:solidFill>
              <a:latin typeface="Calibri"/>
            </a:endParaRPr>
          </a:p>
        </p:txBody>
      </p:sp>
      <p:sp>
        <p:nvSpPr>
          <p:cNvPr id="542" name="Title 1"/>
          <p:cNvSpPr/>
          <p:nvPr/>
        </p:nvSpPr>
        <p:spPr>
          <a:xfrm>
            <a:off x="587520" y="1504800"/>
            <a:ext cx="5064120" cy="9907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Montserrat ExtraBold"/>
                <a:ea typeface="Open Sans"/>
              </a:rPr>
              <a:t>Laptop</a:t>
            </a:r>
            <a:endParaRPr b="0" lang="en-US" sz="4800" spc="-1" strike="noStrike">
              <a:solidFill>
                <a:srgbClr val="000000"/>
              </a:solidFill>
              <a:latin typeface="Calibri"/>
            </a:endParaRPr>
          </a:p>
        </p:txBody>
      </p:sp>
      <p:sp>
        <p:nvSpPr>
          <p:cNvPr id="543" name="Title 1"/>
          <p:cNvSpPr/>
          <p:nvPr/>
        </p:nvSpPr>
        <p:spPr>
          <a:xfrm>
            <a:off x="587520" y="2125800"/>
            <a:ext cx="5064120" cy="99036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Montserrat ExtraBold"/>
                <a:ea typeface="Open Sans"/>
              </a:rPr>
              <a:t>Mockup</a:t>
            </a:r>
            <a:endParaRPr b="0" lang="en-US" sz="4800" spc="-1" strike="noStrike">
              <a:solidFill>
                <a:srgbClr val="000000"/>
              </a:solidFill>
              <a:latin typeface="Calibri"/>
            </a:endParaRPr>
          </a:p>
        </p:txBody>
      </p:sp>
      <p:sp>
        <p:nvSpPr>
          <p:cNvPr id="544" name="Title 1"/>
          <p:cNvSpPr/>
          <p:nvPr/>
        </p:nvSpPr>
        <p:spPr>
          <a:xfrm>
            <a:off x="587520" y="2741760"/>
            <a:ext cx="5064120" cy="99036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Montserrat ExtraBold"/>
                <a:ea typeface="Open Sans"/>
              </a:rPr>
              <a:t>Showcase</a:t>
            </a:r>
            <a:endParaRPr b="0" lang="en-US" sz="4800" spc="-1" strike="noStrike">
              <a:solidFill>
                <a:srgbClr val="000000"/>
              </a:solidFill>
              <a:latin typeface="Calibri"/>
            </a:endParaRPr>
          </a:p>
        </p:txBody>
      </p:sp>
      <p:pic>
        <p:nvPicPr>
          <p:cNvPr id="545" name="" descr=""/>
          <p:cNvPicPr/>
          <p:nvPr/>
        </p:nvPicPr>
        <p:blipFill>
          <a:blip r:embed="rId1"/>
          <a:stretch/>
        </p:blipFill>
        <p:spPr>
          <a:xfrm>
            <a:off x="6256440" y="1877760"/>
            <a:ext cx="4489200" cy="2878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Rounded Corners 4"/>
          <p:cNvSpPr/>
          <p:nvPr/>
        </p:nvSpPr>
        <p:spPr>
          <a:xfrm>
            <a:off x="2476440" y="4194000"/>
            <a:ext cx="7239240" cy="744840"/>
          </a:xfrm>
          <a:prstGeom prst="roundRect">
            <a:avLst>
              <a:gd name="adj" fmla="val 16667"/>
            </a:avLst>
          </a:prstGeom>
          <a:solidFill>
            <a:srgbClr val="da108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47" name="Group 5"/>
          <p:cNvGrpSpPr/>
          <p:nvPr/>
        </p:nvGrpSpPr>
        <p:grpSpPr>
          <a:xfrm>
            <a:off x="4964040" y="4370400"/>
            <a:ext cx="362160" cy="363600"/>
            <a:chOff x="4964040" y="4370400"/>
            <a:chExt cx="362160" cy="363600"/>
          </a:xfrm>
        </p:grpSpPr>
        <p:sp>
          <p:nvSpPr>
            <p:cNvPr id="548" name="Oval 6"/>
            <p:cNvSpPr/>
            <p:nvPr/>
          </p:nvSpPr>
          <p:spPr>
            <a:xfrm>
              <a:off x="4964040" y="4370400"/>
              <a:ext cx="362160" cy="36360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9" name="Shape 5019"/>
            <p:cNvSpPr/>
            <p:nvPr/>
          </p:nvSpPr>
          <p:spPr>
            <a:xfrm>
              <a:off x="5071320" y="4479480"/>
              <a:ext cx="147600" cy="147960"/>
            </a:xfrm>
            <a:custGeom>
              <a:avLst/>
              <a:gdLst>
                <a:gd name="textAreaLeft" fmla="*/ 0 w 147600"/>
                <a:gd name="textAreaRight" fmla="*/ 147960 w 147600"/>
                <a:gd name="textAreaTop" fmla="*/ 0 h 147960"/>
                <a:gd name="textAreaBottom" fmla="*/ 148320 h 1479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550" name="Group 8"/>
          <p:cNvGrpSpPr/>
          <p:nvPr/>
        </p:nvGrpSpPr>
        <p:grpSpPr>
          <a:xfrm>
            <a:off x="6865920" y="4370400"/>
            <a:ext cx="361800" cy="363600"/>
            <a:chOff x="6865920" y="4370400"/>
            <a:chExt cx="361800" cy="363600"/>
          </a:xfrm>
        </p:grpSpPr>
        <p:sp>
          <p:nvSpPr>
            <p:cNvPr id="551" name="Oval 9"/>
            <p:cNvSpPr/>
            <p:nvPr/>
          </p:nvSpPr>
          <p:spPr>
            <a:xfrm>
              <a:off x="6865920" y="4370400"/>
              <a:ext cx="361800" cy="36360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2" name="Shape 5020"/>
            <p:cNvSpPr/>
            <p:nvPr/>
          </p:nvSpPr>
          <p:spPr>
            <a:xfrm>
              <a:off x="6973560" y="4492080"/>
              <a:ext cx="146160" cy="120240"/>
            </a:xfrm>
            <a:custGeom>
              <a:avLst/>
              <a:gdLst>
                <a:gd name="textAreaLeft" fmla="*/ 0 w 146160"/>
                <a:gd name="textAreaRight" fmla="*/ 146520 w 146160"/>
                <a:gd name="textAreaTop" fmla="*/ 0 h 120240"/>
                <a:gd name="textAreaBottom" fmla="*/ 120600 h 12024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553" name="Group 11"/>
          <p:cNvGrpSpPr/>
          <p:nvPr/>
        </p:nvGrpSpPr>
        <p:grpSpPr>
          <a:xfrm>
            <a:off x="3189240" y="4370400"/>
            <a:ext cx="355680" cy="355680"/>
            <a:chOff x="3189240" y="4370400"/>
            <a:chExt cx="355680" cy="355680"/>
          </a:xfrm>
        </p:grpSpPr>
        <p:sp>
          <p:nvSpPr>
            <p:cNvPr id="554" name="Oval 12"/>
            <p:cNvSpPr/>
            <p:nvPr/>
          </p:nvSpPr>
          <p:spPr>
            <a:xfrm>
              <a:off x="3189240" y="4370400"/>
              <a:ext cx="355680" cy="35568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5" name="Shape 5030"/>
            <p:cNvSpPr/>
            <p:nvPr/>
          </p:nvSpPr>
          <p:spPr>
            <a:xfrm>
              <a:off x="3281400" y="4493520"/>
              <a:ext cx="171360" cy="117000"/>
            </a:xfrm>
            <a:custGeom>
              <a:avLst/>
              <a:gdLst>
                <a:gd name="textAreaLeft" fmla="*/ 0 w 171360"/>
                <a:gd name="textAreaRight" fmla="*/ 171720 w 171360"/>
                <a:gd name="textAreaTop" fmla="*/ 0 h 117000"/>
                <a:gd name="textAreaBottom" fmla="*/ 117360 h 11700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556" name="TextBox 14"/>
          <p:cNvSpPr/>
          <p:nvPr/>
        </p:nvSpPr>
        <p:spPr>
          <a:xfrm>
            <a:off x="3592440" y="4413240"/>
            <a:ext cx="1324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avorastudio</a:t>
            </a:r>
            <a:endParaRPr b="0" lang="en-US" sz="1100" spc="-1" strike="noStrike">
              <a:solidFill>
                <a:srgbClr val="000000"/>
              </a:solidFill>
              <a:latin typeface="Calibri"/>
            </a:endParaRPr>
          </a:p>
        </p:txBody>
      </p:sp>
      <p:sp>
        <p:nvSpPr>
          <p:cNvPr id="557" name="TextBox 15"/>
          <p:cNvSpPr/>
          <p:nvPr/>
        </p:nvSpPr>
        <p:spPr>
          <a:xfrm>
            <a:off x="5433840" y="4413240"/>
            <a:ext cx="1324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avorastudio</a:t>
            </a:r>
            <a:endParaRPr b="0" lang="en-US" sz="1100" spc="-1" strike="noStrike">
              <a:solidFill>
                <a:srgbClr val="000000"/>
              </a:solidFill>
              <a:latin typeface="Calibri"/>
            </a:endParaRPr>
          </a:p>
        </p:txBody>
      </p:sp>
      <p:sp>
        <p:nvSpPr>
          <p:cNvPr id="558" name="TextBox 16"/>
          <p:cNvSpPr/>
          <p:nvPr/>
        </p:nvSpPr>
        <p:spPr>
          <a:xfrm>
            <a:off x="7335720" y="4421160"/>
            <a:ext cx="1324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avorastudio</a:t>
            </a:r>
            <a:endParaRPr b="0" lang="en-US" sz="1100" spc="-1" strike="noStrike">
              <a:solidFill>
                <a:srgbClr val="000000"/>
              </a:solidFill>
              <a:latin typeface="Calibri"/>
            </a:endParaRPr>
          </a:p>
        </p:txBody>
      </p:sp>
      <p:sp>
        <p:nvSpPr>
          <p:cNvPr id="559" name="Title 1"/>
          <p:cNvSpPr/>
          <p:nvPr/>
        </p:nvSpPr>
        <p:spPr>
          <a:xfrm>
            <a:off x="1449360" y="930240"/>
            <a:ext cx="9293400" cy="98892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262626"/>
                </a:solidFill>
                <a:latin typeface="Montserrat ExtraBold"/>
                <a:ea typeface="Open Sans"/>
              </a:rPr>
              <a:t>Contact Us</a:t>
            </a:r>
            <a:endParaRPr b="0" lang="en-US" sz="7200" spc="-1" strike="noStrike">
              <a:solidFill>
                <a:srgbClr val="000000"/>
              </a:solidFill>
              <a:latin typeface="Calibri"/>
            </a:endParaRPr>
          </a:p>
        </p:txBody>
      </p:sp>
      <p:sp>
        <p:nvSpPr>
          <p:cNvPr id="560" name="TextBox 19"/>
          <p:cNvSpPr/>
          <p:nvPr/>
        </p:nvSpPr>
        <p:spPr>
          <a:xfrm>
            <a:off x="2066760" y="5378400"/>
            <a:ext cx="8058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Montserrat Medium"/>
                <a:ea typeface="Lato Semibold"/>
              </a:rPr>
              <a:t>The meeting of two personalities is like the contact of two chemical substances: if there is any reaction, both are transformed.</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Freeform: Shape 4"/>
          <p:cNvSpPr/>
          <p:nvPr/>
        </p:nvSpPr>
        <p:spPr>
          <a:xfrm flipH="1">
            <a:off x="0" y="0"/>
            <a:ext cx="6913440" cy="6902280"/>
          </a:xfrm>
          <a:custGeom>
            <a:avLst/>
            <a:gdLst/>
            <a:ahLst/>
            <a:rect l="l" t="t" r="r" b="b"/>
            <a:pathLst>
              <a:path w="6743702" h="6887805">
                <a:moveTo>
                  <a:pt x="1775447" y="0"/>
                </a:moveTo>
                <a:lnTo>
                  <a:pt x="6743702" y="0"/>
                </a:lnTo>
                <a:lnTo>
                  <a:pt x="6743702" y="5256463"/>
                </a:lnTo>
                <a:lnTo>
                  <a:pt x="5427988" y="6572177"/>
                </a:lnTo>
                <a:cubicBezTo>
                  <a:pt x="5007146" y="6993015"/>
                  <a:pt x="4324832" y="6993015"/>
                  <a:pt x="3903990" y="6572177"/>
                </a:cubicBezTo>
                <a:lnTo>
                  <a:pt x="315628" y="2983814"/>
                </a:lnTo>
                <a:cubicBezTo>
                  <a:pt x="-105209" y="2562974"/>
                  <a:pt x="-105209" y="1880660"/>
                  <a:pt x="315628" y="1459820"/>
                </a:cubicBezTo>
                <a:lnTo>
                  <a:pt x="1775447" y="0"/>
                </a:lnTo>
                <a:close/>
              </a:path>
            </a:pathLst>
          </a:custGeom>
          <a:solidFill>
            <a:srgbClr val="da108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2" name="TextBox 5"/>
          <p:cNvSpPr/>
          <p:nvPr/>
        </p:nvSpPr>
        <p:spPr>
          <a:xfrm>
            <a:off x="6743880" y="3029040"/>
            <a:ext cx="4979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262626"/>
                </a:solidFill>
                <a:latin typeface="Montserrat ExtraBold"/>
              </a:rPr>
              <a:t>Thank You</a:t>
            </a:r>
            <a:endParaRPr b="0" lang="en-US" sz="6000" spc="-1" strike="noStrike">
              <a:solidFill>
                <a:srgbClr val="000000"/>
              </a:solidFill>
              <a:latin typeface="Calibri"/>
            </a:endParaRPr>
          </a:p>
        </p:txBody>
      </p:sp>
      <p:sp>
        <p:nvSpPr>
          <p:cNvPr id="563" name="TextBox 6"/>
          <p:cNvSpPr/>
          <p:nvPr/>
        </p:nvSpPr>
        <p:spPr>
          <a:xfrm>
            <a:off x="6697440" y="4044960"/>
            <a:ext cx="336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Lato"/>
                <a:ea typeface="Lato"/>
              </a:rPr>
              <a:t>Corporate Presentation Template</a:t>
            </a:r>
            <a:endParaRPr b="0" lang="en-US" sz="1600" spc="-1" strike="noStrike">
              <a:solidFill>
                <a:srgbClr val="000000"/>
              </a:solidFill>
              <a:latin typeface="Calibri"/>
            </a:endParaRPr>
          </a:p>
        </p:txBody>
      </p:sp>
      <p:sp>
        <p:nvSpPr>
          <p:cNvPr id="564" name="TextBox 8"/>
          <p:cNvSpPr/>
          <p:nvPr/>
        </p:nvSpPr>
        <p:spPr>
          <a:xfrm>
            <a:off x="6773760" y="4495680"/>
            <a:ext cx="4950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1010"/>
                </a:solidFill>
                <a:latin typeface="Montserrat Medium"/>
              </a:rPr>
              <a:t>I can only say thank you and thanks also to all of the great songwriters who wrote those wonderful songs that became number one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Shape 5056"/>
          <p:cNvSpPr/>
          <p:nvPr/>
        </p:nvSpPr>
        <p:spPr>
          <a:xfrm>
            <a:off x="8126280" y="2211480"/>
            <a:ext cx="244440" cy="195120"/>
          </a:xfrm>
          <a:custGeom>
            <a:avLst/>
            <a:gdLst>
              <a:gd name="textAreaLeft" fmla="*/ 0 w 244440"/>
              <a:gd name="textAreaRight" fmla="*/ 244800 w 24444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5057"/>
          <p:cNvSpPr/>
          <p:nvPr/>
        </p:nvSpPr>
        <p:spPr>
          <a:xfrm>
            <a:off x="3814920" y="220176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7" name="Shape 5058"/>
          <p:cNvSpPr/>
          <p:nvPr/>
        </p:nvSpPr>
        <p:spPr>
          <a:xfrm>
            <a:off x="42940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5059"/>
          <p:cNvSpPr/>
          <p:nvPr/>
        </p:nvSpPr>
        <p:spPr>
          <a:xfrm>
            <a:off x="2657520" y="220176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5060"/>
          <p:cNvSpPr/>
          <p:nvPr/>
        </p:nvSpPr>
        <p:spPr>
          <a:xfrm>
            <a:off x="4844880" y="2176560"/>
            <a:ext cx="263520" cy="263520"/>
          </a:xfrm>
          <a:custGeom>
            <a:avLst/>
            <a:gdLst>
              <a:gd name="textAreaLeft" fmla="*/ 0 w 263520"/>
              <a:gd name="textAreaRight" fmla="*/ 263880 w 26352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5061"/>
          <p:cNvSpPr/>
          <p:nvPr/>
        </p:nvSpPr>
        <p:spPr>
          <a:xfrm>
            <a:off x="5405400" y="218592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5062"/>
          <p:cNvSpPr/>
          <p:nvPr/>
        </p:nvSpPr>
        <p:spPr>
          <a:xfrm>
            <a:off x="7050240" y="2185920"/>
            <a:ext cx="214200" cy="244440"/>
          </a:xfrm>
          <a:custGeom>
            <a:avLst/>
            <a:gdLst>
              <a:gd name="textAreaLeft" fmla="*/ 0 w 214200"/>
              <a:gd name="textAreaRight" fmla="*/ 214560 w 2142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5063"/>
          <p:cNvSpPr/>
          <p:nvPr/>
        </p:nvSpPr>
        <p:spPr>
          <a:xfrm>
            <a:off x="15667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5064"/>
          <p:cNvSpPr/>
          <p:nvPr/>
        </p:nvSpPr>
        <p:spPr>
          <a:xfrm>
            <a:off x="5950080" y="2190600"/>
            <a:ext cx="234720" cy="236520"/>
          </a:xfrm>
          <a:custGeom>
            <a:avLst/>
            <a:gdLst>
              <a:gd name="textAreaLeft" fmla="*/ 0 w 234720"/>
              <a:gd name="textAreaRight" fmla="*/ 235080 w 23472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4" name="Shape 5065"/>
          <p:cNvSpPr/>
          <p:nvPr/>
        </p:nvSpPr>
        <p:spPr>
          <a:xfrm>
            <a:off x="10329840" y="22226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5" name="Shape 5066"/>
          <p:cNvSpPr/>
          <p:nvPr/>
        </p:nvSpPr>
        <p:spPr>
          <a:xfrm>
            <a:off x="3197160" y="2759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5067"/>
          <p:cNvSpPr/>
          <p:nvPr/>
        </p:nvSpPr>
        <p:spPr>
          <a:xfrm>
            <a:off x="323388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5068"/>
          <p:cNvSpPr/>
          <p:nvPr/>
        </p:nvSpPr>
        <p:spPr>
          <a:xfrm>
            <a:off x="9747360" y="275904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8" name="Shape 5069"/>
          <p:cNvSpPr/>
          <p:nvPr/>
        </p:nvSpPr>
        <p:spPr>
          <a:xfrm>
            <a:off x="5398920" y="2732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5070"/>
          <p:cNvSpPr/>
          <p:nvPr/>
        </p:nvSpPr>
        <p:spPr>
          <a:xfrm>
            <a:off x="10877400" y="27925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5071"/>
          <p:cNvSpPr/>
          <p:nvPr/>
        </p:nvSpPr>
        <p:spPr>
          <a:xfrm>
            <a:off x="10333080" y="286056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d0d0d"/>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581" name="Shape 5072"/>
          <p:cNvSpPr/>
          <p:nvPr/>
        </p:nvSpPr>
        <p:spPr>
          <a:xfrm>
            <a:off x="3753000" y="326376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2" name="Shape 5073"/>
          <p:cNvSpPr/>
          <p:nvPr/>
        </p:nvSpPr>
        <p:spPr>
          <a:xfrm>
            <a:off x="3747960" y="3870360"/>
            <a:ext cx="273240" cy="154080"/>
          </a:xfrm>
          <a:custGeom>
            <a:avLst/>
            <a:gdLst>
              <a:gd name="textAreaLeft" fmla="*/ 0 w 273240"/>
              <a:gd name="textAreaRight" fmla="*/ 273600 w 27324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3" name="Shape 5074"/>
          <p:cNvSpPr/>
          <p:nvPr/>
        </p:nvSpPr>
        <p:spPr>
          <a:xfrm>
            <a:off x="3213000" y="381780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5075"/>
          <p:cNvSpPr/>
          <p:nvPr/>
        </p:nvSpPr>
        <p:spPr>
          <a:xfrm>
            <a:off x="2130480" y="383220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5076"/>
          <p:cNvSpPr/>
          <p:nvPr/>
        </p:nvSpPr>
        <p:spPr>
          <a:xfrm>
            <a:off x="42940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5077"/>
          <p:cNvSpPr/>
          <p:nvPr/>
        </p:nvSpPr>
        <p:spPr>
          <a:xfrm>
            <a:off x="707400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5078"/>
          <p:cNvSpPr/>
          <p:nvPr/>
        </p:nvSpPr>
        <p:spPr>
          <a:xfrm>
            <a:off x="5408640" y="32860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5079"/>
          <p:cNvSpPr/>
          <p:nvPr/>
        </p:nvSpPr>
        <p:spPr>
          <a:xfrm>
            <a:off x="5929200" y="328608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5080"/>
          <p:cNvSpPr/>
          <p:nvPr/>
        </p:nvSpPr>
        <p:spPr>
          <a:xfrm>
            <a:off x="6480000" y="327672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5081"/>
          <p:cNvSpPr/>
          <p:nvPr/>
        </p:nvSpPr>
        <p:spPr>
          <a:xfrm>
            <a:off x="321624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5082"/>
          <p:cNvSpPr/>
          <p:nvPr/>
        </p:nvSpPr>
        <p:spPr>
          <a:xfrm>
            <a:off x="2657520" y="3817800"/>
            <a:ext cx="272880" cy="258840"/>
          </a:xfrm>
          <a:custGeom>
            <a:avLst/>
            <a:gdLst>
              <a:gd name="textAreaLeft" fmla="*/ 0 w 272880"/>
              <a:gd name="textAreaRight" fmla="*/ 273240 w 27288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92" name="Shape 5083" descr=""/>
          <p:cNvPicPr/>
          <p:nvPr/>
        </p:nvPicPr>
        <p:blipFill>
          <a:blip r:embed="rId1"/>
          <a:stretch/>
        </p:blipFill>
        <p:spPr>
          <a:xfrm>
            <a:off x="4303800" y="3822840"/>
            <a:ext cx="255600" cy="249120"/>
          </a:xfrm>
          <a:prstGeom prst="rect">
            <a:avLst/>
          </a:prstGeom>
          <a:ln w="0">
            <a:noFill/>
          </a:ln>
        </p:spPr>
      </p:pic>
      <p:sp>
        <p:nvSpPr>
          <p:cNvPr id="593" name="Shape 5086"/>
          <p:cNvSpPr/>
          <p:nvPr/>
        </p:nvSpPr>
        <p:spPr>
          <a:xfrm>
            <a:off x="10329840" y="4943520"/>
            <a:ext cx="187200" cy="195120"/>
          </a:xfrm>
          <a:custGeom>
            <a:avLst/>
            <a:gdLst>
              <a:gd name="textAreaLeft" fmla="*/ 0 w 187200"/>
              <a:gd name="textAreaRight" fmla="*/ 187560 w 18720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5087"/>
          <p:cNvSpPr/>
          <p:nvPr/>
        </p:nvSpPr>
        <p:spPr>
          <a:xfrm>
            <a:off x="925992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5" name="Shape 5088"/>
          <p:cNvSpPr/>
          <p:nvPr/>
        </p:nvSpPr>
        <p:spPr>
          <a:xfrm>
            <a:off x="10856880" y="2214720"/>
            <a:ext cx="196920" cy="230040"/>
          </a:xfrm>
          <a:custGeom>
            <a:avLst/>
            <a:gdLst>
              <a:gd name="textAreaLeft" fmla="*/ 0 w 196920"/>
              <a:gd name="textAreaRight" fmla="*/ 197280 w 1969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6" name="Shape 5089"/>
          <p:cNvSpPr/>
          <p:nvPr/>
        </p:nvSpPr>
        <p:spPr>
          <a:xfrm>
            <a:off x="9744120" y="4368960"/>
            <a:ext cx="264960" cy="239400"/>
          </a:xfrm>
          <a:custGeom>
            <a:avLst/>
            <a:gdLst>
              <a:gd name="textAreaLeft" fmla="*/ 0 w 264960"/>
              <a:gd name="textAreaRight" fmla="*/ 265320 w 26496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7" name="Shape 5090"/>
          <p:cNvSpPr/>
          <p:nvPr/>
        </p:nvSpPr>
        <p:spPr>
          <a:xfrm>
            <a:off x="1089972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8" name="Shape 5091"/>
          <p:cNvSpPr/>
          <p:nvPr/>
        </p:nvSpPr>
        <p:spPr>
          <a:xfrm>
            <a:off x="600696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9" name="Shape 5092"/>
          <p:cNvSpPr/>
          <p:nvPr/>
        </p:nvSpPr>
        <p:spPr>
          <a:xfrm>
            <a:off x="5398920" y="38228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600" name="Shape 5093" descr=""/>
          <p:cNvPicPr/>
          <p:nvPr/>
        </p:nvPicPr>
        <p:blipFill>
          <a:blip r:embed="rId2"/>
          <a:stretch/>
        </p:blipFill>
        <p:spPr>
          <a:xfrm>
            <a:off x="4889520" y="3809880"/>
            <a:ext cx="176040" cy="274680"/>
          </a:xfrm>
          <a:prstGeom prst="rect">
            <a:avLst/>
          </a:prstGeom>
          <a:ln w="0">
            <a:noFill/>
          </a:ln>
        </p:spPr>
      </p:pic>
      <p:sp>
        <p:nvSpPr>
          <p:cNvPr id="601" name="Shape 5098"/>
          <p:cNvSpPr/>
          <p:nvPr/>
        </p:nvSpPr>
        <p:spPr>
          <a:xfrm>
            <a:off x="486720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2" name="Shape 5099"/>
          <p:cNvSpPr/>
          <p:nvPr/>
        </p:nvSpPr>
        <p:spPr>
          <a:xfrm>
            <a:off x="8667720" y="1641600"/>
            <a:ext cx="254160" cy="242640"/>
          </a:xfrm>
          <a:custGeom>
            <a:avLst/>
            <a:gdLst>
              <a:gd name="textAreaLeft" fmla="*/ 0 w 254160"/>
              <a:gd name="textAreaRight" fmla="*/ 254520 w 25416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3" name="Shape 5100"/>
          <p:cNvSpPr/>
          <p:nvPr/>
        </p:nvSpPr>
        <p:spPr>
          <a:xfrm>
            <a:off x="9204480" y="1646280"/>
            <a:ext cx="271440" cy="239760"/>
          </a:xfrm>
          <a:custGeom>
            <a:avLst/>
            <a:gdLst>
              <a:gd name="textAreaLeft" fmla="*/ 0 w 271440"/>
              <a:gd name="textAreaRight" fmla="*/ 271800 w 2714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4" name="Shape 5101"/>
          <p:cNvSpPr/>
          <p:nvPr/>
        </p:nvSpPr>
        <p:spPr>
          <a:xfrm>
            <a:off x="7034040" y="1670040"/>
            <a:ext cx="246240" cy="184320"/>
          </a:xfrm>
          <a:custGeom>
            <a:avLst/>
            <a:gdLst>
              <a:gd name="textAreaLeft" fmla="*/ 0 w 246240"/>
              <a:gd name="textAreaRight" fmla="*/ 246600 w 24624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5102"/>
          <p:cNvSpPr/>
          <p:nvPr/>
        </p:nvSpPr>
        <p:spPr>
          <a:xfrm>
            <a:off x="8126280" y="1670040"/>
            <a:ext cx="244440" cy="184320"/>
          </a:xfrm>
          <a:custGeom>
            <a:avLst/>
            <a:gdLst>
              <a:gd name="textAreaLeft" fmla="*/ 0 w 244440"/>
              <a:gd name="textAreaRight" fmla="*/ 244800 w 24444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5103"/>
          <p:cNvSpPr/>
          <p:nvPr/>
        </p:nvSpPr>
        <p:spPr>
          <a:xfrm>
            <a:off x="1576440" y="1641600"/>
            <a:ext cx="244440" cy="242640"/>
          </a:xfrm>
          <a:custGeom>
            <a:avLst/>
            <a:gdLst>
              <a:gd name="textAreaLeft" fmla="*/ 0 w 244440"/>
              <a:gd name="textAreaRight" fmla="*/ 244800 w 2444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Shape 5104"/>
          <p:cNvSpPr/>
          <p:nvPr/>
        </p:nvSpPr>
        <p:spPr>
          <a:xfrm>
            <a:off x="3757680" y="1682640"/>
            <a:ext cx="253800" cy="158760"/>
          </a:xfrm>
          <a:custGeom>
            <a:avLst/>
            <a:gdLst>
              <a:gd name="textAreaLeft" fmla="*/ 0 w 253800"/>
              <a:gd name="textAreaRight" fmla="*/ 254160 w 2538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8" name="Shape 5105"/>
          <p:cNvSpPr/>
          <p:nvPr/>
        </p:nvSpPr>
        <p:spPr>
          <a:xfrm>
            <a:off x="5929200" y="162720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9" name="Shape 5106"/>
          <p:cNvSpPr/>
          <p:nvPr/>
        </p:nvSpPr>
        <p:spPr>
          <a:xfrm>
            <a:off x="756612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0" name="Shape 5107"/>
          <p:cNvSpPr/>
          <p:nvPr/>
        </p:nvSpPr>
        <p:spPr>
          <a:xfrm>
            <a:off x="320184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1" name="Shape 5108"/>
          <p:cNvSpPr/>
          <p:nvPr/>
        </p:nvSpPr>
        <p:spPr>
          <a:xfrm>
            <a:off x="2709720" y="162720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2" name="Shape 5109"/>
          <p:cNvSpPr/>
          <p:nvPr/>
        </p:nvSpPr>
        <p:spPr>
          <a:xfrm>
            <a:off x="10853640" y="3340080"/>
            <a:ext cx="206640" cy="158760"/>
          </a:xfrm>
          <a:custGeom>
            <a:avLst/>
            <a:gdLst>
              <a:gd name="textAreaLeft" fmla="*/ 0 w 206640"/>
              <a:gd name="textAreaRight" fmla="*/ 207000 w 20664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3" name="Shape 5110"/>
          <p:cNvSpPr/>
          <p:nvPr/>
        </p:nvSpPr>
        <p:spPr>
          <a:xfrm>
            <a:off x="923148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4" name="Shape 5111"/>
          <p:cNvSpPr/>
          <p:nvPr/>
        </p:nvSpPr>
        <p:spPr>
          <a:xfrm>
            <a:off x="4322880" y="2762280"/>
            <a:ext cx="212760" cy="187200"/>
          </a:xfrm>
          <a:custGeom>
            <a:avLst/>
            <a:gdLst>
              <a:gd name="textAreaLeft" fmla="*/ 0 w 212760"/>
              <a:gd name="textAreaRight" fmla="*/ 213120 w 2127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5112"/>
          <p:cNvSpPr/>
          <p:nvPr/>
        </p:nvSpPr>
        <p:spPr>
          <a:xfrm>
            <a:off x="9217080" y="2190600"/>
            <a:ext cx="245880" cy="239760"/>
          </a:xfrm>
          <a:custGeom>
            <a:avLst/>
            <a:gdLst>
              <a:gd name="textAreaLeft" fmla="*/ 0 w 245880"/>
              <a:gd name="textAreaRight" fmla="*/ 246240 w 24588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5113"/>
          <p:cNvSpPr/>
          <p:nvPr/>
        </p:nvSpPr>
        <p:spPr>
          <a:xfrm>
            <a:off x="2130480" y="32860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5114"/>
          <p:cNvSpPr/>
          <p:nvPr/>
        </p:nvSpPr>
        <p:spPr>
          <a:xfrm>
            <a:off x="75754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5115"/>
          <p:cNvSpPr/>
          <p:nvPr/>
        </p:nvSpPr>
        <p:spPr>
          <a:xfrm>
            <a:off x="1581120" y="32241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5116"/>
          <p:cNvSpPr/>
          <p:nvPr/>
        </p:nvSpPr>
        <p:spPr>
          <a:xfrm>
            <a:off x="8677440" y="2732040"/>
            <a:ext cx="234720" cy="255600"/>
          </a:xfrm>
          <a:custGeom>
            <a:avLst/>
            <a:gdLst>
              <a:gd name="textAreaLeft" fmla="*/ 0 w 234720"/>
              <a:gd name="textAreaRight" fmla="*/ 235080 w 23472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5117"/>
          <p:cNvSpPr/>
          <p:nvPr/>
        </p:nvSpPr>
        <p:spPr>
          <a:xfrm>
            <a:off x="8116920" y="273672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5118"/>
          <p:cNvSpPr/>
          <p:nvPr/>
        </p:nvSpPr>
        <p:spPr>
          <a:xfrm>
            <a:off x="3747960" y="2732040"/>
            <a:ext cx="273240" cy="246240"/>
          </a:xfrm>
          <a:custGeom>
            <a:avLst/>
            <a:gdLst>
              <a:gd name="textAreaLeft" fmla="*/ 0 w 273240"/>
              <a:gd name="textAreaRight" fmla="*/ 273600 w 27324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5119"/>
          <p:cNvSpPr/>
          <p:nvPr/>
        </p:nvSpPr>
        <p:spPr>
          <a:xfrm>
            <a:off x="4873680" y="2765520"/>
            <a:ext cx="244440" cy="182520"/>
          </a:xfrm>
          <a:custGeom>
            <a:avLst/>
            <a:gdLst>
              <a:gd name="textAreaLeft" fmla="*/ 0 w 244440"/>
              <a:gd name="textAreaRight" fmla="*/ 244800 w 2444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5120"/>
          <p:cNvSpPr/>
          <p:nvPr/>
        </p:nvSpPr>
        <p:spPr>
          <a:xfrm>
            <a:off x="6504120" y="2746440"/>
            <a:ext cx="215640" cy="220680"/>
          </a:xfrm>
          <a:custGeom>
            <a:avLst/>
            <a:gdLst>
              <a:gd name="textAreaLeft" fmla="*/ 0 w 215640"/>
              <a:gd name="textAreaRight" fmla="*/ 216000 w 21564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5121"/>
          <p:cNvSpPr/>
          <p:nvPr/>
        </p:nvSpPr>
        <p:spPr>
          <a:xfrm>
            <a:off x="10293480" y="3340080"/>
            <a:ext cx="234720" cy="158760"/>
          </a:xfrm>
          <a:custGeom>
            <a:avLst/>
            <a:gdLst>
              <a:gd name="textAreaLeft" fmla="*/ 0 w 234720"/>
              <a:gd name="textAreaRight" fmla="*/ 235080 w 2347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5122"/>
          <p:cNvSpPr/>
          <p:nvPr/>
        </p:nvSpPr>
        <p:spPr>
          <a:xfrm>
            <a:off x="5940360" y="27417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6" name="Shape 5123"/>
          <p:cNvSpPr/>
          <p:nvPr/>
        </p:nvSpPr>
        <p:spPr>
          <a:xfrm>
            <a:off x="211140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7" name="Shape 5124"/>
          <p:cNvSpPr/>
          <p:nvPr/>
        </p:nvSpPr>
        <p:spPr>
          <a:xfrm>
            <a:off x="21700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5125"/>
          <p:cNvSpPr/>
          <p:nvPr/>
        </p:nvSpPr>
        <p:spPr>
          <a:xfrm>
            <a:off x="972648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5126"/>
          <p:cNvSpPr/>
          <p:nvPr/>
        </p:nvSpPr>
        <p:spPr>
          <a:xfrm>
            <a:off x="7050240" y="2746440"/>
            <a:ext cx="218880" cy="220680"/>
          </a:xfrm>
          <a:custGeom>
            <a:avLst/>
            <a:gdLst>
              <a:gd name="textAreaLeft" fmla="*/ 0 w 218880"/>
              <a:gd name="textAreaRight" fmla="*/ 219240 w 21888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0" name="Shape 5127"/>
          <p:cNvSpPr/>
          <p:nvPr/>
        </p:nvSpPr>
        <p:spPr>
          <a:xfrm>
            <a:off x="866304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5128"/>
          <p:cNvSpPr/>
          <p:nvPr/>
        </p:nvSpPr>
        <p:spPr>
          <a:xfrm>
            <a:off x="9204480" y="4406760"/>
            <a:ext cx="271440" cy="168480"/>
          </a:xfrm>
          <a:custGeom>
            <a:avLst/>
            <a:gdLst>
              <a:gd name="textAreaLeft" fmla="*/ 0 w 271440"/>
              <a:gd name="textAreaRight" fmla="*/ 271800 w 2714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5129"/>
          <p:cNvSpPr/>
          <p:nvPr/>
        </p:nvSpPr>
        <p:spPr>
          <a:xfrm>
            <a:off x="15667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5130"/>
          <p:cNvSpPr/>
          <p:nvPr/>
        </p:nvSpPr>
        <p:spPr>
          <a:xfrm>
            <a:off x="211140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5131"/>
          <p:cNvSpPr/>
          <p:nvPr/>
        </p:nvSpPr>
        <p:spPr>
          <a:xfrm>
            <a:off x="4878360" y="494352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5132"/>
          <p:cNvSpPr/>
          <p:nvPr/>
        </p:nvSpPr>
        <p:spPr>
          <a:xfrm>
            <a:off x="5384880" y="490068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5133"/>
          <p:cNvSpPr/>
          <p:nvPr/>
        </p:nvSpPr>
        <p:spPr>
          <a:xfrm>
            <a:off x="15811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7" name="Shape 5134"/>
          <p:cNvSpPr/>
          <p:nvPr/>
        </p:nvSpPr>
        <p:spPr>
          <a:xfrm>
            <a:off x="867240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5135"/>
          <p:cNvSpPr/>
          <p:nvPr/>
        </p:nvSpPr>
        <p:spPr>
          <a:xfrm>
            <a:off x="266868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5136"/>
          <p:cNvSpPr/>
          <p:nvPr/>
        </p:nvSpPr>
        <p:spPr>
          <a:xfrm>
            <a:off x="6475320" y="495288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5137"/>
          <p:cNvSpPr/>
          <p:nvPr/>
        </p:nvSpPr>
        <p:spPr>
          <a:xfrm>
            <a:off x="75754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1" name="Shape 5138"/>
          <p:cNvSpPr/>
          <p:nvPr/>
        </p:nvSpPr>
        <p:spPr>
          <a:xfrm>
            <a:off x="2657520" y="4967280"/>
            <a:ext cx="272880" cy="135000"/>
          </a:xfrm>
          <a:custGeom>
            <a:avLst/>
            <a:gdLst>
              <a:gd name="textAreaLeft" fmla="*/ 0 w 272880"/>
              <a:gd name="textAreaRight" fmla="*/ 273240 w 27288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2" name="Shape 5139"/>
          <p:cNvSpPr/>
          <p:nvPr/>
        </p:nvSpPr>
        <p:spPr>
          <a:xfrm>
            <a:off x="320184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Shape 5140"/>
          <p:cNvSpPr/>
          <p:nvPr/>
        </p:nvSpPr>
        <p:spPr>
          <a:xfrm>
            <a:off x="3747960" y="4967280"/>
            <a:ext cx="273240" cy="135000"/>
          </a:xfrm>
          <a:custGeom>
            <a:avLst/>
            <a:gdLst>
              <a:gd name="textAreaLeft" fmla="*/ 0 w 273240"/>
              <a:gd name="textAreaRight" fmla="*/ 273600 w 27324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4" name="Shape 5141"/>
          <p:cNvSpPr/>
          <p:nvPr/>
        </p:nvSpPr>
        <p:spPr>
          <a:xfrm>
            <a:off x="42940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5" name="Shape 5142"/>
          <p:cNvSpPr/>
          <p:nvPr/>
        </p:nvSpPr>
        <p:spPr>
          <a:xfrm>
            <a:off x="6475320" y="1703520"/>
            <a:ext cx="273240" cy="123840"/>
          </a:xfrm>
          <a:custGeom>
            <a:avLst/>
            <a:gdLst>
              <a:gd name="textAreaLeft" fmla="*/ 0 w 273240"/>
              <a:gd name="textAreaRight" fmla="*/ 273600 w 27324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6" name="Shape 5143"/>
          <p:cNvSpPr/>
          <p:nvPr/>
        </p:nvSpPr>
        <p:spPr>
          <a:xfrm>
            <a:off x="70214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5144"/>
          <p:cNvSpPr/>
          <p:nvPr/>
        </p:nvSpPr>
        <p:spPr>
          <a:xfrm>
            <a:off x="8112240" y="3827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5145"/>
          <p:cNvSpPr/>
          <p:nvPr/>
        </p:nvSpPr>
        <p:spPr>
          <a:xfrm>
            <a:off x="374796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9" name="Shape 5146"/>
          <p:cNvSpPr/>
          <p:nvPr/>
        </p:nvSpPr>
        <p:spPr>
          <a:xfrm>
            <a:off x="6475320" y="3857760"/>
            <a:ext cx="273240" cy="176040"/>
          </a:xfrm>
          <a:custGeom>
            <a:avLst/>
            <a:gdLst>
              <a:gd name="textAreaLeft" fmla="*/ 0 w 273240"/>
              <a:gd name="textAreaRight" fmla="*/ 273600 w 27324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0" name="Shape 5147"/>
          <p:cNvSpPr/>
          <p:nvPr/>
        </p:nvSpPr>
        <p:spPr>
          <a:xfrm>
            <a:off x="865656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5148"/>
          <p:cNvSpPr/>
          <p:nvPr/>
        </p:nvSpPr>
        <p:spPr>
          <a:xfrm>
            <a:off x="2657520" y="3276720"/>
            <a:ext cx="272880" cy="245880"/>
          </a:xfrm>
          <a:custGeom>
            <a:avLst/>
            <a:gdLst>
              <a:gd name="textAreaLeft" fmla="*/ 0 w 272880"/>
              <a:gd name="textAreaRight" fmla="*/ 273240 w 27288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2" name="Shape 5149"/>
          <p:cNvSpPr/>
          <p:nvPr/>
        </p:nvSpPr>
        <p:spPr>
          <a:xfrm>
            <a:off x="7594560" y="32670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5150"/>
          <p:cNvSpPr/>
          <p:nvPr/>
        </p:nvSpPr>
        <p:spPr>
          <a:xfrm>
            <a:off x="15667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5151"/>
          <p:cNvSpPr/>
          <p:nvPr/>
        </p:nvSpPr>
        <p:spPr>
          <a:xfrm>
            <a:off x="2111400" y="4387680"/>
            <a:ext cx="277920" cy="211320"/>
          </a:xfrm>
          <a:custGeom>
            <a:avLst/>
            <a:gdLst>
              <a:gd name="textAreaLeft" fmla="*/ 0 w 277920"/>
              <a:gd name="textAreaRight" fmla="*/ 278280 w 2779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5152"/>
          <p:cNvSpPr/>
          <p:nvPr/>
        </p:nvSpPr>
        <p:spPr>
          <a:xfrm>
            <a:off x="5424480" y="1627200"/>
            <a:ext cx="196920" cy="277920"/>
          </a:xfrm>
          <a:custGeom>
            <a:avLst/>
            <a:gdLst>
              <a:gd name="textAreaLeft" fmla="*/ 0 w 196920"/>
              <a:gd name="textAreaRight" fmla="*/ 197280 w 19692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5153"/>
          <p:cNvSpPr/>
          <p:nvPr/>
        </p:nvSpPr>
        <p:spPr>
          <a:xfrm>
            <a:off x="756612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5154"/>
          <p:cNvSpPr/>
          <p:nvPr/>
        </p:nvSpPr>
        <p:spPr>
          <a:xfrm>
            <a:off x="592920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5155"/>
          <p:cNvSpPr/>
          <p:nvPr/>
        </p:nvSpPr>
        <p:spPr>
          <a:xfrm>
            <a:off x="865656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5156"/>
          <p:cNvSpPr/>
          <p:nvPr/>
        </p:nvSpPr>
        <p:spPr>
          <a:xfrm>
            <a:off x="430380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5157"/>
          <p:cNvSpPr/>
          <p:nvPr/>
        </p:nvSpPr>
        <p:spPr>
          <a:xfrm>
            <a:off x="9240840" y="49197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5158"/>
          <p:cNvSpPr/>
          <p:nvPr/>
        </p:nvSpPr>
        <p:spPr>
          <a:xfrm>
            <a:off x="1595520" y="38228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2" name="Shape 5159"/>
          <p:cNvSpPr/>
          <p:nvPr/>
        </p:nvSpPr>
        <p:spPr>
          <a:xfrm>
            <a:off x="8121600" y="3267000"/>
            <a:ext cx="255600" cy="268200"/>
          </a:xfrm>
          <a:custGeom>
            <a:avLst/>
            <a:gdLst>
              <a:gd name="textAreaLeft" fmla="*/ 0 w 255600"/>
              <a:gd name="textAreaRight" fmla="*/ 255960 w 25560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3" name="Shape 5160"/>
          <p:cNvSpPr/>
          <p:nvPr/>
        </p:nvSpPr>
        <p:spPr>
          <a:xfrm>
            <a:off x="3232080" y="4352760"/>
            <a:ext cx="219240" cy="274680"/>
          </a:xfrm>
          <a:custGeom>
            <a:avLst/>
            <a:gdLst>
              <a:gd name="textAreaLeft" fmla="*/ 0 w 219240"/>
              <a:gd name="textAreaRight" fmla="*/ 219600 w 21924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5161"/>
          <p:cNvSpPr/>
          <p:nvPr/>
        </p:nvSpPr>
        <p:spPr>
          <a:xfrm>
            <a:off x="485460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5162"/>
          <p:cNvSpPr/>
          <p:nvPr/>
        </p:nvSpPr>
        <p:spPr>
          <a:xfrm>
            <a:off x="430380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5163"/>
          <p:cNvSpPr/>
          <p:nvPr/>
        </p:nvSpPr>
        <p:spPr>
          <a:xfrm>
            <a:off x="4863960" y="4371840"/>
            <a:ext cx="225720" cy="241560"/>
          </a:xfrm>
          <a:custGeom>
            <a:avLst/>
            <a:gdLst>
              <a:gd name="textAreaLeft" fmla="*/ 0 w 225720"/>
              <a:gd name="textAreaRight" fmla="*/ 226080 w 22572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5164"/>
          <p:cNvSpPr/>
          <p:nvPr/>
        </p:nvSpPr>
        <p:spPr>
          <a:xfrm>
            <a:off x="756612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5165"/>
          <p:cNvSpPr/>
          <p:nvPr/>
        </p:nvSpPr>
        <p:spPr>
          <a:xfrm>
            <a:off x="7080120" y="38116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5166"/>
          <p:cNvSpPr/>
          <p:nvPr/>
        </p:nvSpPr>
        <p:spPr>
          <a:xfrm>
            <a:off x="5398920" y="4387680"/>
            <a:ext cx="244800" cy="206640"/>
          </a:xfrm>
          <a:custGeom>
            <a:avLst/>
            <a:gdLst>
              <a:gd name="textAreaLeft" fmla="*/ 0 w 244800"/>
              <a:gd name="textAreaRight" fmla="*/ 245160 w 24480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5167"/>
          <p:cNvSpPr/>
          <p:nvPr/>
        </p:nvSpPr>
        <p:spPr>
          <a:xfrm>
            <a:off x="648972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5168"/>
          <p:cNvSpPr/>
          <p:nvPr/>
        </p:nvSpPr>
        <p:spPr>
          <a:xfrm>
            <a:off x="7015320" y="4352760"/>
            <a:ext cx="284040" cy="274680"/>
          </a:xfrm>
          <a:custGeom>
            <a:avLst/>
            <a:gdLst>
              <a:gd name="textAreaLeft" fmla="*/ 0 w 284040"/>
              <a:gd name="textAreaRight" fmla="*/ 284400 w 28404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5169"/>
          <p:cNvSpPr/>
          <p:nvPr/>
        </p:nvSpPr>
        <p:spPr>
          <a:xfrm>
            <a:off x="8112240" y="4368960"/>
            <a:ext cx="274680" cy="249120"/>
          </a:xfrm>
          <a:custGeom>
            <a:avLst/>
            <a:gdLst>
              <a:gd name="textAreaLeft" fmla="*/ 0 w 274680"/>
              <a:gd name="textAreaRight" fmla="*/ 275040 w 2746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3" name="Shape 5170"/>
          <p:cNvSpPr/>
          <p:nvPr/>
        </p:nvSpPr>
        <p:spPr>
          <a:xfrm>
            <a:off x="756612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4" name="Shape 5171"/>
          <p:cNvSpPr/>
          <p:nvPr/>
        </p:nvSpPr>
        <p:spPr>
          <a:xfrm>
            <a:off x="5972040" y="43783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5173"/>
          <p:cNvSpPr/>
          <p:nvPr/>
        </p:nvSpPr>
        <p:spPr>
          <a:xfrm>
            <a:off x="9766440" y="3841920"/>
            <a:ext cx="196560" cy="249120"/>
          </a:xfrm>
          <a:custGeom>
            <a:avLst/>
            <a:gdLst>
              <a:gd name="textAreaLeft" fmla="*/ 0 w 196560"/>
              <a:gd name="textAreaRight" fmla="*/ 196920 w 19656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5174"/>
          <p:cNvSpPr/>
          <p:nvPr/>
        </p:nvSpPr>
        <p:spPr>
          <a:xfrm>
            <a:off x="108187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5175"/>
          <p:cNvSpPr/>
          <p:nvPr/>
        </p:nvSpPr>
        <p:spPr>
          <a:xfrm>
            <a:off x="1027440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5177"/>
          <p:cNvSpPr/>
          <p:nvPr/>
        </p:nvSpPr>
        <p:spPr>
          <a:xfrm>
            <a:off x="108345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5178"/>
          <p:cNvSpPr/>
          <p:nvPr/>
        </p:nvSpPr>
        <p:spPr>
          <a:xfrm>
            <a:off x="10312560" y="164448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5179"/>
          <p:cNvSpPr/>
          <p:nvPr/>
        </p:nvSpPr>
        <p:spPr>
          <a:xfrm>
            <a:off x="815184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1" name="Shape 5181"/>
          <p:cNvSpPr/>
          <p:nvPr/>
        </p:nvSpPr>
        <p:spPr>
          <a:xfrm>
            <a:off x="9240840" y="326376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2" name="Shape 5182"/>
          <p:cNvSpPr/>
          <p:nvPr/>
        </p:nvSpPr>
        <p:spPr>
          <a:xfrm>
            <a:off x="10842480" y="435924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5183"/>
          <p:cNvSpPr/>
          <p:nvPr/>
        </p:nvSpPr>
        <p:spPr>
          <a:xfrm>
            <a:off x="10350360" y="435924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4" name="Shape 5184"/>
          <p:cNvSpPr/>
          <p:nvPr/>
        </p:nvSpPr>
        <p:spPr>
          <a:xfrm>
            <a:off x="972648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5186"/>
          <p:cNvSpPr/>
          <p:nvPr/>
        </p:nvSpPr>
        <p:spPr>
          <a:xfrm>
            <a:off x="8667720" y="3827520"/>
            <a:ext cx="254160" cy="220680"/>
          </a:xfrm>
          <a:custGeom>
            <a:avLst/>
            <a:gdLst>
              <a:gd name="textAreaLeft" fmla="*/ 0 w 254160"/>
              <a:gd name="textAreaRight" fmla="*/ 254520 w 25416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5187"/>
          <p:cNvSpPr/>
          <p:nvPr/>
        </p:nvSpPr>
        <p:spPr>
          <a:xfrm>
            <a:off x="6531120" y="2141640"/>
            <a:ext cx="264960" cy="228600"/>
          </a:xfrm>
          <a:custGeom>
            <a:avLst/>
            <a:gdLst>
              <a:gd name="textAreaLeft" fmla="*/ 0 w 264960"/>
              <a:gd name="textAreaRight" fmla="*/ 265320 w 26496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5189"/>
          <p:cNvSpPr/>
          <p:nvPr/>
        </p:nvSpPr>
        <p:spPr>
          <a:xfrm>
            <a:off x="9779040" y="499896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5191"/>
          <p:cNvSpPr/>
          <p:nvPr/>
        </p:nvSpPr>
        <p:spPr>
          <a:xfrm>
            <a:off x="9726480" y="2219400"/>
            <a:ext cx="270000" cy="212760"/>
          </a:xfrm>
          <a:custGeom>
            <a:avLst/>
            <a:gdLst>
              <a:gd name="textAreaLeft" fmla="*/ 0 w 270000"/>
              <a:gd name="textAreaRight" fmla="*/ 270360 w 27000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5192"/>
          <p:cNvSpPr/>
          <p:nvPr/>
        </p:nvSpPr>
        <p:spPr>
          <a:xfrm>
            <a:off x="213984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5193"/>
          <p:cNvSpPr/>
          <p:nvPr/>
        </p:nvSpPr>
        <p:spPr>
          <a:xfrm>
            <a:off x="268776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5-23T09:08:31Z</dcterms:created>
  <dc:creator>VaiO</dc:creator>
  <dc:description/>
  <dc:language>en-US</dc:language>
  <cp:lastModifiedBy>Harist</cp:lastModifiedBy>
  <dcterms:modified xsi:type="dcterms:W3CDTF">2022-12-12T14:53:16Z</dcterms:modified>
  <cp:revision>45</cp:revision>
  <dc:subject/>
  <dc:title>PowerPoint Presentation</dc:title>
</cp:coreProperties>
</file>