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5B0-3BEE-4623-B916-6338B731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60B-9DF1-4111-9892-411B0BC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CB3-23E0-4BC4-93A7-0D400C52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CF4-7314-424D-B6F3-9EE33AD6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1EE-8817-426A-9130-A3C56AE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46C-07A1-4DC5-ABEE-CBA1C60E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4A8-33D7-4222-932B-F01462AD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876-1CD7-417A-9781-9B6AD202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F84-335D-4DF1-B44E-15858818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891-AF2D-4996-A7E3-8210886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ADD-B71D-4981-BAEB-90CF252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5E2-12A0-49B6-80B5-712ACF8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75A-C737-47A5-97C6-A67446704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Group 8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10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TextBox 13"/>
          <p:cNvSpPr/>
          <p:nvPr/>
        </p:nvSpPr>
        <p:spPr>
          <a:xfrm>
            <a:off x="1373040" y="9446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2600280" y="1454040"/>
            <a:ext cx="69915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-360" y="2006640"/>
            <a:ext cx="12192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21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4" name="Text Placeholder 6"/>
          <p:cNvSpPr/>
          <p:nvPr/>
        </p:nvSpPr>
        <p:spPr>
          <a:xfrm>
            <a:off x="7721640" y="2992320"/>
            <a:ext cx="3759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7759800" y="522144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13"/>
          <p:cNvSpPr/>
          <p:nvPr/>
        </p:nvSpPr>
        <p:spPr>
          <a:xfrm>
            <a:off x="7848720" y="547848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4"/>
          <p:cNvSpPr/>
          <p:nvPr/>
        </p:nvSpPr>
        <p:spPr>
          <a:xfrm>
            <a:off x="3914640" y="142416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BEAUTIFUL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8" name="Picture 15" descr=""/>
          <p:cNvPicPr/>
          <p:nvPr/>
        </p:nvPicPr>
        <p:blipFill>
          <a:blip r:embed="rId1"/>
          <a:stretch/>
        </p:blipFill>
        <p:spPr>
          <a:xfrm>
            <a:off x="5516640" y="2962440"/>
            <a:ext cx="1824120" cy="1047600"/>
          </a:xfrm>
          <a:prstGeom prst="rect">
            <a:avLst/>
          </a:prstGeom>
          <a:ln w="0">
            <a:noFill/>
          </a:ln>
        </p:spPr>
      </p:pic>
      <p:sp>
        <p:nvSpPr>
          <p:cNvPr id="1129" name="TextBox 18"/>
          <p:cNvSpPr/>
          <p:nvPr/>
        </p:nvSpPr>
        <p:spPr>
          <a:xfrm>
            <a:off x="4834080" y="6483240"/>
            <a:ext cx="4525920" cy="374760"/>
          </a:xfrm>
          <a:custGeom>
            <a:avLst/>
            <a:gdLst/>
            <a:ahLst/>
            <a:rect l="l" t="t" r="r" b="b"/>
            <a:pathLst>
              <a:path w="4525981" h="374098">
                <a:moveTo>
                  <a:pt x="1563706" y="146304"/>
                </a:moveTo>
                <a:lnTo>
                  <a:pt x="1508080" y="332994"/>
                </a:lnTo>
                <a:lnTo>
                  <a:pt x="1621618" y="332994"/>
                </a:lnTo>
                <a:lnTo>
                  <a:pt x="1566754" y="146304"/>
                </a:lnTo>
                <a:lnTo>
                  <a:pt x="1563706" y="146304"/>
                </a:lnTo>
                <a:close/>
                <a:moveTo>
                  <a:pt x="230206" y="146304"/>
                </a:moveTo>
                <a:lnTo>
                  <a:pt x="174580" y="332994"/>
                </a:lnTo>
                <a:lnTo>
                  <a:pt x="288118" y="332994"/>
                </a:lnTo>
                <a:lnTo>
                  <a:pt x="233254" y="146304"/>
                </a:lnTo>
                <a:lnTo>
                  <a:pt x="230206" y="146304"/>
                </a:lnTo>
                <a:close/>
                <a:moveTo>
                  <a:pt x="4004011" y="0"/>
                </a:moveTo>
                <a:lnTo>
                  <a:pt x="4151077" y="0"/>
                </a:lnTo>
                <a:lnTo>
                  <a:pt x="4371295" y="258318"/>
                </a:lnTo>
                <a:lnTo>
                  <a:pt x="4371295" y="0"/>
                </a:lnTo>
                <a:lnTo>
                  <a:pt x="4525981" y="0"/>
                </a:lnTo>
                <a:lnTo>
                  <a:pt x="4525981" y="374098"/>
                </a:lnTo>
                <a:lnTo>
                  <a:pt x="4248988" y="374098"/>
                </a:lnTo>
                <a:lnTo>
                  <a:pt x="4158697" y="269748"/>
                </a:lnTo>
                <a:lnTo>
                  <a:pt x="4158697" y="374098"/>
                </a:lnTo>
                <a:lnTo>
                  <a:pt x="4004011" y="374098"/>
                </a:lnTo>
                <a:lnTo>
                  <a:pt x="4004011" y="0"/>
                </a:lnTo>
                <a:close/>
                <a:moveTo>
                  <a:pt x="3375361" y="0"/>
                </a:moveTo>
                <a:lnTo>
                  <a:pt x="3828751" y="0"/>
                </a:lnTo>
                <a:lnTo>
                  <a:pt x="3828751" y="125730"/>
                </a:lnTo>
                <a:lnTo>
                  <a:pt x="3543763" y="125730"/>
                </a:lnTo>
                <a:lnTo>
                  <a:pt x="3543763" y="198120"/>
                </a:lnTo>
                <a:lnTo>
                  <a:pt x="3787603" y="198120"/>
                </a:lnTo>
                <a:lnTo>
                  <a:pt x="3787603" y="318516"/>
                </a:lnTo>
                <a:lnTo>
                  <a:pt x="3543763" y="318516"/>
                </a:lnTo>
                <a:lnTo>
                  <a:pt x="3543763" y="374098"/>
                </a:lnTo>
                <a:lnTo>
                  <a:pt x="3375361" y="374098"/>
                </a:lnTo>
                <a:lnTo>
                  <a:pt x="3375361" y="0"/>
                </a:lnTo>
                <a:close/>
                <a:moveTo>
                  <a:pt x="2564593" y="0"/>
                </a:moveTo>
                <a:lnTo>
                  <a:pt x="2802337" y="0"/>
                </a:lnTo>
                <a:lnTo>
                  <a:pt x="2881585" y="302514"/>
                </a:lnTo>
                <a:lnTo>
                  <a:pt x="2884633" y="302514"/>
                </a:lnTo>
                <a:lnTo>
                  <a:pt x="2963119" y="0"/>
                </a:lnTo>
                <a:lnTo>
                  <a:pt x="3192481" y="0"/>
                </a:lnTo>
                <a:lnTo>
                  <a:pt x="3192481" y="374098"/>
                </a:lnTo>
                <a:lnTo>
                  <a:pt x="3025603" y="374098"/>
                </a:lnTo>
                <a:lnTo>
                  <a:pt x="3025603" y="335280"/>
                </a:lnTo>
                <a:cubicBezTo>
                  <a:pt x="3025603" y="311912"/>
                  <a:pt x="3026492" y="287909"/>
                  <a:pt x="3028270" y="263271"/>
                </a:cubicBezTo>
                <a:cubicBezTo>
                  <a:pt x="3030048" y="238633"/>
                  <a:pt x="3031953" y="217932"/>
                  <a:pt x="3033985" y="201168"/>
                </a:cubicBezTo>
                <a:cubicBezTo>
                  <a:pt x="3036017" y="184404"/>
                  <a:pt x="3037287" y="173736"/>
                  <a:pt x="3037795" y="169164"/>
                </a:cubicBezTo>
                <a:lnTo>
                  <a:pt x="3034747" y="169164"/>
                </a:lnTo>
                <a:lnTo>
                  <a:pt x="2978896" y="374098"/>
                </a:lnTo>
                <a:lnTo>
                  <a:pt x="2764813" y="374098"/>
                </a:lnTo>
                <a:lnTo>
                  <a:pt x="2708611" y="169926"/>
                </a:lnTo>
                <a:lnTo>
                  <a:pt x="2705563" y="169926"/>
                </a:lnTo>
                <a:cubicBezTo>
                  <a:pt x="2706071" y="174498"/>
                  <a:pt x="2707468" y="185039"/>
                  <a:pt x="2709754" y="201549"/>
                </a:cubicBezTo>
                <a:cubicBezTo>
                  <a:pt x="2712040" y="218059"/>
                  <a:pt x="2714199" y="238633"/>
                  <a:pt x="2716231" y="263271"/>
                </a:cubicBezTo>
                <a:cubicBezTo>
                  <a:pt x="2718263" y="287909"/>
                  <a:pt x="2719279" y="311912"/>
                  <a:pt x="2719279" y="335280"/>
                </a:cubicBezTo>
                <a:lnTo>
                  <a:pt x="2719279" y="374098"/>
                </a:lnTo>
                <a:lnTo>
                  <a:pt x="2564593" y="374098"/>
                </a:lnTo>
                <a:lnTo>
                  <a:pt x="2564593" y="0"/>
                </a:lnTo>
                <a:close/>
                <a:moveTo>
                  <a:pt x="1994236" y="0"/>
                </a:moveTo>
                <a:lnTo>
                  <a:pt x="2162638" y="0"/>
                </a:lnTo>
                <a:lnTo>
                  <a:pt x="2162638" y="374098"/>
                </a:lnTo>
                <a:lnTo>
                  <a:pt x="1994236" y="374098"/>
                </a:lnTo>
                <a:lnTo>
                  <a:pt x="1994236" y="0"/>
                </a:lnTo>
                <a:close/>
                <a:moveTo>
                  <a:pt x="1469980" y="0"/>
                </a:moveTo>
                <a:lnTo>
                  <a:pt x="1665814" y="0"/>
                </a:lnTo>
                <a:lnTo>
                  <a:pt x="1802295" y="374098"/>
                </a:lnTo>
                <a:lnTo>
                  <a:pt x="1333500" y="374098"/>
                </a:lnTo>
                <a:lnTo>
                  <a:pt x="1469980" y="0"/>
                </a:lnTo>
                <a:close/>
                <a:moveTo>
                  <a:pt x="617302" y="0"/>
                </a:moveTo>
                <a:lnTo>
                  <a:pt x="797134" y="0"/>
                </a:lnTo>
                <a:lnTo>
                  <a:pt x="902290" y="350520"/>
                </a:lnTo>
                <a:lnTo>
                  <a:pt x="905338" y="350520"/>
                </a:lnTo>
                <a:lnTo>
                  <a:pt x="1011256" y="0"/>
                </a:lnTo>
                <a:lnTo>
                  <a:pt x="1183468" y="0"/>
                </a:lnTo>
                <a:lnTo>
                  <a:pt x="1051338" y="374098"/>
                </a:lnTo>
                <a:lnTo>
                  <a:pt x="749977" y="374098"/>
                </a:lnTo>
                <a:lnTo>
                  <a:pt x="617302" y="0"/>
                </a:lnTo>
                <a:close/>
                <a:moveTo>
                  <a:pt x="136480" y="0"/>
                </a:moveTo>
                <a:lnTo>
                  <a:pt x="332314" y="0"/>
                </a:lnTo>
                <a:lnTo>
                  <a:pt x="468795" y="374098"/>
                </a:lnTo>
                <a:lnTo>
                  <a:pt x="0" y="374098"/>
                </a:lnTo>
                <a:lnTo>
                  <a:pt x="136480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66680" y="1282680"/>
            <a:ext cx="3594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3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TextBox 11"/>
          <p:cNvSpPr/>
          <p:nvPr/>
        </p:nvSpPr>
        <p:spPr>
          <a:xfrm>
            <a:off x="2309760" y="106668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2"/>
          <p:cNvSpPr/>
          <p:nvPr/>
        </p:nvSpPr>
        <p:spPr>
          <a:xfrm>
            <a:off x="2309760" y="1868400"/>
            <a:ext cx="75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>
            <a:off x="3232080" y="5278320"/>
            <a:ext cx="575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3219120" y="2006280"/>
            <a:ext cx="5753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1" name="Picture 11" descr=""/>
          <p:cNvPicPr/>
          <p:nvPr/>
        </p:nvPicPr>
        <p:blipFill>
          <a:blip r:embed="rId1"/>
          <a:stretch/>
        </p:blipFill>
        <p:spPr>
          <a:xfrm>
            <a:off x="654120" y="4292640"/>
            <a:ext cx="1703160" cy="977760"/>
          </a:xfrm>
          <a:prstGeom prst="rect">
            <a:avLst/>
          </a:prstGeom>
          <a:ln w="0">
            <a:noFill/>
          </a:ln>
        </p:spPr>
      </p:pic>
      <p:sp>
        <p:nvSpPr>
          <p:cNvPr id="1152" name="TextBox 12"/>
          <p:cNvSpPr/>
          <p:nvPr/>
        </p:nvSpPr>
        <p:spPr>
          <a:xfrm rot="16200000">
            <a:off x="9686160" y="3255120"/>
            <a:ext cx="4556160" cy="455760"/>
          </a:xfrm>
          <a:custGeom>
            <a:avLst/>
            <a:gdLst/>
            <a:ahLst/>
            <a:rect l="l" t="t" r="r" b="b"/>
            <a:pathLst>
              <a:path w="4555552" h="455153">
                <a:moveTo>
                  <a:pt x="317689" y="332994"/>
                </a:moveTo>
                <a:lnTo>
                  <a:pt x="262825" y="146304"/>
                </a:lnTo>
                <a:lnTo>
                  <a:pt x="259777" y="146304"/>
                </a:lnTo>
                <a:lnTo>
                  <a:pt x="204151" y="332994"/>
                </a:lnTo>
                <a:lnTo>
                  <a:pt x="317689" y="332994"/>
                </a:lnTo>
                <a:close/>
                <a:moveTo>
                  <a:pt x="527937" y="455153"/>
                </a:moveTo>
                <a:lnTo>
                  <a:pt x="354180" y="455153"/>
                </a:lnTo>
                <a:lnTo>
                  <a:pt x="352741" y="450342"/>
                </a:lnTo>
                <a:lnTo>
                  <a:pt x="169099" y="450342"/>
                </a:lnTo>
                <a:lnTo>
                  <a:pt x="167661" y="455153"/>
                </a:lnTo>
                <a:lnTo>
                  <a:pt x="0" y="455153"/>
                </a:lnTo>
                <a:lnTo>
                  <a:pt x="166051" y="0"/>
                </a:lnTo>
                <a:lnTo>
                  <a:pt x="361885" y="0"/>
                </a:lnTo>
                <a:lnTo>
                  <a:pt x="527937" y="455153"/>
                </a:lnTo>
                <a:close/>
                <a:moveTo>
                  <a:pt x="1213039" y="0"/>
                </a:moveTo>
                <a:lnTo>
                  <a:pt x="1052280" y="455153"/>
                </a:lnTo>
                <a:lnTo>
                  <a:pt x="808294" y="455153"/>
                </a:lnTo>
                <a:lnTo>
                  <a:pt x="646873" y="0"/>
                </a:lnTo>
                <a:lnTo>
                  <a:pt x="826705" y="0"/>
                </a:lnTo>
                <a:lnTo>
                  <a:pt x="931861" y="350520"/>
                </a:lnTo>
                <a:lnTo>
                  <a:pt x="934909" y="350520"/>
                </a:lnTo>
                <a:lnTo>
                  <a:pt x="1040827" y="0"/>
                </a:lnTo>
                <a:lnTo>
                  <a:pt x="1213039" y="0"/>
                </a:lnTo>
                <a:close/>
                <a:moveTo>
                  <a:pt x="1651189" y="332994"/>
                </a:moveTo>
                <a:lnTo>
                  <a:pt x="1596325" y="146304"/>
                </a:lnTo>
                <a:lnTo>
                  <a:pt x="1593277" y="146304"/>
                </a:lnTo>
                <a:lnTo>
                  <a:pt x="1537651" y="332994"/>
                </a:lnTo>
                <a:lnTo>
                  <a:pt x="1651189" y="332994"/>
                </a:lnTo>
                <a:close/>
                <a:moveTo>
                  <a:pt x="1861437" y="455153"/>
                </a:moveTo>
                <a:lnTo>
                  <a:pt x="1687679" y="455153"/>
                </a:lnTo>
                <a:lnTo>
                  <a:pt x="1686241" y="450342"/>
                </a:lnTo>
                <a:lnTo>
                  <a:pt x="1502599" y="450342"/>
                </a:lnTo>
                <a:lnTo>
                  <a:pt x="1501161" y="455153"/>
                </a:lnTo>
                <a:lnTo>
                  <a:pt x="1333500" y="455153"/>
                </a:lnTo>
                <a:lnTo>
                  <a:pt x="1499551" y="0"/>
                </a:lnTo>
                <a:lnTo>
                  <a:pt x="1695385" y="0"/>
                </a:lnTo>
                <a:lnTo>
                  <a:pt x="1861437" y="455153"/>
                </a:lnTo>
                <a:close/>
                <a:moveTo>
                  <a:pt x="2461195" y="390144"/>
                </a:moveTo>
                <a:lnTo>
                  <a:pt x="2461195" y="455153"/>
                </a:lnTo>
                <a:lnTo>
                  <a:pt x="2023807" y="455153"/>
                </a:lnTo>
                <a:lnTo>
                  <a:pt x="2023807" y="0"/>
                </a:lnTo>
                <a:lnTo>
                  <a:pt x="2192209" y="0"/>
                </a:lnTo>
                <a:lnTo>
                  <a:pt x="2192209" y="390144"/>
                </a:lnTo>
                <a:lnTo>
                  <a:pt x="2461195" y="390144"/>
                </a:lnTo>
                <a:close/>
                <a:moveTo>
                  <a:pt x="3222052" y="0"/>
                </a:moveTo>
                <a:lnTo>
                  <a:pt x="3222052" y="455153"/>
                </a:lnTo>
                <a:lnTo>
                  <a:pt x="3055174" y="455153"/>
                </a:lnTo>
                <a:lnTo>
                  <a:pt x="3055174" y="335280"/>
                </a:lnTo>
                <a:cubicBezTo>
                  <a:pt x="3055174" y="311912"/>
                  <a:pt x="3056063" y="287909"/>
                  <a:pt x="3057841" y="263271"/>
                </a:cubicBezTo>
                <a:cubicBezTo>
                  <a:pt x="3059619" y="238633"/>
                  <a:pt x="3061524" y="217932"/>
                  <a:pt x="3063556" y="201168"/>
                </a:cubicBezTo>
                <a:cubicBezTo>
                  <a:pt x="3065588" y="184404"/>
                  <a:pt x="3066858" y="173736"/>
                  <a:pt x="3067366" y="169164"/>
                </a:cubicBezTo>
                <a:lnTo>
                  <a:pt x="3064318" y="169164"/>
                </a:lnTo>
                <a:lnTo>
                  <a:pt x="2986377" y="455153"/>
                </a:lnTo>
                <a:lnTo>
                  <a:pt x="2816696" y="455153"/>
                </a:lnTo>
                <a:lnTo>
                  <a:pt x="2738182" y="169926"/>
                </a:lnTo>
                <a:lnTo>
                  <a:pt x="2735134" y="169926"/>
                </a:lnTo>
                <a:cubicBezTo>
                  <a:pt x="2735642" y="174498"/>
                  <a:pt x="2737039" y="185039"/>
                  <a:pt x="2739325" y="201549"/>
                </a:cubicBezTo>
                <a:cubicBezTo>
                  <a:pt x="2741611" y="218059"/>
                  <a:pt x="2743770" y="238633"/>
                  <a:pt x="2745802" y="263271"/>
                </a:cubicBezTo>
                <a:cubicBezTo>
                  <a:pt x="2747834" y="287909"/>
                  <a:pt x="2748850" y="311912"/>
                  <a:pt x="2748850" y="335280"/>
                </a:cubicBezTo>
                <a:lnTo>
                  <a:pt x="2748850" y="455153"/>
                </a:lnTo>
                <a:lnTo>
                  <a:pt x="2594164" y="455153"/>
                </a:lnTo>
                <a:lnTo>
                  <a:pt x="2594164" y="0"/>
                </a:lnTo>
                <a:lnTo>
                  <a:pt x="2831908" y="0"/>
                </a:lnTo>
                <a:lnTo>
                  <a:pt x="2911156" y="302514"/>
                </a:lnTo>
                <a:lnTo>
                  <a:pt x="2914204" y="302514"/>
                </a:lnTo>
                <a:lnTo>
                  <a:pt x="2992690" y="0"/>
                </a:lnTo>
                <a:lnTo>
                  <a:pt x="3222052" y="0"/>
                </a:lnTo>
                <a:close/>
                <a:moveTo>
                  <a:pt x="3863656" y="398526"/>
                </a:moveTo>
                <a:lnTo>
                  <a:pt x="3863656" y="455153"/>
                </a:lnTo>
                <a:lnTo>
                  <a:pt x="3404932" y="455153"/>
                </a:lnTo>
                <a:lnTo>
                  <a:pt x="3404932" y="0"/>
                </a:lnTo>
                <a:lnTo>
                  <a:pt x="3858322" y="0"/>
                </a:lnTo>
                <a:lnTo>
                  <a:pt x="3858322" y="125730"/>
                </a:lnTo>
                <a:lnTo>
                  <a:pt x="3573334" y="125730"/>
                </a:lnTo>
                <a:lnTo>
                  <a:pt x="3573334" y="198120"/>
                </a:lnTo>
                <a:lnTo>
                  <a:pt x="3817174" y="198120"/>
                </a:lnTo>
                <a:lnTo>
                  <a:pt x="3817174" y="318516"/>
                </a:lnTo>
                <a:lnTo>
                  <a:pt x="3573334" y="318516"/>
                </a:lnTo>
                <a:lnTo>
                  <a:pt x="3573334" y="398526"/>
                </a:lnTo>
                <a:lnTo>
                  <a:pt x="3863656" y="398526"/>
                </a:lnTo>
                <a:close/>
                <a:moveTo>
                  <a:pt x="4555552" y="0"/>
                </a:moveTo>
                <a:lnTo>
                  <a:pt x="4555552" y="455153"/>
                </a:lnTo>
                <a:lnTo>
                  <a:pt x="4348693" y="455153"/>
                </a:lnTo>
                <a:lnTo>
                  <a:pt x="4188268" y="269748"/>
                </a:lnTo>
                <a:lnTo>
                  <a:pt x="4188268" y="455153"/>
                </a:lnTo>
                <a:lnTo>
                  <a:pt x="4033582" y="455153"/>
                </a:lnTo>
                <a:lnTo>
                  <a:pt x="4033582" y="0"/>
                </a:lnTo>
                <a:lnTo>
                  <a:pt x="4180648" y="0"/>
                </a:lnTo>
                <a:lnTo>
                  <a:pt x="4400866" y="258318"/>
                </a:lnTo>
                <a:lnTo>
                  <a:pt x="4400866" y="0"/>
                </a:lnTo>
                <a:lnTo>
                  <a:pt x="4555552" y="0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13"/>
          <p:cNvSpPr/>
          <p:nvPr/>
        </p:nvSpPr>
        <p:spPr>
          <a:xfrm>
            <a:off x="4122720" y="1504800"/>
            <a:ext cx="43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yiv*Type Sans"/>
                <a:ea typeface="Vollkorn"/>
              </a:rPr>
              <a:t>PORTFOLIO </a:t>
            </a:r>
            <a:r>
              <a:rPr b="1" lang="en-US" sz="4400" spc="-1" strike="noStrike">
                <a:solidFill>
                  <a:srgbClr val="ff3636"/>
                </a:solidFill>
                <a:latin typeface="Kyiv*Type Sans"/>
                <a:ea typeface="Vollkorn"/>
              </a:rPr>
              <a:t>EVERYO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 Placeholder 6"/>
          <p:cNvSpPr/>
          <p:nvPr/>
        </p:nvSpPr>
        <p:spPr>
          <a:xfrm>
            <a:off x="7147080" y="342900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7184880" y="533880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16"/>
          <p:cNvSpPr/>
          <p:nvPr/>
        </p:nvSpPr>
        <p:spPr>
          <a:xfrm>
            <a:off x="7273800" y="559764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1752480" y="552600"/>
            <a:ext cx="3314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2" name="Group 5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6" name="Group 12"/>
          <p:cNvGrpSpPr/>
          <p:nvPr/>
        </p:nvGrpSpPr>
        <p:grpSpPr>
          <a:xfrm>
            <a:off x="3817800" y="2732040"/>
            <a:ext cx="4556160" cy="1419120"/>
            <a:chOff x="3817800" y="2732040"/>
            <a:chExt cx="4556160" cy="1419120"/>
          </a:xfrm>
        </p:grpSpPr>
        <p:sp>
          <p:nvSpPr>
            <p:cNvPr id="1167" name="TextBox 9"/>
            <p:cNvSpPr/>
            <p:nvPr/>
          </p:nvSpPr>
          <p:spPr>
            <a:xfrm>
              <a:off x="3817800" y="273204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Box 10"/>
            <p:cNvSpPr/>
            <p:nvPr/>
          </p:nvSpPr>
          <p:spPr>
            <a:xfrm>
              <a:off x="3817800" y="32140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Box 11"/>
            <p:cNvSpPr/>
            <p:nvPr/>
          </p:nvSpPr>
          <p:spPr>
            <a:xfrm>
              <a:off x="3817800" y="3696480"/>
              <a:ext cx="4556160" cy="454680"/>
            </a:xfrm>
            <a:custGeom>
              <a:avLst/>
              <a:gdLst/>
              <a:ahLst/>
              <a:rect l="l" t="t" r="r" b="b"/>
              <a:pathLst>
                <a:path w="4555552" h="455153">
                  <a:moveTo>
                    <a:pt x="317689" y="332994"/>
                  </a:moveTo>
                  <a:lnTo>
                    <a:pt x="262825" y="146304"/>
                  </a:lnTo>
                  <a:lnTo>
                    <a:pt x="259777" y="146304"/>
                  </a:lnTo>
                  <a:lnTo>
                    <a:pt x="204151" y="332994"/>
                  </a:lnTo>
                  <a:lnTo>
                    <a:pt x="317689" y="332994"/>
                  </a:lnTo>
                  <a:close/>
                  <a:moveTo>
                    <a:pt x="527937" y="455153"/>
                  </a:moveTo>
                  <a:lnTo>
                    <a:pt x="354180" y="455153"/>
                  </a:lnTo>
                  <a:lnTo>
                    <a:pt x="352741" y="450342"/>
                  </a:lnTo>
                  <a:lnTo>
                    <a:pt x="169099" y="450342"/>
                  </a:lnTo>
                  <a:lnTo>
                    <a:pt x="167661" y="455153"/>
                  </a:lnTo>
                  <a:lnTo>
                    <a:pt x="0" y="455153"/>
                  </a:lnTo>
                  <a:lnTo>
                    <a:pt x="166051" y="0"/>
                  </a:lnTo>
                  <a:lnTo>
                    <a:pt x="361885" y="0"/>
                  </a:lnTo>
                  <a:lnTo>
                    <a:pt x="527937" y="455153"/>
                  </a:lnTo>
                  <a:close/>
                  <a:moveTo>
                    <a:pt x="1213039" y="0"/>
                  </a:moveTo>
                  <a:lnTo>
                    <a:pt x="1052280" y="455153"/>
                  </a:lnTo>
                  <a:lnTo>
                    <a:pt x="808294" y="455153"/>
                  </a:lnTo>
                  <a:lnTo>
                    <a:pt x="646873" y="0"/>
                  </a:lnTo>
                  <a:lnTo>
                    <a:pt x="826705" y="0"/>
                  </a:lnTo>
                  <a:lnTo>
                    <a:pt x="931861" y="350520"/>
                  </a:lnTo>
                  <a:lnTo>
                    <a:pt x="934909" y="350520"/>
                  </a:lnTo>
                  <a:lnTo>
                    <a:pt x="1040827" y="0"/>
                  </a:lnTo>
                  <a:lnTo>
                    <a:pt x="1213039" y="0"/>
                  </a:lnTo>
                  <a:close/>
                  <a:moveTo>
                    <a:pt x="1651189" y="332994"/>
                  </a:moveTo>
                  <a:lnTo>
                    <a:pt x="1596325" y="146304"/>
                  </a:lnTo>
                  <a:lnTo>
                    <a:pt x="1593277" y="146304"/>
                  </a:lnTo>
                  <a:lnTo>
                    <a:pt x="1537651" y="332994"/>
                  </a:lnTo>
                  <a:lnTo>
                    <a:pt x="1651189" y="332994"/>
                  </a:lnTo>
                  <a:close/>
                  <a:moveTo>
                    <a:pt x="1861437" y="455153"/>
                  </a:moveTo>
                  <a:lnTo>
                    <a:pt x="1687679" y="455153"/>
                  </a:lnTo>
                  <a:lnTo>
                    <a:pt x="1686241" y="450342"/>
                  </a:lnTo>
                  <a:lnTo>
                    <a:pt x="1502599" y="450342"/>
                  </a:lnTo>
                  <a:lnTo>
                    <a:pt x="1501161" y="455153"/>
                  </a:lnTo>
                  <a:lnTo>
                    <a:pt x="1333500" y="455153"/>
                  </a:lnTo>
                  <a:lnTo>
                    <a:pt x="1499551" y="0"/>
                  </a:lnTo>
                  <a:lnTo>
                    <a:pt x="1695385" y="0"/>
                  </a:lnTo>
                  <a:lnTo>
                    <a:pt x="1861437" y="455153"/>
                  </a:lnTo>
                  <a:close/>
                  <a:moveTo>
                    <a:pt x="2461195" y="390144"/>
                  </a:moveTo>
                  <a:lnTo>
                    <a:pt x="2461195" y="455153"/>
                  </a:lnTo>
                  <a:lnTo>
                    <a:pt x="2023807" y="455153"/>
                  </a:lnTo>
                  <a:lnTo>
                    <a:pt x="2023807" y="0"/>
                  </a:lnTo>
                  <a:lnTo>
                    <a:pt x="2192209" y="0"/>
                  </a:lnTo>
                  <a:lnTo>
                    <a:pt x="2192209" y="390144"/>
                  </a:lnTo>
                  <a:lnTo>
                    <a:pt x="2461195" y="390144"/>
                  </a:lnTo>
                  <a:close/>
                  <a:moveTo>
                    <a:pt x="3222052" y="0"/>
                  </a:moveTo>
                  <a:lnTo>
                    <a:pt x="3222052" y="455153"/>
                  </a:lnTo>
                  <a:lnTo>
                    <a:pt x="3055174" y="455153"/>
                  </a:lnTo>
                  <a:lnTo>
                    <a:pt x="3055174" y="335280"/>
                  </a:lnTo>
                  <a:cubicBezTo>
                    <a:pt x="3055174" y="311912"/>
                    <a:pt x="3056063" y="287909"/>
                    <a:pt x="3057841" y="263271"/>
                  </a:cubicBezTo>
                  <a:cubicBezTo>
                    <a:pt x="3059619" y="238633"/>
                    <a:pt x="3061524" y="217932"/>
                    <a:pt x="3063556" y="201168"/>
                  </a:cubicBezTo>
                  <a:cubicBezTo>
                    <a:pt x="3065588" y="184404"/>
                    <a:pt x="3066858" y="173736"/>
                    <a:pt x="3067366" y="169164"/>
                  </a:cubicBezTo>
                  <a:lnTo>
                    <a:pt x="3064318" y="169164"/>
                  </a:lnTo>
                  <a:lnTo>
                    <a:pt x="2986377" y="455153"/>
                  </a:lnTo>
                  <a:lnTo>
                    <a:pt x="2816696" y="455153"/>
                  </a:lnTo>
                  <a:lnTo>
                    <a:pt x="2738182" y="169926"/>
                  </a:lnTo>
                  <a:lnTo>
                    <a:pt x="2735134" y="169926"/>
                  </a:lnTo>
                  <a:cubicBezTo>
                    <a:pt x="2735642" y="174498"/>
                    <a:pt x="2737039" y="185039"/>
                    <a:pt x="2739325" y="201549"/>
                  </a:cubicBezTo>
                  <a:cubicBezTo>
                    <a:pt x="2741611" y="218059"/>
                    <a:pt x="2743770" y="238633"/>
                    <a:pt x="2745802" y="263271"/>
                  </a:cubicBezTo>
                  <a:cubicBezTo>
                    <a:pt x="2747834" y="287909"/>
                    <a:pt x="2748850" y="311912"/>
                    <a:pt x="2748850" y="335280"/>
                  </a:cubicBezTo>
                  <a:lnTo>
                    <a:pt x="2748850" y="455153"/>
                  </a:lnTo>
                  <a:lnTo>
                    <a:pt x="2594164" y="455153"/>
                  </a:lnTo>
                  <a:lnTo>
                    <a:pt x="2594164" y="0"/>
                  </a:lnTo>
                  <a:lnTo>
                    <a:pt x="2831908" y="0"/>
                  </a:lnTo>
                  <a:lnTo>
                    <a:pt x="2911156" y="302514"/>
                  </a:lnTo>
                  <a:lnTo>
                    <a:pt x="2914204" y="302514"/>
                  </a:lnTo>
                  <a:lnTo>
                    <a:pt x="2992690" y="0"/>
                  </a:lnTo>
                  <a:lnTo>
                    <a:pt x="3222052" y="0"/>
                  </a:lnTo>
                  <a:close/>
                  <a:moveTo>
                    <a:pt x="3863656" y="398526"/>
                  </a:moveTo>
                  <a:lnTo>
                    <a:pt x="3863656" y="455153"/>
                  </a:lnTo>
                  <a:lnTo>
                    <a:pt x="3404932" y="455153"/>
                  </a:lnTo>
                  <a:lnTo>
                    <a:pt x="3404932" y="0"/>
                  </a:lnTo>
                  <a:lnTo>
                    <a:pt x="3858322" y="0"/>
                  </a:lnTo>
                  <a:lnTo>
                    <a:pt x="3858322" y="125730"/>
                  </a:lnTo>
                  <a:lnTo>
                    <a:pt x="3573334" y="125730"/>
                  </a:lnTo>
                  <a:lnTo>
                    <a:pt x="3573334" y="198120"/>
                  </a:lnTo>
                  <a:lnTo>
                    <a:pt x="3817174" y="198120"/>
                  </a:lnTo>
                  <a:lnTo>
                    <a:pt x="3817174" y="318516"/>
                  </a:lnTo>
                  <a:lnTo>
                    <a:pt x="3573334" y="318516"/>
                  </a:lnTo>
                  <a:lnTo>
                    <a:pt x="3573334" y="398526"/>
                  </a:lnTo>
                  <a:lnTo>
                    <a:pt x="3863656" y="398526"/>
                  </a:lnTo>
                  <a:close/>
                  <a:moveTo>
                    <a:pt x="4555552" y="0"/>
                  </a:moveTo>
                  <a:lnTo>
                    <a:pt x="4555552" y="455153"/>
                  </a:lnTo>
                  <a:lnTo>
                    <a:pt x="4348693" y="455153"/>
                  </a:lnTo>
                  <a:lnTo>
                    <a:pt x="4188268" y="269748"/>
                  </a:lnTo>
                  <a:lnTo>
                    <a:pt x="4188268" y="455153"/>
                  </a:lnTo>
                  <a:lnTo>
                    <a:pt x="4033582" y="455153"/>
                  </a:lnTo>
                  <a:lnTo>
                    <a:pt x="4033582" y="0"/>
                  </a:lnTo>
                  <a:lnTo>
                    <a:pt x="4180648" y="0"/>
                  </a:lnTo>
                  <a:lnTo>
                    <a:pt x="4400866" y="258318"/>
                  </a:lnTo>
                  <a:lnTo>
                    <a:pt x="4400866" y="0"/>
                  </a:lnTo>
                  <a:lnTo>
                    <a:pt x="4555552" y="0"/>
                  </a:lnTo>
                  <a:close/>
                </a:path>
              </a:pathLst>
            </a:custGeom>
            <a:solidFill>
              <a:srgbClr val="ff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Straight Connector 14"/>
          <p:cNvSpPr/>
          <p:nvPr/>
        </p:nvSpPr>
        <p:spPr>
          <a:xfrm>
            <a:off x="2502000" y="3429000"/>
            <a:ext cx="7213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600280" y="3164040"/>
            <a:ext cx="6991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Group 9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77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Text Placeholder 6"/>
          <p:cNvSpPr/>
          <p:nvPr/>
        </p:nvSpPr>
        <p:spPr>
          <a:xfrm>
            <a:off x="3187800" y="158760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3200400" y="27050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21"/>
          <p:cNvSpPr/>
          <p:nvPr/>
        </p:nvSpPr>
        <p:spPr>
          <a:xfrm>
            <a:off x="3289320" y="296388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3187800" y="3781440"/>
            <a:ext cx="22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 Placeholder 6"/>
          <p:cNvSpPr/>
          <p:nvPr/>
        </p:nvSpPr>
        <p:spPr>
          <a:xfrm>
            <a:off x="3200400" y="4900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traight Connector 25"/>
          <p:cNvSpPr/>
          <p:nvPr/>
        </p:nvSpPr>
        <p:spPr>
          <a:xfrm>
            <a:off x="3289320" y="5157720"/>
            <a:ext cx="1930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 Placeholder 6"/>
          <p:cNvSpPr/>
          <p:nvPr/>
        </p:nvSpPr>
        <p:spPr>
          <a:xfrm>
            <a:off x="8086680" y="158760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099280" y="2705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8"/>
          <p:cNvSpPr/>
          <p:nvPr/>
        </p:nvSpPr>
        <p:spPr>
          <a:xfrm>
            <a:off x="8188200" y="296388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086680" y="3781440"/>
            <a:ext cx="227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 Placeholder 6"/>
          <p:cNvSpPr/>
          <p:nvPr/>
        </p:nvSpPr>
        <p:spPr>
          <a:xfrm>
            <a:off x="8099280" y="490068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traight Connector 31"/>
          <p:cNvSpPr/>
          <p:nvPr/>
        </p:nvSpPr>
        <p:spPr>
          <a:xfrm>
            <a:off x="8188200" y="5157720"/>
            <a:ext cx="1930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32"/>
          <p:cNvSpPr/>
          <p:nvPr/>
        </p:nvSpPr>
        <p:spPr>
          <a:xfrm>
            <a:off x="808200" y="289548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AND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3"/>
          <p:cNvSpPr/>
          <p:nvPr/>
        </p:nvSpPr>
        <p:spPr>
          <a:xfrm>
            <a:off x="808200" y="5130720"/>
            <a:ext cx="24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JONA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36"/>
          <p:cNvSpPr/>
          <p:nvPr/>
        </p:nvSpPr>
        <p:spPr>
          <a:xfrm>
            <a:off x="5680080" y="28954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MARCH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5680080" y="513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636"/>
                </a:solidFill>
                <a:latin typeface="Kyiv*Type Sans"/>
                <a:ea typeface="Vollkorn"/>
              </a:rPr>
              <a:t>DAVID JOS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Kyiv*Type Sans"/>
                <a:ea typeface="Vollkorn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3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4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Placeholder 6"/>
          <p:cNvSpPr/>
          <p:nvPr/>
        </p:nvSpPr>
        <p:spPr>
          <a:xfrm>
            <a:off x="198360" y="157320"/>
            <a:ext cx="12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VAL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 Placeholder 6"/>
          <p:cNvSpPr/>
          <p:nvPr/>
        </p:nvSpPr>
        <p:spPr>
          <a:xfrm>
            <a:off x="5446800" y="157320"/>
            <a:ext cx="13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636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 Placeholder 6"/>
          <p:cNvSpPr/>
          <p:nvPr/>
        </p:nvSpPr>
        <p:spPr>
          <a:xfrm>
            <a:off x="10767960" y="157320"/>
            <a:ext cx="123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Placeholder 6"/>
          <p:cNvSpPr/>
          <p:nvPr/>
        </p:nvSpPr>
        <p:spPr>
          <a:xfrm>
            <a:off x="10553760" y="6321600"/>
            <a:ext cx="1377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2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1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AVALME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636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6" name="TextBox 17"/>
          <p:cNvSpPr/>
          <p:nvPr/>
        </p:nvSpPr>
        <p:spPr>
          <a:xfrm>
            <a:off x="2309760" y="355752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8"/>
          <p:cNvSpPr/>
          <p:nvPr/>
        </p:nvSpPr>
        <p:spPr>
          <a:xfrm>
            <a:off x="2309760" y="422604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THANK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19"/>
          <p:cNvSpPr/>
          <p:nvPr/>
        </p:nvSpPr>
        <p:spPr>
          <a:xfrm>
            <a:off x="2309760" y="4881600"/>
            <a:ext cx="75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636"/>
                </a:solidFill>
                <a:latin typeface="Kyiv*Type Sans"/>
                <a:ea typeface="Vollkorn"/>
              </a:rPr>
              <a:t>AVALME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15"/>
          <p:cNvSpPr/>
          <p:nvPr/>
        </p:nvSpPr>
        <p:spPr>
          <a:xfrm>
            <a:off x="2502000" y="4863960"/>
            <a:ext cx="7213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949560" y="1994040"/>
            <a:ext cx="430560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13:02:39Z</dcterms:created>
  <dc:creator>user</dc:creator>
  <dc:description/>
  <dc:language>en-US</dc:language>
  <cp:lastModifiedBy>Harist</cp:lastModifiedBy>
  <dcterms:modified xsi:type="dcterms:W3CDTF">2023-03-12T08:57:14Z</dcterms:modified>
  <cp:revision>27</cp:revision>
  <dc:subject/>
  <dc:title>PowerPoint Presentation</dc:title>
</cp:coreProperties>
</file>