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sldIdLst>
    <p:sldId id="256" r:id="rId31"/>
    <p:sldId id="257" r:id="rId32"/>
    <p:sldId id="258" r:id="rId33"/>
    <p:sldId id="259" r:id="rId34"/>
    <p:sldId id="260" r:id="rId35"/>
    <p:sldId id="261" r:id="rId36"/>
    <p:sldId id="262" r:id="rId37"/>
    <p:sldId id="263" r:id="rId38"/>
    <p:sldId id="264" r:id="rId39"/>
    <p:sldId id="265"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6C43D-B9F1-4400-9AD2-D222DBE50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A06C0-FAA0-42DB-A363-701CA9E7A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4DC0B-6B85-4FB1-994C-188AEFBB1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F4F0A-61FD-4469-8E33-947345912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7DD4C-BE09-47DD-B429-8ABEA21BF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5FC6F-0CB1-4456-815C-C9B1763B3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01363-5988-4ACF-98BC-2AF15CEAA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88353-E28D-485D-BDC8-3EC703ECA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3310C-E271-4C12-9535-6EE70C934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D0DAD-9365-4EB0-BE25-973CB2985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0AB82-2D67-496D-B714-88236CED7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11338-669B-48F3-A520-92385B285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1B68B-401E-440D-B280-66FDCF32613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8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0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105" name="Oval 11"/>
          <p:cNvSpPr/>
          <p:nvPr/>
        </p:nvSpPr>
        <p:spPr>
          <a:xfrm>
            <a:off x="4336920" y="2571840"/>
            <a:ext cx="3517920" cy="1434960"/>
          </a:xfrm>
          <a:prstGeom prst="ellipse">
            <a:avLst/>
          </a:prstGeom>
          <a:solidFill>
            <a:srgbClr val="ed7d3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06" name="Group 2"/>
          <p:cNvGrpSpPr/>
          <p:nvPr/>
        </p:nvGrpSpPr>
        <p:grpSpPr>
          <a:xfrm>
            <a:off x="247680" y="200160"/>
            <a:ext cx="4444920" cy="295200"/>
            <a:chOff x="247680" y="200160"/>
            <a:chExt cx="4444920" cy="295200"/>
          </a:xfrm>
        </p:grpSpPr>
        <p:sp>
          <p:nvSpPr>
            <p:cNvPr id="1107"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08"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09"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10" name="Group 6"/>
          <p:cNvGrpSpPr/>
          <p:nvPr/>
        </p:nvGrpSpPr>
        <p:grpSpPr>
          <a:xfrm>
            <a:off x="11727000" y="4230360"/>
            <a:ext cx="352440" cy="2305080"/>
            <a:chOff x="11727000" y="4230360"/>
            <a:chExt cx="352440" cy="2305080"/>
          </a:xfrm>
        </p:grpSpPr>
        <p:sp>
          <p:nvSpPr>
            <p:cNvPr id="1111"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12"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13"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14" name="TextBox 10"/>
          <p:cNvSpPr/>
          <p:nvPr/>
        </p:nvSpPr>
        <p:spPr>
          <a:xfrm>
            <a:off x="2998800" y="2651040"/>
            <a:ext cx="6219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04040"/>
                </a:solidFill>
                <a:latin typeface="MAZIUS REVIEW 20.09"/>
                <a:ea typeface="Vollkorn"/>
              </a:rPr>
              <a:t>MASOKA</a:t>
            </a:r>
            <a:endParaRPr b="0" lang="en-US" sz="9600" spc="-1" strike="noStrike">
              <a:solidFill>
                <a:srgbClr val="000000"/>
              </a:solidFill>
              <a:latin typeface="Calibri"/>
            </a:endParaRPr>
          </a:p>
        </p:txBody>
      </p:sp>
      <p:grpSp>
        <p:nvGrpSpPr>
          <p:cNvPr id="1115" name="Group 15"/>
          <p:cNvGrpSpPr/>
          <p:nvPr/>
        </p:nvGrpSpPr>
        <p:grpSpPr>
          <a:xfrm>
            <a:off x="247680" y="5931000"/>
            <a:ext cx="1727280" cy="662040"/>
            <a:chOff x="247680" y="5931000"/>
            <a:chExt cx="1727280" cy="662040"/>
          </a:xfrm>
        </p:grpSpPr>
        <p:sp>
          <p:nvSpPr>
            <p:cNvPr id="1116"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17"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18"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323"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749"/>
          <p:cNvSpPr/>
          <p:nvPr/>
        </p:nvSpPr>
        <p:spPr>
          <a:xfrm>
            <a:off x="10599840" y="5380200"/>
            <a:ext cx="288720" cy="174600"/>
          </a:xfrm>
          <a:custGeom>
            <a:avLst/>
            <a:gdLst>
              <a:gd name="textAreaLeft" fmla="*/ 0 w 288720"/>
              <a:gd name="textAreaRight" fmla="*/ 289080 w 288720"/>
              <a:gd name="textAreaTop" fmla="*/ 0 h 174600"/>
              <a:gd name="textAreaBottom" fmla="*/ 174960 h 17460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750"/>
          <p:cNvSpPr/>
          <p:nvPr/>
        </p:nvSpPr>
        <p:spPr>
          <a:xfrm>
            <a:off x="10675800" y="4992840"/>
            <a:ext cx="228600" cy="54000"/>
          </a:xfrm>
          <a:custGeom>
            <a:avLst/>
            <a:gdLst>
              <a:gd name="textAreaLeft" fmla="*/ 0 w 228600"/>
              <a:gd name="textAreaRight" fmla="*/ 228960 w 228600"/>
              <a:gd name="textAreaTop" fmla="*/ 0 h 54000"/>
              <a:gd name="textAreaBottom" fmla="*/ 54360 h 5400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59"/>
          <p:cNvSpPr/>
          <p:nvPr/>
        </p:nvSpPr>
        <p:spPr>
          <a:xfrm>
            <a:off x="9702720" y="5324400"/>
            <a:ext cx="108000" cy="246240"/>
          </a:xfrm>
          <a:custGeom>
            <a:avLst/>
            <a:gdLst>
              <a:gd name="textAreaLeft" fmla="*/ 0 w 108000"/>
              <a:gd name="textAreaRight" fmla="*/ 108360 w 108000"/>
              <a:gd name="textAreaTop" fmla="*/ 0 h 246240"/>
              <a:gd name="textAreaBottom" fmla="*/ 246600 h 2462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61"/>
          <p:cNvSpPr/>
          <p:nvPr/>
        </p:nvSpPr>
        <p:spPr>
          <a:xfrm>
            <a:off x="8601120" y="5324400"/>
            <a:ext cx="288720" cy="292320"/>
          </a:xfrm>
          <a:custGeom>
            <a:avLst/>
            <a:gdLst>
              <a:gd name="textAreaLeft" fmla="*/ 0 w 288720"/>
              <a:gd name="textAreaRight" fmla="*/ 289080 w 288720"/>
              <a:gd name="textAreaTop" fmla="*/ 0 h 292320"/>
              <a:gd name="textAreaBottom" fmla="*/ 292680 h 29232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63"/>
          <p:cNvSpPr/>
          <p:nvPr/>
        </p:nvSpPr>
        <p:spPr>
          <a:xfrm>
            <a:off x="7632720" y="5335560"/>
            <a:ext cx="244440" cy="281160"/>
          </a:xfrm>
          <a:custGeom>
            <a:avLst/>
            <a:gdLst>
              <a:gd name="textAreaLeft" fmla="*/ 0 w 244440"/>
              <a:gd name="textAreaRight" fmla="*/ 244800 w 244440"/>
              <a:gd name="textAreaTop" fmla="*/ 0 h 281160"/>
              <a:gd name="textAreaBottom" fmla="*/ 281520 h 28116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71"/>
          <p:cNvSpPr/>
          <p:nvPr/>
        </p:nvSpPr>
        <p:spPr>
          <a:xfrm>
            <a:off x="9613800" y="4851360"/>
            <a:ext cx="290520" cy="257040"/>
          </a:xfrm>
          <a:custGeom>
            <a:avLst/>
            <a:gdLst>
              <a:gd name="textAreaLeft" fmla="*/ 0 w 290520"/>
              <a:gd name="textAreaRight" fmla="*/ 290880 w 290520"/>
              <a:gd name="textAreaTop" fmla="*/ 0 h 257040"/>
              <a:gd name="textAreaBottom" fmla="*/ 257400 h 2570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73"/>
          <p:cNvSpPr/>
          <p:nvPr/>
        </p:nvSpPr>
        <p:spPr>
          <a:xfrm>
            <a:off x="8601120" y="485136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75"/>
          <p:cNvSpPr/>
          <p:nvPr/>
        </p:nvSpPr>
        <p:spPr>
          <a:xfrm>
            <a:off x="7586640" y="485136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76"/>
          <p:cNvSpPr/>
          <p:nvPr/>
        </p:nvSpPr>
        <p:spPr>
          <a:xfrm>
            <a:off x="10578960" y="178452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78"/>
          <p:cNvSpPr/>
          <p:nvPr/>
        </p:nvSpPr>
        <p:spPr>
          <a:xfrm>
            <a:off x="9564840" y="178452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80"/>
          <p:cNvSpPr/>
          <p:nvPr/>
        </p:nvSpPr>
        <p:spPr>
          <a:xfrm>
            <a:off x="8553600" y="178452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82"/>
          <p:cNvSpPr/>
          <p:nvPr/>
        </p:nvSpPr>
        <p:spPr>
          <a:xfrm>
            <a:off x="7540560" y="178452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88"/>
          <p:cNvSpPr/>
          <p:nvPr/>
        </p:nvSpPr>
        <p:spPr>
          <a:xfrm>
            <a:off x="10580760" y="1306440"/>
            <a:ext cx="282600" cy="250920"/>
          </a:xfrm>
          <a:custGeom>
            <a:avLst/>
            <a:gdLst>
              <a:gd name="textAreaLeft" fmla="*/ 0 w 282600"/>
              <a:gd name="textAreaRight" fmla="*/ 282960 w 282600"/>
              <a:gd name="textAreaTop" fmla="*/ 0 h 250920"/>
              <a:gd name="textAreaBottom" fmla="*/ 251280 h 2509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90"/>
          <p:cNvSpPr/>
          <p:nvPr/>
        </p:nvSpPr>
        <p:spPr>
          <a:xfrm>
            <a:off x="9570960" y="1306440"/>
            <a:ext cx="279360" cy="250920"/>
          </a:xfrm>
          <a:custGeom>
            <a:avLst/>
            <a:gdLst>
              <a:gd name="textAreaLeft" fmla="*/ 0 w 279360"/>
              <a:gd name="textAreaRight" fmla="*/ 279720 w 279360"/>
              <a:gd name="textAreaTop" fmla="*/ 0 h 250920"/>
              <a:gd name="textAreaBottom" fmla="*/ 251280 h 2509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92"/>
          <p:cNvSpPr/>
          <p:nvPr/>
        </p:nvSpPr>
        <p:spPr>
          <a:xfrm>
            <a:off x="8553600" y="1333440"/>
            <a:ext cx="290520" cy="179280"/>
          </a:xfrm>
          <a:custGeom>
            <a:avLst/>
            <a:gdLst>
              <a:gd name="textAreaLeft" fmla="*/ 0 w 290520"/>
              <a:gd name="textAreaRight" fmla="*/ 290880 w 290520"/>
              <a:gd name="textAreaTop" fmla="*/ 0 h 179280"/>
              <a:gd name="textAreaBottom" fmla="*/ 179640 h 1792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94"/>
          <p:cNvSpPr/>
          <p:nvPr/>
        </p:nvSpPr>
        <p:spPr>
          <a:xfrm>
            <a:off x="7607160" y="129384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96"/>
          <p:cNvSpPr/>
          <p:nvPr/>
        </p:nvSpPr>
        <p:spPr>
          <a:xfrm>
            <a:off x="6622920" y="534816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98"/>
          <p:cNvSpPr/>
          <p:nvPr/>
        </p:nvSpPr>
        <p:spPr>
          <a:xfrm>
            <a:off x="5603760" y="5357880"/>
            <a:ext cx="235080" cy="218880"/>
          </a:xfrm>
          <a:custGeom>
            <a:avLst/>
            <a:gdLst>
              <a:gd name="textAreaLeft" fmla="*/ 0 w 235080"/>
              <a:gd name="textAreaRight" fmla="*/ 235440 w 235080"/>
              <a:gd name="textAreaTop" fmla="*/ 0 h 218880"/>
              <a:gd name="textAreaBottom" fmla="*/ 219240 h 21888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800"/>
          <p:cNvSpPr/>
          <p:nvPr/>
        </p:nvSpPr>
        <p:spPr>
          <a:xfrm>
            <a:off x="4564080" y="5319720"/>
            <a:ext cx="287280" cy="291960"/>
          </a:xfrm>
          <a:custGeom>
            <a:avLst/>
            <a:gdLst>
              <a:gd name="textAreaLeft" fmla="*/ 0 w 287280"/>
              <a:gd name="textAreaRight" fmla="*/ 287640 w 287280"/>
              <a:gd name="textAreaTop" fmla="*/ 0 h 291960"/>
              <a:gd name="textAreaBottom" fmla="*/ 292320 h 29196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802"/>
          <p:cNvSpPr/>
          <p:nvPr/>
        </p:nvSpPr>
        <p:spPr>
          <a:xfrm>
            <a:off x="3562200" y="5319720"/>
            <a:ext cx="279720" cy="291960"/>
          </a:xfrm>
          <a:custGeom>
            <a:avLst/>
            <a:gdLst>
              <a:gd name="textAreaLeft" fmla="*/ 0 w 279720"/>
              <a:gd name="textAreaRight" fmla="*/ 280080 w 279720"/>
              <a:gd name="textAreaTop" fmla="*/ 0 h 291960"/>
              <a:gd name="textAreaBottom" fmla="*/ 292320 h 29196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804"/>
          <p:cNvSpPr/>
          <p:nvPr/>
        </p:nvSpPr>
        <p:spPr>
          <a:xfrm>
            <a:off x="2552760" y="531828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806"/>
          <p:cNvSpPr/>
          <p:nvPr/>
        </p:nvSpPr>
        <p:spPr>
          <a:xfrm>
            <a:off x="1536840" y="5319720"/>
            <a:ext cx="263520" cy="291960"/>
          </a:xfrm>
          <a:custGeom>
            <a:avLst/>
            <a:gdLst>
              <a:gd name="textAreaLeft" fmla="*/ 0 w 263520"/>
              <a:gd name="textAreaRight" fmla="*/ 263880 w 263520"/>
              <a:gd name="textAreaTop" fmla="*/ 0 h 291960"/>
              <a:gd name="textAreaBottom" fmla="*/ 292320 h 29196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808"/>
          <p:cNvSpPr/>
          <p:nvPr/>
        </p:nvSpPr>
        <p:spPr>
          <a:xfrm>
            <a:off x="6607080" y="4815000"/>
            <a:ext cx="252360" cy="288720"/>
          </a:xfrm>
          <a:custGeom>
            <a:avLst/>
            <a:gdLst>
              <a:gd name="textAreaLeft" fmla="*/ 0 w 252360"/>
              <a:gd name="textAreaRight" fmla="*/ 252720 w 252360"/>
              <a:gd name="textAreaTop" fmla="*/ 0 h 288720"/>
              <a:gd name="textAreaBottom" fmla="*/ 289080 h 2887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810"/>
          <p:cNvSpPr/>
          <p:nvPr/>
        </p:nvSpPr>
        <p:spPr>
          <a:xfrm>
            <a:off x="5661000" y="489276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812"/>
          <p:cNvSpPr/>
          <p:nvPr/>
        </p:nvSpPr>
        <p:spPr>
          <a:xfrm>
            <a:off x="4654440" y="489888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814"/>
          <p:cNvSpPr/>
          <p:nvPr/>
        </p:nvSpPr>
        <p:spPr>
          <a:xfrm>
            <a:off x="3611520" y="489888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816"/>
          <p:cNvSpPr/>
          <p:nvPr/>
        </p:nvSpPr>
        <p:spPr>
          <a:xfrm>
            <a:off x="2620800" y="4897440"/>
            <a:ext cx="123840" cy="123840"/>
          </a:xfrm>
          <a:custGeom>
            <a:avLst/>
            <a:gdLst>
              <a:gd name="textAreaLeft" fmla="*/ 0 w 123840"/>
              <a:gd name="textAreaRight" fmla="*/ 124200 w 123840"/>
              <a:gd name="textAreaTop" fmla="*/ 0 h 123840"/>
              <a:gd name="textAreaBottom" fmla="*/ 124200 h 12384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818"/>
          <p:cNvSpPr/>
          <p:nvPr/>
        </p:nvSpPr>
        <p:spPr>
          <a:xfrm>
            <a:off x="1604880" y="488628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56"/>
          <p:cNvSpPr/>
          <p:nvPr/>
        </p:nvSpPr>
        <p:spPr>
          <a:xfrm>
            <a:off x="6586560" y="178920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58"/>
          <p:cNvSpPr/>
          <p:nvPr/>
        </p:nvSpPr>
        <p:spPr>
          <a:xfrm>
            <a:off x="5576760" y="1789200"/>
            <a:ext cx="287640" cy="288720"/>
          </a:xfrm>
          <a:custGeom>
            <a:avLst/>
            <a:gdLst>
              <a:gd name="textAreaLeft" fmla="*/ 0 w 287640"/>
              <a:gd name="textAreaRight" fmla="*/ 288000 w 28764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60"/>
          <p:cNvSpPr/>
          <p:nvPr/>
        </p:nvSpPr>
        <p:spPr>
          <a:xfrm>
            <a:off x="4564080" y="178920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62"/>
          <p:cNvSpPr/>
          <p:nvPr/>
        </p:nvSpPr>
        <p:spPr>
          <a:xfrm>
            <a:off x="3549600" y="178920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64"/>
          <p:cNvSpPr/>
          <p:nvPr/>
        </p:nvSpPr>
        <p:spPr>
          <a:xfrm>
            <a:off x="2538360" y="178920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66"/>
          <p:cNvSpPr/>
          <p:nvPr/>
        </p:nvSpPr>
        <p:spPr>
          <a:xfrm>
            <a:off x="1523880" y="178920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68"/>
          <p:cNvSpPr/>
          <p:nvPr/>
        </p:nvSpPr>
        <p:spPr>
          <a:xfrm>
            <a:off x="6586560" y="128124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70"/>
          <p:cNvSpPr/>
          <p:nvPr/>
        </p:nvSpPr>
        <p:spPr>
          <a:xfrm>
            <a:off x="5610240" y="128124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72"/>
          <p:cNvSpPr/>
          <p:nvPr/>
        </p:nvSpPr>
        <p:spPr>
          <a:xfrm>
            <a:off x="4599000" y="128124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74"/>
          <p:cNvSpPr/>
          <p:nvPr/>
        </p:nvSpPr>
        <p:spPr>
          <a:xfrm>
            <a:off x="3549600" y="132084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76"/>
          <p:cNvSpPr/>
          <p:nvPr/>
        </p:nvSpPr>
        <p:spPr>
          <a:xfrm>
            <a:off x="2538360" y="1320840"/>
            <a:ext cx="289080" cy="236520"/>
          </a:xfrm>
          <a:custGeom>
            <a:avLst/>
            <a:gdLst>
              <a:gd name="textAreaLeft" fmla="*/ 0 w 289080"/>
              <a:gd name="textAreaRight" fmla="*/ 289440 w 289080"/>
              <a:gd name="textAreaTop" fmla="*/ 0 h 236520"/>
              <a:gd name="textAreaBottom" fmla="*/ 236880 h 2365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78"/>
          <p:cNvSpPr/>
          <p:nvPr/>
        </p:nvSpPr>
        <p:spPr>
          <a:xfrm>
            <a:off x="1523880" y="132084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9ce"/>
        </a:solidFill>
      </p:bgPr>
    </p:bg>
    <p:spTree>
      <p:nvGrpSpPr>
        <p:cNvPr id="1" name=""/>
        <p:cNvGrpSpPr/>
        <p:nvPr/>
      </p:nvGrpSpPr>
      <p:grpSpPr>
        <a:xfrm>
          <a:off x="0" y="0"/>
          <a:ext cx="0" cy="0"/>
          <a:chOff x="0" y="0"/>
          <a:chExt cx="0" cy="0"/>
        </a:xfrm>
      </p:grpSpPr>
      <p:grpSp>
        <p:nvGrpSpPr>
          <p:cNvPr id="1119" name="Group 1"/>
          <p:cNvGrpSpPr/>
          <p:nvPr/>
        </p:nvGrpSpPr>
        <p:grpSpPr>
          <a:xfrm>
            <a:off x="247680" y="200160"/>
            <a:ext cx="4444920" cy="295200"/>
            <a:chOff x="247680" y="200160"/>
            <a:chExt cx="4444920" cy="295200"/>
          </a:xfrm>
        </p:grpSpPr>
        <p:sp>
          <p:nvSpPr>
            <p:cNvPr id="1120"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21"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22"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23" name="Group 5"/>
          <p:cNvGrpSpPr/>
          <p:nvPr/>
        </p:nvGrpSpPr>
        <p:grpSpPr>
          <a:xfrm>
            <a:off x="11727000" y="4230360"/>
            <a:ext cx="352440" cy="2305080"/>
            <a:chOff x="11727000" y="4230360"/>
            <a:chExt cx="352440" cy="2305080"/>
          </a:xfrm>
        </p:grpSpPr>
        <p:sp>
          <p:nvSpPr>
            <p:cNvPr id="1124"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25"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26" name="Straight Connector 8"/>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27" name="Group 9"/>
          <p:cNvGrpSpPr/>
          <p:nvPr/>
        </p:nvGrpSpPr>
        <p:grpSpPr>
          <a:xfrm>
            <a:off x="247680" y="5931000"/>
            <a:ext cx="1727280" cy="662040"/>
            <a:chOff x="247680" y="5931000"/>
            <a:chExt cx="1727280" cy="662040"/>
          </a:xfrm>
        </p:grpSpPr>
        <p:sp>
          <p:nvSpPr>
            <p:cNvPr id="1128"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29"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30"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31" name="TextBox 13"/>
          <p:cNvSpPr/>
          <p:nvPr/>
        </p:nvSpPr>
        <p:spPr>
          <a:xfrm>
            <a:off x="603360" y="1641600"/>
            <a:ext cx="62182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404040"/>
                </a:solidFill>
                <a:latin typeface="MAZIUS REVIEW 20.09"/>
                <a:ea typeface="Vollkorn"/>
              </a:rPr>
              <a:t>INTRODUCE.</a:t>
            </a:r>
            <a:endParaRPr b="0" lang="en-US" sz="8000" spc="-1" strike="noStrike">
              <a:solidFill>
                <a:srgbClr val="000000"/>
              </a:solidFill>
              <a:latin typeface="Calibri"/>
            </a:endParaRPr>
          </a:p>
        </p:txBody>
      </p:sp>
      <p:sp>
        <p:nvSpPr>
          <p:cNvPr id="1132" name="Text Placeholder 6"/>
          <p:cNvSpPr/>
          <p:nvPr/>
        </p:nvSpPr>
        <p:spPr>
          <a:xfrm>
            <a:off x="3321000" y="3389400"/>
            <a:ext cx="5602320" cy="53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33" name="Text Placeholder 6"/>
          <p:cNvSpPr/>
          <p:nvPr/>
        </p:nvSpPr>
        <p:spPr>
          <a:xfrm>
            <a:off x="3346560" y="532620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34" name="Straight Connector 16"/>
          <p:cNvSpPr/>
          <p:nvPr/>
        </p:nvSpPr>
        <p:spPr>
          <a:xfrm>
            <a:off x="3435480" y="558324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5" name="Text Placeholder 6"/>
          <p:cNvSpPr/>
          <p:nvPr/>
        </p:nvSpPr>
        <p:spPr>
          <a:xfrm>
            <a:off x="10497960" y="955800"/>
            <a:ext cx="1378080" cy="330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136" name="Oval 21"/>
          <p:cNvSpPr/>
          <p:nvPr/>
        </p:nvSpPr>
        <p:spPr>
          <a:xfrm rot="20376600">
            <a:off x="539640" y="1599840"/>
            <a:ext cx="2463840" cy="912960"/>
          </a:xfrm>
          <a:prstGeom prst="ellipse">
            <a:avLst/>
          </a:prstGeom>
          <a:noFill/>
          <a:ln w="1260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37" name="Group 1"/>
          <p:cNvGrpSpPr/>
          <p:nvPr/>
        </p:nvGrpSpPr>
        <p:grpSpPr>
          <a:xfrm>
            <a:off x="247680" y="200160"/>
            <a:ext cx="4444920" cy="295200"/>
            <a:chOff x="247680" y="200160"/>
            <a:chExt cx="4444920" cy="295200"/>
          </a:xfrm>
        </p:grpSpPr>
        <p:sp>
          <p:nvSpPr>
            <p:cNvPr id="1138"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39"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40"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41" name="Group 5"/>
          <p:cNvGrpSpPr/>
          <p:nvPr/>
        </p:nvGrpSpPr>
        <p:grpSpPr>
          <a:xfrm>
            <a:off x="11727000" y="4230360"/>
            <a:ext cx="352440" cy="2305080"/>
            <a:chOff x="11727000" y="4230360"/>
            <a:chExt cx="352440" cy="2305080"/>
          </a:xfrm>
        </p:grpSpPr>
        <p:sp>
          <p:nvSpPr>
            <p:cNvPr id="1142"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43"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44" name="Straight Connector 8"/>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45" name="Group 9"/>
          <p:cNvGrpSpPr/>
          <p:nvPr/>
        </p:nvGrpSpPr>
        <p:grpSpPr>
          <a:xfrm>
            <a:off x="247680" y="5931000"/>
            <a:ext cx="1727280" cy="662040"/>
            <a:chOff x="247680" y="5931000"/>
            <a:chExt cx="1727280" cy="662040"/>
          </a:xfrm>
        </p:grpSpPr>
        <p:sp>
          <p:nvSpPr>
            <p:cNvPr id="1146"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47"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48"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49" name="Text Placeholder 6"/>
          <p:cNvSpPr/>
          <p:nvPr/>
        </p:nvSpPr>
        <p:spPr>
          <a:xfrm>
            <a:off x="6762600" y="2527200"/>
            <a:ext cx="3759480" cy="532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 A company is an association or collection of individuals, whether natural persons. individuals, whether natural A compan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50" name="Text Placeholder 6"/>
          <p:cNvSpPr/>
          <p:nvPr/>
        </p:nvSpPr>
        <p:spPr>
          <a:xfrm>
            <a:off x="6762600" y="4591080"/>
            <a:ext cx="152424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51" name="Straight Connector 15"/>
          <p:cNvSpPr/>
          <p:nvPr/>
        </p:nvSpPr>
        <p:spPr>
          <a:xfrm>
            <a:off x="6851520" y="4849920"/>
            <a:ext cx="34290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16"/>
          <p:cNvSpPr/>
          <p:nvPr/>
        </p:nvSpPr>
        <p:spPr>
          <a:xfrm>
            <a:off x="704880" y="1641600"/>
            <a:ext cx="5035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MAZIUS REVIEW 20.09"/>
                <a:ea typeface="Vollkorn"/>
              </a:rPr>
              <a:t>YOUR MESSAGE. </a:t>
            </a:r>
            <a:endParaRPr b="0" lang="en-US" sz="6000" spc="-1" strike="noStrike">
              <a:solidFill>
                <a:srgbClr val="000000"/>
              </a:solidFill>
              <a:latin typeface="Calibri"/>
            </a:endParaRPr>
          </a:p>
        </p:txBody>
      </p:sp>
      <p:sp>
        <p:nvSpPr>
          <p:cNvPr id="1153" name="Text Placeholder 6"/>
          <p:cNvSpPr/>
          <p:nvPr/>
        </p:nvSpPr>
        <p:spPr>
          <a:xfrm>
            <a:off x="755640" y="3817800"/>
            <a:ext cx="152388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54" name="Straight Connector 18"/>
          <p:cNvSpPr/>
          <p:nvPr/>
        </p:nvSpPr>
        <p:spPr>
          <a:xfrm>
            <a:off x="844560" y="407520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5" name="Text Placeholder 6"/>
          <p:cNvSpPr/>
          <p:nvPr/>
        </p:nvSpPr>
        <p:spPr>
          <a:xfrm>
            <a:off x="755640" y="4591080"/>
            <a:ext cx="152388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56" name="Straight Connector 20"/>
          <p:cNvSpPr/>
          <p:nvPr/>
        </p:nvSpPr>
        <p:spPr>
          <a:xfrm>
            <a:off x="844560" y="484992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7" name="Text Placeholder 6"/>
          <p:cNvSpPr/>
          <p:nvPr/>
        </p:nvSpPr>
        <p:spPr>
          <a:xfrm>
            <a:off x="10497960" y="955800"/>
            <a:ext cx="1378080" cy="330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f0"/>
        </a:solidFill>
      </p:bgPr>
    </p:bg>
    <p:spTree>
      <p:nvGrpSpPr>
        <p:cNvPr id="1" name=""/>
        <p:cNvGrpSpPr/>
        <p:nvPr/>
      </p:nvGrpSpPr>
      <p:grpSpPr>
        <a:xfrm>
          <a:off x="0" y="0"/>
          <a:ext cx="0" cy="0"/>
          <a:chOff x="0" y="0"/>
          <a:chExt cx="0" cy="0"/>
        </a:xfrm>
      </p:grpSpPr>
      <p:grpSp>
        <p:nvGrpSpPr>
          <p:cNvPr id="1158" name="Group 2"/>
          <p:cNvGrpSpPr/>
          <p:nvPr/>
        </p:nvGrpSpPr>
        <p:grpSpPr>
          <a:xfrm>
            <a:off x="247680" y="200160"/>
            <a:ext cx="4444920" cy="295200"/>
            <a:chOff x="247680" y="200160"/>
            <a:chExt cx="4444920" cy="295200"/>
          </a:xfrm>
        </p:grpSpPr>
        <p:sp>
          <p:nvSpPr>
            <p:cNvPr id="1159"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60"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61"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62" name="Group 6"/>
          <p:cNvGrpSpPr/>
          <p:nvPr/>
        </p:nvGrpSpPr>
        <p:grpSpPr>
          <a:xfrm>
            <a:off x="11727000" y="4230360"/>
            <a:ext cx="352440" cy="2305080"/>
            <a:chOff x="11727000" y="4230360"/>
            <a:chExt cx="352440" cy="2305080"/>
          </a:xfrm>
        </p:grpSpPr>
        <p:sp>
          <p:nvSpPr>
            <p:cNvPr id="1163"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64"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65"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66" name="Group 10"/>
          <p:cNvGrpSpPr/>
          <p:nvPr/>
        </p:nvGrpSpPr>
        <p:grpSpPr>
          <a:xfrm>
            <a:off x="247680" y="5931000"/>
            <a:ext cx="1727280" cy="662040"/>
            <a:chOff x="247680" y="5931000"/>
            <a:chExt cx="1727280" cy="662040"/>
          </a:xfrm>
        </p:grpSpPr>
        <p:sp>
          <p:nvSpPr>
            <p:cNvPr id="1167"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68"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69"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70" name="Text Placeholder 6"/>
          <p:cNvSpPr/>
          <p:nvPr/>
        </p:nvSpPr>
        <p:spPr>
          <a:xfrm>
            <a:off x="10497960" y="955800"/>
            <a:ext cx="1378080" cy="3301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
        <p:nvSpPr>
          <p:cNvPr id="1171" name="TextBox 16"/>
          <p:cNvSpPr/>
          <p:nvPr/>
        </p:nvSpPr>
        <p:spPr>
          <a:xfrm>
            <a:off x="704880" y="1171440"/>
            <a:ext cx="4692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04040"/>
                </a:solidFill>
                <a:latin typeface="MAZIUS REVIEW 20.09"/>
                <a:ea typeface="Vollkorn"/>
              </a:rPr>
              <a:t>PORTFOLIO MASOKA. </a:t>
            </a:r>
            <a:endParaRPr b="0" lang="en-US" sz="6000" spc="-1" strike="noStrike">
              <a:solidFill>
                <a:srgbClr val="000000"/>
              </a:solidFill>
              <a:latin typeface="Calibri"/>
            </a:endParaRPr>
          </a:p>
        </p:txBody>
      </p:sp>
      <p:sp>
        <p:nvSpPr>
          <p:cNvPr id="1172" name="Text Placeholder 6"/>
          <p:cNvSpPr/>
          <p:nvPr/>
        </p:nvSpPr>
        <p:spPr>
          <a:xfrm>
            <a:off x="768240" y="3817800"/>
            <a:ext cx="1524240" cy="24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73" name="Straight Connector 18"/>
          <p:cNvSpPr/>
          <p:nvPr/>
        </p:nvSpPr>
        <p:spPr>
          <a:xfrm>
            <a:off x="857160" y="407520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4" name="Text Placeholder 6"/>
          <p:cNvSpPr/>
          <p:nvPr/>
        </p:nvSpPr>
        <p:spPr>
          <a:xfrm>
            <a:off x="768240" y="4591080"/>
            <a:ext cx="1524240" cy="24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040"/>
                </a:solidFill>
                <a:latin typeface="Open Sans"/>
                <a:ea typeface="Open Sans"/>
              </a:rPr>
              <a:t>WRITE MESSAGE HERE</a:t>
            </a:r>
            <a:endParaRPr b="0" lang="en-US" sz="1000" spc="-1" strike="noStrike">
              <a:solidFill>
                <a:srgbClr val="000000"/>
              </a:solidFill>
              <a:latin typeface="Calibri"/>
            </a:endParaRPr>
          </a:p>
        </p:txBody>
      </p:sp>
      <p:sp>
        <p:nvSpPr>
          <p:cNvPr id="1175" name="Straight Connector 20"/>
          <p:cNvSpPr/>
          <p:nvPr/>
        </p:nvSpPr>
        <p:spPr>
          <a:xfrm>
            <a:off x="857160" y="4849920"/>
            <a:ext cx="2219400" cy="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6" name="Oval 23"/>
          <p:cNvSpPr/>
          <p:nvPr/>
        </p:nvSpPr>
        <p:spPr>
          <a:xfrm rot="20376600">
            <a:off x="8742240" y="2441160"/>
            <a:ext cx="3033720" cy="1122480"/>
          </a:xfrm>
          <a:prstGeom prst="ellipse">
            <a:avLst/>
          </a:prstGeom>
          <a:noFill/>
          <a:ln w="1260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7" name="TextBox 24"/>
          <p:cNvSpPr/>
          <p:nvPr/>
        </p:nvSpPr>
        <p:spPr>
          <a:xfrm>
            <a:off x="9163080" y="2708280"/>
            <a:ext cx="2241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d7d31"/>
                </a:solidFill>
                <a:latin typeface="MAZIUS REVIEW 20.09"/>
                <a:ea typeface="Vollkorn"/>
              </a:rPr>
              <a:t>BEAUTY</a:t>
            </a:r>
            <a:endParaRPr b="0" lang="en-US" sz="3600" spc="-1" strike="noStrike">
              <a:solidFill>
                <a:srgbClr val="000000"/>
              </a:solidFill>
              <a:latin typeface="Calibri"/>
            </a:endParaRPr>
          </a:p>
        </p:txBody>
      </p:sp>
      <p:sp>
        <p:nvSpPr>
          <p:cNvPr id="1178" name="Text Placeholder 6"/>
          <p:cNvSpPr/>
          <p:nvPr/>
        </p:nvSpPr>
        <p:spPr>
          <a:xfrm>
            <a:off x="5264280" y="5318280"/>
            <a:ext cx="825480" cy="295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MASOKA</a:t>
            </a:r>
            <a:endParaRPr b="0" lang="en-US" sz="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ORTFOLIO</a:t>
            </a:r>
            <a:endParaRPr b="0" lang="en-US" sz="800" spc="-1" strike="noStrike">
              <a:solidFill>
                <a:srgbClr val="000000"/>
              </a:solidFill>
              <a:latin typeface="Calibri"/>
            </a:endParaRPr>
          </a:p>
        </p:txBody>
      </p:sp>
      <p:pic>
        <p:nvPicPr>
          <p:cNvPr id="1179" name="" descr=""/>
          <p:cNvPicPr/>
          <p:nvPr/>
        </p:nvPicPr>
        <p:blipFill>
          <a:blip r:embed="rId1"/>
          <a:stretch/>
        </p:blipFill>
        <p:spPr>
          <a:xfrm>
            <a:off x="6095880" y="1282680"/>
            <a:ext cx="3594240" cy="4292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9ce"/>
        </a:solidFill>
      </p:bgPr>
    </p:bg>
    <p:spTree>
      <p:nvGrpSpPr>
        <p:cNvPr id="1" name=""/>
        <p:cNvGrpSpPr/>
        <p:nvPr/>
      </p:nvGrpSpPr>
      <p:grpSpPr>
        <a:xfrm>
          <a:off x="0" y="0"/>
          <a:ext cx="0" cy="0"/>
          <a:chOff x="0" y="0"/>
          <a:chExt cx="0" cy="0"/>
        </a:xfrm>
      </p:grpSpPr>
      <p:grpSp>
        <p:nvGrpSpPr>
          <p:cNvPr id="1180" name="Group 2"/>
          <p:cNvGrpSpPr/>
          <p:nvPr/>
        </p:nvGrpSpPr>
        <p:grpSpPr>
          <a:xfrm>
            <a:off x="247680" y="200160"/>
            <a:ext cx="4444920" cy="295200"/>
            <a:chOff x="247680" y="200160"/>
            <a:chExt cx="4444920" cy="295200"/>
          </a:xfrm>
        </p:grpSpPr>
        <p:sp>
          <p:nvSpPr>
            <p:cNvPr id="1181"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182"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183"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184" name="Group 6"/>
          <p:cNvGrpSpPr/>
          <p:nvPr/>
        </p:nvGrpSpPr>
        <p:grpSpPr>
          <a:xfrm>
            <a:off x="11727000" y="4230360"/>
            <a:ext cx="352440" cy="2305080"/>
            <a:chOff x="11727000" y="4230360"/>
            <a:chExt cx="352440" cy="2305080"/>
          </a:xfrm>
        </p:grpSpPr>
        <p:sp>
          <p:nvSpPr>
            <p:cNvPr id="1185"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186"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187"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188" name="Group 10"/>
          <p:cNvGrpSpPr/>
          <p:nvPr/>
        </p:nvGrpSpPr>
        <p:grpSpPr>
          <a:xfrm>
            <a:off x="247680" y="5931000"/>
            <a:ext cx="1727280" cy="662040"/>
            <a:chOff x="247680" y="5931000"/>
            <a:chExt cx="1727280" cy="662040"/>
          </a:xfrm>
        </p:grpSpPr>
        <p:sp>
          <p:nvSpPr>
            <p:cNvPr id="1189"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0"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191"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192" name="Text Placeholder 6"/>
          <p:cNvSpPr/>
          <p:nvPr/>
        </p:nvSpPr>
        <p:spPr>
          <a:xfrm>
            <a:off x="10574280" y="495360"/>
            <a:ext cx="1378080" cy="328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
        <p:nvSpPr>
          <p:cNvPr id="1193" name="TextBox 16"/>
          <p:cNvSpPr/>
          <p:nvPr/>
        </p:nvSpPr>
        <p:spPr>
          <a:xfrm>
            <a:off x="2998800" y="2759040"/>
            <a:ext cx="6219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d7d31"/>
                </a:solidFill>
                <a:latin typeface="MAZIUS REVIEW 20.09"/>
                <a:ea typeface="Vollkorn"/>
              </a:rPr>
              <a:t>BREAK TIME</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f0"/>
        </a:solidFill>
      </p:bgPr>
    </p:bg>
    <p:spTree>
      <p:nvGrpSpPr>
        <p:cNvPr id="1" name=""/>
        <p:cNvGrpSpPr/>
        <p:nvPr/>
      </p:nvGrpSpPr>
      <p:grpSpPr>
        <a:xfrm>
          <a:off x="0" y="0"/>
          <a:ext cx="0" cy="0"/>
          <a:chOff x="0" y="0"/>
          <a:chExt cx="0" cy="0"/>
        </a:xfrm>
      </p:grpSpPr>
      <p:sp>
        <p:nvSpPr>
          <p:cNvPr id="1194" name="Rectangle 25"/>
          <p:cNvSpPr/>
          <p:nvPr/>
        </p:nvSpPr>
        <p:spPr>
          <a:xfrm>
            <a:off x="12600" y="0"/>
            <a:ext cx="5943600" cy="6858000"/>
          </a:xfrm>
          <a:prstGeom prst="rect">
            <a:avLst/>
          </a:prstGeom>
          <a:solidFill>
            <a:srgbClr val="dfd9ce">
              <a:alpha val="89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95" name="Picture 8" descr="iPhone6_mockup_front_white.png"/>
          <p:cNvPicPr/>
          <p:nvPr/>
        </p:nvPicPr>
        <p:blipFill>
          <a:blip r:embed="rId1"/>
          <a:stretch/>
        </p:blipFill>
        <p:spPr>
          <a:xfrm>
            <a:off x="4030560" y="738360"/>
            <a:ext cx="3440160" cy="5381280"/>
          </a:xfrm>
          <a:prstGeom prst="rect">
            <a:avLst/>
          </a:prstGeom>
          <a:ln w="0">
            <a:noFill/>
          </a:ln>
        </p:spPr>
      </p:pic>
      <p:sp>
        <p:nvSpPr>
          <p:cNvPr id="1196" name="Straight Connector 5"/>
          <p:cNvSpPr/>
          <p:nvPr/>
        </p:nvSpPr>
        <p:spPr>
          <a:xfrm>
            <a:off x="920880" y="2808360"/>
            <a:ext cx="2230200" cy="0"/>
          </a:xfrm>
          <a:prstGeom prst="line">
            <a:avLst/>
          </a:prstGeom>
          <a:ln w="144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97" name="Rectangle 6"/>
          <p:cNvSpPr/>
          <p:nvPr/>
        </p:nvSpPr>
        <p:spPr>
          <a:xfrm>
            <a:off x="865080" y="2851200"/>
            <a:ext cx="2705040" cy="25304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esent</a:t>
            </a:r>
            <a:r>
              <a:rPr b="0" lang="en-US" sz="1000" spc="-1" strike="noStrike">
                <a:solidFill>
                  <a:srgbClr val="404040"/>
                </a:solidFill>
                <a:latin typeface="Open Sans"/>
                <a:ea typeface="Open Sans"/>
              </a:rPr>
              <a:t>.</a:t>
            </a:r>
            <a:endParaRPr b="0" lang="en-US" sz="1000" spc="-1" strike="noStrike">
              <a:solidFill>
                <a:srgbClr val="000000"/>
              </a:solidFill>
              <a:latin typeface="Calibri"/>
            </a:endParaRPr>
          </a:p>
        </p:txBody>
      </p:sp>
      <p:sp>
        <p:nvSpPr>
          <p:cNvPr id="1198" name="Subtitle 2"/>
          <p:cNvSpPr/>
          <p:nvPr/>
        </p:nvSpPr>
        <p:spPr>
          <a:xfrm>
            <a:off x="865080" y="1758960"/>
            <a:ext cx="3441960" cy="920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404040"/>
                </a:solidFill>
                <a:latin typeface="MAZIUS REVIEW 20.09"/>
                <a:ea typeface="Vollkorn"/>
              </a:rPr>
              <a:t>PHONE </a:t>
            </a:r>
            <a:r>
              <a:rPr b="0" lang="en-US" sz="2800" spc="-1" strike="noStrike">
                <a:solidFill>
                  <a:srgbClr val="404040"/>
                </a:solidFill>
                <a:latin typeface="MAZIUS REVIEW 20.09"/>
                <a:ea typeface="Vollkorn"/>
              </a:rPr>
              <a:t>D</a:t>
            </a:r>
            <a:r>
              <a:rPr b="0" lang="id-ID" sz="2800" spc="-1" strike="noStrike">
                <a:solidFill>
                  <a:srgbClr val="404040"/>
                </a:solidFill>
                <a:latin typeface="MAZIUS REVIEW 20.09"/>
                <a:ea typeface="Vollkorn"/>
              </a:rPr>
              <a:t>EVICE </a:t>
            </a:r>
            <a:r>
              <a:rPr b="0" lang="en-US" sz="2800" spc="-1" strike="noStrike">
                <a:solidFill>
                  <a:srgbClr val="404040"/>
                </a:solidFill>
                <a:latin typeface="MAZIUS REVIEW 20.09"/>
                <a:ea typeface="Vollkorn"/>
              </a:rPr>
              <a:t>M</a:t>
            </a:r>
            <a:r>
              <a:rPr b="0" lang="id-ID" sz="2800" spc="-1" strike="noStrike">
                <a:solidFill>
                  <a:srgbClr val="404040"/>
                </a:solidFill>
                <a:latin typeface="MAZIUS REVIEW 20.09"/>
                <a:ea typeface="Vollkorn"/>
              </a:rPr>
              <a:t>OCKUP </a:t>
            </a:r>
            <a:r>
              <a:rPr b="0" lang="en-US" sz="2800" spc="-1" strike="noStrike">
                <a:solidFill>
                  <a:srgbClr val="404040"/>
                </a:solidFill>
                <a:latin typeface="MAZIUS REVIEW 20.09"/>
                <a:ea typeface="Vollkorn"/>
              </a:rPr>
              <a:t>S</a:t>
            </a:r>
            <a:r>
              <a:rPr b="0" lang="id-ID" sz="2800" spc="-1" strike="noStrike">
                <a:solidFill>
                  <a:srgbClr val="404040"/>
                </a:solidFill>
                <a:latin typeface="MAZIUS REVIEW 20.09"/>
                <a:ea typeface="Vollkorn"/>
              </a:rPr>
              <a:t>LIDE</a:t>
            </a:r>
            <a:endParaRPr b="0" lang="en-US" sz="2800" spc="-1" strike="noStrike">
              <a:solidFill>
                <a:srgbClr val="000000"/>
              </a:solidFill>
              <a:latin typeface="Calibri"/>
            </a:endParaRPr>
          </a:p>
        </p:txBody>
      </p:sp>
      <p:sp>
        <p:nvSpPr>
          <p:cNvPr id="1199" name="Rectangle 9"/>
          <p:cNvSpPr/>
          <p:nvPr/>
        </p:nvSpPr>
        <p:spPr>
          <a:xfrm>
            <a:off x="8380440" y="48830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00" name="Rectangle 10"/>
          <p:cNvSpPr/>
          <p:nvPr/>
        </p:nvSpPr>
        <p:spPr>
          <a:xfrm>
            <a:off x="8394840" y="3086280"/>
            <a:ext cx="2489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porttitor ligula justo libero vivamus</a:t>
            </a:r>
            <a:endParaRPr b="0" lang="en-US" sz="1000" spc="-1" strike="noStrike">
              <a:solidFill>
                <a:srgbClr val="000000"/>
              </a:solidFill>
              <a:latin typeface="Calibri"/>
            </a:endParaRPr>
          </a:p>
        </p:txBody>
      </p:sp>
      <p:sp>
        <p:nvSpPr>
          <p:cNvPr id="1201" name="Rectangle 11"/>
          <p:cNvSpPr/>
          <p:nvPr/>
        </p:nvSpPr>
        <p:spPr>
          <a:xfrm>
            <a:off x="8380440" y="1308240"/>
            <a:ext cx="2490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404040"/>
                </a:solidFill>
                <a:latin typeface="Open Sans"/>
                <a:ea typeface="Open Sans"/>
              </a:rPr>
              <a:t>Lorem ipsum dolor sit amet, lacus nulla ac netus nibh aliquet,. Sapien nam suspendisse, tincidunt</a:t>
            </a:r>
            <a:endParaRPr b="0" lang="en-US" sz="1000" spc="-1" strike="noStrike">
              <a:solidFill>
                <a:srgbClr val="000000"/>
              </a:solidFill>
              <a:latin typeface="Calibri"/>
            </a:endParaRPr>
          </a:p>
        </p:txBody>
      </p:sp>
      <p:sp>
        <p:nvSpPr>
          <p:cNvPr id="1202" name="Rectangle 12"/>
          <p:cNvSpPr/>
          <p:nvPr/>
        </p:nvSpPr>
        <p:spPr>
          <a:xfrm>
            <a:off x="8394840" y="465768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FULL CUSTOMIZED</a:t>
            </a:r>
            <a:endParaRPr b="0" lang="en-US" sz="1200" spc="-1" strike="noStrike">
              <a:solidFill>
                <a:srgbClr val="000000"/>
              </a:solidFill>
              <a:latin typeface="Calibri"/>
            </a:endParaRPr>
          </a:p>
        </p:txBody>
      </p:sp>
      <p:sp>
        <p:nvSpPr>
          <p:cNvPr id="1203" name="Rectangle 13"/>
          <p:cNvSpPr/>
          <p:nvPr/>
        </p:nvSpPr>
        <p:spPr>
          <a:xfrm>
            <a:off x="8394840" y="111600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LAYERED FILES</a:t>
            </a:r>
            <a:endParaRPr b="0" lang="en-US" sz="1200" spc="-1" strike="noStrike">
              <a:solidFill>
                <a:srgbClr val="000000"/>
              </a:solidFill>
              <a:latin typeface="Calibri"/>
            </a:endParaRPr>
          </a:p>
        </p:txBody>
      </p:sp>
      <p:sp>
        <p:nvSpPr>
          <p:cNvPr id="1204" name="Rectangle 14"/>
          <p:cNvSpPr/>
          <p:nvPr/>
        </p:nvSpPr>
        <p:spPr>
          <a:xfrm>
            <a:off x="8394840" y="2898720"/>
            <a:ext cx="234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404040"/>
                </a:solidFill>
                <a:latin typeface="Open Sans"/>
                <a:ea typeface="Open Sans"/>
              </a:rPr>
              <a:t>UNLIMITED OPTIONS</a:t>
            </a:r>
            <a:endParaRPr b="0" lang="en-US" sz="1200" spc="-1" strike="noStrike">
              <a:solidFill>
                <a:srgbClr val="000000"/>
              </a:solidFill>
              <a:latin typeface="Calibri"/>
            </a:endParaRPr>
          </a:p>
        </p:txBody>
      </p:sp>
      <p:grpSp>
        <p:nvGrpSpPr>
          <p:cNvPr id="1205" name="Group 15"/>
          <p:cNvGrpSpPr/>
          <p:nvPr/>
        </p:nvGrpSpPr>
        <p:grpSpPr>
          <a:xfrm>
            <a:off x="7518240" y="1127160"/>
            <a:ext cx="667080" cy="4351320"/>
            <a:chOff x="7518240" y="1127160"/>
            <a:chExt cx="667080" cy="4351320"/>
          </a:xfrm>
        </p:grpSpPr>
        <p:sp>
          <p:nvSpPr>
            <p:cNvPr id="1206" name="Oval 16"/>
            <p:cNvSpPr/>
            <p:nvPr/>
          </p:nvSpPr>
          <p:spPr>
            <a:xfrm>
              <a:off x="7518240" y="4813560"/>
              <a:ext cx="665640" cy="6649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7" name="Shape 4680"/>
            <p:cNvSpPr/>
            <p:nvPr/>
          </p:nvSpPr>
          <p:spPr>
            <a:xfrm>
              <a:off x="7726320" y="4988160"/>
              <a:ext cx="249480" cy="315720"/>
            </a:xfrm>
            <a:custGeom>
              <a:avLst/>
              <a:gdLst>
                <a:gd name="textAreaLeft" fmla="*/ 0 w 249480"/>
                <a:gd name="textAreaRight" fmla="*/ 249840 w 249480"/>
                <a:gd name="textAreaTop" fmla="*/ 0 h 315720"/>
                <a:gd name="textAreaBottom" fmla="*/ 316080 h 31572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Oval 18"/>
            <p:cNvSpPr/>
            <p:nvPr/>
          </p:nvSpPr>
          <p:spPr>
            <a:xfrm>
              <a:off x="7518240" y="2946240"/>
              <a:ext cx="665640" cy="664920"/>
            </a:xfrm>
            <a:prstGeom prst="ellipse">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9" name="Shape 4681"/>
            <p:cNvSpPr/>
            <p:nvPr/>
          </p:nvSpPr>
          <p:spPr>
            <a:xfrm>
              <a:off x="7697520" y="312588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28645" y="108368"/>
                  </a:moveTo>
                  <a:lnTo>
                    <a:pt x="28645" y="108368"/>
                  </a:lnTo>
                  <a:cubicBezTo>
                    <a:pt x="22838" y="114184"/>
                    <a:pt x="19935" y="114184"/>
                    <a:pt x="17225" y="108368"/>
                  </a:cubicBezTo>
                  <a:cubicBezTo>
                    <a:pt x="11419" y="105654"/>
                    <a:pt x="11419" y="105654"/>
                    <a:pt x="11419" y="105654"/>
                  </a:cubicBezTo>
                  <a:cubicBezTo>
                    <a:pt x="8516" y="102746"/>
                    <a:pt x="8516" y="96930"/>
                    <a:pt x="11419" y="94216"/>
                  </a:cubicBezTo>
                  <a:cubicBezTo>
                    <a:pt x="48580" y="57189"/>
                    <a:pt x="48580" y="57189"/>
                    <a:pt x="48580" y="57189"/>
                  </a:cubicBezTo>
                  <a:cubicBezTo>
                    <a:pt x="42774" y="54281"/>
                    <a:pt x="37161" y="57189"/>
                    <a:pt x="31354" y="59903"/>
                  </a:cubicBezTo>
                  <a:cubicBezTo>
                    <a:pt x="5806" y="88400"/>
                    <a:pt x="5806" y="88400"/>
                    <a:pt x="5806" y="88400"/>
                  </a:cubicBezTo>
                  <a:cubicBezTo>
                    <a:pt x="0" y="94216"/>
                    <a:pt x="0" y="102746"/>
                    <a:pt x="5806" y="108368"/>
                  </a:cubicBezTo>
                  <a:cubicBezTo>
                    <a:pt x="11419" y="114184"/>
                    <a:pt x="11419" y="114184"/>
                    <a:pt x="11419" y="114184"/>
                  </a:cubicBezTo>
                  <a:cubicBezTo>
                    <a:pt x="17225" y="119806"/>
                    <a:pt x="25741" y="119806"/>
                    <a:pt x="31354" y="114184"/>
                  </a:cubicBezTo>
                  <a:cubicBezTo>
                    <a:pt x="60000" y="88400"/>
                    <a:pt x="60000" y="88400"/>
                    <a:pt x="60000" y="88400"/>
                  </a:cubicBezTo>
                  <a:cubicBezTo>
                    <a:pt x="62709" y="82778"/>
                    <a:pt x="65612" y="76962"/>
                    <a:pt x="62709" y="74248"/>
                  </a:cubicBezTo>
                  <a:lnTo>
                    <a:pt x="28645" y="108368"/>
                  </a:lnTo>
                  <a:close/>
                  <a:moveTo>
                    <a:pt x="114000" y="11437"/>
                  </a:moveTo>
                  <a:lnTo>
                    <a:pt x="114000" y="11437"/>
                  </a:lnTo>
                  <a:cubicBezTo>
                    <a:pt x="108387" y="5621"/>
                    <a:pt x="108387" y="5621"/>
                    <a:pt x="108387" y="5621"/>
                  </a:cubicBezTo>
                  <a:cubicBezTo>
                    <a:pt x="102580" y="0"/>
                    <a:pt x="94064" y="0"/>
                    <a:pt x="88451" y="5621"/>
                  </a:cubicBezTo>
                  <a:cubicBezTo>
                    <a:pt x="60000" y="34313"/>
                    <a:pt x="60000" y="34313"/>
                    <a:pt x="60000" y="34313"/>
                  </a:cubicBezTo>
                  <a:cubicBezTo>
                    <a:pt x="57096" y="37027"/>
                    <a:pt x="54193" y="42843"/>
                    <a:pt x="57096" y="48465"/>
                  </a:cubicBezTo>
                  <a:cubicBezTo>
                    <a:pt x="91161" y="11437"/>
                    <a:pt x="91161" y="11437"/>
                    <a:pt x="91161" y="11437"/>
                  </a:cubicBezTo>
                  <a:cubicBezTo>
                    <a:pt x="94064" y="8529"/>
                    <a:pt x="99870" y="8529"/>
                    <a:pt x="102580" y="11437"/>
                  </a:cubicBezTo>
                  <a:cubicBezTo>
                    <a:pt x="108387" y="17059"/>
                    <a:pt x="108387" y="17059"/>
                    <a:pt x="108387" y="17059"/>
                  </a:cubicBezTo>
                  <a:cubicBezTo>
                    <a:pt x="111096" y="19967"/>
                    <a:pt x="111096" y="25783"/>
                    <a:pt x="108387" y="28497"/>
                  </a:cubicBezTo>
                  <a:cubicBezTo>
                    <a:pt x="71419" y="65525"/>
                    <a:pt x="71419" y="65525"/>
                    <a:pt x="71419" y="65525"/>
                  </a:cubicBezTo>
                  <a:cubicBezTo>
                    <a:pt x="77032" y="65525"/>
                    <a:pt x="82645" y="65525"/>
                    <a:pt x="88451" y="59903"/>
                  </a:cubicBezTo>
                  <a:cubicBezTo>
                    <a:pt x="114000" y="34313"/>
                    <a:pt x="114000" y="34313"/>
                    <a:pt x="114000" y="34313"/>
                  </a:cubicBezTo>
                  <a:cubicBezTo>
                    <a:pt x="119806" y="28497"/>
                    <a:pt x="119806" y="17059"/>
                    <a:pt x="114000" y="11437"/>
                  </a:cubicBezTo>
                  <a:close/>
                  <a:moveTo>
                    <a:pt x="71419" y="48465"/>
                  </a:moveTo>
                  <a:lnTo>
                    <a:pt x="71419" y="48465"/>
                  </a:lnTo>
                  <a:cubicBezTo>
                    <a:pt x="71419" y="48465"/>
                    <a:pt x="68322" y="48465"/>
                    <a:pt x="65612" y="48465"/>
                  </a:cubicBezTo>
                  <a:cubicBezTo>
                    <a:pt x="48580" y="68626"/>
                    <a:pt x="48580" y="68626"/>
                    <a:pt x="48580" y="68626"/>
                  </a:cubicBezTo>
                  <a:cubicBezTo>
                    <a:pt x="45677" y="68626"/>
                    <a:pt x="45677" y="71340"/>
                    <a:pt x="48580" y="74248"/>
                  </a:cubicBezTo>
                  <a:cubicBezTo>
                    <a:pt x="48580" y="74248"/>
                    <a:pt x="51290" y="74248"/>
                    <a:pt x="54193" y="74248"/>
                  </a:cubicBezTo>
                  <a:cubicBezTo>
                    <a:pt x="71419" y="54281"/>
                    <a:pt x="71419" y="54281"/>
                    <a:pt x="71419" y="54281"/>
                  </a:cubicBezTo>
                  <a:cubicBezTo>
                    <a:pt x="74129" y="51373"/>
                    <a:pt x="74129" y="51373"/>
                    <a:pt x="71419" y="48465"/>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0" name="Oval 20"/>
            <p:cNvSpPr/>
            <p:nvPr/>
          </p:nvSpPr>
          <p:spPr>
            <a:xfrm>
              <a:off x="7519680" y="1127160"/>
              <a:ext cx="665640" cy="664920"/>
            </a:xfrm>
            <a:prstGeom prst="ellipse">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1" name="Shape 4682"/>
            <p:cNvSpPr/>
            <p:nvPr/>
          </p:nvSpPr>
          <p:spPr>
            <a:xfrm>
              <a:off x="7705440" y="1371600"/>
              <a:ext cx="300240" cy="253800"/>
            </a:xfrm>
            <a:custGeom>
              <a:avLst/>
              <a:gdLst>
                <a:gd name="textAreaLeft" fmla="*/ 0 w 300240"/>
                <a:gd name="textAreaRight" fmla="*/ 300600 w 300240"/>
                <a:gd name="textAreaTop" fmla="*/ 0 h 253800"/>
                <a:gd name="textAreaBottom" fmla="*/ 254160 h 2538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traight Connector 22"/>
            <p:cNvSpPr/>
            <p:nvPr/>
          </p:nvSpPr>
          <p:spPr>
            <a:xfrm>
              <a:off x="7851600" y="1886040"/>
              <a:ext cx="0" cy="96516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3" name="Straight Connector 23"/>
            <p:cNvSpPr/>
            <p:nvPr/>
          </p:nvSpPr>
          <p:spPr>
            <a:xfrm>
              <a:off x="7851600" y="3730680"/>
              <a:ext cx="0" cy="963360"/>
            </a:xfrm>
            <a:prstGeom prst="line">
              <a:avLst/>
            </a:prstGeom>
            <a:ln w="9360">
              <a:solidFill>
                <a:srgbClr val="bfbfb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1214" name="" descr=""/>
          <p:cNvPicPr/>
          <p:nvPr/>
        </p:nvPicPr>
        <p:blipFill>
          <a:blip r:embed="rId2"/>
          <a:stretch/>
        </p:blipFill>
        <p:spPr>
          <a:xfrm>
            <a:off x="4686480" y="1587240"/>
            <a:ext cx="2070000" cy="3670200"/>
          </a:xfrm>
          <a:prstGeom prst="rect">
            <a:avLst/>
          </a:prstGeom>
          <a:ln w="0">
            <a:noFill/>
          </a:ln>
        </p:spPr>
      </p:pic>
      <p:pic>
        <p:nvPicPr>
          <p:cNvPr id="1215" name="" descr=""/>
          <p:cNvPicPr/>
          <p:nvPr/>
        </p:nvPicPr>
        <p:blipFill>
          <a:blip r:embed="rId3"/>
          <a:stretch/>
        </p:blipFill>
        <p:spPr>
          <a:xfrm>
            <a:off x="0" y="0"/>
            <a:ext cx="59436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ae2"/>
        </a:solidFill>
      </p:bgPr>
    </p:bg>
    <p:spTree>
      <p:nvGrpSpPr>
        <p:cNvPr id="1" name=""/>
        <p:cNvGrpSpPr/>
        <p:nvPr/>
      </p:nvGrpSpPr>
      <p:grpSpPr>
        <a:xfrm>
          <a:off x="0" y="0"/>
          <a:ext cx="0" cy="0"/>
          <a:chOff x="0" y="0"/>
          <a:chExt cx="0" cy="0"/>
        </a:xfrm>
      </p:grpSpPr>
      <p:sp>
        <p:nvSpPr>
          <p:cNvPr id="1216" name="Rectangle 29"/>
          <p:cNvSpPr/>
          <p:nvPr/>
        </p:nvSpPr>
        <p:spPr>
          <a:xfrm>
            <a:off x="0" y="0"/>
            <a:ext cx="1868400" cy="6858000"/>
          </a:xfrm>
          <a:prstGeom prst="rect">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17" name="Picture 19" descr=""/>
          <p:cNvPicPr/>
          <p:nvPr/>
        </p:nvPicPr>
        <p:blipFill>
          <a:blip r:embed="rId1"/>
          <a:stretch/>
        </p:blipFill>
        <p:spPr>
          <a:xfrm>
            <a:off x="-1682640" y="1187280"/>
            <a:ext cx="7100640" cy="5970600"/>
          </a:xfrm>
          <a:prstGeom prst="rect">
            <a:avLst/>
          </a:prstGeom>
          <a:ln w="0">
            <a:noFill/>
          </a:ln>
        </p:spPr>
      </p:pic>
      <p:sp>
        <p:nvSpPr>
          <p:cNvPr id="1218" name="Rectangle 69"/>
          <p:cNvSpPr/>
          <p:nvPr/>
        </p:nvSpPr>
        <p:spPr>
          <a:xfrm>
            <a:off x="6095880" y="0"/>
            <a:ext cx="6096240" cy="2438280"/>
          </a:xfrm>
          <a:prstGeom prst="rect">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9" name="Subtitle 2"/>
          <p:cNvSpPr/>
          <p:nvPr/>
        </p:nvSpPr>
        <p:spPr>
          <a:xfrm>
            <a:off x="6064200" y="3684600"/>
            <a:ext cx="5695920" cy="528480"/>
          </a:xfrm>
          <a:prstGeom prst="rect">
            <a:avLst/>
          </a:prstGeom>
          <a:noFill/>
          <a:ln w="0">
            <a:noFill/>
          </a:ln>
        </p:spPr>
        <p:style>
          <a:lnRef idx="0"/>
          <a:fillRef idx="0"/>
          <a:effectRef idx="0"/>
          <a:fontRef idx="minor"/>
        </p:style>
        <p:txBody>
          <a:bodyPr lIns="60840" rIns="60840" tIns="30600" bIns="30600" anchor="t">
            <a:noAutofit/>
          </a:bodyPr>
          <a:p>
            <a:pPr>
              <a:lnSpc>
                <a:spcPct val="100000"/>
              </a:lnSpc>
              <a:spcBef>
                <a:spcPts val="1500"/>
              </a:spcBef>
              <a:tabLst>
                <a:tab algn="l" pos="0"/>
                <a:tab algn="l" pos="1371600"/>
                <a:tab algn="l" pos="2743200"/>
                <a:tab algn="l" pos="4114800"/>
                <a:tab algn="l" pos="5486400"/>
                <a:tab algn="l" pos="6858000"/>
                <a:tab algn="l" pos="8229600"/>
                <a:tab algn="l" pos="9601200"/>
              </a:tabLst>
            </a:pPr>
            <a:r>
              <a:rPr b="0" lang="en-US" sz="3200" spc="-1" strike="noStrike">
                <a:solidFill>
                  <a:srgbClr val="595959"/>
                </a:solidFill>
                <a:latin typeface="MAZIUS REVIEW 20.09"/>
                <a:ea typeface="Vollkorn"/>
              </a:rPr>
              <a:t>OUR DESKTOP ACTIVITIES</a:t>
            </a:r>
            <a:endParaRPr b="0" lang="en-US" sz="3200" spc="-1" strike="noStrike">
              <a:solidFill>
                <a:srgbClr val="000000"/>
              </a:solidFill>
              <a:latin typeface="Calibri"/>
            </a:endParaRPr>
          </a:p>
        </p:txBody>
      </p:sp>
      <p:sp>
        <p:nvSpPr>
          <p:cNvPr id="1220" name="Subtitle 2"/>
          <p:cNvSpPr/>
          <p:nvPr/>
        </p:nvSpPr>
        <p:spPr>
          <a:xfrm>
            <a:off x="6135840" y="4352760"/>
            <a:ext cx="4151160" cy="562320"/>
          </a:xfrm>
          <a:prstGeom prst="rect">
            <a:avLst/>
          </a:prstGeom>
          <a:noFill/>
          <a:ln w="0">
            <a:noFill/>
          </a:ln>
        </p:spPr>
        <p:style>
          <a:lnRef idx="0"/>
          <a:fillRef idx="0"/>
          <a:effectRef idx="0"/>
          <a:fontRef idx="minor"/>
        </p:style>
        <p:txBody>
          <a:bodyPr lIns="60840" rIns="60840" tIns="30600" bIns="30600" anchor="t">
            <a:noAutofit/>
          </a:bodyPr>
          <a:p>
            <a:pPr algn="just">
              <a:lnSpc>
                <a:spcPct val="200000"/>
              </a:lnSpc>
              <a:spcBef>
                <a:spcPts val="1500"/>
              </a:spcBef>
              <a:tabLst>
                <a:tab algn="l" pos="0"/>
                <a:tab algn="l" pos="1371600"/>
                <a:tab algn="l" pos="2743200"/>
                <a:tab algn="l" pos="4114800"/>
                <a:tab algn="l" pos="5486400"/>
                <a:tab algn="l" pos="6858000"/>
                <a:tab algn="l" pos="8229600"/>
                <a:tab algn="l" pos="9601200"/>
              </a:tabLst>
            </a:pPr>
            <a:r>
              <a:rPr b="0" lang="en-US" sz="1000" spc="-1" strike="noStrike">
                <a:solidFill>
                  <a:srgbClr val="595959"/>
                </a:solidFill>
                <a:latin typeface="Open Sans"/>
                <a:ea typeface="Open Sans"/>
              </a:rPr>
              <a:t>You have freedom here. The only guide is your heart. Trees grow in all kinds of ways. They're not all perfectly straight. </a:t>
            </a:r>
            <a:endParaRPr b="0" lang="en-US" sz="1000" spc="-1" strike="noStrike">
              <a:solidFill>
                <a:srgbClr val="000000"/>
              </a:solidFill>
              <a:latin typeface="Calibri"/>
            </a:endParaRPr>
          </a:p>
        </p:txBody>
      </p:sp>
      <p:sp>
        <p:nvSpPr>
          <p:cNvPr id="1221" name="Rectangle: Rounded Corners 64"/>
          <p:cNvSpPr/>
          <p:nvPr/>
        </p:nvSpPr>
        <p:spPr>
          <a:xfrm>
            <a:off x="6135840" y="5234040"/>
            <a:ext cx="2881080" cy="595440"/>
          </a:xfrm>
          <a:prstGeom prst="roundRect">
            <a:avLst>
              <a:gd name="adj" fmla="val 4454"/>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2" name="Title 1"/>
          <p:cNvSpPr/>
          <p:nvPr/>
        </p:nvSpPr>
        <p:spPr>
          <a:xfrm>
            <a:off x="6392880" y="5348160"/>
            <a:ext cx="1990800" cy="366840"/>
          </a:xfrm>
          <a:prstGeom prst="rect">
            <a:avLst/>
          </a:prstGeom>
          <a:noFill/>
          <a:ln w="0">
            <a:noFill/>
          </a:ln>
        </p:spPr>
        <p:style>
          <a:lnRef idx="0"/>
          <a:fillRef idx="0"/>
          <a:effectRef idx="0"/>
          <a:fontRef idx="minor"/>
        </p:style>
        <p:txBody>
          <a:bodyPr lIns="60840" rIns="60840" tIns="30600" bIns="30600" anchor="ctr">
            <a:noAutofit/>
          </a:bodyPr>
          <a:p>
            <a:pPr>
              <a:lnSpc>
                <a:spcPct val="100000"/>
              </a:lnSpc>
              <a:tabLst>
                <a:tab algn="l" pos="0"/>
                <a:tab algn="l" pos="1371600"/>
                <a:tab algn="l" pos="2743200"/>
                <a:tab algn="l" pos="4114800"/>
                <a:tab algn="l" pos="5486400"/>
                <a:tab algn="l" pos="6858000"/>
                <a:tab algn="l" pos="8229600"/>
                <a:tab algn="l" pos="9601200"/>
              </a:tabLst>
            </a:pPr>
            <a:r>
              <a:rPr b="1" lang="en-US" sz="1800" spc="-1" strike="noStrike">
                <a:solidFill>
                  <a:srgbClr val="404040"/>
                </a:solidFill>
                <a:latin typeface="Open Sans"/>
                <a:ea typeface="Open Sans"/>
              </a:rPr>
              <a:t>Download Now</a:t>
            </a:r>
            <a:endParaRPr b="0" lang="en-US" sz="1800" spc="-1" strike="noStrike">
              <a:solidFill>
                <a:srgbClr val="000000"/>
              </a:solidFill>
              <a:latin typeface="Calibri"/>
            </a:endParaRPr>
          </a:p>
        </p:txBody>
      </p:sp>
      <p:cxnSp>
        <p:nvCxnSpPr>
          <p:cNvPr id="1223" name="Straight Arrow Connector 66"/>
          <p:cNvCxnSpPr/>
          <p:nvPr/>
        </p:nvCxnSpPr>
        <p:spPr>
          <a:xfrm>
            <a:off x="8551440" y="5559120"/>
            <a:ext cx="207000" cy="1080"/>
          </a:xfrm>
          <a:prstGeom prst="straightConnector1">
            <a:avLst/>
          </a:prstGeom>
          <a:ln w="38160">
            <a:solidFill>
              <a:srgbClr val="404040"/>
            </a:solidFill>
            <a:miter/>
            <a:tailEnd len="med" type="triangle" w="med"/>
          </a:ln>
        </p:spPr>
      </p:cxnSp>
      <p:sp>
        <p:nvSpPr>
          <p:cNvPr id="1224" name="Rectangle 10"/>
          <p:cNvSpPr/>
          <p:nvPr/>
        </p:nvSpPr>
        <p:spPr>
          <a:xfrm>
            <a:off x="6095880" y="6308640"/>
            <a:ext cx="6096240" cy="549360"/>
          </a:xfrm>
          <a:prstGeom prst="rect">
            <a:avLst/>
          </a:prstGeom>
          <a:solidFill>
            <a:srgbClr val="dfd9c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25" name="" descr=""/>
          <p:cNvPicPr/>
          <p:nvPr/>
        </p:nvPicPr>
        <p:blipFill>
          <a:blip r:embed="rId2"/>
          <a:stretch/>
        </p:blipFill>
        <p:spPr>
          <a:xfrm>
            <a:off x="-1418040" y="1550520"/>
            <a:ext cx="6559560" cy="3722760"/>
          </a:xfrm>
          <a:prstGeom prst="rect">
            <a:avLst/>
          </a:prstGeom>
          <a:ln w="0">
            <a:noFill/>
          </a:ln>
        </p:spPr>
      </p:pic>
      <p:pic>
        <p:nvPicPr>
          <p:cNvPr id="1226" name="" descr=""/>
          <p:cNvPicPr/>
          <p:nvPr/>
        </p:nvPicPr>
        <p:blipFill>
          <a:blip r:embed="rId3"/>
          <a:stretch/>
        </p:blipFill>
        <p:spPr>
          <a:xfrm>
            <a:off x="8851680" y="1263600"/>
            <a:ext cx="2835000" cy="2146320"/>
          </a:xfrm>
          <a:prstGeom prst="rect">
            <a:avLst/>
          </a:prstGeom>
          <a:ln w="0">
            <a:noFill/>
          </a:ln>
        </p:spPr>
      </p:pic>
      <p:pic>
        <p:nvPicPr>
          <p:cNvPr id="1227" name="" descr=""/>
          <p:cNvPicPr/>
          <p:nvPr/>
        </p:nvPicPr>
        <p:blipFill>
          <a:blip r:embed="rId4"/>
          <a:stretch/>
        </p:blipFill>
        <p:spPr>
          <a:xfrm>
            <a:off x="5751360" y="1263600"/>
            <a:ext cx="2835360" cy="214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9ce"/>
        </a:solidFill>
      </p:bgPr>
    </p:bg>
    <p:spTree>
      <p:nvGrpSpPr>
        <p:cNvPr id="1" name=""/>
        <p:cNvGrpSpPr/>
        <p:nvPr/>
      </p:nvGrpSpPr>
      <p:grpSpPr>
        <a:xfrm>
          <a:off x="0" y="0"/>
          <a:ext cx="0" cy="0"/>
          <a:chOff x="0" y="0"/>
          <a:chExt cx="0" cy="0"/>
        </a:xfrm>
      </p:grpSpPr>
      <p:sp>
        <p:nvSpPr>
          <p:cNvPr id="1228" name="Oval 15"/>
          <p:cNvSpPr/>
          <p:nvPr/>
        </p:nvSpPr>
        <p:spPr>
          <a:xfrm rot="20463600">
            <a:off x="3978000" y="2727000"/>
            <a:ext cx="4260600" cy="1217520"/>
          </a:xfrm>
          <a:prstGeom prst="ellipse">
            <a:avLst/>
          </a:prstGeom>
          <a:noFill/>
          <a:ln w="12600">
            <a:solidFill>
              <a:srgbClr val="ed7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9" name="TextBox 1"/>
          <p:cNvSpPr/>
          <p:nvPr/>
        </p:nvSpPr>
        <p:spPr>
          <a:xfrm>
            <a:off x="2998800" y="2651040"/>
            <a:ext cx="6219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404040"/>
                </a:solidFill>
                <a:latin typeface="MAZIUS REVIEW 20.09"/>
                <a:ea typeface="Vollkorn"/>
              </a:rPr>
              <a:t>THANKS</a:t>
            </a:r>
            <a:endParaRPr b="0" lang="en-US" sz="9600" spc="-1" strike="noStrike">
              <a:solidFill>
                <a:srgbClr val="000000"/>
              </a:solidFill>
              <a:latin typeface="Calibri"/>
            </a:endParaRPr>
          </a:p>
        </p:txBody>
      </p:sp>
      <p:grpSp>
        <p:nvGrpSpPr>
          <p:cNvPr id="1230" name="Group 2"/>
          <p:cNvGrpSpPr/>
          <p:nvPr/>
        </p:nvGrpSpPr>
        <p:grpSpPr>
          <a:xfrm>
            <a:off x="247680" y="200160"/>
            <a:ext cx="4444920" cy="295200"/>
            <a:chOff x="247680" y="200160"/>
            <a:chExt cx="4444920" cy="295200"/>
          </a:xfrm>
        </p:grpSpPr>
        <p:sp>
          <p:nvSpPr>
            <p:cNvPr id="1231" name="Text Placeholder 6"/>
            <p:cNvSpPr/>
            <p:nvPr/>
          </p:nvSpPr>
          <p:spPr>
            <a:xfrm>
              <a:off x="169524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RESENTATION DESIGN</a:t>
              </a:r>
              <a:endParaRPr b="0" lang="en-US" sz="800" spc="-1" strike="noStrike">
                <a:solidFill>
                  <a:srgbClr val="000000"/>
                </a:solidFill>
                <a:latin typeface="Calibri"/>
              </a:endParaRPr>
            </a:p>
          </p:txBody>
        </p:sp>
        <p:sp>
          <p:nvSpPr>
            <p:cNvPr id="1232" name="Text Placeholder 6"/>
            <p:cNvSpPr/>
            <p:nvPr/>
          </p:nvSpPr>
          <p:spPr>
            <a:xfrm>
              <a:off x="247680" y="200160"/>
              <a:ext cx="119376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FASHION TEMPLATE</a:t>
              </a:r>
              <a:endParaRPr b="0" lang="en-US" sz="800" spc="-1" strike="noStrike">
                <a:solidFill>
                  <a:srgbClr val="000000"/>
                </a:solidFill>
                <a:latin typeface="Calibri"/>
              </a:endParaRPr>
            </a:p>
          </p:txBody>
        </p:sp>
        <p:sp>
          <p:nvSpPr>
            <p:cNvPr id="1233" name="Text Placeholder 6"/>
            <p:cNvSpPr/>
            <p:nvPr/>
          </p:nvSpPr>
          <p:spPr>
            <a:xfrm>
              <a:off x="3321000" y="20016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LAYOUT CREATIVE</a:t>
              </a:r>
              <a:endParaRPr b="0" lang="en-US" sz="800" spc="-1" strike="noStrike">
                <a:solidFill>
                  <a:srgbClr val="000000"/>
                </a:solidFill>
                <a:latin typeface="Calibri"/>
              </a:endParaRPr>
            </a:p>
          </p:txBody>
        </p:sp>
      </p:grpSp>
      <p:grpSp>
        <p:nvGrpSpPr>
          <p:cNvPr id="1234" name="Group 6"/>
          <p:cNvGrpSpPr/>
          <p:nvPr/>
        </p:nvGrpSpPr>
        <p:grpSpPr>
          <a:xfrm>
            <a:off x="11727000" y="4230360"/>
            <a:ext cx="352440" cy="2305080"/>
            <a:chOff x="11727000" y="4230360"/>
            <a:chExt cx="352440" cy="2305080"/>
          </a:xfrm>
        </p:grpSpPr>
        <p:sp>
          <p:nvSpPr>
            <p:cNvPr id="1235" name="Text Placeholder 6"/>
            <p:cNvSpPr/>
            <p:nvPr/>
          </p:nvSpPr>
          <p:spPr>
            <a:xfrm rot="16200000">
              <a:off x="11334960" y="4622400"/>
              <a:ext cx="113652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NUMBER</a:t>
              </a:r>
              <a:endParaRPr b="0" lang="en-US" sz="800" spc="-1" strike="noStrike">
                <a:solidFill>
                  <a:srgbClr val="000000"/>
                </a:solidFill>
                <a:latin typeface="Calibri"/>
              </a:endParaRPr>
            </a:p>
          </p:txBody>
        </p:sp>
        <p:sp>
          <p:nvSpPr>
            <p:cNvPr id="1236" name="Text Placeholder 6"/>
            <p:cNvSpPr/>
            <p:nvPr/>
          </p:nvSpPr>
          <p:spPr>
            <a:xfrm rot="16200000">
              <a:off x="11700000" y="6156000"/>
              <a:ext cx="406440" cy="3524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35</a:t>
              </a:r>
              <a:endParaRPr b="0" lang="en-US" sz="800" spc="-1" strike="noStrike">
                <a:solidFill>
                  <a:srgbClr val="000000"/>
                </a:solidFill>
                <a:latin typeface="Calibri"/>
              </a:endParaRPr>
            </a:p>
          </p:txBody>
        </p:sp>
        <p:sp>
          <p:nvSpPr>
            <p:cNvPr id="1237" name="Straight Connector 9"/>
            <p:cNvSpPr/>
            <p:nvPr/>
          </p:nvSpPr>
          <p:spPr>
            <a:xfrm flipH="1" flipV="1">
              <a:off x="11876040" y="5392440"/>
              <a:ext cx="1440" cy="812880"/>
            </a:xfrm>
            <a:prstGeom prst="line">
              <a:avLst/>
            </a:prstGeom>
            <a:ln w="6480">
              <a:solidFill>
                <a:srgbClr val="4040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238" name="Group 10"/>
          <p:cNvGrpSpPr/>
          <p:nvPr/>
        </p:nvGrpSpPr>
        <p:grpSpPr>
          <a:xfrm>
            <a:off x="247680" y="5931000"/>
            <a:ext cx="1727280" cy="662040"/>
            <a:chOff x="247680" y="5931000"/>
            <a:chExt cx="1727280" cy="662040"/>
          </a:xfrm>
        </p:grpSpPr>
        <p:sp>
          <p:nvSpPr>
            <p:cNvPr id="1239" name="Shape 4690"/>
            <p:cNvSpPr/>
            <p:nvPr/>
          </p:nvSpPr>
          <p:spPr>
            <a:xfrm>
              <a:off x="247680" y="623088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Text Placeholder 6"/>
            <p:cNvSpPr/>
            <p:nvPr/>
          </p:nvSpPr>
          <p:spPr>
            <a:xfrm>
              <a:off x="603360" y="6297840"/>
              <a:ext cx="137160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WWW.MASOKA97.COM</a:t>
              </a:r>
              <a:endParaRPr b="0" lang="en-US" sz="800" spc="-1" strike="noStrike">
                <a:solidFill>
                  <a:srgbClr val="000000"/>
                </a:solidFill>
                <a:latin typeface="Calibri"/>
              </a:endParaRPr>
            </a:p>
          </p:txBody>
        </p:sp>
        <p:sp>
          <p:nvSpPr>
            <p:cNvPr id="1241" name="Text Placeholder 6"/>
            <p:cNvSpPr/>
            <p:nvPr/>
          </p:nvSpPr>
          <p:spPr>
            <a:xfrm>
              <a:off x="603360" y="5931000"/>
              <a:ext cx="8254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PAGE 04-35</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040"/>
                  </a:solidFill>
                  <a:latin typeface="Open Sans"/>
                  <a:ea typeface="Open Sans"/>
                </a:rPr>
                <a:t>TOTAL SLIDE</a:t>
              </a:r>
              <a:endParaRPr b="0" lang="en-US" sz="800" spc="-1" strike="noStrike">
                <a:solidFill>
                  <a:srgbClr val="000000"/>
                </a:solidFill>
                <a:latin typeface="Calibri"/>
              </a:endParaRPr>
            </a:p>
          </p:txBody>
        </p:sp>
      </p:grpSp>
      <p:sp>
        <p:nvSpPr>
          <p:cNvPr id="1242" name="Text Placeholder 6"/>
          <p:cNvSpPr/>
          <p:nvPr/>
        </p:nvSpPr>
        <p:spPr>
          <a:xfrm>
            <a:off x="10574280" y="495360"/>
            <a:ext cx="1378080" cy="328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8312b"/>
                </a:solidFill>
                <a:latin typeface="Open Sans"/>
                <a:ea typeface="Open Sans"/>
              </a:rPr>
              <a:t>LOREM IPSUM DOLOR SIT AMET CONSECTUR</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8f0"/>
        </a:solidFill>
      </p:bgPr>
    </p:bg>
    <p:spTree>
      <p:nvGrpSpPr>
        <p:cNvPr id="1" name=""/>
        <p:cNvGrpSpPr/>
        <p:nvPr/>
      </p:nvGrpSpPr>
      <p:grpSpPr>
        <a:xfrm>
          <a:off x="0" y="0"/>
          <a:ext cx="0" cy="0"/>
          <a:chOff x="0" y="0"/>
          <a:chExt cx="0" cy="0"/>
        </a:xfrm>
      </p:grpSpPr>
      <p:sp>
        <p:nvSpPr>
          <p:cNvPr id="1243" name="Shape 4584"/>
          <p:cNvSpPr/>
          <p:nvPr/>
        </p:nvSpPr>
        <p:spPr>
          <a:xfrm>
            <a:off x="10417320" y="5600880"/>
            <a:ext cx="228600" cy="126720"/>
          </a:xfrm>
          <a:custGeom>
            <a:avLst/>
            <a:gdLst>
              <a:gd name="textAreaLeft" fmla="*/ 0 w 228600"/>
              <a:gd name="textAreaRight" fmla="*/ 228960 w 228600"/>
              <a:gd name="textAreaTop" fmla="*/ 0 h 126720"/>
              <a:gd name="textAreaBottom" fmla="*/ 127080 h 126720"/>
            </a:gdLst>
            <a:ahLst/>
            <a:rect l="textAreaLeft" t="textAreaTop" r="textAreaRight" b="textAreaBottom"/>
            <a:pathLst>
              <a:path w="120000" h="120000">
                <a:moveTo>
                  <a:pt x="119745" y="106015"/>
                </a:moveTo>
                <a:lnTo>
                  <a:pt x="119745" y="106015"/>
                </a:lnTo>
                <a:cubicBezTo>
                  <a:pt x="63813" y="0"/>
                  <a:pt x="63813" y="0"/>
                  <a:pt x="63813" y="0"/>
                </a:cubicBezTo>
                <a:cubicBezTo>
                  <a:pt x="63813" y="0"/>
                  <a:pt x="63813" y="0"/>
                  <a:pt x="60000" y="0"/>
                </a:cubicBezTo>
                <a:cubicBezTo>
                  <a:pt x="60000" y="0"/>
                  <a:pt x="60000" y="0"/>
                  <a:pt x="56186" y="0"/>
                </a:cubicBezTo>
                <a:cubicBezTo>
                  <a:pt x="3813" y="106015"/>
                  <a:pt x="3813" y="106015"/>
                  <a:pt x="3813" y="106015"/>
                </a:cubicBezTo>
                <a:cubicBezTo>
                  <a:pt x="0" y="112781"/>
                  <a:pt x="0" y="112781"/>
                  <a:pt x="3813" y="119548"/>
                </a:cubicBezTo>
                <a:cubicBezTo>
                  <a:pt x="3813" y="119548"/>
                  <a:pt x="7627" y="119548"/>
                  <a:pt x="11186" y="119548"/>
                </a:cubicBezTo>
                <a:cubicBezTo>
                  <a:pt x="60000" y="19849"/>
                  <a:pt x="60000" y="19849"/>
                  <a:pt x="60000" y="19849"/>
                </a:cubicBezTo>
                <a:cubicBezTo>
                  <a:pt x="112372" y="119548"/>
                  <a:pt x="112372" y="119548"/>
                  <a:pt x="112372" y="119548"/>
                </a:cubicBezTo>
                <a:cubicBezTo>
                  <a:pt x="116186" y="119548"/>
                  <a:pt x="116186" y="119548"/>
                  <a:pt x="119745" y="119548"/>
                </a:cubicBezTo>
                <a:cubicBezTo>
                  <a:pt x="119745" y="112781"/>
                  <a:pt x="119745" y="112781"/>
                  <a:pt x="119745" y="106015"/>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4586"/>
          <p:cNvSpPr/>
          <p:nvPr/>
        </p:nvSpPr>
        <p:spPr>
          <a:xfrm>
            <a:off x="9499680" y="5549760"/>
            <a:ext cx="125280" cy="228600"/>
          </a:xfrm>
          <a:custGeom>
            <a:avLst/>
            <a:gdLst>
              <a:gd name="textAreaLeft" fmla="*/ 0 w 125280"/>
              <a:gd name="textAreaRight" fmla="*/ 125640 w 125280"/>
              <a:gd name="textAreaTop" fmla="*/ 0 h 228600"/>
              <a:gd name="textAreaBottom" fmla="*/ 228960 h 228600"/>
            </a:gdLst>
            <a:ahLst/>
            <a:rect l="textAreaLeft" t="textAreaTop" r="textAreaRight" b="textAreaBottom"/>
            <a:pathLst>
              <a:path w="120000" h="120000">
                <a:moveTo>
                  <a:pt x="19924" y="59745"/>
                </a:moveTo>
                <a:lnTo>
                  <a:pt x="19924" y="59745"/>
                </a:lnTo>
                <a:cubicBezTo>
                  <a:pt x="119547" y="7372"/>
                  <a:pt x="119547" y="7372"/>
                  <a:pt x="119547" y="7372"/>
                </a:cubicBezTo>
                <a:cubicBezTo>
                  <a:pt x="119547" y="7372"/>
                  <a:pt x="119547" y="3559"/>
                  <a:pt x="119547" y="0"/>
                </a:cubicBezTo>
                <a:cubicBezTo>
                  <a:pt x="113207" y="0"/>
                  <a:pt x="113207" y="0"/>
                  <a:pt x="106415" y="0"/>
                </a:cubicBezTo>
                <a:cubicBezTo>
                  <a:pt x="0" y="56186"/>
                  <a:pt x="0" y="56186"/>
                  <a:pt x="0" y="56186"/>
                </a:cubicBezTo>
                <a:lnTo>
                  <a:pt x="0" y="59745"/>
                </a:lnTo>
                <a:lnTo>
                  <a:pt x="0" y="63559"/>
                </a:lnTo>
                <a:cubicBezTo>
                  <a:pt x="106415" y="119745"/>
                  <a:pt x="106415" y="119745"/>
                  <a:pt x="106415" y="119745"/>
                </a:cubicBezTo>
                <a:cubicBezTo>
                  <a:pt x="113207" y="119745"/>
                  <a:pt x="113207" y="119745"/>
                  <a:pt x="119547" y="119745"/>
                </a:cubicBezTo>
                <a:cubicBezTo>
                  <a:pt x="119547" y="115932"/>
                  <a:pt x="119547" y="112372"/>
                  <a:pt x="119547" y="112372"/>
                </a:cubicBezTo>
                <a:lnTo>
                  <a:pt x="19924" y="59745"/>
                </a:ln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4588"/>
          <p:cNvSpPr/>
          <p:nvPr/>
        </p:nvSpPr>
        <p:spPr>
          <a:xfrm>
            <a:off x="8429760" y="5516640"/>
            <a:ext cx="304560" cy="296640"/>
          </a:xfrm>
          <a:custGeom>
            <a:avLst/>
            <a:gdLst>
              <a:gd name="textAreaLeft" fmla="*/ 0 w 304560"/>
              <a:gd name="textAreaRight" fmla="*/ 304920 w 304560"/>
              <a:gd name="textAreaTop" fmla="*/ 0 h 296640"/>
              <a:gd name="textAreaBottom" fmla="*/ 297000 h 296640"/>
            </a:gdLst>
            <a:ahLst/>
            <a:rect l="textAreaLeft" t="textAreaTop" r="textAreaRight" b="textAreaBottom"/>
            <a:pathLst>
              <a:path w="120000" h="120000">
                <a:moveTo>
                  <a:pt x="47318" y="65718"/>
                </a:moveTo>
                <a:lnTo>
                  <a:pt x="47318" y="65718"/>
                </a:lnTo>
                <a:cubicBezTo>
                  <a:pt x="8328" y="108368"/>
                  <a:pt x="8328" y="108368"/>
                  <a:pt x="8328" y="108368"/>
                </a:cubicBezTo>
                <a:cubicBezTo>
                  <a:pt x="8328" y="82778"/>
                  <a:pt x="8328" y="82778"/>
                  <a:pt x="8328" y="82778"/>
                </a:cubicBezTo>
                <a:cubicBezTo>
                  <a:pt x="8328" y="79870"/>
                  <a:pt x="5488" y="79870"/>
                  <a:pt x="2649" y="79870"/>
                </a:cubicBezTo>
                <a:cubicBezTo>
                  <a:pt x="2649" y="79870"/>
                  <a:pt x="0" y="79870"/>
                  <a:pt x="0" y="82778"/>
                </a:cubicBezTo>
                <a:cubicBezTo>
                  <a:pt x="0" y="117092"/>
                  <a:pt x="0" y="117092"/>
                  <a:pt x="0" y="117092"/>
                </a:cubicBezTo>
                <a:lnTo>
                  <a:pt x="0" y="119806"/>
                </a:lnTo>
                <a:cubicBezTo>
                  <a:pt x="2649" y="119806"/>
                  <a:pt x="2649" y="119806"/>
                  <a:pt x="2649" y="119806"/>
                </a:cubicBezTo>
                <a:cubicBezTo>
                  <a:pt x="36151" y="119806"/>
                  <a:pt x="36151" y="119806"/>
                  <a:pt x="36151" y="119806"/>
                </a:cubicBezTo>
                <a:cubicBezTo>
                  <a:pt x="38990" y="119806"/>
                  <a:pt x="41829" y="119806"/>
                  <a:pt x="41829" y="117092"/>
                </a:cubicBezTo>
                <a:cubicBezTo>
                  <a:pt x="41829" y="114184"/>
                  <a:pt x="38990" y="114184"/>
                  <a:pt x="36151" y="114184"/>
                </a:cubicBezTo>
                <a:cubicBezTo>
                  <a:pt x="10977" y="114184"/>
                  <a:pt x="10977" y="114184"/>
                  <a:pt x="10977" y="114184"/>
                </a:cubicBezTo>
                <a:cubicBezTo>
                  <a:pt x="52807" y="71340"/>
                  <a:pt x="52807" y="71340"/>
                  <a:pt x="52807" y="71340"/>
                </a:cubicBezTo>
                <a:lnTo>
                  <a:pt x="47318" y="65718"/>
                </a:lnTo>
                <a:close/>
                <a:moveTo>
                  <a:pt x="116971" y="0"/>
                </a:moveTo>
                <a:lnTo>
                  <a:pt x="116971" y="0"/>
                </a:lnTo>
                <a:cubicBezTo>
                  <a:pt x="116971" y="0"/>
                  <a:pt x="116971" y="0"/>
                  <a:pt x="114132" y="0"/>
                </a:cubicBezTo>
                <a:cubicBezTo>
                  <a:pt x="80630" y="0"/>
                  <a:pt x="80630" y="0"/>
                  <a:pt x="80630" y="0"/>
                </a:cubicBezTo>
                <a:cubicBezTo>
                  <a:pt x="80630" y="0"/>
                  <a:pt x="77981" y="0"/>
                  <a:pt x="77981" y="2907"/>
                </a:cubicBezTo>
                <a:cubicBezTo>
                  <a:pt x="77981" y="5621"/>
                  <a:pt x="80630" y="5621"/>
                  <a:pt x="80630" y="5621"/>
                </a:cubicBezTo>
                <a:cubicBezTo>
                  <a:pt x="105804" y="5621"/>
                  <a:pt x="105804" y="5621"/>
                  <a:pt x="105804" y="5621"/>
                </a:cubicBezTo>
                <a:cubicBezTo>
                  <a:pt x="66813" y="48465"/>
                  <a:pt x="66813" y="48465"/>
                  <a:pt x="66813" y="48465"/>
                </a:cubicBezTo>
                <a:cubicBezTo>
                  <a:pt x="72492" y="54281"/>
                  <a:pt x="72492" y="54281"/>
                  <a:pt x="72492" y="54281"/>
                </a:cubicBezTo>
                <a:cubicBezTo>
                  <a:pt x="111293" y="11437"/>
                  <a:pt x="111293" y="11437"/>
                  <a:pt x="111293" y="11437"/>
                </a:cubicBezTo>
                <a:cubicBezTo>
                  <a:pt x="111293" y="37027"/>
                  <a:pt x="111293" y="37027"/>
                  <a:pt x="111293" y="37027"/>
                </a:cubicBezTo>
                <a:cubicBezTo>
                  <a:pt x="111293" y="39935"/>
                  <a:pt x="114132" y="39935"/>
                  <a:pt x="114132" y="39935"/>
                </a:cubicBezTo>
                <a:cubicBezTo>
                  <a:pt x="116971" y="39935"/>
                  <a:pt x="119810" y="39935"/>
                  <a:pt x="119810" y="37027"/>
                </a:cubicBezTo>
                <a:cubicBezTo>
                  <a:pt x="119810" y="2907"/>
                  <a:pt x="119810" y="2907"/>
                  <a:pt x="119810" y="2907"/>
                </a:cubicBezTo>
                <a:cubicBezTo>
                  <a:pt x="119810" y="2907"/>
                  <a:pt x="119810" y="0"/>
                  <a:pt x="116971"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4590"/>
          <p:cNvSpPr/>
          <p:nvPr/>
        </p:nvSpPr>
        <p:spPr>
          <a:xfrm>
            <a:off x="7520040" y="5516640"/>
            <a:ext cx="127080" cy="296640"/>
          </a:xfrm>
          <a:custGeom>
            <a:avLst/>
            <a:gdLst>
              <a:gd name="textAreaLeft" fmla="*/ 0 w 127080"/>
              <a:gd name="textAreaRight" fmla="*/ 127440 w 127080"/>
              <a:gd name="textAreaTop" fmla="*/ 0 h 296640"/>
              <a:gd name="textAreaBottom" fmla="*/ 297000 h 296640"/>
            </a:gdLst>
            <a:ahLst/>
            <a:rect l="textAreaLeft" t="textAreaTop" r="textAreaRight" b="textAreaBottom"/>
            <a:pathLst>
              <a:path w="120000" h="120000">
                <a:moveTo>
                  <a:pt x="106415" y="91308"/>
                </a:moveTo>
                <a:lnTo>
                  <a:pt x="106415" y="91308"/>
                </a:lnTo>
                <a:cubicBezTo>
                  <a:pt x="66566" y="108368"/>
                  <a:pt x="66566" y="108368"/>
                  <a:pt x="66566" y="108368"/>
                </a:cubicBezTo>
                <a:cubicBezTo>
                  <a:pt x="66566" y="11437"/>
                  <a:pt x="66566" y="11437"/>
                  <a:pt x="66566" y="11437"/>
                </a:cubicBezTo>
                <a:cubicBezTo>
                  <a:pt x="106415" y="28497"/>
                  <a:pt x="106415" y="28497"/>
                  <a:pt x="106415" y="28497"/>
                </a:cubicBezTo>
                <a:cubicBezTo>
                  <a:pt x="113207" y="28497"/>
                  <a:pt x="113207" y="28497"/>
                  <a:pt x="119547" y="28497"/>
                </a:cubicBezTo>
                <a:cubicBezTo>
                  <a:pt x="119547" y="25783"/>
                  <a:pt x="119547" y="22875"/>
                  <a:pt x="119547" y="22875"/>
                </a:cubicBezTo>
                <a:cubicBezTo>
                  <a:pt x="66566" y="0"/>
                  <a:pt x="66566" y="0"/>
                  <a:pt x="66566" y="0"/>
                </a:cubicBezTo>
                <a:lnTo>
                  <a:pt x="59773" y="0"/>
                </a:lnTo>
                <a:lnTo>
                  <a:pt x="52981" y="0"/>
                </a:lnTo>
                <a:cubicBezTo>
                  <a:pt x="0" y="22875"/>
                  <a:pt x="0" y="22875"/>
                  <a:pt x="0" y="22875"/>
                </a:cubicBezTo>
                <a:cubicBezTo>
                  <a:pt x="0" y="22875"/>
                  <a:pt x="0" y="25783"/>
                  <a:pt x="0" y="28497"/>
                </a:cubicBezTo>
                <a:cubicBezTo>
                  <a:pt x="6339" y="28497"/>
                  <a:pt x="6339" y="28497"/>
                  <a:pt x="13132" y="28497"/>
                </a:cubicBezTo>
                <a:cubicBezTo>
                  <a:pt x="52981" y="11437"/>
                  <a:pt x="52981" y="11437"/>
                  <a:pt x="52981" y="11437"/>
                </a:cubicBezTo>
                <a:cubicBezTo>
                  <a:pt x="52981" y="108368"/>
                  <a:pt x="52981" y="108368"/>
                  <a:pt x="52981" y="108368"/>
                </a:cubicBezTo>
                <a:cubicBezTo>
                  <a:pt x="13132" y="91308"/>
                  <a:pt x="13132" y="91308"/>
                  <a:pt x="13132" y="91308"/>
                </a:cubicBezTo>
                <a:cubicBezTo>
                  <a:pt x="6339" y="91308"/>
                  <a:pt x="6339" y="91308"/>
                  <a:pt x="0" y="91308"/>
                </a:cubicBezTo>
                <a:cubicBezTo>
                  <a:pt x="0" y="94216"/>
                  <a:pt x="0" y="96930"/>
                  <a:pt x="0" y="96930"/>
                </a:cubicBezTo>
                <a:cubicBezTo>
                  <a:pt x="52981" y="119806"/>
                  <a:pt x="52981" y="119806"/>
                  <a:pt x="52981" y="119806"/>
                </a:cubicBezTo>
                <a:lnTo>
                  <a:pt x="59773" y="119806"/>
                </a:lnTo>
                <a:lnTo>
                  <a:pt x="66566" y="119806"/>
                </a:lnTo>
                <a:cubicBezTo>
                  <a:pt x="119547" y="96930"/>
                  <a:pt x="119547" y="96930"/>
                  <a:pt x="119547" y="96930"/>
                </a:cubicBezTo>
                <a:cubicBezTo>
                  <a:pt x="119547" y="96930"/>
                  <a:pt x="119547" y="94216"/>
                  <a:pt x="119547" y="91308"/>
                </a:cubicBezTo>
                <a:cubicBezTo>
                  <a:pt x="113207" y="91308"/>
                  <a:pt x="113207" y="91308"/>
                  <a:pt x="106415" y="91308"/>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4592"/>
          <p:cNvSpPr/>
          <p:nvPr/>
        </p:nvSpPr>
        <p:spPr>
          <a:xfrm>
            <a:off x="6470640" y="5529240"/>
            <a:ext cx="254160" cy="270000"/>
          </a:xfrm>
          <a:custGeom>
            <a:avLst/>
            <a:gdLst>
              <a:gd name="textAreaLeft" fmla="*/ 0 w 254160"/>
              <a:gd name="textAreaRight" fmla="*/ 254520 w 254160"/>
              <a:gd name="textAreaTop" fmla="*/ 0 h 270000"/>
              <a:gd name="textAreaBottom" fmla="*/ 270360 h 270000"/>
            </a:gdLst>
            <a:ahLst/>
            <a:rect l="textAreaLeft" t="textAreaTop" r="textAreaRight" b="textAreaBottom"/>
            <a:pathLst>
              <a:path w="120000" h="120000">
                <a:moveTo>
                  <a:pt x="53107" y="31657"/>
                </a:moveTo>
                <a:lnTo>
                  <a:pt x="53107" y="31657"/>
                </a:lnTo>
                <a:cubicBezTo>
                  <a:pt x="53107" y="6417"/>
                  <a:pt x="53107" y="6417"/>
                  <a:pt x="53107" y="6417"/>
                </a:cubicBezTo>
                <a:cubicBezTo>
                  <a:pt x="53107" y="3208"/>
                  <a:pt x="53107" y="3208"/>
                  <a:pt x="49943" y="3208"/>
                </a:cubicBezTo>
                <a:cubicBezTo>
                  <a:pt x="49943" y="0"/>
                  <a:pt x="46553" y="0"/>
                  <a:pt x="43163" y="3208"/>
                </a:cubicBezTo>
                <a:cubicBezTo>
                  <a:pt x="0" y="47272"/>
                  <a:pt x="0" y="47272"/>
                  <a:pt x="0" y="47272"/>
                </a:cubicBezTo>
                <a:cubicBezTo>
                  <a:pt x="0" y="50481"/>
                  <a:pt x="0" y="50481"/>
                  <a:pt x="0" y="50481"/>
                </a:cubicBezTo>
                <a:cubicBezTo>
                  <a:pt x="0" y="53689"/>
                  <a:pt x="0" y="53689"/>
                  <a:pt x="0" y="53689"/>
                </a:cubicBezTo>
                <a:cubicBezTo>
                  <a:pt x="43163" y="100748"/>
                  <a:pt x="43163" y="100748"/>
                  <a:pt x="43163" y="100748"/>
                </a:cubicBezTo>
                <a:cubicBezTo>
                  <a:pt x="46553" y="100748"/>
                  <a:pt x="46553" y="100748"/>
                  <a:pt x="46553" y="100748"/>
                </a:cubicBezTo>
                <a:cubicBezTo>
                  <a:pt x="49943" y="100748"/>
                  <a:pt x="49943" y="100748"/>
                  <a:pt x="49943" y="100748"/>
                </a:cubicBezTo>
                <a:cubicBezTo>
                  <a:pt x="53107" y="100748"/>
                  <a:pt x="53107" y="97754"/>
                  <a:pt x="53107" y="97754"/>
                </a:cubicBezTo>
                <a:lnTo>
                  <a:pt x="53107" y="72513"/>
                </a:lnTo>
                <a:cubicBezTo>
                  <a:pt x="79774" y="72513"/>
                  <a:pt x="106440" y="91550"/>
                  <a:pt x="112994" y="119786"/>
                </a:cubicBezTo>
                <a:cubicBezTo>
                  <a:pt x="116384" y="110374"/>
                  <a:pt x="119774" y="104171"/>
                  <a:pt x="119774" y="94545"/>
                </a:cubicBezTo>
                <a:cubicBezTo>
                  <a:pt x="119774" y="59893"/>
                  <a:pt x="89717" y="31657"/>
                  <a:pt x="53107" y="31657"/>
                </a:cubicBezTo>
                <a:close/>
                <a:moveTo>
                  <a:pt x="56497" y="63101"/>
                </a:moveTo>
                <a:lnTo>
                  <a:pt x="56497" y="63101"/>
                </a:lnTo>
                <a:cubicBezTo>
                  <a:pt x="53107" y="63101"/>
                  <a:pt x="43163" y="63101"/>
                  <a:pt x="43163" y="63101"/>
                </a:cubicBezTo>
                <a:cubicBezTo>
                  <a:pt x="43163" y="88342"/>
                  <a:pt x="43163" y="88342"/>
                  <a:pt x="43163" y="88342"/>
                </a:cubicBezTo>
                <a:cubicBezTo>
                  <a:pt x="9943" y="50481"/>
                  <a:pt x="9943" y="50481"/>
                  <a:pt x="9943" y="50481"/>
                </a:cubicBezTo>
                <a:cubicBezTo>
                  <a:pt x="43163" y="15828"/>
                  <a:pt x="43163" y="15828"/>
                  <a:pt x="43163" y="15828"/>
                </a:cubicBezTo>
                <a:cubicBezTo>
                  <a:pt x="43163" y="37860"/>
                  <a:pt x="43163" y="37860"/>
                  <a:pt x="43163" y="37860"/>
                </a:cubicBezTo>
                <a:cubicBezTo>
                  <a:pt x="43163" y="37860"/>
                  <a:pt x="53107" y="37860"/>
                  <a:pt x="56497" y="37860"/>
                </a:cubicBezTo>
                <a:cubicBezTo>
                  <a:pt x="86327" y="41069"/>
                  <a:pt x="109830" y="72513"/>
                  <a:pt x="109830" y="88342"/>
                </a:cubicBezTo>
                <a:cubicBezTo>
                  <a:pt x="99661" y="78930"/>
                  <a:pt x="76610" y="63101"/>
                  <a:pt x="56497" y="6310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4594"/>
          <p:cNvSpPr/>
          <p:nvPr/>
        </p:nvSpPr>
        <p:spPr>
          <a:xfrm>
            <a:off x="10391760" y="5068800"/>
            <a:ext cx="304920" cy="206640"/>
          </a:xfrm>
          <a:custGeom>
            <a:avLst/>
            <a:gdLst>
              <a:gd name="textAreaLeft" fmla="*/ 0 w 304920"/>
              <a:gd name="textAreaRight" fmla="*/ 305280 w 304920"/>
              <a:gd name="textAreaTop" fmla="*/ 0 h 206640"/>
              <a:gd name="textAreaBottom" fmla="*/ 207000 h 206640"/>
            </a:gdLst>
            <a:ahLst/>
            <a:rect l="textAreaLeft" t="textAreaTop" r="textAreaRight" b="textAreaBottom"/>
            <a:pathLst>
              <a:path w="120000" h="120000">
                <a:moveTo>
                  <a:pt x="105993" y="0"/>
                </a:moveTo>
                <a:lnTo>
                  <a:pt x="105993" y="0"/>
                </a:lnTo>
                <a:cubicBezTo>
                  <a:pt x="39179" y="0"/>
                  <a:pt x="39179" y="0"/>
                  <a:pt x="39179" y="0"/>
                </a:cubicBezTo>
                <a:cubicBezTo>
                  <a:pt x="36340" y="0"/>
                  <a:pt x="36340" y="0"/>
                  <a:pt x="36340" y="0"/>
                </a:cubicBezTo>
                <a:cubicBezTo>
                  <a:pt x="2839" y="57892"/>
                  <a:pt x="2839" y="57892"/>
                  <a:pt x="2839" y="57892"/>
                </a:cubicBezTo>
                <a:cubicBezTo>
                  <a:pt x="0" y="57892"/>
                  <a:pt x="0" y="57892"/>
                  <a:pt x="0" y="62107"/>
                </a:cubicBezTo>
                <a:cubicBezTo>
                  <a:pt x="0" y="62107"/>
                  <a:pt x="0" y="62107"/>
                  <a:pt x="2839" y="66042"/>
                </a:cubicBezTo>
                <a:cubicBezTo>
                  <a:pt x="36340" y="119718"/>
                  <a:pt x="36340" y="119718"/>
                  <a:pt x="36340" y="119718"/>
                </a:cubicBezTo>
                <a:cubicBezTo>
                  <a:pt x="36340" y="119718"/>
                  <a:pt x="36340" y="119718"/>
                  <a:pt x="39179" y="119718"/>
                </a:cubicBezTo>
                <a:cubicBezTo>
                  <a:pt x="105993" y="119718"/>
                  <a:pt x="105993" y="119718"/>
                  <a:pt x="105993" y="119718"/>
                </a:cubicBezTo>
                <a:cubicBezTo>
                  <a:pt x="114321" y="119718"/>
                  <a:pt x="119810" y="111569"/>
                  <a:pt x="119810" y="99203"/>
                </a:cubicBezTo>
                <a:cubicBezTo>
                  <a:pt x="119810" y="20515"/>
                  <a:pt x="119810" y="20515"/>
                  <a:pt x="119810" y="20515"/>
                </a:cubicBezTo>
                <a:cubicBezTo>
                  <a:pt x="119810" y="8149"/>
                  <a:pt x="114321" y="0"/>
                  <a:pt x="105993" y="0"/>
                </a:cubicBezTo>
                <a:close/>
                <a:moveTo>
                  <a:pt x="111482" y="99203"/>
                </a:moveTo>
                <a:lnTo>
                  <a:pt x="111482" y="99203"/>
                </a:lnTo>
                <a:cubicBezTo>
                  <a:pt x="111482" y="103419"/>
                  <a:pt x="108832" y="111569"/>
                  <a:pt x="105993" y="111569"/>
                </a:cubicBezTo>
                <a:cubicBezTo>
                  <a:pt x="39179" y="111569"/>
                  <a:pt x="39179" y="111569"/>
                  <a:pt x="39179" y="111569"/>
                </a:cubicBezTo>
                <a:cubicBezTo>
                  <a:pt x="8517" y="62107"/>
                  <a:pt x="8517" y="62107"/>
                  <a:pt x="8517" y="62107"/>
                </a:cubicBezTo>
                <a:cubicBezTo>
                  <a:pt x="39179" y="12365"/>
                  <a:pt x="39179" y="12365"/>
                  <a:pt x="39179" y="12365"/>
                </a:cubicBezTo>
                <a:cubicBezTo>
                  <a:pt x="105993" y="12365"/>
                  <a:pt x="105993" y="12365"/>
                  <a:pt x="105993" y="12365"/>
                </a:cubicBezTo>
                <a:cubicBezTo>
                  <a:pt x="108832" y="12365"/>
                  <a:pt x="111482" y="16299"/>
                  <a:pt x="111482" y="20515"/>
                </a:cubicBezTo>
                <a:lnTo>
                  <a:pt x="111482" y="99203"/>
                </a:lnTo>
                <a:close/>
                <a:moveTo>
                  <a:pt x="86498" y="41311"/>
                </a:moveTo>
                <a:lnTo>
                  <a:pt x="86498" y="41311"/>
                </a:lnTo>
                <a:cubicBezTo>
                  <a:pt x="83659" y="37096"/>
                  <a:pt x="81009" y="37096"/>
                  <a:pt x="81009" y="41311"/>
                </a:cubicBezTo>
                <a:cubicBezTo>
                  <a:pt x="72492" y="53676"/>
                  <a:pt x="72492" y="53676"/>
                  <a:pt x="72492" y="53676"/>
                </a:cubicBezTo>
                <a:cubicBezTo>
                  <a:pt x="64164" y="41311"/>
                  <a:pt x="64164" y="41311"/>
                  <a:pt x="64164" y="41311"/>
                </a:cubicBezTo>
                <a:cubicBezTo>
                  <a:pt x="61324" y="37096"/>
                  <a:pt x="58675" y="37096"/>
                  <a:pt x="58675" y="41311"/>
                </a:cubicBezTo>
                <a:cubicBezTo>
                  <a:pt x="55835" y="41311"/>
                  <a:pt x="55835" y="45526"/>
                  <a:pt x="58675" y="49461"/>
                </a:cubicBezTo>
                <a:cubicBezTo>
                  <a:pt x="67003" y="62107"/>
                  <a:pt x="67003" y="62107"/>
                  <a:pt x="67003" y="62107"/>
                </a:cubicBezTo>
                <a:cubicBezTo>
                  <a:pt x="58675" y="74473"/>
                  <a:pt x="58675" y="74473"/>
                  <a:pt x="58675" y="74473"/>
                </a:cubicBezTo>
                <a:cubicBezTo>
                  <a:pt x="55835" y="74473"/>
                  <a:pt x="55835" y="78407"/>
                  <a:pt x="58675" y="82622"/>
                </a:cubicBezTo>
                <a:cubicBezTo>
                  <a:pt x="58675" y="82622"/>
                  <a:pt x="61324" y="82622"/>
                  <a:pt x="64164" y="82622"/>
                </a:cubicBezTo>
                <a:cubicBezTo>
                  <a:pt x="72492" y="70257"/>
                  <a:pt x="72492" y="70257"/>
                  <a:pt x="72492" y="70257"/>
                </a:cubicBezTo>
                <a:cubicBezTo>
                  <a:pt x="81009" y="82622"/>
                  <a:pt x="81009" y="82622"/>
                  <a:pt x="81009" y="82622"/>
                </a:cubicBezTo>
                <a:cubicBezTo>
                  <a:pt x="81009" y="82622"/>
                  <a:pt x="83659" y="82622"/>
                  <a:pt x="86498" y="82622"/>
                </a:cubicBezTo>
                <a:cubicBezTo>
                  <a:pt x="86498" y="78407"/>
                  <a:pt x="86498" y="74473"/>
                  <a:pt x="86498" y="74473"/>
                </a:cubicBezTo>
                <a:cubicBezTo>
                  <a:pt x="77981" y="62107"/>
                  <a:pt x="77981" y="62107"/>
                  <a:pt x="77981" y="62107"/>
                </a:cubicBezTo>
                <a:cubicBezTo>
                  <a:pt x="86498" y="49461"/>
                  <a:pt x="86498" y="49461"/>
                  <a:pt x="86498" y="49461"/>
                </a:cubicBezTo>
                <a:cubicBezTo>
                  <a:pt x="86498" y="45526"/>
                  <a:pt x="86498" y="41311"/>
                  <a:pt x="86498" y="4131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4596"/>
          <p:cNvSpPr/>
          <p:nvPr/>
        </p:nvSpPr>
        <p:spPr>
          <a:xfrm>
            <a:off x="9414000" y="5019840"/>
            <a:ext cx="296640" cy="226800"/>
          </a:xfrm>
          <a:custGeom>
            <a:avLst/>
            <a:gdLst>
              <a:gd name="textAreaLeft" fmla="*/ 0 w 296640"/>
              <a:gd name="textAreaRight" fmla="*/ 297000 w 296640"/>
              <a:gd name="textAreaTop" fmla="*/ 0 h 226800"/>
              <a:gd name="textAreaBottom" fmla="*/ 227160 h 226800"/>
            </a:gdLst>
            <a:ahLst/>
            <a:rect l="textAreaLeft" t="textAreaTop" r="textAreaRight" b="textAreaBottom"/>
            <a:pathLst>
              <a:path w="120000" h="120000">
                <a:moveTo>
                  <a:pt x="79870" y="63678"/>
                </a:moveTo>
                <a:lnTo>
                  <a:pt x="79870" y="63678"/>
                </a:lnTo>
                <a:cubicBezTo>
                  <a:pt x="62810" y="86004"/>
                  <a:pt x="62810" y="86004"/>
                  <a:pt x="62810" y="86004"/>
                </a:cubicBezTo>
                <a:cubicBezTo>
                  <a:pt x="62810" y="37547"/>
                  <a:pt x="62810" y="37547"/>
                  <a:pt x="62810" y="37547"/>
                </a:cubicBezTo>
                <a:cubicBezTo>
                  <a:pt x="62810" y="33742"/>
                  <a:pt x="62810" y="29936"/>
                  <a:pt x="59903" y="29936"/>
                </a:cubicBezTo>
                <a:cubicBezTo>
                  <a:pt x="56995" y="29936"/>
                  <a:pt x="56995" y="33742"/>
                  <a:pt x="56995" y="37547"/>
                </a:cubicBezTo>
                <a:cubicBezTo>
                  <a:pt x="56995" y="86004"/>
                  <a:pt x="56995" y="86004"/>
                  <a:pt x="56995" y="86004"/>
                </a:cubicBezTo>
                <a:cubicBezTo>
                  <a:pt x="39935" y="63678"/>
                  <a:pt x="39935" y="63678"/>
                  <a:pt x="39935" y="63678"/>
                </a:cubicBezTo>
                <a:cubicBezTo>
                  <a:pt x="37027" y="59873"/>
                  <a:pt x="37027" y="59873"/>
                  <a:pt x="34313" y="63678"/>
                </a:cubicBezTo>
                <a:cubicBezTo>
                  <a:pt x="34313" y="63678"/>
                  <a:pt x="34313" y="67484"/>
                  <a:pt x="34313" y="71035"/>
                </a:cubicBezTo>
                <a:cubicBezTo>
                  <a:pt x="56995" y="100972"/>
                  <a:pt x="56995" y="100972"/>
                  <a:pt x="56995" y="100972"/>
                </a:cubicBezTo>
                <a:lnTo>
                  <a:pt x="59903" y="100972"/>
                </a:lnTo>
                <a:lnTo>
                  <a:pt x="62810" y="100972"/>
                </a:lnTo>
                <a:cubicBezTo>
                  <a:pt x="85492" y="71035"/>
                  <a:pt x="85492" y="71035"/>
                  <a:pt x="85492" y="71035"/>
                </a:cubicBezTo>
                <a:cubicBezTo>
                  <a:pt x="85492" y="67484"/>
                  <a:pt x="85492" y="63678"/>
                  <a:pt x="85492" y="63678"/>
                </a:cubicBezTo>
                <a:cubicBezTo>
                  <a:pt x="82778" y="59873"/>
                  <a:pt x="82778" y="59873"/>
                  <a:pt x="79870" y="63678"/>
                </a:cubicBezTo>
                <a:close/>
                <a:moveTo>
                  <a:pt x="85492" y="26384"/>
                </a:moveTo>
                <a:lnTo>
                  <a:pt x="85492" y="26384"/>
                </a:lnTo>
                <a:cubicBezTo>
                  <a:pt x="79870" y="11416"/>
                  <a:pt x="68432" y="0"/>
                  <a:pt x="56995" y="0"/>
                </a:cubicBezTo>
                <a:cubicBezTo>
                  <a:pt x="37027" y="0"/>
                  <a:pt x="22875" y="18773"/>
                  <a:pt x="22875" y="41099"/>
                </a:cubicBezTo>
                <a:cubicBezTo>
                  <a:pt x="8529" y="48710"/>
                  <a:pt x="0" y="63678"/>
                  <a:pt x="0" y="82452"/>
                </a:cubicBezTo>
                <a:cubicBezTo>
                  <a:pt x="0" y="100972"/>
                  <a:pt x="11437" y="119746"/>
                  <a:pt x="28497" y="119746"/>
                </a:cubicBezTo>
                <a:cubicBezTo>
                  <a:pt x="94216" y="119746"/>
                  <a:pt x="94216" y="119746"/>
                  <a:pt x="94216" y="119746"/>
                </a:cubicBezTo>
                <a:cubicBezTo>
                  <a:pt x="108368" y="112135"/>
                  <a:pt x="119806" y="93615"/>
                  <a:pt x="119806" y="74841"/>
                </a:cubicBezTo>
                <a:cubicBezTo>
                  <a:pt x="119806" y="48710"/>
                  <a:pt x="105654" y="26384"/>
                  <a:pt x="85492" y="26384"/>
                </a:cubicBezTo>
                <a:close/>
                <a:moveTo>
                  <a:pt x="94216" y="112135"/>
                </a:moveTo>
                <a:lnTo>
                  <a:pt x="94216" y="112135"/>
                </a:lnTo>
                <a:cubicBezTo>
                  <a:pt x="28497" y="112135"/>
                  <a:pt x="28497" y="112135"/>
                  <a:pt x="28497" y="112135"/>
                </a:cubicBezTo>
                <a:cubicBezTo>
                  <a:pt x="28497" y="112135"/>
                  <a:pt x="5621" y="108583"/>
                  <a:pt x="5621" y="82452"/>
                </a:cubicBezTo>
                <a:cubicBezTo>
                  <a:pt x="5621" y="67484"/>
                  <a:pt x="17059" y="52515"/>
                  <a:pt x="28497" y="52515"/>
                </a:cubicBezTo>
                <a:cubicBezTo>
                  <a:pt x="28497" y="29936"/>
                  <a:pt x="39935" y="11416"/>
                  <a:pt x="56995" y="11416"/>
                </a:cubicBezTo>
                <a:cubicBezTo>
                  <a:pt x="68432" y="11416"/>
                  <a:pt x="77156" y="22579"/>
                  <a:pt x="79870" y="37547"/>
                </a:cubicBezTo>
                <a:cubicBezTo>
                  <a:pt x="99838" y="33742"/>
                  <a:pt x="111276" y="56067"/>
                  <a:pt x="114184" y="71035"/>
                </a:cubicBezTo>
                <a:cubicBezTo>
                  <a:pt x="114184" y="86004"/>
                  <a:pt x="105654" y="104778"/>
                  <a:pt x="94216" y="11213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4598"/>
          <p:cNvSpPr/>
          <p:nvPr/>
        </p:nvSpPr>
        <p:spPr>
          <a:xfrm>
            <a:off x="8429760" y="5019840"/>
            <a:ext cx="304560" cy="306360"/>
          </a:xfrm>
          <a:custGeom>
            <a:avLst/>
            <a:gdLst>
              <a:gd name="textAreaLeft" fmla="*/ 0 w 304560"/>
              <a:gd name="textAreaRight" fmla="*/ 304920 w 304560"/>
              <a:gd name="textAreaTop" fmla="*/ 0 h 306360"/>
              <a:gd name="textAreaBottom" fmla="*/ 306720 h 306360"/>
            </a:gdLst>
            <a:ahLst/>
            <a:rect l="textAreaLeft" t="textAreaTop" r="textAreaRight" b="textAreaBottom"/>
            <a:pathLst>
              <a:path w="120000" h="120000">
                <a:moveTo>
                  <a:pt x="69652" y="47433"/>
                </a:moveTo>
                <a:lnTo>
                  <a:pt x="69652" y="47433"/>
                </a:lnTo>
                <a:cubicBezTo>
                  <a:pt x="52807" y="47433"/>
                  <a:pt x="52807" y="47433"/>
                  <a:pt x="52807" y="47433"/>
                </a:cubicBezTo>
                <a:cubicBezTo>
                  <a:pt x="52807" y="33448"/>
                  <a:pt x="52807" y="33448"/>
                  <a:pt x="52807" y="33448"/>
                </a:cubicBezTo>
                <a:cubicBezTo>
                  <a:pt x="52807" y="30614"/>
                  <a:pt x="52807" y="27968"/>
                  <a:pt x="50157" y="27968"/>
                </a:cubicBezTo>
                <a:cubicBezTo>
                  <a:pt x="47318" y="27968"/>
                  <a:pt x="47318" y="30614"/>
                  <a:pt x="47318" y="33448"/>
                </a:cubicBezTo>
                <a:cubicBezTo>
                  <a:pt x="47318" y="47433"/>
                  <a:pt x="47318" y="47433"/>
                  <a:pt x="47318" y="47433"/>
                </a:cubicBezTo>
                <a:cubicBezTo>
                  <a:pt x="30662" y="47433"/>
                  <a:pt x="30662" y="47433"/>
                  <a:pt x="30662" y="47433"/>
                </a:cubicBezTo>
                <a:cubicBezTo>
                  <a:pt x="30662" y="47433"/>
                  <a:pt x="27823" y="47433"/>
                  <a:pt x="27823" y="50267"/>
                </a:cubicBezTo>
                <a:cubicBezTo>
                  <a:pt x="27823" y="52913"/>
                  <a:pt x="30662" y="55748"/>
                  <a:pt x="30662" y="55748"/>
                </a:cubicBezTo>
                <a:cubicBezTo>
                  <a:pt x="47318" y="55748"/>
                  <a:pt x="47318" y="55748"/>
                  <a:pt x="47318" y="55748"/>
                </a:cubicBezTo>
                <a:cubicBezTo>
                  <a:pt x="47318" y="69732"/>
                  <a:pt x="47318" y="69732"/>
                  <a:pt x="47318" y="69732"/>
                </a:cubicBezTo>
                <a:cubicBezTo>
                  <a:pt x="47318" y="72377"/>
                  <a:pt x="47318" y="72377"/>
                  <a:pt x="50157" y="72377"/>
                </a:cubicBezTo>
                <a:cubicBezTo>
                  <a:pt x="52807" y="72377"/>
                  <a:pt x="52807" y="72377"/>
                  <a:pt x="52807" y="69732"/>
                </a:cubicBezTo>
                <a:cubicBezTo>
                  <a:pt x="52807" y="55748"/>
                  <a:pt x="52807" y="55748"/>
                  <a:pt x="52807" y="55748"/>
                </a:cubicBezTo>
                <a:cubicBezTo>
                  <a:pt x="69652" y="55748"/>
                  <a:pt x="69652" y="55748"/>
                  <a:pt x="69652" y="55748"/>
                </a:cubicBezTo>
                <a:cubicBezTo>
                  <a:pt x="69652" y="55748"/>
                  <a:pt x="72492" y="52913"/>
                  <a:pt x="72492" y="50267"/>
                </a:cubicBezTo>
                <a:cubicBezTo>
                  <a:pt x="72492" y="47433"/>
                  <a:pt x="69652" y="47433"/>
                  <a:pt x="69652" y="47433"/>
                </a:cubicBezTo>
                <a:close/>
                <a:moveTo>
                  <a:pt x="116971" y="114141"/>
                </a:moveTo>
                <a:lnTo>
                  <a:pt x="116971" y="114141"/>
                </a:lnTo>
                <a:cubicBezTo>
                  <a:pt x="86309" y="83527"/>
                  <a:pt x="86309" y="83527"/>
                  <a:pt x="86309" y="83527"/>
                </a:cubicBezTo>
                <a:cubicBezTo>
                  <a:pt x="94637" y="75212"/>
                  <a:pt x="100315" y="64062"/>
                  <a:pt x="100315" y="50267"/>
                </a:cubicBezTo>
                <a:cubicBezTo>
                  <a:pt x="100315" y="22299"/>
                  <a:pt x="77981" y="0"/>
                  <a:pt x="50157" y="0"/>
                </a:cubicBezTo>
                <a:cubicBezTo>
                  <a:pt x="22145" y="0"/>
                  <a:pt x="0" y="22299"/>
                  <a:pt x="0" y="50267"/>
                </a:cubicBezTo>
                <a:cubicBezTo>
                  <a:pt x="0" y="78047"/>
                  <a:pt x="22145" y="100157"/>
                  <a:pt x="50157" y="100157"/>
                </a:cubicBezTo>
                <a:cubicBezTo>
                  <a:pt x="61324" y="100157"/>
                  <a:pt x="72492" y="94677"/>
                  <a:pt x="80630" y="89196"/>
                </a:cubicBezTo>
                <a:cubicBezTo>
                  <a:pt x="111293" y="119811"/>
                  <a:pt x="111293" y="119811"/>
                  <a:pt x="111293" y="119811"/>
                </a:cubicBezTo>
                <a:cubicBezTo>
                  <a:pt x="114132" y="119811"/>
                  <a:pt x="116971" y="119811"/>
                  <a:pt x="116971" y="119811"/>
                </a:cubicBezTo>
                <a:cubicBezTo>
                  <a:pt x="119810" y="116976"/>
                  <a:pt x="119810" y="114141"/>
                  <a:pt x="116971" y="114141"/>
                </a:cubicBezTo>
                <a:close/>
                <a:moveTo>
                  <a:pt x="50157" y="92031"/>
                </a:moveTo>
                <a:lnTo>
                  <a:pt x="50157" y="92031"/>
                </a:lnTo>
                <a:cubicBezTo>
                  <a:pt x="27823" y="92031"/>
                  <a:pt x="8328" y="72377"/>
                  <a:pt x="8328" y="50267"/>
                </a:cubicBezTo>
                <a:cubicBezTo>
                  <a:pt x="8328" y="27968"/>
                  <a:pt x="27823" y="8503"/>
                  <a:pt x="50157" y="8503"/>
                </a:cubicBezTo>
                <a:cubicBezTo>
                  <a:pt x="72492" y="8503"/>
                  <a:pt x="91798" y="27968"/>
                  <a:pt x="91798" y="50267"/>
                </a:cubicBezTo>
                <a:cubicBezTo>
                  <a:pt x="91798" y="72377"/>
                  <a:pt x="72492" y="92031"/>
                  <a:pt x="50157" y="92031"/>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4600"/>
          <p:cNvSpPr/>
          <p:nvPr/>
        </p:nvSpPr>
        <p:spPr>
          <a:xfrm>
            <a:off x="7446960" y="5019840"/>
            <a:ext cx="306360" cy="306360"/>
          </a:xfrm>
          <a:custGeom>
            <a:avLst/>
            <a:gdLst>
              <a:gd name="textAreaLeft" fmla="*/ 0 w 306360"/>
              <a:gd name="textAreaRight" fmla="*/ 306720 w 306360"/>
              <a:gd name="textAreaTop" fmla="*/ 0 h 306360"/>
              <a:gd name="textAreaBottom" fmla="*/ 306720 h 306360"/>
            </a:gdLst>
            <a:ahLst/>
            <a:rect l="textAreaLeft" t="textAreaTop" r="textAreaRight" b="textAreaBottom"/>
            <a:pathLst>
              <a:path w="120000" h="120000">
                <a:moveTo>
                  <a:pt x="5678" y="44598"/>
                </a:moveTo>
                <a:lnTo>
                  <a:pt x="5678" y="44598"/>
                </a:lnTo>
                <a:cubicBezTo>
                  <a:pt x="41829" y="44598"/>
                  <a:pt x="41829" y="44598"/>
                  <a:pt x="41829" y="44598"/>
                </a:cubicBezTo>
                <a:cubicBezTo>
                  <a:pt x="44668" y="44598"/>
                  <a:pt x="44668" y="44598"/>
                  <a:pt x="44668" y="41763"/>
                </a:cubicBezTo>
                <a:cubicBezTo>
                  <a:pt x="44668" y="39118"/>
                  <a:pt x="44668" y="39118"/>
                  <a:pt x="41829" y="39118"/>
                </a:cubicBezTo>
                <a:cubicBezTo>
                  <a:pt x="14006" y="39118"/>
                  <a:pt x="14006" y="39118"/>
                  <a:pt x="14006" y="39118"/>
                </a:cubicBezTo>
                <a:cubicBezTo>
                  <a:pt x="22334" y="19653"/>
                  <a:pt x="39179" y="8503"/>
                  <a:pt x="61324" y="8503"/>
                </a:cubicBezTo>
                <a:cubicBezTo>
                  <a:pt x="86498" y="8503"/>
                  <a:pt x="108643" y="27968"/>
                  <a:pt x="111482" y="52913"/>
                </a:cubicBezTo>
                <a:cubicBezTo>
                  <a:pt x="119810" y="52913"/>
                  <a:pt x="119810" y="52913"/>
                  <a:pt x="119810" y="52913"/>
                </a:cubicBezTo>
                <a:cubicBezTo>
                  <a:pt x="117160" y="22299"/>
                  <a:pt x="91987" y="0"/>
                  <a:pt x="61324" y="0"/>
                </a:cubicBezTo>
                <a:cubicBezTo>
                  <a:pt x="39179" y="0"/>
                  <a:pt x="19495" y="13984"/>
                  <a:pt x="8328" y="30614"/>
                </a:cubicBezTo>
                <a:cubicBezTo>
                  <a:pt x="8328" y="5669"/>
                  <a:pt x="8328" y="5669"/>
                  <a:pt x="8328" y="5669"/>
                </a:cubicBezTo>
                <a:cubicBezTo>
                  <a:pt x="8328" y="2834"/>
                  <a:pt x="5678" y="0"/>
                  <a:pt x="5678" y="0"/>
                </a:cubicBezTo>
                <a:cubicBezTo>
                  <a:pt x="2839" y="0"/>
                  <a:pt x="0" y="2834"/>
                  <a:pt x="0" y="5669"/>
                </a:cubicBezTo>
                <a:cubicBezTo>
                  <a:pt x="0" y="41763"/>
                  <a:pt x="0" y="41763"/>
                  <a:pt x="0" y="41763"/>
                </a:cubicBezTo>
                <a:cubicBezTo>
                  <a:pt x="0" y="44598"/>
                  <a:pt x="5678" y="44598"/>
                  <a:pt x="5678" y="44598"/>
                </a:cubicBezTo>
                <a:close/>
                <a:moveTo>
                  <a:pt x="117160" y="75212"/>
                </a:moveTo>
                <a:lnTo>
                  <a:pt x="117160" y="75212"/>
                </a:lnTo>
                <a:cubicBezTo>
                  <a:pt x="77981" y="75212"/>
                  <a:pt x="77981" y="75212"/>
                  <a:pt x="77981" y="75212"/>
                </a:cubicBezTo>
                <a:lnTo>
                  <a:pt x="75331" y="78047"/>
                </a:lnTo>
                <a:cubicBezTo>
                  <a:pt x="75331" y="80881"/>
                  <a:pt x="77981" y="83527"/>
                  <a:pt x="77981" y="83527"/>
                </a:cubicBezTo>
                <a:cubicBezTo>
                  <a:pt x="108643" y="83527"/>
                  <a:pt x="108643" y="83527"/>
                  <a:pt x="108643" y="83527"/>
                </a:cubicBezTo>
                <a:cubicBezTo>
                  <a:pt x="100315" y="100157"/>
                  <a:pt x="80820" y="111307"/>
                  <a:pt x="61324" y="111307"/>
                </a:cubicBezTo>
                <a:cubicBezTo>
                  <a:pt x="33501" y="111307"/>
                  <a:pt x="14006" y="92031"/>
                  <a:pt x="8328" y="66897"/>
                </a:cubicBezTo>
                <a:cubicBezTo>
                  <a:pt x="2839" y="66897"/>
                  <a:pt x="2839" y="66897"/>
                  <a:pt x="2839" y="66897"/>
                </a:cubicBezTo>
                <a:cubicBezTo>
                  <a:pt x="5678" y="97511"/>
                  <a:pt x="30662" y="119811"/>
                  <a:pt x="61324" y="119811"/>
                </a:cubicBezTo>
                <a:cubicBezTo>
                  <a:pt x="83659" y="119811"/>
                  <a:pt x="103154" y="108661"/>
                  <a:pt x="111482" y="89196"/>
                </a:cubicBezTo>
                <a:cubicBezTo>
                  <a:pt x="111482" y="116976"/>
                  <a:pt x="111482" y="116976"/>
                  <a:pt x="111482" y="116976"/>
                </a:cubicBezTo>
                <a:cubicBezTo>
                  <a:pt x="111482" y="116976"/>
                  <a:pt x="114321" y="119811"/>
                  <a:pt x="117160" y="119811"/>
                </a:cubicBezTo>
                <a:lnTo>
                  <a:pt x="119810" y="116976"/>
                </a:lnTo>
                <a:cubicBezTo>
                  <a:pt x="119810" y="78047"/>
                  <a:pt x="119810" y="78047"/>
                  <a:pt x="119810" y="78047"/>
                </a:cubicBezTo>
                <a:cubicBezTo>
                  <a:pt x="119810" y="75212"/>
                  <a:pt x="117160" y="75212"/>
                  <a:pt x="117160" y="7521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4602"/>
          <p:cNvSpPr/>
          <p:nvPr/>
        </p:nvSpPr>
        <p:spPr>
          <a:xfrm>
            <a:off x="6470640" y="5019840"/>
            <a:ext cx="297000" cy="306360"/>
          </a:xfrm>
          <a:custGeom>
            <a:avLst/>
            <a:gdLst>
              <a:gd name="textAreaLeft" fmla="*/ 0 w 297000"/>
              <a:gd name="textAreaRight" fmla="*/ 297360 w 297000"/>
              <a:gd name="textAreaTop" fmla="*/ 0 h 306360"/>
              <a:gd name="textAreaBottom" fmla="*/ 306720 h 306360"/>
            </a:gdLst>
            <a:ahLst/>
            <a:rect l="textAreaLeft" t="textAreaTop" r="textAreaRight" b="textAreaBottom"/>
            <a:pathLst>
              <a:path w="120000" h="120000">
                <a:moveTo>
                  <a:pt x="59903" y="0"/>
                </a:moveTo>
                <a:lnTo>
                  <a:pt x="59903" y="0"/>
                </a:lnTo>
                <a:cubicBezTo>
                  <a:pt x="25589" y="0"/>
                  <a:pt x="0" y="27968"/>
                  <a:pt x="0" y="61417"/>
                </a:cubicBezTo>
                <a:cubicBezTo>
                  <a:pt x="0" y="92031"/>
                  <a:pt x="25589" y="119811"/>
                  <a:pt x="59903" y="119811"/>
                </a:cubicBezTo>
                <a:cubicBezTo>
                  <a:pt x="94216" y="119811"/>
                  <a:pt x="119806" y="92031"/>
                  <a:pt x="119806" y="61417"/>
                </a:cubicBezTo>
                <a:cubicBezTo>
                  <a:pt x="119806" y="27968"/>
                  <a:pt x="94216" y="0"/>
                  <a:pt x="59903" y="0"/>
                </a:cubicBezTo>
                <a:close/>
                <a:moveTo>
                  <a:pt x="59903" y="111307"/>
                </a:moveTo>
                <a:lnTo>
                  <a:pt x="59903" y="111307"/>
                </a:lnTo>
                <a:cubicBezTo>
                  <a:pt x="31405" y="111307"/>
                  <a:pt x="5621" y="89196"/>
                  <a:pt x="5621" y="61417"/>
                </a:cubicBezTo>
                <a:cubicBezTo>
                  <a:pt x="5621" y="30614"/>
                  <a:pt x="31405" y="8503"/>
                  <a:pt x="59903" y="8503"/>
                </a:cubicBezTo>
                <a:cubicBezTo>
                  <a:pt x="88400" y="8503"/>
                  <a:pt x="114184" y="30614"/>
                  <a:pt x="114184" y="61417"/>
                </a:cubicBezTo>
                <a:cubicBezTo>
                  <a:pt x="114184" y="89196"/>
                  <a:pt x="88400" y="111307"/>
                  <a:pt x="59903" y="111307"/>
                </a:cubicBezTo>
                <a:close/>
                <a:moveTo>
                  <a:pt x="82778" y="33448"/>
                </a:moveTo>
                <a:lnTo>
                  <a:pt x="82778" y="33448"/>
                </a:lnTo>
                <a:cubicBezTo>
                  <a:pt x="79870" y="33448"/>
                  <a:pt x="79870" y="33448"/>
                  <a:pt x="76962" y="36283"/>
                </a:cubicBezTo>
                <a:cubicBezTo>
                  <a:pt x="54281" y="78047"/>
                  <a:pt x="54281" y="78047"/>
                  <a:pt x="54281" y="78047"/>
                </a:cubicBezTo>
                <a:cubicBezTo>
                  <a:pt x="39935" y="64062"/>
                  <a:pt x="39935" y="64062"/>
                  <a:pt x="39935" y="64062"/>
                </a:cubicBezTo>
                <a:cubicBezTo>
                  <a:pt x="37027" y="64062"/>
                  <a:pt x="37027" y="64062"/>
                  <a:pt x="34313" y="64062"/>
                </a:cubicBezTo>
                <a:cubicBezTo>
                  <a:pt x="31405" y="66897"/>
                  <a:pt x="31405" y="69732"/>
                  <a:pt x="34313" y="69732"/>
                </a:cubicBezTo>
                <a:cubicBezTo>
                  <a:pt x="51373" y="86362"/>
                  <a:pt x="51373" y="86362"/>
                  <a:pt x="51373" y="86362"/>
                </a:cubicBezTo>
                <a:cubicBezTo>
                  <a:pt x="54281" y="86362"/>
                  <a:pt x="54281" y="86362"/>
                  <a:pt x="56995" y="86362"/>
                </a:cubicBezTo>
                <a:lnTo>
                  <a:pt x="85492" y="39118"/>
                </a:lnTo>
                <a:cubicBezTo>
                  <a:pt x="85492" y="39118"/>
                  <a:pt x="85492" y="36283"/>
                  <a:pt x="82778" y="3344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4604"/>
          <p:cNvSpPr/>
          <p:nvPr/>
        </p:nvSpPr>
        <p:spPr>
          <a:xfrm>
            <a:off x="10391760" y="453240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83659" y="55646"/>
                </a:moveTo>
                <a:lnTo>
                  <a:pt x="83659" y="55646"/>
                </a:lnTo>
                <a:cubicBezTo>
                  <a:pt x="39179" y="55646"/>
                  <a:pt x="39179" y="55646"/>
                  <a:pt x="39179" y="55646"/>
                </a:cubicBezTo>
                <a:cubicBezTo>
                  <a:pt x="36340" y="55646"/>
                  <a:pt x="33501" y="58485"/>
                  <a:pt x="33501" y="58485"/>
                </a:cubicBezTo>
                <a:cubicBezTo>
                  <a:pt x="33501" y="61324"/>
                  <a:pt x="36340" y="63974"/>
                  <a:pt x="39179" y="63974"/>
                </a:cubicBezTo>
                <a:cubicBezTo>
                  <a:pt x="83659" y="63974"/>
                  <a:pt x="83659" y="63974"/>
                  <a:pt x="83659" y="63974"/>
                </a:cubicBezTo>
                <a:cubicBezTo>
                  <a:pt x="83659" y="63974"/>
                  <a:pt x="86498" y="61324"/>
                  <a:pt x="86498" y="58485"/>
                </a:cubicBezTo>
                <a:lnTo>
                  <a:pt x="83659" y="55646"/>
                </a:lnTo>
                <a:close/>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517" y="89148"/>
                  <a:pt x="8517" y="58485"/>
                </a:cubicBezTo>
                <a:cubicBezTo>
                  <a:pt x="8517" y="30662"/>
                  <a:pt x="30662" y="8328"/>
                  <a:pt x="61324" y="8328"/>
                </a:cubicBezTo>
                <a:cubicBezTo>
                  <a:pt x="89148" y="8328"/>
                  <a:pt x="111482" y="30662"/>
                  <a:pt x="111482" y="58485"/>
                </a:cubicBezTo>
                <a:cubicBezTo>
                  <a:pt x="111482" y="89148"/>
                  <a:pt x="89148" y="111482"/>
                  <a:pt x="61324"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4606"/>
          <p:cNvSpPr/>
          <p:nvPr/>
        </p:nvSpPr>
        <p:spPr>
          <a:xfrm>
            <a:off x="9414000" y="453240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79870" y="58485"/>
                </a:moveTo>
                <a:lnTo>
                  <a:pt x="79870" y="58485"/>
                </a:lnTo>
                <a:cubicBezTo>
                  <a:pt x="62810" y="72492"/>
                  <a:pt x="62810" y="72492"/>
                  <a:pt x="62810" y="72492"/>
                </a:cubicBezTo>
                <a:cubicBezTo>
                  <a:pt x="62810" y="33312"/>
                  <a:pt x="62810" y="33312"/>
                  <a:pt x="62810" y="33312"/>
                </a:cubicBezTo>
                <a:cubicBezTo>
                  <a:pt x="62810" y="30662"/>
                  <a:pt x="62810" y="30662"/>
                  <a:pt x="59903" y="30662"/>
                </a:cubicBezTo>
                <a:cubicBezTo>
                  <a:pt x="56995" y="30662"/>
                  <a:pt x="56995" y="30662"/>
                  <a:pt x="56995" y="33312"/>
                </a:cubicBezTo>
                <a:cubicBezTo>
                  <a:pt x="56995" y="72492"/>
                  <a:pt x="56995" y="72492"/>
                  <a:pt x="56995" y="72492"/>
                </a:cubicBezTo>
                <a:cubicBezTo>
                  <a:pt x="39935" y="58485"/>
                  <a:pt x="39935" y="58485"/>
                  <a:pt x="39935" y="58485"/>
                </a:cubicBezTo>
                <a:cubicBezTo>
                  <a:pt x="39935" y="55646"/>
                  <a:pt x="37027" y="55646"/>
                  <a:pt x="34313" y="58485"/>
                </a:cubicBezTo>
                <a:cubicBezTo>
                  <a:pt x="34313" y="58485"/>
                  <a:pt x="34313" y="61324"/>
                  <a:pt x="34313" y="63974"/>
                </a:cubicBezTo>
                <a:cubicBezTo>
                  <a:pt x="56995" y="83659"/>
                  <a:pt x="56995" y="83659"/>
                  <a:pt x="56995" y="83659"/>
                </a:cubicBezTo>
                <a:lnTo>
                  <a:pt x="59903" y="83659"/>
                </a:lnTo>
                <a:lnTo>
                  <a:pt x="62810" y="83659"/>
                </a:lnTo>
                <a:cubicBezTo>
                  <a:pt x="85492" y="63974"/>
                  <a:pt x="85492" y="63974"/>
                  <a:pt x="85492" y="63974"/>
                </a:cubicBezTo>
                <a:cubicBezTo>
                  <a:pt x="85492" y="61324"/>
                  <a:pt x="85492" y="58485"/>
                  <a:pt x="85492" y="58485"/>
                </a:cubicBezTo>
                <a:cubicBezTo>
                  <a:pt x="82778" y="55646"/>
                  <a:pt x="79870" y="55646"/>
                  <a:pt x="79870" y="58485"/>
                </a:cubicBez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4608"/>
          <p:cNvSpPr/>
          <p:nvPr/>
        </p:nvSpPr>
        <p:spPr>
          <a:xfrm>
            <a:off x="8429760" y="4532400"/>
            <a:ext cx="304560" cy="304560"/>
          </a:xfrm>
          <a:custGeom>
            <a:avLst/>
            <a:gdLst>
              <a:gd name="textAreaLeft" fmla="*/ 0 w 304560"/>
              <a:gd name="textAreaRight" fmla="*/ 304920 w 304560"/>
              <a:gd name="textAreaTop" fmla="*/ 0 h 304560"/>
              <a:gd name="textAreaBottom" fmla="*/ 304920 h 304560"/>
            </a:gdLst>
            <a:ahLst/>
            <a:rect l="textAreaLeft" t="textAreaTop" r="textAreaRight" b="textAreaBottom"/>
            <a:pathLst>
              <a:path w="120000" h="120000">
                <a:moveTo>
                  <a:pt x="83470" y="55646"/>
                </a:moveTo>
                <a:lnTo>
                  <a:pt x="83470" y="55646"/>
                </a:lnTo>
                <a:cubicBezTo>
                  <a:pt x="63974" y="36151"/>
                  <a:pt x="63974" y="36151"/>
                  <a:pt x="63974" y="36151"/>
                </a:cubicBezTo>
                <a:cubicBezTo>
                  <a:pt x="61324" y="33312"/>
                  <a:pt x="58485" y="33312"/>
                  <a:pt x="58485" y="36151"/>
                </a:cubicBezTo>
                <a:cubicBezTo>
                  <a:pt x="55646" y="36151"/>
                  <a:pt x="55646" y="38990"/>
                  <a:pt x="58485" y="41829"/>
                </a:cubicBezTo>
                <a:cubicBezTo>
                  <a:pt x="72492" y="55646"/>
                  <a:pt x="72492" y="55646"/>
                  <a:pt x="72492" y="55646"/>
                </a:cubicBezTo>
                <a:cubicBezTo>
                  <a:pt x="33312" y="55646"/>
                  <a:pt x="33312" y="55646"/>
                  <a:pt x="33312" y="55646"/>
                </a:cubicBezTo>
                <a:cubicBezTo>
                  <a:pt x="30662" y="55646"/>
                  <a:pt x="30662" y="58485"/>
                  <a:pt x="30662" y="58485"/>
                </a:cubicBezTo>
                <a:cubicBezTo>
                  <a:pt x="30662" y="61324"/>
                  <a:pt x="30662" y="63974"/>
                  <a:pt x="33312" y="63974"/>
                </a:cubicBezTo>
                <a:cubicBezTo>
                  <a:pt x="72492" y="63974"/>
                  <a:pt x="72492" y="63974"/>
                  <a:pt x="72492" y="63974"/>
                </a:cubicBezTo>
                <a:cubicBezTo>
                  <a:pt x="58485" y="77981"/>
                  <a:pt x="58485" y="77981"/>
                  <a:pt x="58485" y="77981"/>
                </a:cubicBezTo>
                <a:cubicBezTo>
                  <a:pt x="55646" y="80820"/>
                  <a:pt x="55646" y="83659"/>
                  <a:pt x="58485" y="83659"/>
                </a:cubicBezTo>
                <a:cubicBezTo>
                  <a:pt x="58485" y="86309"/>
                  <a:pt x="61324" y="86309"/>
                  <a:pt x="63974" y="83659"/>
                </a:cubicBezTo>
                <a:cubicBezTo>
                  <a:pt x="83470" y="63974"/>
                  <a:pt x="83470" y="63974"/>
                  <a:pt x="83470" y="63974"/>
                </a:cubicBezTo>
                <a:cubicBezTo>
                  <a:pt x="83470" y="61324"/>
                  <a:pt x="83470" y="61324"/>
                  <a:pt x="83470" y="58485"/>
                </a:cubicBezTo>
                <a:lnTo>
                  <a:pt x="83470" y="55646"/>
                </a:lnTo>
                <a:close/>
                <a:moveTo>
                  <a:pt x="58485" y="0"/>
                </a:moveTo>
                <a:lnTo>
                  <a:pt x="58485" y="0"/>
                </a:lnTo>
                <a:cubicBezTo>
                  <a:pt x="27823" y="0"/>
                  <a:pt x="0" y="27823"/>
                  <a:pt x="0" y="58485"/>
                </a:cubicBezTo>
                <a:cubicBezTo>
                  <a:pt x="0" y="91798"/>
                  <a:pt x="27823" y="119810"/>
                  <a:pt x="58485" y="119810"/>
                </a:cubicBezTo>
                <a:cubicBezTo>
                  <a:pt x="91798" y="119810"/>
                  <a:pt x="119810" y="91798"/>
                  <a:pt x="119810" y="58485"/>
                </a:cubicBezTo>
                <a:cubicBezTo>
                  <a:pt x="119810" y="27823"/>
                  <a:pt x="91798" y="0"/>
                  <a:pt x="58485" y="0"/>
                </a:cubicBezTo>
                <a:close/>
                <a:moveTo>
                  <a:pt x="58485" y="111482"/>
                </a:moveTo>
                <a:lnTo>
                  <a:pt x="58485" y="111482"/>
                </a:lnTo>
                <a:cubicBezTo>
                  <a:pt x="30662" y="111482"/>
                  <a:pt x="8328" y="89148"/>
                  <a:pt x="8328" y="58485"/>
                </a:cubicBezTo>
                <a:cubicBezTo>
                  <a:pt x="8328" y="30662"/>
                  <a:pt x="30662" y="8328"/>
                  <a:pt x="58485" y="8328"/>
                </a:cubicBezTo>
                <a:cubicBezTo>
                  <a:pt x="89148" y="8328"/>
                  <a:pt x="111293" y="30662"/>
                  <a:pt x="111293" y="58485"/>
                </a:cubicBezTo>
                <a:cubicBezTo>
                  <a:pt x="111293" y="89148"/>
                  <a:pt x="89148" y="111482"/>
                  <a:pt x="58485"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4610"/>
          <p:cNvSpPr/>
          <p:nvPr/>
        </p:nvSpPr>
        <p:spPr>
          <a:xfrm>
            <a:off x="7446960" y="453240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61324" y="0"/>
                </a:moveTo>
                <a:lnTo>
                  <a:pt x="61324" y="0"/>
                </a:lnTo>
                <a:cubicBezTo>
                  <a:pt x="28012" y="0"/>
                  <a:pt x="0" y="27823"/>
                  <a:pt x="0" y="58485"/>
                </a:cubicBezTo>
                <a:cubicBezTo>
                  <a:pt x="0" y="91798"/>
                  <a:pt x="28012" y="119810"/>
                  <a:pt x="61324" y="119810"/>
                </a:cubicBezTo>
                <a:cubicBezTo>
                  <a:pt x="91987" y="119810"/>
                  <a:pt x="119810" y="91798"/>
                  <a:pt x="119810" y="58485"/>
                </a:cubicBezTo>
                <a:cubicBezTo>
                  <a:pt x="119810" y="27823"/>
                  <a:pt x="91987" y="0"/>
                  <a:pt x="61324" y="0"/>
                </a:cubicBezTo>
                <a:close/>
                <a:moveTo>
                  <a:pt x="61324" y="111482"/>
                </a:moveTo>
                <a:lnTo>
                  <a:pt x="61324" y="111482"/>
                </a:lnTo>
                <a:cubicBezTo>
                  <a:pt x="30662" y="111482"/>
                  <a:pt x="8328" y="89148"/>
                  <a:pt x="8328" y="58485"/>
                </a:cubicBezTo>
                <a:cubicBezTo>
                  <a:pt x="8328" y="30662"/>
                  <a:pt x="30662" y="8328"/>
                  <a:pt x="61324" y="8328"/>
                </a:cubicBezTo>
                <a:cubicBezTo>
                  <a:pt x="89148" y="8328"/>
                  <a:pt x="111482" y="30662"/>
                  <a:pt x="111482" y="58485"/>
                </a:cubicBezTo>
                <a:cubicBezTo>
                  <a:pt x="111482" y="89148"/>
                  <a:pt x="89148" y="111482"/>
                  <a:pt x="61324" y="111482"/>
                </a:cubicBezTo>
                <a:close/>
                <a:moveTo>
                  <a:pt x="86498" y="41829"/>
                </a:moveTo>
                <a:lnTo>
                  <a:pt x="86498" y="41829"/>
                </a:lnTo>
                <a:cubicBezTo>
                  <a:pt x="61324" y="69652"/>
                  <a:pt x="61324" y="69652"/>
                  <a:pt x="61324" y="69652"/>
                </a:cubicBezTo>
                <a:cubicBezTo>
                  <a:pt x="33501" y="41829"/>
                  <a:pt x="33501" y="41829"/>
                  <a:pt x="33501" y="41829"/>
                </a:cubicBezTo>
                <a:cubicBezTo>
                  <a:pt x="33501" y="41829"/>
                  <a:pt x="30662" y="41829"/>
                  <a:pt x="28012" y="41829"/>
                </a:cubicBezTo>
                <a:cubicBezTo>
                  <a:pt x="28012" y="44479"/>
                  <a:pt x="28012" y="47318"/>
                  <a:pt x="28012" y="47318"/>
                </a:cubicBezTo>
                <a:cubicBezTo>
                  <a:pt x="55835" y="75141"/>
                  <a:pt x="55835" y="75141"/>
                  <a:pt x="55835" y="75141"/>
                </a:cubicBezTo>
                <a:cubicBezTo>
                  <a:pt x="58675" y="77981"/>
                  <a:pt x="58675" y="77981"/>
                  <a:pt x="61324" y="77981"/>
                </a:cubicBezTo>
                <a:cubicBezTo>
                  <a:pt x="61324" y="77981"/>
                  <a:pt x="64164" y="77981"/>
                  <a:pt x="64164" y="75141"/>
                </a:cubicBezTo>
                <a:cubicBezTo>
                  <a:pt x="91987" y="47318"/>
                  <a:pt x="91987" y="47318"/>
                  <a:pt x="91987" y="47318"/>
                </a:cubicBezTo>
                <a:cubicBezTo>
                  <a:pt x="94826" y="47318"/>
                  <a:pt x="94826" y="44479"/>
                  <a:pt x="91987" y="41829"/>
                </a:cubicBezTo>
                <a:cubicBezTo>
                  <a:pt x="91987" y="41829"/>
                  <a:pt x="89148" y="41829"/>
                  <a:pt x="86498" y="4182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4612"/>
          <p:cNvSpPr/>
          <p:nvPr/>
        </p:nvSpPr>
        <p:spPr>
          <a:xfrm>
            <a:off x="6470640" y="4532400"/>
            <a:ext cx="297000" cy="304560"/>
          </a:xfrm>
          <a:custGeom>
            <a:avLst/>
            <a:gdLst>
              <a:gd name="textAreaLeft" fmla="*/ 0 w 297000"/>
              <a:gd name="textAreaRight" fmla="*/ 297360 w 297000"/>
              <a:gd name="textAreaTop" fmla="*/ 0 h 304560"/>
              <a:gd name="textAreaBottom" fmla="*/ 304920 h 304560"/>
            </a:gdLst>
            <a:ahLst/>
            <a:rect l="textAreaLeft" t="textAreaTop" r="textAreaRight" b="textAreaBottom"/>
            <a:pathLst>
              <a:path w="120000" h="120000">
                <a:moveTo>
                  <a:pt x="76962" y="55646"/>
                </a:moveTo>
                <a:lnTo>
                  <a:pt x="76962" y="55646"/>
                </a:lnTo>
                <a:cubicBezTo>
                  <a:pt x="48465" y="27823"/>
                  <a:pt x="48465" y="27823"/>
                  <a:pt x="48465" y="27823"/>
                </a:cubicBezTo>
                <a:cubicBezTo>
                  <a:pt x="45557" y="24984"/>
                  <a:pt x="42843" y="24984"/>
                  <a:pt x="42843" y="27823"/>
                </a:cubicBezTo>
                <a:cubicBezTo>
                  <a:pt x="39935" y="27823"/>
                  <a:pt x="39935" y="30662"/>
                  <a:pt x="42843" y="33312"/>
                </a:cubicBezTo>
                <a:cubicBezTo>
                  <a:pt x="68432" y="58485"/>
                  <a:pt x="68432" y="58485"/>
                  <a:pt x="68432" y="58485"/>
                </a:cubicBezTo>
                <a:cubicBezTo>
                  <a:pt x="42843" y="86309"/>
                  <a:pt x="42843" y="86309"/>
                  <a:pt x="42843" y="86309"/>
                </a:cubicBezTo>
                <a:cubicBezTo>
                  <a:pt x="39935" y="86309"/>
                  <a:pt x="39935" y="89148"/>
                  <a:pt x="42843" y="91798"/>
                </a:cubicBezTo>
                <a:cubicBezTo>
                  <a:pt x="42843" y="91798"/>
                  <a:pt x="45557" y="91798"/>
                  <a:pt x="48465" y="91798"/>
                </a:cubicBezTo>
                <a:cubicBezTo>
                  <a:pt x="76962" y="63974"/>
                  <a:pt x="76962" y="63974"/>
                  <a:pt x="76962" y="63974"/>
                </a:cubicBezTo>
                <a:cubicBezTo>
                  <a:pt x="76962" y="61324"/>
                  <a:pt x="76962" y="61324"/>
                  <a:pt x="76962" y="58485"/>
                </a:cubicBezTo>
                <a:lnTo>
                  <a:pt x="76962" y="55646"/>
                </a:lnTo>
                <a:close/>
                <a:moveTo>
                  <a:pt x="59903" y="0"/>
                </a:moveTo>
                <a:lnTo>
                  <a:pt x="59903" y="0"/>
                </a:lnTo>
                <a:cubicBezTo>
                  <a:pt x="25589" y="0"/>
                  <a:pt x="0" y="27823"/>
                  <a:pt x="0" y="58485"/>
                </a:cubicBezTo>
                <a:cubicBezTo>
                  <a:pt x="0" y="91798"/>
                  <a:pt x="25589" y="119810"/>
                  <a:pt x="59903" y="119810"/>
                </a:cubicBezTo>
                <a:cubicBezTo>
                  <a:pt x="94216" y="119810"/>
                  <a:pt x="119806" y="91798"/>
                  <a:pt x="119806" y="58485"/>
                </a:cubicBezTo>
                <a:cubicBezTo>
                  <a:pt x="119806" y="27823"/>
                  <a:pt x="94216" y="0"/>
                  <a:pt x="59903" y="0"/>
                </a:cubicBezTo>
                <a:close/>
                <a:moveTo>
                  <a:pt x="59903" y="111482"/>
                </a:moveTo>
                <a:lnTo>
                  <a:pt x="59903" y="111482"/>
                </a:lnTo>
                <a:cubicBezTo>
                  <a:pt x="31405" y="111482"/>
                  <a:pt x="5621" y="89148"/>
                  <a:pt x="5621" y="58485"/>
                </a:cubicBezTo>
                <a:cubicBezTo>
                  <a:pt x="5621" y="30662"/>
                  <a:pt x="31405" y="8328"/>
                  <a:pt x="59903" y="8328"/>
                </a:cubicBezTo>
                <a:cubicBezTo>
                  <a:pt x="88400" y="8328"/>
                  <a:pt x="114184" y="30662"/>
                  <a:pt x="114184" y="58485"/>
                </a:cubicBezTo>
                <a:cubicBezTo>
                  <a:pt x="114184" y="89148"/>
                  <a:pt x="88400" y="111482"/>
                  <a:pt x="59903"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4614"/>
          <p:cNvSpPr/>
          <p:nvPr/>
        </p:nvSpPr>
        <p:spPr>
          <a:xfrm>
            <a:off x="10391760" y="3562200"/>
            <a:ext cx="309600" cy="254160"/>
          </a:xfrm>
          <a:custGeom>
            <a:avLst/>
            <a:gdLst>
              <a:gd name="textAreaLeft" fmla="*/ 0 w 309600"/>
              <a:gd name="textAreaRight" fmla="*/ 309960 w 309600"/>
              <a:gd name="textAreaTop" fmla="*/ 0 h 254160"/>
              <a:gd name="textAreaBottom" fmla="*/ 254520 h 254160"/>
            </a:gdLst>
            <a:ahLst/>
            <a:rect l="textAreaLeft" t="textAreaTop" r="textAreaRight" b="textAreaBottom"/>
            <a:pathLst>
              <a:path w="120000" h="120000">
                <a:moveTo>
                  <a:pt x="111679" y="6779"/>
                </a:moveTo>
                <a:lnTo>
                  <a:pt x="111679" y="6779"/>
                </a:lnTo>
                <a:cubicBezTo>
                  <a:pt x="106317" y="0"/>
                  <a:pt x="97996" y="0"/>
                  <a:pt x="92634" y="6779"/>
                </a:cubicBezTo>
                <a:cubicBezTo>
                  <a:pt x="38274" y="73220"/>
                  <a:pt x="38274" y="73220"/>
                  <a:pt x="38274" y="73220"/>
                </a:cubicBezTo>
                <a:cubicBezTo>
                  <a:pt x="27365" y="56723"/>
                  <a:pt x="27365" y="56723"/>
                  <a:pt x="27365" y="56723"/>
                </a:cubicBezTo>
                <a:cubicBezTo>
                  <a:pt x="19044" y="46779"/>
                  <a:pt x="10909" y="46779"/>
                  <a:pt x="5546" y="56723"/>
                </a:cubicBezTo>
                <a:cubicBezTo>
                  <a:pt x="0" y="63276"/>
                  <a:pt x="0" y="73220"/>
                  <a:pt x="5546" y="83389"/>
                </a:cubicBezTo>
                <a:cubicBezTo>
                  <a:pt x="29953" y="109830"/>
                  <a:pt x="29953" y="109830"/>
                  <a:pt x="29953" y="109830"/>
                </a:cubicBezTo>
                <a:cubicBezTo>
                  <a:pt x="35500" y="119774"/>
                  <a:pt x="43636" y="119774"/>
                  <a:pt x="49183" y="109830"/>
                </a:cubicBezTo>
                <a:cubicBezTo>
                  <a:pt x="111679" y="33446"/>
                  <a:pt x="111679" y="33446"/>
                  <a:pt x="111679" y="33446"/>
                </a:cubicBezTo>
                <a:cubicBezTo>
                  <a:pt x="119815" y="26666"/>
                  <a:pt x="119815" y="13333"/>
                  <a:pt x="111679" y="6779"/>
                </a:cubicBezTo>
                <a:close/>
                <a:moveTo>
                  <a:pt x="106317" y="26666"/>
                </a:moveTo>
                <a:lnTo>
                  <a:pt x="106317" y="26666"/>
                </a:lnTo>
                <a:cubicBezTo>
                  <a:pt x="106317" y="26666"/>
                  <a:pt x="46409" y="103276"/>
                  <a:pt x="43636" y="103276"/>
                </a:cubicBezTo>
                <a:cubicBezTo>
                  <a:pt x="40862" y="106440"/>
                  <a:pt x="38274" y="106440"/>
                  <a:pt x="35500" y="103276"/>
                </a:cubicBezTo>
                <a:lnTo>
                  <a:pt x="10909" y="73220"/>
                </a:lnTo>
                <a:cubicBezTo>
                  <a:pt x="8320" y="70056"/>
                  <a:pt x="8320" y="66666"/>
                  <a:pt x="10909" y="63276"/>
                </a:cubicBezTo>
                <a:cubicBezTo>
                  <a:pt x="13682" y="59887"/>
                  <a:pt x="19044" y="59887"/>
                  <a:pt x="21818" y="63276"/>
                </a:cubicBezTo>
                <a:cubicBezTo>
                  <a:pt x="38274" y="83389"/>
                  <a:pt x="38274" y="83389"/>
                  <a:pt x="38274" y="83389"/>
                </a:cubicBezTo>
                <a:cubicBezTo>
                  <a:pt x="97996" y="13333"/>
                  <a:pt x="97996" y="13333"/>
                  <a:pt x="97996" y="13333"/>
                </a:cubicBezTo>
                <a:cubicBezTo>
                  <a:pt x="100770" y="10169"/>
                  <a:pt x="103543" y="10169"/>
                  <a:pt x="106317" y="13333"/>
                </a:cubicBezTo>
                <a:cubicBezTo>
                  <a:pt x="111679" y="16723"/>
                  <a:pt x="111679" y="23276"/>
                  <a:pt x="106317" y="2666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4616"/>
          <p:cNvSpPr/>
          <p:nvPr/>
        </p:nvSpPr>
        <p:spPr>
          <a:xfrm>
            <a:off x="9414000" y="3660840"/>
            <a:ext cx="296640" cy="73080"/>
          </a:xfrm>
          <a:custGeom>
            <a:avLst/>
            <a:gdLst>
              <a:gd name="textAreaLeft" fmla="*/ 0 w 296640"/>
              <a:gd name="textAreaRight" fmla="*/ 297000 w 296640"/>
              <a:gd name="textAreaTop" fmla="*/ 0 h 73080"/>
              <a:gd name="textAreaBottom" fmla="*/ 73440 h 73080"/>
            </a:gdLst>
            <a:ahLst/>
            <a:rect l="textAreaLeft" t="textAreaTop" r="textAreaRight" b="textAreaBottom"/>
            <a:pathLst>
              <a:path w="120000" h="120000">
                <a:moveTo>
                  <a:pt x="105654" y="0"/>
                </a:moveTo>
                <a:lnTo>
                  <a:pt x="105654" y="0"/>
                </a:lnTo>
                <a:cubicBezTo>
                  <a:pt x="14151" y="0"/>
                  <a:pt x="14151" y="0"/>
                  <a:pt x="14151" y="0"/>
                </a:cubicBezTo>
                <a:cubicBezTo>
                  <a:pt x="5621" y="0"/>
                  <a:pt x="0" y="23513"/>
                  <a:pt x="0" y="59189"/>
                </a:cubicBezTo>
                <a:cubicBezTo>
                  <a:pt x="0" y="94864"/>
                  <a:pt x="5621" y="119189"/>
                  <a:pt x="14151" y="119189"/>
                </a:cubicBezTo>
                <a:cubicBezTo>
                  <a:pt x="105654" y="119189"/>
                  <a:pt x="105654" y="119189"/>
                  <a:pt x="105654" y="119189"/>
                </a:cubicBezTo>
                <a:cubicBezTo>
                  <a:pt x="114184" y="119189"/>
                  <a:pt x="119806" y="94864"/>
                  <a:pt x="119806" y="59189"/>
                </a:cubicBezTo>
                <a:cubicBezTo>
                  <a:pt x="119806" y="23513"/>
                  <a:pt x="114184" y="0"/>
                  <a:pt x="105654" y="0"/>
                </a:cubicBezTo>
                <a:close/>
                <a:moveTo>
                  <a:pt x="105654" y="94864"/>
                </a:moveTo>
                <a:lnTo>
                  <a:pt x="105654" y="94864"/>
                </a:lnTo>
                <a:cubicBezTo>
                  <a:pt x="14151" y="94864"/>
                  <a:pt x="14151" y="94864"/>
                  <a:pt x="14151" y="94864"/>
                </a:cubicBezTo>
                <a:cubicBezTo>
                  <a:pt x="11437" y="94864"/>
                  <a:pt x="5621" y="71351"/>
                  <a:pt x="5621" y="59189"/>
                </a:cubicBezTo>
                <a:cubicBezTo>
                  <a:pt x="5621" y="47027"/>
                  <a:pt x="11437" y="23513"/>
                  <a:pt x="14151" y="23513"/>
                </a:cubicBezTo>
                <a:cubicBezTo>
                  <a:pt x="105654" y="23513"/>
                  <a:pt x="105654" y="23513"/>
                  <a:pt x="105654" y="23513"/>
                </a:cubicBezTo>
                <a:cubicBezTo>
                  <a:pt x="108368" y="23513"/>
                  <a:pt x="114184" y="47027"/>
                  <a:pt x="114184" y="59189"/>
                </a:cubicBezTo>
                <a:cubicBezTo>
                  <a:pt x="114184" y="71351"/>
                  <a:pt x="108368" y="94864"/>
                  <a:pt x="105654" y="9486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4618"/>
          <p:cNvSpPr/>
          <p:nvPr/>
        </p:nvSpPr>
        <p:spPr>
          <a:xfrm>
            <a:off x="8429760" y="3562200"/>
            <a:ext cx="304560" cy="268560"/>
          </a:xfrm>
          <a:custGeom>
            <a:avLst/>
            <a:gdLst>
              <a:gd name="textAreaLeft" fmla="*/ 0 w 304560"/>
              <a:gd name="textAreaRight" fmla="*/ 304920 w 304560"/>
              <a:gd name="textAreaTop" fmla="*/ 0 h 268560"/>
              <a:gd name="textAreaBottom" fmla="*/ 268920 h 268560"/>
            </a:gdLst>
            <a:ahLst/>
            <a:rect l="textAreaLeft" t="textAreaTop" r="textAreaRight" b="textAreaBottom"/>
            <a:pathLst>
              <a:path w="120000" h="120000">
                <a:moveTo>
                  <a:pt x="13817" y="34652"/>
                </a:moveTo>
                <a:lnTo>
                  <a:pt x="13817" y="34652"/>
                </a:lnTo>
                <a:cubicBezTo>
                  <a:pt x="102965" y="34652"/>
                  <a:pt x="102965" y="34652"/>
                  <a:pt x="102965" y="34652"/>
                </a:cubicBezTo>
                <a:cubicBezTo>
                  <a:pt x="111293" y="34652"/>
                  <a:pt x="119810" y="28449"/>
                  <a:pt x="119810" y="19037"/>
                </a:cubicBezTo>
                <a:cubicBezTo>
                  <a:pt x="119810" y="9625"/>
                  <a:pt x="111293" y="0"/>
                  <a:pt x="102965" y="0"/>
                </a:cubicBezTo>
                <a:cubicBezTo>
                  <a:pt x="13817" y="0"/>
                  <a:pt x="13817" y="0"/>
                  <a:pt x="13817" y="0"/>
                </a:cubicBezTo>
                <a:cubicBezTo>
                  <a:pt x="5488" y="0"/>
                  <a:pt x="0" y="9625"/>
                  <a:pt x="0" y="19037"/>
                </a:cubicBezTo>
                <a:cubicBezTo>
                  <a:pt x="0" y="28449"/>
                  <a:pt x="5488" y="34652"/>
                  <a:pt x="13817" y="34652"/>
                </a:cubicBezTo>
                <a:close/>
                <a:moveTo>
                  <a:pt x="13817" y="9625"/>
                </a:moveTo>
                <a:lnTo>
                  <a:pt x="13817" y="9625"/>
                </a:lnTo>
                <a:cubicBezTo>
                  <a:pt x="102965" y="9625"/>
                  <a:pt x="102965" y="9625"/>
                  <a:pt x="102965" y="9625"/>
                </a:cubicBezTo>
                <a:cubicBezTo>
                  <a:pt x="108643" y="9625"/>
                  <a:pt x="111293" y="12620"/>
                  <a:pt x="111293" y="19037"/>
                </a:cubicBezTo>
                <a:cubicBezTo>
                  <a:pt x="111293" y="22032"/>
                  <a:pt x="108643" y="25240"/>
                  <a:pt x="102965" y="25240"/>
                </a:cubicBezTo>
                <a:cubicBezTo>
                  <a:pt x="13817" y="25240"/>
                  <a:pt x="13817" y="25240"/>
                  <a:pt x="13817" y="25240"/>
                </a:cubicBezTo>
                <a:cubicBezTo>
                  <a:pt x="10977" y="25240"/>
                  <a:pt x="8328" y="22032"/>
                  <a:pt x="8328" y="19037"/>
                </a:cubicBezTo>
                <a:cubicBezTo>
                  <a:pt x="8328" y="12620"/>
                  <a:pt x="10977" y="9625"/>
                  <a:pt x="13817" y="9625"/>
                </a:cubicBezTo>
                <a:close/>
                <a:moveTo>
                  <a:pt x="102965" y="44278"/>
                </a:moveTo>
                <a:lnTo>
                  <a:pt x="102965" y="44278"/>
                </a:lnTo>
                <a:cubicBezTo>
                  <a:pt x="13817" y="44278"/>
                  <a:pt x="13817" y="44278"/>
                  <a:pt x="13817" y="44278"/>
                </a:cubicBezTo>
                <a:cubicBezTo>
                  <a:pt x="5488" y="44278"/>
                  <a:pt x="0" y="50481"/>
                  <a:pt x="0" y="59893"/>
                </a:cubicBezTo>
                <a:cubicBezTo>
                  <a:pt x="0" y="69304"/>
                  <a:pt x="5488" y="75721"/>
                  <a:pt x="13817" y="75721"/>
                </a:cubicBezTo>
                <a:cubicBezTo>
                  <a:pt x="102965" y="75721"/>
                  <a:pt x="102965" y="75721"/>
                  <a:pt x="102965" y="75721"/>
                </a:cubicBezTo>
                <a:cubicBezTo>
                  <a:pt x="111293" y="75721"/>
                  <a:pt x="119810" y="69304"/>
                  <a:pt x="119810" y="59893"/>
                </a:cubicBezTo>
                <a:cubicBezTo>
                  <a:pt x="119810" y="50481"/>
                  <a:pt x="111293" y="44278"/>
                  <a:pt x="102965" y="44278"/>
                </a:cubicBezTo>
                <a:close/>
                <a:moveTo>
                  <a:pt x="102965" y="69304"/>
                </a:moveTo>
                <a:lnTo>
                  <a:pt x="102965" y="69304"/>
                </a:lnTo>
                <a:cubicBezTo>
                  <a:pt x="13817" y="69304"/>
                  <a:pt x="13817" y="69304"/>
                  <a:pt x="13817" y="69304"/>
                </a:cubicBezTo>
                <a:cubicBezTo>
                  <a:pt x="10977" y="69304"/>
                  <a:pt x="8328" y="63101"/>
                  <a:pt x="8328" y="59893"/>
                </a:cubicBezTo>
                <a:cubicBezTo>
                  <a:pt x="8328" y="56684"/>
                  <a:pt x="10977" y="50481"/>
                  <a:pt x="13817" y="50481"/>
                </a:cubicBezTo>
                <a:cubicBezTo>
                  <a:pt x="102965" y="50481"/>
                  <a:pt x="102965" y="50481"/>
                  <a:pt x="102965" y="50481"/>
                </a:cubicBezTo>
                <a:cubicBezTo>
                  <a:pt x="108643" y="50481"/>
                  <a:pt x="111293" y="56684"/>
                  <a:pt x="111293" y="59893"/>
                </a:cubicBezTo>
                <a:cubicBezTo>
                  <a:pt x="111293" y="63101"/>
                  <a:pt x="108643" y="69304"/>
                  <a:pt x="102965" y="69304"/>
                </a:cubicBezTo>
                <a:close/>
                <a:moveTo>
                  <a:pt x="102965" y="85133"/>
                </a:moveTo>
                <a:lnTo>
                  <a:pt x="102965" y="85133"/>
                </a:lnTo>
                <a:cubicBezTo>
                  <a:pt x="13817" y="85133"/>
                  <a:pt x="13817" y="85133"/>
                  <a:pt x="13817" y="85133"/>
                </a:cubicBezTo>
                <a:cubicBezTo>
                  <a:pt x="5488" y="85133"/>
                  <a:pt x="0" y="91550"/>
                  <a:pt x="0" y="100748"/>
                </a:cubicBezTo>
                <a:cubicBezTo>
                  <a:pt x="0" y="110374"/>
                  <a:pt x="5488" y="119786"/>
                  <a:pt x="13817" y="119786"/>
                </a:cubicBezTo>
                <a:cubicBezTo>
                  <a:pt x="102965" y="119786"/>
                  <a:pt x="102965" y="119786"/>
                  <a:pt x="102965" y="119786"/>
                </a:cubicBezTo>
                <a:cubicBezTo>
                  <a:pt x="111293" y="119786"/>
                  <a:pt x="119810" y="110374"/>
                  <a:pt x="119810" y="100748"/>
                </a:cubicBezTo>
                <a:cubicBezTo>
                  <a:pt x="119810" y="91550"/>
                  <a:pt x="111293" y="85133"/>
                  <a:pt x="102965" y="85133"/>
                </a:cubicBezTo>
                <a:close/>
                <a:moveTo>
                  <a:pt x="102965" y="110374"/>
                </a:moveTo>
                <a:lnTo>
                  <a:pt x="102965" y="110374"/>
                </a:lnTo>
                <a:cubicBezTo>
                  <a:pt x="13817" y="110374"/>
                  <a:pt x="13817" y="110374"/>
                  <a:pt x="13817" y="110374"/>
                </a:cubicBezTo>
                <a:cubicBezTo>
                  <a:pt x="10977" y="110374"/>
                  <a:pt x="8328" y="107165"/>
                  <a:pt x="8328" y="100748"/>
                </a:cubicBezTo>
                <a:cubicBezTo>
                  <a:pt x="8328" y="97754"/>
                  <a:pt x="10977" y="94545"/>
                  <a:pt x="13817" y="94545"/>
                </a:cubicBezTo>
                <a:cubicBezTo>
                  <a:pt x="102965" y="94545"/>
                  <a:pt x="102965" y="94545"/>
                  <a:pt x="102965" y="94545"/>
                </a:cubicBezTo>
                <a:cubicBezTo>
                  <a:pt x="108643" y="94545"/>
                  <a:pt x="111293" y="97754"/>
                  <a:pt x="111293" y="100748"/>
                </a:cubicBezTo>
                <a:cubicBezTo>
                  <a:pt x="111293" y="107165"/>
                  <a:pt x="108643" y="110374"/>
                  <a:pt x="102965" y="11037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4620"/>
          <p:cNvSpPr/>
          <p:nvPr/>
        </p:nvSpPr>
        <p:spPr>
          <a:xfrm>
            <a:off x="7446960" y="3546360"/>
            <a:ext cx="306360" cy="298440"/>
          </a:xfrm>
          <a:custGeom>
            <a:avLst/>
            <a:gdLst>
              <a:gd name="textAreaLeft" fmla="*/ 0 w 306360"/>
              <a:gd name="textAreaRight" fmla="*/ 306720 w 306360"/>
              <a:gd name="textAreaTop" fmla="*/ 0 h 298440"/>
              <a:gd name="textAreaBottom" fmla="*/ 298800 h 298440"/>
            </a:gdLst>
            <a:ahLst/>
            <a:rect l="textAreaLeft" t="textAreaTop" r="textAreaRight" b="textAreaBottom"/>
            <a:pathLst>
              <a:path w="120000" h="120000">
                <a:moveTo>
                  <a:pt x="105993" y="0"/>
                </a:moveTo>
                <a:lnTo>
                  <a:pt x="105993" y="0"/>
                </a:lnTo>
                <a:cubicBezTo>
                  <a:pt x="16845" y="0"/>
                  <a:pt x="16845" y="0"/>
                  <a:pt x="16845" y="0"/>
                </a:cubicBezTo>
                <a:cubicBezTo>
                  <a:pt x="8328" y="0"/>
                  <a:pt x="0" y="5621"/>
                  <a:pt x="0" y="14345"/>
                </a:cubicBezTo>
                <a:cubicBezTo>
                  <a:pt x="0" y="105654"/>
                  <a:pt x="0" y="105654"/>
                  <a:pt x="0" y="105654"/>
                </a:cubicBezTo>
                <a:cubicBezTo>
                  <a:pt x="0" y="114184"/>
                  <a:pt x="8328" y="119806"/>
                  <a:pt x="16845" y="119806"/>
                </a:cubicBezTo>
                <a:cubicBezTo>
                  <a:pt x="105993" y="119806"/>
                  <a:pt x="105993" y="119806"/>
                  <a:pt x="105993" y="119806"/>
                </a:cubicBezTo>
                <a:cubicBezTo>
                  <a:pt x="114321" y="119806"/>
                  <a:pt x="119810" y="114184"/>
                  <a:pt x="119810" y="105654"/>
                </a:cubicBezTo>
                <a:cubicBezTo>
                  <a:pt x="119810" y="14345"/>
                  <a:pt x="119810" y="14345"/>
                  <a:pt x="119810" y="14345"/>
                </a:cubicBezTo>
                <a:cubicBezTo>
                  <a:pt x="119810" y="5621"/>
                  <a:pt x="114321" y="0"/>
                  <a:pt x="105993" y="0"/>
                </a:cubicBezTo>
                <a:close/>
                <a:moveTo>
                  <a:pt x="111482" y="105654"/>
                </a:moveTo>
                <a:lnTo>
                  <a:pt x="111482" y="105654"/>
                </a:lnTo>
                <a:cubicBezTo>
                  <a:pt x="111482" y="108368"/>
                  <a:pt x="108643" y="114184"/>
                  <a:pt x="105993" y="114184"/>
                </a:cubicBezTo>
                <a:cubicBezTo>
                  <a:pt x="16845" y="114184"/>
                  <a:pt x="16845" y="114184"/>
                  <a:pt x="16845" y="114184"/>
                </a:cubicBezTo>
                <a:cubicBezTo>
                  <a:pt x="11167" y="114184"/>
                  <a:pt x="8328" y="108368"/>
                  <a:pt x="8328" y="105654"/>
                </a:cubicBezTo>
                <a:cubicBezTo>
                  <a:pt x="8328" y="14345"/>
                  <a:pt x="8328" y="14345"/>
                  <a:pt x="8328" y="14345"/>
                </a:cubicBezTo>
                <a:cubicBezTo>
                  <a:pt x="8328" y="11437"/>
                  <a:pt x="11167" y="5621"/>
                  <a:pt x="16845" y="5621"/>
                </a:cubicBezTo>
                <a:cubicBezTo>
                  <a:pt x="105993" y="5621"/>
                  <a:pt x="105993" y="5621"/>
                  <a:pt x="105993" y="5621"/>
                </a:cubicBezTo>
                <a:cubicBezTo>
                  <a:pt x="108643" y="5621"/>
                  <a:pt x="111482" y="11437"/>
                  <a:pt x="111482" y="14345"/>
                </a:cubicBezTo>
                <a:lnTo>
                  <a:pt x="111482" y="105654"/>
                </a:lnTo>
                <a:close/>
                <a:moveTo>
                  <a:pt x="77981" y="39935"/>
                </a:moveTo>
                <a:lnTo>
                  <a:pt x="77981" y="39935"/>
                </a:lnTo>
                <a:cubicBezTo>
                  <a:pt x="77981" y="39935"/>
                  <a:pt x="75331" y="39935"/>
                  <a:pt x="72492" y="39935"/>
                </a:cubicBezTo>
                <a:cubicBezTo>
                  <a:pt x="61324" y="54281"/>
                  <a:pt x="61324" y="54281"/>
                  <a:pt x="61324" y="54281"/>
                </a:cubicBezTo>
                <a:cubicBezTo>
                  <a:pt x="47507" y="39935"/>
                  <a:pt x="47507" y="39935"/>
                  <a:pt x="47507" y="39935"/>
                </a:cubicBezTo>
                <a:cubicBezTo>
                  <a:pt x="44668" y="39935"/>
                  <a:pt x="44668" y="39935"/>
                  <a:pt x="41829" y="39935"/>
                </a:cubicBezTo>
                <a:cubicBezTo>
                  <a:pt x="41829" y="42843"/>
                  <a:pt x="41829" y="45751"/>
                  <a:pt x="41829" y="45751"/>
                </a:cubicBezTo>
                <a:cubicBezTo>
                  <a:pt x="55835" y="59903"/>
                  <a:pt x="55835" y="59903"/>
                  <a:pt x="55835" y="59903"/>
                </a:cubicBezTo>
                <a:cubicBezTo>
                  <a:pt x="41829" y="74248"/>
                  <a:pt x="41829" y="74248"/>
                  <a:pt x="41829" y="74248"/>
                </a:cubicBezTo>
                <a:cubicBezTo>
                  <a:pt x="41829" y="74248"/>
                  <a:pt x="41829" y="77156"/>
                  <a:pt x="41829" y="79870"/>
                </a:cubicBezTo>
                <a:cubicBezTo>
                  <a:pt x="44668" y="79870"/>
                  <a:pt x="44668" y="79870"/>
                  <a:pt x="47507" y="79870"/>
                </a:cubicBezTo>
                <a:cubicBezTo>
                  <a:pt x="61324" y="65718"/>
                  <a:pt x="61324" y="65718"/>
                  <a:pt x="61324" y="65718"/>
                </a:cubicBezTo>
                <a:cubicBezTo>
                  <a:pt x="72492" y="79870"/>
                  <a:pt x="72492" y="79870"/>
                  <a:pt x="72492" y="79870"/>
                </a:cubicBezTo>
                <a:cubicBezTo>
                  <a:pt x="75331" y="79870"/>
                  <a:pt x="77981" y="79870"/>
                  <a:pt x="77981" y="79870"/>
                </a:cubicBezTo>
                <a:cubicBezTo>
                  <a:pt x="80820" y="77156"/>
                  <a:pt x="80820" y="74248"/>
                  <a:pt x="77981" y="74248"/>
                </a:cubicBezTo>
                <a:cubicBezTo>
                  <a:pt x="67003" y="59903"/>
                  <a:pt x="67003" y="59903"/>
                  <a:pt x="67003" y="59903"/>
                </a:cubicBezTo>
                <a:cubicBezTo>
                  <a:pt x="77981" y="45751"/>
                  <a:pt x="77981" y="45751"/>
                  <a:pt x="77981" y="45751"/>
                </a:cubicBezTo>
                <a:cubicBezTo>
                  <a:pt x="80820" y="45751"/>
                  <a:pt x="80820" y="42843"/>
                  <a:pt x="77981" y="3993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4622"/>
          <p:cNvSpPr/>
          <p:nvPr/>
        </p:nvSpPr>
        <p:spPr>
          <a:xfrm>
            <a:off x="6470640" y="3546360"/>
            <a:ext cx="297000" cy="298440"/>
          </a:xfrm>
          <a:custGeom>
            <a:avLst/>
            <a:gdLst>
              <a:gd name="textAreaLeft" fmla="*/ 0 w 297000"/>
              <a:gd name="textAreaRight" fmla="*/ 297360 w 297000"/>
              <a:gd name="textAreaTop" fmla="*/ 0 h 298440"/>
              <a:gd name="textAreaBottom" fmla="*/ 298800 h 298440"/>
            </a:gdLst>
            <a:ahLst/>
            <a:rect l="textAreaLeft" t="textAreaTop" r="textAreaRight" b="textAreaBottom"/>
            <a:pathLst>
              <a:path w="120000" h="120000">
                <a:moveTo>
                  <a:pt x="82778" y="56995"/>
                </a:moveTo>
                <a:lnTo>
                  <a:pt x="82778" y="56995"/>
                </a:lnTo>
                <a:cubicBezTo>
                  <a:pt x="62810" y="56995"/>
                  <a:pt x="62810" y="56995"/>
                  <a:pt x="62810" y="56995"/>
                </a:cubicBezTo>
                <a:cubicBezTo>
                  <a:pt x="62810" y="37027"/>
                  <a:pt x="62810" y="37027"/>
                  <a:pt x="62810" y="37027"/>
                </a:cubicBezTo>
                <a:cubicBezTo>
                  <a:pt x="62810" y="34313"/>
                  <a:pt x="62810" y="34313"/>
                  <a:pt x="59903" y="34313"/>
                </a:cubicBezTo>
                <a:cubicBezTo>
                  <a:pt x="56995" y="34313"/>
                  <a:pt x="56995" y="34313"/>
                  <a:pt x="56995" y="37027"/>
                </a:cubicBezTo>
                <a:cubicBezTo>
                  <a:pt x="56995" y="56995"/>
                  <a:pt x="56995" y="56995"/>
                  <a:pt x="56995" y="56995"/>
                </a:cubicBezTo>
                <a:cubicBezTo>
                  <a:pt x="37027" y="56995"/>
                  <a:pt x="37027" y="56995"/>
                  <a:pt x="37027" y="56995"/>
                </a:cubicBezTo>
                <a:cubicBezTo>
                  <a:pt x="34313" y="56995"/>
                  <a:pt x="34313" y="56995"/>
                  <a:pt x="34313" y="59903"/>
                </a:cubicBezTo>
                <a:cubicBezTo>
                  <a:pt x="34313" y="62810"/>
                  <a:pt x="34313" y="62810"/>
                  <a:pt x="37027" y="62810"/>
                </a:cubicBezTo>
                <a:cubicBezTo>
                  <a:pt x="56995" y="62810"/>
                  <a:pt x="56995" y="62810"/>
                  <a:pt x="56995" y="62810"/>
                </a:cubicBezTo>
                <a:cubicBezTo>
                  <a:pt x="56995" y="82778"/>
                  <a:pt x="56995" y="82778"/>
                  <a:pt x="56995" y="82778"/>
                </a:cubicBezTo>
                <a:cubicBezTo>
                  <a:pt x="56995" y="85492"/>
                  <a:pt x="56995" y="85492"/>
                  <a:pt x="59903" y="85492"/>
                </a:cubicBezTo>
                <a:cubicBezTo>
                  <a:pt x="62810" y="85492"/>
                  <a:pt x="62810" y="85492"/>
                  <a:pt x="62810" y="82778"/>
                </a:cubicBezTo>
                <a:cubicBezTo>
                  <a:pt x="62810" y="62810"/>
                  <a:pt x="62810" y="62810"/>
                  <a:pt x="62810" y="62810"/>
                </a:cubicBezTo>
                <a:cubicBezTo>
                  <a:pt x="82778" y="62810"/>
                  <a:pt x="82778" y="62810"/>
                  <a:pt x="82778" y="62810"/>
                </a:cubicBezTo>
                <a:cubicBezTo>
                  <a:pt x="85492" y="62810"/>
                  <a:pt x="85492" y="62810"/>
                  <a:pt x="85492" y="59903"/>
                </a:cubicBezTo>
                <a:cubicBezTo>
                  <a:pt x="85492" y="56995"/>
                  <a:pt x="85492" y="56995"/>
                  <a:pt x="82778" y="56995"/>
                </a:cubicBezTo>
                <a:close/>
                <a:moveTo>
                  <a:pt x="105460" y="0"/>
                </a:moveTo>
                <a:lnTo>
                  <a:pt x="105460" y="0"/>
                </a:lnTo>
                <a:cubicBezTo>
                  <a:pt x="14151" y="0"/>
                  <a:pt x="14151" y="0"/>
                  <a:pt x="14151" y="0"/>
                </a:cubicBezTo>
                <a:cubicBezTo>
                  <a:pt x="5621" y="0"/>
                  <a:pt x="0" y="5621"/>
                  <a:pt x="0" y="14345"/>
                </a:cubicBezTo>
                <a:cubicBezTo>
                  <a:pt x="0" y="105654"/>
                  <a:pt x="0" y="105654"/>
                  <a:pt x="0" y="105654"/>
                </a:cubicBezTo>
                <a:cubicBezTo>
                  <a:pt x="0" y="114184"/>
                  <a:pt x="5621" y="119806"/>
                  <a:pt x="14151" y="119806"/>
                </a:cubicBezTo>
                <a:cubicBezTo>
                  <a:pt x="105460" y="119806"/>
                  <a:pt x="105460" y="119806"/>
                  <a:pt x="105460" y="119806"/>
                </a:cubicBezTo>
                <a:cubicBezTo>
                  <a:pt x="114184" y="119806"/>
                  <a:pt x="119806" y="114184"/>
                  <a:pt x="119806" y="105654"/>
                </a:cubicBezTo>
                <a:cubicBezTo>
                  <a:pt x="119806" y="14345"/>
                  <a:pt x="119806" y="14345"/>
                  <a:pt x="119806" y="14345"/>
                </a:cubicBezTo>
                <a:cubicBezTo>
                  <a:pt x="119806" y="5621"/>
                  <a:pt x="114184" y="0"/>
                  <a:pt x="105460" y="0"/>
                </a:cubicBezTo>
                <a:close/>
                <a:moveTo>
                  <a:pt x="114184" y="105654"/>
                </a:moveTo>
                <a:lnTo>
                  <a:pt x="114184" y="105654"/>
                </a:lnTo>
                <a:cubicBezTo>
                  <a:pt x="114184" y="108368"/>
                  <a:pt x="108368" y="114184"/>
                  <a:pt x="105460" y="114184"/>
                </a:cubicBezTo>
                <a:cubicBezTo>
                  <a:pt x="14151" y="114184"/>
                  <a:pt x="14151" y="114184"/>
                  <a:pt x="14151" y="114184"/>
                </a:cubicBezTo>
                <a:cubicBezTo>
                  <a:pt x="11437" y="114184"/>
                  <a:pt x="5621" y="108368"/>
                  <a:pt x="5621" y="105654"/>
                </a:cubicBezTo>
                <a:cubicBezTo>
                  <a:pt x="5621" y="14345"/>
                  <a:pt x="5621" y="14345"/>
                  <a:pt x="5621" y="14345"/>
                </a:cubicBezTo>
                <a:cubicBezTo>
                  <a:pt x="5621" y="11437"/>
                  <a:pt x="11437" y="5621"/>
                  <a:pt x="14151" y="5621"/>
                </a:cubicBezTo>
                <a:cubicBezTo>
                  <a:pt x="105460" y="5621"/>
                  <a:pt x="105460" y="5621"/>
                  <a:pt x="105460" y="5621"/>
                </a:cubicBezTo>
                <a:cubicBezTo>
                  <a:pt x="108368" y="5621"/>
                  <a:pt x="114184" y="11437"/>
                  <a:pt x="114184" y="14345"/>
                </a:cubicBezTo>
                <a:lnTo>
                  <a:pt x="114184" y="10565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4624"/>
          <p:cNvSpPr/>
          <p:nvPr/>
        </p:nvSpPr>
        <p:spPr>
          <a:xfrm>
            <a:off x="10391760" y="30510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20000" h="120000">
                <a:moveTo>
                  <a:pt x="64164" y="33501"/>
                </a:moveTo>
                <a:lnTo>
                  <a:pt x="64164" y="33501"/>
                </a:lnTo>
                <a:cubicBezTo>
                  <a:pt x="64164" y="30662"/>
                  <a:pt x="61324" y="30662"/>
                  <a:pt x="61324" y="30662"/>
                </a:cubicBezTo>
                <a:cubicBezTo>
                  <a:pt x="58675" y="30662"/>
                  <a:pt x="58675" y="30662"/>
                  <a:pt x="55835" y="33501"/>
                </a:cubicBezTo>
                <a:cubicBezTo>
                  <a:pt x="36340" y="52996"/>
                  <a:pt x="36340" y="52996"/>
                  <a:pt x="36340" y="52996"/>
                </a:cubicBezTo>
                <a:cubicBezTo>
                  <a:pt x="33501" y="55835"/>
                  <a:pt x="33501" y="58675"/>
                  <a:pt x="36340" y="58675"/>
                </a:cubicBezTo>
                <a:cubicBezTo>
                  <a:pt x="36340" y="61324"/>
                  <a:pt x="39179" y="61324"/>
                  <a:pt x="41829" y="58675"/>
                </a:cubicBezTo>
                <a:cubicBezTo>
                  <a:pt x="55835" y="44668"/>
                  <a:pt x="55835" y="44668"/>
                  <a:pt x="55835" y="44668"/>
                </a:cubicBezTo>
                <a:cubicBezTo>
                  <a:pt x="55835" y="83659"/>
                  <a:pt x="55835" y="83659"/>
                  <a:pt x="55835" y="83659"/>
                </a:cubicBezTo>
                <a:cubicBezTo>
                  <a:pt x="55835" y="83659"/>
                  <a:pt x="58675" y="86498"/>
                  <a:pt x="61324" y="86498"/>
                </a:cubicBezTo>
                <a:lnTo>
                  <a:pt x="64164" y="83659"/>
                </a:lnTo>
                <a:cubicBezTo>
                  <a:pt x="64164" y="44668"/>
                  <a:pt x="64164" y="44668"/>
                  <a:pt x="64164" y="44668"/>
                </a:cubicBezTo>
                <a:cubicBezTo>
                  <a:pt x="77981" y="58675"/>
                  <a:pt x="77981" y="58675"/>
                  <a:pt x="77981" y="58675"/>
                </a:cubicBezTo>
                <a:cubicBezTo>
                  <a:pt x="81009" y="61324"/>
                  <a:pt x="83659" y="61324"/>
                  <a:pt x="83659" y="58675"/>
                </a:cubicBezTo>
                <a:cubicBezTo>
                  <a:pt x="86498" y="58675"/>
                  <a:pt x="86498" y="55835"/>
                  <a:pt x="83659" y="52996"/>
                </a:cubicBezTo>
                <a:lnTo>
                  <a:pt x="64164" y="33501"/>
                </a:lnTo>
                <a:close/>
                <a:moveTo>
                  <a:pt x="105993" y="0"/>
                </a:moveTo>
                <a:lnTo>
                  <a:pt x="105993" y="0"/>
                </a:lnTo>
                <a:cubicBezTo>
                  <a:pt x="16845" y="0"/>
                  <a:pt x="16845" y="0"/>
                  <a:pt x="16845" y="0"/>
                </a:cubicBezTo>
                <a:cubicBezTo>
                  <a:pt x="8517" y="0"/>
                  <a:pt x="0" y="8517"/>
                  <a:pt x="0" y="16845"/>
                </a:cubicBezTo>
                <a:cubicBezTo>
                  <a:pt x="0" y="105993"/>
                  <a:pt x="0" y="105993"/>
                  <a:pt x="0" y="105993"/>
                </a:cubicBezTo>
                <a:cubicBezTo>
                  <a:pt x="0" y="114321"/>
                  <a:pt x="8517"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832" y="111482"/>
                  <a:pt x="105993" y="111482"/>
                </a:cubicBezTo>
                <a:cubicBezTo>
                  <a:pt x="16845" y="111482"/>
                  <a:pt x="16845" y="111482"/>
                  <a:pt x="16845" y="111482"/>
                </a:cubicBezTo>
                <a:cubicBezTo>
                  <a:pt x="11167" y="111482"/>
                  <a:pt x="8517" y="108832"/>
                  <a:pt x="8517" y="105993"/>
                </a:cubicBezTo>
                <a:cubicBezTo>
                  <a:pt x="8517" y="16845"/>
                  <a:pt x="8517" y="16845"/>
                  <a:pt x="8517" y="16845"/>
                </a:cubicBezTo>
                <a:cubicBezTo>
                  <a:pt x="8517" y="11167"/>
                  <a:pt x="11167" y="8517"/>
                  <a:pt x="16845" y="8517"/>
                </a:cubicBezTo>
                <a:cubicBezTo>
                  <a:pt x="105993" y="8517"/>
                  <a:pt x="105993" y="8517"/>
                  <a:pt x="105993" y="8517"/>
                </a:cubicBezTo>
                <a:cubicBezTo>
                  <a:pt x="108832" y="8517"/>
                  <a:pt x="111482" y="11167"/>
                  <a:pt x="111482" y="16845"/>
                </a:cubicBezTo>
                <a:lnTo>
                  <a:pt x="111482"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4626"/>
          <p:cNvSpPr/>
          <p:nvPr/>
        </p:nvSpPr>
        <p:spPr>
          <a:xfrm>
            <a:off x="9414000" y="3051000"/>
            <a:ext cx="296640" cy="304920"/>
          </a:xfrm>
          <a:custGeom>
            <a:avLst/>
            <a:gdLst>
              <a:gd name="textAreaLeft" fmla="*/ 0 w 296640"/>
              <a:gd name="textAreaRight" fmla="*/ 297000 w 296640"/>
              <a:gd name="textAreaTop" fmla="*/ 0 h 304920"/>
              <a:gd name="textAreaBottom" fmla="*/ 305280 h 304920"/>
            </a:gdLst>
            <a:ahLst/>
            <a:rect l="textAreaLeft" t="textAreaTop" r="textAreaRight" b="textAreaBottom"/>
            <a:pathLst>
              <a:path w="120000" h="120000">
                <a:moveTo>
                  <a:pt x="105654" y="0"/>
                </a:moveTo>
                <a:lnTo>
                  <a:pt x="105654"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654" y="119810"/>
                  <a:pt x="105654" y="119810"/>
                  <a:pt x="105654" y="119810"/>
                </a:cubicBezTo>
                <a:cubicBezTo>
                  <a:pt x="114184" y="119810"/>
                  <a:pt x="119806" y="114321"/>
                  <a:pt x="119806" y="105993"/>
                </a:cubicBezTo>
                <a:cubicBezTo>
                  <a:pt x="119806" y="16845"/>
                  <a:pt x="119806" y="16845"/>
                  <a:pt x="119806" y="16845"/>
                </a:cubicBezTo>
                <a:cubicBezTo>
                  <a:pt x="119806" y="8517"/>
                  <a:pt x="114184" y="0"/>
                  <a:pt x="105654" y="0"/>
                </a:cubicBezTo>
                <a:close/>
                <a:moveTo>
                  <a:pt x="114184" y="105993"/>
                </a:moveTo>
                <a:lnTo>
                  <a:pt x="114184" y="105993"/>
                </a:lnTo>
                <a:cubicBezTo>
                  <a:pt x="114184" y="108832"/>
                  <a:pt x="108368" y="111482"/>
                  <a:pt x="105654"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654" y="8517"/>
                  <a:pt x="105654" y="8517"/>
                  <a:pt x="105654" y="8517"/>
                </a:cubicBezTo>
                <a:cubicBezTo>
                  <a:pt x="108368" y="8517"/>
                  <a:pt x="114184" y="11167"/>
                  <a:pt x="114184" y="16845"/>
                </a:cubicBezTo>
                <a:lnTo>
                  <a:pt x="114184" y="105993"/>
                </a:lnTo>
                <a:close/>
                <a:moveTo>
                  <a:pt x="82778" y="55835"/>
                </a:moveTo>
                <a:lnTo>
                  <a:pt x="82778" y="55835"/>
                </a:lnTo>
                <a:cubicBezTo>
                  <a:pt x="42843" y="55835"/>
                  <a:pt x="42843" y="55835"/>
                  <a:pt x="42843" y="55835"/>
                </a:cubicBezTo>
                <a:cubicBezTo>
                  <a:pt x="56995" y="41829"/>
                  <a:pt x="56995" y="41829"/>
                  <a:pt x="56995" y="41829"/>
                </a:cubicBezTo>
                <a:cubicBezTo>
                  <a:pt x="59903" y="39179"/>
                  <a:pt x="59903" y="36340"/>
                  <a:pt x="56995" y="36340"/>
                </a:cubicBezTo>
                <a:cubicBezTo>
                  <a:pt x="56995" y="33501"/>
                  <a:pt x="54281" y="33501"/>
                  <a:pt x="51373" y="36340"/>
                </a:cubicBezTo>
                <a:cubicBezTo>
                  <a:pt x="31405" y="55835"/>
                  <a:pt x="31405" y="55835"/>
                  <a:pt x="31405" y="55835"/>
                </a:cubicBezTo>
                <a:cubicBezTo>
                  <a:pt x="31405" y="58675"/>
                  <a:pt x="31405" y="58675"/>
                  <a:pt x="31405" y="61324"/>
                </a:cubicBezTo>
                <a:lnTo>
                  <a:pt x="31405" y="64164"/>
                </a:lnTo>
                <a:cubicBezTo>
                  <a:pt x="51373" y="83659"/>
                  <a:pt x="51373" y="83659"/>
                  <a:pt x="51373" y="83659"/>
                </a:cubicBezTo>
                <a:cubicBezTo>
                  <a:pt x="54281" y="86498"/>
                  <a:pt x="56995" y="86498"/>
                  <a:pt x="56995" y="83659"/>
                </a:cubicBezTo>
                <a:cubicBezTo>
                  <a:pt x="59903" y="83659"/>
                  <a:pt x="59903" y="81009"/>
                  <a:pt x="56995" y="77981"/>
                </a:cubicBezTo>
                <a:cubicBezTo>
                  <a:pt x="42843" y="64164"/>
                  <a:pt x="42843" y="64164"/>
                  <a:pt x="42843" y="64164"/>
                </a:cubicBezTo>
                <a:cubicBezTo>
                  <a:pt x="82778" y="64164"/>
                  <a:pt x="82778" y="64164"/>
                  <a:pt x="82778" y="64164"/>
                </a:cubicBezTo>
                <a:cubicBezTo>
                  <a:pt x="85492" y="64164"/>
                  <a:pt x="85492" y="61324"/>
                  <a:pt x="85492" y="61324"/>
                </a:cubicBezTo>
                <a:cubicBezTo>
                  <a:pt x="85492" y="58675"/>
                  <a:pt x="85492" y="55835"/>
                  <a:pt x="82778" y="5583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4628"/>
          <p:cNvSpPr/>
          <p:nvPr/>
        </p:nvSpPr>
        <p:spPr>
          <a:xfrm>
            <a:off x="8429760" y="3051000"/>
            <a:ext cx="304560" cy="304920"/>
          </a:xfrm>
          <a:custGeom>
            <a:avLst/>
            <a:gdLst>
              <a:gd name="textAreaLeft" fmla="*/ 0 w 304560"/>
              <a:gd name="textAreaRight" fmla="*/ 304920 w 304560"/>
              <a:gd name="textAreaTop" fmla="*/ 0 h 304920"/>
              <a:gd name="textAreaBottom" fmla="*/ 305280 h 304920"/>
            </a:gdLst>
            <a:ahLst/>
            <a:rect l="textAreaLeft" t="textAreaTop" r="textAreaRight" b="textAreaBottom"/>
            <a:pathLst>
              <a:path w="120000" h="120000">
                <a:moveTo>
                  <a:pt x="61324" y="41829"/>
                </a:moveTo>
                <a:lnTo>
                  <a:pt x="61324" y="41829"/>
                </a:lnTo>
                <a:cubicBezTo>
                  <a:pt x="61324" y="41829"/>
                  <a:pt x="61324" y="41829"/>
                  <a:pt x="58485" y="41829"/>
                </a:cubicBezTo>
                <a:cubicBezTo>
                  <a:pt x="58485" y="41829"/>
                  <a:pt x="58485" y="41829"/>
                  <a:pt x="55646" y="41829"/>
                </a:cubicBezTo>
                <a:cubicBezTo>
                  <a:pt x="22145" y="75331"/>
                  <a:pt x="22145" y="75331"/>
                  <a:pt x="22145" y="75331"/>
                </a:cubicBezTo>
                <a:cubicBezTo>
                  <a:pt x="22145" y="77981"/>
                  <a:pt x="22145" y="81009"/>
                  <a:pt x="22145" y="81009"/>
                </a:cubicBezTo>
                <a:cubicBezTo>
                  <a:pt x="24984" y="83659"/>
                  <a:pt x="27823" y="83659"/>
                  <a:pt x="27823" y="81009"/>
                </a:cubicBezTo>
                <a:cubicBezTo>
                  <a:pt x="58485" y="50347"/>
                  <a:pt x="58485" y="50347"/>
                  <a:pt x="58485" y="50347"/>
                </a:cubicBezTo>
                <a:cubicBezTo>
                  <a:pt x="89148" y="81009"/>
                  <a:pt x="89148" y="81009"/>
                  <a:pt x="89148" y="81009"/>
                </a:cubicBezTo>
                <a:cubicBezTo>
                  <a:pt x="91798" y="83659"/>
                  <a:pt x="94637" y="83659"/>
                  <a:pt x="94637" y="81009"/>
                </a:cubicBezTo>
                <a:cubicBezTo>
                  <a:pt x="97476" y="81009"/>
                  <a:pt x="97476" y="77981"/>
                  <a:pt x="94637" y="75331"/>
                </a:cubicBezTo>
                <a:lnTo>
                  <a:pt x="61324" y="41829"/>
                </a:lnTo>
                <a:close/>
                <a:moveTo>
                  <a:pt x="102965" y="0"/>
                </a:moveTo>
                <a:lnTo>
                  <a:pt x="102965" y="0"/>
                </a:lnTo>
                <a:cubicBezTo>
                  <a:pt x="13817" y="0"/>
                  <a:pt x="13817" y="0"/>
                  <a:pt x="13817" y="0"/>
                </a:cubicBezTo>
                <a:cubicBezTo>
                  <a:pt x="5488" y="0"/>
                  <a:pt x="0" y="8517"/>
                  <a:pt x="0" y="16845"/>
                </a:cubicBezTo>
                <a:cubicBezTo>
                  <a:pt x="0" y="105993"/>
                  <a:pt x="0" y="105993"/>
                  <a:pt x="0" y="105993"/>
                </a:cubicBezTo>
                <a:cubicBezTo>
                  <a:pt x="0" y="114321"/>
                  <a:pt x="5488" y="119810"/>
                  <a:pt x="13817" y="119810"/>
                </a:cubicBezTo>
                <a:cubicBezTo>
                  <a:pt x="102965" y="119810"/>
                  <a:pt x="102965" y="119810"/>
                  <a:pt x="102965" y="119810"/>
                </a:cubicBezTo>
                <a:cubicBezTo>
                  <a:pt x="111293" y="119810"/>
                  <a:pt x="119810" y="114321"/>
                  <a:pt x="119810" y="105993"/>
                </a:cubicBezTo>
                <a:cubicBezTo>
                  <a:pt x="119810" y="16845"/>
                  <a:pt x="119810" y="16845"/>
                  <a:pt x="119810" y="16845"/>
                </a:cubicBezTo>
                <a:cubicBezTo>
                  <a:pt x="119810" y="8517"/>
                  <a:pt x="111293" y="0"/>
                  <a:pt x="102965" y="0"/>
                </a:cubicBezTo>
                <a:close/>
                <a:moveTo>
                  <a:pt x="111293" y="105993"/>
                </a:moveTo>
                <a:lnTo>
                  <a:pt x="111293" y="105993"/>
                </a:lnTo>
                <a:cubicBezTo>
                  <a:pt x="111293" y="108832"/>
                  <a:pt x="108643" y="111482"/>
                  <a:pt x="102965" y="111482"/>
                </a:cubicBezTo>
                <a:cubicBezTo>
                  <a:pt x="13817" y="111482"/>
                  <a:pt x="13817" y="111482"/>
                  <a:pt x="13817" y="111482"/>
                </a:cubicBezTo>
                <a:cubicBezTo>
                  <a:pt x="10977" y="111482"/>
                  <a:pt x="8328" y="108832"/>
                  <a:pt x="8328" y="105993"/>
                </a:cubicBezTo>
                <a:cubicBezTo>
                  <a:pt x="8328" y="16845"/>
                  <a:pt x="8328" y="16845"/>
                  <a:pt x="8328" y="16845"/>
                </a:cubicBezTo>
                <a:cubicBezTo>
                  <a:pt x="8328" y="11167"/>
                  <a:pt x="10977" y="8517"/>
                  <a:pt x="13817" y="8517"/>
                </a:cubicBezTo>
                <a:cubicBezTo>
                  <a:pt x="102965" y="8517"/>
                  <a:pt x="102965" y="8517"/>
                  <a:pt x="102965" y="8517"/>
                </a:cubicBezTo>
                <a:cubicBezTo>
                  <a:pt x="108643" y="8517"/>
                  <a:pt x="111293" y="11167"/>
                  <a:pt x="111293" y="16845"/>
                </a:cubicBezTo>
                <a:lnTo>
                  <a:pt x="111293"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4630"/>
          <p:cNvSpPr/>
          <p:nvPr/>
        </p:nvSpPr>
        <p:spPr>
          <a:xfrm>
            <a:off x="7446960" y="3051000"/>
            <a:ext cx="306360" cy="304920"/>
          </a:xfrm>
          <a:custGeom>
            <a:avLst/>
            <a:gdLst>
              <a:gd name="textAreaLeft" fmla="*/ 0 w 306360"/>
              <a:gd name="textAreaRight" fmla="*/ 306720 w 306360"/>
              <a:gd name="textAreaTop" fmla="*/ 0 h 304920"/>
              <a:gd name="textAreaBottom" fmla="*/ 305280 h 304920"/>
            </a:gdLst>
            <a:ahLst/>
            <a:rect l="textAreaLeft" t="textAreaTop" r="textAreaRight" b="textAreaBottom"/>
            <a:pathLst>
              <a:path w="120000" h="120000">
                <a:moveTo>
                  <a:pt x="80820" y="25173"/>
                </a:moveTo>
                <a:lnTo>
                  <a:pt x="80820" y="25173"/>
                </a:lnTo>
                <a:cubicBezTo>
                  <a:pt x="80820" y="22334"/>
                  <a:pt x="77981" y="22334"/>
                  <a:pt x="75331" y="25173"/>
                </a:cubicBezTo>
                <a:cubicBezTo>
                  <a:pt x="41829" y="58675"/>
                  <a:pt x="41829" y="58675"/>
                  <a:pt x="41829" y="58675"/>
                </a:cubicBezTo>
                <a:cubicBezTo>
                  <a:pt x="41829" y="58675"/>
                  <a:pt x="41829" y="58675"/>
                  <a:pt x="41829" y="61324"/>
                </a:cubicBezTo>
                <a:cubicBezTo>
                  <a:pt x="41829" y="61324"/>
                  <a:pt x="41829" y="61324"/>
                  <a:pt x="41829" y="64164"/>
                </a:cubicBezTo>
                <a:cubicBezTo>
                  <a:pt x="75331" y="97665"/>
                  <a:pt x="75331" y="97665"/>
                  <a:pt x="75331" y="97665"/>
                </a:cubicBezTo>
                <a:cubicBezTo>
                  <a:pt x="77981" y="97665"/>
                  <a:pt x="80820" y="97665"/>
                  <a:pt x="80820" y="97665"/>
                </a:cubicBezTo>
                <a:cubicBezTo>
                  <a:pt x="83659" y="94826"/>
                  <a:pt x="83659" y="91987"/>
                  <a:pt x="80820" y="91987"/>
                </a:cubicBezTo>
                <a:cubicBezTo>
                  <a:pt x="50157" y="61324"/>
                  <a:pt x="50157" y="61324"/>
                  <a:pt x="50157" y="61324"/>
                </a:cubicBezTo>
                <a:cubicBezTo>
                  <a:pt x="80820" y="30662"/>
                  <a:pt x="80820" y="30662"/>
                  <a:pt x="80820" y="30662"/>
                </a:cubicBezTo>
                <a:cubicBezTo>
                  <a:pt x="83659" y="28012"/>
                  <a:pt x="83659" y="25173"/>
                  <a:pt x="80820" y="25173"/>
                </a:cubicBezTo>
                <a:close/>
                <a:moveTo>
                  <a:pt x="105993" y="0"/>
                </a:moveTo>
                <a:lnTo>
                  <a:pt x="105993" y="0"/>
                </a:lnTo>
                <a:cubicBezTo>
                  <a:pt x="16845" y="0"/>
                  <a:pt x="16845" y="0"/>
                  <a:pt x="16845" y="0"/>
                </a:cubicBezTo>
                <a:cubicBezTo>
                  <a:pt x="8328" y="0"/>
                  <a:pt x="0" y="8517"/>
                  <a:pt x="0" y="16845"/>
                </a:cubicBezTo>
                <a:cubicBezTo>
                  <a:pt x="0" y="105993"/>
                  <a:pt x="0" y="105993"/>
                  <a:pt x="0" y="105993"/>
                </a:cubicBezTo>
                <a:cubicBezTo>
                  <a:pt x="0" y="114321"/>
                  <a:pt x="8328" y="119810"/>
                  <a:pt x="16845" y="119810"/>
                </a:cubicBezTo>
                <a:cubicBezTo>
                  <a:pt x="105993" y="119810"/>
                  <a:pt x="105993" y="119810"/>
                  <a:pt x="105993" y="119810"/>
                </a:cubicBezTo>
                <a:cubicBezTo>
                  <a:pt x="114321" y="119810"/>
                  <a:pt x="119810" y="114321"/>
                  <a:pt x="119810" y="105993"/>
                </a:cubicBezTo>
                <a:cubicBezTo>
                  <a:pt x="119810" y="16845"/>
                  <a:pt x="119810" y="16845"/>
                  <a:pt x="119810" y="16845"/>
                </a:cubicBezTo>
                <a:cubicBezTo>
                  <a:pt x="119810" y="8517"/>
                  <a:pt x="114321" y="0"/>
                  <a:pt x="105993" y="0"/>
                </a:cubicBezTo>
                <a:close/>
                <a:moveTo>
                  <a:pt x="111482" y="105993"/>
                </a:moveTo>
                <a:lnTo>
                  <a:pt x="111482" y="105993"/>
                </a:lnTo>
                <a:cubicBezTo>
                  <a:pt x="111482" y="108832"/>
                  <a:pt x="108643" y="111482"/>
                  <a:pt x="105993" y="111482"/>
                </a:cubicBezTo>
                <a:cubicBezTo>
                  <a:pt x="16845" y="111482"/>
                  <a:pt x="16845" y="111482"/>
                  <a:pt x="16845" y="111482"/>
                </a:cubicBezTo>
                <a:cubicBezTo>
                  <a:pt x="11167" y="111482"/>
                  <a:pt x="8328" y="108832"/>
                  <a:pt x="8328" y="105993"/>
                </a:cubicBezTo>
                <a:cubicBezTo>
                  <a:pt x="8328" y="16845"/>
                  <a:pt x="8328" y="16845"/>
                  <a:pt x="8328" y="16845"/>
                </a:cubicBezTo>
                <a:cubicBezTo>
                  <a:pt x="8328" y="11167"/>
                  <a:pt x="11167" y="8517"/>
                  <a:pt x="16845" y="8517"/>
                </a:cubicBezTo>
                <a:cubicBezTo>
                  <a:pt x="105993" y="8517"/>
                  <a:pt x="105993" y="8517"/>
                  <a:pt x="105993" y="8517"/>
                </a:cubicBezTo>
                <a:cubicBezTo>
                  <a:pt x="108643" y="8517"/>
                  <a:pt x="111482" y="11167"/>
                  <a:pt x="111482" y="16845"/>
                </a:cubicBezTo>
                <a:lnTo>
                  <a:pt x="111482"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4632"/>
          <p:cNvSpPr/>
          <p:nvPr/>
        </p:nvSpPr>
        <p:spPr>
          <a:xfrm>
            <a:off x="6470640" y="3051000"/>
            <a:ext cx="297000" cy="304920"/>
          </a:xfrm>
          <a:custGeom>
            <a:avLst/>
            <a:gdLst>
              <a:gd name="textAreaLeft" fmla="*/ 0 w 297000"/>
              <a:gd name="textAreaRight" fmla="*/ 297360 w 297000"/>
              <a:gd name="textAreaTop" fmla="*/ 0 h 304920"/>
              <a:gd name="textAreaBottom" fmla="*/ 305280 h 30492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4634"/>
          <p:cNvSpPr/>
          <p:nvPr/>
        </p:nvSpPr>
        <p:spPr>
          <a:xfrm>
            <a:off x="10417320" y="2149560"/>
            <a:ext cx="269640" cy="304560"/>
          </a:xfrm>
          <a:custGeom>
            <a:avLst/>
            <a:gdLst>
              <a:gd name="textAreaLeft" fmla="*/ 0 w 269640"/>
              <a:gd name="textAreaRight" fmla="*/ 270000 w 269640"/>
              <a:gd name="textAreaTop" fmla="*/ 0 h 304560"/>
              <a:gd name="textAreaBottom" fmla="*/ 304920 h 304560"/>
            </a:gdLst>
            <a:ahLst/>
            <a:rect l="textAreaLeft" t="textAreaTop" r="textAreaRight" b="textAreaBottom"/>
            <a:pathLst>
              <a:path w="120000" h="120000">
                <a:moveTo>
                  <a:pt x="28449" y="69652"/>
                </a:moveTo>
                <a:lnTo>
                  <a:pt x="28449" y="69652"/>
                </a:lnTo>
                <a:cubicBezTo>
                  <a:pt x="56684" y="94637"/>
                  <a:pt x="56684" y="94637"/>
                  <a:pt x="56684" y="94637"/>
                </a:cubicBezTo>
                <a:lnTo>
                  <a:pt x="59893" y="97476"/>
                </a:lnTo>
                <a:lnTo>
                  <a:pt x="63101" y="94637"/>
                </a:lnTo>
                <a:cubicBezTo>
                  <a:pt x="91336" y="69652"/>
                  <a:pt x="91336" y="69652"/>
                  <a:pt x="91336" y="69652"/>
                </a:cubicBezTo>
                <a:cubicBezTo>
                  <a:pt x="94545" y="66813"/>
                  <a:pt x="94545" y="66813"/>
                  <a:pt x="91336" y="63974"/>
                </a:cubicBezTo>
                <a:cubicBezTo>
                  <a:pt x="91336" y="63974"/>
                  <a:pt x="88128" y="63974"/>
                  <a:pt x="85133" y="63974"/>
                </a:cubicBezTo>
                <a:cubicBezTo>
                  <a:pt x="63101" y="83470"/>
                  <a:pt x="63101" y="83470"/>
                  <a:pt x="63101" y="83470"/>
                </a:cubicBezTo>
                <a:cubicBezTo>
                  <a:pt x="63101" y="2649"/>
                  <a:pt x="63101" y="2649"/>
                  <a:pt x="63101" y="2649"/>
                </a:cubicBezTo>
                <a:cubicBezTo>
                  <a:pt x="63101" y="2649"/>
                  <a:pt x="63101" y="0"/>
                  <a:pt x="59893" y="0"/>
                </a:cubicBezTo>
                <a:cubicBezTo>
                  <a:pt x="56684" y="0"/>
                  <a:pt x="56684" y="2649"/>
                  <a:pt x="56684" y="2649"/>
                </a:cubicBezTo>
                <a:cubicBezTo>
                  <a:pt x="56684" y="83470"/>
                  <a:pt x="56684" y="83470"/>
                  <a:pt x="56684" y="83470"/>
                </a:cubicBezTo>
                <a:cubicBezTo>
                  <a:pt x="34652" y="63974"/>
                  <a:pt x="34652" y="63974"/>
                  <a:pt x="34652" y="63974"/>
                </a:cubicBezTo>
                <a:cubicBezTo>
                  <a:pt x="31657" y="63974"/>
                  <a:pt x="28449" y="63974"/>
                  <a:pt x="28449" y="63974"/>
                </a:cubicBezTo>
                <a:cubicBezTo>
                  <a:pt x="25240" y="66813"/>
                  <a:pt x="25240" y="66813"/>
                  <a:pt x="28449" y="69652"/>
                </a:cubicBezTo>
                <a:close/>
                <a:moveTo>
                  <a:pt x="100748" y="13817"/>
                </a:moveTo>
                <a:lnTo>
                  <a:pt x="100748" y="13817"/>
                </a:lnTo>
                <a:cubicBezTo>
                  <a:pt x="88128" y="13817"/>
                  <a:pt x="88128" y="13817"/>
                  <a:pt x="88128" y="13817"/>
                </a:cubicBezTo>
                <a:cubicBezTo>
                  <a:pt x="88128" y="22145"/>
                  <a:pt x="88128" y="22145"/>
                  <a:pt x="88128" y="22145"/>
                </a:cubicBezTo>
                <a:cubicBezTo>
                  <a:pt x="100748" y="22145"/>
                  <a:pt x="100748" y="22145"/>
                  <a:pt x="100748" y="22145"/>
                </a:cubicBezTo>
                <a:cubicBezTo>
                  <a:pt x="107165" y="22145"/>
                  <a:pt x="110374" y="24984"/>
                  <a:pt x="110374" y="30662"/>
                </a:cubicBezTo>
                <a:cubicBezTo>
                  <a:pt x="110374" y="102965"/>
                  <a:pt x="110374" y="102965"/>
                  <a:pt x="110374" y="102965"/>
                </a:cubicBezTo>
                <a:cubicBezTo>
                  <a:pt x="110374" y="108643"/>
                  <a:pt x="107165" y="111293"/>
                  <a:pt x="100748" y="111293"/>
                </a:cubicBezTo>
                <a:cubicBezTo>
                  <a:pt x="19037" y="111293"/>
                  <a:pt x="19037" y="111293"/>
                  <a:pt x="19037" y="111293"/>
                </a:cubicBezTo>
                <a:cubicBezTo>
                  <a:pt x="12620" y="111293"/>
                  <a:pt x="9411" y="108643"/>
                  <a:pt x="9411" y="102965"/>
                </a:cubicBezTo>
                <a:cubicBezTo>
                  <a:pt x="9411" y="30662"/>
                  <a:pt x="9411" y="30662"/>
                  <a:pt x="9411" y="30662"/>
                </a:cubicBezTo>
                <a:cubicBezTo>
                  <a:pt x="9411" y="24984"/>
                  <a:pt x="12620" y="22145"/>
                  <a:pt x="19037" y="22145"/>
                </a:cubicBezTo>
                <a:cubicBezTo>
                  <a:pt x="31657" y="22145"/>
                  <a:pt x="31657" y="22145"/>
                  <a:pt x="31657" y="22145"/>
                </a:cubicBezTo>
                <a:cubicBezTo>
                  <a:pt x="31657" y="13817"/>
                  <a:pt x="31657" y="13817"/>
                  <a:pt x="31657" y="13817"/>
                </a:cubicBezTo>
                <a:cubicBezTo>
                  <a:pt x="19037" y="13817"/>
                  <a:pt x="19037" y="13817"/>
                  <a:pt x="19037" y="13817"/>
                </a:cubicBezTo>
                <a:cubicBezTo>
                  <a:pt x="9411" y="13817"/>
                  <a:pt x="0" y="22145"/>
                  <a:pt x="0" y="30662"/>
                </a:cubicBezTo>
                <a:cubicBezTo>
                  <a:pt x="0" y="102965"/>
                  <a:pt x="0" y="102965"/>
                  <a:pt x="0" y="102965"/>
                </a:cubicBezTo>
                <a:cubicBezTo>
                  <a:pt x="0" y="111293"/>
                  <a:pt x="9411" y="119810"/>
                  <a:pt x="19037" y="119810"/>
                </a:cubicBezTo>
                <a:cubicBezTo>
                  <a:pt x="100748" y="119810"/>
                  <a:pt x="100748" y="119810"/>
                  <a:pt x="100748" y="119810"/>
                </a:cubicBezTo>
                <a:cubicBezTo>
                  <a:pt x="110374" y="119810"/>
                  <a:pt x="119786" y="111293"/>
                  <a:pt x="119786" y="102965"/>
                </a:cubicBezTo>
                <a:cubicBezTo>
                  <a:pt x="119786" y="30662"/>
                  <a:pt x="119786" y="30662"/>
                  <a:pt x="119786" y="30662"/>
                </a:cubicBezTo>
                <a:cubicBezTo>
                  <a:pt x="119786" y="22145"/>
                  <a:pt x="110374" y="13817"/>
                  <a:pt x="100748" y="1381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4636"/>
          <p:cNvSpPr/>
          <p:nvPr/>
        </p:nvSpPr>
        <p:spPr>
          <a:xfrm>
            <a:off x="9414000" y="2170080"/>
            <a:ext cx="296640" cy="263520"/>
          </a:xfrm>
          <a:custGeom>
            <a:avLst/>
            <a:gdLst>
              <a:gd name="textAreaLeft" fmla="*/ 0 w 296640"/>
              <a:gd name="textAreaRight" fmla="*/ 297000 w 296640"/>
              <a:gd name="textAreaTop" fmla="*/ 0 h 263520"/>
              <a:gd name="textAreaBottom" fmla="*/ 263880 h 263520"/>
            </a:gdLst>
            <a:ahLst/>
            <a:rect l="textAreaLeft" t="textAreaTop" r="textAreaRight" b="textAreaBottom"/>
            <a:pathLst>
              <a:path w="120000" h="120000">
                <a:moveTo>
                  <a:pt x="116898" y="55045"/>
                </a:moveTo>
                <a:lnTo>
                  <a:pt x="116898" y="55045"/>
                </a:lnTo>
                <a:cubicBezTo>
                  <a:pt x="34313" y="55045"/>
                  <a:pt x="34313" y="55045"/>
                  <a:pt x="34313" y="55045"/>
                </a:cubicBezTo>
                <a:cubicBezTo>
                  <a:pt x="54281" y="32366"/>
                  <a:pt x="54281" y="32366"/>
                  <a:pt x="54281" y="32366"/>
                </a:cubicBezTo>
                <a:cubicBezTo>
                  <a:pt x="56995" y="29064"/>
                  <a:pt x="56995" y="29064"/>
                  <a:pt x="54281" y="25981"/>
                </a:cubicBezTo>
                <a:cubicBezTo>
                  <a:pt x="54281" y="25981"/>
                  <a:pt x="51373" y="25981"/>
                  <a:pt x="48465" y="25981"/>
                </a:cubicBezTo>
                <a:cubicBezTo>
                  <a:pt x="22875" y="55045"/>
                  <a:pt x="22875" y="55045"/>
                  <a:pt x="22875" y="55045"/>
                </a:cubicBezTo>
                <a:cubicBezTo>
                  <a:pt x="22875" y="58348"/>
                  <a:pt x="22875" y="58348"/>
                  <a:pt x="22875" y="58348"/>
                </a:cubicBezTo>
                <a:cubicBezTo>
                  <a:pt x="22875" y="61651"/>
                  <a:pt x="22875" y="61651"/>
                  <a:pt x="22875" y="61651"/>
                </a:cubicBezTo>
                <a:cubicBezTo>
                  <a:pt x="48465" y="94018"/>
                  <a:pt x="48465" y="94018"/>
                  <a:pt x="48465" y="94018"/>
                </a:cubicBezTo>
                <a:cubicBezTo>
                  <a:pt x="51373" y="94018"/>
                  <a:pt x="54281" y="94018"/>
                  <a:pt x="54281" y="94018"/>
                </a:cubicBezTo>
                <a:cubicBezTo>
                  <a:pt x="56995" y="90715"/>
                  <a:pt x="56995" y="87412"/>
                  <a:pt x="54281" y="87412"/>
                </a:cubicBezTo>
                <a:cubicBezTo>
                  <a:pt x="34313" y="64733"/>
                  <a:pt x="34313" y="64733"/>
                  <a:pt x="34313" y="64733"/>
                </a:cubicBezTo>
                <a:cubicBezTo>
                  <a:pt x="116898" y="64733"/>
                  <a:pt x="116898" y="64733"/>
                  <a:pt x="116898" y="64733"/>
                </a:cubicBezTo>
                <a:cubicBezTo>
                  <a:pt x="119806" y="64733"/>
                  <a:pt x="119806" y="61651"/>
                  <a:pt x="119806" y="58348"/>
                </a:cubicBezTo>
                <a:cubicBezTo>
                  <a:pt x="119806" y="58348"/>
                  <a:pt x="119806" y="55045"/>
                  <a:pt x="116898" y="55045"/>
                </a:cubicBezTo>
                <a:close/>
                <a:moveTo>
                  <a:pt x="96930" y="103706"/>
                </a:moveTo>
                <a:lnTo>
                  <a:pt x="96930" y="103706"/>
                </a:lnTo>
                <a:cubicBezTo>
                  <a:pt x="96930" y="107009"/>
                  <a:pt x="94216" y="110091"/>
                  <a:pt x="91308" y="110091"/>
                </a:cubicBezTo>
                <a:cubicBezTo>
                  <a:pt x="14151" y="110091"/>
                  <a:pt x="14151" y="110091"/>
                  <a:pt x="14151" y="110091"/>
                </a:cubicBezTo>
                <a:cubicBezTo>
                  <a:pt x="11437" y="110091"/>
                  <a:pt x="5621" y="107009"/>
                  <a:pt x="5621" y="103706"/>
                </a:cubicBezTo>
                <a:cubicBezTo>
                  <a:pt x="5621" y="16073"/>
                  <a:pt x="5621" y="16073"/>
                  <a:pt x="5621" y="16073"/>
                </a:cubicBezTo>
                <a:cubicBezTo>
                  <a:pt x="5621" y="12990"/>
                  <a:pt x="11437" y="6385"/>
                  <a:pt x="14151" y="6385"/>
                </a:cubicBezTo>
                <a:cubicBezTo>
                  <a:pt x="91308" y="6385"/>
                  <a:pt x="91308" y="6385"/>
                  <a:pt x="91308" y="6385"/>
                </a:cubicBezTo>
                <a:cubicBezTo>
                  <a:pt x="94216" y="6385"/>
                  <a:pt x="96930" y="12990"/>
                  <a:pt x="96930" y="16073"/>
                </a:cubicBezTo>
                <a:cubicBezTo>
                  <a:pt x="96930" y="29064"/>
                  <a:pt x="96930" y="29064"/>
                  <a:pt x="96930" y="29064"/>
                </a:cubicBezTo>
                <a:cubicBezTo>
                  <a:pt x="105654" y="29064"/>
                  <a:pt x="105654" y="29064"/>
                  <a:pt x="105654" y="29064"/>
                </a:cubicBezTo>
                <a:cubicBezTo>
                  <a:pt x="105654" y="16073"/>
                  <a:pt x="105654" y="16073"/>
                  <a:pt x="105654" y="16073"/>
                </a:cubicBezTo>
                <a:cubicBezTo>
                  <a:pt x="105654" y="6385"/>
                  <a:pt x="99838" y="0"/>
                  <a:pt x="91308" y="0"/>
                </a:cubicBezTo>
                <a:cubicBezTo>
                  <a:pt x="14151" y="0"/>
                  <a:pt x="14151" y="0"/>
                  <a:pt x="14151" y="0"/>
                </a:cubicBezTo>
                <a:cubicBezTo>
                  <a:pt x="5621" y="0"/>
                  <a:pt x="0" y="6385"/>
                  <a:pt x="0" y="16073"/>
                </a:cubicBezTo>
                <a:cubicBezTo>
                  <a:pt x="0" y="103706"/>
                  <a:pt x="0" y="103706"/>
                  <a:pt x="0" y="103706"/>
                </a:cubicBezTo>
                <a:cubicBezTo>
                  <a:pt x="0" y="113394"/>
                  <a:pt x="5621" y="119779"/>
                  <a:pt x="14151" y="119779"/>
                </a:cubicBezTo>
                <a:cubicBezTo>
                  <a:pt x="91308" y="119779"/>
                  <a:pt x="91308" y="119779"/>
                  <a:pt x="91308" y="119779"/>
                </a:cubicBezTo>
                <a:cubicBezTo>
                  <a:pt x="99838" y="119779"/>
                  <a:pt x="105654" y="113394"/>
                  <a:pt x="105654" y="103706"/>
                </a:cubicBezTo>
                <a:cubicBezTo>
                  <a:pt x="105654" y="90715"/>
                  <a:pt x="105654" y="90715"/>
                  <a:pt x="105654" y="90715"/>
                </a:cubicBezTo>
                <a:cubicBezTo>
                  <a:pt x="96930" y="90715"/>
                  <a:pt x="96930" y="90715"/>
                  <a:pt x="96930" y="90715"/>
                </a:cubicBezTo>
                <a:lnTo>
                  <a:pt x="96930" y="10370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4638"/>
          <p:cNvSpPr/>
          <p:nvPr/>
        </p:nvSpPr>
        <p:spPr>
          <a:xfrm>
            <a:off x="8451720" y="2170080"/>
            <a:ext cx="262080" cy="263520"/>
          </a:xfrm>
          <a:custGeom>
            <a:avLst/>
            <a:gdLst>
              <a:gd name="textAreaLeft" fmla="*/ 0 w 262080"/>
              <a:gd name="textAreaRight" fmla="*/ 262440 w 262080"/>
              <a:gd name="textAreaTop" fmla="*/ 0 h 263520"/>
              <a:gd name="textAreaBottom" fmla="*/ 263880 h 263520"/>
            </a:gdLst>
            <a:ahLst/>
            <a:rect l="textAreaLeft" t="textAreaTop" r="textAreaRight" b="textAreaBottom"/>
            <a:pathLst>
              <a:path w="120000" h="120000">
                <a:moveTo>
                  <a:pt x="116697" y="0"/>
                </a:moveTo>
                <a:lnTo>
                  <a:pt x="116697" y="0"/>
                </a:lnTo>
                <a:cubicBezTo>
                  <a:pt x="84110" y="0"/>
                  <a:pt x="84110" y="0"/>
                  <a:pt x="84110" y="0"/>
                </a:cubicBezTo>
                <a:cubicBezTo>
                  <a:pt x="84110" y="0"/>
                  <a:pt x="81027" y="0"/>
                  <a:pt x="81027" y="3082"/>
                </a:cubicBezTo>
                <a:cubicBezTo>
                  <a:pt x="81027" y="6385"/>
                  <a:pt x="84110" y="6385"/>
                  <a:pt x="84110" y="6385"/>
                </a:cubicBezTo>
                <a:cubicBezTo>
                  <a:pt x="103706" y="6385"/>
                  <a:pt x="103706" y="6385"/>
                  <a:pt x="103706" y="6385"/>
                </a:cubicBezTo>
                <a:cubicBezTo>
                  <a:pt x="38972" y="68036"/>
                  <a:pt x="38972" y="68036"/>
                  <a:pt x="38972" y="68036"/>
                </a:cubicBezTo>
                <a:cubicBezTo>
                  <a:pt x="38972" y="71339"/>
                  <a:pt x="38972" y="74642"/>
                  <a:pt x="38972" y="74642"/>
                </a:cubicBezTo>
                <a:cubicBezTo>
                  <a:pt x="42055" y="77724"/>
                  <a:pt x="42055" y="77724"/>
                  <a:pt x="45357" y="74642"/>
                </a:cubicBezTo>
                <a:cubicBezTo>
                  <a:pt x="110091" y="12990"/>
                  <a:pt x="110091" y="12990"/>
                  <a:pt x="110091" y="12990"/>
                </a:cubicBezTo>
                <a:cubicBezTo>
                  <a:pt x="110091" y="32366"/>
                  <a:pt x="110091" y="32366"/>
                  <a:pt x="110091" y="32366"/>
                </a:cubicBezTo>
                <a:cubicBezTo>
                  <a:pt x="110091" y="35669"/>
                  <a:pt x="113394" y="38972"/>
                  <a:pt x="116697" y="38972"/>
                </a:cubicBezTo>
                <a:cubicBezTo>
                  <a:pt x="116697" y="38972"/>
                  <a:pt x="119779" y="35669"/>
                  <a:pt x="119779" y="32366"/>
                </a:cubicBezTo>
                <a:cubicBezTo>
                  <a:pt x="119779" y="3082"/>
                  <a:pt x="119779" y="3082"/>
                  <a:pt x="119779" y="3082"/>
                </a:cubicBezTo>
                <a:cubicBezTo>
                  <a:pt x="119779" y="0"/>
                  <a:pt x="116697" y="0"/>
                  <a:pt x="116697" y="0"/>
                </a:cubicBezTo>
                <a:close/>
                <a:moveTo>
                  <a:pt x="110091" y="103706"/>
                </a:moveTo>
                <a:lnTo>
                  <a:pt x="110091" y="103706"/>
                </a:lnTo>
                <a:cubicBezTo>
                  <a:pt x="110091" y="107009"/>
                  <a:pt x="107009" y="110091"/>
                  <a:pt x="103706" y="110091"/>
                </a:cubicBezTo>
                <a:cubicBezTo>
                  <a:pt x="16073" y="110091"/>
                  <a:pt x="16073" y="110091"/>
                  <a:pt x="16073" y="110091"/>
                </a:cubicBezTo>
                <a:cubicBezTo>
                  <a:pt x="9688" y="110091"/>
                  <a:pt x="6385" y="107009"/>
                  <a:pt x="6385" y="103706"/>
                </a:cubicBezTo>
                <a:cubicBezTo>
                  <a:pt x="6385" y="16073"/>
                  <a:pt x="6385" y="16073"/>
                  <a:pt x="6385" y="16073"/>
                </a:cubicBezTo>
                <a:cubicBezTo>
                  <a:pt x="6385" y="12990"/>
                  <a:pt x="12990" y="6385"/>
                  <a:pt x="16073" y="6385"/>
                </a:cubicBezTo>
                <a:cubicBezTo>
                  <a:pt x="64733" y="6385"/>
                  <a:pt x="64733" y="6385"/>
                  <a:pt x="64733" y="6385"/>
                </a:cubicBezTo>
                <a:cubicBezTo>
                  <a:pt x="64733" y="0"/>
                  <a:pt x="64733" y="0"/>
                  <a:pt x="64733" y="0"/>
                </a:cubicBezTo>
                <a:cubicBezTo>
                  <a:pt x="16073" y="0"/>
                  <a:pt x="16073" y="0"/>
                  <a:pt x="16073" y="0"/>
                </a:cubicBezTo>
                <a:cubicBezTo>
                  <a:pt x="6385" y="0"/>
                  <a:pt x="0" y="9688"/>
                  <a:pt x="0" y="19376"/>
                </a:cubicBezTo>
                <a:cubicBezTo>
                  <a:pt x="0" y="103706"/>
                  <a:pt x="0" y="103706"/>
                  <a:pt x="0" y="103706"/>
                </a:cubicBezTo>
                <a:cubicBezTo>
                  <a:pt x="0" y="113394"/>
                  <a:pt x="6385" y="119779"/>
                  <a:pt x="16073" y="119779"/>
                </a:cubicBezTo>
                <a:cubicBezTo>
                  <a:pt x="100403" y="119779"/>
                  <a:pt x="100403" y="119779"/>
                  <a:pt x="100403" y="119779"/>
                </a:cubicBezTo>
                <a:cubicBezTo>
                  <a:pt x="110091" y="119779"/>
                  <a:pt x="119779" y="113394"/>
                  <a:pt x="119779" y="103706"/>
                </a:cubicBezTo>
                <a:cubicBezTo>
                  <a:pt x="119779" y="55045"/>
                  <a:pt x="119779" y="55045"/>
                  <a:pt x="119779" y="55045"/>
                </a:cubicBezTo>
                <a:cubicBezTo>
                  <a:pt x="110091" y="55045"/>
                  <a:pt x="110091" y="55045"/>
                  <a:pt x="110091" y="55045"/>
                </a:cubicBezTo>
                <a:lnTo>
                  <a:pt x="110091" y="10370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4640"/>
          <p:cNvSpPr/>
          <p:nvPr/>
        </p:nvSpPr>
        <p:spPr>
          <a:xfrm>
            <a:off x="7446960" y="2149560"/>
            <a:ext cx="306360" cy="304560"/>
          </a:xfrm>
          <a:custGeom>
            <a:avLst/>
            <a:gdLst>
              <a:gd name="textAreaLeft" fmla="*/ 0 w 306360"/>
              <a:gd name="textAreaRight" fmla="*/ 306720 w 306360"/>
              <a:gd name="textAreaTop" fmla="*/ 0 h 304560"/>
              <a:gd name="textAreaBottom" fmla="*/ 304920 h 304560"/>
            </a:gdLst>
            <a:ahLst/>
            <a:rect l="textAreaLeft" t="textAreaTop" r="textAreaRight" b="textAreaBottom"/>
            <a:pathLst>
              <a:path w="120000" h="120000">
                <a:moveTo>
                  <a:pt x="83659" y="102965"/>
                </a:moveTo>
                <a:lnTo>
                  <a:pt x="83659" y="102965"/>
                </a:lnTo>
                <a:cubicBezTo>
                  <a:pt x="83659" y="108643"/>
                  <a:pt x="77981" y="111293"/>
                  <a:pt x="75331" y="111293"/>
                </a:cubicBezTo>
                <a:cubicBezTo>
                  <a:pt x="16845" y="111293"/>
                  <a:pt x="16845" y="111293"/>
                  <a:pt x="16845" y="111293"/>
                </a:cubicBezTo>
                <a:cubicBezTo>
                  <a:pt x="11167" y="111293"/>
                  <a:pt x="8328" y="108643"/>
                  <a:pt x="8328" y="102965"/>
                </a:cubicBezTo>
                <a:cubicBezTo>
                  <a:pt x="8328" y="44479"/>
                  <a:pt x="8328" y="44479"/>
                  <a:pt x="8328" y="44479"/>
                </a:cubicBezTo>
                <a:cubicBezTo>
                  <a:pt x="8328" y="41829"/>
                  <a:pt x="11167" y="36151"/>
                  <a:pt x="16845" y="36151"/>
                </a:cubicBezTo>
                <a:cubicBezTo>
                  <a:pt x="22334" y="36151"/>
                  <a:pt x="22334" y="36151"/>
                  <a:pt x="22334" y="36151"/>
                </a:cubicBezTo>
                <a:cubicBezTo>
                  <a:pt x="22334" y="30662"/>
                  <a:pt x="22334" y="30662"/>
                  <a:pt x="22334" y="30662"/>
                </a:cubicBezTo>
                <a:cubicBezTo>
                  <a:pt x="16845" y="30662"/>
                  <a:pt x="16845" y="30662"/>
                  <a:pt x="16845" y="30662"/>
                </a:cubicBezTo>
                <a:cubicBezTo>
                  <a:pt x="8328" y="30662"/>
                  <a:pt x="0" y="36151"/>
                  <a:pt x="0" y="44479"/>
                </a:cubicBezTo>
                <a:cubicBezTo>
                  <a:pt x="0" y="102965"/>
                  <a:pt x="0" y="102965"/>
                  <a:pt x="0" y="102965"/>
                </a:cubicBezTo>
                <a:cubicBezTo>
                  <a:pt x="0" y="111293"/>
                  <a:pt x="8328" y="119810"/>
                  <a:pt x="16845" y="119810"/>
                </a:cubicBezTo>
                <a:cubicBezTo>
                  <a:pt x="75331" y="119810"/>
                  <a:pt x="75331" y="119810"/>
                  <a:pt x="75331" y="119810"/>
                </a:cubicBezTo>
                <a:cubicBezTo>
                  <a:pt x="83659" y="119810"/>
                  <a:pt x="89148" y="111293"/>
                  <a:pt x="89148" y="102965"/>
                </a:cubicBezTo>
                <a:cubicBezTo>
                  <a:pt x="89148" y="97476"/>
                  <a:pt x="89148" y="97476"/>
                  <a:pt x="89148" y="97476"/>
                </a:cubicBezTo>
                <a:cubicBezTo>
                  <a:pt x="83659" y="97476"/>
                  <a:pt x="83659" y="97476"/>
                  <a:pt x="83659" y="97476"/>
                </a:cubicBezTo>
                <a:lnTo>
                  <a:pt x="83659" y="102965"/>
                </a:lnTo>
                <a:close/>
                <a:moveTo>
                  <a:pt x="105993" y="0"/>
                </a:moveTo>
                <a:lnTo>
                  <a:pt x="105993" y="0"/>
                </a:lnTo>
                <a:cubicBezTo>
                  <a:pt x="44668" y="0"/>
                  <a:pt x="44668" y="0"/>
                  <a:pt x="44668" y="0"/>
                </a:cubicBezTo>
                <a:cubicBezTo>
                  <a:pt x="36340" y="0"/>
                  <a:pt x="30662" y="5488"/>
                  <a:pt x="30662" y="13817"/>
                </a:cubicBezTo>
                <a:cubicBezTo>
                  <a:pt x="30662" y="75141"/>
                  <a:pt x="30662" y="75141"/>
                  <a:pt x="30662" y="75141"/>
                </a:cubicBezTo>
                <a:cubicBezTo>
                  <a:pt x="30662" y="83470"/>
                  <a:pt x="36340" y="89148"/>
                  <a:pt x="44668" y="89148"/>
                </a:cubicBezTo>
                <a:cubicBezTo>
                  <a:pt x="105993" y="89148"/>
                  <a:pt x="105993" y="89148"/>
                  <a:pt x="105993" y="89148"/>
                </a:cubicBezTo>
                <a:cubicBezTo>
                  <a:pt x="114321" y="89148"/>
                  <a:pt x="119810" y="83470"/>
                  <a:pt x="119810" y="75141"/>
                </a:cubicBezTo>
                <a:cubicBezTo>
                  <a:pt x="119810" y="13817"/>
                  <a:pt x="119810" y="13817"/>
                  <a:pt x="119810" y="13817"/>
                </a:cubicBezTo>
                <a:cubicBezTo>
                  <a:pt x="119810" y="5488"/>
                  <a:pt x="114321" y="0"/>
                  <a:pt x="105993" y="0"/>
                </a:cubicBezTo>
                <a:close/>
                <a:moveTo>
                  <a:pt x="111482" y="75141"/>
                </a:moveTo>
                <a:lnTo>
                  <a:pt x="111482" y="75141"/>
                </a:lnTo>
                <a:cubicBezTo>
                  <a:pt x="111482" y="77981"/>
                  <a:pt x="108643" y="80630"/>
                  <a:pt x="105993" y="80630"/>
                </a:cubicBezTo>
                <a:cubicBezTo>
                  <a:pt x="44668" y="80630"/>
                  <a:pt x="44668" y="80630"/>
                  <a:pt x="44668" y="80630"/>
                </a:cubicBezTo>
                <a:cubicBezTo>
                  <a:pt x="41829" y="80630"/>
                  <a:pt x="39179" y="77981"/>
                  <a:pt x="39179" y="75141"/>
                </a:cubicBezTo>
                <a:cubicBezTo>
                  <a:pt x="39179" y="13817"/>
                  <a:pt x="39179" y="13817"/>
                  <a:pt x="39179" y="13817"/>
                </a:cubicBezTo>
                <a:cubicBezTo>
                  <a:pt x="39179" y="10977"/>
                  <a:pt x="41829" y="8328"/>
                  <a:pt x="44668" y="8328"/>
                </a:cubicBezTo>
                <a:cubicBezTo>
                  <a:pt x="105993" y="8328"/>
                  <a:pt x="105993" y="8328"/>
                  <a:pt x="105993" y="8328"/>
                </a:cubicBezTo>
                <a:cubicBezTo>
                  <a:pt x="108643" y="8328"/>
                  <a:pt x="111482" y="10977"/>
                  <a:pt x="111482" y="13817"/>
                </a:cubicBezTo>
                <a:lnTo>
                  <a:pt x="111482" y="75141"/>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4642"/>
          <p:cNvSpPr/>
          <p:nvPr/>
        </p:nvSpPr>
        <p:spPr>
          <a:xfrm>
            <a:off x="6485040" y="2170080"/>
            <a:ext cx="269640" cy="263520"/>
          </a:xfrm>
          <a:custGeom>
            <a:avLst/>
            <a:gdLst>
              <a:gd name="textAreaLeft" fmla="*/ 0 w 269640"/>
              <a:gd name="textAreaRight" fmla="*/ 270000 w 269640"/>
              <a:gd name="textAreaTop" fmla="*/ 0 h 263520"/>
              <a:gd name="textAreaBottom" fmla="*/ 263880 h 263520"/>
            </a:gdLst>
            <a:ahLst/>
            <a:rect l="textAreaLeft" t="textAreaTop" r="textAreaRight" b="textAreaBottom"/>
            <a:pathLst>
              <a:path w="120000" h="120000">
                <a:moveTo>
                  <a:pt x="34652" y="68036"/>
                </a:moveTo>
                <a:lnTo>
                  <a:pt x="34652" y="68036"/>
                </a:lnTo>
                <a:cubicBezTo>
                  <a:pt x="19037" y="68036"/>
                  <a:pt x="19037" y="68036"/>
                  <a:pt x="19037" y="68036"/>
                </a:cubicBezTo>
                <a:cubicBezTo>
                  <a:pt x="9411" y="68036"/>
                  <a:pt x="0" y="74642"/>
                  <a:pt x="0" y="84110"/>
                </a:cubicBezTo>
                <a:cubicBezTo>
                  <a:pt x="0" y="103706"/>
                  <a:pt x="0" y="103706"/>
                  <a:pt x="0" y="103706"/>
                </a:cubicBezTo>
                <a:cubicBezTo>
                  <a:pt x="0" y="113394"/>
                  <a:pt x="9411" y="119779"/>
                  <a:pt x="19037" y="119779"/>
                </a:cubicBezTo>
                <a:cubicBezTo>
                  <a:pt x="34652" y="119779"/>
                  <a:pt x="34652" y="119779"/>
                  <a:pt x="34652" y="119779"/>
                </a:cubicBezTo>
                <a:cubicBezTo>
                  <a:pt x="44064" y="119779"/>
                  <a:pt x="50481" y="113394"/>
                  <a:pt x="50481" y="103706"/>
                </a:cubicBezTo>
                <a:cubicBezTo>
                  <a:pt x="50481" y="84110"/>
                  <a:pt x="50481" y="84110"/>
                  <a:pt x="50481" y="84110"/>
                </a:cubicBezTo>
                <a:cubicBezTo>
                  <a:pt x="50481" y="74642"/>
                  <a:pt x="44064" y="68036"/>
                  <a:pt x="34652" y="68036"/>
                </a:cubicBezTo>
                <a:close/>
                <a:moveTo>
                  <a:pt x="44064" y="103706"/>
                </a:moveTo>
                <a:lnTo>
                  <a:pt x="44064" y="103706"/>
                </a:lnTo>
                <a:cubicBezTo>
                  <a:pt x="44064" y="107009"/>
                  <a:pt x="37860" y="110091"/>
                  <a:pt x="34652" y="110091"/>
                </a:cubicBezTo>
                <a:cubicBezTo>
                  <a:pt x="19037" y="110091"/>
                  <a:pt x="19037" y="110091"/>
                  <a:pt x="19037" y="110091"/>
                </a:cubicBezTo>
                <a:cubicBezTo>
                  <a:pt x="12620" y="110091"/>
                  <a:pt x="9411" y="107009"/>
                  <a:pt x="9411" y="103706"/>
                </a:cubicBezTo>
                <a:cubicBezTo>
                  <a:pt x="9411" y="84110"/>
                  <a:pt x="9411" y="84110"/>
                  <a:pt x="9411" y="84110"/>
                </a:cubicBezTo>
                <a:cubicBezTo>
                  <a:pt x="9411" y="81027"/>
                  <a:pt x="12620" y="77724"/>
                  <a:pt x="19037" y="77724"/>
                </a:cubicBezTo>
                <a:cubicBezTo>
                  <a:pt x="34652" y="77724"/>
                  <a:pt x="34652" y="77724"/>
                  <a:pt x="34652" y="77724"/>
                </a:cubicBezTo>
                <a:cubicBezTo>
                  <a:pt x="37860" y="77724"/>
                  <a:pt x="44064" y="81027"/>
                  <a:pt x="44064" y="84110"/>
                </a:cubicBezTo>
                <a:lnTo>
                  <a:pt x="44064" y="103706"/>
                </a:lnTo>
                <a:close/>
                <a:moveTo>
                  <a:pt x="34652" y="0"/>
                </a:moveTo>
                <a:lnTo>
                  <a:pt x="34652" y="0"/>
                </a:lnTo>
                <a:cubicBezTo>
                  <a:pt x="19037" y="0"/>
                  <a:pt x="19037" y="0"/>
                  <a:pt x="19037" y="0"/>
                </a:cubicBezTo>
                <a:cubicBezTo>
                  <a:pt x="9411" y="0"/>
                  <a:pt x="0" y="6385"/>
                  <a:pt x="0" y="16073"/>
                </a:cubicBezTo>
                <a:cubicBezTo>
                  <a:pt x="0" y="32366"/>
                  <a:pt x="0" y="32366"/>
                  <a:pt x="0" y="32366"/>
                </a:cubicBezTo>
                <a:cubicBezTo>
                  <a:pt x="0" y="42055"/>
                  <a:pt x="9411" y="51743"/>
                  <a:pt x="19037" y="51743"/>
                </a:cubicBezTo>
                <a:cubicBezTo>
                  <a:pt x="34652" y="51743"/>
                  <a:pt x="34652" y="51743"/>
                  <a:pt x="34652" y="51743"/>
                </a:cubicBezTo>
                <a:cubicBezTo>
                  <a:pt x="44064" y="51743"/>
                  <a:pt x="50481" y="42055"/>
                  <a:pt x="50481" y="32366"/>
                </a:cubicBezTo>
                <a:cubicBezTo>
                  <a:pt x="50481" y="16073"/>
                  <a:pt x="50481" y="16073"/>
                  <a:pt x="50481" y="16073"/>
                </a:cubicBezTo>
                <a:cubicBezTo>
                  <a:pt x="50481" y="6385"/>
                  <a:pt x="44064" y="0"/>
                  <a:pt x="34652" y="0"/>
                </a:cubicBezTo>
                <a:close/>
                <a:moveTo>
                  <a:pt x="44064" y="32366"/>
                </a:moveTo>
                <a:lnTo>
                  <a:pt x="44064" y="32366"/>
                </a:lnTo>
                <a:cubicBezTo>
                  <a:pt x="44064" y="38972"/>
                  <a:pt x="37860" y="42055"/>
                  <a:pt x="34652" y="42055"/>
                </a:cubicBezTo>
                <a:cubicBezTo>
                  <a:pt x="19037" y="42055"/>
                  <a:pt x="19037" y="42055"/>
                  <a:pt x="19037" y="42055"/>
                </a:cubicBezTo>
                <a:cubicBezTo>
                  <a:pt x="12620" y="42055"/>
                  <a:pt x="9411" y="38972"/>
                  <a:pt x="9411" y="32366"/>
                </a:cubicBezTo>
                <a:cubicBezTo>
                  <a:pt x="9411" y="16073"/>
                  <a:pt x="9411" y="16073"/>
                  <a:pt x="9411" y="16073"/>
                </a:cubicBezTo>
                <a:cubicBezTo>
                  <a:pt x="9411" y="12990"/>
                  <a:pt x="12620" y="6385"/>
                  <a:pt x="19037" y="6385"/>
                </a:cubicBezTo>
                <a:cubicBezTo>
                  <a:pt x="34652" y="6385"/>
                  <a:pt x="34652" y="6385"/>
                  <a:pt x="34652" y="6385"/>
                </a:cubicBezTo>
                <a:cubicBezTo>
                  <a:pt x="37860" y="6385"/>
                  <a:pt x="44064" y="12990"/>
                  <a:pt x="44064" y="16073"/>
                </a:cubicBezTo>
                <a:lnTo>
                  <a:pt x="44064" y="32366"/>
                </a:lnTo>
                <a:close/>
                <a:moveTo>
                  <a:pt x="100748" y="68036"/>
                </a:moveTo>
                <a:lnTo>
                  <a:pt x="100748" y="68036"/>
                </a:lnTo>
                <a:cubicBezTo>
                  <a:pt x="85133" y="68036"/>
                  <a:pt x="85133" y="68036"/>
                  <a:pt x="85133" y="68036"/>
                </a:cubicBezTo>
                <a:cubicBezTo>
                  <a:pt x="75508" y="68036"/>
                  <a:pt x="69304" y="74642"/>
                  <a:pt x="69304" y="84110"/>
                </a:cubicBezTo>
                <a:cubicBezTo>
                  <a:pt x="69304" y="103706"/>
                  <a:pt x="69304" y="103706"/>
                  <a:pt x="69304" y="103706"/>
                </a:cubicBezTo>
                <a:cubicBezTo>
                  <a:pt x="69304" y="113394"/>
                  <a:pt x="75508" y="119779"/>
                  <a:pt x="85133" y="119779"/>
                </a:cubicBezTo>
                <a:cubicBezTo>
                  <a:pt x="100748" y="119779"/>
                  <a:pt x="100748" y="119779"/>
                  <a:pt x="100748" y="119779"/>
                </a:cubicBezTo>
                <a:cubicBezTo>
                  <a:pt x="110160" y="119779"/>
                  <a:pt x="119786" y="113394"/>
                  <a:pt x="119786" y="103706"/>
                </a:cubicBezTo>
                <a:cubicBezTo>
                  <a:pt x="119786" y="84110"/>
                  <a:pt x="119786" y="84110"/>
                  <a:pt x="119786" y="84110"/>
                </a:cubicBezTo>
                <a:cubicBezTo>
                  <a:pt x="119786" y="74642"/>
                  <a:pt x="110160" y="68036"/>
                  <a:pt x="100748" y="68036"/>
                </a:cubicBezTo>
                <a:close/>
                <a:moveTo>
                  <a:pt x="110160" y="103706"/>
                </a:moveTo>
                <a:lnTo>
                  <a:pt x="110160" y="103706"/>
                </a:lnTo>
                <a:cubicBezTo>
                  <a:pt x="110160" y="107009"/>
                  <a:pt x="107165" y="110091"/>
                  <a:pt x="100748" y="110091"/>
                </a:cubicBezTo>
                <a:cubicBezTo>
                  <a:pt x="85133" y="110091"/>
                  <a:pt x="85133" y="110091"/>
                  <a:pt x="85133" y="110091"/>
                </a:cubicBezTo>
                <a:cubicBezTo>
                  <a:pt x="81925" y="110091"/>
                  <a:pt x="75508" y="107009"/>
                  <a:pt x="75508" y="103706"/>
                </a:cubicBezTo>
                <a:cubicBezTo>
                  <a:pt x="75508" y="84110"/>
                  <a:pt x="75508" y="84110"/>
                  <a:pt x="75508" y="84110"/>
                </a:cubicBezTo>
                <a:cubicBezTo>
                  <a:pt x="75508" y="81027"/>
                  <a:pt x="81925" y="77724"/>
                  <a:pt x="85133" y="77724"/>
                </a:cubicBezTo>
                <a:cubicBezTo>
                  <a:pt x="100748" y="77724"/>
                  <a:pt x="100748" y="77724"/>
                  <a:pt x="100748" y="77724"/>
                </a:cubicBezTo>
                <a:cubicBezTo>
                  <a:pt x="107165" y="77724"/>
                  <a:pt x="110160" y="81027"/>
                  <a:pt x="110160" y="84110"/>
                </a:cubicBezTo>
                <a:lnTo>
                  <a:pt x="110160" y="103706"/>
                </a:lnTo>
                <a:close/>
                <a:moveTo>
                  <a:pt x="100748" y="0"/>
                </a:moveTo>
                <a:lnTo>
                  <a:pt x="100748" y="0"/>
                </a:lnTo>
                <a:cubicBezTo>
                  <a:pt x="85133" y="0"/>
                  <a:pt x="85133" y="0"/>
                  <a:pt x="85133" y="0"/>
                </a:cubicBezTo>
                <a:cubicBezTo>
                  <a:pt x="75508" y="0"/>
                  <a:pt x="69304" y="6385"/>
                  <a:pt x="69304" y="16073"/>
                </a:cubicBezTo>
                <a:cubicBezTo>
                  <a:pt x="69304" y="32366"/>
                  <a:pt x="69304" y="32366"/>
                  <a:pt x="69304" y="32366"/>
                </a:cubicBezTo>
                <a:cubicBezTo>
                  <a:pt x="69304" y="42055"/>
                  <a:pt x="75508" y="51743"/>
                  <a:pt x="85133" y="51743"/>
                </a:cubicBezTo>
                <a:cubicBezTo>
                  <a:pt x="100748" y="51743"/>
                  <a:pt x="100748" y="51743"/>
                  <a:pt x="100748" y="51743"/>
                </a:cubicBezTo>
                <a:cubicBezTo>
                  <a:pt x="110160" y="51743"/>
                  <a:pt x="119786" y="42055"/>
                  <a:pt x="119786" y="32366"/>
                </a:cubicBezTo>
                <a:cubicBezTo>
                  <a:pt x="119786" y="16073"/>
                  <a:pt x="119786" y="16073"/>
                  <a:pt x="119786" y="16073"/>
                </a:cubicBezTo>
                <a:cubicBezTo>
                  <a:pt x="119786" y="6385"/>
                  <a:pt x="110160" y="0"/>
                  <a:pt x="100748" y="0"/>
                </a:cubicBezTo>
                <a:close/>
                <a:moveTo>
                  <a:pt x="110160" y="32366"/>
                </a:moveTo>
                <a:lnTo>
                  <a:pt x="110160" y="32366"/>
                </a:lnTo>
                <a:cubicBezTo>
                  <a:pt x="110160" y="38972"/>
                  <a:pt x="107165" y="42055"/>
                  <a:pt x="100748" y="42055"/>
                </a:cubicBezTo>
                <a:cubicBezTo>
                  <a:pt x="85133" y="42055"/>
                  <a:pt x="85133" y="42055"/>
                  <a:pt x="85133" y="42055"/>
                </a:cubicBezTo>
                <a:cubicBezTo>
                  <a:pt x="81925" y="42055"/>
                  <a:pt x="75508" y="38972"/>
                  <a:pt x="75508" y="32366"/>
                </a:cubicBezTo>
                <a:cubicBezTo>
                  <a:pt x="75508" y="16073"/>
                  <a:pt x="75508" y="16073"/>
                  <a:pt x="75508" y="16073"/>
                </a:cubicBezTo>
                <a:cubicBezTo>
                  <a:pt x="75508" y="12990"/>
                  <a:pt x="81925" y="6385"/>
                  <a:pt x="85133" y="6385"/>
                </a:cubicBezTo>
                <a:cubicBezTo>
                  <a:pt x="100748" y="6385"/>
                  <a:pt x="100748" y="6385"/>
                  <a:pt x="100748" y="6385"/>
                </a:cubicBezTo>
                <a:cubicBezTo>
                  <a:pt x="107165" y="6385"/>
                  <a:pt x="110160" y="12990"/>
                  <a:pt x="110160" y="16073"/>
                </a:cubicBezTo>
                <a:lnTo>
                  <a:pt x="110160" y="3236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4644"/>
          <p:cNvSpPr/>
          <p:nvPr/>
        </p:nvSpPr>
        <p:spPr>
          <a:xfrm>
            <a:off x="10391760" y="166068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0" y="14151"/>
                </a:moveTo>
                <a:lnTo>
                  <a:pt x="0" y="14151"/>
                </a:lnTo>
                <a:cubicBezTo>
                  <a:pt x="0" y="45557"/>
                  <a:pt x="0" y="45557"/>
                  <a:pt x="0" y="45557"/>
                </a:cubicBezTo>
                <a:cubicBezTo>
                  <a:pt x="8517" y="45557"/>
                  <a:pt x="8517" y="45557"/>
                  <a:pt x="8517" y="45557"/>
                </a:cubicBezTo>
                <a:cubicBezTo>
                  <a:pt x="8517" y="14151"/>
                  <a:pt x="8517" y="14151"/>
                  <a:pt x="8517" y="14151"/>
                </a:cubicBezTo>
                <a:cubicBezTo>
                  <a:pt x="8517" y="11437"/>
                  <a:pt x="11167" y="5621"/>
                  <a:pt x="16845" y="5621"/>
                </a:cubicBezTo>
                <a:cubicBezTo>
                  <a:pt x="44668" y="5621"/>
                  <a:pt x="44668" y="5621"/>
                  <a:pt x="44668" y="5621"/>
                </a:cubicBezTo>
                <a:cubicBezTo>
                  <a:pt x="44668" y="0"/>
                  <a:pt x="44668" y="0"/>
                  <a:pt x="44668" y="0"/>
                </a:cubicBezTo>
                <a:cubicBezTo>
                  <a:pt x="16845" y="0"/>
                  <a:pt x="16845" y="0"/>
                  <a:pt x="16845" y="0"/>
                </a:cubicBezTo>
                <a:cubicBezTo>
                  <a:pt x="8517" y="0"/>
                  <a:pt x="0" y="5621"/>
                  <a:pt x="0" y="14151"/>
                </a:cubicBezTo>
                <a:close/>
                <a:moveTo>
                  <a:pt x="8517" y="105654"/>
                </a:moveTo>
                <a:lnTo>
                  <a:pt x="8517" y="105654"/>
                </a:lnTo>
                <a:cubicBezTo>
                  <a:pt x="8517" y="74054"/>
                  <a:pt x="8517" y="74054"/>
                  <a:pt x="8517" y="74054"/>
                </a:cubicBezTo>
                <a:cubicBezTo>
                  <a:pt x="0" y="74054"/>
                  <a:pt x="0" y="74054"/>
                  <a:pt x="0" y="74054"/>
                </a:cubicBezTo>
                <a:cubicBezTo>
                  <a:pt x="0" y="105654"/>
                  <a:pt x="0" y="105654"/>
                  <a:pt x="0" y="105654"/>
                </a:cubicBezTo>
                <a:cubicBezTo>
                  <a:pt x="0" y="114184"/>
                  <a:pt x="8517" y="119806"/>
                  <a:pt x="16845" y="119806"/>
                </a:cubicBezTo>
                <a:cubicBezTo>
                  <a:pt x="44668" y="119806"/>
                  <a:pt x="44668" y="119806"/>
                  <a:pt x="44668" y="119806"/>
                </a:cubicBezTo>
                <a:cubicBezTo>
                  <a:pt x="44668" y="114184"/>
                  <a:pt x="44668" y="114184"/>
                  <a:pt x="44668" y="114184"/>
                </a:cubicBezTo>
                <a:cubicBezTo>
                  <a:pt x="16845" y="114184"/>
                  <a:pt x="16845" y="114184"/>
                  <a:pt x="16845" y="114184"/>
                </a:cubicBezTo>
                <a:cubicBezTo>
                  <a:pt x="11167" y="114184"/>
                  <a:pt x="8517" y="108368"/>
                  <a:pt x="8517" y="105654"/>
                </a:cubicBezTo>
                <a:close/>
                <a:moveTo>
                  <a:pt x="111482" y="105654"/>
                </a:moveTo>
                <a:lnTo>
                  <a:pt x="111482" y="105654"/>
                </a:lnTo>
                <a:cubicBezTo>
                  <a:pt x="111482" y="108368"/>
                  <a:pt x="108832" y="114184"/>
                  <a:pt x="105993" y="114184"/>
                </a:cubicBezTo>
                <a:cubicBezTo>
                  <a:pt x="75331" y="114184"/>
                  <a:pt x="75331" y="114184"/>
                  <a:pt x="75331" y="114184"/>
                </a:cubicBezTo>
                <a:cubicBezTo>
                  <a:pt x="75331" y="119806"/>
                  <a:pt x="75331" y="119806"/>
                  <a:pt x="75331" y="119806"/>
                </a:cubicBezTo>
                <a:cubicBezTo>
                  <a:pt x="105993" y="119806"/>
                  <a:pt x="105993" y="119806"/>
                  <a:pt x="105993" y="119806"/>
                </a:cubicBezTo>
                <a:cubicBezTo>
                  <a:pt x="114321" y="119806"/>
                  <a:pt x="119810" y="114184"/>
                  <a:pt x="119810" y="105654"/>
                </a:cubicBezTo>
                <a:cubicBezTo>
                  <a:pt x="119810" y="74054"/>
                  <a:pt x="119810" y="74054"/>
                  <a:pt x="119810" y="74054"/>
                </a:cubicBezTo>
                <a:cubicBezTo>
                  <a:pt x="111482" y="74054"/>
                  <a:pt x="111482" y="74054"/>
                  <a:pt x="111482" y="74054"/>
                </a:cubicBezTo>
                <a:lnTo>
                  <a:pt x="111482" y="105654"/>
                </a:lnTo>
                <a:close/>
                <a:moveTo>
                  <a:pt x="105993" y="0"/>
                </a:moveTo>
                <a:lnTo>
                  <a:pt x="105993" y="0"/>
                </a:lnTo>
                <a:cubicBezTo>
                  <a:pt x="75331" y="0"/>
                  <a:pt x="75331" y="0"/>
                  <a:pt x="75331" y="0"/>
                </a:cubicBezTo>
                <a:cubicBezTo>
                  <a:pt x="75331" y="5621"/>
                  <a:pt x="75331" y="5621"/>
                  <a:pt x="75331" y="5621"/>
                </a:cubicBezTo>
                <a:cubicBezTo>
                  <a:pt x="105993" y="5621"/>
                  <a:pt x="105993" y="5621"/>
                  <a:pt x="105993" y="5621"/>
                </a:cubicBezTo>
                <a:cubicBezTo>
                  <a:pt x="108832" y="5621"/>
                  <a:pt x="111482" y="11437"/>
                  <a:pt x="111482" y="14151"/>
                </a:cubicBezTo>
                <a:cubicBezTo>
                  <a:pt x="111482" y="45557"/>
                  <a:pt x="111482" y="45557"/>
                  <a:pt x="111482" y="45557"/>
                </a:cubicBezTo>
                <a:cubicBezTo>
                  <a:pt x="119810" y="45557"/>
                  <a:pt x="119810" y="45557"/>
                  <a:pt x="119810" y="45557"/>
                </a:cubicBezTo>
                <a:cubicBezTo>
                  <a:pt x="119810" y="14151"/>
                  <a:pt x="119810" y="14151"/>
                  <a:pt x="119810" y="14151"/>
                </a:cubicBezTo>
                <a:cubicBezTo>
                  <a:pt x="119810" y="5621"/>
                  <a:pt x="114321" y="0"/>
                  <a:pt x="105993"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4646"/>
          <p:cNvSpPr/>
          <p:nvPr/>
        </p:nvSpPr>
        <p:spPr>
          <a:xfrm>
            <a:off x="9421920" y="1652760"/>
            <a:ext cx="295200" cy="296640"/>
          </a:xfrm>
          <a:custGeom>
            <a:avLst/>
            <a:gdLst>
              <a:gd name="textAreaLeft" fmla="*/ 0 w 295200"/>
              <a:gd name="textAreaRight" fmla="*/ 295560 w 295200"/>
              <a:gd name="textAreaTop" fmla="*/ 0 h 296640"/>
              <a:gd name="textAreaBottom" fmla="*/ 297000 h 296640"/>
            </a:gdLst>
            <a:ahLst/>
            <a:rect l="textAreaLeft" t="textAreaTop" r="textAreaRight" b="textAreaBottom"/>
            <a:pathLst>
              <a:path w="120000" h="120000">
                <a:moveTo>
                  <a:pt x="94022" y="11437"/>
                </a:moveTo>
                <a:lnTo>
                  <a:pt x="94022" y="11437"/>
                </a:lnTo>
                <a:cubicBezTo>
                  <a:pt x="76962" y="0"/>
                  <a:pt x="54087" y="5815"/>
                  <a:pt x="42843" y="22875"/>
                </a:cubicBezTo>
                <a:cubicBezTo>
                  <a:pt x="28497" y="48465"/>
                  <a:pt x="28497" y="48465"/>
                  <a:pt x="28497" y="48465"/>
                </a:cubicBezTo>
                <a:cubicBezTo>
                  <a:pt x="0" y="68626"/>
                  <a:pt x="0" y="68626"/>
                  <a:pt x="0" y="68626"/>
                </a:cubicBezTo>
                <a:cubicBezTo>
                  <a:pt x="28497" y="85686"/>
                  <a:pt x="28497" y="85686"/>
                  <a:pt x="28497" y="85686"/>
                </a:cubicBezTo>
                <a:cubicBezTo>
                  <a:pt x="25589" y="94216"/>
                  <a:pt x="28497" y="105654"/>
                  <a:pt x="37027" y="111276"/>
                </a:cubicBezTo>
                <a:cubicBezTo>
                  <a:pt x="45557" y="114184"/>
                  <a:pt x="56995" y="111276"/>
                  <a:pt x="62810" y="102746"/>
                </a:cubicBezTo>
                <a:cubicBezTo>
                  <a:pt x="91308" y="119806"/>
                  <a:pt x="91308" y="119806"/>
                  <a:pt x="91308" y="119806"/>
                </a:cubicBezTo>
                <a:cubicBezTo>
                  <a:pt x="94022" y="85686"/>
                  <a:pt x="94022" y="85686"/>
                  <a:pt x="94022" y="85686"/>
                </a:cubicBezTo>
                <a:cubicBezTo>
                  <a:pt x="108368" y="59903"/>
                  <a:pt x="108368" y="59903"/>
                  <a:pt x="108368" y="59903"/>
                </a:cubicBezTo>
                <a:cubicBezTo>
                  <a:pt x="119806" y="42843"/>
                  <a:pt x="113990" y="19967"/>
                  <a:pt x="94022" y="11437"/>
                </a:cubicBezTo>
                <a:close/>
                <a:moveTo>
                  <a:pt x="39935" y="102746"/>
                </a:moveTo>
                <a:lnTo>
                  <a:pt x="39935" y="102746"/>
                </a:lnTo>
                <a:cubicBezTo>
                  <a:pt x="34119" y="99838"/>
                  <a:pt x="34119" y="94216"/>
                  <a:pt x="37027" y="88400"/>
                </a:cubicBezTo>
                <a:cubicBezTo>
                  <a:pt x="56995" y="99838"/>
                  <a:pt x="56995" y="99838"/>
                  <a:pt x="56995" y="99838"/>
                </a:cubicBezTo>
                <a:cubicBezTo>
                  <a:pt x="51373" y="105654"/>
                  <a:pt x="45557" y="105654"/>
                  <a:pt x="39935" y="102746"/>
                </a:cubicBezTo>
                <a:close/>
                <a:moveTo>
                  <a:pt x="102746" y="57189"/>
                </a:moveTo>
                <a:lnTo>
                  <a:pt x="102746" y="57189"/>
                </a:lnTo>
                <a:cubicBezTo>
                  <a:pt x="88400" y="82778"/>
                  <a:pt x="88400" y="82778"/>
                  <a:pt x="88400" y="82778"/>
                </a:cubicBezTo>
                <a:cubicBezTo>
                  <a:pt x="85492" y="108562"/>
                  <a:pt x="85492" y="108562"/>
                  <a:pt x="85492" y="108562"/>
                </a:cubicBezTo>
                <a:cubicBezTo>
                  <a:pt x="14151" y="68626"/>
                  <a:pt x="14151" y="68626"/>
                  <a:pt x="14151" y="68626"/>
                </a:cubicBezTo>
                <a:cubicBezTo>
                  <a:pt x="34119" y="54281"/>
                  <a:pt x="34119" y="54281"/>
                  <a:pt x="34119" y="54281"/>
                </a:cubicBezTo>
                <a:cubicBezTo>
                  <a:pt x="51373" y="28497"/>
                  <a:pt x="51373" y="28497"/>
                  <a:pt x="51373" y="28497"/>
                </a:cubicBezTo>
                <a:cubicBezTo>
                  <a:pt x="56995" y="14345"/>
                  <a:pt x="76962" y="8529"/>
                  <a:pt x="91308" y="17059"/>
                </a:cubicBezTo>
                <a:cubicBezTo>
                  <a:pt x="105460" y="25783"/>
                  <a:pt x="111276" y="42843"/>
                  <a:pt x="102746" y="5718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4648"/>
          <p:cNvSpPr/>
          <p:nvPr/>
        </p:nvSpPr>
        <p:spPr>
          <a:xfrm>
            <a:off x="8429760" y="1660680"/>
            <a:ext cx="304560" cy="298440"/>
          </a:xfrm>
          <a:custGeom>
            <a:avLst/>
            <a:gdLst>
              <a:gd name="textAreaLeft" fmla="*/ 0 w 304560"/>
              <a:gd name="textAreaRight" fmla="*/ 304920 w 304560"/>
              <a:gd name="textAreaTop" fmla="*/ 0 h 298440"/>
              <a:gd name="textAreaBottom" fmla="*/ 298800 h 298440"/>
            </a:gdLst>
            <a:ahLst/>
            <a:rect l="textAreaLeft" t="textAreaTop" r="textAreaRight" b="textAreaBottom"/>
            <a:pathLst>
              <a:path w="120000" h="120000">
                <a:moveTo>
                  <a:pt x="114132" y="96930"/>
                </a:moveTo>
                <a:lnTo>
                  <a:pt x="114132" y="96930"/>
                </a:lnTo>
                <a:cubicBezTo>
                  <a:pt x="102965" y="96930"/>
                  <a:pt x="102965" y="96930"/>
                  <a:pt x="102965" y="96930"/>
                </a:cubicBezTo>
                <a:cubicBezTo>
                  <a:pt x="102965" y="34313"/>
                  <a:pt x="102965" y="34313"/>
                  <a:pt x="102965" y="34313"/>
                </a:cubicBezTo>
                <a:cubicBezTo>
                  <a:pt x="97476" y="39935"/>
                  <a:pt x="97476" y="39935"/>
                  <a:pt x="97476" y="39935"/>
                </a:cubicBezTo>
                <a:cubicBezTo>
                  <a:pt x="97476" y="96930"/>
                  <a:pt x="97476" y="96930"/>
                  <a:pt x="97476" y="96930"/>
                </a:cubicBezTo>
                <a:cubicBezTo>
                  <a:pt x="27823" y="96930"/>
                  <a:pt x="27823" y="96930"/>
                  <a:pt x="27823" y="96930"/>
                </a:cubicBezTo>
                <a:cubicBezTo>
                  <a:pt x="108643" y="11437"/>
                  <a:pt x="108643" y="11437"/>
                  <a:pt x="108643" y="11437"/>
                </a:cubicBezTo>
                <a:cubicBezTo>
                  <a:pt x="102965" y="5621"/>
                  <a:pt x="102965" y="5621"/>
                  <a:pt x="102965" y="5621"/>
                </a:cubicBezTo>
                <a:cubicBezTo>
                  <a:pt x="22145" y="91308"/>
                  <a:pt x="22145" y="91308"/>
                  <a:pt x="22145" y="91308"/>
                </a:cubicBezTo>
                <a:cubicBezTo>
                  <a:pt x="22145" y="22875"/>
                  <a:pt x="22145" y="22875"/>
                  <a:pt x="22145" y="22875"/>
                </a:cubicBezTo>
                <a:cubicBezTo>
                  <a:pt x="75141" y="22875"/>
                  <a:pt x="75141" y="22875"/>
                  <a:pt x="75141" y="22875"/>
                </a:cubicBezTo>
                <a:cubicBezTo>
                  <a:pt x="80630" y="14151"/>
                  <a:pt x="80630" y="14151"/>
                  <a:pt x="80630" y="14151"/>
                </a:cubicBezTo>
                <a:cubicBezTo>
                  <a:pt x="22145" y="14151"/>
                  <a:pt x="22145" y="14151"/>
                  <a:pt x="22145" y="14151"/>
                </a:cubicBezTo>
                <a:cubicBezTo>
                  <a:pt x="22145" y="2907"/>
                  <a:pt x="22145" y="2907"/>
                  <a:pt x="22145" y="2907"/>
                </a:cubicBezTo>
                <a:cubicBezTo>
                  <a:pt x="22145" y="0"/>
                  <a:pt x="19495" y="0"/>
                  <a:pt x="19495" y="0"/>
                </a:cubicBezTo>
                <a:cubicBezTo>
                  <a:pt x="16656" y="0"/>
                  <a:pt x="13817" y="0"/>
                  <a:pt x="13817" y="2907"/>
                </a:cubicBezTo>
                <a:cubicBezTo>
                  <a:pt x="13817" y="14151"/>
                  <a:pt x="13817" y="14151"/>
                  <a:pt x="13817" y="14151"/>
                </a:cubicBezTo>
                <a:cubicBezTo>
                  <a:pt x="2649" y="14151"/>
                  <a:pt x="2649" y="14151"/>
                  <a:pt x="2649" y="14151"/>
                </a:cubicBezTo>
                <a:lnTo>
                  <a:pt x="0" y="17059"/>
                </a:lnTo>
                <a:cubicBezTo>
                  <a:pt x="0" y="19967"/>
                  <a:pt x="2649" y="22875"/>
                  <a:pt x="2649" y="22875"/>
                </a:cubicBezTo>
                <a:cubicBezTo>
                  <a:pt x="13817" y="22875"/>
                  <a:pt x="13817" y="22875"/>
                  <a:pt x="13817" y="22875"/>
                </a:cubicBezTo>
                <a:cubicBezTo>
                  <a:pt x="13817" y="96930"/>
                  <a:pt x="13817" y="96930"/>
                  <a:pt x="13817" y="96930"/>
                </a:cubicBezTo>
                <a:cubicBezTo>
                  <a:pt x="13817" y="105654"/>
                  <a:pt x="13817" y="105654"/>
                  <a:pt x="13817" y="105654"/>
                </a:cubicBezTo>
                <a:cubicBezTo>
                  <a:pt x="22145" y="105654"/>
                  <a:pt x="22145" y="105654"/>
                  <a:pt x="22145" y="105654"/>
                </a:cubicBezTo>
                <a:cubicBezTo>
                  <a:pt x="97476" y="105654"/>
                  <a:pt x="97476" y="105654"/>
                  <a:pt x="97476" y="105654"/>
                </a:cubicBezTo>
                <a:cubicBezTo>
                  <a:pt x="97476" y="116898"/>
                  <a:pt x="97476" y="116898"/>
                  <a:pt x="97476" y="116898"/>
                </a:cubicBezTo>
                <a:cubicBezTo>
                  <a:pt x="97476" y="119806"/>
                  <a:pt x="97476" y="119806"/>
                  <a:pt x="100315" y="119806"/>
                </a:cubicBezTo>
                <a:cubicBezTo>
                  <a:pt x="102965" y="119806"/>
                  <a:pt x="102965" y="119806"/>
                  <a:pt x="102965" y="116898"/>
                </a:cubicBezTo>
                <a:cubicBezTo>
                  <a:pt x="102965" y="105654"/>
                  <a:pt x="102965" y="105654"/>
                  <a:pt x="102965" y="105654"/>
                </a:cubicBezTo>
                <a:cubicBezTo>
                  <a:pt x="114132" y="105654"/>
                  <a:pt x="114132" y="105654"/>
                  <a:pt x="114132" y="105654"/>
                </a:cubicBezTo>
                <a:cubicBezTo>
                  <a:pt x="116971" y="105654"/>
                  <a:pt x="119810" y="102746"/>
                  <a:pt x="119810" y="102746"/>
                </a:cubicBezTo>
                <a:cubicBezTo>
                  <a:pt x="119810" y="99838"/>
                  <a:pt x="116971" y="96930"/>
                  <a:pt x="114132" y="9693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4650"/>
          <p:cNvSpPr/>
          <p:nvPr/>
        </p:nvSpPr>
        <p:spPr>
          <a:xfrm>
            <a:off x="7504200" y="1731960"/>
            <a:ext cx="190440" cy="168120"/>
          </a:xfrm>
          <a:custGeom>
            <a:avLst/>
            <a:gdLst>
              <a:gd name="textAreaLeft" fmla="*/ 0 w 190440"/>
              <a:gd name="textAreaRight" fmla="*/ 190800 w 190440"/>
              <a:gd name="textAreaTop" fmla="*/ 0 h 168120"/>
              <a:gd name="textAreaBottom" fmla="*/ 168480 h 168120"/>
            </a:gdLst>
            <a:ahLst/>
            <a:rect l="textAreaLeft" t="textAreaTop" r="textAreaRight" b="textAreaBottom"/>
            <a:pathLst>
              <a:path w="120000" h="120000">
                <a:moveTo>
                  <a:pt x="9022" y="14915"/>
                </a:moveTo>
                <a:lnTo>
                  <a:pt x="9022" y="14915"/>
                </a:lnTo>
                <a:cubicBezTo>
                  <a:pt x="115187" y="14915"/>
                  <a:pt x="115187" y="14915"/>
                  <a:pt x="115187" y="14915"/>
                </a:cubicBezTo>
                <a:lnTo>
                  <a:pt x="119699" y="10169"/>
                </a:lnTo>
                <a:cubicBezTo>
                  <a:pt x="119699" y="5084"/>
                  <a:pt x="115187" y="0"/>
                  <a:pt x="115187" y="0"/>
                </a:cubicBezTo>
                <a:cubicBezTo>
                  <a:pt x="9022" y="0"/>
                  <a:pt x="9022" y="0"/>
                  <a:pt x="9022" y="0"/>
                </a:cubicBezTo>
                <a:cubicBezTo>
                  <a:pt x="4511" y="0"/>
                  <a:pt x="0" y="5084"/>
                  <a:pt x="0" y="10169"/>
                </a:cubicBezTo>
                <a:cubicBezTo>
                  <a:pt x="0" y="10169"/>
                  <a:pt x="4511" y="14915"/>
                  <a:pt x="9022" y="14915"/>
                </a:cubicBezTo>
                <a:close/>
                <a:moveTo>
                  <a:pt x="115187" y="109830"/>
                </a:moveTo>
                <a:lnTo>
                  <a:pt x="115187" y="109830"/>
                </a:lnTo>
                <a:cubicBezTo>
                  <a:pt x="9022" y="109830"/>
                  <a:pt x="9022" y="109830"/>
                  <a:pt x="9022" y="109830"/>
                </a:cubicBezTo>
                <a:cubicBezTo>
                  <a:pt x="4511" y="109830"/>
                  <a:pt x="0" y="109830"/>
                  <a:pt x="0" y="114915"/>
                </a:cubicBezTo>
                <a:cubicBezTo>
                  <a:pt x="0" y="119661"/>
                  <a:pt x="4511" y="119661"/>
                  <a:pt x="9022" y="119661"/>
                </a:cubicBezTo>
                <a:cubicBezTo>
                  <a:pt x="115187" y="119661"/>
                  <a:pt x="115187" y="119661"/>
                  <a:pt x="115187" y="119661"/>
                </a:cubicBezTo>
                <a:cubicBezTo>
                  <a:pt x="115187" y="119661"/>
                  <a:pt x="119699" y="119661"/>
                  <a:pt x="119699" y="114915"/>
                </a:cubicBezTo>
                <a:cubicBezTo>
                  <a:pt x="119699" y="109830"/>
                  <a:pt x="115187" y="109830"/>
                  <a:pt x="115187" y="109830"/>
                </a:cubicBezTo>
                <a:close/>
                <a:moveTo>
                  <a:pt x="115187" y="54915"/>
                </a:moveTo>
                <a:lnTo>
                  <a:pt x="115187" y="54915"/>
                </a:lnTo>
                <a:cubicBezTo>
                  <a:pt x="9022" y="54915"/>
                  <a:pt x="9022" y="54915"/>
                  <a:pt x="9022" y="54915"/>
                </a:cubicBezTo>
                <a:cubicBezTo>
                  <a:pt x="4511" y="54915"/>
                  <a:pt x="0" y="59999"/>
                  <a:pt x="0" y="59999"/>
                </a:cubicBezTo>
                <a:cubicBezTo>
                  <a:pt x="0" y="65084"/>
                  <a:pt x="4511" y="69830"/>
                  <a:pt x="9022" y="69830"/>
                </a:cubicBezTo>
                <a:cubicBezTo>
                  <a:pt x="115187" y="69830"/>
                  <a:pt x="115187" y="69830"/>
                  <a:pt x="115187" y="69830"/>
                </a:cubicBezTo>
                <a:cubicBezTo>
                  <a:pt x="115187" y="69830"/>
                  <a:pt x="119699" y="65084"/>
                  <a:pt x="119699" y="59999"/>
                </a:cubicBezTo>
                <a:lnTo>
                  <a:pt x="115187" y="5491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4652"/>
          <p:cNvSpPr/>
          <p:nvPr/>
        </p:nvSpPr>
        <p:spPr>
          <a:xfrm>
            <a:off x="6470640" y="1668600"/>
            <a:ext cx="297000" cy="290520"/>
          </a:xfrm>
          <a:custGeom>
            <a:avLst/>
            <a:gdLst>
              <a:gd name="textAreaLeft" fmla="*/ 0 w 297000"/>
              <a:gd name="textAreaRight" fmla="*/ 297360 w 297000"/>
              <a:gd name="textAreaTop" fmla="*/ 0 h 290520"/>
              <a:gd name="textAreaBottom" fmla="*/ 290880 h 290520"/>
            </a:gdLst>
            <a:ahLst/>
            <a:rect l="textAreaLeft" t="textAreaTop" r="textAreaRight" b="textAreaBottom"/>
            <a:pathLst>
              <a:path w="120000" h="120000">
                <a:moveTo>
                  <a:pt x="91308" y="0"/>
                </a:moveTo>
                <a:lnTo>
                  <a:pt x="91308" y="0"/>
                </a:lnTo>
                <a:cubicBezTo>
                  <a:pt x="76962" y="0"/>
                  <a:pt x="68432" y="8741"/>
                  <a:pt x="59903" y="14503"/>
                </a:cubicBezTo>
                <a:cubicBezTo>
                  <a:pt x="51373" y="5761"/>
                  <a:pt x="42843" y="0"/>
                  <a:pt x="28497" y="0"/>
                </a:cubicBezTo>
                <a:cubicBezTo>
                  <a:pt x="11437" y="0"/>
                  <a:pt x="0" y="14503"/>
                  <a:pt x="0" y="32185"/>
                </a:cubicBezTo>
                <a:cubicBezTo>
                  <a:pt x="0" y="40927"/>
                  <a:pt x="2907" y="49668"/>
                  <a:pt x="5621" y="55430"/>
                </a:cubicBezTo>
                <a:cubicBezTo>
                  <a:pt x="54281" y="114039"/>
                  <a:pt x="54281" y="114039"/>
                  <a:pt x="54281" y="114039"/>
                </a:cubicBezTo>
                <a:cubicBezTo>
                  <a:pt x="59903" y="119801"/>
                  <a:pt x="59903" y="119801"/>
                  <a:pt x="65718" y="114039"/>
                </a:cubicBezTo>
                <a:cubicBezTo>
                  <a:pt x="114184" y="55430"/>
                  <a:pt x="114184" y="55430"/>
                  <a:pt x="114184" y="55430"/>
                </a:cubicBezTo>
                <a:cubicBezTo>
                  <a:pt x="116898" y="49668"/>
                  <a:pt x="119806" y="40927"/>
                  <a:pt x="119806" y="32185"/>
                </a:cubicBezTo>
                <a:cubicBezTo>
                  <a:pt x="119806" y="14503"/>
                  <a:pt x="108368" y="0"/>
                  <a:pt x="91308" y="0"/>
                </a:cubicBezTo>
                <a:close/>
                <a:moveTo>
                  <a:pt x="105460" y="52649"/>
                </a:moveTo>
                <a:lnTo>
                  <a:pt x="105460" y="52649"/>
                </a:lnTo>
                <a:cubicBezTo>
                  <a:pt x="59903" y="108079"/>
                  <a:pt x="59903" y="108079"/>
                  <a:pt x="59903" y="108079"/>
                </a:cubicBezTo>
                <a:cubicBezTo>
                  <a:pt x="14151" y="52649"/>
                  <a:pt x="14151" y="52649"/>
                  <a:pt x="14151" y="52649"/>
                </a:cubicBezTo>
                <a:cubicBezTo>
                  <a:pt x="8529" y="46688"/>
                  <a:pt x="5621" y="40927"/>
                  <a:pt x="5621" y="32185"/>
                </a:cubicBezTo>
                <a:cubicBezTo>
                  <a:pt x="5621" y="20463"/>
                  <a:pt x="17059" y="8741"/>
                  <a:pt x="28497" y="5761"/>
                </a:cubicBezTo>
                <a:cubicBezTo>
                  <a:pt x="39935" y="5761"/>
                  <a:pt x="54281" y="17483"/>
                  <a:pt x="59903" y="26225"/>
                </a:cubicBezTo>
                <a:cubicBezTo>
                  <a:pt x="65718" y="20463"/>
                  <a:pt x="79870" y="5761"/>
                  <a:pt x="91308" y="5761"/>
                </a:cubicBezTo>
                <a:cubicBezTo>
                  <a:pt x="102746" y="5761"/>
                  <a:pt x="114184" y="20463"/>
                  <a:pt x="114184" y="32185"/>
                </a:cubicBezTo>
                <a:cubicBezTo>
                  <a:pt x="114184" y="40927"/>
                  <a:pt x="111276" y="46688"/>
                  <a:pt x="105460" y="5264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4654"/>
          <p:cNvSpPr/>
          <p:nvPr/>
        </p:nvSpPr>
        <p:spPr>
          <a:xfrm>
            <a:off x="10391760" y="1179360"/>
            <a:ext cx="304920" cy="284400"/>
          </a:xfrm>
          <a:custGeom>
            <a:avLst/>
            <a:gdLst>
              <a:gd name="textAreaLeft" fmla="*/ 0 w 304920"/>
              <a:gd name="textAreaRight" fmla="*/ 305280 w 304920"/>
              <a:gd name="textAreaTop" fmla="*/ 0 h 284400"/>
              <a:gd name="textAreaBottom" fmla="*/ 284760 h 284400"/>
            </a:gdLst>
            <a:ahLst/>
            <a:rect l="textAreaLeft" t="textAreaTop" r="textAreaRight" b="textAreaBottom"/>
            <a:pathLst>
              <a:path w="120000" h="120000">
                <a:moveTo>
                  <a:pt x="64164" y="110644"/>
                </a:moveTo>
                <a:lnTo>
                  <a:pt x="64164" y="110644"/>
                </a:lnTo>
                <a:cubicBezTo>
                  <a:pt x="28012" y="110644"/>
                  <a:pt x="28012" y="110644"/>
                  <a:pt x="28012" y="110644"/>
                </a:cubicBezTo>
                <a:cubicBezTo>
                  <a:pt x="25173" y="110644"/>
                  <a:pt x="22334" y="113694"/>
                  <a:pt x="22334" y="113694"/>
                </a:cubicBezTo>
                <a:cubicBezTo>
                  <a:pt x="22334" y="116745"/>
                  <a:pt x="25173" y="119796"/>
                  <a:pt x="28012" y="119796"/>
                </a:cubicBezTo>
                <a:cubicBezTo>
                  <a:pt x="64164" y="119796"/>
                  <a:pt x="64164" y="119796"/>
                  <a:pt x="64164" y="119796"/>
                </a:cubicBezTo>
                <a:cubicBezTo>
                  <a:pt x="67003" y="119796"/>
                  <a:pt x="67003" y="116745"/>
                  <a:pt x="67003" y="113694"/>
                </a:cubicBezTo>
                <a:cubicBezTo>
                  <a:pt x="67003" y="113694"/>
                  <a:pt x="67003" y="110644"/>
                  <a:pt x="64164" y="110644"/>
                </a:cubicBezTo>
                <a:close/>
                <a:moveTo>
                  <a:pt x="72492" y="95796"/>
                </a:moveTo>
                <a:lnTo>
                  <a:pt x="72492" y="95796"/>
                </a:lnTo>
                <a:cubicBezTo>
                  <a:pt x="19495" y="95796"/>
                  <a:pt x="19495" y="95796"/>
                  <a:pt x="19495" y="95796"/>
                </a:cubicBezTo>
                <a:cubicBezTo>
                  <a:pt x="16845" y="95796"/>
                  <a:pt x="16845" y="95796"/>
                  <a:pt x="16845" y="98847"/>
                </a:cubicBezTo>
                <a:cubicBezTo>
                  <a:pt x="16845" y="101694"/>
                  <a:pt x="16845" y="101694"/>
                  <a:pt x="19495" y="101694"/>
                </a:cubicBezTo>
                <a:cubicBezTo>
                  <a:pt x="72492" y="101694"/>
                  <a:pt x="72492" y="101694"/>
                  <a:pt x="72492" y="101694"/>
                </a:cubicBezTo>
                <a:cubicBezTo>
                  <a:pt x="72492" y="101694"/>
                  <a:pt x="75331" y="101694"/>
                  <a:pt x="75331" y="98847"/>
                </a:cubicBezTo>
                <a:cubicBezTo>
                  <a:pt x="75331" y="95796"/>
                  <a:pt x="72492" y="95796"/>
                  <a:pt x="72492" y="95796"/>
                </a:cubicBezTo>
                <a:close/>
                <a:moveTo>
                  <a:pt x="117160" y="77694"/>
                </a:moveTo>
                <a:lnTo>
                  <a:pt x="117160" y="77694"/>
                </a:lnTo>
                <a:cubicBezTo>
                  <a:pt x="61324" y="77694"/>
                  <a:pt x="61324" y="77694"/>
                  <a:pt x="61324" y="77694"/>
                </a:cubicBezTo>
                <a:cubicBezTo>
                  <a:pt x="61324" y="74847"/>
                  <a:pt x="61324" y="68949"/>
                  <a:pt x="61324" y="65694"/>
                </a:cubicBezTo>
                <a:cubicBezTo>
                  <a:pt x="61324" y="35796"/>
                  <a:pt x="77981" y="14847"/>
                  <a:pt x="100315" y="5898"/>
                </a:cubicBezTo>
                <a:cubicBezTo>
                  <a:pt x="91987" y="2847"/>
                  <a:pt x="83659" y="0"/>
                  <a:pt x="72492" y="0"/>
                </a:cubicBezTo>
                <a:cubicBezTo>
                  <a:pt x="41829" y="0"/>
                  <a:pt x="16845" y="26847"/>
                  <a:pt x="16845" y="59796"/>
                </a:cubicBezTo>
                <a:cubicBezTo>
                  <a:pt x="16845" y="65694"/>
                  <a:pt x="16845" y="71796"/>
                  <a:pt x="19495" y="77694"/>
                </a:cubicBezTo>
                <a:cubicBezTo>
                  <a:pt x="5678" y="77694"/>
                  <a:pt x="5678" y="77694"/>
                  <a:pt x="5678" y="77694"/>
                </a:cubicBezTo>
                <a:cubicBezTo>
                  <a:pt x="2839" y="77694"/>
                  <a:pt x="0" y="80745"/>
                  <a:pt x="0" y="83796"/>
                </a:cubicBezTo>
                <a:cubicBezTo>
                  <a:pt x="0" y="83796"/>
                  <a:pt x="2839" y="86847"/>
                  <a:pt x="5678" y="86847"/>
                </a:cubicBezTo>
                <a:cubicBezTo>
                  <a:pt x="117160" y="86847"/>
                  <a:pt x="117160" y="86847"/>
                  <a:pt x="117160" y="86847"/>
                </a:cubicBezTo>
                <a:lnTo>
                  <a:pt x="119810" y="83796"/>
                </a:lnTo>
                <a:cubicBezTo>
                  <a:pt x="119810" y="80745"/>
                  <a:pt x="117160" y="77694"/>
                  <a:pt x="117160" y="77694"/>
                </a:cubicBezTo>
                <a:close/>
                <a:moveTo>
                  <a:pt x="28012" y="77694"/>
                </a:moveTo>
                <a:lnTo>
                  <a:pt x="28012" y="77694"/>
                </a:lnTo>
                <a:cubicBezTo>
                  <a:pt x="25173" y="71796"/>
                  <a:pt x="22334" y="68949"/>
                  <a:pt x="22334" y="62847"/>
                </a:cubicBezTo>
                <a:cubicBezTo>
                  <a:pt x="22334" y="29898"/>
                  <a:pt x="39179" y="17898"/>
                  <a:pt x="52996" y="12000"/>
                </a:cubicBezTo>
                <a:cubicBezTo>
                  <a:pt x="64164" y="5898"/>
                  <a:pt x="75331" y="5898"/>
                  <a:pt x="83659" y="5898"/>
                </a:cubicBezTo>
                <a:cubicBezTo>
                  <a:pt x="67003" y="14847"/>
                  <a:pt x="52996" y="38847"/>
                  <a:pt x="52996" y="65694"/>
                </a:cubicBezTo>
                <a:cubicBezTo>
                  <a:pt x="52996" y="68949"/>
                  <a:pt x="52996" y="74847"/>
                  <a:pt x="52996" y="77694"/>
                </a:cubicBezTo>
                <a:lnTo>
                  <a:pt x="28012" y="7769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4656"/>
          <p:cNvSpPr/>
          <p:nvPr/>
        </p:nvSpPr>
        <p:spPr>
          <a:xfrm>
            <a:off x="9414000" y="1165320"/>
            <a:ext cx="296640" cy="304560"/>
          </a:xfrm>
          <a:custGeom>
            <a:avLst/>
            <a:gdLst>
              <a:gd name="textAreaLeft" fmla="*/ 0 w 296640"/>
              <a:gd name="textAreaRight" fmla="*/ 297000 w 296640"/>
              <a:gd name="textAreaTop" fmla="*/ 0 h 304560"/>
              <a:gd name="textAreaBottom" fmla="*/ 304920 h 304560"/>
            </a:gdLst>
            <a:ahLst/>
            <a:rect l="textAreaLeft" t="textAreaTop" r="textAreaRight" b="textAreaBottom"/>
            <a:pathLst>
              <a:path w="120000" h="120000">
                <a:moveTo>
                  <a:pt x="14151" y="55835"/>
                </a:moveTo>
                <a:lnTo>
                  <a:pt x="14151" y="55835"/>
                </a:lnTo>
                <a:cubicBezTo>
                  <a:pt x="2907" y="55835"/>
                  <a:pt x="2907" y="55835"/>
                  <a:pt x="2907" y="55835"/>
                </a:cubicBezTo>
                <a:cubicBezTo>
                  <a:pt x="0" y="55835"/>
                  <a:pt x="0" y="58675"/>
                  <a:pt x="0" y="61324"/>
                </a:cubicBezTo>
                <a:cubicBezTo>
                  <a:pt x="0" y="61324"/>
                  <a:pt x="0" y="64164"/>
                  <a:pt x="2907" y="64164"/>
                </a:cubicBezTo>
                <a:cubicBezTo>
                  <a:pt x="14151" y="64164"/>
                  <a:pt x="14151" y="64164"/>
                  <a:pt x="14151" y="64164"/>
                </a:cubicBezTo>
                <a:cubicBezTo>
                  <a:pt x="17059" y="64164"/>
                  <a:pt x="17059" y="61324"/>
                  <a:pt x="17059" y="61324"/>
                </a:cubicBezTo>
                <a:cubicBezTo>
                  <a:pt x="17059" y="58675"/>
                  <a:pt x="17059" y="55835"/>
                  <a:pt x="14151" y="55835"/>
                </a:cubicBezTo>
                <a:close/>
                <a:moveTo>
                  <a:pt x="96930" y="30662"/>
                </a:moveTo>
                <a:lnTo>
                  <a:pt x="96930" y="30662"/>
                </a:lnTo>
                <a:cubicBezTo>
                  <a:pt x="105654" y="22334"/>
                  <a:pt x="105654" y="22334"/>
                  <a:pt x="105654" y="22334"/>
                </a:cubicBezTo>
                <a:cubicBezTo>
                  <a:pt x="105654" y="19495"/>
                  <a:pt x="105654" y="19495"/>
                  <a:pt x="105654" y="16845"/>
                </a:cubicBezTo>
                <a:cubicBezTo>
                  <a:pt x="102746" y="16845"/>
                  <a:pt x="99838" y="16845"/>
                  <a:pt x="99838" y="16845"/>
                </a:cubicBezTo>
                <a:cubicBezTo>
                  <a:pt x="91308" y="25173"/>
                  <a:pt x="91308" y="25173"/>
                  <a:pt x="91308" y="25173"/>
                </a:cubicBezTo>
                <a:cubicBezTo>
                  <a:pt x="88400" y="25173"/>
                  <a:pt x="88400" y="28012"/>
                  <a:pt x="91308" y="30662"/>
                </a:cubicBezTo>
                <a:cubicBezTo>
                  <a:pt x="91308" y="30662"/>
                  <a:pt x="94216" y="30662"/>
                  <a:pt x="96930" y="30662"/>
                </a:cubicBezTo>
                <a:close/>
                <a:moveTo>
                  <a:pt x="25589" y="30662"/>
                </a:moveTo>
                <a:lnTo>
                  <a:pt x="25589" y="30662"/>
                </a:lnTo>
                <a:cubicBezTo>
                  <a:pt x="25589" y="33501"/>
                  <a:pt x="28497" y="33501"/>
                  <a:pt x="31405" y="30662"/>
                </a:cubicBezTo>
                <a:cubicBezTo>
                  <a:pt x="31405" y="30662"/>
                  <a:pt x="31405" y="28012"/>
                  <a:pt x="31405" y="25173"/>
                </a:cubicBezTo>
                <a:cubicBezTo>
                  <a:pt x="22875" y="19495"/>
                  <a:pt x="22875" y="19495"/>
                  <a:pt x="22875" y="19495"/>
                </a:cubicBezTo>
                <a:cubicBezTo>
                  <a:pt x="19967" y="16845"/>
                  <a:pt x="17059" y="16845"/>
                  <a:pt x="17059" y="19495"/>
                </a:cubicBezTo>
                <a:cubicBezTo>
                  <a:pt x="14151" y="19495"/>
                  <a:pt x="14151" y="22334"/>
                  <a:pt x="17059" y="22334"/>
                </a:cubicBezTo>
                <a:lnTo>
                  <a:pt x="25589" y="30662"/>
                </a:lnTo>
                <a:close/>
                <a:moveTo>
                  <a:pt x="59903" y="19495"/>
                </a:moveTo>
                <a:lnTo>
                  <a:pt x="59903" y="19495"/>
                </a:lnTo>
                <a:cubicBezTo>
                  <a:pt x="62810" y="19495"/>
                  <a:pt x="62810" y="16845"/>
                  <a:pt x="62810" y="16845"/>
                </a:cubicBezTo>
                <a:cubicBezTo>
                  <a:pt x="62810" y="5678"/>
                  <a:pt x="62810" y="5678"/>
                  <a:pt x="62810" y="5678"/>
                </a:cubicBezTo>
                <a:cubicBezTo>
                  <a:pt x="62810" y="2839"/>
                  <a:pt x="62810" y="0"/>
                  <a:pt x="59903" y="0"/>
                </a:cubicBezTo>
                <a:cubicBezTo>
                  <a:pt x="56995" y="0"/>
                  <a:pt x="56995" y="2839"/>
                  <a:pt x="56995" y="5678"/>
                </a:cubicBezTo>
                <a:cubicBezTo>
                  <a:pt x="56995" y="16845"/>
                  <a:pt x="56995" y="16845"/>
                  <a:pt x="56995" y="16845"/>
                </a:cubicBezTo>
                <a:cubicBezTo>
                  <a:pt x="56995" y="16845"/>
                  <a:pt x="56995" y="19495"/>
                  <a:pt x="59903" y="19495"/>
                </a:cubicBezTo>
                <a:close/>
                <a:moveTo>
                  <a:pt x="59903" y="100315"/>
                </a:moveTo>
                <a:lnTo>
                  <a:pt x="59903" y="100315"/>
                </a:lnTo>
                <a:cubicBezTo>
                  <a:pt x="56995" y="100315"/>
                  <a:pt x="56995" y="103154"/>
                  <a:pt x="56995" y="105993"/>
                </a:cubicBezTo>
                <a:cubicBezTo>
                  <a:pt x="56995" y="117160"/>
                  <a:pt x="56995" y="117160"/>
                  <a:pt x="56995" y="117160"/>
                </a:cubicBezTo>
                <a:cubicBezTo>
                  <a:pt x="56995" y="117160"/>
                  <a:pt x="56995" y="119810"/>
                  <a:pt x="59903" y="119810"/>
                </a:cubicBezTo>
                <a:cubicBezTo>
                  <a:pt x="62810" y="119810"/>
                  <a:pt x="62810" y="117160"/>
                  <a:pt x="62810" y="117160"/>
                </a:cubicBezTo>
                <a:cubicBezTo>
                  <a:pt x="62810" y="105993"/>
                  <a:pt x="62810" y="105993"/>
                  <a:pt x="62810" y="105993"/>
                </a:cubicBezTo>
                <a:cubicBezTo>
                  <a:pt x="62810" y="103154"/>
                  <a:pt x="62810" y="100315"/>
                  <a:pt x="59903" y="100315"/>
                </a:cubicBezTo>
                <a:close/>
                <a:moveTo>
                  <a:pt x="94216" y="89148"/>
                </a:moveTo>
                <a:lnTo>
                  <a:pt x="94216" y="89148"/>
                </a:lnTo>
                <a:cubicBezTo>
                  <a:pt x="94216" y="89148"/>
                  <a:pt x="91308" y="89148"/>
                  <a:pt x="88400" y="89148"/>
                </a:cubicBezTo>
                <a:cubicBezTo>
                  <a:pt x="88400" y="91987"/>
                  <a:pt x="88400" y="91987"/>
                  <a:pt x="88400" y="94826"/>
                </a:cubicBezTo>
                <a:cubicBezTo>
                  <a:pt x="96930" y="103154"/>
                  <a:pt x="96930" y="103154"/>
                  <a:pt x="96930" y="103154"/>
                </a:cubicBezTo>
                <a:cubicBezTo>
                  <a:pt x="99838" y="103154"/>
                  <a:pt x="102746" y="103154"/>
                  <a:pt x="102746" y="103154"/>
                </a:cubicBezTo>
                <a:cubicBezTo>
                  <a:pt x="105654" y="100315"/>
                  <a:pt x="105654" y="97665"/>
                  <a:pt x="102746" y="97665"/>
                </a:cubicBezTo>
                <a:lnTo>
                  <a:pt x="94216" y="89148"/>
                </a:lnTo>
                <a:close/>
                <a:moveTo>
                  <a:pt x="116898" y="55835"/>
                </a:moveTo>
                <a:lnTo>
                  <a:pt x="116898" y="55835"/>
                </a:lnTo>
                <a:cubicBezTo>
                  <a:pt x="105654" y="55835"/>
                  <a:pt x="105654" y="55835"/>
                  <a:pt x="105654" y="55835"/>
                </a:cubicBezTo>
                <a:cubicBezTo>
                  <a:pt x="102746" y="55835"/>
                  <a:pt x="102746" y="58675"/>
                  <a:pt x="102746" y="61324"/>
                </a:cubicBezTo>
                <a:cubicBezTo>
                  <a:pt x="102746" y="61324"/>
                  <a:pt x="102746" y="64164"/>
                  <a:pt x="105654" y="64164"/>
                </a:cubicBezTo>
                <a:cubicBezTo>
                  <a:pt x="116898" y="64164"/>
                  <a:pt x="116898" y="64164"/>
                  <a:pt x="116898" y="64164"/>
                </a:cubicBezTo>
                <a:cubicBezTo>
                  <a:pt x="119806" y="64164"/>
                  <a:pt x="119806" y="61324"/>
                  <a:pt x="119806" y="61324"/>
                </a:cubicBezTo>
                <a:cubicBezTo>
                  <a:pt x="119806" y="58675"/>
                  <a:pt x="119806" y="55835"/>
                  <a:pt x="116898" y="55835"/>
                </a:cubicBezTo>
                <a:close/>
                <a:moveTo>
                  <a:pt x="28497" y="86498"/>
                </a:moveTo>
                <a:lnTo>
                  <a:pt x="28497" y="86498"/>
                </a:lnTo>
                <a:cubicBezTo>
                  <a:pt x="19967" y="94826"/>
                  <a:pt x="19967" y="94826"/>
                  <a:pt x="19967" y="94826"/>
                </a:cubicBezTo>
                <a:cubicBezTo>
                  <a:pt x="17059" y="97665"/>
                  <a:pt x="17059" y="97665"/>
                  <a:pt x="19967" y="100315"/>
                </a:cubicBezTo>
                <a:cubicBezTo>
                  <a:pt x="19967" y="100315"/>
                  <a:pt x="22875" y="100315"/>
                  <a:pt x="25589" y="100315"/>
                </a:cubicBezTo>
                <a:cubicBezTo>
                  <a:pt x="31405" y="91987"/>
                  <a:pt x="31405" y="91987"/>
                  <a:pt x="31405" y="91987"/>
                </a:cubicBezTo>
                <a:cubicBezTo>
                  <a:pt x="34313" y="91987"/>
                  <a:pt x="34313" y="89148"/>
                  <a:pt x="31405" y="86498"/>
                </a:cubicBezTo>
                <a:lnTo>
                  <a:pt x="28497" y="86498"/>
                </a:lnTo>
                <a:close/>
                <a:moveTo>
                  <a:pt x="59903" y="28012"/>
                </a:moveTo>
                <a:lnTo>
                  <a:pt x="59903" y="28012"/>
                </a:lnTo>
                <a:cubicBezTo>
                  <a:pt x="39935" y="28012"/>
                  <a:pt x="25589" y="41829"/>
                  <a:pt x="25589" y="61324"/>
                </a:cubicBezTo>
                <a:cubicBezTo>
                  <a:pt x="25589" y="77981"/>
                  <a:pt x="39935" y="94826"/>
                  <a:pt x="59903" y="94826"/>
                </a:cubicBezTo>
                <a:cubicBezTo>
                  <a:pt x="79870" y="94826"/>
                  <a:pt x="94216" y="77981"/>
                  <a:pt x="94216" y="61324"/>
                </a:cubicBezTo>
                <a:cubicBezTo>
                  <a:pt x="94216" y="41829"/>
                  <a:pt x="79870" y="28012"/>
                  <a:pt x="59903" y="28012"/>
                </a:cubicBezTo>
                <a:close/>
                <a:moveTo>
                  <a:pt x="59903" y="86498"/>
                </a:moveTo>
                <a:lnTo>
                  <a:pt x="59903" y="86498"/>
                </a:lnTo>
                <a:cubicBezTo>
                  <a:pt x="45751" y="86498"/>
                  <a:pt x="34313" y="75331"/>
                  <a:pt x="34313" y="61324"/>
                </a:cubicBezTo>
                <a:cubicBezTo>
                  <a:pt x="34313" y="47507"/>
                  <a:pt x="45751" y="33501"/>
                  <a:pt x="59903" y="33501"/>
                </a:cubicBezTo>
                <a:cubicBezTo>
                  <a:pt x="74248" y="33501"/>
                  <a:pt x="85492" y="47507"/>
                  <a:pt x="85492" y="61324"/>
                </a:cubicBezTo>
                <a:cubicBezTo>
                  <a:pt x="85492" y="75331"/>
                  <a:pt x="74248" y="86498"/>
                  <a:pt x="59903" y="8649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4658"/>
          <p:cNvSpPr/>
          <p:nvPr/>
        </p:nvSpPr>
        <p:spPr>
          <a:xfrm>
            <a:off x="8488440" y="1165320"/>
            <a:ext cx="190440" cy="304560"/>
          </a:xfrm>
          <a:custGeom>
            <a:avLst/>
            <a:gdLst>
              <a:gd name="textAreaLeft" fmla="*/ 0 w 190440"/>
              <a:gd name="textAreaRight" fmla="*/ 190800 w 190440"/>
              <a:gd name="textAreaTop" fmla="*/ 0 h 304560"/>
              <a:gd name="textAreaBottom" fmla="*/ 304920 h 304560"/>
            </a:gdLst>
            <a:ahLst/>
            <a:rect l="textAreaLeft" t="textAreaTop" r="textAreaRight" b="textAreaBottom"/>
            <a:pathLst>
              <a:path w="120000" h="120000">
                <a:moveTo>
                  <a:pt x="57744" y="0"/>
                </a:moveTo>
                <a:lnTo>
                  <a:pt x="57744" y="0"/>
                </a:lnTo>
                <a:cubicBezTo>
                  <a:pt x="40000" y="14006"/>
                  <a:pt x="0" y="61324"/>
                  <a:pt x="0" y="83659"/>
                </a:cubicBezTo>
                <a:cubicBezTo>
                  <a:pt x="0" y="103154"/>
                  <a:pt x="26766" y="119810"/>
                  <a:pt x="57744" y="119810"/>
                </a:cubicBezTo>
                <a:cubicBezTo>
                  <a:pt x="92932" y="119810"/>
                  <a:pt x="119699" y="103154"/>
                  <a:pt x="119699" y="83659"/>
                </a:cubicBezTo>
                <a:cubicBezTo>
                  <a:pt x="119699" y="61324"/>
                  <a:pt x="75488" y="14006"/>
                  <a:pt x="57744" y="0"/>
                </a:cubicBezTo>
                <a:close/>
                <a:moveTo>
                  <a:pt x="57744" y="111482"/>
                </a:moveTo>
                <a:lnTo>
                  <a:pt x="57744" y="111482"/>
                </a:lnTo>
                <a:cubicBezTo>
                  <a:pt x="31278" y="111482"/>
                  <a:pt x="13533" y="100315"/>
                  <a:pt x="13533" y="83659"/>
                </a:cubicBezTo>
                <a:cubicBezTo>
                  <a:pt x="13533" y="66813"/>
                  <a:pt x="44511" y="28012"/>
                  <a:pt x="57744" y="16845"/>
                </a:cubicBezTo>
                <a:cubicBezTo>
                  <a:pt x="75488" y="25173"/>
                  <a:pt x="106466" y="66813"/>
                  <a:pt x="106466" y="83659"/>
                </a:cubicBezTo>
                <a:cubicBezTo>
                  <a:pt x="106466" y="100315"/>
                  <a:pt x="84210" y="111482"/>
                  <a:pt x="57744" y="11148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4660"/>
          <p:cNvSpPr/>
          <p:nvPr/>
        </p:nvSpPr>
        <p:spPr>
          <a:xfrm>
            <a:off x="7469280" y="1208160"/>
            <a:ext cx="284040" cy="183960"/>
          </a:xfrm>
          <a:custGeom>
            <a:avLst/>
            <a:gdLst>
              <a:gd name="textAreaLeft" fmla="*/ 0 w 284040"/>
              <a:gd name="textAreaRight" fmla="*/ 284400 w 284040"/>
              <a:gd name="textAreaTop" fmla="*/ 0 h 183960"/>
              <a:gd name="textAreaBottom" fmla="*/ 184320 h 183960"/>
            </a:gdLst>
            <a:ahLst/>
            <a:rect l="textAreaLeft" t="textAreaTop" r="textAreaRight" b="textAreaBottom"/>
            <a:pathLst>
              <a:path w="120000" h="120000">
                <a:moveTo>
                  <a:pt x="60000" y="22872"/>
                </a:moveTo>
                <a:lnTo>
                  <a:pt x="60000" y="22872"/>
                </a:lnTo>
                <a:cubicBezTo>
                  <a:pt x="63050" y="22872"/>
                  <a:pt x="63050" y="18485"/>
                  <a:pt x="63050" y="18485"/>
                </a:cubicBezTo>
                <a:cubicBezTo>
                  <a:pt x="63050" y="4386"/>
                  <a:pt x="63050" y="4386"/>
                  <a:pt x="63050" y="4386"/>
                </a:cubicBezTo>
                <a:cubicBezTo>
                  <a:pt x="63050" y="0"/>
                  <a:pt x="63050" y="0"/>
                  <a:pt x="60000" y="0"/>
                </a:cubicBezTo>
                <a:cubicBezTo>
                  <a:pt x="56949" y="0"/>
                  <a:pt x="56949" y="0"/>
                  <a:pt x="56949" y="4386"/>
                </a:cubicBezTo>
                <a:cubicBezTo>
                  <a:pt x="56949" y="18485"/>
                  <a:pt x="56949" y="18485"/>
                  <a:pt x="56949" y="18485"/>
                </a:cubicBezTo>
                <a:cubicBezTo>
                  <a:pt x="56949" y="18485"/>
                  <a:pt x="56949" y="22872"/>
                  <a:pt x="60000" y="22872"/>
                </a:cubicBezTo>
                <a:close/>
                <a:moveTo>
                  <a:pt x="107796" y="50757"/>
                </a:moveTo>
                <a:lnTo>
                  <a:pt x="107796" y="50757"/>
                </a:lnTo>
                <a:cubicBezTo>
                  <a:pt x="113898" y="41357"/>
                  <a:pt x="113898" y="41357"/>
                  <a:pt x="113898" y="41357"/>
                </a:cubicBezTo>
                <a:cubicBezTo>
                  <a:pt x="113898" y="36657"/>
                  <a:pt x="113898" y="36657"/>
                  <a:pt x="113898" y="32271"/>
                </a:cubicBezTo>
                <a:cubicBezTo>
                  <a:pt x="110847" y="32271"/>
                  <a:pt x="110847" y="32271"/>
                  <a:pt x="107796" y="32271"/>
                </a:cubicBezTo>
                <a:cubicBezTo>
                  <a:pt x="101898" y="41357"/>
                  <a:pt x="101898" y="41357"/>
                  <a:pt x="101898" y="41357"/>
                </a:cubicBezTo>
                <a:cubicBezTo>
                  <a:pt x="101898" y="46057"/>
                  <a:pt x="101898" y="46057"/>
                  <a:pt x="101898" y="50757"/>
                </a:cubicBezTo>
                <a:cubicBezTo>
                  <a:pt x="104949" y="50757"/>
                  <a:pt x="104949" y="50757"/>
                  <a:pt x="107796" y="50757"/>
                </a:cubicBezTo>
                <a:close/>
                <a:moveTo>
                  <a:pt x="12000" y="50757"/>
                </a:moveTo>
                <a:lnTo>
                  <a:pt x="12000" y="50757"/>
                </a:lnTo>
                <a:cubicBezTo>
                  <a:pt x="15050" y="50757"/>
                  <a:pt x="15050" y="50757"/>
                  <a:pt x="18101" y="50757"/>
                </a:cubicBezTo>
                <a:cubicBezTo>
                  <a:pt x="18101" y="46057"/>
                  <a:pt x="18101" y="46057"/>
                  <a:pt x="18101" y="41357"/>
                </a:cubicBezTo>
                <a:cubicBezTo>
                  <a:pt x="12000" y="32271"/>
                  <a:pt x="12000" y="32271"/>
                  <a:pt x="12000" y="32271"/>
                </a:cubicBezTo>
                <a:cubicBezTo>
                  <a:pt x="9152" y="32271"/>
                  <a:pt x="9152" y="32271"/>
                  <a:pt x="6101" y="32271"/>
                </a:cubicBezTo>
                <a:cubicBezTo>
                  <a:pt x="6101" y="36657"/>
                  <a:pt x="6101" y="36657"/>
                  <a:pt x="6101" y="41357"/>
                </a:cubicBezTo>
                <a:lnTo>
                  <a:pt x="12000" y="50757"/>
                </a:lnTo>
                <a:close/>
                <a:moveTo>
                  <a:pt x="116949" y="110600"/>
                </a:moveTo>
                <a:lnTo>
                  <a:pt x="116949" y="110600"/>
                </a:lnTo>
                <a:cubicBezTo>
                  <a:pt x="3050" y="110600"/>
                  <a:pt x="3050" y="110600"/>
                  <a:pt x="3050" y="110600"/>
                </a:cubicBezTo>
                <a:cubicBezTo>
                  <a:pt x="3050" y="110600"/>
                  <a:pt x="0" y="110600"/>
                  <a:pt x="0" y="115300"/>
                </a:cubicBezTo>
                <a:cubicBezTo>
                  <a:pt x="0" y="119686"/>
                  <a:pt x="3050" y="119686"/>
                  <a:pt x="3050" y="119686"/>
                </a:cubicBezTo>
                <a:cubicBezTo>
                  <a:pt x="116949" y="119686"/>
                  <a:pt x="116949" y="119686"/>
                  <a:pt x="116949" y="119686"/>
                </a:cubicBezTo>
                <a:cubicBezTo>
                  <a:pt x="116949" y="119686"/>
                  <a:pt x="119796" y="119686"/>
                  <a:pt x="119796" y="115300"/>
                </a:cubicBezTo>
                <a:cubicBezTo>
                  <a:pt x="119796" y="110600"/>
                  <a:pt x="116949" y="110600"/>
                  <a:pt x="116949" y="110600"/>
                </a:cubicBezTo>
                <a:close/>
                <a:moveTo>
                  <a:pt x="21152" y="96814"/>
                </a:moveTo>
                <a:lnTo>
                  <a:pt x="21152" y="96814"/>
                </a:lnTo>
                <a:cubicBezTo>
                  <a:pt x="24000" y="69242"/>
                  <a:pt x="42101" y="46057"/>
                  <a:pt x="60000" y="46057"/>
                </a:cubicBezTo>
                <a:cubicBezTo>
                  <a:pt x="77898" y="46057"/>
                  <a:pt x="96000" y="69242"/>
                  <a:pt x="98847" y="96814"/>
                </a:cubicBezTo>
                <a:cubicBezTo>
                  <a:pt x="107796" y="96814"/>
                  <a:pt x="107796" y="96814"/>
                  <a:pt x="107796" y="96814"/>
                </a:cubicBezTo>
                <a:cubicBezTo>
                  <a:pt x="104949" y="59843"/>
                  <a:pt x="84000" y="36657"/>
                  <a:pt x="60000" y="36657"/>
                </a:cubicBezTo>
                <a:cubicBezTo>
                  <a:pt x="36000" y="36657"/>
                  <a:pt x="15050" y="59843"/>
                  <a:pt x="12000" y="96814"/>
                </a:cubicBezTo>
                <a:lnTo>
                  <a:pt x="21152" y="9681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4662"/>
          <p:cNvSpPr/>
          <p:nvPr/>
        </p:nvSpPr>
        <p:spPr>
          <a:xfrm>
            <a:off x="6470640" y="1165320"/>
            <a:ext cx="297000" cy="226800"/>
          </a:xfrm>
          <a:custGeom>
            <a:avLst/>
            <a:gdLst>
              <a:gd name="textAreaLeft" fmla="*/ 0 w 297000"/>
              <a:gd name="textAreaRight" fmla="*/ 297360 w 297000"/>
              <a:gd name="textAreaTop" fmla="*/ 0 h 226800"/>
              <a:gd name="textAreaBottom" fmla="*/ 227160 h 226800"/>
            </a:gdLst>
            <a:ahLst/>
            <a:rect l="textAreaLeft" t="textAreaTop" r="textAreaRight" b="textAreaBottom"/>
            <a:pathLst>
              <a:path w="120000" h="120000">
                <a:moveTo>
                  <a:pt x="71340" y="56186"/>
                </a:moveTo>
                <a:lnTo>
                  <a:pt x="71340" y="56186"/>
                </a:lnTo>
                <a:cubicBezTo>
                  <a:pt x="56995" y="56186"/>
                  <a:pt x="56995" y="56186"/>
                  <a:pt x="56995" y="56186"/>
                </a:cubicBezTo>
                <a:cubicBezTo>
                  <a:pt x="62810" y="33813"/>
                  <a:pt x="62810" y="33813"/>
                  <a:pt x="62810" y="33813"/>
                </a:cubicBezTo>
                <a:cubicBezTo>
                  <a:pt x="62810" y="33813"/>
                  <a:pt x="62810" y="30000"/>
                  <a:pt x="59903" y="30000"/>
                </a:cubicBezTo>
                <a:cubicBezTo>
                  <a:pt x="56995" y="26186"/>
                  <a:pt x="56995" y="30000"/>
                  <a:pt x="54281" y="30000"/>
                </a:cubicBezTo>
                <a:cubicBezTo>
                  <a:pt x="45557" y="60000"/>
                  <a:pt x="45557" y="60000"/>
                  <a:pt x="45557" y="60000"/>
                </a:cubicBezTo>
                <a:lnTo>
                  <a:pt x="45557" y="63813"/>
                </a:lnTo>
                <a:lnTo>
                  <a:pt x="48465" y="67372"/>
                </a:lnTo>
                <a:cubicBezTo>
                  <a:pt x="65718" y="67372"/>
                  <a:pt x="65718" y="67372"/>
                  <a:pt x="65718" y="67372"/>
                </a:cubicBezTo>
                <a:cubicBezTo>
                  <a:pt x="56995" y="89745"/>
                  <a:pt x="56995" y="89745"/>
                  <a:pt x="56995" y="89745"/>
                </a:cubicBezTo>
                <a:cubicBezTo>
                  <a:pt x="54281" y="89745"/>
                  <a:pt x="56995" y="93813"/>
                  <a:pt x="56995" y="97372"/>
                </a:cubicBezTo>
                <a:cubicBezTo>
                  <a:pt x="59903" y="97372"/>
                  <a:pt x="62810" y="97372"/>
                  <a:pt x="62810" y="93813"/>
                </a:cubicBezTo>
                <a:cubicBezTo>
                  <a:pt x="62810" y="93813"/>
                  <a:pt x="74054" y="63813"/>
                  <a:pt x="74054" y="60000"/>
                </a:cubicBezTo>
                <a:cubicBezTo>
                  <a:pt x="74054" y="60000"/>
                  <a:pt x="74054" y="56186"/>
                  <a:pt x="71340" y="56186"/>
                </a:cubicBezTo>
                <a:close/>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5000"/>
                </a:cubicBezTo>
                <a:cubicBezTo>
                  <a:pt x="119806" y="48813"/>
                  <a:pt x="105460"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6962" y="22627"/>
                  <a:pt x="79870" y="37627"/>
                </a:cubicBezTo>
                <a:cubicBezTo>
                  <a:pt x="99838" y="33813"/>
                  <a:pt x="111276" y="56186"/>
                  <a:pt x="114184" y="71186"/>
                </a:cubicBezTo>
                <a:cubicBezTo>
                  <a:pt x="114184" y="93813"/>
                  <a:pt x="96930" y="112372"/>
                  <a:pt x="82778" y="11237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4664"/>
          <p:cNvSpPr/>
          <p:nvPr/>
        </p:nvSpPr>
        <p:spPr>
          <a:xfrm>
            <a:off x="5440320" y="5541840"/>
            <a:ext cx="297000" cy="227160"/>
          </a:xfrm>
          <a:custGeom>
            <a:avLst/>
            <a:gdLst>
              <a:gd name="textAreaLeft" fmla="*/ 0 w 297000"/>
              <a:gd name="textAreaRight" fmla="*/ 297360 w 297000"/>
              <a:gd name="textAreaTop" fmla="*/ 0 h 227160"/>
              <a:gd name="textAreaBottom" fmla="*/ 227520 h 227160"/>
            </a:gdLst>
            <a:ahLst/>
            <a:rect l="textAreaLeft" t="textAreaTop" r="textAreaRight" b="textAreaBottom"/>
            <a:pathLst>
              <a:path w="120000" h="120000">
                <a:moveTo>
                  <a:pt x="85492" y="26186"/>
                </a:moveTo>
                <a:lnTo>
                  <a:pt x="85492" y="26186"/>
                </a:lnTo>
                <a:cubicBezTo>
                  <a:pt x="79870" y="11186"/>
                  <a:pt x="68432" y="0"/>
                  <a:pt x="56995" y="0"/>
                </a:cubicBezTo>
                <a:cubicBezTo>
                  <a:pt x="37027" y="0"/>
                  <a:pt x="22875" y="18813"/>
                  <a:pt x="22875" y="41186"/>
                </a:cubicBezTo>
                <a:cubicBezTo>
                  <a:pt x="8529" y="48813"/>
                  <a:pt x="0" y="63813"/>
                  <a:pt x="0" y="82372"/>
                </a:cubicBezTo>
                <a:cubicBezTo>
                  <a:pt x="0" y="101186"/>
                  <a:pt x="11437" y="119745"/>
                  <a:pt x="28497" y="119745"/>
                </a:cubicBezTo>
                <a:lnTo>
                  <a:pt x="82778" y="119745"/>
                </a:lnTo>
                <a:cubicBezTo>
                  <a:pt x="102746" y="119745"/>
                  <a:pt x="119806" y="101186"/>
                  <a:pt x="119806" y="74745"/>
                </a:cubicBezTo>
                <a:cubicBezTo>
                  <a:pt x="119806" y="48813"/>
                  <a:pt x="105654" y="26186"/>
                  <a:pt x="85492" y="26186"/>
                </a:cubicBezTo>
                <a:close/>
                <a:moveTo>
                  <a:pt x="82778" y="112372"/>
                </a:moveTo>
                <a:lnTo>
                  <a:pt x="82778" y="112372"/>
                </a:lnTo>
                <a:lnTo>
                  <a:pt x="28497" y="112372"/>
                </a:lnTo>
                <a:cubicBezTo>
                  <a:pt x="28497" y="112372"/>
                  <a:pt x="5621" y="108559"/>
                  <a:pt x="5621" y="82372"/>
                </a:cubicBezTo>
                <a:cubicBezTo>
                  <a:pt x="5621" y="67372"/>
                  <a:pt x="17059" y="52372"/>
                  <a:pt x="28497" y="52372"/>
                </a:cubicBezTo>
                <a:cubicBezTo>
                  <a:pt x="28497" y="30000"/>
                  <a:pt x="39935" y="11186"/>
                  <a:pt x="56995" y="11186"/>
                </a:cubicBezTo>
                <a:cubicBezTo>
                  <a:pt x="68432" y="11186"/>
                  <a:pt x="77156" y="22627"/>
                  <a:pt x="79870" y="37372"/>
                </a:cubicBezTo>
                <a:cubicBezTo>
                  <a:pt x="99838" y="33813"/>
                  <a:pt x="111276" y="56186"/>
                  <a:pt x="114184" y="71186"/>
                </a:cubicBezTo>
                <a:cubicBezTo>
                  <a:pt x="114184" y="93559"/>
                  <a:pt x="96930" y="112372"/>
                  <a:pt x="82778" y="11237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4666"/>
          <p:cNvSpPr/>
          <p:nvPr/>
        </p:nvSpPr>
        <p:spPr>
          <a:xfrm>
            <a:off x="4467240" y="5508720"/>
            <a:ext cx="268200" cy="304560"/>
          </a:xfrm>
          <a:custGeom>
            <a:avLst/>
            <a:gdLst>
              <a:gd name="textAreaLeft" fmla="*/ 0 w 268200"/>
              <a:gd name="textAreaRight" fmla="*/ 268560 w 268200"/>
              <a:gd name="textAreaTop" fmla="*/ 0 h 304560"/>
              <a:gd name="textAreaBottom" fmla="*/ 304920 h 304560"/>
            </a:gdLst>
            <a:ahLst/>
            <a:rect l="textAreaLeft" t="textAreaTop" r="textAreaRight" b="textAreaBottom"/>
            <a:pathLst>
              <a:path w="120000" h="120000">
                <a:moveTo>
                  <a:pt x="100748" y="0"/>
                </a:moveTo>
                <a:lnTo>
                  <a:pt x="100748" y="0"/>
                </a:lnTo>
                <a:cubicBezTo>
                  <a:pt x="19037" y="0"/>
                  <a:pt x="19037" y="0"/>
                  <a:pt x="19037" y="0"/>
                </a:cubicBezTo>
                <a:cubicBezTo>
                  <a:pt x="9411" y="0"/>
                  <a:pt x="0" y="5669"/>
                  <a:pt x="0" y="13984"/>
                </a:cubicBezTo>
                <a:cubicBezTo>
                  <a:pt x="0" y="119811"/>
                  <a:pt x="0" y="119811"/>
                  <a:pt x="0" y="119811"/>
                </a:cubicBezTo>
                <a:cubicBezTo>
                  <a:pt x="9411" y="119811"/>
                  <a:pt x="9411" y="119811"/>
                  <a:pt x="9411" y="119811"/>
                </a:cubicBezTo>
                <a:cubicBezTo>
                  <a:pt x="25240" y="108661"/>
                  <a:pt x="25240" y="108661"/>
                  <a:pt x="25240" y="108661"/>
                </a:cubicBezTo>
                <a:cubicBezTo>
                  <a:pt x="44278" y="119811"/>
                  <a:pt x="44278" y="119811"/>
                  <a:pt x="44278" y="119811"/>
                </a:cubicBezTo>
                <a:cubicBezTo>
                  <a:pt x="59893" y="108661"/>
                  <a:pt x="59893" y="108661"/>
                  <a:pt x="59893" y="108661"/>
                </a:cubicBezTo>
                <a:cubicBezTo>
                  <a:pt x="75721" y="119811"/>
                  <a:pt x="75721" y="119811"/>
                  <a:pt x="75721" y="119811"/>
                </a:cubicBezTo>
                <a:cubicBezTo>
                  <a:pt x="94545" y="108661"/>
                  <a:pt x="94545" y="108661"/>
                  <a:pt x="94545" y="108661"/>
                </a:cubicBezTo>
                <a:cubicBezTo>
                  <a:pt x="110374" y="119811"/>
                  <a:pt x="110374" y="119811"/>
                  <a:pt x="110374" y="119811"/>
                </a:cubicBezTo>
                <a:cubicBezTo>
                  <a:pt x="119786" y="119811"/>
                  <a:pt x="119786" y="119811"/>
                  <a:pt x="119786" y="119811"/>
                </a:cubicBezTo>
                <a:cubicBezTo>
                  <a:pt x="119786" y="13984"/>
                  <a:pt x="119786" y="13984"/>
                  <a:pt x="119786" y="13984"/>
                </a:cubicBezTo>
                <a:cubicBezTo>
                  <a:pt x="119786" y="5669"/>
                  <a:pt x="110374" y="0"/>
                  <a:pt x="100748" y="0"/>
                </a:cubicBezTo>
                <a:close/>
                <a:moveTo>
                  <a:pt x="110374" y="111307"/>
                </a:moveTo>
                <a:lnTo>
                  <a:pt x="110374" y="111307"/>
                </a:lnTo>
                <a:cubicBezTo>
                  <a:pt x="94545" y="100157"/>
                  <a:pt x="94545" y="100157"/>
                  <a:pt x="94545" y="100157"/>
                </a:cubicBezTo>
                <a:cubicBezTo>
                  <a:pt x="75721" y="111307"/>
                  <a:pt x="75721" y="111307"/>
                  <a:pt x="75721" y="111307"/>
                </a:cubicBezTo>
                <a:cubicBezTo>
                  <a:pt x="59893" y="100157"/>
                  <a:pt x="59893" y="100157"/>
                  <a:pt x="59893" y="100157"/>
                </a:cubicBezTo>
                <a:cubicBezTo>
                  <a:pt x="44278" y="111307"/>
                  <a:pt x="44278" y="111307"/>
                  <a:pt x="44278" y="111307"/>
                </a:cubicBezTo>
                <a:cubicBezTo>
                  <a:pt x="25240" y="100157"/>
                  <a:pt x="25240" y="100157"/>
                  <a:pt x="25240" y="100157"/>
                </a:cubicBezTo>
                <a:cubicBezTo>
                  <a:pt x="9411" y="111307"/>
                  <a:pt x="9411" y="111307"/>
                  <a:pt x="9411" y="111307"/>
                </a:cubicBezTo>
                <a:cubicBezTo>
                  <a:pt x="9411" y="13984"/>
                  <a:pt x="9411" y="13984"/>
                  <a:pt x="9411" y="13984"/>
                </a:cubicBezTo>
                <a:cubicBezTo>
                  <a:pt x="9411" y="11149"/>
                  <a:pt x="12620" y="8503"/>
                  <a:pt x="19037" y="8503"/>
                </a:cubicBezTo>
                <a:cubicBezTo>
                  <a:pt x="100748" y="8503"/>
                  <a:pt x="100748" y="8503"/>
                  <a:pt x="100748" y="8503"/>
                </a:cubicBezTo>
                <a:cubicBezTo>
                  <a:pt x="107165" y="8503"/>
                  <a:pt x="110374" y="11149"/>
                  <a:pt x="110374" y="13984"/>
                </a:cubicBezTo>
                <a:lnTo>
                  <a:pt x="110374" y="111307"/>
                </a:lnTo>
                <a:close/>
                <a:moveTo>
                  <a:pt x="88128" y="66897"/>
                </a:moveTo>
                <a:lnTo>
                  <a:pt x="88128" y="66897"/>
                </a:lnTo>
                <a:cubicBezTo>
                  <a:pt x="31657" y="66897"/>
                  <a:pt x="31657" y="66897"/>
                  <a:pt x="31657" y="66897"/>
                </a:cubicBezTo>
                <a:cubicBezTo>
                  <a:pt x="28449" y="66897"/>
                  <a:pt x="25240" y="69543"/>
                  <a:pt x="25240" y="69543"/>
                </a:cubicBezTo>
                <a:cubicBezTo>
                  <a:pt x="25240" y="72377"/>
                  <a:pt x="28449" y="75212"/>
                  <a:pt x="31657" y="75212"/>
                </a:cubicBezTo>
                <a:cubicBezTo>
                  <a:pt x="88128" y="75212"/>
                  <a:pt x="88128" y="75212"/>
                  <a:pt x="88128" y="75212"/>
                </a:cubicBezTo>
                <a:cubicBezTo>
                  <a:pt x="91336" y="75212"/>
                  <a:pt x="94545" y="72377"/>
                  <a:pt x="94545" y="69543"/>
                </a:cubicBezTo>
                <a:cubicBezTo>
                  <a:pt x="94545" y="69543"/>
                  <a:pt x="91336" y="66897"/>
                  <a:pt x="88128" y="66897"/>
                </a:cubicBezTo>
                <a:close/>
                <a:moveTo>
                  <a:pt x="88128" y="44598"/>
                </a:moveTo>
                <a:lnTo>
                  <a:pt x="88128" y="44598"/>
                </a:lnTo>
                <a:cubicBezTo>
                  <a:pt x="31657" y="44598"/>
                  <a:pt x="31657" y="44598"/>
                  <a:pt x="31657" y="44598"/>
                </a:cubicBezTo>
                <a:cubicBezTo>
                  <a:pt x="28449" y="44598"/>
                  <a:pt x="25240" y="47433"/>
                  <a:pt x="25240" y="47433"/>
                </a:cubicBezTo>
                <a:cubicBezTo>
                  <a:pt x="25240" y="50267"/>
                  <a:pt x="28449" y="52913"/>
                  <a:pt x="31657" y="52913"/>
                </a:cubicBezTo>
                <a:cubicBezTo>
                  <a:pt x="88128" y="52913"/>
                  <a:pt x="88128" y="52913"/>
                  <a:pt x="88128" y="52913"/>
                </a:cubicBezTo>
                <a:cubicBezTo>
                  <a:pt x="91336" y="52913"/>
                  <a:pt x="94545" y="50267"/>
                  <a:pt x="94545" y="47433"/>
                </a:cubicBezTo>
                <a:cubicBezTo>
                  <a:pt x="94545" y="47433"/>
                  <a:pt x="91336" y="44598"/>
                  <a:pt x="88128" y="44598"/>
                </a:cubicBezTo>
                <a:close/>
                <a:moveTo>
                  <a:pt x="88128" y="22299"/>
                </a:moveTo>
                <a:lnTo>
                  <a:pt x="88128" y="22299"/>
                </a:lnTo>
                <a:cubicBezTo>
                  <a:pt x="31657" y="22299"/>
                  <a:pt x="31657" y="22299"/>
                  <a:pt x="31657" y="22299"/>
                </a:cubicBezTo>
                <a:cubicBezTo>
                  <a:pt x="28449" y="22299"/>
                  <a:pt x="25240" y="25133"/>
                  <a:pt x="25240" y="25133"/>
                </a:cubicBezTo>
                <a:cubicBezTo>
                  <a:pt x="25240" y="27968"/>
                  <a:pt x="28449" y="30803"/>
                  <a:pt x="31657" y="30803"/>
                </a:cubicBezTo>
                <a:cubicBezTo>
                  <a:pt x="88128" y="30803"/>
                  <a:pt x="88128" y="30803"/>
                  <a:pt x="88128" y="30803"/>
                </a:cubicBezTo>
                <a:cubicBezTo>
                  <a:pt x="91336" y="30803"/>
                  <a:pt x="94545" y="27968"/>
                  <a:pt x="94545" y="25133"/>
                </a:cubicBezTo>
                <a:cubicBezTo>
                  <a:pt x="94545" y="25133"/>
                  <a:pt x="91336" y="22299"/>
                  <a:pt x="88128" y="2229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4668"/>
          <p:cNvSpPr/>
          <p:nvPr/>
        </p:nvSpPr>
        <p:spPr>
          <a:xfrm>
            <a:off x="3519360" y="5508720"/>
            <a:ext cx="204840" cy="304560"/>
          </a:xfrm>
          <a:custGeom>
            <a:avLst/>
            <a:gdLst>
              <a:gd name="textAreaLeft" fmla="*/ 0 w 204840"/>
              <a:gd name="textAreaRight" fmla="*/ 205200 w 204840"/>
              <a:gd name="textAreaTop" fmla="*/ 0 h 304560"/>
              <a:gd name="textAreaBottom" fmla="*/ 304920 h 304560"/>
            </a:gdLst>
            <a:ahLst/>
            <a:rect l="textAreaLeft" t="textAreaTop" r="textAreaRight" b="textAreaBottom"/>
            <a:pathLst>
              <a:path w="120000" h="120000">
                <a:moveTo>
                  <a:pt x="115514" y="36283"/>
                </a:moveTo>
                <a:lnTo>
                  <a:pt x="115514" y="36283"/>
                </a:lnTo>
                <a:cubicBezTo>
                  <a:pt x="65887" y="2834"/>
                  <a:pt x="65887" y="2834"/>
                  <a:pt x="65887" y="2834"/>
                </a:cubicBezTo>
                <a:cubicBezTo>
                  <a:pt x="61962" y="0"/>
                  <a:pt x="53551" y="0"/>
                  <a:pt x="49345" y="2834"/>
                </a:cubicBezTo>
                <a:cubicBezTo>
                  <a:pt x="0" y="36283"/>
                  <a:pt x="0" y="36283"/>
                  <a:pt x="0" y="36283"/>
                </a:cubicBezTo>
                <a:cubicBezTo>
                  <a:pt x="0" y="39118"/>
                  <a:pt x="0" y="39118"/>
                  <a:pt x="0" y="41763"/>
                </a:cubicBezTo>
                <a:cubicBezTo>
                  <a:pt x="0" y="102992"/>
                  <a:pt x="0" y="102992"/>
                  <a:pt x="0" y="102992"/>
                </a:cubicBezTo>
                <a:cubicBezTo>
                  <a:pt x="0" y="111307"/>
                  <a:pt x="8130" y="119811"/>
                  <a:pt x="20467" y="119811"/>
                </a:cubicBezTo>
                <a:cubicBezTo>
                  <a:pt x="98971" y="119811"/>
                  <a:pt x="98971" y="119811"/>
                  <a:pt x="98971" y="119811"/>
                </a:cubicBezTo>
                <a:cubicBezTo>
                  <a:pt x="107102" y="119811"/>
                  <a:pt x="119719" y="111307"/>
                  <a:pt x="119719" y="102992"/>
                </a:cubicBezTo>
                <a:cubicBezTo>
                  <a:pt x="119719" y="47433"/>
                  <a:pt x="119719" y="47433"/>
                  <a:pt x="119719" y="47433"/>
                </a:cubicBezTo>
                <a:cubicBezTo>
                  <a:pt x="119719" y="41763"/>
                  <a:pt x="119719" y="39118"/>
                  <a:pt x="115514" y="36283"/>
                </a:cubicBezTo>
                <a:close/>
                <a:moveTo>
                  <a:pt x="107102" y="102992"/>
                </a:moveTo>
                <a:lnTo>
                  <a:pt x="107102" y="102992"/>
                </a:lnTo>
                <a:cubicBezTo>
                  <a:pt x="107102" y="108661"/>
                  <a:pt x="103177" y="111307"/>
                  <a:pt x="98971" y="111307"/>
                </a:cubicBezTo>
                <a:cubicBezTo>
                  <a:pt x="20467" y="111307"/>
                  <a:pt x="20467" y="111307"/>
                  <a:pt x="20467" y="111307"/>
                </a:cubicBezTo>
                <a:cubicBezTo>
                  <a:pt x="16542" y="111307"/>
                  <a:pt x="8130" y="108661"/>
                  <a:pt x="8130" y="102992"/>
                </a:cubicBezTo>
                <a:cubicBezTo>
                  <a:pt x="8130" y="44598"/>
                  <a:pt x="8130" y="44598"/>
                  <a:pt x="8130" y="44598"/>
                </a:cubicBezTo>
                <a:cubicBezTo>
                  <a:pt x="8130" y="41763"/>
                  <a:pt x="8130" y="41763"/>
                  <a:pt x="12336" y="39118"/>
                </a:cubicBezTo>
                <a:cubicBezTo>
                  <a:pt x="53551" y="8503"/>
                  <a:pt x="53551" y="8503"/>
                  <a:pt x="53551" y="8503"/>
                </a:cubicBezTo>
                <a:cubicBezTo>
                  <a:pt x="57757" y="8503"/>
                  <a:pt x="61962" y="8503"/>
                  <a:pt x="61962" y="8503"/>
                </a:cubicBezTo>
                <a:cubicBezTo>
                  <a:pt x="103177" y="39118"/>
                  <a:pt x="103177" y="39118"/>
                  <a:pt x="103177" y="39118"/>
                </a:cubicBezTo>
                <a:cubicBezTo>
                  <a:pt x="107102" y="41763"/>
                  <a:pt x="107102" y="41763"/>
                  <a:pt x="107102" y="44598"/>
                </a:cubicBezTo>
                <a:lnTo>
                  <a:pt x="107102" y="102992"/>
                </a:lnTo>
                <a:close/>
                <a:moveTo>
                  <a:pt x="57757" y="30803"/>
                </a:moveTo>
                <a:lnTo>
                  <a:pt x="57757" y="30803"/>
                </a:lnTo>
                <a:cubicBezTo>
                  <a:pt x="45420" y="30803"/>
                  <a:pt x="37009" y="39118"/>
                  <a:pt x="37009" y="47433"/>
                </a:cubicBezTo>
                <a:cubicBezTo>
                  <a:pt x="37009" y="55748"/>
                  <a:pt x="45420" y="61417"/>
                  <a:pt x="57757" y="61417"/>
                </a:cubicBezTo>
                <a:cubicBezTo>
                  <a:pt x="70093" y="61417"/>
                  <a:pt x="82429" y="55748"/>
                  <a:pt x="82429" y="47433"/>
                </a:cubicBezTo>
                <a:cubicBezTo>
                  <a:pt x="82429" y="39118"/>
                  <a:pt x="70093" y="30803"/>
                  <a:pt x="57757" y="30803"/>
                </a:cubicBezTo>
                <a:close/>
                <a:moveTo>
                  <a:pt x="57757" y="52913"/>
                </a:moveTo>
                <a:lnTo>
                  <a:pt x="57757" y="52913"/>
                </a:lnTo>
                <a:cubicBezTo>
                  <a:pt x="53551" y="52913"/>
                  <a:pt x="49345" y="50267"/>
                  <a:pt x="49345" y="47433"/>
                </a:cubicBezTo>
                <a:cubicBezTo>
                  <a:pt x="49345" y="41763"/>
                  <a:pt x="53551" y="39118"/>
                  <a:pt x="57757" y="39118"/>
                </a:cubicBezTo>
                <a:cubicBezTo>
                  <a:pt x="65887" y="39118"/>
                  <a:pt x="70093" y="41763"/>
                  <a:pt x="70093" y="47433"/>
                </a:cubicBezTo>
                <a:cubicBezTo>
                  <a:pt x="70093" y="50267"/>
                  <a:pt x="65887" y="52913"/>
                  <a:pt x="57757" y="5291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4670"/>
          <p:cNvSpPr/>
          <p:nvPr/>
        </p:nvSpPr>
        <p:spPr>
          <a:xfrm>
            <a:off x="2484360" y="5508720"/>
            <a:ext cx="304920" cy="304560"/>
          </a:xfrm>
          <a:custGeom>
            <a:avLst/>
            <a:gdLst>
              <a:gd name="textAreaLeft" fmla="*/ 0 w 304920"/>
              <a:gd name="textAreaRight" fmla="*/ 305280 w 304920"/>
              <a:gd name="textAreaTop" fmla="*/ 0 h 304560"/>
              <a:gd name="textAreaBottom" fmla="*/ 304920 h 304560"/>
            </a:gdLst>
            <a:ahLst/>
            <a:rect l="textAreaLeft" t="textAreaTop" r="textAreaRight" b="textAreaBottom"/>
            <a:pathLst>
              <a:path w="120000" h="120000">
                <a:moveTo>
                  <a:pt x="64164" y="30803"/>
                </a:moveTo>
                <a:lnTo>
                  <a:pt x="64164" y="30803"/>
                </a:lnTo>
                <a:cubicBezTo>
                  <a:pt x="61324" y="30803"/>
                  <a:pt x="61324" y="30803"/>
                  <a:pt x="61324" y="30803"/>
                </a:cubicBezTo>
                <a:cubicBezTo>
                  <a:pt x="58675" y="30803"/>
                  <a:pt x="58675" y="30803"/>
                  <a:pt x="58675" y="30803"/>
                </a:cubicBezTo>
                <a:cubicBezTo>
                  <a:pt x="39179" y="52913"/>
                  <a:pt x="39179" y="52913"/>
                  <a:pt x="39179" y="52913"/>
                </a:cubicBezTo>
                <a:cubicBezTo>
                  <a:pt x="39179" y="55748"/>
                  <a:pt x="39179" y="55748"/>
                  <a:pt x="39179" y="58582"/>
                </a:cubicBezTo>
                <a:cubicBezTo>
                  <a:pt x="41829" y="58582"/>
                  <a:pt x="41829" y="58582"/>
                  <a:pt x="44668" y="58582"/>
                </a:cubicBezTo>
                <a:cubicBezTo>
                  <a:pt x="55835" y="44598"/>
                  <a:pt x="55835" y="44598"/>
                  <a:pt x="55835" y="44598"/>
                </a:cubicBezTo>
                <a:cubicBezTo>
                  <a:pt x="55835" y="100157"/>
                  <a:pt x="55835" y="100157"/>
                  <a:pt x="55835" y="100157"/>
                </a:cubicBezTo>
                <a:cubicBezTo>
                  <a:pt x="55835" y="102992"/>
                  <a:pt x="58675" y="102992"/>
                  <a:pt x="61324" y="102992"/>
                </a:cubicBezTo>
                <a:cubicBezTo>
                  <a:pt x="61324" y="102992"/>
                  <a:pt x="64164" y="102992"/>
                  <a:pt x="64164" y="100157"/>
                </a:cubicBezTo>
                <a:cubicBezTo>
                  <a:pt x="64164" y="44598"/>
                  <a:pt x="64164" y="44598"/>
                  <a:pt x="64164" y="44598"/>
                </a:cubicBezTo>
                <a:cubicBezTo>
                  <a:pt x="75331" y="58582"/>
                  <a:pt x="75331" y="58582"/>
                  <a:pt x="75331" y="58582"/>
                </a:cubicBezTo>
                <a:cubicBezTo>
                  <a:pt x="77981" y="58582"/>
                  <a:pt x="80820" y="58582"/>
                  <a:pt x="80820" y="58582"/>
                </a:cubicBezTo>
                <a:cubicBezTo>
                  <a:pt x="83659" y="55748"/>
                  <a:pt x="83659" y="55748"/>
                  <a:pt x="80820" y="52913"/>
                </a:cubicBezTo>
                <a:lnTo>
                  <a:pt x="64164" y="30803"/>
                </a:lnTo>
                <a:close/>
                <a:moveTo>
                  <a:pt x="105993" y="0"/>
                </a:moveTo>
                <a:lnTo>
                  <a:pt x="105993" y="0"/>
                </a:lnTo>
                <a:cubicBezTo>
                  <a:pt x="16845" y="0"/>
                  <a:pt x="16845" y="0"/>
                  <a:pt x="16845" y="0"/>
                </a:cubicBezTo>
                <a:cubicBezTo>
                  <a:pt x="8328" y="0"/>
                  <a:pt x="0" y="5669"/>
                  <a:pt x="0" y="13984"/>
                </a:cubicBezTo>
                <a:cubicBezTo>
                  <a:pt x="0" y="102992"/>
                  <a:pt x="0" y="102992"/>
                  <a:pt x="0" y="102992"/>
                </a:cubicBezTo>
                <a:cubicBezTo>
                  <a:pt x="0" y="111307"/>
                  <a:pt x="8328" y="119811"/>
                  <a:pt x="16845" y="119811"/>
                </a:cubicBezTo>
                <a:cubicBezTo>
                  <a:pt x="105993" y="119811"/>
                  <a:pt x="105993" y="119811"/>
                  <a:pt x="105993" y="119811"/>
                </a:cubicBezTo>
                <a:cubicBezTo>
                  <a:pt x="114321" y="119811"/>
                  <a:pt x="119810" y="111307"/>
                  <a:pt x="119810" y="102992"/>
                </a:cubicBezTo>
                <a:cubicBezTo>
                  <a:pt x="119810" y="13984"/>
                  <a:pt x="119810" y="13984"/>
                  <a:pt x="119810" y="13984"/>
                </a:cubicBezTo>
                <a:cubicBezTo>
                  <a:pt x="119810" y="5669"/>
                  <a:pt x="114321" y="0"/>
                  <a:pt x="105993" y="0"/>
                </a:cubicBezTo>
                <a:close/>
                <a:moveTo>
                  <a:pt x="111482" y="102992"/>
                </a:moveTo>
                <a:lnTo>
                  <a:pt x="111482" y="102992"/>
                </a:lnTo>
                <a:cubicBezTo>
                  <a:pt x="111482" y="108661"/>
                  <a:pt x="108643" y="111307"/>
                  <a:pt x="105993" y="111307"/>
                </a:cubicBezTo>
                <a:cubicBezTo>
                  <a:pt x="16845" y="111307"/>
                  <a:pt x="16845" y="111307"/>
                  <a:pt x="16845" y="111307"/>
                </a:cubicBezTo>
                <a:cubicBezTo>
                  <a:pt x="11167" y="111307"/>
                  <a:pt x="8328" y="108661"/>
                  <a:pt x="8328" y="102992"/>
                </a:cubicBezTo>
                <a:cubicBezTo>
                  <a:pt x="8328" y="13984"/>
                  <a:pt x="8328" y="13984"/>
                  <a:pt x="8328" y="13984"/>
                </a:cubicBezTo>
                <a:cubicBezTo>
                  <a:pt x="8328" y="11149"/>
                  <a:pt x="11167" y="8503"/>
                  <a:pt x="16845" y="8503"/>
                </a:cubicBezTo>
                <a:cubicBezTo>
                  <a:pt x="105993" y="8503"/>
                  <a:pt x="105993" y="8503"/>
                  <a:pt x="105993" y="8503"/>
                </a:cubicBezTo>
                <a:cubicBezTo>
                  <a:pt x="108643" y="8503"/>
                  <a:pt x="111482" y="11149"/>
                  <a:pt x="111482" y="13984"/>
                </a:cubicBezTo>
                <a:lnTo>
                  <a:pt x="111482" y="102992"/>
                </a:lnTo>
                <a:close/>
                <a:moveTo>
                  <a:pt x="94826" y="13984"/>
                </a:moveTo>
                <a:lnTo>
                  <a:pt x="94826" y="13984"/>
                </a:lnTo>
                <a:cubicBezTo>
                  <a:pt x="28012" y="13984"/>
                  <a:pt x="28012" y="13984"/>
                  <a:pt x="28012" y="13984"/>
                </a:cubicBezTo>
                <a:cubicBezTo>
                  <a:pt x="25173" y="13984"/>
                  <a:pt x="22334" y="16818"/>
                  <a:pt x="22334" y="19653"/>
                </a:cubicBezTo>
                <a:cubicBezTo>
                  <a:pt x="22334" y="19653"/>
                  <a:pt x="25173" y="22299"/>
                  <a:pt x="28012" y="22299"/>
                </a:cubicBezTo>
                <a:cubicBezTo>
                  <a:pt x="94826" y="22299"/>
                  <a:pt x="94826" y="22299"/>
                  <a:pt x="94826" y="22299"/>
                </a:cubicBezTo>
                <a:lnTo>
                  <a:pt x="97665" y="19653"/>
                </a:lnTo>
                <a:cubicBezTo>
                  <a:pt x="97665" y="16818"/>
                  <a:pt x="94826" y="13984"/>
                  <a:pt x="94826" y="1398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4672"/>
          <p:cNvSpPr/>
          <p:nvPr/>
        </p:nvSpPr>
        <p:spPr>
          <a:xfrm>
            <a:off x="1509840" y="5508720"/>
            <a:ext cx="295200" cy="304560"/>
          </a:xfrm>
          <a:custGeom>
            <a:avLst/>
            <a:gdLst>
              <a:gd name="textAreaLeft" fmla="*/ 0 w 295200"/>
              <a:gd name="textAreaRight" fmla="*/ 295560 w 295200"/>
              <a:gd name="textAreaTop" fmla="*/ 0 h 304560"/>
              <a:gd name="textAreaBottom" fmla="*/ 304920 h 304560"/>
            </a:gdLst>
            <a:ahLst/>
            <a:rect l="textAreaLeft" t="textAreaTop" r="textAreaRight" b="textAreaBottom"/>
            <a:pathLst>
              <a:path w="120000" h="120000">
                <a:moveTo>
                  <a:pt x="114184" y="22299"/>
                </a:moveTo>
                <a:lnTo>
                  <a:pt x="114184" y="22299"/>
                </a:lnTo>
                <a:cubicBezTo>
                  <a:pt x="85492" y="22299"/>
                  <a:pt x="85492" y="22299"/>
                  <a:pt x="85492" y="22299"/>
                </a:cubicBezTo>
                <a:cubicBezTo>
                  <a:pt x="85492" y="19653"/>
                  <a:pt x="85492" y="16818"/>
                  <a:pt x="85492" y="13984"/>
                </a:cubicBezTo>
                <a:cubicBezTo>
                  <a:pt x="85492" y="5669"/>
                  <a:pt x="79870" y="0"/>
                  <a:pt x="71340" y="0"/>
                </a:cubicBezTo>
                <a:cubicBezTo>
                  <a:pt x="65718" y="0"/>
                  <a:pt x="62810" y="2834"/>
                  <a:pt x="59903" y="5669"/>
                </a:cubicBezTo>
                <a:cubicBezTo>
                  <a:pt x="56995" y="2834"/>
                  <a:pt x="54281" y="0"/>
                  <a:pt x="48465" y="0"/>
                </a:cubicBezTo>
                <a:cubicBezTo>
                  <a:pt x="39935" y="0"/>
                  <a:pt x="34313" y="5669"/>
                  <a:pt x="34313" y="13984"/>
                </a:cubicBezTo>
                <a:cubicBezTo>
                  <a:pt x="34313" y="16818"/>
                  <a:pt x="34313" y="19653"/>
                  <a:pt x="34313" y="22299"/>
                </a:cubicBezTo>
                <a:cubicBezTo>
                  <a:pt x="5621" y="22299"/>
                  <a:pt x="5621" y="22299"/>
                  <a:pt x="5621" y="22299"/>
                </a:cubicBezTo>
                <a:cubicBezTo>
                  <a:pt x="2907" y="22299"/>
                  <a:pt x="0" y="25133"/>
                  <a:pt x="0" y="30803"/>
                </a:cubicBezTo>
                <a:cubicBezTo>
                  <a:pt x="0" y="36283"/>
                  <a:pt x="0" y="36283"/>
                  <a:pt x="0" y="36283"/>
                </a:cubicBezTo>
                <a:cubicBezTo>
                  <a:pt x="0" y="41763"/>
                  <a:pt x="2907" y="44598"/>
                  <a:pt x="5621" y="44598"/>
                </a:cubicBezTo>
                <a:cubicBezTo>
                  <a:pt x="5621" y="102992"/>
                  <a:pt x="5621" y="102992"/>
                  <a:pt x="5621" y="102992"/>
                </a:cubicBezTo>
                <a:cubicBezTo>
                  <a:pt x="5621" y="111307"/>
                  <a:pt x="14151" y="119811"/>
                  <a:pt x="22875" y="119811"/>
                </a:cubicBezTo>
                <a:cubicBezTo>
                  <a:pt x="96930" y="119811"/>
                  <a:pt x="96930" y="119811"/>
                  <a:pt x="96930" y="119811"/>
                </a:cubicBezTo>
                <a:cubicBezTo>
                  <a:pt x="105460" y="119811"/>
                  <a:pt x="114184" y="111307"/>
                  <a:pt x="114184" y="102992"/>
                </a:cubicBezTo>
                <a:cubicBezTo>
                  <a:pt x="114184" y="44598"/>
                  <a:pt x="114184" y="44598"/>
                  <a:pt x="114184" y="44598"/>
                </a:cubicBezTo>
                <a:cubicBezTo>
                  <a:pt x="116898" y="44598"/>
                  <a:pt x="119806" y="41763"/>
                  <a:pt x="119806" y="36283"/>
                </a:cubicBezTo>
                <a:cubicBezTo>
                  <a:pt x="119806" y="30803"/>
                  <a:pt x="119806" y="30803"/>
                  <a:pt x="119806" y="30803"/>
                </a:cubicBezTo>
                <a:cubicBezTo>
                  <a:pt x="119806" y="25133"/>
                  <a:pt x="116898" y="22299"/>
                  <a:pt x="114184" y="22299"/>
                </a:cubicBezTo>
                <a:close/>
                <a:moveTo>
                  <a:pt x="71340" y="8503"/>
                </a:moveTo>
                <a:lnTo>
                  <a:pt x="71340" y="8503"/>
                </a:lnTo>
                <a:cubicBezTo>
                  <a:pt x="74054" y="8503"/>
                  <a:pt x="79870" y="11149"/>
                  <a:pt x="79870" y="13984"/>
                </a:cubicBezTo>
                <a:cubicBezTo>
                  <a:pt x="79870" y="19653"/>
                  <a:pt x="74054" y="22299"/>
                  <a:pt x="71340" y="22299"/>
                </a:cubicBezTo>
                <a:cubicBezTo>
                  <a:pt x="68432" y="22299"/>
                  <a:pt x="62810" y="19653"/>
                  <a:pt x="62810" y="13984"/>
                </a:cubicBezTo>
                <a:cubicBezTo>
                  <a:pt x="62810" y="11149"/>
                  <a:pt x="68432" y="8503"/>
                  <a:pt x="71340" y="8503"/>
                </a:cubicBezTo>
                <a:close/>
                <a:moveTo>
                  <a:pt x="48465" y="8503"/>
                </a:moveTo>
                <a:lnTo>
                  <a:pt x="48465" y="8503"/>
                </a:lnTo>
                <a:cubicBezTo>
                  <a:pt x="51373" y="8503"/>
                  <a:pt x="56995" y="11149"/>
                  <a:pt x="56995" y="13984"/>
                </a:cubicBezTo>
                <a:cubicBezTo>
                  <a:pt x="56995" y="19653"/>
                  <a:pt x="51373" y="22299"/>
                  <a:pt x="48465" y="22299"/>
                </a:cubicBezTo>
                <a:cubicBezTo>
                  <a:pt x="45557" y="22299"/>
                  <a:pt x="39935" y="19653"/>
                  <a:pt x="39935" y="13984"/>
                </a:cubicBezTo>
                <a:cubicBezTo>
                  <a:pt x="39935" y="11149"/>
                  <a:pt x="45557" y="8503"/>
                  <a:pt x="48465" y="8503"/>
                </a:cubicBezTo>
                <a:close/>
                <a:moveTo>
                  <a:pt x="56995" y="111307"/>
                </a:moveTo>
                <a:lnTo>
                  <a:pt x="56995" y="111307"/>
                </a:lnTo>
                <a:cubicBezTo>
                  <a:pt x="22875" y="111307"/>
                  <a:pt x="22875" y="111307"/>
                  <a:pt x="22875" y="111307"/>
                </a:cubicBezTo>
                <a:cubicBezTo>
                  <a:pt x="17059" y="111307"/>
                  <a:pt x="14151" y="108661"/>
                  <a:pt x="14151" y="102992"/>
                </a:cubicBezTo>
                <a:cubicBezTo>
                  <a:pt x="14151" y="80692"/>
                  <a:pt x="14151" y="80692"/>
                  <a:pt x="14151" y="80692"/>
                </a:cubicBezTo>
                <a:cubicBezTo>
                  <a:pt x="56995" y="80692"/>
                  <a:pt x="56995" y="80692"/>
                  <a:pt x="56995" y="80692"/>
                </a:cubicBezTo>
                <a:lnTo>
                  <a:pt x="56995" y="111307"/>
                </a:lnTo>
                <a:close/>
                <a:moveTo>
                  <a:pt x="56995" y="75212"/>
                </a:moveTo>
                <a:lnTo>
                  <a:pt x="56995" y="75212"/>
                </a:lnTo>
                <a:cubicBezTo>
                  <a:pt x="14151" y="75212"/>
                  <a:pt x="14151" y="75212"/>
                  <a:pt x="14151" y="75212"/>
                </a:cubicBezTo>
                <a:cubicBezTo>
                  <a:pt x="14151" y="44598"/>
                  <a:pt x="14151" y="44598"/>
                  <a:pt x="14151" y="44598"/>
                </a:cubicBezTo>
                <a:cubicBezTo>
                  <a:pt x="56995" y="44598"/>
                  <a:pt x="56995" y="44598"/>
                  <a:pt x="56995" y="44598"/>
                </a:cubicBezTo>
                <a:lnTo>
                  <a:pt x="56995" y="75212"/>
                </a:lnTo>
                <a:close/>
                <a:moveTo>
                  <a:pt x="105460" y="102992"/>
                </a:moveTo>
                <a:lnTo>
                  <a:pt x="105460" y="102992"/>
                </a:lnTo>
                <a:cubicBezTo>
                  <a:pt x="105460" y="108661"/>
                  <a:pt x="102746" y="111307"/>
                  <a:pt x="96930" y="111307"/>
                </a:cubicBezTo>
                <a:cubicBezTo>
                  <a:pt x="62810" y="111307"/>
                  <a:pt x="62810" y="111307"/>
                  <a:pt x="62810" y="111307"/>
                </a:cubicBezTo>
                <a:cubicBezTo>
                  <a:pt x="62810" y="80692"/>
                  <a:pt x="62810" y="80692"/>
                  <a:pt x="62810" y="80692"/>
                </a:cubicBezTo>
                <a:cubicBezTo>
                  <a:pt x="105460" y="80692"/>
                  <a:pt x="105460" y="80692"/>
                  <a:pt x="105460" y="80692"/>
                </a:cubicBezTo>
                <a:lnTo>
                  <a:pt x="105460" y="102992"/>
                </a:lnTo>
                <a:close/>
                <a:moveTo>
                  <a:pt x="105460" y="75212"/>
                </a:moveTo>
                <a:lnTo>
                  <a:pt x="105460" y="75212"/>
                </a:lnTo>
                <a:cubicBezTo>
                  <a:pt x="62810" y="75212"/>
                  <a:pt x="62810" y="75212"/>
                  <a:pt x="62810" y="75212"/>
                </a:cubicBezTo>
                <a:cubicBezTo>
                  <a:pt x="62810" y="44598"/>
                  <a:pt x="62810" y="44598"/>
                  <a:pt x="62810" y="44598"/>
                </a:cubicBezTo>
                <a:cubicBezTo>
                  <a:pt x="105460" y="44598"/>
                  <a:pt x="105460" y="44598"/>
                  <a:pt x="105460" y="44598"/>
                </a:cubicBezTo>
                <a:lnTo>
                  <a:pt x="105460" y="75212"/>
                </a:lnTo>
                <a:close/>
                <a:moveTo>
                  <a:pt x="108368" y="36283"/>
                </a:moveTo>
                <a:lnTo>
                  <a:pt x="108368" y="36283"/>
                </a:lnTo>
                <a:cubicBezTo>
                  <a:pt x="11437" y="36283"/>
                  <a:pt x="11437" y="36283"/>
                  <a:pt x="11437" y="36283"/>
                </a:cubicBezTo>
                <a:cubicBezTo>
                  <a:pt x="8529" y="36283"/>
                  <a:pt x="5621" y="36283"/>
                  <a:pt x="5621" y="33448"/>
                </a:cubicBezTo>
                <a:cubicBezTo>
                  <a:pt x="5621" y="30803"/>
                  <a:pt x="8529" y="30803"/>
                  <a:pt x="11437" y="30803"/>
                </a:cubicBezTo>
                <a:cubicBezTo>
                  <a:pt x="108368" y="30803"/>
                  <a:pt x="108368" y="30803"/>
                  <a:pt x="108368" y="30803"/>
                </a:cubicBezTo>
                <a:cubicBezTo>
                  <a:pt x="111276" y="30803"/>
                  <a:pt x="114184" y="30803"/>
                  <a:pt x="114184" y="33448"/>
                </a:cubicBezTo>
                <a:cubicBezTo>
                  <a:pt x="114184" y="36283"/>
                  <a:pt x="111276" y="36283"/>
                  <a:pt x="108368" y="3628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4674"/>
          <p:cNvSpPr/>
          <p:nvPr/>
        </p:nvSpPr>
        <p:spPr>
          <a:xfrm>
            <a:off x="5427720" y="501804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4676"/>
          <p:cNvSpPr/>
          <p:nvPr/>
        </p:nvSpPr>
        <p:spPr>
          <a:xfrm>
            <a:off x="4451400" y="5048280"/>
            <a:ext cx="295200" cy="241200"/>
          </a:xfrm>
          <a:custGeom>
            <a:avLst/>
            <a:gdLst>
              <a:gd name="textAreaLeft" fmla="*/ 0 w 295200"/>
              <a:gd name="textAreaRight" fmla="*/ 295560 w 295200"/>
              <a:gd name="textAreaTop" fmla="*/ 0 h 241200"/>
              <a:gd name="textAreaBottom" fmla="*/ 241560 h 241200"/>
            </a:gdLst>
            <a:ahLst/>
            <a:rect l="textAreaLeft" t="textAreaTop" r="textAreaRight" b="textAreaBottom"/>
            <a:pathLst>
              <a:path w="120000" h="120000">
                <a:moveTo>
                  <a:pt x="116898" y="28023"/>
                </a:moveTo>
                <a:lnTo>
                  <a:pt x="116898" y="28023"/>
                </a:lnTo>
                <a:cubicBezTo>
                  <a:pt x="91308" y="28023"/>
                  <a:pt x="91308" y="28023"/>
                  <a:pt x="91308" y="28023"/>
                </a:cubicBezTo>
                <a:cubicBezTo>
                  <a:pt x="99838" y="6946"/>
                  <a:pt x="99838" y="6946"/>
                  <a:pt x="99838" y="6946"/>
                </a:cubicBezTo>
                <a:cubicBezTo>
                  <a:pt x="108368" y="6946"/>
                  <a:pt x="108368" y="6946"/>
                  <a:pt x="108368" y="6946"/>
                </a:cubicBezTo>
                <a:cubicBezTo>
                  <a:pt x="111276" y="6946"/>
                  <a:pt x="114184" y="6946"/>
                  <a:pt x="114184" y="3353"/>
                </a:cubicBezTo>
                <a:cubicBezTo>
                  <a:pt x="114184" y="0"/>
                  <a:pt x="111276" y="0"/>
                  <a:pt x="108368" y="0"/>
                </a:cubicBezTo>
                <a:cubicBezTo>
                  <a:pt x="94216" y="0"/>
                  <a:pt x="94216" y="0"/>
                  <a:pt x="94216" y="0"/>
                </a:cubicBezTo>
                <a:cubicBezTo>
                  <a:pt x="82778" y="28023"/>
                  <a:pt x="82778" y="28023"/>
                  <a:pt x="82778" y="28023"/>
                </a:cubicBezTo>
                <a:cubicBezTo>
                  <a:pt x="37027" y="28023"/>
                  <a:pt x="37027" y="28023"/>
                  <a:pt x="37027" y="28023"/>
                </a:cubicBezTo>
                <a:cubicBezTo>
                  <a:pt x="25589" y="0"/>
                  <a:pt x="25589" y="0"/>
                  <a:pt x="25589" y="0"/>
                </a:cubicBezTo>
                <a:cubicBezTo>
                  <a:pt x="11437" y="0"/>
                  <a:pt x="11437" y="0"/>
                  <a:pt x="11437" y="0"/>
                </a:cubicBezTo>
                <a:cubicBezTo>
                  <a:pt x="8529" y="0"/>
                  <a:pt x="5621" y="0"/>
                  <a:pt x="5621" y="3353"/>
                </a:cubicBezTo>
                <a:cubicBezTo>
                  <a:pt x="5621" y="6946"/>
                  <a:pt x="8529" y="6946"/>
                  <a:pt x="11437" y="6946"/>
                </a:cubicBezTo>
                <a:cubicBezTo>
                  <a:pt x="19967" y="6946"/>
                  <a:pt x="19967" y="6946"/>
                  <a:pt x="19967" y="6946"/>
                </a:cubicBezTo>
                <a:cubicBezTo>
                  <a:pt x="28497" y="28023"/>
                  <a:pt x="28497" y="28023"/>
                  <a:pt x="28497" y="28023"/>
                </a:cubicBezTo>
                <a:cubicBezTo>
                  <a:pt x="2907" y="28023"/>
                  <a:pt x="2907" y="28023"/>
                  <a:pt x="2907" y="28023"/>
                </a:cubicBezTo>
                <a:cubicBezTo>
                  <a:pt x="0" y="28023"/>
                  <a:pt x="0" y="28023"/>
                  <a:pt x="0" y="31616"/>
                </a:cubicBezTo>
                <a:cubicBezTo>
                  <a:pt x="0" y="35209"/>
                  <a:pt x="0" y="35209"/>
                  <a:pt x="2907" y="35209"/>
                </a:cubicBezTo>
                <a:cubicBezTo>
                  <a:pt x="5621" y="35209"/>
                  <a:pt x="5621" y="35209"/>
                  <a:pt x="5621" y="35209"/>
                </a:cubicBezTo>
                <a:cubicBezTo>
                  <a:pt x="11437" y="102035"/>
                  <a:pt x="11437" y="102035"/>
                  <a:pt x="11437" y="102035"/>
                </a:cubicBezTo>
                <a:cubicBezTo>
                  <a:pt x="11437" y="112814"/>
                  <a:pt x="17059" y="119760"/>
                  <a:pt x="25589" y="119760"/>
                </a:cubicBezTo>
                <a:cubicBezTo>
                  <a:pt x="91308" y="119760"/>
                  <a:pt x="91308" y="119760"/>
                  <a:pt x="91308" y="119760"/>
                </a:cubicBezTo>
                <a:cubicBezTo>
                  <a:pt x="99838" y="119760"/>
                  <a:pt x="105654" y="112814"/>
                  <a:pt x="105654" y="102035"/>
                </a:cubicBezTo>
                <a:cubicBezTo>
                  <a:pt x="114184" y="35209"/>
                  <a:pt x="114184" y="35209"/>
                  <a:pt x="114184" y="35209"/>
                </a:cubicBezTo>
                <a:cubicBezTo>
                  <a:pt x="116898" y="35209"/>
                  <a:pt x="116898" y="35209"/>
                  <a:pt x="116898" y="35209"/>
                </a:cubicBezTo>
                <a:cubicBezTo>
                  <a:pt x="119806" y="35209"/>
                  <a:pt x="119806" y="35209"/>
                  <a:pt x="119806" y="31616"/>
                </a:cubicBezTo>
                <a:cubicBezTo>
                  <a:pt x="119806" y="28023"/>
                  <a:pt x="119806" y="28023"/>
                  <a:pt x="116898" y="28023"/>
                </a:cubicBezTo>
                <a:close/>
                <a:moveTo>
                  <a:pt x="37027" y="112814"/>
                </a:moveTo>
                <a:lnTo>
                  <a:pt x="37027" y="112814"/>
                </a:lnTo>
                <a:cubicBezTo>
                  <a:pt x="25589" y="112814"/>
                  <a:pt x="25589" y="112814"/>
                  <a:pt x="25589" y="112814"/>
                </a:cubicBezTo>
                <a:cubicBezTo>
                  <a:pt x="22875" y="112814"/>
                  <a:pt x="17059" y="105628"/>
                  <a:pt x="17059" y="102035"/>
                </a:cubicBezTo>
                <a:cubicBezTo>
                  <a:pt x="17059" y="91497"/>
                  <a:pt x="17059" y="91497"/>
                  <a:pt x="17059" y="91497"/>
                </a:cubicBezTo>
                <a:cubicBezTo>
                  <a:pt x="37027" y="91497"/>
                  <a:pt x="37027" y="91497"/>
                  <a:pt x="37027" y="91497"/>
                </a:cubicBezTo>
                <a:lnTo>
                  <a:pt x="37027" y="112814"/>
                </a:lnTo>
                <a:close/>
                <a:moveTo>
                  <a:pt x="37027" y="84550"/>
                </a:moveTo>
                <a:lnTo>
                  <a:pt x="37027" y="84550"/>
                </a:lnTo>
                <a:cubicBezTo>
                  <a:pt x="17059" y="84550"/>
                  <a:pt x="17059" y="84550"/>
                  <a:pt x="17059" y="84550"/>
                </a:cubicBezTo>
                <a:cubicBezTo>
                  <a:pt x="17059" y="63233"/>
                  <a:pt x="17059" y="63233"/>
                  <a:pt x="17059" y="63233"/>
                </a:cubicBezTo>
                <a:cubicBezTo>
                  <a:pt x="37027" y="63233"/>
                  <a:pt x="37027" y="63233"/>
                  <a:pt x="37027" y="63233"/>
                </a:cubicBezTo>
                <a:lnTo>
                  <a:pt x="37027" y="84550"/>
                </a:lnTo>
                <a:close/>
                <a:moveTo>
                  <a:pt x="37027" y="56287"/>
                </a:moveTo>
                <a:lnTo>
                  <a:pt x="37027" y="56287"/>
                </a:lnTo>
                <a:cubicBezTo>
                  <a:pt x="14151" y="56287"/>
                  <a:pt x="14151" y="56287"/>
                  <a:pt x="14151" y="56287"/>
                </a:cubicBezTo>
                <a:cubicBezTo>
                  <a:pt x="14151" y="35209"/>
                  <a:pt x="14151" y="35209"/>
                  <a:pt x="14151" y="35209"/>
                </a:cubicBezTo>
                <a:cubicBezTo>
                  <a:pt x="37027" y="35209"/>
                  <a:pt x="37027" y="35209"/>
                  <a:pt x="37027" y="35209"/>
                </a:cubicBezTo>
                <a:lnTo>
                  <a:pt x="37027" y="56287"/>
                </a:lnTo>
                <a:close/>
                <a:moveTo>
                  <a:pt x="74248" y="112814"/>
                </a:moveTo>
                <a:lnTo>
                  <a:pt x="74248" y="112814"/>
                </a:lnTo>
                <a:cubicBezTo>
                  <a:pt x="45751" y="112814"/>
                  <a:pt x="45751" y="112814"/>
                  <a:pt x="45751" y="112814"/>
                </a:cubicBezTo>
                <a:cubicBezTo>
                  <a:pt x="45751" y="91497"/>
                  <a:pt x="45751" y="91497"/>
                  <a:pt x="45751" y="91497"/>
                </a:cubicBezTo>
                <a:cubicBezTo>
                  <a:pt x="74248" y="91497"/>
                  <a:pt x="74248" y="91497"/>
                  <a:pt x="74248" y="91497"/>
                </a:cubicBezTo>
                <a:lnTo>
                  <a:pt x="74248" y="112814"/>
                </a:lnTo>
                <a:close/>
                <a:moveTo>
                  <a:pt x="74248" y="84550"/>
                </a:moveTo>
                <a:lnTo>
                  <a:pt x="74248" y="84550"/>
                </a:lnTo>
                <a:cubicBezTo>
                  <a:pt x="45751" y="84550"/>
                  <a:pt x="45751" y="84550"/>
                  <a:pt x="45751" y="84550"/>
                </a:cubicBezTo>
                <a:cubicBezTo>
                  <a:pt x="45751" y="63233"/>
                  <a:pt x="45751" y="63233"/>
                  <a:pt x="45751" y="63233"/>
                </a:cubicBezTo>
                <a:cubicBezTo>
                  <a:pt x="74248" y="63233"/>
                  <a:pt x="74248" y="63233"/>
                  <a:pt x="74248" y="63233"/>
                </a:cubicBezTo>
                <a:lnTo>
                  <a:pt x="74248" y="84550"/>
                </a:lnTo>
                <a:close/>
                <a:moveTo>
                  <a:pt x="74248" y="56287"/>
                </a:moveTo>
                <a:lnTo>
                  <a:pt x="74248" y="56287"/>
                </a:lnTo>
                <a:cubicBezTo>
                  <a:pt x="45751" y="56287"/>
                  <a:pt x="45751" y="56287"/>
                  <a:pt x="45751" y="56287"/>
                </a:cubicBezTo>
                <a:cubicBezTo>
                  <a:pt x="45751" y="35209"/>
                  <a:pt x="45751" y="35209"/>
                  <a:pt x="45751" y="35209"/>
                </a:cubicBezTo>
                <a:cubicBezTo>
                  <a:pt x="74248" y="35209"/>
                  <a:pt x="74248" y="35209"/>
                  <a:pt x="74248" y="35209"/>
                </a:cubicBezTo>
                <a:lnTo>
                  <a:pt x="74248" y="56287"/>
                </a:lnTo>
                <a:close/>
                <a:moveTo>
                  <a:pt x="96930" y="102035"/>
                </a:moveTo>
                <a:lnTo>
                  <a:pt x="96930" y="102035"/>
                </a:lnTo>
                <a:cubicBezTo>
                  <a:pt x="96930" y="105628"/>
                  <a:pt x="94216" y="112814"/>
                  <a:pt x="91308" y="112814"/>
                </a:cubicBezTo>
                <a:cubicBezTo>
                  <a:pt x="82778" y="112814"/>
                  <a:pt x="82778" y="112814"/>
                  <a:pt x="82778" y="112814"/>
                </a:cubicBezTo>
                <a:cubicBezTo>
                  <a:pt x="82778" y="91497"/>
                  <a:pt x="82778" y="91497"/>
                  <a:pt x="82778" y="91497"/>
                </a:cubicBezTo>
                <a:cubicBezTo>
                  <a:pt x="99838" y="91497"/>
                  <a:pt x="99838" y="91497"/>
                  <a:pt x="99838" y="91497"/>
                </a:cubicBezTo>
                <a:lnTo>
                  <a:pt x="96930" y="102035"/>
                </a:lnTo>
                <a:close/>
                <a:moveTo>
                  <a:pt x="99838" y="84550"/>
                </a:moveTo>
                <a:lnTo>
                  <a:pt x="99838" y="84550"/>
                </a:lnTo>
                <a:cubicBezTo>
                  <a:pt x="82778" y="84550"/>
                  <a:pt x="82778" y="84550"/>
                  <a:pt x="82778" y="84550"/>
                </a:cubicBezTo>
                <a:cubicBezTo>
                  <a:pt x="82778" y="63233"/>
                  <a:pt x="82778" y="63233"/>
                  <a:pt x="82778" y="63233"/>
                </a:cubicBezTo>
                <a:cubicBezTo>
                  <a:pt x="102746" y="63233"/>
                  <a:pt x="102746" y="63233"/>
                  <a:pt x="102746" y="63233"/>
                </a:cubicBezTo>
                <a:lnTo>
                  <a:pt x="99838" y="84550"/>
                </a:lnTo>
                <a:close/>
                <a:moveTo>
                  <a:pt x="102746" y="56287"/>
                </a:moveTo>
                <a:lnTo>
                  <a:pt x="102746" y="56287"/>
                </a:lnTo>
                <a:cubicBezTo>
                  <a:pt x="82778" y="56287"/>
                  <a:pt x="82778" y="56287"/>
                  <a:pt x="82778" y="56287"/>
                </a:cubicBezTo>
                <a:cubicBezTo>
                  <a:pt x="82778" y="35209"/>
                  <a:pt x="82778" y="35209"/>
                  <a:pt x="82778" y="35209"/>
                </a:cubicBezTo>
                <a:cubicBezTo>
                  <a:pt x="105654" y="35209"/>
                  <a:pt x="105654" y="35209"/>
                  <a:pt x="105654" y="35209"/>
                </a:cubicBezTo>
                <a:lnTo>
                  <a:pt x="102746" y="56287"/>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4678"/>
          <p:cNvSpPr/>
          <p:nvPr/>
        </p:nvSpPr>
        <p:spPr>
          <a:xfrm>
            <a:off x="3503520" y="5048280"/>
            <a:ext cx="227160" cy="241200"/>
          </a:xfrm>
          <a:custGeom>
            <a:avLst/>
            <a:gdLst>
              <a:gd name="textAreaLeft" fmla="*/ 0 w 227160"/>
              <a:gd name="textAreaRight" fmla="*/ 227520 w 227160"/>
              <a:gd name="textAreaTop" fmla="*/ 0 h 241200"/>
              <a:gd name="textAreaBottom" fmla="*/ 241560 h 241200"/>
            </a:gdLst>
            <a:ahLst/>
            <a:rect l="textAreaLeft" t="textAreaTop" r="textAreaRight" b="textAreaBottom"/>
            <a:pathLst>
              <a:path w="120000" h="120000">
                <a:moveTo>
                  <a:pt x="97372" y="74011"/>
                </a:moveTo>
                <a:lnTo>
                  <a:pt x="97372" y="74011"/>
                </a:lnTo>
                <a:cubicBezTo>
                  <a:pt x="86186" y="74011"/>
                  <a:pt x="78813" y="77365"/>
                  <a:pt x="75000" y="84550"/>
                </a:cubicBezTo>
                <a:cubicBezTo>
                  <a:pt x="48813" y="70419"/>
                  <a:pt x="48813" y="70419"/>
                  <a:pt x="48813" y="70419"/>
                </a:cubicBezTo>
                <a:cubicBezTo>
                  <a:pt x="48813" y="67065"/>
                  <a:pt x="52372" y="63233"/>
                  <a:pt x="52372" y="59880"/>
                </a:cubicBezTo>
                <a:cubicBezTo>
                  <a:pt x="52372" y="56287"/>
                  <a:pt x="52372" y="56287"/>
                  <a:pt x="48813" y="52934"/>
                </a:cubicBezTo>
                <a:cubicBezTo>
                  <a:pt x="78813" y="38802"/>
                  <a:pt x="78813" y="38802"/>
                  <a:pt x="78813" y="38802"/>
                </a:cubicBezTo>
                <a:cubicBezTo>
                  <a:pt x="82372" y="42155"/>
                  <a:pt x="89745" y="45748"/>
                  <a:pt x="97372" y="45748"/>
                </a:cubicBezTo>
                <a:cubicBezTo>
                  <a:pt x="108559" y="45748"/>
                  <a:pt x="119745" y="35209"/>
                  <a:pt x="119745" y="21077"/>
                </a:cubicBezTo>
                <a:cubicBezTo>
                  <a:pt x="119745" y="10538"/>
                  <a:pt x="108559" y="0"/>
                  <a:pt x="97372" y="0"/>
                </a:cubicBezTo>
                <a:cubicBezTo>
                  <a:pt x="82372" y="0"/>
                  <a:pt x="71186" y="10538"/>
                  <a:pt x="71186" y="21077"/>
                </a:cubicBezTo>
                <a:cubicBezTo>
                  <a:pt x="71186" y="24670"/>
                  <a:pt x="71186" y="28023"/>
                  <a:pt x="71186" y="28023"/>
                </a:cubicBezTo>
                <a:cubicBezTo>
                  <a:pt x="45000" y="42155"/>
                  <a:pt x="45000" y="42155"/>
                  <a:pt x="45000" y="42155"/>
                </a:cubicBezTo>
                <a:cubicBezTo>
                  <a:pt x="41186" y="38802"/>
                  <a:pt x="33813" y="35209"/>
                  <a:pt x="26186" y="35209"/>
                </a:cubicBezTo>
                <a:cubicBezTo>
                  <a:pt x="11186" y="35209"/>
                  <a:pt x="0" y="45748"/>
                  <a:pt x="0" y="59880"/>
                </a:cubicBezTo>
                <a:cubicBezTo>
                  <a:pt x="0" y="74011"/>
                  <a:pt x="11186" y="84550"/>
                  <a:pt x="26186" y="84550"/>
                </a:cubicBezTo>
                <a:cubicBezTo>
                  <a:pt x="33813" y="84550"/>
                  <a:pt x="37627" y="80958"/>
                  <a:pt x="41186" y="77365"/>
                </a:cubicBezTo>
                <a:cubicBezTo>
                  <a:pt x="71186" y="95089"/>
                  <a:pt x="71186" y="95089"/>
                  <a:pt x="71186" y="95089"/>
                </a:cubicBezTo>
                <a:cubicBezTo>
                  <a:pt x="71186" y="95089"/>
                  <a:pt x="71186" y="95089"/>
                  <a:pt x="71186" y="98682"/>
                </a:cubicBezTo>
                <a:cubicBezTo>
                  <a:pt x="71186" y="109221"/>
                  <a:pt x="82372" y="119760"/>
                  <a:pt x="97372" y="119760"/>
                </a:cubicBezTo>
                <a:cubicBezTo>
                  <a:pt x="108559" y="119760"/>
                  <a:pt x="119745" y="109221"/>
                  <a:pt x="119745" y="98682"/>
                </a:cubicBezTo>
                <a:cubicBezTo>
                  <a:pt x="119745" y="84550"/>
                  <a:pt x="108559" y="74011"/>
                  <a:pt x="97372" y="74011"/>
                </a:cubicBezTo>
                <a:close/>
                <a:moveTo>
                  <a:pt x="97372" y="6946"/>
                </a:moveTo>
                <a:lnTo>
                  <a:pt x="97372" y="6946"/>
                </a:lnTo>
                <a:cubicBezTo>
                  <a:pt x="104745" y="6946"/>
                  <a:pt x="112372" y="14131"/>
                  <a:pt x="112372" y="21077"/>
                </a:cubicBezTo>
                <a:cubicBezTo>
                  <a:pt x="112372" y="31616"/>
                  <a:pt x="104745" y="35209"/>
                  <a:pt x="97372" y="35209"/>
                </a:cubicBezTo>
                <a:cubicBezTo>
                  <a:pt x="86186" y="35209"/>
                  <a:pt x="82372" y="31616"/>
                  <a:pt x="82372" y="21077"/>
                </a:cubicBezTo>
                <a:cubicBezTo>
                  <a:pt x="82372" y="14131"/>
                  <a:pt x="86186" y="6946"/>
                  <a:pt x="97372" y="6946"/>
                </a:cubicBezTo>
                <a:close/>
                <a:moveTo>
                  <a:pt x="26186" y="74011"/>
                </a:moveTo>
                <a:lnTo>
                  <a:pt x="26186" y="74011"/>
                </a:lnTo>
                <a:cubicBezTo>
                  <a:pt x="18813" y="74011"/>
                  <a:pt x="11186" y="67065"/>
                  <a:pt x="11186" y="59880"/>
                </a:cubicBezTo>
                <a:cubicBezTo>
                  <a:pt x="11186" y="52934"/>
                  <a:pt x="18813" y="45748"/>
                  <a:pt x="26186" y="45748"/>
                </a:cubicBezTo>
                <a:cubicBezTo>
                  <a:pt x="33813" y="45748"/>
                  <a:pt x="41186" y="52934"/>
                  <a:pt x="41186" y="59880"/>
                </a:cubicBezTo>
                <a:cubicBezTo>
                  <a:pt x="41186" y="67065"/>
                  <a:pt x="33813" y="74011"/>
                  <a:pt x="26186" y="74011"/>
                </a:cubicBezTo>
                <a:close/>
                <a:moveTo>
                  <a:pt x="97372" y="112814"/>
                </a:moveTo>
                <a:lnTo>
                  <a:pt x="97372" y="112814"/>
                </a:lnTo>
                <a:cubicBezTo>
                  <a:pt x="86186" y="112814"/>
                  <a:pt x="82372" y="105628"/>
                  <a:pt x="82372" y="98682"/>
                </a:cubicBezTo>
                <a:cubicBezTo>
                  <a:pt x="82372" y="88143"/>
                  <a:pt x="86186" y="84550"/>
                  <a:pt x="97372" y="84550"/>
                </a:cubicBezTo>
                <a:cubicBezTo>
                  <a:pt x="104745" y="84550"/>
                  <a:pt x="112372" y="88143"/>
                  <a:pt x="112372" y="98682"/>
                </a:cubicBezTo>
                <a:cubicBezTo>
                  <a:pt x="112372" y="105628"/>
                  <a:pt x="104745" y="112814"/>
                  <a:pt x="97372" y="11281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4680"/>
          <p:cNvSpPr/>
          <p:nvPr/>
        </p:nvSpPr>
        <p:spPr>
          <a:xfrm>
            <a:off x="2527200" y="5018040"/>
            <a:ext cx="233640" cy="297000"/>
          </a:xfrm>
          <a:custGeom>
            <a:avLst/>
            <a:gdLst>
              <a:gd name="textAreaLeft" fmla="*/ 0 w 233640"/>
              <a:gd name="textAreaRight" fmla="*/ 234000 w 233640"/>
              <a:gd name="textAreaTop" fmla="*/ 0 h 297000"/>
              <a:gd name="textAreaBottom" fmla="*/ 297360 h 297000"/>
            </a:gdLst>
            <a:ahLst/>
            <a:rect l="textAreaLeft" t="textAreaTop" r="textAreaRight" b="textAreaBottom"/>
            <a:pathLst>
              <a:path w="120000" h="120000">
                <a:moveTo>
                  <a:pt x="108888" y="25589"/>
                </a:moveTo>
                <a:lnTo>
                  <a:pt x="108888" y="25589"/>
                </a:lnTo>
                <a:cubicBezTo>
                  <a:pt x="79753" y="25589"/>
                  <a:pt x="79753" y="25589"/>
                  <a:pt x="79753" y="25589"/>
                </a:cubicBezTo>
                <a:cubicBezTo>
                  <a:pt x="79753" y="17059"/>
                  <a:pt x="79753" y="17059"/>
                  <a:pt x="79753" y="17059"/>
                </a:cubicBezTo>
                <a:cubicBezTo>
                  <a:pt x="79753" y="14151"/>
                  <a:pt x="76296" y="11437"/>
                  <a:pt x="72592" y="11437"/>
                </a:cubicBezTo>
                <a:cubicBezTo>
                  <a:pt x="29135" y="11437"/>
                  <a:pt x="29135" y="11437"/>
                  <a:pt x="29135" y="11437"/>
                </a:cubicBezTo>
                <a:cubicBezTo>
                  <a:pt x="29135" y="5621"/>
                  <a:pt x="29135" y="5621"/>
                  <a:pt x="29135" y="5621"/>
                </a:cubicBezTo>
                <a:cubicBezTo>
                  <a:pt x="29135" y="2714"/>
                  <a:pt x="21728" y="0"/>
                  <a:pt x="18024" y="0"/>
                </a:cubicBezTo>
                <a:cubicBezTo>
                  <a:pt x="7160" y="0"/>
                  <a:pt x="7160" y="0"/>
                  <a:pt x="7160" y="0"/>
                </a:cubicBezTo>
                <a:cubicBezTo>
                  <a:pt x="3456" y="0"/>
                  <a:pt x="0" y="2714"/>
                  <a:pt x="0" y="5621"/>
                </a:cubicBezTo>
                <a:cubicBezTo>
                  <a:pt x="0" y="114184"/>
                  <a:pt x="0" y="114184"/>
                  <a:pt x="0" y="114184"/>
                </a:cubicBezTo>
                <a:cubicBezTo>
                  <a:pt x="0" y="116898"/>
                  <a:pt x="3456" y="119806"/>
                  <a:pt x="7160" y="119806"/>
                </a:cubicBezTo>
                <a:cubicBezTo>
                  <a:pt x="18024" y="119806"/>
                  <a:pt x="18024" y="119806"/>
                  <a:pt x="18024" y="119806"/>
                </a:cubicBezTo>
                <a:cubicBezTo>
                  <a:pt x="21728" y="119806"/>
                  <a:pt x="29135" y="116898"/>
                  <a:pt x="29135" y="114184"/>
                </a:cubicBezTo>
                <a:cubicBezTo>
                  <a:pt x="29135" y="79870"/>
                  <a:pt x="29135" y="79870"/>
                  <a:pt x="29135" y="79870"/>
                </a:cubicBezTo>
                <a:cubicBezTo>
                  <a:pt x="72592" y="79870"/>
                  <a:pt x="72592" y="79870"/>
                  <a:pt x="72592" y="79870"/>
                </a:cubicBezTo>
                <a:cubicBezTo>
                  <a:pt x="72592" y="82778"/>
                  <a:pt x="72592" y="82778"/>
                  <a:pt x="72592" y="82778"/>
                </a:cubicBezTo>
                <a:cubicBezTo>
                  <a:pt x="72592" y="85492"/>
                  <a:pt x="76296" y="91308"/>
                  <a:pt x="79753" y="91308"/>
                </a:cubicBezTo>
                <a:cubicBezTo>
                  <a:pt x="108888" y="91308"/>
                  <a:pt x="108888" y="91308"/>
                  <a:pt x="108888" y="91308"/>
                </a:cubicBezTo>
                <a:cubicBezTo>
                  <a:pt x="116296" y="91308"/>
                  <a:pt x="119753" y="85492"/>
                  <a:pt x="119753" y="82778"/>
                </a:cubicBezTo>
                <a:cubicBezTo>
                  <a:pt x="119753" y="34119"/>
                  <a:pt x="119753" y="34119"/>
                  <a:pt x="119753" y="34119"/>
                </a:cubicBezTo>
                <a:cubicBezTo>
                  <a:pt x="119753" y="28497"/>
                  <a:pt x="116296" y="25589"/>
                  <a:pt x="108888" y="25589"/>
                </a:cubicBezTo>
                <a:close/>
                <a:moveTo>
                  <a:pt x="18024" y="108368"/>
                </a:moveTo>
                <a:lnTo>
                  <a:pt x="18024" y="108368"/>
                </a:lnTo>
                <a:cubicBezTo>
                  <a:pt x="18024" y="111276"/>
                  <a:pt x="14567" y="114184"/>
                  <a:pt x="14567" y="114184"/>
                </a:cubicBezTo>
                <a:cubicBezTo>
                  <a:pt x="10864" y="114184"/>
                  <a:pt x="7160" y="111276"/>
                  <a:pt x="7160" y="108368"/>
                </a:cubicBezTo>
                <a:cubicBezTo>
                  <a:pt x="7160" y="11437"/>
                  <a:pt x="7160" y="11437"/>
                  <a:pt x="7160" y="11437"/>
                </a:cubicBezTo>
                <a:cubicBezTo>
                  <a:pt x="7160" y="8529"/>
                  <a:pt x="10864" y="5621"/>
                  <a:pt x="14567" y="5621"/>
                </a:cubicBezTo>
                <a:cubicBezTo>
                  <a:pt x="14567" y="5621"/>
                  <a:pt x="18024" y="8529"/>
                  <a:pt x="18024" y="11437"/>
                </a:cubicBezTo>
                <a:lnTo>
                  <a:pt x="18024" y="108368"/>
                </a:lnTo>
                <a:close/>
                <a:moveTo>
                  <a:pt x="72592" y="68432"/>
                </a:moveTo>
                <a:lnTo>
                  <a:pt x="72592" y="68432"/>
                </a:lnTo>
                <a:cubicBezTo>
                  <a:pt x="72592" y="68432"/>
                  <a:pt x="69135" y="71340"/>
                  <a:pt x="65432" y="71340"/>
                </a:cubicBezTo>
                <a:cubicBezTo>
                  <a:pt x="29135" y="71340"/>
                  <a:pt x="29135" y="71340"/>
                  <a:pt x="29135" y="71340"/>
                </a:cubicBezTo>
                <a:cubicBezTo>
                  <a:pt x="29135" y="17059"/>
                  <a:pt x="29135" y="17059"/>
                  <a:pt x="29135" y="17059"/>
                </a:cubicBezTo>
                <a:cubicBezTo>
                  <a:pt x="65432" y="17059"/>
                  <a:pt x="65432" y="17059"/>
                  <a:pt x="65432" y="17059"/>
                </a:cubicBezTo>
                <a:cubicBezTo>
                  <a:pt x="69135" y="17059"/>
                  <a:pt x="72592" y="19967"/>
                  <a:pt x="72592" y="22875"/>
                </a:cubicBezTo>
                <a:lnTo>
                  <a:pt x="72592" y="68432"/>
                </a:lnTo>
                <a:close/>
                <a:moveTo>
                  <a:pt x="108888" y="79870"/>
                </a:moveTo>
                <a:lnTo>
                  <a:pt x="108888" y="79870"/>
                </a:lnTo>
                <a:cubicBezTo>
                  <a:pt x="108888" y="79870"/>
                  <a:pt x="108888" y="82778"/>
                  <a:pt x="105432" y="82778"/>
                </a:cubicBezTo>
                <a:cubicBezTo>
                  <a:pt x="79753" y="82778"/>
                  <a:pt x="79753" y="82778"/>
                  <a:pt x="79753" y="82778"/>
                </a:cubicBezTo>
                <a:cubicBezTo>
                  <a:pt x="79753" y="34119"/>
                  <a:pt x="79753" y="34119"/>
                  <a:pt x="79753" y="34119"/>
                </a:cubicBezTo>
                <a:cubicBezTo>
                  <a:pt x="105432" y="34119"/>
                  <a:pt x="105432" y="34119"/>
                  <a:pt x="105432" y="34119"/>
                </a:cubicBezTo>
                <a:cubicBezTo>
                  <a:pt x="108888" y="34119"/>
                  <a:pt x="108888" y="34119"/>
                  <a:pt x="108888" y="37027"/>
                </a:cubicBezTo>
                <a:lnTo>
                  <a:pt x="108888" y="7987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4682"/>
          <p:cNvSpPr/>
          <p:nvPr/>
        </p:nvSpPr>
        <p:spPr>
          <a:xfrm>
            <a:off x="1515960" y="5048280"/>
            <a:ext cx="284400" cy="241200"/>
          </a:xfrm>
          <a:custGeom>
            <a:avLst/>
            <a:gdLst>
              <a:gd name="textAreaLeft" fmla="*/ 0 w 284400"/>
              <a:gd name="textAreaRight" fmla="*/ 284760 w 284400"/>
              <a:gd name="textAreaTop" fmla="*/ 0 h 241200"/>
              <a:gd name="textAreaBottom" fmla="*/ 241560 h 241200"/>
            </a:gdLst>
            <a:ahLst/>
            <a:rect l="textAreaLeft" t="textAreaTop" r="textAreaRight" b="textAreaBottom"/>
            <a:pathLst>
              <a:path w="120000" h="120000">
                <a:moveTo>
                  <a:pt x="77826" y="84550"/>
                </a:moveTo>
                <a:lnTo>
                  <a:pt x="77826" y="84550"/>
                </a:lnTo>
                <a:cubicBezTo>
                  <a:pt x="62954" y="102035"/>
                  <a:pt x="62954" y="102035"/>
                  <a:pt x="62954" y="102035"/>
                </a:cubicBezTo>
                <a:cubicBezTo>
                  <a:pt x="62954" y="35209"/>
                  <a:pt x="62954" y="35209"/>
                  <a:pt x="62954" y="35209"/>
                </a:cubicBezTo>
                <a:cubicBezTo>
                  <a:pt x="62954" y="35209"/>
                  <a:pt x="62954" y="31616"/>
                  <a:pt x="59898" y="31616"/>
                </a:cubicBezTo>
                <a:cubicBezTo>
                  <a:pt x="56842" y="31616"/>
                  <a:pt x="56842" y="35209"/>
                  <a:pt x="56842" y="35209"/>
                </a:cubicBezTo>
                <a:cubicBezTo>
                  <a:pt x="56842" y="102035"/>
                  <a:pt x="56842" y="102035"/>
                  <a:pt x="56842" y="102035"/>
                </a:cubicBezTo>
                <a:cubicBezTo>
                  <a:pt x="41969" y="84550"/>
                  <a:pt x="41969" y="84550"/>
                  <a:pt x="41969" y="84550"/>
                </a:cubicBezTo>
                <a:cubicBezTo>
                  <a:pt x="41969" y="84550"/>
                  <a:pt x="38913" y="84550"/>
                  <a:pt x="35857" y="84550"/>
                </a:cubicBezTo>
                <a:cubicBezTo>
                  <a:pt x="35857" y="88143"/>
                  <a:pt x="35857" y="88143"/>
                  <a:pt x="35857" y="91497"/>
                </a:cubicBezTo>
                <a:cubicBezTo>
                  <a:pt x="56842" y="119760"/>
                  <a:pt x="56842" y="119760"/>
                  <a:pt x="56842" y="119760"/>
                </a:cubicBezTo>
                <a:lnTo>
                  <a:pt x="59898" y="119760"/>
                </a:lnTo>
                <a:lnTo>
                  <a:pt x="62954" y="119760"/>
                </a:lnTo>
                <a:cubicBezTo>
                  <a:pt x="83938" y="91497"/>
                  <a:pt x="83938" y="91497"/>
                  <a:pt x="83938" y="91497"/>
                </a:cubicBezTo>
                <a:cubicBezTo>
                  <a:pt x="83938" y="88143"/>
                  <a:pt x="83938" y="88143"/>
                  <a:pt x="83938" y="84550"/>
                </a:cubicBezTo>
                <a:cubicBezTo>
                  <a:pt x="80882" y="84550"/>
                  <a:pt x="77826" y="84550"/>
                  <a:pt x="77826" y="84550"/>
                </a:cubicBezTo>
                <a:close/>
                <a:moveTo>
                  <a:pt x="116943" y="0"/>
                </a:moveTo>
                <a:lnTo>
                  <a:pt x="116943" y="0"/>
                </a:lnTo>
                <a:cubicBezTo>
                  <a:pt x="2852" y="0"/>
                  <a:pt x="2852" y="0"/>
                  <a:pt x="2852" y="0"/>
                </a:cubicBezTo>
                <a:cubicBezTo>
                  <a:pt x="2852" y="0"/>
                  <a:pt x="0" y="0"/>
                  <a:pt x="0" y="3353"/>
                </a:cubicBezTo>
                <a:cubicBezTo>
                  <a:pt x="0" y="42155"/>
                  <a:pt x="0" y="42155"/>
                  <a:pt x="0" y="42155"/>
                </a:cubicBezTo>
                <a:lnTo>
                  <a:pt x="2852" y="45748"/>
                </a:lnTo>
                <a:cubicBezTo>
                  <a:pt x="5908" y="45748"/>
                  <a:pt x="8964" y="42155"/>
                  <a:pt x="8964" y="42155"/>
                </a:cubicBezTo>
                <a:cubicBezTo>
                  <a:pt x="8964" y="6946"/>
                  <a:pt x="8964" y="6946"/>
                  <a:pt x="8964" y="6946"/>
                </a:cubicBezTo>
                <a:cubicBezTo>
                  <a:pt x="110831" y="6946"/>
                  <a:pt x="110831" y="6946"/>
                  <a:pt x="110831" y="6946"/>
                </a:cubicBezTo>
                <a:cubicBezTo>
                  <a:pt x="110831" y="42155"/>
                  <a:pt x="110831" y="42155"/>
                  <a:pt x="110831" y="42155"/>
                </a:cubicBezTo>
                <a:cubicBezTo>
                  <a:pt x="110831" y="42155"/>
                  <a:pt x="113887" y="45748"/>
                  <a:pt x="116943" y="45748"/>
                </a:cubicBezTo>
                <a:lnTo>
                  <a:pt x="119796" y="42155"/>
                </a:lnTo>
                <a:cubicBezTo>
                  <a:pt x="119796" y="3353"/>
                  <a:pt x="119796" y="3353"/>
                  <a:pt x="119796" y="3353"/>
                </a:cubicBezTo>
                <a:cubicBezTo>
                  <a:pt x="119796" y="0"/>
                  <a:pt x="116943" y="0"/>
                  <a:pt x="116943"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4684"/>
          <p:cNvSpPr/>
          <p:nvPr/>
        </p:nvSpPr>
        <p:spPr>
          <a:xfrm>
            <a:off x="5427720" y="4535640"/>
            <a:ext cx="304920" cy="284040"/>
          </a:xfrm>
          <a:custGeom>
            <a:avLst/>
            <a:gdLst>
              <a:gd name="textAreaLeft" fmla="*/ 0 w 304920"/>
              <a:gd name="textAreaRight" fmla="*/ 305280 w 304920"/>
              <a:gd name="textAreaTop" fmla="*/ 0 h 284040"/>
              <a:gd name="textAreaBottom" fmla="*/ 284400 h 284040"/>
            </a:gdLst>
            <a:ahLst/>
            <a:rect l="textAreaLeft" t="textAreaTop" r="textAreaRight" b="textAreaBottom"/>
            <a:pathLst>
              <a:path w="120000" h="120000">
                <a:moveTo>
                  <a:pt x="105993" y="0"/>
                </a:moveTo>
                <a:lnTo>
                  <a:pt x="105993" y="0"/>
                </a:lnTo>
                <a:cubicBezTo>
                  <a:pt x="16845" y="0"/>
                  <a:pt x="16845" y="0"/>
                  <a:pt x="16845" y="0"/>
                </a:cubicBezTo>
                <a:cubicBezTo>
                  <a:pt x="8517" y="0"/>
                  <a:pt x="0" y="5898"/>
                  <a:pt x="0" y="14847"/>
                </a:cubicBezTo>
                <a:cubicBezTo>
                  <a:pt x="0" y="101694"/>
                  <a:pt x="0" y="101694"/>
                  <a:pt x="0" y="101694"/>
                </a:cubicBezTo>
                <a:cubicBezTo>
                  <a:pt x="0" y="110644"/>
                  <a:pt x="8517" y="119796"/>
                  <a:pt x="16845" y="119796"/>
                </a:cubicBezTo>
                <a:cubicBezTo>
                  <a:pt x="105993" y="119796"/>
                  <a:pt x="105993" y="119796"/>
                  <a:pt x="105993" y="119796"/>
                </a:cubicBezTo>
                <a:cubicBezTo>
                  <a:pt x="114321" y="119796"/>
                  <a:pt x="119810" y="110644"/>
                  <a:pt x="119810" y="101694"/>
                </a:cubicBezTo>
                <a:cubicBezTo>
                  <a:pt x="119810" y="14847"/>
                  <a:pt x="119810" y="14847"/>
                  <a:pt x="119810" y="14847"/>
                </a:cubicBezTo>
                <a:cubicBezTo>
                  <a:pt x="119810" y="5898"/>
                  <a:pt x="114321" y="0"/>
                  <a:pt x="105993" y="0"/>
                </a:cubicBezTo>
                <a:close/>
                <a:moveTo>
                  <a:pt x="22334" y="110644"/>
                </a:moveTo>
                <a:lnTo>
                  <a:pt x="22334" y="110644"/>
                </a:lnTo>
                <a:cubicBezTo>
                  <a:pt x="16845" y="110644"/>
                  <a:pt x="16845" y="110644"/>
                  <a:pt x="16845" y="110644"/>
                </a:cubicBezTo>
                <a:cubicBezTo>
                  <a:pt x="11167" y="110644"/>
                  <a:pt x="8517" y="107796"/>
                  <a:pt x="8517" y="101694"/>
                </a:cubicBezTo>
                <a:cubicBezTo>
                  <a:pt x="8517" y="14847"/>
                  <a:pt x="8517" y="14847"/>
                  <a:pt x="8517" y="14847"/>
                </a:cubicBezTo>
                <a:cubicBezTo>
                  <a:pt x="8517" y="12000"/>
                  <a:pt x="11167" y="5898"/>
                  <a:pt x="16845" y="5898"/>
                </a:cubicBezTo>
                <a:cubicBezTo>
                  <a:pt x="22334" y="5898"/>
                  <a:pt x="22334" y="5898"/>
                  <a:pt x="22334" y="5898"/>
                </a:cubicBezTo>
                <a:lnTo>
                  <a:pt x="22334" y="110644"/>
                </a:lnTo>
                <a:close/>
                <a:moveTo>
                  <a:pt x="111482" y="101694"/>
                </a:moveTo>
                <a:lnTo>
                  <a:pt x="111482" y="101694"/>
                </a:lnTo>
                <a:cubicBezTo>
                  <a:pt x="111482" y="107796"/>
                  <a:pt x="108832" y="110644"/>
                  <a:pt x="105993" y="110644"/>
                </a:cubicBezTo>
                <a:cubicBezTo>
                  <a:pt x="30662" y="110644"/>
                  <a:pt x="30662" y="110644"/>
                  <a:pt x="30662" y="110644"/>
                </a:cubicBezTo>
                <a:cubicBezTo>
                  <a:pt x="30662" y="5898"/>
                  <a:pt x="30662" y="5898"/>
                  <a:pt x="30662" y="5898"/>
                </a:cubicBezTo>
                <a:cubicBezTo>
                  <a:pt x="105993" y="5898"/>
                  <a:pt x="105993" y="5898"/>
                  <a:pt x="105993" y="5898"/>
                </a:cubicBezTo>
                <a:cubicBezTo>
                  <a:pt x="108832" y="5898"/>
                  <a:pt x="111482" y="12000"/>
                  <a:pt x="111482" y="14847"/>
                </a:cubicBezTo>
                <a:lnTo>
                  <a:pt x="111482" y="101694"/>
                </a:lnTo>
                <a:close/>
                <a:moveTo>
                  <a:pt x="100315" y="53694"/>
                </a:moveTo>
                <a:lnTo>
                  <a:pt x="100315" y="53694"/>
                </a:lnTo>
                <a:cubicBezTo>
                  <a:pt x="55835" y="53694"/>
                  <a:pt x="55835" y="53694"/>
                  <a:pt x="55835" y="53694"/>
                </a:cubicBezTo>
                <a:cubicBezTo>
                  <a:pt x="69842" y="41898"/>
                  <a:pt x="69842" y="41898"/>
                  <a:pt x="69842" y="41898"/>
                </a:cubicBezTo>
                <a:cubicBezTo>
                  <a:pt x="72492" y="38847"/>
                  <a:pt x="72492" y="38847"/>
                  <a:pt x="69842" y="35796"/>
                </a:cubicBezTo>
                <a:cubicBezTo>
                  <a:pt x="69842" y="35796"/>
                  <a:pt x="67003" y="35796"/>
                  <a:pt x="64164" y="35796"/>
                </a:cubicBezTo>
                <a:cubicBezTo>
                  <a:pt x="41829" y="56949"/>
                  <a:pt x="41829" y="56949"/>
                  <a:pt x="41829" y="56949"/>
                </a:cubicBezTo>
                <a:cubicBezTo>
                  <a:pt x="41829" y="56949"/>
                  <a:pt x="41829" y="56949"/>
                  <a:pt x="41829" y="59796"/>
                </a:cubicBezTo>
                <a:cubicBezTo>
                  <a:pt x="41829" y="59796"/>
                  <a:pt x="41829" y="59796"/>
                  <a:pt x="41829" y="62847"/>
                </a:cubicBezTo>
                <a:cubicBezTo>
                  <a:pt x="64164" y="80745"/>
                  <a:pt x="64164" y="80745"/>
                  <a:pt x="64164" y="80745"/>
                </a:cubicBezTo>
                <a:cubicBezTo>
                  <a:pt x="67003" y="83796"/>
                  <a:pt x="69842" y="83796"/>
                  <a:pt x="69842" y="80745"/>
                </a:cubicBezTo>
                <a:cubicBezTo>
                  <a:pt x="72492" y="80745"/>
                  <a:pt x="72492" y="77694"/>
                  <a:pt x="69842" y="74847"/>
                </a:cubicBezTo>
                <a:cubicBezTo>
                  <a:pt x="55835" y="62847"/>
                  <a:pt x="55835" y="62847"/>
                  <a:pt x="55835" y="62847"/>
                </a:cubicBezTo>
                <a:cubicBezTo>
                  <a:pt x="100315" y="62847"/>
                  <a:pt x="100315" y="62847"/>
                  <a:pt x="100315" y="62847"/>
                </a:cubicBezTo>
                <a:cubicBezTo>
                  <a:pt x="103154" y="62847"/>
                  <a:pt x="105993" y="59796"/>
                  <a:pt x="105993" y="59796"/>
                </a:cubicBezTo>
                <a:cubicBezTo>
                  <a:pt x="105993" y="56949"/>
                  <a:pt x="103154" y="53694"/>
                  <a:pt x="100315" y="53694"/>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4686"/>
          <p:cNvSpPr/>
          <p:nvPr/>
        </p:nvSpPr>
        <p:spPr>
          <a:xfrm>
            <a:off x="4457880" y="4522680"/>
            <a:ext cx="284040" cy="306360"/>
          </a:xfrm>
          <a:custGeom>
            <a:avLst/>
            <a:gdLst>
              <a:gd name="textAreaLeft" fmla="*/ 0 w 284040"/>
              <a:gd name="textAreaRight" fmla="*/ 284400 w 284040"/>
              <a:gd name="textAreaTop" fmla="*/ 0 h 306360"/>
              <a:gd name="textAreaBottom" fmla="*/ 306720 h 306360"/>
            </a:gdLst>
            <a:ahLst/>
            <a:rect l="textAreaLeft" t="textAreaTop" r="textAreaRight" b="textAreaBottom"/>
            <a:pathLst>
              <a:path w="120000" h="120000">
                <a:moveTo>
                  <a:pt x="104923" y="0"/>
                </a:moveTo>
                <a:lnTo>
                  <a:pt x="104923" y="0"/>
                </a:lnTo>
                <a:cubicBezTo>
                  <a:pt x="14872" y="0"/>
                  <a:pt x="14872" y="0"/>
                  <a:pt x="14872" y="0"/>
                </a:cubicBezTo>
                <a:cubicBezTo>
                  <a:pt x="5908" y="0"/>
                  <a:pt x="0" y="8328"/>
                  <a:pt x="0" y="16845"/>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845"/>
                  <a:pt x="119796" y="16845"/>
                  <a:pt x="119796" y="16845"/>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845"/>
                  <a:pt x="8964" y="16845"/>
                  <a:pt x="8964" y="16845"/>
                </a:cubicBezTo>
                <a:cubicBezTo>
                  <a:pt x="8964" y="11167"/>
                  <a:pt x="11816" y="8328"/>
                  <a:pt x="14872" y="8328"/>
                </a:cubicBezTo>
                <a:cubicBezTo>
                  <a:pt x="104923" y="8328"/>
                  <a:pt x="104923" y="8328"/>
                  <a:pt x="104923" y="8328"/>
                </a:cubicBezTo>
                <a:cubicBezTo>
                  <a:pt x="107979" y="8328"/>
                  <a:pt x="110831" y="11167"/>
                  <a:pt x="110831" y="16845"/>
                </a:cubicBezTo>
                <a:lnTo>
                  <a:pt x="110831" y="22334"/>
                </a:lnTo>
                <a:close/>
                <a:moveTo>
                  <a:pt x="41969" y="69652"/>
                </a:moveTo>
                <a:lnTo>
                  <a:pt x="41969" y="69652"/>
                </a:lnTo>
                <a:cubicBezTo>
                  <a:pt x="56842" y="55646"/>
                  <a:pt x="56842" y="55646"/>
                  <a:pt x="56842" y="55646"/>
                </a:cubicBezTo>
                <a:cubicBezTo>
                  <a:pt x="56842" y="100315"/>
                  <a:pt x="56842" y="100315"/>
                  <a:pt x="56842" y="100315"/>
                </a:cubicBezTo>
                <a:cubicBezTo>
                  <a:pt x="56842" y="103154"/>
                  <a:pt x="56842" y="105993"/>
                  <a:pt x="59898" y="105993"/>
                </a:cubicBezTo>
                <a:cubicBezTo>
                  <a:pt x="62954" y="105993"/>
                  <a:pt x="62954" y="103154"/>
                  <a:pt x="62954" y="100315"/>
                </a:cubicBezTo>
                <a:cubicBezTo>
                  <a:pt x="62954" y="55646"/>
                  <a:pt x="62954" y="55646"/>
                  <a:pt x="62954" y="55646"/>
                </a:cubicBezTo>
                <a:cubicBezTo>
                  <a:pt x="78030" y="69652"/>
                  <a:pt x="78030" y="69652"/>
                  <a:pt x="78030" y="69652"/>
                </a:cubicBezTo>
                <a:cubicBezTo>
                  <a:pt x="78030" y="72492"/>
                  <a:pt x="80882" y="72492"/>
                  <a:pt x="83938" y="69652"/>
                </a:cubicBezTo>
                <a:cubicBezTo>
                  <a:pt x="83938" y="69652"/>
                  <a:pt x="83938" y="66813"/>
                  <a:pt x="83938" y="64164"/>
                </a:cubicBezTo>
                <a:cubicBezTo>
                  <a:pt x="62954" y="41829"/>
                  <a:pt x="62954" y="41829"/>
                  <a:pt x="62954" y="41829"/>
                </a:cubicBezTo>
                <a:lnTo>
                  <a:pt x="59898" y="41829"/>
                </a:lnTo>
                <a:lnTo>
                  <a:pt x="56842" y="41829"/>
                </a:lnTo>
                <a:cubicBezTo>
                  <a:pt x="35857" y="64164"/>
                  <a:pt x="35857" y="64164"/>
                  <a:pt x="35857" y="64164"/>
                </a:cubicBezTo>
                <a:cubicBezTo>
                  <a:pt x="35857" y="66813"/>
                  <a:pt x="35857" y="69652"/>
                  <a:pt x="35857" y="69652"/>
                </a:cubicBezTo>
                <a:cubicBezTo>
                  <a:pt x="38913" y="72492"/>
                  <a:pt x="41969" y="72492"/>
                  <a:pt x="41969" y="69652"/>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4688"/>
          <p:cNvSpPr/>
          <p:nvPr/>
        </p:nvSpPr>
        <p:spPr>
          <a:xfrm>
            <a:off x="3503520" y="4522680"/>
            <a:ext cx="249480" cy="306360"/>
          </a:xfrm>
          <a:custGeom>
            <a:avLst/>
            <a:gdLst>
              <a:gd name="textAreaLeft" fmla="*/ 0 w 249480"/>
              <a:gd name="textAreaRight" fmla="*/ 249840 w 249480"/>
              <a:gd name="textAreaTop" fmla="*/ 0 h 306360"/>
              <a:gd name="textAreaBottom" fmla="*/ 306720 h 306360"/>
            </a:gdLst>
            <a:ahLst/>
            <a:rect l="textAreaLeft" t="textAreaTop" r="textAreaRight" b="textAreaBottom"/>
            <a:pathLst>
              <a:path w="120000" h="120000">
                <a:moveTo>
                  <a:pt x="65116" y="0"/>
                </a:moveTo>
                <a:lnTo>
                  <a:pt x="65116" y="0"/>
                </a:lnTo>
                <a:cubicBezTo>
                  <a:pt x="54883" y="0"/>
                  <a:pt x="54883" y="0"/>
                  <a:pt x="54883" y="0"/>
                </a:cubicBezTo>
                <a:cubicBezTo>
                  <a:pt x="51395" y="0"/>
                  <a:pt x="47906" y="5678"/>
                  <a:pt x="47906" y="8328"/>
                </a:cubicBezTo>
                <a:cubicBezTo>
                  <a:pt x="47906" y="111482"/>
                  <a:pt x="47906" y="111482"/>
                  <a:pt x="47906" y="111482"/>
                </a:cubicBezTo>
                <a:cubicBezTo>
                  <a:pt x="47906" y="117160"/>
                  <a:pt x="51395" y="119810"/>
                  <a:pt x="54883" y="119810"/>
                </a:cubicBezTo>
                <a:cubicBezTo>
                  <a:pt x="65116" y="119810"/>
                  <a:pt x="65116" y="119810"/>
                  <a:pt x="65116" y="119810"/>
                </a:cubicBezTo>
                <a:cubicBezTo>
                  <a:pt x="68604" y="119810"/>
                  <a:pt x="75348" y="117160"/>
                  <a:pt x="75348" y="111482"/>
                </a:cubicBezTo>
                <a:cubicBezTo>
                  <a:pt x="75348" y="8328"/>
                  <a:pt x="75348" y="8328"/>
                  <a:pt x="75348" y="8328"/>
                </a:cubicBezTo>
                <a:cubicBezTo>
                  <a:pt x="75348" y="5678"/>
                  <a:pt x="68604" y="0"/>
                  <a:pt x="65116" y="0"/>
                </a:cubicBezTo>
                <a:close/>
                <a:moveTo>
                  <a:pt x="65116" y="108643"/>
                </a:moveTo>
                <a:lnTo>
                  <a:pt x="65116" y="108643"/>
                </a:lnTo>
                <a:cubicBezTo>
                  <a:pt x="65116" y="111482"/>
                  <a:pt x="61627" y="111482"/>
                  <a:pt x="61627" y="111482"/>
                </a:cubicBezTo>
                <a:cubicBezTo>
                  <a:pt x="58372" y="111482"/>
                  <a:pt x="54883" y="111482"/>
                  <a:pt x="54883" y="108643"/>
                </a:cubicBezTo>
                <a:cubicBezTo>
                  <a:pt x="54883" y="11167"/>
                  <a:pt x="54883" y="11167"/>
                  <a:pt x="54883" y="11167"/>
                </a:cubicBezTo>
                <a:cubicBezTo>
                  <a:pt x="54883" y="11167"/>
                  <a:pt x="58372" y="8328"/>
                  <a:pt x="61627" y="8328"/>
                </a:cubicBezTo>
                <a:lnTo>
                  <a:pt x="65116" y="11167"/>
                </a:lnTo>
                <a:lnTo>
                  <a:pt x="65116" y="108643"/>
                </a:lnTo>
                <a:close/>
                <a:moveTo>
                  <a:pt x="20697" y="33501"/>
                </a:moveTo>
                <a:lnTo>
                  <a:pt x="20697" y="33501"/>
                </a:lnTo>
                <a:cubicBezTo>
                  <a:pt x="10232" y="33501"/>
                  <a:pt x="10232" y="33501"/>
                  <a:pt x="10232" y="33501"/>
                </a:cubicBezTo>
                <a:cubicBezTo>
                  <a:pt x="6976" y="33501"/>
                  <a:pt x="0" y="38990"/>
                  <a:pt x="0" y="41829"/>
                </a:cubicBezTo>
                <a:cubicBezTo>
                  <a:pt x="0" y="111482"/>
                  <a:pt x="0" y="111482"/>
                  <a:pt x="0" y="111482"/>
                </a:cubicBezTo>
                <a:cubicBezTo>
                  <a:pt x="0" y="117160"/>
                  <a:pt x="6976" y="119810"/>
                  <a:pt x="10232" y="119810"/>
                </a:cubicBezTo>
                <a:cubicBezTo>
                  <a:pt x="20697" y="119810"/>
                  <a:pt x="20697" y="119810"/>
                  <a:pt x="20697" y="119810"/>
                </a:cubicBezTo>
                <a:cubicBezTo>
                  <a:pt x="23953" y="119810"/>
                  <a:pt x="27441" y="117160"/>
                  <a:pt x="27441" y="111482"/>
                </a:cubicBezTo>
                <a:cubicBezTo>
                  <a:pt x="27441" y="41829"/>
                  <a:pt x="27441" y="41829"/>
                  <a:pt x="27441" y="41829"/>
                </a:cubicBezTo>
                <a:cubicBezTo>
                  <a:pt x="27441" y="38990"/>
                  <a:pt x="23953" y="33501"/>
                  <a:pt x="20697" y="33501"/>
                </a:cubicBezTo>
                <a:close/>
                <a:moveTo>
                  <a:pt x="20697" y="108643"/>
                </a:moveTo>
                <a:lnTo>
                  <a:pt x="20697" y="108643"/>
                </a:lnTo>
                <a:cubicBezTo>
                  <a:pt x="20697" y="111482"/>
                  <a:pt x="17209" y="111482"/>
                  <a:pt x="13720" y="111482"/>
                </a:cubicBezTo>
                <a:cubicBezTo>
                  <a:pt x="13720" y="111482"/>
                  <a:pt x="10232" y="111482"/>
                  <a:pt x="10232" y="108643"/>
                </a:cubicBezTo>
                <a:cubicBezTo>
                  <a:pt x="10232" y="44668"/>
                  <a:pt x="10232" y="44668"/>
                  <a:pt x="10232" y="44668"/>
                </a:cubicBezTo>
                <a:lnTo>
                  <a:pt x="13720" y="41829"/>
                </a:lnTo>
                <a:cubicBezTo>
                  <a:pt x="17209" y="41829"/>
                  <a:pt x="20697" y="44668"/>
                  <a:pt x="20697" y="44668"/>
                </a:cubicBezTo>
                <a:lnTo>
                  <a:pt x="20697" y="108643"/>
                </a:lnTo>
                <a:close/>
                <a:moveTo>
                  <a:pt x="109534" y="61324"/>
                </a:moveTo>
                <a:lnTo>
                  <a:pt x="109534" y="61324"/>
                </a:lnTo>
                <a:cubicBezTo>
                  <a:pt x="102790" y="61324"/>
                  <a:pt x="102790" y="61324"/>
                  <a:pt x="102790" y="61324"/>
                </a:cubicBezTo>
                <a:cubicBezTo>
                  <a:pt x="95813" y="61324"/>
                  <a:pt x="92558" y="64164"/>
                  <a:pt x="92558" y="66813"/>
                </a:cubicBezTo>
                <a:cubicBezTo>
                  <a:pt x="92558" y="111482"/>
                  <a:pt x="92558" y="111482"/>
                  <a:pt x="92558" y="111482"/>
                </a:cubicBezTo>
                <a:cubicBezTo>
                  <a:pt x="92558" y="117160"/>
                  <a:pt x="95813" y="119810"/>
                  <a:pt x="102790" y="119810"/>
                </a:cubicBezTo>
                <a:cubicBezTo>
                  <a:pt x="109534" y="119810"/>
                  <a:pt x="109534" y="119810"/>
                  <a:pt x="109534" y="119810"/>
                </a:cubicBezTo>
                <a:cubicBezTo>
                  <a:pt x="116511" y="119810"/>
                  <a:pt x="119767" y="117160"/>
                  <a:pt x="119767" y="111482"/>
                </a:cubicBezTo>
                <a:cubicBezTo>
                  <a:pt x="119767" y="66813"/>
                  <a:pt x="119767" y="66813"/>
                  <a:pt x="119767" y="66813"/>
                </a:cubicBezTo>
                <a:cubicBezTo>
                  <a:pt x="119767" y="64164"/>
                  <a:pt x="116511" y="61324"/>
                  <a:pt x="109534" y="61324"/>
                </a:cubicBezTo>
                <a:close/>
                <a:moveTo>
                  <a:pt x="109534" y="108643"/>
                </a:moveTo>
                <a:lnTo>
                  <a:pt x="109534" y="108643"/>
                </a:lnTo>
                <a:cubicBezTo>
                  <a:pt x="109534" y="111482"/>
                  <a:pt x="109534" y="111482"/>
                  <a:pt x="106279" y="111482"/>
                </a:cubicBezTo>
                <a:cubicBezTo>
                  <a:pt x="102790" y="111482"/>
                  <a:pt x="102790" y="111482"/>
                  <a:pt x="102790" y="108643"/>
                </a:cubicBezTo>
                <a:cubicBezTo>
                  <a:pt x="102790" y="72492"/>
                  <a:pt x="102790" y="72492"/>
                  <a:pt x="102790" y="72492"/>
                </a:cubicBezTo>
                <a:cubicBezTo>
                  <a:pt x="102790" y="69652"/>
                  <a:pt x="102790" y="66813"/>
                  <a:pt x="106279" y="66813"/>
                </a:cubicBezTo>
                <a:cubicBezTo>
                  <a:pt x="109534" y="66813"/>
                  <a:pt x="109534" y="69652"/>
                  <a:pt x="109534" y="72492"/>
                </a:cubicBezTo>
                <a:lnTo>
                  <a:pt x="109534" y="10864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4690"/>
          <p:cNvSpPr/>
          <p:nvPr/>
        </p:nvSpPr>
        <p:spPr>
          <a:xfrm>
            <a:off x="2484360" y="4522680"/>
            <a:ext cx="304920" cy="306360"/>
          </a:xfrm>
          <a:custGeom>
            <a:avLst/>
            <a:gdLst>
              <a:gd name="textAreaLeft" fmla="*/ 0 w 304920"/>
              <a:gd name="textAreaRight" fmla="*/ 305280 w 304920"/>
              <a:gd name="textAreaTop" fmla="*/ 0 h 306360"/>
              <a:gd name="textAreaBottom" fmla="*/ 306720 h 30636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4692"/>
          <p:cNvSpPr/>
          <p:nvPr/>
        </p:nvSpPr>
        <p:spPr>
          <a:xfrm>
            <a:off x="1509840" y="4522680"/>
            <a:ext cx="295200" cy="306360"/>
          </a:xfrm>
          <a:custGeom>
            <a:avLst/>
            <a:gdLst>
              <a:gd name="textAreaLeft" fmla="*/ 0 w 295200"/>
              <a:gd name="textAreaRight" fmla="*/ 295560 w 295200"/>
              <a:gd name="textAreaTop" fmla="*/ 0 h 306360"/>
              <a:gd name="textAreaBottom" fmla="*/ 306720 h 306360"/>
            </a:gdLst>
            <a:ahLst/>
            <a:rect l="textAreaLeft" t="textAreaTop" r="textAreaRight" b="textAreaBottom"/>
            <a:pathLst>
              <a:path w="120000" h="120000">
                <a:moveTo>
                  <a:pt x="102746" y="16845"/>
                </a:moveTo>
                <a:lnTo>
                  <a:pt x="102746" y="16845"/>
                </a:lnTo>
                <a:cubicBezTo>
                  <a:pt x="51373" y="22334"/>
                  <a:pt x="51373" y="22334"/>
                  <a:pt x="51373" y="22334"/>
                </a:cubicBezTo>
                <a:cubicBezTo>
                  <a:pt x="51373" y="22334"/>
                  <a:pt x="48465" y="25173"/>
                  <a:pt x="48465" y="27823"/>
                </a:cubicBezTo>
                <a:cubicBezTo>
                  <a:pt x="48465" y="58675"/>
                  <a:pt x="48465" y="58675"/>
                  <a:pt x="48465" y="58675"/>
                </a:cubicBezTo>
                <a:cubicBezTo>
                  <a:pt x="42843" y="55646"/>
                  <a:pt x="34313" y="55646"/>
                  <a:pt x="25589" y="61324"/>
                </a:cubicBezTo>
                <a:cubicBezTo>
                  <a:pt x="17059" y="66813"/>
                  <a:pt x="11437" y="75331"/>
                  <a:pt x="17059" y="83659"/>
                </a:cubicBezTo>
                <a:cubicBezTo>
                  <a:pt x="19967" y="91987"/>
                  <a:pt x="34313" y="91987"/>
                  <a:pt x="45557" y="86498"/>
                </a:cubicBezTo>
                <a:cubicBezTo>
                  <a:pt x="54281" y="80820"/>
                  <a:pt x="56995" y="75331"/>
                  <a:pt x="56995" y="66813"/>
                </a:cubicBezTo>
                <a:lnTo>
                  <a:pt x="56995" y="30662"/>
                </a:lnTo>
                <a:cubicBezTo>
                  <a:pt x="96930" y="25173"/>
                  <a:pt x="96930" y="25173"/>
                  <a:pt x="96930" y="25173"/>
                </a:cubicBezTo>
                <a:cubicBezTo>
                  <a:pt x="96930" y="50157"/>
                  <a:pt x="96930" y="50157"/>
                  <a:pt x="96930" y="50157"/>
                </a:cubicBezTo>
                <a:cubicBezTo>
                  <a:pt x="91308" y="47507"/>
                  <a:pt x="82778" y="47507"/>
                  <a:pt x="76962" y="52996"/>
                </a:cubicBezTo>
                <a:cubicBezTo>
                  <a:pt x="65718" y="58675"/>
                  <a:pt x="59903" y="69652"/>
                  <a:pt x="65718" y="75331"/>
                </a:cubicBezTo>
                <a:cubicBezTo>
                  <a:pt x="71340" y="83659"/>
                  <a:pt x="82778" y="83659"/>
                  <a:pt x="94216" y="77981"/>
                </a:cubicBezTo>
                <a:cubicBezTo>
                  <a:pt x="102746" y="75331"/>
                  <a:pt x="105460" y="66813"/>
                  <a:pt x="105460" y="61324"/>
                </a:cubicBezTo>
                <a:lnTo>
                  <a:pt x="105460" y="19495"/>
                </a:lnTo>
                <a:cubicBezTo>
                  <a:pt x="105460" y="16845"/>
                  <a:pt x="102746" y="16845"/>
                  <a:pt x="102746" y="16845"/>
                </a:cubicBezTo>
                <a:close/>
                <a:moveTo>
                  <a:pt x="39935" y="80820"/>
                </a:moveTo>
                <a:lnTo>
                  <a:pt x="39935" y="80820"/>
                </a:lnTo>
                <a:cubicBezTo>
                  <a:pt x="34313" y="83659"/>
                  <a:pt x="25589" y="83659"/>
                  <a:pt x="22875" y="80820"/>
                </a:cubicBezTo>
                <a:cubicBezTo>
                  <a:pt x="19967" y="75331"/>
                  <a:pt x="22875" y="69652"/>
                  <a:pt x="28497" y="66813"/>
                </a:cubicBezTo>
                <a:cubicBezTo>
                  <a:pt x="37027" y="64164"/>
                  <a:pt x="42843" y="64164"/>
                  <a:pt x="45557" y="66813"/>
                </a:cubicBezTo>
                <a:cubicBezTo>
                  <a:pt x="51373" y="69652"/>
                  <a:pt x="48465" y="77981"/>
                  <a:pt x="39935" y="80820"/>
                </a:cubicBezTo>
                <a:close/>
                <a:moveTo>
                  <a:pt x="91308" y="72492"/>
                </a:moveTo>
                <a:lnTo>
                  <a:pt x="91308" y="72492"/>
                </a:lnTo>
                <a:cubicBezTo>
                  <a:pt x="85492" y="77981"/>
                  <a:pt x="76962" y="75331"/>
                  <a:pt x="71340" y="72492"/>
                </a:cubicBezTo>
                <a:cubicBezTo>
                  <a:pt x="68432" y="69652"/>
                  <a:pt x="71340" y="61324"/>
                  <a:pt x="79870" y="58675"/>
                </a:cubicBezTo>
                <a:cubicBezTo>
                  <a:pt x="85492" y="55646"/>
                  <a:pt x="91308" y="55646"/>
                  <a:pt x="96930" y="58675"/>
                </a:cubicBezTo>
                <a:cubicBezTo>
                  <a:pt x="99838" y="61324"/>
                  <a:pt x="96930" y="69652"/>
                  <a:pt x="91308" y="72492"/>
                </a:cubicBezTo>
                <a:close/>
                <a:moveTo>
                  <a:pt x="108368" y="111482"/>
                </a:moveTo>
                <a:lnTo>
                  <a:pt x="108368" y="111482"/>
                </a:lnTo>
                <a:cubicBezTo>
                  <a:pt x="11437" y="111482"/>
                  <a:pt x="11437" y="111482"/>
                  <a:pt x="11437" y="111482"/>
                </a:cubicBezTo>
                <a:cubicBezTo>
                  <a:pt x="8529" y="111482"/>
                  <a:pt x="5621" y="114321"/>
                  <a:pt x="5621" y="117160"/>
                </a:cubicBezTo>
                <a:cubicBezTo>
                  <a:pt x="5621" y="117160"/>
                  <a:pt x="8529" y="119810"/>
                  <a:pt x="11437" y="119810"/>
                </a:cubicBezTo>
                <a:cubicBezTo>
                  <a:pt x="108368" y="119810"/>
                  <a:pt x="108368" y="119810"/>
                  <a:pt x="108368" y="119810"/>
                </a:cubicBezTo>
                <a:cubicBezTo>
                  <a:pt x="111276" y="119810"/>
                  <a:pt x="114184" y="117160"/>
                  <a:pt x="114184" y="117160"/>
                </a:cubicBezTo>
                <a:cubicBezTo>
                  <a:pt x="114184" y="114321"/>
                  <a:pt x="111276" y="111482"/>
                  <a:pt x="108368" y="111482"/>
                </a:cubicBezTo>
                <a:close/>
                <a:moveTo>
                  <a:pt x="105460" y="0"/>
                </a:moveTo>
                <a:lnTo>
                  <a:pt x="105460" y="0"/>
                </a:lnTo>
                <a:cubicBezTo>
                  <a:pt x="14151" y="0"/>
                  <a:pt x="14151" y="0"/>
                  <a:pt x="14151" y="0"/>
                </a:cubicBezTo>
                <a:cubicBezTo>
                  <a:pt x="5621" y="0"/>
                  <a:pt x="0" y="8328"/>
                  <a:pt x="0" y="16845"/>
                </a:cubicBezTo>
                <a:cubicBezTo>
                  <a:pt x="0" y="89148"/>
                  <a:pt x="0" y="89148"/>
                  <a:pt x="0" y="89148"/>
                </a:cubicBezTo>
                <a:cubicBezTo>
                  <a:pt x="0" y="97476"/>
                  <a:pt x="5621" y="105993"/>
                  <a:pt x="14151" y="105993"/>
                </a:cubicBezTo>
                <a:cubicBezTo>
                  <a:pt x="105460" y="105993"/>
                  <a:pt x="105460" y="105993"/>
                  <a:pt x="105460" y="105993"/>
                </a:cubicBezTo>
                <a:cubicBezTo>
                  <a:pt x="114184" y="105993"/>
                  <a:pt x="119806" y="97476"/>
                  <a:pt x="119806" y="89148"/>
                </a:cubicBezTo>
                <a:cubicBezTo>
                  <a:pt x="119806" y="16845"/>
                  <a:pt x="119806" y="16845"/>
                  <a:pt x="119806" y="16845"/>
                </a:cubicBezTo>
                <a:cubicBezTo>
                  <a:pt x="119806" y="8328"/>
                  <a:pt x="114184" y="0"/>
                  <a:pt x="105460" y="0"/>
                </a:cubicBezTo>
                <a:close/>
                <a:moveTo>
                  <a:pt x="114184" y="89148"/>
                </a:moveTo>
                <a:lnTo>
                  <a:pt x="114184" y="89148"/>
                </a:lnTo>
                <a:cubicBezTo>
                  <a:pt x="114184" y="94826"/>
                  <a:pt x="108368" y="97476"/>
                  <a:pt x="105460" y="97476"/>
                </a:cubicBezTo>
                <a:cubicBezTo>
                  <a:pt x="14151" y="97476"/>
                  <a:pt x="14151" y="97476"/>
                  <a:pt x="14151" y="97476"/>
                </a:cubicBezTo>
                <a:cubicBezTo>
                  <a:pt x="11437" y="97476"/>
                  <a:pt x="5621" y="94826"/>
                  <a:pt x="5621" y="89148"/>
                </a:cubicBezTo>
                <a:cubicBezTo>
                  <a:pt x="5621" y="16845"/>
                  <a:pt x="5621" y="16845"/>
                  <a:pt x="5621" y="16845"/>
                </a:cubicBezTo>
                <a:cubicBezTo>
                  <a:pt x="5621" y="11167"/>
                  <a:pt x="11437" y="8328"/>
                  <a:pt x="14151" y="8328"/>
                </a:cubicBezTo>
                <a:cubicBezTo>
                  <a:pt x="105460" y="8328"/>
                  <a:pt x="105460" y="8328"/>
                  <a:pt x="105460" y="8328"/>
                </a:cubicBezTo>
                <a:cubicBezTo>
                  <a:pt x="108368" y="8328"/>
                  <a:pt x="114184" y="11167"/>
                  <a:pt x="114184" y="16845"/>
                </a:cubicBezTo>
                <a:lnTo>
                  <a:pt x="114184" y="89148"/>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4694"/>
          <p:cNvSpPr/>
          <p:nvPr/>
        </p:nvSpPr>
        <p:spPr>
          <a:xfrm>
            <a:off x="5483160" y="3546360"/>
            <a:ext cx="163440" cy="298440"/>
          </a:xfrm>
          <a:custGeom>
            <a:avLst/>
            <a:gdLst>
              <a:gd name="textAreaLeft" fmla="*/ 0 w 163440"/>
              <a:gd name="textAreaRight" fmla="*/ 163800 w 163440"/>
              <a:gd name="textAreaTop" fmla="*/ 0 h 298440"/>
              <a:gd name="textAreaBottom" fmla="*/ 298800 h 298440"/>
            </a:gdLst>
            <a:ahLst/>
            <a:rect l="textAreaLeft" t="textAreaTop" r="textAreaRight" b="textAreaBottom"/>
            <a:pathLst>
              <a:path w="120000" h="120000">
                <a:moveTo>
                  <a:pt x="114352" y="0"/>
                </a:moveTo>
                <a:lnTo>
                  <a:pt x="114352" y="0"/>
                </a:lnTo>
                <a:cubicBezTo>
                  <a:pt x="103764" y="0"/>
                  <a:pt x="103764" y="5815"/>
                  <a:pt x="103764" y="5815"/>
                </a:cubicBezTo>
                <a:cubicBezTo>
                  <a:pt x="103764" y="65718"/>
                  <a:pt x="103764" y="65718"/>
                  <a:pt x="103764" y="65718"/>
                </a:cubicBezTo>
                <a:cubicBezTo>
                  <a:pt x="88588" y="59903"/>
                  <a:pt x="62470" y="59903"/>
                  <a:pt x="41647" y="68432"/>
                </a:cubicBezTo>
                <a:cubicBezTo>
                  <a:pt x="15529" y="77156"/>
                  <a:pt x="0" y="94216"/>
                  <a:pt x="10588" y="105654"/>
                </a:cubicBezTo>
                <a:cubicBezTo>
                  <a:pt x="26117" y="117092"/>
                  <a:pt x="57176" y="119806"/>
                  <a:pt x="88588" y="108562"/>
                </a:cubicBezTo>
                <a:cubicBezTo>
                  <a:pt x="109411" y="102746"/>
                  <a:pt x="119647" y="91308"/>
                  <a:pt x="119647" y="79870"/>
                </a:cubicBezTo>
                <a:cubicBezTo>
                  <a:pt x="119647" y="5815"/>
                  <a:pt x="119647" y="5815"/>
                  <a:pt x="119647" y="5815"/>
                </a:cubicBezTo>
                <a:cubicBezTo>
                  <a:pt x="119647" y="2907"/>
                  <a:pt x="114352" y="0"/>
                  <a:pt x="114352" y="0"/>
                </a:cubicBezTo>
                <a:close/>
                <a:moveTo>
                  <a:pt x="83294" y="102746"/>
                </a:moveTo>
                <a:lnTo>
                  <a:pt x="83294" y="102746"/>
                </a:lnTo>
                <a:cubicBezTo>
                  <a:pt x="62470" y="111276"/>
                  <a:pt x="36352" y="111276"/>
                  <a:pt x="26117" y="102746"/>
                </a:cubicBezTo>
                <a:cubicBezTo>
                  <a:pt x="15529" y="94216"/>
                  <a:pt x="26117" y="79870"/>
                  <a:pt x="46941" y="74248"/>
                </a:cubicBezTo>
                <a:cubicBezTo>
                  <a:pt x="67764" y="65718"/>
                  <a:pt x="93529" y="68432"/>
                  <a:pt x="103764" y="77156"/>
                </a:cubicBezTo>
                <a:cubicBezTo>
                  <a:pt x="114352" y="85686"/>
                  <a:pt x="98823" y="97124"/>
                  <a:pt x="83294" y="10274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4696"/>
          <p:cNvSpPr/>
          <p:nvPr/>
        </p:nvSpPr>
        <p:spPr>
          <a:xfrm>
            <a:off x="4444920" y="3567240"/>
            <a:ext cx="311400" cy="249120"/>
          </a:xfrm>
          <a:custGeom>
            <a:avLst/>
            <a:gdLst>
              <a:gd name="textAreaLeft" fmla="*/ 0 w 311400"/>
              <a:gd name="textAreaRight" fmla="*/ 311760 w 311400"/>
              <a:gd name="textAreaTop" fmla="*/ 0 h 249120"/>
              <a:gd name="textAreaBottom" fmla="*/ 249480 h 249120"/>
            </a:gdLst>
            <a:ahLst/>
            <a:rect l="textAreaLeft" t="textAreaTop" r="textAreaRight" b="textAreaBottom"/>
            <a:pathLst>
              <a:path w="120000" h="120000">
                <a:moveTo>
                  <a:pt x="59907" y="109323"/>
                </a:moveTo>
                <a:lnTo>
                  <a:pt x="59907" y="109323"/>
                </a:lnTo>
                <a:cubicBezTo>
                  <a:pt x="40862" y="109323"/>
                  <a:pt x="27180" y="92379"/>
                  <a:pt x="21818" y="71721"/>
                </a:cubicBezTo>
                <a:cubicBezTo>
                  <a:pt x="32727" y="71721"/>
                  <a:pt x="32727" y="71721"/>
                  <a:pt x="32727" y="71721"/>
                </a:cubicBezTo>
                <a:cubicBezTo>
                  <a:pt x="35500" y="71721"/>
                  <a:pt x="35500" y="68471"/>
                  <a:pt x="32727" y="68471"/>
                </a:cubicBezTo>
                <a:cubicBezTo>
                  <a:pt x="19044" y="51295"/>
                  <a:pt x="19044" y="51295"/>
                  <a:pt x="19044" y="51295"/>
                </a:cubicBezTo>
                <a:lnTo>
                  <a:pt x="16271" y="51295"/>
                </a:lnTo>
                <a:cubicBezTo>
                  <a:pt x="2773" y="68471"/>
                  <a:pt x="2773" y="68471"/>
                  <a:pt x="2773" y="68471"/>
                </a:cubicBezTo>
                <a:cubicBezTo>
                  <a:pt x="0" y="71721"/>
                  <a:pt x="2773" y="71721"/>
                  <a:pt x="2773" y="71721"/>
                </a:cubicBezTo>
                <a:cubicBezTo>
                  <a:pt x="13682" y="71721"/>
                  <a:pt x="13682" y="71721"/>
                  <a:pt x="13682" y="71721"/>
                </a:cubicBezTo>
                <a:cubicBezTo>
                  <a:pt x="19044" y="99110"/>
                  <a:pt x="38089" y="119767"/>
                  <a:pt x="59907" y="119767"/>
                </a:cubicBezTo>
                <a:cubicBezTo>
                  <a:pt x="76363" y="119767"/>
                  <a:pt x="92634" y="106073"/>
                  <a:pt x="100770" y="88897"/>
                </a:cubicBezTo>
                <a:cubicBezTo>
                  <a:pt x="92634" y="85415"/>
                  <a:pt x="92634" y="85415"/>
                  <a:pt x="92634" y="85415"/>
                </a:cubicBezTo>
                <a:cubicBezTo>
                  <a:pt x="87087" y="99110"/>
                  <a:pt x="73590" y="109323"/>
                  <a:pt x="59907" y="109323"/>
                </a:cubicBezTo>
                <a:close/>
                <a:moveTo>
                  <a:pt x="117041" y="51295"/>
                </a:moveTo>
                <a:lnTo>
                  <a:pt x="117041" y="51295"/>
                </a:lnTo>
                <a:cubicBezTo>
                  <a:pt x="106132" y="51295"/>
                  <a:pt x="106132" y="51295"/>
                  <a:pt x="106132" y="51295"/>
                </a:cubicBezTo>
                <a:cubicBezTo>
                  <a:pt x="103543" y="20657"/>
                  <a:pt x="84314" y="0"/>
                  <a:pt x="59907" y="0"/>
                </a:cubicBezTo>
                <a:cubicBezTo>
                  <a:pt x="40862" y="0"/>
                  <a:pt x="24591" y="13694"/>
                  <a:pt x="19044" y="30870"/>
                </a:cubicBezTo>
                <a:cubicBezTo>
                  <a:pt x="24591" y="34352"/>
                  <a:pt x="24591" y="34352"/>
                  <a:pt x="24591" y="34352"/>
                </a:cubicBezTo>
                <a:cubicBezTo>
                  <a:pt x="32727" y="20657"/>
                  <a:pt x="43636" y="10444"/>
                  <a:pt x="59907" y="10444"/>
                </a:cubicBezTo>
                <a:cubicBezTo>
                  <a:pt x="78952" y="10444"/>
                  <a:pt x="95223" y="27388"/>
                  <a:pt x="97996" y="51295"/>
                </a:cubicBezTo>
                <a:cubicBezTo>
                  <a:pt x="87087" y="51295"/>
                  <a:pt x="87087" y="51295"/>
                  <a:pt x="87087" y="51295"/>
                </a:cubicBezTo>
                <a:cubicBezTo>
                  <a:pt x="84314" y="51295"/>
                  <a:pt x="84314" y="51295"/>
                  <a:pt x="87087" y="54777"/>
                </a:cubicBezTo>
                <a:cubicBezTo>
                  <a:pt x="100770" y="71721"/>
                  <a:pt x="100770" y="71721"/>
                  <a:pt x="100770" y="71721"/>
                </a:cubicBezTo>
                <a:lnTo>
                  <a:pt x="103543" y="71721"/>
                </a:lnTo>
                <a:cubicBezTo>
                  <a:pt x="117041" y="54777"/>
                  <a:pt x="117041" y="54777"/>
                  <a:pt x="117041" y="54777"/>
                </a:cubicBezTo>
                <a:cubicBezTo>
                  <a:pt x="119815" y="54777"/>
                  <a:pt x="117041" y="51295"/>
                  <a:pt x="117041" y="5129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4698"/>
          <p:cNvSpPr/>
          <p:nvPr/>
        </p:nvSpPr>
        <p:spPr>
          <a:xfrm>
            <a:off x="3503520" y="3575160"/>
            <a:ext cx="220680" cy="226800"/>
          </a:xfrm>
          <a:custGeom>
            <a:avLst/>
            <a:gdLst>
              <a:gd name="textAreaLeft" fmla="*/ 0 w 220680"/>
              <a:gd name="textAreaRight" fmla="*/ 221040 w 220680"/>
              <a:gd name="textAreaTop" fmla="*/ 0 h 226800"/>
              <a:gd name="textAreaBottom" fmla="*/ 227160 h 226800"/>
            </a:gdLst>
            <a:ahLst/>
            <a:rect l="textAreaLeft" t="textAreaTop" r="textAreaRight" b="textAreaBottom"/>
            <a:pathLst>
              <a:path w="120000" h="120000">
                <a:moveTo>
                  <a:pt x="119737" y="56186"/>
                </a:moveTo>
                <a:lnTo>
                  <a:pt x="119737" y="56186"/>
                </a:lnTo>
                <a:cubicBezTo>
                  <a:pt x="61834" y="3813"/>
                  <a:pt x="61834" y="3813"/>
                  <a:pt x="61834" y="3813"/>
                </a:cubicBezTo>
                <a:cubicBezTo>
                  <a:pt x="61834" y="0"/>
                  <a:pt x="57903" y="0"/>
                  <a:pt x="53973" y="3813"/>
                </a:cubicBezTo>
                <a:cubicBezTo>
                  <a:pt x="53973" y="3813"/>
                  <a:pt x="53973" y="7627"/>
                  <a:pt x="53973" y="11186"/>
                </a:cubicBezTo>
                <a:cubicBezTo>
                  <a:pt x="107947" y="59745"/>
                  <a:pt x="107947" y="59745"/>
                  <a:pt x="107947" y="59745"/>
                </a:cubicBezTo>
                <a:cubicBezTo>
                  <a:pt x="53973" y="112372"/>
                  <a:pt x="53973" y="112372"/>
                  <a:pt x="53973" y="112372"/>
                </a:cubicBezTo>
                <a:cubicBezTo>
                  <a:pt x="53973" y="115932"/>
                  <a:pt x="53973" y="115932"/>
                  <a:pt x="53973" y="119745"/>
                </a:cubicBezTo>
                <a:cubicBezTo>
                  <a:pt x="57903" y="119745"/>
                  <a:pt x="61834" y="119745"/>
                  <a:pt x="61834" y="119745"/>
                </a:cubicBezTo>
                <a:cubicBezTo>
                  <a:pt x="119737" y="63559"/>
                  <a:pt x="119737" y="63559"/>
                  <a:pt x="119737" y="63559"/>
                </a:cubicBezTo>
                <a:cubicBezTo>
                  <a:pt x="119737" y="63559"/>
                  <a:pt x="119737" y="63559"/>
                  <a:pt x="119737" y="59745"/>
                </a:cubicBezTo>
                <a:cubicBezTo>
                  <a:pt x="119737" y="59745"/>
                  <a:pt x="119737" y="59745"/>
                  <a:pt x="119737" y="56186"/>
                </a:cubicBezTo>
                <a:close/>
                <a:moveTo>
                  <a:pt x="57903" y="59745"/>
                </a:moveTo>
                <a:lnTo>
                  <a:pt x="57903" y="59745"/>
                </a:lnTo>
                <a:cubicBezTo>
                  <a:pt x="57903" y="59745"/>
                  <a:pt x="57903" y="59745"/>
                  <a:pt x="57903" y="56186"/>
                </a:cubicBezTo>
                <a:cubicBezTo>
                  <a:pt x="11528" y="11186"/>
                  <a:pt x="11528" y="11186"/>
                  <a:pt x="11528" y="11186"/>
                </a:cubicBezTo>
                <a:cubicBezTo>
                  <a:pt x="7860" y="11186"/>
                  <a:pt x="3930" y="11186"/>
                  <a:pt x="3930" y="11186"/>
                </a:cubicBezTo>
                <a:cubicBezTo>
                  <a:pt x="0" y="15000"/>
                  <a:pt x="0" y="18813"/>
                  <a:pt x="3930" y="18813"/>
                </a:cubicBezTo>
                <a:cubicBezTo>
                  <a:pt x="46375" y="59745"/>
                  <a:pt x="46375" y="59745"/>
                  <a:pt x="46375" y="59745"/>
                </a:cubicBezTo>
                <a:cubicBezTo>
                  <a:pt x="3930" y="100932"/>
                  <a:pt x="3930" y="100932"/>
                  <a:pt x="3930" y="100932"/>
                </a:cubicBezTo>
                <a:cubicBezTo>
                  <a:pt x="0" y="104745"/>
                  <a:pt x="0" y="108559"/>
                  <a:pt x="3930" y="108559"/>
                </a:cubicBezTo>
                <a:cubicBezTo>
                  <a:pt x="3930" y="112372"/>
                  <a:pt x="7860" y="112372"/>
                  <a:pt x="11528" y="108559"/>
                </a:cubicBezTo>
                <a:cubicBezTo>
                  <a:pt x="57903" y="63559"/>
                  <a:pt x="57903" y="63559"/>
                  <a:pt x="57903" y="63559"/>
                </a:cubicBezTo>
                <a:cubicBezTo>
                  <a:pt x="57903" y="63559"/>
                  <a:pt x="57903" y="63559"/>
                  <a:pt x="57903" y="5974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4700"/>
          <p:cNvSpPr/>
          <p:nvPr/>
        </p:nvSpPr>
        <p:spPr>
          <a:xfrm>
            <a:off x="2505240" y="3605040"/>
            <a:ext cx="263520" cy="168480"/>
          </a:xfrm>
          <a:custGeom>
            <a:avLst/>
            <a:gdLst>
              <a:gd name="textAreaLeft" fmla="*/ 0 w 263520"/>
              <a:gd name="textAreaRight" fmla="*/ 263880 w 263520"/>
              <a:gd name="textAreaTop" fmla="*/ 0 h 168480"/>
              <a:gd name="textAreaBottom" fmla="*/ 168840 h 168480"/>
            </a:gdLst>
            <a:ahLst/>
            <a:rect l="textAreaLeft" t="textAreaTop" r="textAreaRight" b="textAreaBottom"/>
            <a:pathLst>
              <a:path w="120000" h="120000">
                <a:moveTo>
                  <a:pt x="29230" y="14915"/>
                </a:moveTo>
                <a:lnTo>
                  <a:pt x="29230" y="14915"/>
                </a:lnTo>
                <a:cubicBezTo>
                  <a:pt x="116483" y="14915"/>
                  <a:pt x="116483" y="14915"/>
                  <a:pt x="116483" y="14915"/>
                </a:cubicBezTo>
                <a:cubicBezTo>
                  <a:pt x="119780" y="14915"/>
                  <a:pt x="119780" y="9830"/>
                  <a:pt x="119780" y="9830"/>
                </a:cubicBezTo>
                <a:cubicBezTo>
                  <a:pt x="119780" y="5084"/>
                  <a:pt x="119780" y="0"/>
                  <a:pt x="116483" y="0"/>
                </a:cubicBezTo>
                <a:cubicBezTo>
                  <a:pt x="29230" y="0"/>
                  <a:pt x="29230" y="0"/>
                  <a:pt x="29230" y="0"/>
                </a:cubicBezTo>
                <a:cubicBezTo>
                  <a:pt x="29230" y="0"/>
                  <a:pt x="25934" y="5084"/>
                  <a:pt x="25934" y="9830"/>
                </a:cubicBezTo>
                <a:lnTo>
                  <a:pt x="29230" y="14915"/>
                </a:lnTo>
                <a:close/>
                <a:moveTo>
                  <a:pt x="3296" y="109830"/>
                </a:moveTo>
                <a:lnTo>
                  <a:pt x="3296" y="109830"/>
                </a:lnTo>
                <a:cubicBezTo>
                  <a:pt x="3296" y="109830"/>
                  <a:pt x="0" y="109830"/>
                  <a:pt x="0" y="114576"/>
                </a:cubicBezTo>
                <a:cubicBezTo>
                  <a:pt x="0" y="119661"/>
                  <a:pt x="3296" y="119661"/>
                  <a:pt x="3296" y="119661"/>
                </a:cubicBezTo>
                <a:cubicBezTo>
                  <a:pt x="6593" y="119661"/>
                  <a:pt x="9890" y="119661"/>
                  <a:pt x="9890" y="114576"/>
                </a:cubicBezTo>
                <a:cubicBezTo>
                  <a:pt x="9890" y="109830"/>
                  <a:pt x="6593" y="109830"/>
                  <a:pt x="3296" y="109830"/>
                </a:cubicBezTo>
                <a:close/>
                <a:moveTo>
                  <a:pt x="3296" y="54915"/>
                </a:moveTo>
                <a:lnTo>
                  <a:pt x="3296" y="54915"/>
                </a:lnTo>
                <a:lnTo>
                  <a:pt x="0" y="59661"/>
                </a:lnTo>
                <a:cubicBezTo>
                  <a:pt x="0" y="64745"/>
                  <a:pt x="3296" y="69830"/>
                  <a:pt x="3296" y="69830"/>
                </a:cubicBezTo>
                <a:cubicBezTo>
                  <a:pt x="6593" y="69830"/>
                  <a:pt x="9890" y="64745"/>
                  <a:pt x="9890" y="59661"/>
                </a:cubicBezTo>
                <a:cubicBezTo>
                  <a:pt x="9890" y="59661"/>
                  <a:pt x="6593" y="54915"/>
                  <a:pt x="3296" y="54915"/>
                </a:cubicBezTo>
                <a:close/>
                <a:moveTo>
                  <a:pt x="116483" y="109830"/>
                </a:moveTo>
                <a:lnTo>
                  <a:pt x="116483" y="109830"/>
                </a:lnTo>
                <a:cubicBezTo>
                  <a:pt x="29230" y="109830"/>
                  <a:pt x="29230" y="109830"/>
                  <a:pt x="29230" y="109830"/>
                </a:cubicBezTo>
                <a:cubicBezTo>
                  <a:pt x="29230" y="109830"/>
                  <a:pt x="25934" y="109830"/>
                  <a:pt x="25934" y="114576"/>
                </a:cubicBezTo>
                <a:cubicBezTo>
                  <a:pt x="25934" y="119661"/>
                  <a:pt x="29230" y="119661"/>
                  <a:pt x="29230" y="119661"/>
                </a:cubicBezTo>
                <a:cubicBezTo>
                  <a:pt x="116483" y="119661"/>
                  <a:pt x="116483" y="119661"/>
                  <a:pt x="116483" y="119661"/>
                </a:cubicBezTo>
                <a:cubicBezTo>
                  <a:pt x="119780" y="119661"/>
                  <a:pt x="119780" y="119661"/>
                  <a:pt x="119780" y="114576"/>
                </a:cubicBezTo>
                <a:cubicBezTo>
                  <a:pt x="119780" y="109830"/>
                  <a:pt x="119780" y="109830"/>
                  <a:pt x="116483" y="109830"/>
                </a:cubicBezTo>
                <a:close/>
                <a:moveTo>
                  <a:pt x="116483" y="54915"/>
                </a:moveTo>
                <a:lnTo>
                  <a:pt x="116483" y="54915"/>
                </a:lnTo>
                <a:cubicBezTo>
                  <a:pt x="29230" y="54915"/>
                  <a:pt x="29230" y="54915"/>
                  <a:pt x="29230" y="54915"/>
                </a:cubicBezTo>
                <a:lnTo>
                  <a:pt x="25934" y="59661"/>
                </a:lnTo>
                <a:cubicBezTo>
                  <a:pt x="25934" y="64745"/>
                  <a:pt x="29230" y="69830"/>
                  <a:pt x="29230" y="69830"/>
                </a:cubicBezTo>
                <a:cubicBezTo>
                  <a:pt x="116483" y="69830"/>
                  <a:pt x="116483" y="69830"/>
                  <a:pt x="116483" y="69830"/>
                </a:cubicBezTo>
                <a:cubicBezTo>
                  <a:pt x="119780" y="69830"/>
                  <a:pt x="119780" y="64745"/>
                  <a:pt x="119780" y="59661"/>
                </a:cubicBezTo>
                <a:cubicBezTo>
                  <a:pt x="119780" y="59661"/>
                  <a:pt x="119780" y="54915"/>
                  <a:pt x="116483" y="54915"/>
                </a:cubicBezTo>
                <a:close/>
                <a:moveTo>
                  <a:pt x="3296" y="0"/>
                </a:moveTo>
                <a:lnTo>
                  <a:pt x="3296" y="0"/>
                </a:lnTo>
                <a:cubicBezTo>
                  <a:pt x="3296" y="0"/>
                  <a:pt x="0" y="5084"/>
                  <a:pt x="0" y="9830"/>
                </a:cubicBezTo>
                <a:lnTo>
                  <a:pt x="3296" y="14915"/>
                </a:lnTo>
                <a:cubicBezTo>
                  <a:pt x="6593" y="14915"/>
                  <a:pt x="9890" y="9830"/>
                  <a:pt x="9890" y="9830"/>
                </a:cubicBezTo>
                <a:cubicBezTo>
                  <a:pt x="9890" y="5084"/>
                  <a:pt x="6593" y="0"/>
                  <a:pt x="3296" y="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4702"/>
          <p:cNvSpPr/>
          <p:nvPr/>
        </p:nvSpPr>
        <p:spPr>
          <a:xfrm>
            <a:off x="1501920" y="3552840"/>
            <a:ext cx="304560" cy="270000"/>
          </a:xfrm>
          <a:custGeom>
            <a:avLst/>
            <a:gdLst>
              <a:gd name="textAreaLeft" fmla="*/ 0 w 304560"/>
              <a:gd name="textAreaRight" fmla="*/ 304920 w 304560"/>
              <a:gd name="textAreaTop" fmla="*/ 0 h 270000"/>
              <a:gd name="textAreaBottom" fmla="*/ 270360 h 270000"/>
            </a:gdLst>
            <a:ahLst/>
            <a:rect l="textAreaLeft" t="textAreaTop" r="textAreaRight" b="textAreaBottom"/>
            <a:pathLst>
              <a:path w="120000" h="120000">
                <a:moveTo>
                  <a:pt x="111482" y="3214"/>
                </a:moveTo>
                <a:lnTo>
                  <a:pt x="111482" y="3214"/>
                </a:lnTo>
                <a:cubicBezTo>
                  <a:pt x="75141" y="31500"/>
                  <a:pt x="75141" y="31500"/>
                  <a:pt x="75141" y="31500"/>
                </a:cubicBezTo>
                <a:cubicBezTo>
                  <a:pt x="75141" y="9428"/>
                  <a:pt x="75141" y="9428"/>
                  <a:pt x="75141" y="9428"/>
                </a:cubicBezTo>
                <a:cubicBezTo>
                  <a:pt x="75141" y="0"/>
                  <a:pt x="72492" y="0"/>
                  <a:pt x="67003" y="3214"/>
                </a:cubicBezTo>
                <a:cubicBezTo>
                  <a:pt x="2839" y="53571"/>
                  <a:pt x="2839" y="53571"/>
                  <a:pt x="2839" y="53571"/>
                </a:cubicBezTo>
                <a:cubicBezTo>
                  <a:pt x="0" y="56785"/>
                  <a:pt x="0" y="63000"/>
                  <a:pt x="2839" y="66214"/>
                </a:cubicBezTo>
                <a:cubicBezTo>
                  <a:pt x="67003" y="119785"/>
                  <a:pt x="67003" y="119785"/>
                  <a:pt x="67003" y="119785"/>
                </a:cubicBezTo>
                <a:cubicBezTo>
                  <a:pt x="69652" y="119785"/>
                  <a:pt x="75141" y="119785"/>
                  <a:pt x="75141" y="110357"/>
                </a:cubicBezTo>
                <a:cubicBezTo>
                  <a:pt x="75141" y="88285"/>
                  <a:pt x="75141" y="88285"/>
                  <a:pt x="75141" y="88285"/>
                </a:cubicBezTo>
                <a:cubicBezTo>
                  <a:pt x="111482" y="119785"/>
                  <a:pt x="111482" y="119785"/>
                  <a:pt x="111482" y="119785"/>
                </a:cubicBezTo>
                <a:cubicBezTo>
                  <a:pt x="114321" y="119785"/>
                  <a:pt x="119810" y="119785"/>
                  <a:pt x="119810" y="110357"/>
                </a:cubicBezTo>
                <a:cubicBezTo>
                  <a:pt x="119810" y="9428"/>
                  <a:pt x="119810" y="9428"/>
                  <a:pt x="119810" y="9428"/>
                </a:cubicBezTo>
                <a:cubicBezTo>
                  <a:pt x="119810" y="0"/>
                  <a:pt x="116971" y="0"/>
                  <a:pt x="111482" y="3214"/>
                </a:cubicBezTo>
                <a:close/>
                <a:moveTo>
                  <a:pt x="114321" y="107142"/>
                </a:moveTo>
                <a:lnTo>
                  <a:pt x="114321" y="107142"/>
                </a:lnTo>
                <a:cubicBezTo>
                  <a:pt x="69652" y="72428"/>
                  <a:pt x="69652" y="72428"/>
                  <a:pt x="69652" y="72428"/>
                </a:cubicBezTo>
                <a:lnTo>
                  <a:pt x="69652" y="107142"/>
                </a:lnTo>
                <a:cubicBezTo>
                  <a:pt x="8328" y="59785"/>
                  <a:pt x="8328" y="59785"/>
                  <a:pt x="8328" y="59785"/>
                </a:cubicBezTo>
                <a:cubicBezTo>
                  <a:pt x="69652" y="12642"/>
                  <a:pt x="69652" y="12642"/>
                  <a:pt x="69652" y="12642"/>
                </a:cubicBezTo>
                <a:cubicBezTo>
                  <a:pt x="69652" y="22071"/>
                  <a:pt x="69652" y="50571"/>
                  <a:pt x="69652" y="50571"/>
                </a:cubicBezTo>
                <a:cubicBezTo>
                  <a:pt x="114321" y="12642"/>
                  <a:pt x="114321" y="12642"/>
                  <a:pt x="114321" y="12642"/>
                </a:cubicBezTo>
                <a:lnTo>
                  <a:pt x="114321" y="107142"/>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4704"/>
          <p:cNvSpPr/>
          <p:nvPr/>
        </p:nvSpPr>
        <p:spPr>
          <a:xfrm>
            <a:off x="5450040" y="3067200"/>
            <a:ext cx="261720" cy="268200"/>
          </a:xfrm>
          <a:custGeom>
            <a:avLst/>
            <a:gdLst>
              <a:gd name="textAreaLeft" fmla="*/ 0 w 261720"/>
              <a:gd name="textAreaRight" fmla="*/ 262080 w 261720"/>
              <a:gd name="textAreaTop" fmla="*/ 0 h 268200"/>
              <a:gd name="textAreaBottom" fmla="*/ 268560 h 268200"/>
            </a:gdLst>
            <a:ahLst/>
            <a:rect l="textAreaLeft" t="textAreaTop" r="textAreaRight" b="textAreaBottom"/>
            <a:pathLst>
              <a:path w="120000" h="120000">
                <a:moveTo>
                  <a:pt x="113394" y="0"/>
                </a:moveTo>
                <a:lnTo>
                  <a:pt x="113394" y="0"/>
                </a:lnTo>
                <a:cubicBezTo>
                  <a:pt x="9688" y="0"/>
                  <a:pt x="9688" y="0"/>
                  <a:pt x="9688" y="0"/>
                </a:cubicBezTo>
                <a:cubicBezTo>
                  <a:pt x="3082" y="0"/>
                  <a:pt x="0" y="6417"/>
                  <a:pt x="0" y="9411"/>
                </a:cubicBezTo>
                <a:cubicBezTo>
                  <a:pt x="0" y="110160"/>
                  <a:pt x="0" y="110160"/>
                  <a:pt x="0" y="110160"/>
                </a:cubicBezTo>
                <a:cubicBezTo>
                  <a:pt x="0" y="113368"/>
                  <a:pt x="3082" y="119786"/>
                  <a:pt x="9688" y="119786"/>
                </a:cubicBezTo>
                <a:cubicBezTo>
                  <a:pt x="113394" y="119786"/>
                  <a:pt x="113394" y="119786"/>
                  <a:pt x="113394" y="119786"/>
                </a:cubicBezTo>
                <a:cubicBezTo>
                  <a:pt x="116697" y="119786"/>
                  <a:pt x="119779" y="113368"/>
                  <a:pt x="119779" y="110160"/>
                </a:cubicBezTo>
                <a:cubicBezTo>
                  <a:pt x="119779" y="9411"/>
                  <a:pt x="119779" y="9411"/>
                  <a:pt x="119779" y="9411"/>
                </a:cubicBezTo>
                <a:cubicBezTo>
                  <a:pt x="119779" y="6417"/>
                  <a:pt x="116697" y="0"/>
                  <a:pt x="113394" y="0"/>
                </a:cubicBezTo>
                <a:close/>
                <a:moveTo>
                  <a:pt x="113394" y="107165"/>
                </a:moveTo>
                <a:lnTo>
                  <a:pt x="113394" y="107165"/>
                </a:lnTo>
                <a:cubicBezTo>
                  <a:pt x="113394" y="107165"/>
                  <a:pt x="110091" y="110160"/>
                  <a:pt x="106788" y="110160"/>
                </a:cubicBezTo>
                <a:cubicBezTo>
                  <a:pt x="12770" y="110160"/>
                  <a:pt x="12770" y="110160"/>
                  <a:pt x="12770" y="110160"/>
                </a:cubicBezTo>
                <a:cubicBezTo>
                  <a:pt x="9688" y="110160"/>
                  <a:pt x="9688" y="107165"/>
                  <a:pt x="9688" y="107165"/>
                </a:cubicBezTo>
                <a:cubicBezTo>
                  <a:pt x="9688" y="12620"/>
                  <a:pt x="9688" y="12620"/>
                  <a:pt x="9688" y="12620"/>
                </a:cubicBezTo>
                <a:cubicBezTo>
                  <a:pt x="9688" y="12620"/>
                  <a:pt x="9688" y="9411"/>
                  <a:pt x="12770" y="9411"/>
                </a:cubicBezTo>
                <a:cubicBezTo>
                  <a:pt x="106788" y="9411"/>
                  <a:pt x="106788" y="9411"/>
                  <a:pt x="106788" y="9411"/>
                </a:cubicBezTo>
                <a:cubicBezTo>
                  <a:pt x="110091" y="9411"/>
                  <a:pt x="113394" y="12620"/>
                  <a:pt x="113394" y="12620"/>
                </a:cubicBezTo>
                <a:lnTo>
                  <a:pt x="113394" y="10716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4706"/>
          <p:cNvSpPr/>
          <p:nvPr/>
        </p:nvSpPr>
        <p:spPr>
          <a:xfrm>
            <a:off x="4492800" y="3067200"/>
            <a:ext cx="212400" cy="268200"/>
          </a:xfrm>
          <a:custGeom>
            <a:avLst/>
            <a:gdLst>
              <a:gd name="textAreaLeft" fmla="*/ 0 w 212400"/>
              <a:gd name="textAreaRight" fmla="*/ 212760 w 212400"/>
              <a:gd name="textAreaTop" fmla="*/ 0 h 268200"/>
              <a:gd name="textAreaBottom" fmla="*/ 268560 h 268200"/>
            </a:gdLst>
            <a:ahLst/>
            <a:rect l="textAreaLeft" t="textAreaTop" r="textAreaRight" b="textAreaBottom"/>
            <a:pathLst>
              <a:path w="120000" h="120000">
                <a:moveTo>
                  <a:pt x="115665" y="53475"/>
                </a:moveTo>
                <a:lnTo>
                  <a:pt x="115665" y="53475"/>
                </a:lnTo>
                <a:cubicBezTo>
                  <a:pt x="15981" y="3208"/>
                  <a:pt x="15981" y="3208"/>
                  <a:pt x="15981" y="3208"/>
                </a:cubicBezTo>
                <a:cubicBezTo>
                  <a:pt x="8126" y="0"/>
                  <a:pt x="0" y="0"/>
                  <a:pt x="0" y="9411"/>
                </a:cubicBezTo>
                <a:cubicBezTo>
                  <a:pt x="0" y="110160"/>
                  <a:pt x="0" y="110160"/>
                  <a:pt x="0" y="110160"/>
                </a:cubicBezTo>
                <a:cubicBezTo>
                  <a:pt x="0" y="119786"/>
                  <a:pt x="8126" y="119786"/>
                  <a:pt x="15981" y="116577"/>
                </a:cubicBezTo>
                <a:cubicBezTo>
                  <a:pt x="115665" y="66096"/>
                  <a:pt x="115665" y="66096"/>
                  <a:pt x="115665" y="66096"/>
                </a:cubicBezTo>
                <a:cubicBezTo>
                  <a:pt x="119729" y="62887"/>
                  <a:pt x="119729" y="56684"/>
                  <a:pt x="115665" y="53475"/>
                </a:cubicBezTo>
                <a:close/>
                <a:moveTo>
                  <a:pt x="11918" y="107165"/>
                </a:moveTo>
                <a:lnTo>
                  <a:pt x="11918" y="107165"/>
                </a:lnTo>
                <a:cubicBezTo>
                  <a:pt x="11918" y="103957"/>
                  <a:pt x="11918" y="18823"/>
                  <a:pt x="11918" y="12620"/>
                </a:cubicBezTo>
                <a:cubicBezTo>
                  <a:pt x="107810" y="59893"/>
                  <a:pt x="107810" y="59893"/>
                  <a:pt x="107810" y="59893"/>
                </a:cubicBezTo>
                <a:lnTo>
                  <a:pt x="11918" y="107165"/>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4708"/>
          <p:cNvSpPr/>
          <p:nvPr/>
        </p:nvSpPr>
        <p:spPr>
          <a:xfrm>
            <a:off x="3473280" y="3087720"/>
            <a:ext cx="284400" cy="225360"/>
          </a:xfrm>
          <a:custGeom>
            <a:avLst/>
            <a:gdLst>
              <a:gd name="textAreaLeft" fmla="*/ 0 w 284400"/>
              <a:gd name="textAreaRight" fmla="*/ 284760 w 284400"/>
              <a:gd name="textAreaTop" fmla="*/ 0 h 225360"/>
              <a:gd name="textAreaBottom" fmla="*/ 225720 h 225360"/>
            </a:gdLst>
            <a:ahLst/>
            <a:rect l="textAreaLeft" t="textAreaTop" r="textAreaRight" b="textAreaBottom"/>
            <a:pathLst>
              <a:path w="120000" h="120000">
                <a:moveTo>
                  <a:pt x="101898" y="60000"/>
                </a:moveTo>
                <a:lnTo>
                  <a:pt x="101898" y="60000"/>
                </a:lnTo>
                <a:cubicBezTo>
                  <a:pt x="119796" y="37627"/>
                  <a:pt x="119796" y="37627"/>
                  <a:pt x="119796" y="37627"/>
                </a:cubicBezTo>
                <a:cubicBezTo>
                  <a:pt x="119796" y="37627"/>
                  <a:pt x="119796" y="33813"/>
                  <a:pt x="119796" y="30000"/>
                </a:cubicBezTo>
                <a:cubicBezTo>
                  <a:pt x="116745" y="30000"/>
                  <a:pt x="113898" y="30000"/>
                  <a:pt x="113898" y="33813"/>
                </a:cubicBezTo>
                <a:cubicBezTo>
                  <a:pt x="95796" y="52372"/>
                  <a:pt x="95796" y="52372"/>
                  <a:pt x="95796" y="52372"/>
                </a:cubicBezTo>
                <a:cubicBezTo>
                  <a:pt x="80949" y="33813"/>
                  <a:pt x="80949" y="33813"/>
                  <a:pt x="80949" y="33813"/>
                </a:cubicBezTo>
                <a:cubicBezTo>
                  <a:pt x="77898" y="30000"/>
                  <a:pt x="75050" y="30000"/>
                  <a:pt x="75050" y="30000"/>
                </a:cubicBezTo>
                <a:cubicBezTo>
                  <a:pt x="72000" y="33813"/>
                  <a:pt x="72000" y="37627"/>
                  <a:pt x="75050" y="37627"/>
                </a:cubicBezTo>
                <a:cubicBezTo>
                  <a:pt x="89898" y="60000"/>
                  <a:pt x="89898" y="60000"/>
                  <a:pt x="89898" y="60000"/>
                </a:cubicBezTo>
                <a:cubicBezTo>
                  <a:pt x="75050" y="82372"/>
                  <a:pt x="75050" y="82372"/>
                  <a:pt x="75050" y="82372"/>
                </a:cubicBezTo>
                <a:cubicBezTo>
                  <a:pt x="72000" y="82372"/>
                  <a:pt x="72000" y="86186"/>
                  <a:pt x="75050" y="89745"/>
                </a:cubicBezTo>
                <a:cubicBezTo>
                  <a:pt x="75050" y="89745"/>
                  <a:pt x="77898" y="89745"/>
                  <a:pt x="80949" y="86186"/>
                </a:cubicBezTo>
                <a:cubicBezTo>
                  <a:pt x="95796" y="67372"/>
                  <a:pt x="95796" y="67372"/>
                  <a:pt x="95796" y="67372"/>
                </a:cubicBezTo>
                <a:cubicBezTo>
                  <a:pt x="113898" y="86186"/>
                  <a:pt x="113898" y="86186"/>
                  <a:pt x="113898" y="86186"/>
                </a:cubicBezTo>
                <a:cubicBezTo>
                  <a:pt x="113898" y="89745"/>
                  <a:pt x="116745" y="89745"/>
                  <a:pt x="119796" y="89745"/>
                </a:cubicBezTo>
                <a:cubicBezTo>
                  <a:pt x="119796" y="86186"/>
                  <a:pt x="119796" y="82372"/>
                  <a:pt x="119796" y="82372"/>
                </a:cubicBezTo>
                <a:lnTo>
                  <a:pt x="101898" y="60000"/>
                </a:lnTo>
                <a:close/>
                <a:moveTo>
                  <a:pt x="56949" y="0"/>
                </a:moveTo>
                <a:lnTo>
                  <a:pt x="56949" y="0"/>
                </a:lnTo>
                <a:cubicBezTo>
                  <a:pt x="20949" y="30000"/>
                  <a:pt x="20949" y="30000"/>
                  <a:pt x="20949" y="30000"/>
                </a:cubicBezTo>
                <a:cubicBezTo>
                  <a:pt x="8949" y="30000"/>
                  <a:pt x="8949" y="30000"/>
                  <a:pt x="8949" y="30000"/>
                </a:cubicBezTo>
                <a:cubicBezTo>
                  <a:pt x="6101" y="30000"/>
                  <a:pt x="0" y="33813"/>
                  <a:pt x="0" y="41186"/>
                </a:cubicBezTo>
                <a:cubicBezTo>
                  <a:pt x="0" y="78559"/>
                  <a:pt x="0" y="78559"/>
                  <a:pt x="0" y="78559"/>
                </a:cubicBezTo>
                <a:cubicBezTo>
                  <a:pt x="0" y="86186"/>
                  <a:pt x="6101" y="89745"/>
                  <a:pt x="8949" y="89745"/>
                </a:cubicBezTo>
                <a:cubicBezTo>
                  <a:pt x="20949" y="89745"/>
                  <a:pt x="20949" y="89745"/>
                  <a:pt x="20949" y="89745"/>
                </a:cubicBezTo>
                <a:cubicBezTo>
                  <a:pt x="56949" y="119745"/>
                  <a:pt x="56949" y="119745"/>
                  <a:pt x="56949" y="119745"/>
                </a:cubicBezTo>
                <a:cubicBezTo>
                  <a:pt x="60000" y="119745"/>
                  <a:pt x="65898" y="116186"/>
                  <a:pt x="65898" y="108559"/>
                </a:cubicBezTo>
                <a:cubicBezTo>
                  <a:pt x="65898" y="11186"/>
                  <a:pt x="65898" y="11186"/>
                  <a:pt x="65898" y="11186"/>
                </a:cubicBezTo>
                <a:cubicBezTo>
                  <a:pt x="65898" y="3813"/>
                  <a:pt x="60000" y="0"/>
                  <a:pt x="56949" y="0"/>
                </a:cubicBezTo>
                <a:close/>
                <a:moveTo>
                  <a:pt x="20949" y="75000"/>
                </a:moveTo>
                <a:lnTo>
                  <a:pt x="20949" y="75000"/>
                </a:lnTo>
                <a:cubicBezTo>
                  <a:pt x="20949" y="78559"/>
                  <a:pt x="18101" y="78559"/>
                  <a:pt x="18101" y="78559"/>
                </a:cubicBezTo>
                <a:cubicBezTo>
                  <a:pt x="12000" y="78559"/>
                  <a:pt x="12000" y="78559"/>
                  <a:pt x="12000" y="78559"/>
                </a:cubicBezTo>
                <a:cubicBezTo>
                  <a:pt x="12000" y="78559"/>
                  <a:pt x="8949" y="78559"/>
                  <a:pt x="8949" y="75000"/>
                </a:cubicBezTo>
                <a:cubicBezTo>
                  <a:pt x="8949" y="45000"/>
                  <a:pt x="8949" y="45000"/>
                  <a:pt x="8949" y="45000"/>
                </a:cubicBezTo>
                <a:cubicBezTo>
                  <a:pt x="8949" y="41186"/>
                  <a:pt x="12000" y="41186"/>
                  <a:pt x="12000" y="41186"/>
                </a:cubicBezTo>
                <a:cubicBezTo>
                  <a:pt x="18101" y="41186"/>
                  <a:pt x="18101" y="41186"/>
                  <a:pt x="18101" y="41186"/>
                </a:cubicBezTo>
                <a:cubicBezTo>
                  <a:pt x="18101" y="41186"/>
                  <a:pt x="20949" y="41186"/>
                  <a:pt x="20949" y="45000"/>
                </a:cubicBezTo>
                <a:lnTo>
                  <a:pt x="20949" y="75000"/>
                </a:lnTo>
                <a:close/>
                <a:moveTo>
                  <a:pt x="56949" y="108559"/>
                </a:moveTo>
                <a:lnTo>
                  <a:pt x="56949" y="108559"/>
                </a:lnTo>
                <a:cubicBezTo>
                  <a:pt x="30101" y="86186"/>
                  <a:pt x="30101" y="86186"/>
                  <a:pt x="30101" y="86186"/>
                </a:cubicBezTo>
                <a:cubicBezTo>
                  <a:pt x="30101" y="30000"/>
                  <a:pt x="30101" y="30000"/>
                  <a:pt x="30101" y="30000"/>
                </a:cubicBezTo>
                <a:cubicBezTo>
                  <a:pt x="56949" y="11186"/>
                  <a:pt x="56949" y="11186"/>
                  <a:pt x="56949" y="11186"/>
                </a:cubicBezTo>
                <a:lnTo>
                  <a:pt x="56949" y="108559"/>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4710"/>
          <p:cNvSpPr/>
          <p:nvPr/>
        </p:nvSpPr>
        <p:spPr>
          <a:xfrm>
            <a:off x="2513160" y="3087720"/>
            <a:ext cx="241200" cy="225360"/>
          </a:xfrm>
          <a:custGeom>
            <a:avLst/>
            <a:gdLst>
              <a:gd name="textAreaLeft" fmla="*/ 0 w 241200"/>
              <a:gd name="textAreaRight" fmla="*/ 241560 w 241200"/>
              <a:gd name="textAreaTop" fmla="*/ 0 h 225360"/>
              <a:gd name="textAreaBottom" fmla="*/ 225720 h 225360"/>
            </a:gdLst>
            <a:ahLst/>
            <a:rect l="textAreaLeft" t="textAreaTop" r="textAreaRight" b="textAreaBottom"/>
            <a:pathLst>
              <a:path w="120000" h="120000">
                <a:moveTo>
                  <a:pt x="66932" y="0"/>
                </a:moveTo>
                <a:lnTo>
                  <a:pt x="66932" y="0"/>
                </a:lnTo>
                <a:cubicBezTo>
                  <a:pt x="24621" y="30000"/>
                  <a:pt x="24621" y="30000"/>
                  <a:pt x="24621" y="30000"/>
                </a:cubicBezTo>
                <a:cubicBezTo>
                  <a:pt x="10517" y="30000"/>
                  <a:pt x="10517" y="30000"/>
                  <a:pt x="10517" y="30000"/>
                </a:cubicBezTo>
                <a:cubicBezTo>
                  <a:pt x="7171" y="30000"/>
                  <a:pt x="0" y="33813"/>
                  <a:pt x="0" y="41186"/>
                </a:cubicBezTo>
                <a:cubicBezTo>
                  <a:pt x="0" y="78559"/>
                  <a:pt x="0" y="78559"/>
                  <a:pt x="0" y="78559"/>
                </a:cubicBezTo>
                <a:cubicBezTo>
                  <a:pt x="0" y="86186"/>
                  <a:pt x="7171" y="89745"/>
                  <a:pt x="10517" y="89745"/>
                </a:cubicBezTo>
                <a:cubicBezTo>
                  <a:pt x="24621" y="89745"/>
                  <a:pt x="24621" y="89745"/>
                  <a:pt x="24621" y="89745"/>
                </a:cubicBezTo>
                <a:cubicBezTo>
                  <a:pt x="66932" y="119745"/>
                  <a:pt x="66932" y="119745"/>
                  <a:pt x="66932" y="119745"/>
                </a:cubicBezTo>
                <a:cubicBezTo>
                  <a:pt x="70517" y="119745"/>
                  <a:pt x="77450" y="116186"/>
                  <a:pt x="77450" y="108559"/>
                </a:cubicBezTo>
                <a:cubicBezTo>
                  <a:pt x="77450" y="11186"/>
                  <a:pt x="77450" y="11186"/>
                  <a:pt x="77450" y="11186"/>
                </a:cubicBezTo>
                <a:cubicBezTo>
                  <a:pt x="77450" y="3813"/>
                  <a:pt x="70517" y="0"/>
                  <a:pt x="66932" y="0"/>
                </a:cubicBezTo>
                <a:close/>
                <a:moveTo>
                  <a:pt x="24621" y="75000"/>
                </a:moveTo>
                <a:lnTo>
                  <a:pt x="24621" y="75000"/>
                </a:lnTo>
                <a:cubicBezTo>
                  <a:pt x="24621" y="78559"/>
                  <a:pt x="21274" y="78559"/>
                  <a:pt x="21274" y="78559"/>
                </a:cubicBezTo>
                <a:cubicBezTo>
                  <a:pt x="14103" y="78559"/>
                  <a:pt x="14103" y="78559"/>
                  <a:pt x="14103" y="78559"/>
                </a:cubicBezTo>
                <a:cubicBezTo>
                  <a:pt x="14103" y="78559"/>
                  <a:pt x="10517" y="78559"/>
                  <a:pt x="10517" y="75000"/>
                </a:cubicBezTo>
                <a:cubicBezTo>
                  <a:pt x="10517" y="45000"/>
                  <a:pt x="10517" y="45000"/>
                  <a:pt x="10517" y="45000"/>
                </a:cubicBezTo>
                <a:cubicBezTo>
                  <a:pt x="10517" y="41186"/>
                  <a:pt x="14103" y="41186"/>
                  <a:pt x="14103" y="41186"/>
                </a:cubicBezTo>
                <a:cubicBezTo>
                  <a:pt x="21274" y="41186"/>
                  <a:pt x="21274" y="41186"/>
                  <a:pt x="21274" y="41186"/>
                </a:cubicBezTo>
                <a:cubicBezTo>
                  <a:pt x="21274" y="41186"/>
                  <a:pt x="24621" y="41186"/>
                  <a:pt x="24621" y="45000"/>
                </a:cubicBezTo>
                <a:lnTo>
                  <a:pt x="24621" y="75000"/>
                </a:lnTo>
                <a:close/>
                <a:moveTo>
                  <a:pt x="66932" y="108559"/>
                </a:moveTo>
                <a:lnTo>
                  <a:pt x="66932" y="108559"/>
                </a:lnTo>
                <a:cubicBezTo>
                  <a:pt x="35378" y="86186"/>
                  <a:pt x="35378" y="86186"/>
                  <a:pt x="35378" y="86186"/>
                </a:cubicBezTo>
                <a:cubicBezTo>
                  <a:pt x="35378" y="78559"/>
                  <a:pt x="35378" y="37627"/>
                  <a:pt x="35378" y="30000"/>
                </a:cubicBezTo>
                <a:cubicBezTo>
                  <a:pt x="66932" y="11186"/>
                  <a:pt x="66932" y="11186"/>
                  <a:pt x="66932" y="11186"/>
                </a:cubicBezTo>
                <a:cubicBezTo>
                  <a:pt x="66932" y="15000"/>
                  <a:pt x="66932" y="104745"/>
                  <a:pt x="66932" y="108559"/>
                </a:cubicBezTo>
                <a:close/>
                <a:moveTo>
                  <a:pt x="91553" y="26186"/>
                </a:moveTo>
                <a:lnTo>
                  <a:pt x="91553" y="26186"/>
                </a:lnTo>
                <a:cubicBezTo>
                  <a:pt x="91553" y="33813"/>
                  <a:pt x="91553" y="33813"/>
                  <a:pt x="91553" y="33813"/>
                </a:cubicBezTo>
                <a:cubicBezTo>
                  <a:pt x="102071" y="37627"/>
                  <a:pt x="109243" y="48559"/>
                  <a:pt x="109243" y="60000"/>
                </a:cubicBezTo>
                <a:cubicBezTo>
                  <a:pt x="109243" y="71186"/>
                  <a:pt x="102071" y="82372"/>
                  <a:pt x="91553" y="86186"/>
                </a:cubicBezTo>
                <a:cubicBezTo>
                  <a:pt x="91553" y="93559"/>
                  <a:pt x="91553" y="93559"/>
                  <a:pt x="91553" y="93559"/>
                </a:cubicBezTo>
                <a:cubicBezTo>
                  <a:pt x="105657" y="93559"/>
                  <a:pt x="119760" y="78559"/>
                  <a:pt x="119760" y="60000"/>
                </a:cubicBezTo>
                <a:cubicBezTo>
                  <a:pt x="119760" y="41186"/>
                  <a:pt x="105657" y="26186"/>
                  <a:pt x="91553" y="2618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4712"/>
          <p:cNvSpPr/>
          <p:nvPr/>
        </p:nvSpPr>
        <p:spPr>
          <a:xfrm>
            <a:off x="1544760" y="3051000"/>
            <a:ext cx="226800" cy="295560"/>
          </a:xfrm>
          <a:custGeom>
            <a:avLst/>
            <a:gdLst>
              <a:gd name="textAreaLeft" fmla="*/ 0 w 226800"/>
              <a:gd name="textAreaRight" fmla="*/ 227160 w 226800"/>
              <a:gd name="textAreaTop" fmla="*/ 0 h 295560"/>
              <a:gd name="textAreaBottom" fmla="*/ 295920 h 295560"/>
            </a:gdLst>
            <a:ahLst/>
            <a:rect l="textAreaLeft" t="textAreaTop" r="textAreaRight" b="textAreaBottom"/>
            <a:pathLst>
              <a:path w="120000" h="120000">
                <a:moveTo>
                  <a:pt x="93559" y="85492"/>
                </a:moveTo>
                <a:lnTo>
                  <a:pt x="93559" y="85492"/>
                </a:lnTo>
                <a:cubicBezTo>
                  <a:pt x="93559" y="71340"/>
                  <a:pt x="78559" y="59903"/>
                  <a:pt x="60000" y="59903"/>
                </a:cubicBezTo>
                <a:cubicBezTo>
                  <a:pt x="41186" y="59903"/>
                  <a:pt x="26440" y="71340"/>
                  <a:pt x="26440" y="85492"/>
                </a:cubicBezTo>
                <a:cubicBezTo>
                  <a:pt x="26440" y="99838"/>
                  <a:pt x="41186" y="114184"/>
                  <a:pt x="60000" y="114184"/>
                </a:cubicBezTo>
                <a:cubicBezTo>
                  <a:pt x="78559" y="114184"/>
                  <a:pt x="93559" y="99838"/>
                  <a:pt x="93559" y="85492"/>
                </a:cubicBezTo>
                <a:close/>
                <a:moveTo>
                  <a:pt x="60000" y="105460"/>
                </a:moveTo>
                <a:lnTo>
                  <a:pt x="60000" y="105460"/>
                </a:lnTo>
                <a:cubicBezTo>
                  <a:pt x="45000" y="105460"/>
                  <a:pt x="33813" y="96930"/>
                  <a:pt x="33813" y="85492"/>
                </a:cubicBezTo>
                <a:cubicBezTo>
                  <a:pt x="33813" y="76962"/>
                  <a:pt x="45000" y="68432"/>
                  <a:pt x="60000" y="68432"/>
                </a:cubicBezTo>
                <a:cubicBezTo>
                  <a:pt x="75000" y="68432"/>
                  <a:pt x="86186" y="76962"/>
                  <a:pt x="86186" y="85492"/>
                </a:cubicBezTo>
                <a:cubicBezTo>
                  <a:pt x="86186" y="96930"/>
                  <a:pt x="75000" y="105460"/>
                  <a:pt x="60000" y="105460"/>
                </a:cubicBezTo>
                <a:close/>
                <a:moveTo>
                  <a:pt x="101186" y="0"/>
                </a:moveTo>
                <a:lnTo>
                  <a:pt x="101186" y="0"/>
                </a:lnTo>
                <a:cubicBezTo>
                  <a:pt x="18813" y="0"/>
                  <a:pt x="18813" y="0"/>
                  <a:pt x="18813" y="0"/>
                </a:cubicBezTo>
                <a:cubicBezTo>
                  <a:pt x="7627" y="0"/>
                  <a:pt x="0" y="5621"/>
                  <a:pt x="0" y="14151"/>
                </a:cubicBezTo>
                <a:cubicBezTo>
                  <a:pt x="0" y="105460"/>
                  <a:pt x="0" y="105460"/>
                  <a:pt x="0" y="105460"/>
                </a:cubicBezTo>
                <a:cubicBezTo>
                  <a:pt x="0" y="114184"/>
                  <a:pt x="7627" y="119806"/>
                  <a:pt x="18813" y="119806"/>
                </a:cubicBezTo>
                <a:cubicBezTo>
                  <a:pt x="101186" y="119806"/>
                  <a:pt x="101186" y="119806"/>
                  <a:pt x="101186" y="119806"/>
                </a:cubicBezTo>
                <a:cubicBezTo>
                  <a:pt x="112372" y="119806"/>
                  <a:pt x="119745" y="114184"/>
                  <a:pt x="119745" y="105460"/>
                </a:cubicBezTo>
                <a:cubicBezTo>
                  <a:pt x="119745" y="14151"/>
                  <a:pt x="119745" y="14151"/>
                  <a:pt x="119745" y="14151"/>
                </a:cubicBezTo>
                <a:cubicBezTo>
                  <a:pt x="119745" y="5621"/>
                  <a:pt x="112372" y="0"/>
                  <a:pt x="101186" y="0"/>
                </a:cubicBezTo>
                <a:close/>
                <a:moveTo>
                  <a:pt x="108559" y="105460"/>
                </a:moveTo>
                <a:lnTo>
                  <a:pt x="108559" y="105460"/>
                </a:lnTo>
                <a:cubicBezTo>
                  <a:pt x="108559" y="108368"/>
                  <a:pt x="105000" y="114184"/>
                  <a:pt x="101186" y="114184"/>
                </a:cubicBezTo>
                <a:cubicBezTo>
                  <a:pt x="60000" y="114184"/>
                  <a:pt x="60000" y="114184"/>
                  <a:pt x="60000" y="114184"/>
                </a:cubicBezTo>
                <a:cubicBezTo>
                  <a:pt x="18813" y="114184"/>
                  <a:pt x="18813" y="114184"/>
                  <a:pt x="18813" y="114184"/>
                </a:cubicBezTo>
                <a:cubicBezTo>
                  <a:pt x="15000" y="114184"/>
                  <a:pt x="11440" y="108368"/>
                  <a:pt x="11440" y="105460"/>
                </a:cubicBezTo>
                <a:cubicBezTo>
                  <a:pt x="11440" y="14151"/>
                  <a:pt x="11440" y="14151"/>
                  <a:pt x="11440" y="14151"/>
                </a:cubicBezTo>
                <a:cubicBezTo>
                  <a:pt x="11440" y="11437"/>
                  <a:pt x="15000" y="5621"/>
                  <a:pt x="18813" y="5621"/>
                </a:cubicBezTo>
                <a:cubicBezTo>
                  <a:pt x="101186" y="5621"/>
                  <a:pt x="101186" y="5621"/>
                  <a:pt x="101186" y="5621"/>
                </a:cubicBezTo>
                <a:cubicBezTo>
                  <a:pt x="105000" y="5621"/>
                  <a:pt x="108559" y="11437"/>
                  <a:pt x="108559" y="14151"/>
                </a:cubicBezTo>
                <a:lnTo>
                  <a:pt x="108559" y="105460"/>
                </a:lnTo>
                <a:close/>
                <a:moveTo>
                  <a:pt x="60000" y="14151"/>
                </a:moveTo>
                <a:lnTo>
                  <a:pt x="60000" y="14151"/>
                </a:lnTo>
                <a:cubicBezTo>
                  <a:pt x="45000" y="14151"/>
                  <a:pt x="33813" y="22681"/>
                  <a:pt x="33813" y="34119"/>
                </a:cubicBezTo>
                <a:cubicBezTo>
                  <a:pt x="33813" y="42843"/>
                  <a:pt x="45000" y="51179"/>
                  <a:pt x="60000" y="51179"/>
                </a:cubicBezTo>
                <a:cubicBezTo>
                  <a:pt x="75000" y="51179"/>
                  <a:pt x="86186" y="42843"/>
                  <a:pt x="86186" y="34119"/>
                </a:cubicBezTo>
                <a:cubicBezTo>
                  <a:pt x="86186" y="22681"/>
                  <a:pt x="75000" y="14151"/>
                  <a:pt x="60000" y="14151"/>
                </a:cubicBezTo>
                <a:close/>
                <a:moveTo>
                  <a:pt x="60000" y="45557"/>
                </a:moveTo>
                <a:lnTo>
                  <a:pt x="60000" y="45557"/>
                </a:lnTo>
                <a:cubicBezTo>
                  <a:pt x="52627" y="45557"/>
                  <a:pt x="45000" y="39935"/>
                  <a:pt x="45000" y="34119"/>
                </a:cubicBezTo>
                <a:cubicBezTo>
                  <a:pt x="45000" y="25589"/>
                  <a:pt x="52627" y="22681"/>
                  <a:pt x="60000" y="22681"/>
                </a:cubicBezTo>
                <a:cubicBezTo>
                  <a:pt x="67627" y="22681"/>
                  <a:pt x="75000" y="25589"/>
                  <a:pt x="75000" y="34119"/>
                </a:cubicBezTo>
                <a:cubicBezTo>
                  <a:pt x="75000" y="39935"/>
                  <a:pt x="67627" y="45557"/>
                  <a:pt x="60000" y="45557"/>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4714"/>
          <p:cNvSpPr/>
          <p:nvPr/>
        </p:nvSpPr>
        <p:spPr>
          <a:xfrm>
            <a:off x="5477040" y="2143080"/>
            <a:ext cx="204480" cy="304920"/>
          </a:xfrm>
          <a:custGeom>
            <a:avLst/>
            <a:gdLst>
              <a:gd name="textAreaLeft" fmla="*/ 0 w 204480"/>
              <a:gd name="textAreaRight" fmla="*/ 204840 w 204480"/>
              <a:gd name="textAreaTop" fmla="*/ 0 h 304920"/>
              <a:gd name="textAreaBottom" fmla="*/ 305280 h 304920"/>
            </a:gdLst>
            <a:ahLst/>
            <a:rect l="textAreaLeft" t="textAreaTop" r="textAreaRight" b="textAreaBottom"/>
            <a:pathLst>
              <a:path w="120000" h="120000">
                <a:moveTo>
                  <a:pt x="115794" y="27823"/>
                </a:moveTo>
                <a:lnTo>
                  <a:pt x="115794" y="27823"/>
                </a:lnTo>
                <a:cubicBezTo>
                  <a:pt x="107383" y="11167"/>
                  <a:pt x="86635" y="0"/>
                  <a:pt x="61962" y="0"/>
                </a:cubicBezTo>
                <a:cubicBezTo>
                  <a:pt x="33084" y="0"/>
                  <a:pt x="12616" y="11167"/>
                  <a:pt x="8411" y="27823"/>
                </a:cubicBezTo>
                <a:cubicBezTo>
                  <a:pt x="4205" y="27823"/>
                  <a:pt x="0" y="30662"/>
                  <a:pt x="0" y="33501"/>
                </a:cubicBezTo>
                <a:cubicBezTo>
                  <a:pt x="0" y="41829"/>
                  <a:pt x="0" y="41829"/>
                  <a:pt x="0" y="41829"/>
                </a:cubicBezTo>
                <a:cubicBezTo>
                  <a:pt x="0" y="44479"/>
                  <a:pt x="4205" y="50157"/>
                  <a:pt x="12616" y="50157"/>
                </a:cubicBezTo>
                <a:cubicBezTo>
                  <a:pt x="16542" y="52996"/>
                  <a:pt x="20747" y="58485"/>
                  <a:pt x="29158" y="61324"/>
                </a:cubicBezTo>
                <a:cubicBezTo>
                  <a:pt x="37289" y="111482"/>
                  <a:pt x="37289" y="111482"/>
                  <a:pt x="37289" y="111482"/>
                </a:cubicBezTo>
                <a:cubicBezTo>
                  <a:pt x="37289" y="116971"/>
                  <a:pt x="45700" y="119810"/>
                  <a:pt x="49626" y="119810"/>
                </a:cubicBezTo>
                <a:cubicBezTo>
                  <a:pt x="70373" y="119810"/>
                  <a:pt x="70373" y="119810"/>
                  <a:pt x="70373" y="119810"/>
                </a:cubicBezTo>
                <a:cubicBezTo>
                  <a:pt x="78504" y="119810"/>
                  <a:pt x="82710" y="116971"/>
                  <a:pt x="82710" y="111482"/>
                </a:cubicBezTo>
                <a:cubicBezTo>
                  <a:pt x="95046" y="61324"/>
                  <a:pt x="95046" y="61324"/>
                  <a:pt x="95046" y="61324"/>
                </a:cubicBezTo>
                <a:cubicBezTo>
                  <a:pt x="99252" y="58485"/>
                  <a:pt x="107383" y="52996"/>
                  <a:pt x="111588" y="50157"/>
                </a:cubicBezTo>
                <a:cubicBezTo>
                  <a:pt x="115794" y="50157"/>
                  <a:pt x="119719" y="44479"/>
                  <a:pt x="119719" y="41829"/>
                </a:cubicBezTo>
                <a:cubicBezTo>
                  <a:pt x="119719" y="33501"/>
                  <a:pt x="119719" y="33501"/>
                  <a:pt x="119719" y="33501"/>
                </a:cubicBezTo>
                <a:cubicBezTo>
                  <a:pt x="119719" y="30662"/>
                  <a:pt x="119719" y="27823"/>
                  <a:pt x="115794" y="27823"/>
                </a:cubicBezTo>
                <a:close/>
                <a:moveTo>
                  <a:pt x="61962" y="8328"/>
                </a:moveTo>
                <a:lnTo>
                  <a:pt x="61962" y="8328"/>
                </a:lnTo>
                <a:cubicBezTo>
                  <a:pt x="78504" y="8328"/>
                  <a:pt x="99252" y="16656"/>
                  <a:pt x="103177" y="27823"/>
                </a:cubicBezTo>
                <a:cubicBezTo>
                  <a:pt x="16542" y="27823"/>
                  <a:pt x="16542" y="27823"/>
                  <a:pt x="16542" y="27823"/>
                </a:cubicBezTo>
                <a:cubicBezTo>
                  <a:pt x="24953" y="16656"/>
                  <a:pt x="41495" y="8328"/>
                  <a:pt x="61962" y="8328"/>
                </a:cubicBezTo>
                <a:close/>
                <a:moveTo>
                  <a:pt x="70373" y="105993"/>
                </a:moveTo>
                <a:lnTo>
                  <a:pt x="70373" y="105993"/>
                </a:lnTo>
                <a:cubicBezTo>
                  <a:pt x="70373" y="108643"/>
                  <a:pt x="70373" y="111482"/>
                  <a:pt x="66168" y="111482"/>
                </a:cubicBezTo>
                <a:cubicBezTo>
                  <a:pt x="53831" y="111482"/>
                  <a:pt x="53831" y="111482"/>
                  <a:pt x="53831" y="111482"/>
                </a:cubicBezTo>
                <a:cubicBezTo>
                  <a:pt x="49626" y="111482"/>
                  <a:pt x="49626" y="108643"/>
                  <a:pt x="49626" y="105993"/>
                </a:cubicBezTo>
                <a:cubicBezTo>
                  <a:pt x="37289" y="64164"/>
                  <a:pt x="37289" y="64164"/>
                  <a:pt x="37289" y="64164"/>
                </a:cubicBezTo>
                <a:cubicBezTo>
                  <a:pt x="45700" y="66813"/>
                  <a:pt x="53831" y="66813"/>
                  <a:pt x="61962" y="66813"/>
                </a:cubicBezTo>
                <a:cubicBezTo>
                  <a:pt x="70373" y="66813"/>
                  <a:pt x="74579" y="66813"/>
                  <a:pt x="82710" y="64164"/>
                </a:cubicBezTo>
                <a:lnTo>
                  <a:pt x="70373" y="105993"/>
                </a:lnTo>
                <a:close/>
                <a:moveTo>
                  <a:pt x="61962" y="61324"/>
                </a:moveTo>
                <a:lnTo>
                  <a:pt x="61962" y="61324"/>
                </a:lnTo>
                <a:cubicBezTo>
                  <a:pt x="45700" y="61324"/>
                  <a:pt x="33084" y="55646"/>
                  <a:pt x="24953" y="50157"/>
                </a:cubicBezTo>
                <a:cubicBezTo>
                  <a:pt x="95046" y="50157"/>
                  <a:pt x="95046" y="50157"/>
                  <a:pt x="95046" y="50157"/>
                </a:cubicBezTo>
                <a:cubicBezTo>
                  <a:pt x="86635" y="55646"/>
                  <a:pt x="74579" y="61324"/>
                  <a:pt x="61962" y="61324"/>
                </a:cubicBezTo>
                <a:close/>
                <a:moveTo>
                  <a:pt x="103177" y="41829"/>
                </a:moveTo>
                <a:lnTo>
                  <a:pt x="103177" y="41829"/>
                </a:lnTo>
                <a:cubicBezTo>
                  <a:pt x="16542" y="41829"/>
                  <a:pt x="16542" y="41829"/>
                  <a:pt x="16542" y="41829"/>
                </a:cubicBezTo>
                <a:cubicBezTo>
                  <a:pt x="12616" y="41829"/>
                  <a:pt x="12616" y="38990"/>
                  <a:pt x="12616" y="38990"/>
                </a:cubicBezTo>
                <a:cubicBezTo>
                  <a:pt x="12616" y="36340"/>
                  <a:pt x="12616" y="33501"/>
                  <a:pt x="16542" y="33501"/>
                </a:cubicBezTo>
                <a:cubicBezTo>
                  <a:pt x="103177" y="33501"/>
                  <a:pt x="103177" y="33501"/>
                  <a:pt x="103177" y="33501"/>
                </a:cubicBezTo>
                <a:cubicBezTo>
                  <a:pt x="107383" y="33501"/>
                  <a:pt x="111588" y="36340"/>
                  <a:pt x="111588" y="38990"/>
                </a:cubicBezTo>
                <a:cubicBezTo>
                  <a:pt x="111588" y="38990"/>
                  <a:pt x="107383" y="41829"/>
                  <a:pt x="103177" y="4182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4716"/>
          <p:cNvSpPr/>
          <p:nvPr/>
        </p:nvSpPr>
        <p:spPr>
          <a:xfrm>
            <a:off x="4457880" y="2143080"/>
            <a:ext cx="284040" cy="304920"/>
          </a:xfrm>
          <a:custGeom>
            <a:avLst/>
            <a:gdLst>
              <a:gd name="textAreaLeft" fmla="*/ 0 w 284040"/>
              <a:gd name="textAreaRight" fmla="*/ 284400 w 284040"/>
              <a:gd name="textAreaTop" fmla="*/ 0 h 304920"/>
              <a:gd name="textAreaBottom" fmla="*/ 305280 h 304920"/>
            </a:gdLst>
            <a:ahLst/>
            <a:rect l="textAreaLeft" t="textAreaTop" r="textAreaRight" b="textAreaBottom"/>
            <a:pathLst>
              <a:path w="120000" h="120000">
                <a:moveTo>
                  <a:pt x="92903" y="66813"/>
                </a:moveTo>
                <a:lnTo>
                  <a:pt x="92903" y="66813"/>
                </a:lnTo>
                <a:cubicBezTo>
                  <a:pt x="98811" y="66813"/>
                  <a:pt x="104923" y="64164"/>
                  <a:pt x="104923" y="55646"/>
                </a:cubicBezTo>
                <a:cubicBezTo>
                  <a:pt x="104923" y="50157"/>
                  <a:pt x="98811" y="44479"/>
                  <a:pt x="92903" y="44479"/>
                </a:cubicBezTo>
                <a:cubicBezTo>
                  <a:pt x="83938" y="44479"/>
                  <a:pt x="80882" y="50157"/>
                  <a:pt x="80882" y="55646"/>
                </a:cubicBezTo>
                <a:cubicBezTo>
                  <a:pt x="80882" y="64164"/>
                  <a:pt x="83938" y="66813"/>
                  <a:pt x="92903" y="66813"/>
                </a:cubicBezTo>
                <a:close/>
                <a:moveTo>
                  <a:pt x="86791" y="52996"/>
                </a:moveTo>
                <a:lnTo>
                  <a:pt x="86791" y="52996"/>
                </a:lnTo>
                <a:cubicBezTo>
                  <a:pt x="95959" y="52996"/>
                  <a:pt x="95959" y="52996"/>
                  <a:pt x="95959" y="52996"/>
                </a:cubicBezTo>
                <a:cubicBezTo>
                  <a:pt x="95959" y="61324"/>
                  <a:pt x="95959" y="61324"/>
                  <a:pt x="95959" y="61324"/>
                </a:cubicBezTo>
                <a:cubicBezTo>
                  <a:pt x="86791" y="61324"/>
                  <a:pt x="86791" y="61324"/>
                  <a:pt x="86791" y="61324"/>
                </a:cubicBezTo>
                <a:lnTo>
                  <a:pt x="86791" y="52996"/>
                </a:lnTo>
                <a:close/>
                <a:moveTo>
                  <a:pt x="92903" y="97476"/>
                </a:moveTo>
                <a:lnTo>
                  <a:pt x="92903" y="97476"/>
                </a:lnTo>
                <a:cubicBezTo>
                  <a:pt x="98811" y="97476"/>
                  <a:pt x="104923" y="91987"/>
                  <a:pt x="104923" y="86309"/>
                </a:cubicBezTo>
                <a:cubicBezTo>
                  <a:pt x="104923" y="80820"/>
                  <a:pt x="98811" y="75331"/>
                  <a:pt x="92903" y="75331"/>
                </a:cubicBezTo>
                <a:cubicBezTo>
                  <a:pt x="83938" y="75331"/>
                  <a:pt x="80882" y="80820"/>
                  <a:pt x="80882" y="86309"/>
                </a:cubicBezTo>
                <a:cubicBezTo>
                  <a:pt x="80882" y="91987"/>
                  <a:pt x="83938" y="97476"/>
                  <a:pt x="92903" y="97476"/>
                </a:cubicBezTo>
                <a:close/>
                <a:moveTo>
                  <a:pt x="86791" y="83659"/>
                </a:moveTo>
                <a:lnTo>
                  <a:pt x="86791" y="83659"/>
                </a:lnTo>
                <a:cubicBezTo>
                  <a:pt x="95959" y="83659"/>
                  <a:pt x="95959" y="83659"/>
                  <a:pt x="95959" y="83659"/>
                </a:cubicBezTo>
                <a:cubicBezTo>
                  <a:pt x="95959" y="89148"/>
                  <a:pt x="95959" y="89148"/>
                  <a:pt x="95959" y="89148"/>
                </a:cubicBezTo>
                <a:cubicBezTo>
                  <a:pt x="86791" y="89148"/>
                  <a:pt x="86791" y="89148"/>
                  <a:pt x="86791" y="89148"/>
                </a:cubicBezTo>
                <a:lnTo>
                  <a:pt x="86791" y="83659"/>
                </a:lnTo>
                <a:close/>
                <a:moveTo>
                  <a:pt x="104923" y="0"/>
                </a:moveTo>
                <a:lnTo>
                  <a:pt x="104923" y="0"/>
                </a:lnTo>
                <a:cubicBezTo>
                  <a:pt x="14872" y="0"/>
                  <a:pt x="14872" y="0"/>
                  <a:pt x="14872" y="0"/>
                </a:cubicBezTo>
                <a:cubicBezTo>
                  <a:pt x="5908" y="0"/>
                  <a:pt x="0" y="8328"/>
                  <a:pt x="0" y="16656"/>
                </a:cubicBezTo>
                <a:cubicBezTo>
                  <a:pt x="0" y="105993"/>
                  <a:pt x="0" y="105993"/>
                  <a:pt x="0" y="105993"/>
                </a:cubicBezTo>
                <a:cubicBezTo>
                  <a:pt x="0" y="114321"/>
                  <a:pt x="5908" y="119810"/>
                  <a:pt x="14872" y="119810"/>
                </a:cubicBezTo>
                <a:cubicBezTo>
                  <a:pt x="104923" y="119810"/>
                  <a:pt x="104923" y="119810"/>
                  <a:pt x="104923" y="119810"/>
                </a:cubicBezTo>
                <a:cubicBezTo>
                  <a:pt x="113887" y="119810"/>
                  <a:pt x="119796" y="114321"/>
                  <a:pt x="119796" y="105993"/>
                </a:cubicBezTo>
                <a:cubicBezTo>
                  <a:pt x="119796" y="16656"/>
                  <a:pt x="119796" y="16656"/>
                  <a:pt x="119796" y="16656"/>
                </a:cubicBezTo>
                <a:cubicBezTo>
                  <a:pt x="119796" y="8328"/>
                  <a:pt x="113887" y="0"/>
                  <a:pt x="104923" y="0"/>
                </a:cubicBezTo>
                <a:close/>
                <a:moveTo>
                  <a:pt x="110831" y="105993"/>
                </a:moveTo>
                <a:lnTo>
                  <a:pt x="110831" y="105993"/>
                </a:lnTo>
                <a:cubicBezTo>
                  <a:pt x="110831" y="108643"/>
                  <a:pt x="107979" y="111482"/>
                  <a:pt x="104923" y="111482"/>
                </a:cubicBezTo>
                <a:cubicBezTo>
                  <a:pt x="14872" y="111482"/>
                  <a:pt x="14872" y="111482"/>
                  <a:pt x="14872" y="111482"/>
                </a:cubicBezTo>
                <a:cubicBezTo>
                  <a:pt x="11816" y="111482"/>
                  <a:pt x="8964" y="108643"/>
                  <a:pt x="8964" y="105993"/>
                </a:cubicBezTo>
                <a:cubicBezTo>
                  <a:pt x="8964" y="30662"/>
                  <a:pt x="8964" y="30662"/>
                  <a:pt x="8964" y="30662"/>
                </a:cubicBezTo>
                <a:cubicBezTo>
                  <a:pt x="110831" y="30662"/>
                  <a:pt x="110831" y="30662"/>
                  <a:pt x="110831" y="30662"/>
                </a:cubicBezTo>
                <a:lnTo>
                  <a:pt x="110831" y="105993"/>
                </a:lnTo>
                <a:close/>
                <a:moveTo>
                  <a:pt x="110831" y="22334"/>
                </a:moveTo>
                <a:lnTo>
                  <a:pt x="110831" y="22334"/>
                </a:lnTo>
                <a:cubicBezTo>
                  <a:pt x="8964" y="22334"/>
                  <a:pt x="8964" y="22334"/>
                  <a:pt x="8964" y="22334"/>
                </a:cubicBezTo>
                <a:cubicBezTo>
                  <a:pt x="8964" y="16656"/>
                  <a:pt x="8964" y="16656"/>
                  <a:pt x="8964" y="16656"/>
                </a:cubicBezTo>
                <a:cubicBezTo>
                  <a:pt x="8964" y="11167"/>
                  <a:pt x="11816" y="8328"/>
                  <a:pt x="14872" y="8328"/>
                </a:cubicBezTo>
                <a:cubicBezTo>
                  <a:pt x="104923" y="8328"/>
                  <a:pt x="104923" y="8328"/>
                  <a:pt x="104923" y="8328"/>
                </a:cubicBezTo>
                <a:cubicBezTo>
                  <a:pt x="107979" y="8328"/>
                  <a:pt x="110831" y="11167"/>
                  <a:pt x="110831" y="16656"/>
                </a:cubicBezTo>
                <a:lnTo>
                  <a:pt x="110831" y="22334"/>
                </a:lnTo>
                <a:close/>
                <a:moveTo>
                  <a:pt x="59898" y="66813"/>
                </a:moveTo>
                <a:lnTo>
                  <a:pt x="59898" y="66813"/>
                </a:lnTo>
                <a:cubicBezTo>
                  <a:pt x="66010" y="66813"/>
                  <a:pt x="71918" y="64164"/>
                  <a:pt x="71918" y="55646"/>
                </a:cubicBezTo>
                <a:cubicBezTo>
                  <a:pt x="71918" y="50157"/>
                  <a:pt x="66010" y="44479"/>
                  <a:pt x="59898" y="44479"/>
                </a:cubicBezTo>
                <a:cubicBezTo>
                  <a:pt x="53989" y="44479"/>
                  <a:pt x="47877" y="50157"/>
                  <a:pt x="47877" y="55646"/>
                </a:cubicBezTo>
                <a:cubicBezTo>
                  <a:pt x="47877" y="64164"/>
                  <a:pt x="53989" y="66813"/>
                  <a:pt x="59898" y="66813"/>
                </a:cubicBezTo>
                <a:close/>
                <a:moveTo>
                  <a:pt x="56842" y="52996"/>
                </a:moveTo>
                <a:lnTo>
                  <a:pt x="56842" y="52996"/>
                </a:lnTo>
                <a:cubicBezTo>
                  <a:pt x="62954" y="52996"/>
                  <a:pt x="62954" y="52996"/>
                  <a:pt x="62954" y="52996"/>
                </a:cubicBezTo>
                <a:cubicBezTo>
                  <a:pt x="62954" y="61324"/>
                  <a:pt x="62954" y="61324"/>
                  <a:pt x="62954" y="61324"/>
                </a:cubicBezTo>
                <a:cubicBezTo>
                  <a:pt x="56842" y="61324"/>
                  <a:pt x="56842" y="61324"/>
                  <a:pt x="56842" y="61324"/>
                </a:cubicBezTo>
                <a:lnTo>
                  <a:pt x="56842" y="52996"/>
                </a:lnTo>
                <a:close/>
                <a:moveTo>
                  <a:pt x="26893" y="66813"/>
                </a:moveTo>
                <a:lnTo>
                  <a:pt x="26893" y="66813"/>
                </a:lnTo>
                <a:cubicBezTo>
                  <a:pt x="35857" y="66813"/>
                  <a:pt x="38913" y="64164"/>
                  <a:pt x="38913" y="55646"/>
                </a:cubicBezTo>
                <a:cubicBezTo>
                  <a:pt x="38913" y="50157"/>
                  <a:pt x="35857" y="44479"/>
                  <a:pt x="26893" y="44479"/>
                </a:cubicBezTo>
                <a:cubicBezTo>
                  <a:pt x="20984" y="44479"/>
                  <a:pt x="14872" y="50157"/>
                  <a:pt x="14872" y="55646"/>
                </a:cubicBezTo>
                <a:cubicBezTo>
                  <a:pt x="14872" y="64164"/>
                  <a:pt x="20984" y="66813"/>
                  <a:pt x="26893" y="66813"/>
                </a:cubicBezTo>
                <a:close/>
                <a:moveTo>
                  <a:pt x="23837" y="52996"/>
                </a:moveTo>
                <a:lnTo>
                  <a:pt x="23837" y="52996"/>
                </a:lnTo>
                <a:cubicBezTo>
                  <a:pt x="33005" y="52996"/>
                  <a:pt x="33005" y="52996"/>
                  <a:pt x="33005" y="52996"/>
                </a:cubicBezTo>
                <a:cubicBezTo>
                  <a:pt x="33005" y="61324"/>
                  <a:pt x="33005" y="61324"/>
                  <a:pt x="33005" y="61324"/>
                </a:cubicBezTo>
                <a:cubicBezTo>
                  <a:pt x="23837" y="61324"/>
                  <a:pt x="23837" y="61324"/>
                  <a:pt x="23837" y="61324"/>
                </a:cubicBezTo>
                <a:lnTo>
                  <a:pt x="23837" y="52996"/>
                </a:lnTo>
                <a:close/>
                <a:moveTo>
                  <a:pt x="59898" y="97476"/>
                </a:moveTo>
                <a:lnTo>
                  <a:pt x="59898" y="97476"/>
                </a:lnTo>
                <a:cubicBezTo>
                  <a:pt x="66010" y="97476"/>
                  <a:pt x="71918" y="91987"/>
                  <a:pt x="71918" y="86309"/>
                </a:cubicBezTo>
                <a:cubicBezTo>
                  <a:pt x="71918" y="80820"/>
                  <a:pt x="66010" y="75331"/>
                  <a:pt x="59898" y="75331"/>
                </a:cubicBezTo>
                <a:cubicBezTo>
                  <a:pt x="53989" y="75331"/>
                  <a:pt x="47877" y="80820"/>
                  <a:pt x="47877" y="86309"/>
                </a:cubicBezTo>
                <a:cubicBezTo>
                  <a:pt x="47877" y="91987"/>
                  <a:pt x="53989" y="97476"/>
                  <a:pt x="59898" y="97476"/>
                </a:cubicBezTo>
                <a:close/>
                <a:moveTo>
                  <a:pt x="56842" y="83659"/>
                </a:moveTo>
                <a:lnTo>
                  <a:pt x="56842" y="83659"/>
                </a:lnTo>
                <a:cubicBezTo>
                  <a:pt x="62954" y="83659"/>
                  <a:pt x="62954" y="83659"/>
                  <a:pt x="62954" y="83659"/>
                </a:cubicBezTo>
                <a:cubicBezTo>
                  <a:pt x="62954" y="89148"/>
                  <a:pt x="62954" y="89148"/>
                  <a:pt x="62954" y="89148"/>
                </a:cubicBezTo>
                <a:cubicBezTo>
                  <a:pt x="56842" y="89148"/>
                  <a:pt x="56842" y="89148"/>
                  <a:pt x="56842" y="89148"/>
                </a:cubicBezTo>
                <a:lnTo>
                  <a:pt x="56842" y="83659"/>
                </a:lnTo>
                <a:close/>
                <a:moveTo>
                  <a:pt x="26893" y="97476"/>
                </a:moveTo>
                <a:lnTo>
                  <a:pt x="26893" y="97476"/>
                </a:lnTo>
                <a:cubicBezTo>
                  <a:pt x="35857" y="97476"/>
                  <a:pt x="38913" y="91987"/>
                  <a:pt x="38913" y="86309"/>
                </a:cubicBezTo>
                <a:cubicBezTo>
                  <a:pt x="38913" y="80820"/>
                  <a:pt x="35857" y="75331"/>
                  <a:pt x="26893" y="75331"/>
                </a:cubicBezTo>
                <a:cubicBezTo>
                  <a:pt x="20984" y="75331"/>
                  <a:pt x="14872" y="80820"/>
                  <a:pt x="14872" y="86309"/>
                </a:cubicBezTo>
                <a:cubicBezTo>
                  <a:pt x="14872" y="91987"/>
                  <a:pt x="20984" y="97476"/>
                  <a:pt x="26893" y="97476"/>
                </a:cubicBezTo>
                <a:close/>
                <a:moveTo>
                  <a:pt x="23837" y="83659"/>
                </a:moveTo>
                <a:lnTo>
                  <a:pt x="23837" y="83659"/>
                </a:lnTo>
                <a:cubicBezTo>
                  <a:pt x="33005" y="83659"/>
                  <a:pt x="33005" y="83659"/>
                  <a:pt x="33005" y="83659"/>
                </a:cubicBezTo>
                <a:cubicBezTo>
                  <a:pt x="33005" y="89148"/>
                  <a:pt x="33005" y="89148"/>
                  <a:pt x="33005" y="89148"/>
                </a:cubicBezTo>
                <a:cubicBezTo>
                  <a:pt x="23837" y="89148"/>
                  <a:pt x="23837" y="89148"/>
                  <a:pt x="23837" y="89148"/>
                </a:cubicBezTo>
                <a:lnTo>
                  <a:pt x="23837" y="83659"/>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4718"/>
          <p:cNvSpPr/>
          <p:nvPr/>
        </p:nvSpPr>
        <p:spPr>
          <a:xfrm>
            <a:off x="346860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41829" y="51868"/>
                </a:moveTo>
                <a:lnTo>
                  <a:pt x="41829" y="51868"/>
                </a:lnTo>
                <a:cubicBezTo>
                  <a:pt x="19495" y="51868"/>
                  <a:pt x="19495" y="51868"/>
                  <a:pt x="19495" y="51868"/>
                </a:cubicBezTo>
                <a:cubicBezTo>
                  <a:pt x="16656" y="51868"/>
                  <a:pt x="13817" y="54945"/>
                  <a:pt x="13817" y="54945"/>
                </a:cubicBezTo>
                <a:cubicBezTo>
                  <a:pt x="13817" y="58241"/>
                  <a:pt x="16656" y="61538"/>
                  <a:pt x="19495" y="61538"/>
                </a:cubicBezTo>
                <a:cubicBezTo>
                  <a:pt x="41829" y="61538"/>
                  <a:pt x="41829" y="61538"/>
                  <a:pt x="41829" y="61538"/>
                </a:cubicBezTo>
                <a:cubicBezTo>
                  <a:pt x="41829" y="61538"/>
                  <a:pt x="44479" y="58241"/>
                  <a:pt x="44479" y="54945"/>
                </a:cubicBezTo>
                <a:lnTo>
                  <a:pt x="41829" y="51868"/>
                </a:lnTo>
                <a:close/>
                <a:moveTo>
                  <a:pt x="41829" y="87472"/>
                </a:moveTo>
                <a:lnTo>
                  <a:pt x="41829" y="87472"/>
                </a:lnTo>
                <a:cubicBezTo>
                  <a:pt x="19495" y="87472"/>
                  <a:pt x="19495" y="87472"/>
                  <a:pt x="19495" y="87472"/>
                </a:cubicBezTo>
                <a:cubicBezTo>
                  <a:pt x="16656" y="87472"/>
                  <a:pt x="13817" y="87472"/>
                  <a:pt x="13817" y="90549"/>
                </a:cubicBezTo>
                <a:cubicBezTo>
                  <a:pt x="13817" y="93846"/>
                  <a:pt x="16656" y="93846"/>
                  <a:pt x="19495" y="93846"/>
                </a:cubicBezTo>
                <a:cubicBezTo>
                  <a:pt x="41829" y="93846"/>
                  <a:pt x="41829" y="93846"/>
                  <a:pt x="41829" y="93846"/>
                </a:cubicBezTo>
                <a:cubicBezTo>
                  <a:pt x="41829" y="93846"/>
                  <a:pt x="44479" y="93846"/>
                  <a:pt x="44479" y="90549"/>
                </a:cubicBezTo>
                <a:cubicBezTo>
                  <a:pt x="44479" y="87472"/>
                  <a:pt x="41829" y="87472"/>
                  <a:pt x="41829" y="87472"/>
                </a:cubicBezTo>
                <a:close/>
                <a:moveTo>
                  <a:pt x="41829" y="67912"/>
                </a:moveTo>
                <a:lnTo>
                  <a:pt x="41829" y="67912"/>
                </a:lnTo>
                <a:cubicBezTo>
                  <a:pt x="19495" y="67912"/>
                  <a:pt x="19495" y="67912"/>
                  <a:pt x="19495" y="67912"/>
                </a:cubicBezTo>
                <a:cubicBezTo>
                  <a:pt x="16656" y="67912"/>
                  <a:pt x="13817" y="71208"/>
                  <a:pt x="13817" y="74505"/>
                </a:cubicBezTo>
                <a:cubicBezTo>
                  <a:pt x="13817" y="74505"/>
                  <a:pt x="16656" y="77802"/>
                  <a:pt x="19495" y="77802"/>
                </a:cubicBezTo>
                <a:cubicBezTo>
                  <a:pt x="41829" y="77802"/>
                  <a:pt x="41829" y="77802"/>
                  <a:pt x="41829" y="77802"/>
                </a:cubicBezTo>
                <a:lnTo>
                  <a:pt x="44479" y="74505"/>
                </a:lnTo>
                <a:cubicBezTo>
                  <a:pt x="44479" y="71208"/>
                  <a:pt x="41829" y="67912"/>
                  <a:pt x="41829" y="67912"/>
                </a:cubicBezTo>
                <a:close/>
                <a:moveTo>
                  <a:pt x="77981" y="48571"/>
                </a:moveTo>
                <a:lnTo>
                  <a:pt x="77981" y="48571"/>
                </a:lnTo>
                <a:cubicBezTo>
                  <a:pt x="66813" y="48571"/>
                  <a:pt x="55646" y="58241"/>
                  <a:pt x="55646" y="74505"/>
                </a:cubicBezTo>
                <a:cubicBezTo>
                  <a:pt x="55646" y="87472"/>
                  <a:pt x="66813" y="100439"/>
                  <a:pt x="77981" y="100439"/>
                </a:cubicBezTo>
                <a:cubicBezTo>
                  <a:pt x="89148" y="100439"/>
                  <a:pt x="100315" y="87472"/>
                  <a:pt x="100315" y="74505"/>
                </a:cubicBezTo>
                <a:cubicBezTo>
                  <a:pt x="100315" y="58241"/>
                  <a:pt x="89148" y="48571"/>
                  <a:pt x="77981" y="48571"/>
                </a:cubicBezTo>
                <a:close/>
                <a:moveTo>
                  <a:pt x="77981" y="90549"/>
                </a:moveTo>
                <a:lnTo>
                  <a:pt x="77981" y="90549"/>
                </a:lnTo>
                <a:cubicBezTo>
                  <a:pt x="69652" y="90549"/>
                  <a:pt x="63974" y="84175"/>
                  <a:pt x="63974" y="74505"/>
                </a:cubicBezTo>
                <a:cubicBezTo>
                  <a:pt x="63974" y="64835"/>
                  <a:pt x="69652" y="54945"/>
                  <a:pt x="77981" y="54945"/>
                </a:cubicBezTo>
                <a:cubicBezTo>
                  <a:pt x="86309" y="54945"/>
                  <a:pt x="91798" y="64835"/>
                  <a:pt x="91798" y="74505"/>
                </a:cubicBezTo>
                <a:cubicBezTo>
                  <a:pt x="91798" y="84175"/>
                  <a:pt x="86309" y="90549"/>
                  <a:pt x="77981" y="90549"/>
                </a:cubicBezTo>
                <a:close/>
                <a:moveTo>
                  <a:pt x="102965" y="25934"/>
                </a:moveTo>
                <a:lnTo>
                  <a:pt x="102965" y="25934"/>
                </a:lnTo>
                <a:cubicBezTo>
                  <a:pt x="97476" y="25934"/>
                  <a:pt x="97476" y="25934"/>
                  <a:pt x="97476" y="25934"/>
                </a:cubicBezTo>
                <a:cubicBezTo>
                  <a:pt x="55646" y="0"/>
                  <a:pt x="55646" y="0"/>
                  <a:pt x="55646" y="0"/>
                </a:cubicBezTo>
                <a:cubicBezTo>
                  <a:pt x="55646" y="0"/>
                  <a:pt x="52807" y="0"/>
                  <a:pt x="52807" y="3296"/>
                </a:cubicBezTo>
                <a:cubicBezTo>
                  <a:pt x="50157" y="3296"/>
                  <a:pt x="52807" y="6593"/>
                  <a:pt x="52807" y="6593"/>
                </a:cubicBezTo>
                <a:cubicBezTo>
                  <a:pt x="80630" y="25934"/>
                  <a:pt x="80630" y="25934"/>
                  <a:pt x="80630" y="25934"/>
                </a:cubicBezTo>
                <a:cubicBezTo>
                  <a:pt x="13817" y="25934"/>
                  <a:pt x="13817" y="25934"/>
                  <a:pt x="13817" y="25934"/>
                </a:cubicBezTo>
                <a:cubicBezTo>
                  <a:pt x="5488" y="25934"/>
                  <a:pt x="0" y="32527"/>
                  <a:pt x="0" y="41978"/>
                </a:cubicBezTo>
                <a:cubicBezTo>
                  <a:pt x="0" y="103516"/>
                  <a:pt x="0" y="103516"/>
                  <a:pt x="0" y="103516"/>
                </a:cubicBezTo>
                <a:cubicBezTo>
                  <a:pt x="0" y="113406"/>
                  <a:pt x="5488" y="119780"/>
                  <a:pt x="13817" y="119780"/>
                </a:cubicBezTo>
                <a:cubicBezTo>
                  <a:pt x="102965" y="119780"/>
                  <a:pt x="102965" y="119780"/>
                  <a:pt x="102965" y="119780"/>
                </a:cubicBezTo>
                <a:cubicBezTo>
                  <a:pt x="111293" y="119780"/>
                  <a:pt x="119810" y="113406"/>
                  <a:pt x="119810" y="103516"/>
                </a:cubicBezTo>
                <a:cubicBezTo>
                  <a:pt x="119810" y="41978"/>
                  <a:pt x="119810" y="41978"/>
                  <a:pt x="119810" y="41978"/>
                </a:cubicBezTo>
                <a:cubicBezTo>
                  <a:pt x="119810" y="32527"/>
                  <a:pt x="111293" y="25934"/>
                  <a:pt x="102965" y="25934"/>
                </a:cubicBezTo>
                <a:close/>
                <a:moveTo>
                  <a:pt x="111293" y="103516"/>
                </a:moveTo>
                <a:lnTo>
                  <a:pt x="111293" y="103516"/>
                </a:lnTo>
                <a:cubicBezTo>
                  <a:pt x="111293" y="106813"/>
                  <a:pt x="108643" y="113406"/>
                  <a:pt x="102965" y="113406"/>
                </a:cubicBezTo>
                <a:cubicBezTo>
                  <a:pt x="13817" y="113406"/>
                  <a:pt x="13817" y="113406"/>
                  <a:pt x="13817" y="113406"/>
                </a:cubicBezTo>
                <a:cubicBezTo>
                  <a:pt x="10977" y="113406"/>
                  <a:pt x="8328" y="106813"/>
                  <a:pt x="8328" y="103516"/>
                </a:cubicBezTo>
                <a:cubicBezTo>
                  <a:pt x="8328" y="41978"/>
                  <a:pt x="8328" y="41978"/>
                  <a:pt x="8328" y="41978"/>
                </a:cubicBezTo>
                <a:cubicBezTo>
                  <a:pt x="8328" y="38901"/>
                  <a:pt x="10977" y="35604"/>
                  <a:pt x="13817" y="35604"/>
                </a:cubicBezTo>
                <a:cubicBezTo>
                  <a:pt x="102965" y="35604"/>
                  <a:pt x="102965" y="35604"/>
                  <a:pt x="102965" y="35604"/>
                </a:cubicBezTo>
                <a:cubicBezTo>
                  <a:pt x="108643" y="35604"/>
                  <a:pt x="111293" y="38901"/>
                  <a:pt x="111293" y="41978"/>
                </a:cubicBezTo>
                <a:lnTo>
                  <a:pt x="111293" y="103516"/>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4720"/>
          <p:cNvSpPr/>
          <p:nvPr/>
        </p:nvSpPr>
        <p:spPr>
          <a:xfrm>
            <a:off x="2484360" y="2163600"/>
            <a:ext cx="304920" cy="262080"/>
          </a:xfrm>
          <a:custGeom>
            <a:avLst/>
            <a:gdLst>
              <a:gd name="textAreaLeft" fmla="*/ 0 w 304920"/>
              <a:gd name="textAreaRight" fmla="*/ 305280 w 304920"/>
              <a:gd name="textAreaTop" fmla="*/ 0 h 262080"/>
              <a:gd name="textAreaBottom" fmla="*/ 262440 h 262080"/>
            </a:gdLst>
            <a:ahLst/>
            <a:rect l="textAreaLeft" t="textAreaTop" r="textAreaRight" b="textAreaBottom"/>
            <a:pathLst>
              <a:path w="120000" h="120000">
                <a:moveTo>
                  <a:pt x="111482" y="51868"/>
                </a:moveTo>
                <a:lnTo>
                  <a:pt x="111482" y="51868"/>
                </a:lnTo>
                <a:cubicBezTo>
                  <a:pt x="89148" y="67912"/>
                  <a:pt x="89148" y="67912"/>
                  <a:pt x="89148" y="67912"/>
                </a:cubicBezTo>
                <a:cubicBezTo>
                  <a:pt x="89148" y="64835"/>
                  <a:pt x="89148" y="58241"/>
                  <a:pt x="83659" y="54945"/>
                </a:cubicBezTo>
                <a:cubicBezTo>
                  <a:pt x="91987" y="51868"/>
                  <a:pt x="97665" y="41978"/>
                  <a:pt x="97665" y="29230"/>
                </a:cubicBezTo>
                <a:cubicBezTo>
                  <a:pt x="97665" y="12967"/>
                  <a:pt x="86498" y="0"/>
                  <a:pt x="72492" y="0"/>
                </a:cubicBezTo>
                <a:cubicBezTo>
                  <a:pt x="58675" y="0"/>
                  <a:pt x="44668" y="12967"/>
                  <a:pt x="44668" y="29230"/>
                </a:cubicBezTo>
                <a:cubicBezTo>
                  <a:pt x="44668" y="38901"/>
                  <a:pt x="47507" y="45494"/>
                  <a:pt x="52996" y="51868"/>
                </a:cubicBezTo>
                <a:cubicBezTo>
                  <a:pt x="39179" y="51868"/>
                  <a:pt x="39179" y="51868"/>
                  <a:pt x="39179" y="51868"/>
                </a:cubicBezTo>
                <a:cubicBezTo>
                  <a:pt x="44668" y="48571"/>
                  <a:pt x="44668" y="41978"/>
                  <a:pt x="44668" y="35604"/>
                </a:cubicBezTo>
                <a:cubicBezTo>
                  <a:pt x="44668" y="19560"/>
                  <a:pt x="36340" y="9670"/>
                  <a:pt x="22334" y="9670"/>
                </a:cubicBezTo>
                <a:cubicBezTo>
                  <a:pt x="11167" y="9670"/>
                  <a:pt x="0" y="19560"/>
                  <a:pt x="0" y="35604"/>
                </a:cubicBezTo>
                <a:cubicBezTo>
                  <a:pt x="0" y="41978"/>
                  <a:pt x="2839" y="48571"/>
                  <a:pt x="8328" y="54945"/>
                </a:cubicBezTo>
                <a:cubicBezTo>
                  <a:pt x="2839" y="58241"/>
                  <a:pt x="0" y="61538"/>
                  <a:pt x="0" y="67912"/>
                </a:cubicBezTo>
                <a:cubicBezTo>
                  <a:pt x="0" y="103516"/>
                  <a:pt x="0" y="103516"/>
                  <a:pt x="0" y="103516"/>
                </a:cubicBezTo>
                <a:cubicBezTo>
                  <a:pt x="0" y="113406"/>
                  <a:pt x="8328" y="119780"/>
                  <a:pt x="16845" y="119780"/>
                </a:cubicBezTo>
                <a:cubicBezTo>
                  <a:pt x="75331" y="119780"/>
                  <a:pt x="75331" y="119780"/>
                  <a:pt x="75331" y="119780"/>
                </a:cubicBezTo>
                <a:cubicBezTo>
                  <a:pt x="83659" y="119780"/>
                  <a:pt x="89148" y="113406"/>
                  <a:pt x="89148" y="103516"/>
                </a:cubicBezTo>
                <a:cubicBezTo>
                  <a:pt x="89148" y="100439"/>
                  <a:pt x="89148" y="100439"/>
                  <a:pt x="89148" y="100439"/>
                </a:cubicBezTo>
                <a:cubicBezTo>
                  <a:pt x="111482" y="119780"/>
                  <a:pt x="111482" y="119780"/>
                  <a:pt x="111482" y="119780"/>
                </a:cubicBezTo>
                <a:cubicBezTo>
                  <a:pt x="117160" y="119780"/>
                  <a:pt x="119810" y="116483"/>
                  <a:pt x="119810" y="113406"/>
                </a:cubicBezTo>
                <a:cubicBezTo>
                  <a:pt x="119810" y="61538"/>
                  <a:pt x="119810" y="61538"/>
                  <a:pt x="119810" y="61538"/>
                </a:cubicBezTo>
                <a:cubicBezTo>
                  <a:pt x="119810" y="54945"/>
                  <a:pt x="117160" y="51868"/>
                  <a:pt x="111482" y="51868"/>
                </a:cubicBezTo>
                <a:close/>
                <a:moveTo>
                  <a:pt x="8328" y="35604"/>
                </a:moveTo>
                <a:lnTo>
                  <a:pt x="8328" y="35604"/>
                </a:lnTo>
                <a:cubicBezTo>
                  <a:pt x="8328" y="25934"/>
                  <a:pt x="14006" y="16263"/>
                  <a:pt x="22334" y="16263"/>
                </a:cubicBezTo>
                <a:cubicBezTo>
                  <a:pt x="30662" y="16263"/>
                  <a:pt x="39179" y="25934"/>
                  <a:pt x="39179" y="35604"/>
                </a:cubicBezTo>
                <a:cubicBezTo>
                  <a:pt x="39179" y="45494"/>
                  <a:pt x="30662" y="51868"/>
                  <a:pt x="22334" y="51868"/>
                </a:cubicBezTo>
                <a:cubicBezTo>
                  <a:pt x="14006" y="51868"/>
                  <a:pt x="8328" y="45494"/>
                  <a:pt x="8328" y="35604"/>
                </a:cubicBezTo>
                <a:close/>
                <a:moveTo>
                  <a:pt x="83659" y="103516"/>
                </a:moveTo>
                <a:lnTo>
                  <a:pt x="83659" y="103516"/>
                </a:lnTo>
                <a:cubicBezTo>
                  <a:pt x="83659" y="106813"/>
                  <a:pt x="77981" y="113406"/>
                  <a:pt x="75331" y="113406"/>
                </a:cubicBezTo>
                <a:cubicBezTo>
                  <a:pt x="16845" y="113406"/>
                  <a:pt x="16845" y="113406"/>
                  <a:pt x="16845" y="113406"/>
                </a:cubicBezTo>
                <a:cubicBezTo>
                  <a:pt x="11167" y="113406"/>
                  <a:pt x="8328" y="106813"/>
                  <a:pt x="8328" y="103516"/>
                </a:cubicBezTo>
                <a:cubicBezTo>
                  <a:pt x="8328" y="67912"/>
                  <a:pt x="8328" y="67912"/>
                  <a:pt x="8328" y="67912"/>
                </a:cubicBezTo>
                <a:cubicBezTo>
                  <a:pt x="8328" y="64835"/>
                  <a:pt x="11167" y="61538"/>
                  <a:pt x="16845" y="61538"/>
                </a:cubicBezTo>
                <a:cubicBezTo>
                  <a:pt x="75331" y="61538"/>
                  <a:pt x="75331" y="61538"/>
                  <a:pt x="75331" y="61538"/>
                </a:cubicBezTo>
                <a:cubicBezTo>
                  <a:pt x="77981" y="61538"/>
                  <a:pt x="83659" y="64835"/>
                  <a:pt x="83659" y="67912"/>
                </a:cubicBezTo>
                <a:lnTo>
                  <a:pt x="83659" y="103516"/>
                </a:lnTo>
                <a:close/>
                <a:moveTo>
                  <a:pt x="72492" y="51868"/>
                </a:moveTo>
                <a:lnTo>
                  <a:pt x="72492" y="51868"/>
                </a:lnTo>
                <a:cubicBezTo>
                  <a:pt x="61324" y="51868"/>
                  <a:pt x="52996" y="41978"/>
                  <a:pt x="52996" y="29230"/>
                </a:cubicBezTo>
                <a:cubicBezTo>
                  <a:pt x="52996" y="19560"/>
                  <a:pt x="61324" y="9670"/>
                  <a:pt x="72492" y="9670"/>
                </a:cubicBezTo>
                <a:cubicBezTo>
                  <a:pt x="80820" y="9670"/>
                  <a:pt x="89148" y="19560"/>
                  <a:pt x="89148" y="29230"/>
                </a:cubicBezTo>
                <a:cubicBezTo>
                  <a:pt x="89148" y="41978"/>
                  <a:pt x="80820" y="51868"/>
                  <a:pt x="72492" y="51868"/>
                </a:cubicBezTo>
                <a:close/>
                <a:moveTo>
                  <a:pt x="111482" y="113406"/>
                </a:moveTo>
                <a:lnTo>
                  <a:pt x="111482" y="113406"/>
                </a:lnTo>
                <a:cubicBezTo>
                  <a:pt x="89148" y="90549"/>
                  <a:pt x="89148" y="90549"/>
                  <a:pt x="89148" y="90549"/>
                </a:cubicBezTo>
                <a:cubicBezTo>
                  <a:pt x="89148" y="87472"/>
                  <a:pt x="89148" y="80879"/>
                  <a:pt x="89148" y="77802"/>
                </a:cubicBezTo>
                <a:cubicBezTo>
                  <a:pt x="111482" y="61538"/>
                  <a:pt x="111482" y="61538"/>
                  <a:pt x="111482" y="61538"/>
                </a:cubicBezTo>
                <a:cubicBezTo>
                  <a:pt x="111482" y="67912"/>
                  <a:pt x="111482" y="110109"/>
                  <a:pt x="111482" y="11340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2" name="Shape 4722"/>
          <p:cNvSpPr/>
          <p:nvPr/>
        </p:nvSpPr>
        <p:spPr>
          <a:xfrm>
            <a:off x="1565280" y="2143080"/>
            <a:ext cx="185760" cy="304920"/>
          </a:xfrm>
          <a:custGeom>
            <a:avLst/>
            <a:gdLst>
              <a:gd name="textAreaLeft" fmla="*/ 0 w 185760"/>
              <a:gd name="textAreaRight" fmla="*/ 186120 w 185760"/>
              <a:gd name="textAreaTop" fmla="*/ 0 h 304920"/>
              <a:gd name="textAreaBottom" fmla="*/ 305280 h 304920"/>
            </a:gdLst>
            <a:ahLst/>
            <a:rect l="textAreaLeft" t="textAreaTop" r="textAreaRight" b="textAreaBottom"/>
            <a:pathLst>
              <a:path w="120000" h="120000">
                <a:moveTo>
                  <a:pt x="59843" y="30662"/>
                </a:moveTo>
                <a:lnTo>
                  <a:pt x="59843" y="30662"/>
                </a:lnTo>
                <a:cubicBezTo>
                  <a:pt x="55143" y="30662"/>
                  <a:pt x="55143" y="33501"/>
                  <a:pt x="55143" y="33501"/>
                </a:cubicBezTo>
                <a:cubicBezTo>
                  <a:pt x="55143" y="50157"/>
                  <a:pt x="55143" y="50157"/>
                  <a:pt x="55143" y="50157"/>
                </a:cubicBezTo>
                <a:cubicBezTo>
                  <a:pt x="55143" y="50157"/>
                  <a:pt x="55143" y="52996"/>
                  <a:pt x="59843" y="52996"/>
                </a:cubicBezTo>
                <a:cubicBezTo>
                  <a:pt x="64543" y="52996"/>
                  <a:pt x="64543" y="50157"/>
                  <a:pt x="64543" y="50157"/>
                </a:cubicBezTo>
                <a:cubicBezTo>
                  <a:pt x="64543" y="33501"/>
                  <a:pt x="64543" y="33501"/>
                  <a:pt x="64543" y="33501"/>
                </a:cubicBezTo>
                <a:cubicBezTo>
                  <a:pt x="64543" y="33501"/>
                  <a:pt x="64543" y="30662"/>
                  <a:pt x="59843" y="30662"/>
                </a:cubicBezTo>
                <a:close/>
                <a:moveTo>
                  <a:pt x="96814" y="16656"/>
                </a:moveTo>
                <a:lnTo>
                  <a:pt x="96814" y="16656"/>
                </a:lnTo>
                <a:cubicBezTo>
                  <a:pt x="64543" y="16656"/>
                  <a:pt x="64543" y="16656"/>
                  <a:pt x="64543" y="16656"/>
                </a:cubicBezTo>
                <a:cubicBezTo>
                  <a:pt x="64543" y="0"/>
                  <a:pt x="64543" y="0"/>
                  <a:pt x="64543" y="0"/>
                </a:cubicBezTo>
                <a:cubicBezTo>
                  <a:pt x="41357" y="0"/>
                  <a:pt x="41357" y="0"/>
                  <a:pt x="41357" y="0"/>
                </a:cubicBezTo>
                <a:cubicBezTo>
                  <a:pt x="36657" y="0"/>
                  <a:pt x="36657" y="2839"/>
                  <a:pt x="36657" y="5678"/>
                </a:cubicBezTo>
                <a:cubicBezTo>
                  <a:pt x="36657" y="5678"/>
                  <a:pt x="36657" y="8328"/>
                  <a:pt x="41357" y="8328"/>
                </a:cubicBezTo>
                <a:cubicBezTo>
                  <a:pt x="55143" y="8328"/>
                  <a:pt x="55143" y="8328"/>
                  <a:pt x="55143" y="8328"/>
                </a:cubicBezTo>
                <a:cubicBezTo>
                  <a:pt x="55143" y="16656"/>
                  <a:pt x="55143" y="16656"/>
                  <a:pt x="55143" y="16656"/>
                </a:cubicBezTo>
                <a:cubicBezTo>
                  <a:pt x="22872" y="16656"/>
                  <a:pt x="22872" y="16656"/>
                  <a:pt x="22872" y="16656"/>
                </a:cubicBezTo>
                <a:cubicBezTo>
                  <a:pt x="9086" y="16656"/>
                  <a:pt x="0" y="22334"/>
                  <a:pt x="0" y="30662"/>
                </a:cubicBezTo>
                <a:cubicBezTo>
                  <a:pt x="0" y="105993"/>
                  <a:pt x="0" y="105993"/>
                  <a:pt x="0" y="105993"/>
                </a:cubicBezTo>
                <a:cubicBezTo>
                  <a:pt x="0" y="114321"/>
                  <a:pt x="9086" y="119810"/>
                  <a:pt x="22872" y="119810"/>
                </a:cubicBezTo>
                <a:cubicBezTo>
                  <a:pt x="96814" y="119810"/>
                  <a:pt x="96814" y="119810"/>
                  <a:pt x="96814" y="119810"/>
                </a:cubicBezTo>
                <a:cubicBezTo>
                  <a:pt x="110600" y="119810"/>
                  <a:pt x="119686" y="114321"/>
                  <a:pt x="119686" y="105993"/>
                </a:cubicBezTo>
                <a:cubicBezTo>
                  <a:pt x="119686" y="30662"/>
                  <a:pt x="119686" y="30662"/>
                  <a:pt x="119686" y="30662"/>
                </a:cubicBezTo>
                <a:cubicBezTo>
                  <a:pt x="119686" y="22334"/>
                  <a:pt x="110600" y="16656"/>
                  <a:pt x="96814" y="16656"/>
                </a:cubicBezTo>
                <a:close/>
                <a:moveTo>
                  <a:pt x="110600" y="105993"/>
                </a:moveTo>
                <a:lnTo>
                  <a:pt x="110600" y="105993"/>
                </a:lnTo>
                <a:cubicBezTo>
                  <a:pt x="110600" y="108643"/>
                  <a:pt x="101201" y="111482"/>
                  <a:pt x="96814" y="111482"/>
                </a:cubicBezTo>
                <a:cubicBezTo>
                  <a:pt x="22872" y="111482"/>
                  <a:pt x="22872" y="111482"/>
                  <a:pt x="22872" y="111482"/>
                </a:cubicBezTo>
                <a:cubicBezTo>
                  <a:pt x="18485" y="111482"/>
                  <a:pt x="9086" y="108643"/>
                  <a:pt x="9086" y="105993"/>
                </a:cubicBezTo>
                <a:cubicBezTo>
                  <a:pt x="9086" y="30662"/>
                  <a:pt x="9086" y="30662"/>
                  <a:pt x="9086" y="30662"/>
                </a:cubicBezTo>
                <a:cubicBezTo>
                  <a:pt x="9086" y="27823"/>
                  <a:pt x="18485" y="22334"/>
                  <a:pt x="22872" y="22334"/>
                </a:cubicBezTo>
                <a:cubicBezTo>
                  <a:pt x="96814" y="22334"/>
                  <a:pt x="96814" y="22334"/>
                  <a:pt x="96814" y="22334"/>
                </a:cubicBezTo>
                <a:cubicBezTo>
                  <a:pt x="101201" y="22334"/>
                  <a:pt x="110600" y="27823"/>
                  <a:pt x="110600" y="30662"/>
                </a:cubicBezTo>
                <a:lnTo>
                  <a:pt x="110600" y="105993"/>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724"/>
          <p:cNvSpPr/>
          <p:nvPr/>
        </p:nvSpPr>
        <p:spPr>
          <a:xfrm>
            <a:off x="5470560" y="1652760"/>
            <a:ext cx="210960" cy="306360"/>
          </a:xfrm>
          <a:custGeom>
            <a:avLst/>
            <a:gdLst>
              <a:gd name="textAreaLeft" fmla="*/ 0 w 210960"/>
              <a:gd name="textAreaRight" fmla="*/ 211320 w 210960"/>
              <a:gd name="textAreaTop" fmla="*/ 0 h 306360"/>
              <a:gd name="textAreaBottom" fmla="*/ 306720 h 306360"/>
            </a:gdLst>
            <a:ahLst/>
            <a:rect l="textAreaLeft" t="textAreaTop" r="textAreaRight" b="textAreaBottom"/>
            <a:pathLst>
              <a:path w="120000" h="120000">
                <a:moveTo>
                  <a:pt x="99909" y="0"/>
                </a:moveTo>
                <a:lnTo>
                  <a:pt x="99909" y="0"/>
                </a:lnTo>
                <a:cubicBezTo>
                  <a:pt x="19819" y="0"/>
                  <a:pt x="19819" y="0"/>
                  <a:pt x="19819" y="0"/>
                </a:cubicBezTo>
                <a:cubicBezTo>
                  <a:pt x="7873" y="0"/>
                  <a:pt x="0" y="5678"/>
                  <a:pt x="0" y="14006"/>
                </a:cubicBezTo>
                <a:cubicBezTo>
                  <a:pt x="0" y="103154"/>
                  <a:pt x="0" y="103154"/>
                  <a:pt x="0" y="103154"/>
                </a:cubicBezTo>
                <a:cubicBezTo>
                  <a:pt x="0" y="111482"/>
                  <a:pt x="7873" y="119810"/>
                  <a:pt x="19819" y="119810"/>
                </a:cubicBezTo>
                <a:cubicBezTo>
                  <a:pt x="99909" y="119810"/>
                  <a:pt x="99909" y="119810"/>
                  <a:pt x="99909" y="119810"/>
                </a:cubicBezTo>
                <a:cubicBezTo>
                  <a:pt x="111855" y="119810"/>
                  <a:pt x="119728" y="111482"/>
                  <a:pt x="119728" y="103154"/>
                </a:cubicBezTo>
                <a:cubicBezTo>
                  <a:pt x="119728" y="14006"/>
                  <a:pt x="119728" y="14006"/>
                  <a:pt x="119728" y="14006"/>
                </a:cubicBezTo>
                <a:cubicBezTo>
                  <a:pt x="119728" y="5678"/>
                  <a:pt x="111855" y="0"/>
                  <a:pt x="99909" y="0"/>
                </a:cubicBezTo>
                <a:close/>
                <a:moveTo>
                  <a:pt x="111855" y="103154"/>
                </a:moveTo>
                <a:lnTo>
                  <a:pt x="111855" y="103154"/>
                </a:lnTo>
                <a:cubicBezTo>
                  <a:pt x="111855" y="108643"/>
                  <a:pt x="103710" y="111482"/>
                  <a:pt x="99909" y="111482"/>
                </a:cubicBezTo>
                <a:cubicBezTo>
                  <a:pt x="19819" y="111482"/>
                  <a:pt x="19819" y="111482"/>
                  <a:pt x="19819" y="111482"/>
                </a:cubicBezTo>
                <a:cubicBezTo>
                  <a:pt x="16018" y="111482"/>
                  <a:pt x="7873" y="108643"/>
                  <a:pt x="7873" y="103154"/>
                </a:cubicBezTo>
                <a:cubicBezTo>
                  <a:pt x="7873" y="91987"/>
                  <a:pt x="7873" y="91987"/>
                  <a:pt x="7873" y="91987"/>
                </a:cubicBezTo>
                <a:cubicBezTo>
                  <a:pt x="111855" y="91987"/>
                  <a:pt x="111855" y="91987"/>
                  <a:pt x="111855" y="91987"/>
                </a:cubicBezTo>
                <a:lnTo>
                  <a:pt x="111855" y="103154"/>
                </a:lnTo>
                <a:close/>
                <a:moveTo>
                  <a:pt x="111855" y="86498"/>
                </a:moveTo>
                <a:lnTo>
                  <a:pt x="111855" y="86498"/>
                </a:lnTo>
                <a:cubicBezTo>
                  <a:pt x="7873" y="86498"/>
                  <a:pt x="7873" y="86498"/>
                  <a:pt x="7873" y="86498"/>
                </a:cubicBezTo>
                <a:cubicBezTo>
                  <a:pt x="7873" y="25173"/>
                  <a:pt x="7873" y="25173"/>
                  <a:pt x="7873" y="25173"/>
                </a:cubicBezTo>
                <a:cubicBezTo>
                  <a:pt x="111855" y="25173"/>
                  <a:pt x="111855" y="25173"/>
                  <a:pt x="111855" y="25173"/>
                </a:cubicBezTo>
                <a:lnTo>
                  <a:pt x="111855" y="86498"/>
                </a:lnTo>
                <a:close/>
                <a:moveTo>
                  <a:pt x="111855" y="19495"/>
                </a:moveTo>
                <a:lnTo>
                  <a:pt x="111855" y="19495"/>
                </a:lnTo>
                <a:cubicBezTo>
                  <a:pt x="7873" y="19495"/>
                  <a:pt x="7873" y="19495"/>
                  <a:pt x="7873" y="19495"/>
                </a:cubicBezTo>
                <a:cubicBezTo>
                  <a:pt x="7873" y="14006"/>
                  <a:pt x="7873" y="14006"/>
                  <a:pt x="7873" y="14006"/>
                </a:cubicBezTo>
                <a:cubicBezTo>
                  <a:pt x="7873" y="11167"/>
                  <a:pt x="16018" y="8328"/>
                  <a:pt x="19819" y="8328"/>
                </a:cubicBezTo>
                <a:cubicBezTo>
                  <a:pt x="99909" y="8328"/>
                  <a:pt x="99909" y="8328"/>
                  <a:pt x="99909" y="8328"/>
                </a:cubicBezTo>
                <a:cubicBezTo>
                  <a:pt x="103710" y="8328"/>
                  <a:pt x="111855" y="11167"/>
                  <a:pt x="111855" y="14006"/>
                </a:cubicBezTo>
                <a:lnTo>
                  <a:pt x="111855" y="19495"/>
                </a:lnTo>
                <a:close/>
                <a:moveTo>
                  <a:pt x="60000" y="108643"/>
                </a:moveTo>
                <a:lnTo>
                  <a:pt x="60000" y="108643"/>
                </a:lnTo>
                <a:cubicBezTo>
                  <a:pt x="63800" y="108643"/>
                  <a:pt x="67873" y="105993"/>
                  <a:pt x="67873" y="103154"/>
                </a:cubicBezTo>
                <a:cubicBezTo>
                  <a:pt x="67873" y="100315"/>
                  <a:pt x="63800" y="97665"/>
                  <a:pt x="60000" y="97665"/>
                </a:cubicBezTo>
                <a:cubicBezTo>
                  <a:pt x="55927" y="97665"/>
                  <a:pt x="51855" y="100315"/>
                  <a:pt x="51855" y="103154"/>
                </a:cubicBezTo>
                <a:cubicBezTo>
                  <a:pt x="51855" y="105993"/>
                  <a:pt x="55927" y="108643"/>
                  <a:pt x="60000" y="108643"/>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726"/>
          <p:cNvSpPr/>
          <p:nvPr/>
        </p:nvSpPr>
        <p:spPr>
          <a:xfrm>
            <a:off x="4479840" y="1652760"/>
            <a:ext cx="241560" cy="306360"/>
          </a:xfrm>
          <a:custGeom>
            <a:avLst/>
            <a:gdLst>
              <a:gd name="textAreaLeft" fmla="*/ 0 w 241560"/>
              <a:gd name="textAreaRight" fmla="*/ 241920 w 241560"/>
              <a:gd name="textAreaTop" fmla="*/ 0 h 306360"/>
              <a:gd name="textAreaBottom" fmla="*/ 306720 h 306360"/>
            </a:gdLst>
            <a:ahLst/>
            <a:rect l="textAreaLeft" t="textAreaTop" r="textAreaRight" b="textAreaBottom"/>
            <a:pathLst>
              <a:path w="120000" h="120000">
                <a:moveTo>
                  <a:pt x="91497" y="97665"/>
                </a:moveTo>
                <a:lnTo>
                  <a:pt x="91497" y="97665"/>
                </a:lnTo>
                <a:cubicBezTo>
                  <a:pt x="91497" y="97665"/>
                  <a:pt x="88143" y="97665"/>
                  <a:pt x="88143" y="100315"/>
                </a:cubicBezTo>
                <a:cubicBezTo>
                  <a:pt x="88143" y="103154"/>
                  <a:pt x="91497" y="103154"/>
                  <a:pt x="91497" y="103154"/>
                </a:cubicBezTo>
                <a:cubicBezTo>
                  <a:pt x="95089" y="103154"/>
                  <a:pt x="98682" y="103154"/>
                  <a:pt x="98682" y="100315"/>
                </a:cubicBezTo>
                <a:cubicBezTo>
                  <a:pt x="98682" y="97665"/>
                  <a:pt x="95089" y="97665"/>
                  <a:pt x="91497" y="97665"/>
                </a:cubicBezTo>
                <a:close/>
                <a:moveTo>
                  <a:pt x="74011" y="80820"/>
                </a:moveTo>
                <a:lnTo>
                  <a:pt x="74011" y="80820"/>
                </a:lnTo>
                <a:cubicBezTo>
                  <a:pt x="70419" y="80820"/>
                  <a:pt x="70419" y="83659"/>
                  <a:pt x="70419" y="86498"/>
                </a:cubicBezTo>
                <a:cubicBezTo>
                  <a:pt x="70419" y="86498"/>
                  <a:pt x="70419" y="89148"/>
                  <a:pt x="74011" y="89148"/>
                </a:cubicBezTo>
                <a:cubicBezTo>
                  <a:pt x="77604" y="89148"/>
                  <a:pt x="77604" y="86498"/>
                  <a:pt x="77604" y="86498"/>
                </a:cubicBezTo>
                <a:cubicBezTo>
                  <a:pt x="77604" y="83659"/>
                  <a:pt x="77604" y="80820"/>
                  <a:pt x="74011" y="80820"/>
                </a:cubicBezTo>
                <a:close/>
                <a:moveTo>
                  <a:pt x="70419" y="97665"/>
                </a:moveTo>
                <a:lnTo>
                  <a:pt x="70419" y="97665"/>
                </a:lnTo>
                <a:cubicBezTo>
                  <a:pt x="67065" y="97665"/>
                  <a:pt x="63473" y="97665"/>
                  <a:pt x="63473" y="100315"/>
                </a:cubicBezTo>
                <a:cubicBezTo>
                  <a:pt x="63473" y="103154"/>
                  <a:pt x="67065" y="103154"/>
                  <a:pt x="70419" y="103154"/>
                </a:cubicBezTo>
                <a:cubicBezTo>
                  <a:pt x="70419" y="103154"/>
                  <a:pt x="74011" y="103154"/>
                  <a:pt x="74011" y="100315"/>
                </a:cubicBezTo>
                <a:cubicBezTo>
                  <a:pt x="74011" y="97665"/>
                  <a:pt x="70419" y="97665"/>
                  <a:pt x="70419" y="97665"/>
                </a:cubicBezTo>
                <a:close/>
                <a:moveTo>
                  <a:pt x="42395" y="89148"/>
                </a:moveTo>
                <a:lnTo>
                  <a:pt x="42395" y="89148"/>
                </a:lnTo>
                <a:cubicBezTo>
                  <a:pt x="35209" y="89148"/>
                  <a:pt x="35209" y="89148"/>
                  <a:pt x="35209" y="89148"/>
                </a:cubicBezTo>
                <a:cubicBezTo>
                  <a:pt x="35209" y="86498"/>
                  <a:pt x="35209" y="86498"/>
                  <a:pt x="35209" y="86498"/>
                </a:cubicBezTo>
                <a:cubicBezTo>
                  <a:pt x="35209" y="83659"/>
                  <a:pt x="35209" y="80820"/>
                  <a:pt x="31616" y="80820"/>
                </a:cubicBezTo>
                <a:cubicBezTo>
                  <a:pt x="28263" y="80820"/>
                  <a:pt x="28263" y="83659"/>
                  <a:pt x="28263" y="86498"/>
                </a:cubicBezTo>
                <a:cubicBezTo>
                  <a:pt x="28263" y="89148"/>
                  <a:pt x="28263" y="89148"/>
                  <a:pt x="28263" y="89148"/>
                </a:cubicBezTo>
                <a:cubicBezTo>
                  <a:pt x="21077" y="89148"/>
                  <a:pt x="21077" y="89148"/>
                  <a:pt x="21077" y="89148"/>
                </a:cubicBezTo>
                <a:lnTo>
                  <a:pt x="17485" y="91987"/>
                </a:lnTo>
                <a:cubicBezTo>
                  <a:pt x="17485" y="94826"/>
                  <a:pt x="21077" y="97665"/>
                  <a:pt x="21077" y="97665"/>
                </a:cubicBezTo>
                <a:cubicBezTo>
                  <a:pt x="28263" y="97665"/>
                  <a:pt x="28263" y="97665"/>
                  <a:pt x="28263" y="97665"/>
                </a:cubicBezTo>
                <a:cubicBezTo>
                  <a:pt x="28263" y="100315"/>
                  <a:pt x="28263" y="100315"/>
                  <a:pt x="28263" y="100315"/>
                </a:cubicBezTo>
                <a:cubicBezTo>
                  <a:pt x="28263" y="103154"/>
                  <a:pt x="28263" y="103154"/>
                  <a:pt x="31616" y="103154"/>
                </a:cubicBezTo>
                <a:cubicBezTo>
                  <a:pt x="35209" y="103154"/>
                  <a:pt x="35209" y="103154"/>
                  <a:pt x="35209" y="100315"/>
                </a:cubicBezTo>
                <a:cubicBezTo>
                  <a:pt x="35209" y="97665"/>
                  <a:pt x="35209" y="97665"/>
                  <a:pt x="35209" y="97665"/>
                </a:cubicBezTo>
                <a:cubicBezTo>
                  <a:pt x="42395" y="97665"/>
                  <a:pt x="42395" y="97665"/>
                  <a:pt x="42395" y="97665"/>
                </a:cubicBezTo>
                <a:cubicBezTo>
                  <a:pt x="42395" y="97665"/>
                  <a:pt x="45748" y="94826"/>
                  <a:pt x="45748" y="91987"/>
                </a:cubicBezTo>
                <a:lnTo>
                  <a:pt x="42395" y="89148"/>
                </a:lnTo>
                <a:close/>
                <a:moveTo>
                  <a:pt x="102275" y="0"/>
                </a:moveTo>
                <a:lnTo>
                  <a:pt x="102275" y="0"/>
                </a:lnTo>
                <a:cubicBezTo>
                  <a:pt x="17485" y="0"/>
                  <a:pt x="17485" y="0"/>
                  <a:pt x="17485" y="0"/>
                </a:cubicBezTo>
                <a:cubicBezTo>
                  <a:pt x="6946" y="0"/>
                  <a:pt x="0" y="5678"/>
                  <a:pt x="0" y="14006"/>
                </a:cubicBezTo>
                <a:cubicBezTo>
                  <a:pt x="0" y="103154"/>
                  <a:pt x="0" y="103154"/>
                  <a:pt x="0" y="103154"/>
                </a:cubicBezTo>
                <a:cubicBezTo>
                  <a:pt x="0" y="111482"/>
                  <a:pt x="6946" y="119810"/>
                  <a:pt x="17485" y="119810"/>
                </a:cubicBezTo>
                <a:cubicBezTo>
                  <a:pt x="102275" y="119810"/>
                  <a:pt x="102275" y="119810"/>
                  <a:pt x="102275" y="119810"/>
                </a:cubicBezTo>
                <a:cubicBezTo>
                  <a:pt x="112814" y="119810"/>
                  <a:pt x="119760" y="111482"/>
                  <a:pt x="119760" y="103154"/>
                </a:cubicBezTo>
                <a:cubicBezTo>
                  <a:pt x="119760" y="14006"/>
                  <a:pt x="119760" y="14006"/>
                  <a:pt x="119760" y="14006"/>
                </a:cubicBezTo>
                <a:cubicBezTo>
                  <a:pt x="119760" y="5678"/>
                  <a:pt x="112814" y="0"/>
                  <a:pt x="102275" y="0"/>
                </a:cubicBezTo>
                <a:close/>
                <a:moveTo>
                  <a:pt x="112814" y="103154"/>
                </a:moveTo>
                <a:lnTo>
                  <a:pt x="112814" y="103154"/>
                </a:lnTo>
                <a:cubicBezTo>
                  <a:pt x="112814" y="108643"/>
                  <a:pt x="105628" y="111482"/>
                  <a:pt x="102275" y="111482"/>
                </a:cubicBezTo>
                <a:cubicBezTo>
                  <a:pt x="17485" y="111482"/>
                  <a:pt x="17485" y="111482"/>
                  <a:pt x="17485" y="111482"/>
                </a:cubicBezTo>
                <a:cubicBezTo>
                  <a:pt x="14131" y="111482"/>
                  <a:pt x="6946" y="108643"/>
                  <a:pt x="6946" y="103154"/>
                </a:cubicBezTo>
                <a:cubicBezTo>
                  <a:pt x="6946" y="14006"/>
                  <a:pt x="6946" y="14006"/>
                  <a:pt x="6946" y="14006"/>
                </a:cubicBezTo>
                <a:cubicBezTo>
                  <a:pt x="6946" y="11167"/>
                  <a:pt x="14131" y="8328"/>
                  <a:pt x="17485" y="8328"/>
                </a:cubicBezTo>
                <a:cubicBezTo>
                  <a:pt x="102275" y="8328"/>
                  <a:pt x="102275" y="8328"/>
                  <a:pt x="102275" y="8328"/>
                </a:cubicBezTo>
                <a:cubicBezTo>
                  <a:pt x="105628" y="8328"/>
                  <a:pt x="112814" y="11167"/>
                  <a:pt x="112814" y="14006"/>
                </a:cubicBezTo>
                <a:lnTo>
                  <a:pt x="112814" y="103154"/>
                </a:lnTo>
                <a:close/>
                <a:moveTo>
                  <a:pt x="98682" y="80820"/>
                </a:moveTo>
                <a:lnTo>
                  <a:pt x="98682" y="80820"/>
                </a:lnTo>
                <a:cubicBezTo>
                  <a:pt x="95089" y="80820"/>
                  <a:pt x="91497" y="83659"/>
                  <a:pt x="91497" y="86498"/>
                </a:cubicBezTo>
                <a:cubicBezTo>
                  <a:pt x="91497" y="86498"/>
                  <a:pt x="95089" y="89148"/>
                  <a:pt x="98682" y="89148"/>
                </a:cubicBezTo>
                <a:lnTo>
                  <a:pt x="102275" y="86498"/>
                </a:lnTo>
                <a:cubicBezTo>
                  <a:pt x="102275" y="83659"/>
                  <a:pt x="98682" y="80820"/>
                  <a:pt x="98682" y="80820"/>
                </a:cubicBezTo>
                <a:close/>
                <a:moveTo>
                  <a:pt x="91497" y="14006"/>
                </a:moveTo>
                <a:lnTo>
                  <a:pt x="91497" y="14006"/>
                </a:lnTo>
                <a:cubicBezTo>
                  <a:pt x="28263" y="14006"/>
                  <a:pt x="28263" y="14006"/>
                  <a:pt x="28263" y="14006"/>
                </a:cubicBezTo>
                <a:cubicBezTo>
                  <a:pt x="21077" y="14006"/>
                  <a:pt x="17485" y="19495"/>
                  <a:pt x="17485" y="22334"/>
                </a:cubicBezTo>
                <a:cubicBezTo>
                  <a:pt x="17485" y="67003"/>
                  <a:pt x="17485" y="67003"/>
                  <a:pt x="17485" y="67003"/>
                </a:cubicBezTo>
                <a:cubicBezTo>
                  <a:pt x="17485" y="69652"/>
                  <a:pt x="21077" y="75331"/>
                  <a:pt x="28263" y="75331"/>
                </a:cubicBezTo>
                <a:cubicBezTo>
                  <a:pt x="91497" y="75331"/>
                  <a:pt x="91497" y="75331"/>
                  <a:pt x="91497" y="75331"/>
                </a:cubicBezTo>
                <a:cubicBezTo>
                  <a:pt x="98682" y="75331"/>
                  <a:pt x="102275" y="69652"/>
                  <a:pt x="102275" y="67003"/>
                </a:cubicBezTo>
                <a:cubicBezTo>
                  <a:pt x="102275" y="22334"/>
                  <a:pt x="102275" y="22334"/>
                  <a:pt x="102275" y="22334"/>
                </a:cubicBezTo>
                <a:cubicBezTo>
                  <a:pt x="102275" y="19495"/>
                  <a:pt x="98682" y="14006"/>
                  <a:pt x="91497" y="14006"/>
                </a:cubicBezTo>
                <a:close/>
                <a:moveTo>
                  <a:pt x="91497" y="64164"/>
                </a:moveTo>
                <a:lnTo>
                  <a:pt x="91497" y="64164"/>
                </a:lnTo>
                <a:cubicBezTo>
                  <a:pt x="91497" y="64164"/>
                  <a:pt x="91497" y="67003"/>
                  <a:pt x="88143" y="67003"/>
                </a:cubicBezTo>
                <a:cubicBezTo>
                  <a:pt x="31616" y="67003"/>
                  <a:pt x="31616" y="67003"/>
                  <a:pt x="31616" y="67003"/>
                </a:cubicBezTo>
                <a:cubicBezTo>
                  <a:pt x="28263" y="67003"/>
                  <a:pt x="28263" y="64164"/>
                  <a:pt x="28263" y="64164"/>
                </a:cubicBezTo>
                <a:cubicBezTo>
                  <a:pt x="28263" y="25173"/>
                  <a:pt x="28263" y="25173"/>
                  <a:pt x="28263" y="25173"/>
                </a:cubicBezTo>
                <a:cubicBezTo>
                  <a:pt x="28263" y="25173"/>
                  <a:pt x="28263" y="22334"/>
                  <a:pt x="31616" y="22334"/>
                </a:cubicBezTo>
                <a:cubicBezTo>
                  <a:pt x="88143" y="22334"/>
                  <a:pt x="88143" y="22334"/>
                  <a:pt x="88143" y="22334"/>
                </a:cubicBezTo>
                <a:cubicBezTo>
                  <a:pt x="91497" y="22334"/>
                  <a:pt x="91497" y="25173"/>
                  <a:pt x="91497" y="25173"/>
                </a:cubicBezTo>
                <a:lnTo>
                  <a:pt x="91497" y="64164"/>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728"/>
          <p:cNvSpPr/>
          <p:nvPr/>
        </p:nvSpPr>
        <p:spPr>
          <a:xfrm>
            <a:off x="3468600" y="1701720"/>
            <a:ext cx="304920" cy="206280"/>
          </a:xfrm>
          <a:custGeom>
            <a:avLst/>
            <a:gdLst>
              <a:gd name="textAreaLeft" fmla="*/ 0 w 304920"/>
              <a:gd name="textAreaRight" fmla="*/ 305280 w 304920"/>
              <a:gd name="textAreaTop" fmla="*/ 0 h 206280"/>
              <a:gd name="textAreaBottom" fmla="*/ 206640 h 206280"/>
            </a:gdLst>
            <a:ahLst/>
            <a:rect l="textAreaLeft" t="textAreaTop" r="textAreaRight" b="textAreaBottom"/>
            <a:pathLst>
              <a:path w="120000" h="120000">
                <a:moveTo>
                  <a:pt x="19495" y="74299"/>
                </a:moveTo>
                <a:lnTo>
                  <a:pt x="19495" y="74299"/>
                </a:lnTo>
                <a:cubicBezTo>
                  <a:pt x="16656" y="74299"/>
                  <a:pt x="13817" y="78504"/>
                  <a:pt x="13817" y="82710"/>
                </a:cubicBezTo>
                <a:cubicBezTo>
                  <a:pt x="13817" y="82710"/>
                  <a:pt x="16656" y="86635"/>
                  <a:pt x="19495" y="86635"/>
                </a:cubicBezTo>
                <a:lnTo>
                  <a:pt x="22145" y="82710"/>
                </a:lnTo>
                <a:cubicBezTo>
                  <a:pt x="22145" y="78504"/>
                  <a:pt x="19495" y="74299"/>
                  <a:pt x="19495" y="74299"/>
                </a:cubicBezTo>
                <a:close/>
                <a:moveTo>
                  <a:pt x="86309" y="20747"/>
                </a:moveTo>
                <a:lnTo>
                  <a:pt x="86309" y="20747"/>
                </a:lnTo>
                <a:cubicBezTo>
                  <a:pt x="33312" y="20747"/>
                  <a:pt x="33312" y="20747"/>
                  <a:pt x="33312" y="20747"/>
                </a:cubicBezTo>
                <a:cubicBezTo>
                  <a:pt x="30662" y="20747"/>
                  <a:pt x="30662" y="24672"/>
                  <a:pt x="30662" y="24672"/>
                </a:cubicBezTo>
                <a:cubicBezTo>
                  <a:pt x="30662" y="90841"/>
                  <a:pt x="30662" y="90841"/>
                  <a:pt x="30662" y="90841"/>
                </a:cubicBezTo>
                <a:cubicBezTo>
                  <a:pt x="30662" y="95046"/>
                  <a:pt x="30662" y="99252"/>
                  <a:pt x="33312" y="99252"/>
                </a:cubicBezTo>
                <a:cubicBezTo>
                  <a:pt x="86309" y="99252"/>
                  <a:pt x="86309" y="99252"/>
                  <a:pt x="86309" y="99252"/>
                </a:cubicBezTo>
                <a:cubicBezTo>
                  <a:pt x="86309" y="99252"/>
                  <a:pt x="89148" y="95046"/>
                  <a:pt x="89148" y="90841"/>
                </a:cubicBezTo>
                <a:cubicBezTo>
                  <a:pt x="89148" y="24672"/>
                  <a:pt x="89148" y="24672"/>
                  <a:pt x="89148" y="24672"/>
                </a:cubicBezTo>
                <a:lnTo>
                  <a:pt x="86309" y="20747"/>
                </a:lnTo>
                <a:close/>
                <a:moveTo>
                  <a:pt x="80630" y="82710"/>
                </a:moveTo>
                <a:lnTo>
                  <a:pt x="80630" y="82710"/>
                </a:lnTo>
                <a:cubicBezTo>
                  <a:pt x="80630" y="82710"/>
                  <a:pt x="80630" y="86635"/>
                  <a:pt x="77981" y="86635"/>
                </a:cubicBezTo>
                <a:cubicBezTo>
                  <a:pt x="41829" y="86635"/>
                  <a:pt x="41829" y="86635"/>
                  <a:pt x="41829" y="86635"/>
                </a:cubicBezTo>
                <a:cubicBezTo>
                  <a:pt x="38990" y="86635"/>
                  <a:pt x="36151" y="82710"/>
                  <a:pt x="36151" y="82710"/>
                </a:cubicBezTo>
                <a:cubicBezTo>
                  <a:pt x="36151" y="37289"/>
                  <a:pt x="36151" y="37289"/>
                  <a:pt x="36151" y="37289"/>
                </a:cubicBezTo>
                <a:cubicBezTo>
                  <a:pt x="36151" y="33084"/>
                  <a:pt x="38990" y="33084"/>
                  <a:pt x="41829" y="33084"/>
                </a:cubicBezTo>
                <a:cubicBezTo>
                  <a:pt x="77981" y="33084"/>
                  <a:pt x="77981" y="33084"/>
                  <a:pt x="77981" y="33084"/>
                </a:cubicBezTo>
                <a:cubicBezTo>
                  <a:pt x="80630" y="33084"/>
                  <a:pt x="80630" y="33084"/>
                  <a:pt x="80630" y="37289"/>
                </a:cubicBezTo>
                <a:lnTo>
                  <a:pt x="80630" y="82710"/>
                </a:lnTo>
                <a:close/>
                <a:moveTo>
                  <a:pt x="19495" y="53831"/>
                </a:moveTo>
                <a:lnTo>
                  <a:pt x="19495" y="53831"/>
                </a:lnTo>
                <a:cubicBezTo>
                  <a:pt x="16656" y="53831"/>
                  <a:pt x="13817" y="57757"/>
                  <a:pt x="13817" y="57757"/>
                </a:cubicBezTo>
                <a:cubicBezTo>
                  <a:pt x="13817" y="61962"/>
                  <a:pt x="16656" y="66168"/>
                  <a:pt x="19495" y="66168"/>
                </a:cubicBezTo>
                <a:cubicBezTo>
                  <a:pt x="19495" y="66168"/>
                  <a:pt x="22145" y="61962"/>
                  <a:pt x="22145" y="57757"/>
                </a:cubicBezTo>
                <a:lnTo>
                  <a:pt x="19495" y="53831"/>
                </a:lnTo>
                <a:close/>
                <a:moveTo>
                  <a:pt x="102965" y="0"/>
                </a:moveTo>
                <a:lnTo>
                  <a:pt x="102965" y="0"/>
                </a:lnTo>
                <a:cubicBezTo>
                  <a:pt x="13817" y="0"/>
                  <a:pt x="13817" y="0"/>
                  <a:pt x="13817" y="0"/>
                </a:cubicBezTo>
                <a:cubicBezTo>
                  <a:pt x="5488" y="0"/>
                  <a:pt x="0" y="8411"/>
                  <a:pt x="0" y="20747"/>
                </a:cubicBezTo>
                <a:cubicBezTo>
                  <a:pt x="0" y="99252"/>
                  <a:pt x="0" y="99252"/>
                  <a:pt x="0" y="99252"/>
                </a:cubicBezTo>
                <a:cubicBezTo>
                  <a:pt x="0" y="111588"/>
                  <a:pt x="5488" y="119719"/>
                  <a:pt x="13817" y="119719"/>
                </a:cubicBezTo>
                <a:cubicBezTo>
                  <a:pt x="102965" y="119719"/>
                  <a:pt x="102965" y="119719"/>
                  <a:pt x="102965" y="119719"/>
                </a:cubicBezTo>
                <a:cubicBezTo>
                  <a:pt x="111293" y="119719"/>
                  <a:pt x="119810" y="111588"/>
                  <a:pt x="119810" y="99252"/>
                </a:cubicBezTo>
                <a:cubicBezTo>
                  <a:pt x="119810" y="20747"/>
                  <a:pt x="119810" y="20747"/>
                  <a:pt x="119810" y="20747"/>
                </a:cubicBezTo>
                <a:cubicBezTo>
                  <a:pt x="119810" y="8411"/>
                  <a:pt x="111293" y="0"/>
                  <a:pt x="102965" y="0"/>
                </a:cubicBezTo>
                <a:close/>
                <a:moveTo>
                  <a:pt x="111293" y="99252"/>
                </a:moveTo>
                <a:lnTo>
                  <a:pt x="111293" y="99252"/>
                </a:lnTo>
                <a:cubicBezTo>
                  <a:pt x="111293" y="103177"/>
                  <a:pt x="108643" y="107383"/>
                  <a:pt x="102965" y="107383"/>
                </a:cubicBezTo>
                <a:cubicBezTo>
                  <a:pt x="13817" y="107383"/>
                  <a:pt x="13817" y="107383"/>
                  <a:pt x="13817" y="107383"/>
                </a:cubicBezTo>
                <a:cubicBezTo>
                  <a:pt x="10977" y="107383"/>
                  <a:pt x="8328" y="103177"/>
                  <a:pt x="8328" y="99252"/>
                </a:cubicBezTo>
                <a:cubicBezTo>
                  <a:pt x="8328" y="20747"/>
                  <a:pt x="8328" y="20747"/>
                  <a:pt x="8328" y="20747"/>
                </a:cubicBezTo>
                <a:cubicBezTo>
                  <a:pt x="8328" y="16542"/>
                  <a:pt x="10977" y="8411"/>
                  <a:pt x="13817" y="8411"/>
                </a:cubicBezTo>
                <a:cubicBezTo>
                  <a:pt x="102965" y="8411"/>
                  <a:pt x="102965" y="8411"/>
                  <a:pt x="102965" y="8411"/>
                </a:cubicBezTo>
                <a:cubicBezTo>
                  <a:pt x="108643" y="8411"/>
                  <a:pt x="111293" y="16542"/>
                  <a:pt x="111293" y="20747"/>
                </a:cubicBezTo>
                <a:lnTo>
                  <a:pt x="111293" y="99252"/>
                </a:lnTo>
                <a:close/>
                <a:moveTo>
                  <a:pt x="100315" y="53831"/>
                </a:moveTo>
                <a:lnTo>
                  <a:pt x="100315" y="53831"/>
                </a:lnTo>
                <a:cubicBezTo>
                  <a:pt x="97476" y="53831"/>
                  <a:pt x="97476" y="57757"/>
                  <a:pt x="97476" y="57757"/>
                </a:cubicBezTo>
                <a:cubicBezTo>
                  <a:pt x="97476" y="61962"/>
                  <a:pt x="97476" y="66168"/>
                  <a:pt x="100315" y="66168"/>
                </a:cubicBezTo>
                <a:cubicBezTo>
                  <a:pt x="102965" y="66168"/>
                  <a:pt x="102965" y="61962"/>
                  <a:pt x="102965" y="57757"/>
                </a:cubicBezTo>
                <a:cubicBezTo>
                  <a:pt x="102965" y="57757"/>
                  <a:pt x="102965" y="53831"/>
                  <a:pt x="100315" y="53831"/>
                </a:cubicBezTo>
                <a:close/>
                <a:moveTo>
                  <a:pt x="100315" y="74299"/>
                </a:moveTo>
                <a:lnTo>
                  <a:pt x="100315" y="74299"/>
                </a:lnTo>
                <a:cubicBezTo>
                  <a:pt x="97476" y="74299"/>
                  <a:pt x="97476" y="78504"/>
                  <a:pt x="97476" y="82710"/>
                </a:cubicBezTo>
                <a:cubicBezTo>
                  <a:pt x="97476" y="82710"/>
                  <a:pt x="97476" y="86635"/>
                  <a:pt x="100315" y="86635"/>
                </a:cubicBezTo>
                <a:cubicBezTo>
                  <a:pt x="102965" y="86635"/>
                  <a:pt x="102965" y="82710"/>
                  <a:pt x="102965" y="82710"/>
                </a:cubicBezTo>
                <a:cubicBezTo>
                  <a:pt x="102965" y="78504"/>
                  <a:pt x="102965" y="74299"/>
                  <a:pt x="100315" y="74299"/>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730"/>
          <p:cNvSpPr/>
          <p:nvPr/>
        </p:nvSpPr>
        <p:spPr>
          <a:xfrm>
            <a:off x="2563920" y="1652760"/>
            <a:ext cx="135000" cy="306360"/>
          </a:xfrm>
          <a:custGeom>
            <a:avLst/>
            <a:gdLst>
              <a:gd name="textAreaLeft" fmla="*/ 0 w 135000"/>
              <a:gd name="textAreaRight" fmla="*/ 135360 w 135000"/>
              <a:gd name="textAreaTop" fmla="*/ 0 h 306360"/>
              <a:gd name="textAreaBottom" fmla="*/ 306720 h 306360"/>
            </a:gdLst>
            <a:ahLst/>
            <a:rect l="textAreaLeft" t="textAreaTop" r="textAreaRight" b="textAreaBottom"/>
            <a:pathLst>
              <a:path w="120000" h="120000">
                <a:moveTo>
                  <a:pt x="119572" y="30662"/>
                </a:moveTo>
                <a:lnTo>
                  <a:pt x="119572" y="30662"/>
                </a:lnTo>
                <a:cubicBezTo>
                  <a:pt x="119572" y="14006"/>
                  <a:pt x="88398" y="0"/>
                  <a:pt x="56797" y="0"/>
                </a:cubicBezTo>
                <a:cubicBezTo>
                  <a:pt x="25195" y="0"/>
                  <a:pt x="0" y="14006"/>
                  <a:pt x="0" y="30662"/>
                </a:cubicBezTo>
                <a:cubicBezTo>
                  <a:pt x="0" y="44668"/>
                  <a:pt x="19217" y="55835"/>
                  <a:pt x="50391" y="58485"/>
                </a:cubicBezTo>
                <a:cubicBezTo>
                  <a:pt x="50391" y="114321"/>
                  <a:pt x="50391" y="114321"/>
                  <a:pt x="50391" y="114321"/>
                </a:cubicBezTo>
                <a:cubicBezTo>
                  <a:pt x="50391" y="117160"/>
                  <a:pt x="56797" y="119810"/>
                  <a:pt x="56797" y="119810"/>
                </a:cubicBezTo>
                <a:cubicBezTo>
                  <a:pt x="63202" y="119810"/>
                  <a:pt x="69181" y="117160"/>
                  <a:pt x="69181" y="114321"/>
                </a:cubicBezTo>
                <a:cubicBezTo>
                  <a:pt x="69181" y="58485"/>
                  <a:pt x="69181" y="58485"/>
                  <a:pt x="69181" y="58485"/>
                </a:cubicBezTo>
                <a:cubicBezTo>
                  <a:pt x="94377" y="55835"/>
                  <a:pt x="119572" y="44668"/>
                  <a:pt x="119572" y="30662"/>
                </a:cubicBezTo>
                <a:close/>
                <a:moveTo>
                  <a:pt x="56797" y="52996"/>
                </a:moveTo>
                <a:lnTo>
                  <a:pt x="56797" y="52996"/>
                </a:lnTo>
                <a:cubicBezTo>
                  <a:pt x="38007" y="52996"/>
                  <a:pt x="19217" y="41829"/>
                  <a:pt x="19217" y="30662"/>
                </a:cubicBezTo>
                <a:cubicBezTo>
                  <a:pt x="19217" y="16845"/>
                  <a:pt x="38007" y="8328"/>
                  <a:pt x="56797" y="8328"/>
                </a:cubicBezTo>
                <a:cubicBezTo>
                  <a:pt x="81992" y="8328"/>
                  <a:pt x="100782" y="16845"/>
                  <a:pt x="100782" y="30662"/>
                </a:cubicBezTo>
                <a:cubicBezTo>
                  <a:pt x="100782" y="41829"/>
                  <a:pt x="81992" y="52996"/>
                  <a:pt x="56797" y="52996"/>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732"/>
          <p:cNvSpPr/>
          <p:nvPr/>
        </p:nvSpPr>
        <p:spPr>
          <a:xfrm>
            <a:off x="1608120" y="1652760"/>
            <a:ext cx="100080" cy="306360"/>
          </a:xfrm>
          <a:custGeom>
            <a:avLst/>
            <a:gdLst>
              <a:gd name="textAreaLeft" fmla="*/ 0 w 100080"/>
              <a:gd name="textAreaRight" fmla="*/ 100440 w 100080"/>
              <a:gd name="textAreaTop" fmla="*/ 0 h 306360"/>
              <a:gd name="textAreaBottom" fmla="*/ 306720 h 306360"/>
            </a:gdLst>
            <a:ahLst/>
            <a:rect l="textAreaLeft" t="textAreaTop" r="textAreaRight" b="textAreaBottom"/>
            <a:pathLst>
              <a:path w="120000" h="120000">
                <a:moveTo>
                  <a:pt x="102028" y="0"/>
                </a:moveTo>
                <a:lnTo>
                  <a:pt x="102028" y="0"/>
                </a:lnTo>
                <a:lnTo>
                  <a:pt x="93913" y="2839"/>
                </a:lnTo>
                <a:cubicBezTo>
                  <a:pt x="93913" y="30662"/>
                  <a:pt x="93913" y="30662"/>
                  <a:pt x="93913" y="30662"/>
                </a:cubicBezTo>
                <a:cubicBezTo>
                  <a:pt x="93913" y="36151"/>
                  <a:pt x="85217" y="39179"/>
                  <a:pt x="68405" y="39179"/>
                </a:cubicBezTo>
                <a:cubicBezTo>
                  <a:pt x="68405" y="2839"/>
                  <a:pt x="68405" y="2839"/>
                  <a:pt x="68405" y="2839"/>
                </a:cubicBezTo>
                <a:cubicBezTo>
                  <a:pt x="68405" y="2839"/>
                  <a:pt x="68405" y="0"/>
                  <a:pt x="59710" y="0"/>
                </a:cubicBezTo>
                <a:cubicBezTo>
                  <a:pt x="51014" y="0"/>
                  <a:pt x="51014" y="2839"/>
                  <a:pt x="51014" y="2839"/>
                </a:cubicBezTo>
                <a:cubicBezTo>
                  <a:pt x="51014" y="39179"/>
                  <a:pt x="51014" y="39179"/>
                  <a:pt x="51014" y="39179"/>
                </a:cubicBezTo>
                <a:cubicBezTo>
                  <a:pt x="34202" y="39179"/>
                  <a:pt x="25507" y="36151"/>
                  <a:pt x="25507" y="30662"/>
                </a:cubicBezTo>
                <a:cubicBezTo>
                  <a:pt x="25507" y="2839"/>
                  <a:pt x="25507" y="2839"/>
                  <a:pt x="25507" y="2839"/>
                </a:cubicBezTo>
                <a:lnTo>
                  <a:pt x="16811" y="0"/>
                </a:lnTo>
                <a:cubicBezTo>
                  <a:pt x="8695" y="0"/>
                  <a:pt x="0" y="2839"/>
                  <a:pt x="0" y="2839"/>
                </a:cubicBezTo>
                <a:cubicBezTo>
                  <a:pt x="0" y="30662"/>
                  <a:pt x="0" y="30662"/>
                  <a:pt x="0" y="30662"/>
                </a:cubicBezTo>
                <a:cubicBezTo>
                  <a:pt x="0" y="39179"/>
                  <a:pt x="25507" y="47318"/>
                  <a:pt x="51014" y="47318"/>
                </a:cubicBezTo>
                <a:cubicBezTo>
                  <a:pt x="51014" y="114321"/>
                  <a:pt x="51014" y="114321"/>
                  <a:pt x="51014" y="114321"/>
                </a:cubicBezTo>
                <a:cubicBezTo>
                  <a:pt x="51014" y="117160"/>
                  <a:pt x="51014" y="119810"/>
                  <a:pt x="59710" y="119810"/>
                </a:cubicBezTo>
                <a:cubicBezTo>
                  <a:pt x="68405" y="119810"/>
                  <a:pt x="68405" y="117160"/>
                  <a:pt x="68405" y="114321"/>
                </a:cubicBezTo>
                <a:cubicBezTo>
                  <a:pt x="68405" y="47318"/>
                  <a:pt x="68405" y="47318"/>
                  <a:pt x="68405" y="47318"/>
                </a:cubicBezTo>
                <a:cubicBezTo>
                  <a:pt x="93913" y="47318"/>
                  <a:pt x="119420" y="39179"/>
                  <a:pt x="119420" y="30662"/>
                </a:cubicBezTo>
                <a:cubicBezTo>
                  <a:pt x="119420" y="2839"/>
                  <a:pt x="119420" y="2839"/>
                  <a:pt x="119420" y="2839"/>
                </a:cubicBezTo>
                <a:cubicBezTo>
                  <a:pt x="119420" y="2839"/>
                  <a:pt x="110724" y="0"/>
                  <a:pt x="102028" y="0"/>
                </a:cubicBezTo>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734"/>
          <p:cNvSpPr/>
          <p:nvPr/>
        </p:nvSpPr>
        <p:spPr>
          <a:xfrm>
            <a:off x="5450040" y="1179360"/>
            <a:ext cx="253800" cy="270000"/>
          </a:xfrm>
          <a:custGeom>
            <a:avLst/>
            <a:gdLst>
              <a:gd name="textAreaLeft" fmla="*/ 0 w 253800"/>
              <a:gd name="textAreaRight" fmla="*/ 254160 w 253800"/>
              <a:gd name="textAreaTop" fmla="*/ 0 h 270000"/>
              <a:gd name="textAreaBottom" fmla="*/ 270360 h 270000"/>
            </a:gdLst>
            <a:ahLst/>
            <a:rect l="textAreaLeft" t="textAreaTop" r="textAreaRight" b="textAreaBottom"/>
            <a:pathLst>
              <a:path w="120000" h="120000">
                <a:moveTo>
                  <a:pt x="119774" y="9428"/>
                </a:moveTo>
                <a:lnTo>
                  <a:pt x="119774" y="9428"/>
                </a:lnTo>
                <a:cubicBezTo>
                  <a:pt x="119774" y="6214"/>
                  <a:pt x="119774" y="6214"/>
                  <a:pt x="119774" y="6214"/>
                </a:cubicBezTo>
                <a:cubicBezTo>
                  <a:pt x="119774" y="3214"/>
                  <a:pt x="119774" y="3214"/>
                  <a:pt x="116384" y="0"/>
                </a:cubicBezTo>
                <a:cubicBezTo>
                  <a:pt x="3163" y="0"/>
                  <a:pt x="3163" y="0"/>
                  <a:pt x="3163" y="0"/>
                </a:cubicBezTo>
                <a:cubicBezTo>
                  <a:pt x="3163" y="0"/>
                  <a:pt x="3163" y="0"/>
                  <a:pt x="0" y="3214"/>
                </a:cubicBezTo>
                <a:cubicBezTo>
                  <a:pt x="0" y="3214"/>
                  <a:pt x="0" y="6214"/>
                  <a:pt x="0" y="9428"/>
                </a:cubicBezTo>
                <a:cubicBezTo>
                  <a:pt x="56497" y="72428"/>
                  <a:pt x="56497" y="72428"/>
                  <a:pt x="56497" y="72428"/>
                </a:cubicBezTo>
                <a:cubicBezTo>
                  <a:pt x="56497" y="110357"/>
                  <a:pt x="56497" y="110357"/>
                  <a:pt x="56497" y="110357"/>
                </a:cubicBezTo>
                <a:cubicBezTo>
                  <a:pt x="39774" y="110357"/>
                  <a:pt x="39774" y="110357"/>
                  <a:pt x="39774" y="110357"/>
                </a:cubicBezTo>
                <a:cubicBezTo>
                  <a:pt x="36610" y="110357"/>
                  <a:pt x="36610" y="113571"/>
                  <a:pt x="36610" y="113571"/>
                </a:cubicBezTo>
                <a:cubicBezTo>
                  <a:pt x="36610" y="116785"/>
                  <a:pt x="36610" y="119785"/>
                  <a:pt x="39774" y="119785"/>
                </a:cubicBezTo>
                <a:cubicBezTo>
                  <a:pt x="82937" y="119785"/>
                  <a:pt x="82937" y="119785"/>
                  <a:pt x="82937" y="119785"/>
                </a:cubicBezTo>
                <a:cubicBezTo>
                  <a:pt x="86553" y="119785"/>
                  <a:pt x="89717" y="116785"/>
                  <a:pt x="89717" y="113571"/>
                </a:cubicBezTo>
                <a:cubicBezTo>
                  <a:pt x="89717" y="113571"/>
                  <a:pt x="86553" y="110357"/>
                  <a:pt x="82937" y="110357"/>
                </a:cubicBezTo>
                <a:cubicBezTo>
                  <a:pt x="66440" y="110357"/>
                  <a:pt x="66440" y="110357"/>
                  <a:pt x="66440" y="110357"/>
                </a:cubicBezTo>
                <a:cubicBezTo>
                  <a:pt x="66440" y="72428"/>
                  <a:pt x="66440" y="72428"/>
                  <a:pt x="66440" y="72428"/>
                </a:cubicBezTo>
                <a:lnTo>
                  <a:pt x="119774" y="9428"/>
                </a:lnTo>
                <a:close/>
                <a:moveTo>
                  <a:pt x="63050" y="63000"/>
                </a:moveTo>
                <a:lnTo>
                  <a:pt x="63050" y="63000"/>
                </a:lnTo>
                <a:cubicBezTo>
                  <a:pt x="13107" y="9428"/>
                  <a:pt x="13107" y="9428"/>
                  <a:pt x="13107" y="9428"/>
                </a:cubicBezTo>
                <a:cubicBezTo>
                  <a:pt x="106440" y="9428"/>
                  <a:pt x="106440" y="9428"/>
                  <a:pt x="106440" y="9428"/>
                </a:cubicBezTo>
                <a:lnTo>
                  <a:pt x="63050" y="63000"/>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736"/>
          <p:cNvSpPr/>
          <p:nvPr/>
        </p:nvSpPr>
        <p:spPr>
          <a:xfrm>
            <a:off x="4479840" y="1165320"/>
            <a:ext cx="241560" cy="296640"/>
          </a:xfrm>
          <a:custGeom>
            <a:avLst/>
            <a:gdLst>
              <a:gd name="textAreaLeft" fmla="*/ 0 w 241560"/>
              <a:gd name="textAreaRight" fmla="*/ 241920 w 241560"/>
              <a:gd name="textAreaTop" fmla="*/ 0 h 296640"/>
              <a:gd name="textAreaBottom" fmla="*/ 297000 h 296640"/>
            </a:gdLst>
            <a:ahLst/>
            <a:rect l="textAreaLeft" t="textAreaTop" r="textAreaRight" b="textAreaBottom"/>
            <a:pathLst>
              <a:path w="120000" h="120000">
                <a:moveTo>
                  <a:pt x="105628" y="25589"/>
                </a:moveTo>
                <a:lnTo>
                  <a:pt x="105628" y="25589"/>
                </a:lnTo>
                <a:cubicBezTo>
                  <a:pt x="84550" y="31405"/>
                  <a:pt x="81197" y="42649"/>
                  <a:pt x="84550" y="51179"/>
                </a:cubicBezTo>
                <a:cubicBezTo>
                  <a:pt x="67065" y="37027"/>
                  <a:pt x="70419" y="22681"/>
                  <a:pt x="70419" y="0"/>
                </a:cubicBezTo>
                <a:cubicBezTo>
                  <a:pt x="21077" y="14151"/>
                  <a:pt x="31616" y="54087"/>
                  <a:pt x="31616" y="68432"/>
                </a:cubicBezTo>
                <a:cubicBezTo>
                  <a:pt x="21077" y="59903"/>
                  <a:pt x="17485" y="39741"/>
                  <a:pt x="17485" y="39741"/>
                </a:cubicBezTo>
                <a:cubicBezTo>
                  <a:pt x="3353" y="45557"/>
                  <a:pt x="0" y="59903"/>
                  <a:pt x="0" y="71147"/>
                </a:cubicBezTo>
                <a:cubicBezTo>
                  <a:pt x="0" y="99838"/>
                  <a:pt x="24670" y="119806"/>
                  <a:pt x="59880" y="119806"/>
                </a:cubicBezTo>
                <a:cubicBezTo>
                  <a:pt x="95089" y="119806"/>
                  <a:pt x="119760" y="99838"/>
                  <a:pt x="119760" y="71147"/>
                </a:cubicBezTo>
                <a:cubicBezTo>
                  <a:pt x="119760" y="54087"/>
                  <a:pt x="105628" y="48465"/>
                  <a:pt x="105628" y="25589"/>
                </a:cubicBezTo>
                <a:close/>
                <a:moveTo>
                  <a:pt x="63473" y="113990"/>
                </a:moveTo>
                <a:lnTo>
                  <a:pt x="63473" y="113990"/>
                </a:lnTo>
                <a:cubicBezTo>
                  <a:pt x="31616" y="113990"/>
                  <a:pt x="6946" y="94022"/>
                  <a:pt x="6946" y="68432"/>
                </a:cubicBezTo>
                <a:cubicBezTo>
                  <a:pt x="6946" y="65525"/>
                  <a:pt x="6946" y="59903"/>
                  <a:pt x="14131" y="56995"/>
                </a:cubicBezTo>
                <a:cubicBezTo>
                  <a:pt x="14131" y="59903"/>
                  <a:pt x="21077" y="79870"/>
                  <a:pt x="42395" y="76962"/>
                </a:cubicBezTo>
                <a:cubicBezTo>
                  <a:pt x="42395" y="62617"/>
                  <a:pt x="35209" y="22681"/>
                  <a:pt x="59880" y="11243"/>
                </a:cubicBezTo>
                <a:cubicBezTo>
                  <a:pt x="59880" y="31405"/>
                  <a:pt x="63473" y="59903"/>
                  <a:pt x="91497" y="62617"/>
                </a:cubicBezTo>
                <a:cubicBezTo>
                  <a:pt x="91497" y="54087"/>
                  <a:pt x="91497" y="42649"/>
                  <a:pt x="98682" y="39741"/>
                </a:cubicBezTo>
                <a:cubicBezTo>
                  <a:pt x="98682" y="51179"/>
                  <a:pt x="112814" y="59903"/>
                  <a:pt x="112814" y="71147"/>
                </a:cubicBezTo>
                <a:cubicBezTo>
                  <a:pt x="112814" y="94022"/>
                  <a:pt x="84550" y="113990"/>
                  <a:pt x="63473" y="11399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738"/>
          <p:cNvSpPr/>
          <p:nvPr/>
        </p:nvSpPr>
        <p:spPr>
          <a:xfrm>
            <a:off x="346860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740"/>
          <p:cNvSpPr/>
          <p:nvPr/>
        </p:nvSpPr>
        <p:spPr>
          <a:xfrm>
            <a:off x="2484360" y="1165320"/>
            <a:ext cx="304920" cy="296640"/>
          </a:xfrm>
          <a:custGeom>
            <a:avLst/>
            <a:gdLst>
              <a:gd name="textAreaLeft" fmla="*/ 0 w 304920"/>
              <a:gd name="textAreaRight" fmla="*/ 305280 w 304920"/>
              <a:gd name="textAreaTop" fmla="*/ 0 h 296640"/>
              <a:gd name="textAreaBottom" fmla="*/ 297000 h 296640"/>
            </a:gdLst>
            <a:ahLst/>
            <a:rect l="textAreaLeft" t="textAreaTop" r="textAreaRight" b="textAreaBottom"/>
            <a:pathLst>
              <a:path w="120000" h="120000">
                <a:moveTo>
                  <a:pt x="33501" y="37027"/>
                </a:moveTo>
                <a:lnTo>
                  <a:pt x="33501" y="37027"/>
                </a:lnTo>
                <a:lnTo>
                  <a:pt x="30662" y="39741"/>
                </a:lnTo>
                <a:cubicBezTo>
                  <a:pt x="30662" y="79870"/>
                  <a:pt x="30662" y="79870"/>
                  <a:pt x="30662" y="79870"/>
                </a:cubicBezTo>
                <a:lnTo>
                  <a:pt x="33501" y="82584"/>
                </a:lnTo>
                <a:cubicBezTo>
                  <a:pt x="36340" y="82584"/>
                  <a:pt x="39179" y="79870"/>
                  <a:pt x="39179" y="79870"/>
                </a:cubicBezTo>
                <a:cubicBezTo>
                  <a:pt x="39179" y="39741"/>
                  <a:pt x="39179" y="39741"/>
                  <a:pt x="39179" y="39741"/>
                </a:cubicBezTo>
                <a:cubicBezTo>
                  <a:pt x="39179" y="39741"/>
                  <a:pt x="36340" y="37027"/>
                  <a:pt x="33501" y="37027"/>
                </a:cubicBezTo>
                <a:close/>
                <a:moveTo>
                  <a:pt x="64164" y="48465"/>
                </a:moveTo>
                <a:lnTo>
                  <a:pt x="64164" y="48465"/>
                </a:lnTo>
                <a:cubicBezTo>
                  <a:pt x="61324" y="48465"/>
                  <a:pt x="61324" y="51179"/>
                  <a:pt x="61324" y="51179"/>
                </a:cubicBezTo>
                <a:cubicBezTo>
                  <a:pt x="61324" y="74054"/>
                  <a:pt x="61324" y="74054"/>
                  <a:pt x="61324" y="74054"/>
                </a:cubicBezTo>
                <a:cubicBezTo>
                  <a:pt x="61324" y="76962"/>
                  <a:pt x="61324" y="79870"/>
                  <a:pt x="64164" y="79870"/>
                </a:cubicBezTo>
                <a:cubicBezTo>
                  <a:pt x="67003" y="79870"/>
                  <a:pt x="67003" y="76962"/>
                  <a:pt x="67003" y="74054"/>
                </a:cubicBezTo>
                <a:cubicBezTo>
                  <a:pt x="67003" y="51179"/>
                  <a:pt x="67003" y="51179"/>
                  <a:pt x="67003" y="51179"/>
                </a:cubicBezTo>
                <a:cubicBezTo>
                  <a:pt x="67003" y="51179"/>
                  <a:pt x="67003" y="48465"/>
                  <a:pt x="64164" y="48465"/>
                </a:cubicBezTo>
                <a:close/>
                <a:moveTo>
                  <a:pt x="89148" y="0"/>
                </a:moveTo>
                <a:lnTo>
                  <a:pt x="89148" y="0"/>
                </a:lnTo>
                <a:cubicBezTo>
                  <a:pt x="61324" y="22681"/>
                  <a:pt x="61324" y="22681"/>
                  <a:pt x="61324" y="22681"/>
                </a:cubicBezTo>
                <a:cubicBezTo>
                  <a:pt x="30662" y="11243"/>
                  <a:pt x="30662" y="11243"/>
                  <a:pt x="30662" y="11243"/>
                </a:cubicBezTo>
                <a:cubicBezTo>
                  <a:pt x="0" y="28497"/>
                  <a:pt x="0" y="28497"/>
                  <a:pt x="0" y="28497"/>
                </a:cubicBezTo>
                <a:cubicBezTo>
                  <a:pt x="0" y="119806"/>
                  <a:pt x="0" y="119806"/>
                  <a:pt x="0" y="119806"/>
                </a:cubicBezTo>
                <a:cubicBezTo>
                  <a:pt x="30662" y="102746"/>
                  <a:pt x="30662" y="102746"/>
                  <a:pt x="30662" y="102746"/>
                </a:cubicBezTo>
                <a:cubicBezTo>
                  <a:pt x="61324" y="113990"/>
                  <a:pt x="61324" y="113990"/>
                  <a:pt x="61324" y="113990"/>
                </a:cubicBezTo>
                <a:cubicBezTo>
                  <a:pt x="89148" y="91308"/>
                  <a:pt x="89148" y="91308"/>
                  <a:pt x="89148" y="91308"/>
                </a:cubicBezTo>
                <a:cubicBezTo>
                  <a:pt x="119810" y="113990"/>
                  <a:pt x="119810" y="113990"/>
                  <a:pt x="119810" y="113990"/>
                </a:cubicBezTo>
                <a:cubicBezTo>
                  <a:pt x="119810" y="22681"/>
                  <a:pt x="119810" y="22681"/>
                  <a:pt x="119810" y="22681"/>
                </a:cubicBezTo>
                <a:lnTo>
                  <a:pt x="89148" y="0"/>
                </a:lnTo>
                <a:close/>
                <a:moveTo>
                  <a:pt x="111482" y="99838"/>
                </a:moveTo>
                <a:lnTo>
                  <a:pt x="111482" y="99838"/>
                </a:lnTo>
                <a:cubicBezTo>
                  <a:pt x="89148" y="82584"/>
                  <a:pt x="89148" y="82584"/>
                  <a:pt x="89148" y="82584"/>
                </a:cubicBezTo>
                <a:cubicBezTo>
                  <a:pt x="61324" y="105460"/>
                  <a:pt x="61324" y="105460"/>
                  <a:pt x="61324" y="105460"/>
                </a:cubicBezTo>
                <a:cubicBezTo>
                  <a:pt x="30662" y="94022"/>
                  <a:pt x="30662" y="94022"/>
                  <a:pt x="30662" y="94022"/>
                </a:cubicBezTo>
                <a:cubicBezTo>
                  <a:pt x="8328" y="108368"/>
                  <a:pt x="8328" y="108368"/>
                  <a:pt x="8328" y="108368"/>
                </a:cubicBezTo>
                <a:cubicBezTo>
                  <a:pt x="8328" y="31405"/>
                  <a:pt x="8328" y="31405"/>
                  <a:pt x="8328" y="31405"/>
                </a:cubicBezTo>
                <a:cubicBezTo>
                  <a:pt x="30662" y="17059"/>
                  <a:pt x="30662" y="17059"/>
                  <a:pt x="30662" y="17059"/>
                </a:cubicBezTo>
                <a:cubicBezTo>
                  <a:pt x="61324" y="28497"/>
                  <a:pt x="61324" y="28497"/>
                  <a:pt x="61324" y="28497"/>
                </a:cubicBezTo>
                <a:cubicBezTo>
                  <a:pt x="89148" y="5621"/>
                  <a:pt x="89148" y="5621"/>
                  <a:pt x="89148" y="5621"/>
                </a:cubicBezTo>
                <a:cubicBezTo>
                  <a:pt x="111482" y="22681"/>
                  <a:pt x="111482" y="22681"/>
                  <a:pt x="111482" y="22681"/>
                </a:cubicBezTo>
                <a:lnTo>
                  <a:pt x="111482" y="99838"/>
                </a:lnTo>
                <a:close/>
                <a:moveTo>
                  <a:pt x="89148" y="62617"/>
                </a:moveTo>
                <a:lnTo>
                  <a:pt x="89148" y="62617"/>
                </a:lnTo>
                <a:cubicBezTo>
                  <a:pt x="89148" y="65525"/>
                  <a:pt x="91987" y="68432"/>
                  <a:pt x="94826" y="68432"/>
                </a:cubicBezTo>
                <a:cubicBezTo>
                  <a:pt x="94826" y="68432"/>
                  <a:pt x="97665" y="65525"/>
                  <a:pt x="97665" y="62617"/>
                </a:cubicBezTo>
                <a:cubicBezTo>
                  <a:pt x="97665" y="34119"/>
                  <a:pt x="97665" y="34119"/>
                  <a:pt x="97665" y="34119"/>
                </a:cubicBezTo>
                <a:cubicBezTo>
                  <a:pt x="97665" y="31405"/>
                  <a:pt x="94826" y="28497"/>
                  <a:pt x="94826" y="28497"/>
                </a:cubicBezTo>
                <a:cubicBezTo>
                  <a:pt x="91987" y="28497"/>
                  <a:pt x="89148" y="31405"/>
                  <a:pt x="89148" y="34119"/>
                </a:cubicBezTo>
                <a:lnTo>
                  <a:pt x="89148" y="62617"/>
                </a:ln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742"/>
          <p:cNvSpPr/>
          <p:nvPr/>
        </p:nvSpPr>
        <p:spPr>
          <a:xfrm>
            <a:off x="1544760" y="1165320"/>
            <a:ext cx="226800" cy="296640"/>
          </a:xfrm>
          <a:custGeom>
            <a:avLst/>
            <a:gdLst>
              <a:gd name="textAreaLeft" fmla="*/ 0 w 226800"/>
              <a:gd name="textAreaRight" fmla="*/ 227160 w 226800"/>
              <a:gd name="textAreaTop" fmla="*/ 0 h 296640"/>
              <a:gd name="textAreaBottom" fmla="*/ 297000 h 29664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c5c3c3"/>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10-06T02:35:18Z</dcterms:created>
  <dc:creator>user</dc:creator>
  <dc:description/>
  <dc:language>en-US</dc:language>
  <cp:lastModifiedBy>Harist</cp:lastModifiedBy>
  <dcterms:modified xsi:type="dcterms:W3CDTF">2023-04-02T14:19:25Z</dcterms:modified>
  <cp:revision>29</cp:revision>
  <dc:subject/>
  <dc:title>PowerPoint Presentation</dc:title>
</cp:coreProperties>
</file>